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70F-4D16-4A9D-AEBD-0448FB19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7D8-371D-40BC-9078-96EA6339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D51B0-3F87-401B-A07B-B8B86C9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76FA-A1CA-436A-9855-2F46F180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209F-CB95-420A-97F0-8C17B533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380F6-F97C-4833-9E10-1597F25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F2C8-8323-4FCB-AAC0-CAE2050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E829-E74F-4A5D-B4E7-9D8F345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2425A-C20E-4A21-BA14-A08EF02D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AF69A-B8A1-4CC5-B867-26D4DBD8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002FF-A02E-4AC8-A3FA-D866328C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93028-0DBF-4F7A-ABCC-964A59BE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F42-D6B1-4606-B89B-3976BC3F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9BEC1-F21B-432F-A20D-8DA1743E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F9D44-7BC4-48B7-9AE6-E8E9A42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BAE17-987A-4C6B-8B47-CF6B1B35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6D0EB-1CC5-48F3-B3C1-80B298F1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966F-3B49-4ABD-AFA7-2F74C472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EB76A-A09E-430E-ABEA-5303635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BBC09-20FC-445A-B084-4C3D8FCC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15F9-A3D2-49FC-9C90-181EC6B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7E3BD-6B67-465B-86C7-C282F7C7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7FCB3-1656-41DB-B53C-5DA42A3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76B-A491-430D-9612-7AF2F9D7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41170-2F32-4532-B1B5-D789A3A2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611E-FF9F-4019-B735-D383B897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3C2D-5AF4-4541-9BB6-036E002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F748-7983-4411-887F-54D52FE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2438C-CD01-4CA2-A2B4-1269A81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7CF2D-258A-49C6-9093-51CA7B4F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1563C-4EC5-4A5C-A673-4E8A90E0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ED5DA-702F-4544-A67F-02217FE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9CA9-2B24-4EC8-B381-6749AE3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2C010-3D7E-45DE-BF78-51F3C38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6C39-076A-4AFE-8A93-809D79E6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37B07-D316-4AC4-981F-D1B2FF40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F9E1D-4B6F-4736-BD26-1B4EFD22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067F-BE0F-4FA9-BE6B-CADC1066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4D603-79C9-4C4C-9BD6-5284D612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65D6C-DA32-44D1-A20E-33FD674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0F3AE-460C-43BE-AAB4-8FEEC577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D8F16-D947-40F6-9026-F20ECED7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D0259-B80E-4FDC-A44C-946D826A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6BC2E-15B5-4BDF-8B9C-BFD7CFF0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9D3FD-8BFC-4609-B06A-78638D4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4D4B-5739-425A-B4E3-F18CFAA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DBEA1-1616-47A2-AD31-0133483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32E98-F9CD-418E-B963-1F52BE4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8D2C7-BB15-41AF-82B0-315C528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51191-1E20-4F2E-B089-AE865102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85B80-35EF-47EF-B19B-8499E860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CD69-B0F3-4DCE-B589-2EA479A1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D07A-DB20-46AB-A3BD-A056F20A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EC8-EBB5-40BF-AFE2-A7620E2C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8A24-F598-41F0-9E8A-1A27520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7E41-43A2-468E-A60D-463470D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257-187B-4FB8-8619-338E7CD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B6CA-2EEF-424C-B5D9-F9A1F36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F2C3-4DAD-4CFF-B857-6DE1C03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EDF-E4EC-47A4-A80B-F1E9AC54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9D11-B034-430E-9700-EE3DCEB7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FC48-47E4-42AD-B76A-12D41E57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2B8F-1086-464F-85D2-C4C8C4D7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6C71-B1E7-456C-AE3C-0D6E2495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03C9-D9FC-4D54-B7D9-5E795FF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5DB3-9FDE-4C0C-86C0-E1CBD342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9421-223F-4B94-B132-E3AA14AA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003-EA18-4D15-8099-4DBAFB8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6D78-CBB0-4BBF-A98F-B1D93C5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5DC2-F5FF-49B9-9395-21E6D14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3A17-CE94-4AC5-8AA2-BD2DF12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C026-46AC-47E8-BD67-E40E856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BF8D-8591-4435-83D9-40CB9E1B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3393-3211-43E5-881C-6A4327C9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C6C3-771E-4BFD-99E1-908E4F82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8B6A-734D-42D8-B4D9-D7E5ACC1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F1BD-6159-425D-8072-52A1F30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28E36-1C63-4F7A-8775-7405A3A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2C2-F547-4CC2-A003-4E3FD80D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A0E5-BEB0-4C60-85AD-2A44AFAE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CAAC-AB67-43E1-B931-74F3D8D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A0DF-7921-471A-9514-909DC05D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6CAD-C140-4CDE-8B4B-F5D0BCA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89DCA-B787-4E5F-BC8D-9253708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AD83-CD16-4AD5-A91F-5B6D5BB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8CA7-681D-4633-9A2F-07FB9703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4093-305E-4424-8D5C-6D3A0D2A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5B364-CBEA-48C7-96F1-4249AC65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4489-FDF9-4822-8675-F76710FE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4AA-96D2-409D-9BE0-EF6D466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C329-E7AD-4FCF-8E80-BA3778A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3B41-EB8D-46BF-8444-0E67B98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AE76C-B30E-4401-B1D8-A4D81E6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196C-E7B3-4CFE-942E-A625FBB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71DD-DDC3-46C4-B239-916D5473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C569-217E-4226-9C49-9BEBBCF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40C7-E6F9-4F8E-BAE2-0D92D72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CB90-B902-437C-9ED8-05C243B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963E-45CB-4595-8088-B96C353D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B803-C4D5-42D5-80D2-D820A172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D89-F8FE-49E5-B6DB-FC45834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0B91-93D6-4103-A1A1-88EE0FA6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36BB-3CEA-4662-94C9-EE74BD4E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664C8-B6A3-4CC0-A2E6-F17EEE20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1535-45DB-444C-9D02-5516DAB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D2EF-9932-45BC-9FBA-FB60F85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F4EB-2CCD-488A-8E48-FB639DF4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5AAA-C2CD-4030-B226-E5132520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E387-4AC4-4F96-BB7C-451F23F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ABC8A-6A56-4137-8294-B18278F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5BFC-233E-4210-BB29-D1A1F00F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FBE-1F14-4F0E-BDFB-9C898AA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F1677-032D-4419-AFA4-35C0C83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24BA-914A-4B95-A113-588F03B5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4982-A659-4BB4-A2D8-56E74583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D3974-C3D6-47DC-9777-4E452B47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2E89-2497-40E4-9617-F0CC69D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167F-B6FC-40F5-999E-42F7B18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D2C5-A0BA-4384-BAD6-E01D31A9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7F30-BA35-4F50-9B5A-53DFDBB6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0CCF-C3D1-42FD-B9AE-69B26B63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9FCA-DA81-416A-B755-1071B7E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C51-F38C-4BC3-B9AE-7651D14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04A7-1ED3-4871-81D4-E5D3FA6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5FB0C-58F9-4FA3-AE07-60DC5F3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15D5B-B3E0-4E82-A9E8-475BFCF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D9C91-427F-4684-B4D6-7D658762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A797-C5A0-41F3-88F8-A45E144B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DC62-B221-438D-8648-9C676D82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0726F-4134-496C-9145-26A312C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BBD79-D567-4D5F-909B-CB36A269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9097D-8BB7-4D62-AB00-33E00CE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272E-E9D4-4267-9CD3-1E2790A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780-0DE6-4EF6-A019-A3B31DF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DF8D-25F1-4CF9-B897-61A88ADA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66D57-0B9F-4FB0-8BD1-B9D07FD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E1E3-9501-4DA3-B45B-9D51D52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0CB39-B924-45A5-B572-AC4FDEA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238C-EF87-4514-BE97-5A007F59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C32F9-57CB-4960-837B-DF491D4B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9581-0B90-4F6F-8B7C-C3BE096A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4E757-0502-4530-9A43-0E0C6086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87FDE-A7C2-45AC-82E6-3C9B8D93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DAAB5-7AE7-4D92-946D-131B43EF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5F65-74DF-4005-9904-D5D0BD21F7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4333-F4A7-4F97-AF7D-FC2E45F003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279-0A36-4EB7-96A9-7B50713C16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F51-08EE-49FC-92D8-D1BCBEECD5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C4FA-D8AC-4CF9-BAA7-9388675C08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AB7A-A25B-42CF-9EEC-F1AB314A4B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994C-9AC3-46AC-B3AE-10A9D388DE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7A0-8F19-45A2-940E-2123F7F474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94D-9124-4D90-A311-295AD1687B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3AB-EA0B-47B9-A6AE-3329D7A7A6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0A0-B90C-4EB1-ABE0-008D21A72D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0586-1667-4770-8163-FEB2EA02B1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3" name="矩形 4"/>
          <p:cNvSpPr/>
          <p:nvPr/>
        </p:nvSpPr>
        <p:spPr>
          <a:xfrm>
            <a:off x="4284720" y="299412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3"/>
          <p:cNvGrpSpPr/>
          <p:nvPr/>
        </p:nvGrpSpPr>
        <p:grpSpPr>
          <a:xfrm>
            <a:off x="2700360" y="2705040"/>
            <a:ext cx="4896000" cy="684360"/>
            <a:chOff x="2700360" y="2705040"/>
            <a:chExt cx="4896000" cy="684360"/>
          </a:xfrm>
        </p:grpSpPr>
        <p:sp>
          <p:nvSpPr>
            <p:cNvPr id="495" name="任意多边形 5"/>
            <p:cNvSpPr/>
            <p:nvPr/>
          </p:nvSpPr>
          <p:spPr>
            <a:xfrm>
              <a:off x="2700360" y="270504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6"/>
            <p:cNvSpPr/>
            <p:nvPr/>
          </p:nvSpPr>
          <p:spPr>
            <a:xfrm>
              <a:off x="2748240" y="272160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"/>
          <p:cNvGrpSpPr/>
          <p:nvPr/>
        </p:nvGrpSpPr>
        <p:grpSpPr>
          <a:xfrm>
            <a:off x="2700360" y="3471840"/>
            <a:ext cx="4896000" cy="682560"/>
            <a:chOff x="2700360" y="3471840"/>
            <a:chExt cx="4896000" cy="682560"/>
          </a:xfrm>
        </p:grpSpPr>
        <p:sp>
          <p:nvSpPr>
            <p:cNvPr id="498" name="任意多边形 8"/>
            <p:cNvSpPr/>
            <p:nvPr/>
          </p:nvSpPr>
          <p:spPr>
            <a:xfrm>
              <a:off x="2700360" y="3471840"/>
              <a:ext cx="489600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9"/>
            <p:cNvSpPr/>
            <p:nvPr/>
          </p:nvSpPr>
          <p:spPr>
            <a:xfrm>
              <a:off x="2748240" y="348840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9"/>
          <p:cNvGrpSpPr/>
          <p:nvPr/>
        </p:nvGrpSpPr>
        <p:grpSpPr>
          <a:xfrm>
            <a:off x="2700360" y="4237200"/>
            <a:ext cx="4896000" cy="684000"/>
            <a:chOff x="2700360" y="4237200"/>
            <a:chExt cx="4896000" cy="684000"/>
          </a:xfrm>
        </p:grpSpPr>
        <p:sp>
          <p:nvSpPr>
            <p:cNvPr id="501" name="任意多边形 11"/>
            <p:cNvSpPr/>
            <p:nvPr/>
          </p:nvSpPr>
          <p:spPr>
            <a:xfrm>
              <a:off x="2700360" y="4237200"/>
              <a:ext cx="489600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12"/>
            <p:cNvSpPr/>
            <p:nvPr/>
          </p:nvSpPr>
          <p:spPr>
            <a:xfrm>
              <a:off x="2748240" y="4253760"/>
              <a:ext cx="479988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2"/>
          <p:cNvGrpSpPr/>
          <p:nvPr/>
        </p:nvGrpSpPr>
        <p:grpSpPr>
          <a:xfrm>
            <a:off x="2700360" y="5003640"/>
            <a:ext cx="4896000" cy="682920"/>
            <a:chOff x="2700360" y="5003640"/>
            <a:chExt cx="4896000" cy="682920"/>
          </a:xfrm>
        </p:grpSpPr>
        <p:sp>
          <p:nvSpPr>
            <p:cNvPr id="504" name="任意多边形 14"/>
            <p:cNvSpPr/>
            <p:nvPr/>
          </p:nvSpPr>
          <p:spPr>
            <a:xfrm>
              <a:off x="2700360" y="5003640"/>
              <a:ext cx="4896000" cy="68292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15"/>
            <p:cNvSpPr/>
            <p:nvPr/>
          </p:nvSpPr>
          <p:spPr>
            <a:xfrm>
              <a:off x="2748240" y="5020200"/>
              <a:ext cx="4799880" cy="64980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2700360" y="5769000"/>
            <a:ext cx="4896000" cy="684360"/>
            <a:chOff x="2700360" y="5769000"/>
            <a:chExt cx="4896000" cy="684360"/>
          </a:xfrm>
        </p:grpSpPr>
        <p:sp>
          <p:nvSpPr>
            <p:cNvPr id="507" name="任意多边形 17"/>
            <p:cNvSpPr/>
            <p:nvPr/>
          </p:nvSpPr>
          <p:spPr>
            <a:xfrm>
              <a:off x="2700360" y="576900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18"/>
            <p:cNvSpPr/>
            <p:nvPr/>
          </p:nvSpPr>
          <p:spPr>
            <a:xfrm>
              <a:off x="2748240" y="578556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763640" y="1898640"/>
            <a:ext cx="5832720" cy="684360"/>
            <a:chOff x="1763640" y="1898640"/>
            <a:chExt cx="5832720" cy="684360"/>
          </a:xfrm>
        </p:grpSpPr>
        <p:sp>
          <p:nvSpPr>
            <p:cNvPr id="510" name="任意多边形 23"/>
            <p:cNvSpPr/>
            <p:nvPr/>
          </p:nvSpPr>
          <p:spPr>
            <a:xfrm>
              <a:off x="1763640" y="1898640"/>
              <a:ext cx="583272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bevel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20"/>
            <p:cNvGrpSpPr/>
            <p:nvPr/>
          </p:nvGrpSpPr>
          <p:grpSpPr>
            <a:xfrm>
              <a:off x="1798920" y="1911960"/>
              <a:ext cx="5760000" cy="659160"/>
              <a:chOff x="1798920" y="1911960"/>
              <a:chExt cx="5760000" cy="659160"/>
            </a:xfrm>
          </p:grpSpPr>
          <p:pic>
            <p:nvPicPr>
              <p:cNvPr id="51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8920" y="1911960"/>
                <a:ext cx="576000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Text Box 22"/>
              <p:cNvSpPr/>
              <p:nvPr/>
            </p:nvSpPr>
            <p:spPr>
              <a:xfrm>
                <a:off x="1810440" y="1914840"/>
                <a:ext cx="573840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23"/>
          <p:cNvGrpSpPr/>
          <p:nvPr/>
        </p:nvGrpSpPr>
        <p:grpSpPr>
          <a:xfrm>
            <a:off x="1765440" y="2705040"/>
            <a:ext cx="718920" cy="684360"/>
            <a:chOff x="1765440" y="2705040"/>
            <a:chExt cx="718920" cy="684360"/>
          </a:xfrm>
        </p:grpSpPr>
        <p:sp>
          <p:nvSpPr>
            <p:cNvPr id="515" name="圆角矩形 26"/>
            <p:cNvSpPr/>
            <p:nvPr/>
          </p:nvSpPr>
          <p:spPr>
            <a:xfrm>
              <a:off x="1765440" y="270504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25"/>
            <p:cNvGrpSpPr/>
            <p:nvPr/>
          </p:nvGrpSpPr>
          <p:grpSpPr>
            <a:xfrm>
              <a:off x="1794600" y="2716200"/>
              <a:ext cx="658800" cy="665280"/>
              <a:chOff x="1794600" y="2716200"/>
              <a:chExt cx="658800" cy="665280"/>
            </a:xfrm>
          </p:grpSpPr>
          <p:pic>
            <p:nvPicPr>
              <p:cNvPr id="51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4600" y="271620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Text Box 27"/>
              <p:cNvSpPr/>
              <p:nvPr/>
            </p:nvSpPr>
            <p:spPr>
              <a:xfrm>
                <a:off x="1831680" y="27532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28"/>
          <p:cNvGrpSpPr/>
          <p:nvPr/>
        </p:nvGrpSpPr>
        <p:grpSpPr>
          <a:xfrm>
            <a:off x="1765440" y="3471840"/>
            <a:ext cx="718920" cy="682560"/>
            <a:chOff x="1765440" y="3471840"/>
            <a:chExt cx="718920" cy="682560"/>
          </a:xfrm>
        </p:grpSpPr>
        <p:sp>
          <p:nvSpPr>
            <p:cNvPr id="520" name="圆角矩形 29"/>
            <p:cNvSpPr/>
            <p:nvPr/>
          </p:nvSpPr>
          <p:spPr>
            <a:xfrm>
              <a:off x="1765440" y="3471840"/>
              <a:ext cx="71892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30"/>
            <p:cNvGrpSpPr/>
            <p:nvPr/>
          </p:nvGrpSpPr>
          <p:grpSpPr>
            <a:xfrm>
              <a:off x="1794600" y="3485160"/>
              <a:ext cx="658800" cy="657360"/>
              <a:chOff x="1794600" y="3485160"/>
              <a:chExt cx="658800" cy="657360"/>
            </a:xfrm>
          </p:grpSpPr>
          <p:pic>
            <p:nvPicPr>
              <p:cNvPr id="52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4600" y="3485160"/>
                <a:ext cx="6588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Text Box 32"/>
              <p:cNvSpPr/>
              <p:nvPr/>
            </p:nvSpPr>
            <p:spPr>
              <a:xfrm>
                <a:off x="1831680" y="351972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33"/>
          <p:cNvGrpSpPr/>
          <p:nvPr/>
        </p:nvGrpSpPr>
        <p:grpSpPr>
          <a:xfrm>
            <a:off x="1765440" y="4237200"/>
            <a:ext cx="718920" cy="684000"/>
            <a:chOff x="1765440" y="4237200"/>
            <a:chExt cx="718920" cy="684000"/>
          </a:xfrm>
        </p:grpSpPr>
        <p:sp>
          <p:nvSpPr>
            <p:cNvPr id="525" name="圆角矩形 32"/>
            <p:cNvSpPr/>
            <p:nvPr/>
          </p:nvSpPr>
          <p:spPr>
            <a:xfrm>
              <a:off x="1765440" y="4237200"/>
              <a:ext cx="71892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35"/>
            <p:cNvGrpSpPr/>
            <p:nvPr/>
          </p:nvGrpSpPr>
          <p:grpSpPr>
            <a:xfrm>
              <a:off x="1794600" y="4246560"/>
              <a:ext cx="658800" cy="664920"/>
              <a:chOff x="1794600" y="4246560"/>
              <a:chExt cx="658800" cy="664920"/>
            </a:xfrm>
          </p:grpSpPr>
          <p:pic>
            <p:nvPicPr>
              <p:cNvPr id="52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4600" y="4246560"/>
                <a:ext cx="65880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37"/>
              <p:cNvSpPr/>
              <p:nvPr/>
            </p:nvSpPr>
            <p:spPr>
              <a:xfrm>
                <a:off x="1831680" y="428544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38"/>
          <p:cNvGrpSpPr/>
          <p:nvPr/>
        </p:nvGrpSpPr>
        <p:grpSpPr>
          <a:xfrm>
            <a:off x="1765440" y="5003640"/>
            <a:ext cx="718920" cy="682920"/>
            <a:chOff x="1765440" y="5003640"/>
            <a:chExt cx="718920" cy="682920"/>
          </a:xfrm>
        </p:grpSpPr>
        <p:sp>
          <p:nvSpPr>
            <p:cNvPr id="530" name="圆角矩形 35"/>
            <p:cNvSpPr/>
            <p:nvPr/>
          </p:nvSpPr>
          <p:spPr>
            <a:xfrm>
              <a:off x="1765440" y="5003640"/>
              <a:ext cx="718920" cy="68292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40"/>
            <p:cNvGrpSpPr/>
            <p:nvPr/>
          </p:nvGrpSpPr>
          <p:grpSpPr>
            <a:xfrm>
              <a:off x="1794600" y="5015160"/>
              <a:ext cx="658800" cy="663840"/>
              <a:chOff x="1794600" y="5015160"/>
              <a:chExt cx="658800" cy="663840"/>
            </a:xfrm>
          </p:grpSpPr>
          <p:pic>
            <p:nvPicPr>
              <p:cNvPr id="53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4600" y="5015160"/>
                <a:ext cx="6588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Text Box 42"/>
              <p:cNvSpPr/>
              <p:nvPr/>
            </p:nvSpPr>
            <p:spPr>
              <a:xfrm>
                <a:off x="1831680" y="5051520"/>
                <a:ext cx="5860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43"/>
          <p:cNvGrpSpPr/>
          <p:nvPr/>
        </p:nvGrpSpPr>
        <p:grpSpPr>
          <a:xfrm>
            <a:off x="1765440" y="5769000"/>
            <a:ext cx="718920" cy="684360"/>
            <a:chOff x="1765440" y="5769000"/>
            <a:chExt cx="718920" cy="684360"/>
          </a:xfrm>
        </p:grpSpPr>
        <p:sp>
          <p:nvSpPr>
            <p:cNvPr id="535" name="圆角矩形 38"/>
            <p:cNvSpPr/>
            <p:nvPr/>
          </p:nvSpPr>
          <p:spPr>
            <a:xfrm>
              <a:off x="1765440" y="576900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45"/>
            <p:cNvGrpSpPr/>
            <p:nvPr/>
          </p:nvGrpSpPr>
          <p:grpSpPr>
            <a:xfrm>
              <a:off x="1794600" y="5776560"/>
              <a:ext cx="658800" cy="665280"/>
              <a:chOff x="1794600" y="5776560"/>
              <a:chExt cx="658800" cy="665280"/>
            </a:xfrm>
          </p:grpSpPr>
          <p:pic>
            <p:nvPicPr>
              <p:cNvPr id="53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94600" y="577656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47"/>
              <p:cNvSpPr/>
              <p:nvPr/>
            </p:nvSpPr>
            <p:spPr>
              <a:xfrm>
                <a:off x="1831680" y="58168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4"/>
          <p:cNvSpPr/>
          <p:nvPr/>
        </p:nvSpPr>
        <p:spPr>
          <a:xfrm>
            <a:off x="395280" y="573264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9:39:51Z</dcterms:created>
  <dc:creator>雨林木风</dc:creator>
  <dc:description/>
  <dc:language>en-US</dc:language>
  <cp:lastModifiedBy>lenovo</cp:lastModifiedBy>
  <dcterms:modified xsi:type="dcterms:W3CDTF">2015-02-04T08:03:58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