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D2E-7131-4197-9C6D-7653C5C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7B3-FA9E-4666-B076-039A9EA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898-1B7C-4915-BA73-AEF144DD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DA7-AA3B-49BA-9488-C337B13C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BEE-CFCF-4868-A125-29ACC58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EED-CDB7-4738-9A43-D340893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10D-ED4D-48C8-B8CD-C57B402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132-CDDF-410B-949B-BF20FFC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0E3-BC5E-4186-ACBC-85F9922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EE5-2F90-4474-BB62-704F578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868-6A96-40FB-B66C-1442442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21F-F759-4897-A4F7-49BFC23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C93-E1DE-489C-B958-CC456EA83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与两菜一汤pdf.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2725920" y="3244680"/>
            <a:ext cx="36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作品下载：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www.1ppt.com/xiazai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幻灯片与两菜一汤pdf.0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幻灯片与两菜一汤pdf.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与两菜一汤pdf.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与两菜一汤pdf.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与两菜一汤pdf.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幻灯片与两菜一汤pdf.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与两菜一汤pdf.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与两菜一汤pdf.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与两菜一汤pdf.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与两菜一汤pdf.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与两菜一汤pdf.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与两菜一汤pdf.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幻灯片与两菜一汤pdf.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3:14:55Z</dcterms:created>
  <dc:creator>甘磊（ganlei240@gmail.com）</dc:creator>
  <dc:description/>
  <cp:keywords/>
  <dc:language>en-US</dc:language>
  <cp:lastModifiedBy>Administrator</cp:lastModifiedBy>
  <dcterms:modified xsi:type="dcterms:W3CDTF">2015-03-05T07:21:3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