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25E53-553E-4ABD-8450-73088A44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616D7-4365-428E-B4D8-3A35A1C5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9E68C-F22C-41BB-8A3D-7D7B07C2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1D058-E15D-4ACF-90C5-9BFEFCB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AE176-B91D-4901-A740-D103522D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AFE5F-0DAA-4AEB-BAB3-E0648CEA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016BA-2523-4AF3-8279-C9B505D6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0CA6B-F06A-4313-88D0-4B56E5B3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77C97-A721-4F19-B887-6E646520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6B9B0-75DE-4575-88C3-67019831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1F7C1-04EB-432C-BD37-66378BC7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EB78A-A677-413B-B6A3-739AFB4B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7A449-0B11-409E-B768-4461D086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602A1-7DCF-4F6A-9CE9-E960900D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A3A90-4729-4C18-AF13-10B5B516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535D3-C3EB-4C57-962F-D9E36B8A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19E99-C910-45F2-A20F-7FAE8968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A644D-70A2-4868-AF42-5D2B2979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70A87-BC4C-4957-9E3F-1E64B998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6F26E-CE97-4E8F-B9FC-0796AAE3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A5852-4AA5-472E-84CD-2D8681F6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5F2AC-A0F6-4430-A50B-A4BB9915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E3C5C-0BE6-4B18-9B5E-912FBEEE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A8CE6-9579-4D80-AC17-0C45B78F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7FCF8-6A68-4A24-803E-B0FB5FD9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FB3FB-498A-4837-BA1E-6FC57595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D3041-0076-4DC6-9F8E-44594F46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55D78-EF74-4907-82ED-731F1ACA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DC3DC-C255-4788-86B3-2B72D68A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52B86-E4BF-446E-BADC-EE3C1D19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F5C-F18F-4B8C-B830-484B2016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21D82-20AC-4A44-A19E-C36C1C8B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1FED3-B4CA-47D5-850F-B6BD9F3D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BDFCA-A5E6-4E63-B7BA-C587CEA7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29503-ABB3-4E4B-A75A-B8E4D990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B8E9C-2F16-4F5B-BDBF-D3A4F10F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F2BB9-CB89-4928-8B8E-6B2DF225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9E4D8-E6A8-45B7-9651-159E3D84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9F329-1D25-47AF-8C83-6A412236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7DCA4-0304-44E2-9414-529EB44C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FF2D7-8B23-49A1-B947-5EF9599B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4DA-2394-4696-8A68-9EAE5EDA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FDB7D-E6E7-43E3-9E3F-B62E2AF2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5271A-D1DD-4328-9C4F-A1275255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6A23D-68AA-4013-AD82-5A0AC3E6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5B77B-08D2-4E71-AB0B-BA5023C0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82278-F856-40BD-AC21-D454A98D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81AE5-37C7-4819-8439-4AD64CB5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70F11-FBC9-44ED-B0E1-A967F08F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A7002-3477-46D8-B620-16A163B4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A8261-438A-4AB4-A557-13B41E18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CB848-5E98-412E-AC4D-88D03719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413-E2C1-4FC8-AEE1-E4FAD478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61650-25FB-4C46-987D-3A0B18FE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55C80-B4E0-4A92-951B-9A68F8B6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0DCD6-A4F4-4249-84F6-C121133E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77B91-2B27-4844-97AC-2A0A7CC0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35794-528E-4059-B5FC-7BD8CC6A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F3289-69C1-4C49-B94F-6E46976B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20FC4-917B-4D2A-981F-8A5AA56B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19DF5-AA8F-4F2F-93C8-BD1731E0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98FA8-DC8E-4FAF-AD12-354C917D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A1B7C-43D4-45F4-9523-F0660B79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A29-B74C-4645-9064-C1970AF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BD8E5-7544-47DA-9262-A134D07F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DD657-2AC2-498E-97A7-62911041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0E2B6-3458-4360-9EE8-0F8565E7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C147D-0F82-4E24-898D-3DD8374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C02CE-FD01-44D2-97B2-94C4A30D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93297-1EE0-4D1C-9EDF-2665001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687F8-9C40-4F09-9AF7-12314B6A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E862B-C1E7-4410-ADF8-5008D6E2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143A6-A3A8-4A66-805E-BB0EB2CE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3BD87-FC61-41E0-A365-33A56A6B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FA4-873F-4F8F-B663-5A47D431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90096-C8C8-4A2E-A27E-1F65AE8B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402FBC-5FC3-4507-AFFD-9035B0A7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140A9-C268-46A8-A8EC-10C40C84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85E54-C15B-45B2-BD4F-30E5250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C739D-892B-4308-9BFE-D4FBB80A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36AF2-8343-46A8-AC8B-39134563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611BE-09E0-46E8-9D23-D09F2EA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98286-7A70-49AD-BA07-D87930D8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9E7F1-09EA-4282-839A-B9D51274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31E82-D2B5-48FF-8FDE-3AA11DD4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E39-6E5C-4A01-A654-92ACF7D2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96887-AF37-4962-BB87-C51E4DAE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F9BD0-C68C-4C64-A14F-B57B0686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01CBE-053A-4E8A-ACF1-B5B796CE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B7FC6-9609-4855-8CE6-3A1D9D05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2FB64-002F-4614-B176-6E109E6A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C2752-F8A4-4146-B738-D634A138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C5D76-44BA-420E-A341-DDBF12E4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EA184-6C73-4019-A097-784F7E1B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C42FB-800F-416E-A47C-913C064A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42709-D6A1-45B2-A6CD-96299983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A89-008F-4C00-9417-827AAAE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3419B-C9B5-4BFA-AE6C-B77A053D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ADB8D-7F55-4F90-9A3B-6A6B6684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7A8DF-17A0-4FE6-A3C1-5CA9B0C5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278C4-5F85-49BD-859E-7A7D82D2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FCB49-3DCA-4F39-B603-DB7FE131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7150E4-8A25-42EC-9B5B-0452A604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C113D-C7B6-4334-B051-FE50CCB3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63FD6-0D52-4846-AEAD-8712F241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FCCAB-4527-4E8D-B629-DB20948F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41067-7CB0-47F8-9EF5-AE3D5C7D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179-F7E9-48AE-A512-D18AE71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CBAE1-B2CB-496E-AA40-E38578CC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5D8FFA-0123-4343-A0DB-E6F161A6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EB1B39-B6E1-4ABF-B546-A73B3AC9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83EE0B-C653-4FB7-8751-4C24460F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C0EC2-A304-4CEA-86F0-70EE39EE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79D4C7-1CDC-4A86-9DD7-33C2AE58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42F23-173D-4DC1-9286-9768B560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83D69-1001-444E-9F24-03C5FE34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DA467-B83B-41DF-99B9-D8A66F04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D2E641-0444-49FC-9AA3-28B97AA9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F07-8654-4C90-A606-E89252F3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877891-1D41-4F50-9F45-16F0B6A7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7F09AE-A20D-4B35-9594-FBEF0509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9671B-DB3E-4393-84AE-5081093F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7BFCF-D187-4D38-8588-2B895825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59718-EC08-4801-B19D-AD1773C2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C4FE9-FC0F-4D5E-9389-A5A7CB4A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16262-9F6C-4C63-8EB6-73E7AA4C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7B59B-1F62-414D-8266-92B9E693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C90C67-DF21-4C97-88B0-EF89F12C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F2F25-BA68-4477-9388-513B05B4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B1B-1812-4E10-B2A1-F5D59922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EF80B-9C50-4E8B-8700-A4F94B00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69EB3-5789-4B04-AAB0-C9B64F56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34CD15-6DDE-4B41-9E8F-63B0349E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CA118-DD58-42B6-9280-44D549CC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D5DDC5-25D3-45AF-8F33-1235A98E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58E6A-3B2C-4F83-B2A3-B9FA92EA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3581A-6207-48FE-90AA-9B118EF5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8B606A-5191-4E11-8567-4E821A6D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7C419-44DA-4247-8020-D069A065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CEA4A-4B03-4E6A-895D-48FC4F59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9B0-CA4D-4F3A-8F0D-7A5221CA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EBAB7-0A7E-4385-9F6B-06B27FC3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B54B3-2B41-4831-872E-EA035CCE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F8FD1-3C70-420E-8F2F-90BD8184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9E9CC9-F2BE-43DC-BE5C-92C4D622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77EBB-D6C5-416E-9D70-007259A6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58383-E878-4930-A060-0369906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DC337-01A3-4246-B55D-6CF0C13E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9C475-7DEA-460A-BFB5-B775C349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074A7-91FD-467A-90D3-7EBC43D0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5D7CC-C77E-4CE6-BC8D-6DF974F7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27A-120B-4A15-B9A0-C095B5BF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785AF-154D-412A-8F18-AEE90B0F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6ECA5D-09E0-4B6F-8C8B-B5E12577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0D6EAD-133E-413D-AD56-64DEA764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58F23-5790-47E5-8720-03A38F3B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DD9C9-ED35-47E4-8C01-81A5EF55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2D1BDA-0EAC-406F-9D15-DB1DE0EB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B2FF2F-D196-4A36-A9F1-78B35F6E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3AD520-D62D-42F3-A4DD-0A6B170D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0FD3D4-9105-4556-A875-1DCAD9E8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243E7-E8F3-4B4D-A6A5-66D350DF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FD7A-EF59-4387-88A2-FFA73BF6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022DF2-5CD9-439B-A317-CB2B08DF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779E64-2831-471C-8C16-EFBDB291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920B1D-1DA9-4589-B370-5CD3FCF6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836E3E-A0B8-48B4-A5BF-000CB2F0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DB037-8DFD-496E-B75A-B38706F6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C2BF5-7FC1-403B-ACC4-6D22E237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FC50BC-1FCE-4B74-B755-9D6609FF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04E2DB-B3DB-460E-8DE6-470EB257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FD9BA3-0C26-4BB0-96FB-81C8F828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64E85-BB38-40F3-A76B-5BBCA0DE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B908-EEB0-401D-BBDC-C0FD74A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FA1290-416F-49F3-ADAA-AB09141B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5AB2D-2981-4771-99A6-2C23B0F8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53A50A-CACA-43E0-9E35-8E6A50D6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B4C1B5-D945-494D-B583-4B555D60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CEE9D-EC9C-42DB-A26E-B65E5D49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93FE0C-2D61-4FB3-AE4E-05B16283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279900-D96E-4C75-B423-82EBCB85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E2C5E-C0BE-4999-802C-38A6D731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7B0E4A-DA66-482C-B8FF-0D17F006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B3A976-743C-46D7-B2CB-598A120D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BFAA-9E1F-407D-99CC-C250C0E1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A675AB-8273-4D58-B12C-8246CCD6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6651E4-4C3F-4800-A063-A8BFBD93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DFBF89-B798-4539-90C9-21619E6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A85E29-AEF7-48AC-A401-55CEBBAE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AE4588-82CA-4C8C-9AC8-66068F2E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6FA420-4A43-4D15-B9F9-796ADC5C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E793A3-9C0B-4208-98ED-F4F15EB8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99B2-DA6C-4B9E-B45E-5F6B7746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37B2-6171-430D-86C6-F18F94CA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845B-14B2-4EA1-AE72-575A1557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9F50-0D39-4266-A517-36348F12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03D5-F88D-4E92-8F85-68EBB74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5651-412C-4A0F-949A-6617A2D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7FDE-4ED7-48E9-B5F0-1E646406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56F-A16A-43AD-BA6D-28157F9E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58BF-33FA-42CB-9C25-BC273D1D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1AFE-7AF7-4E5B-8747-D484A59A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A1EC-AC27-4811-B369-67FFA9A8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43A50-F09A-43BD-ACD4-7D3311DD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6794-EB6D-47CF-9C8E-5028EA82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A4A9-38E1-49AC-8F91-689D6A0A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1DEC-7BD7-44AA-A1A5-02224DEB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7E91-2AB4-44C6-9E56-4353394F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07E6-F4C0-47CD-9770-1780FF07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4316-BF30-4559-BC03-09DFEAEE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38C2-060E-4FD3-9CFA-A89E31A1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89A4-97C8-4B50-B811-3A3DC4D3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F40E-E479-478B-81A6-CE809337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6571C-04E6-49A3-AE93-FE38018B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FD00B-F394-4D94-B594-D99DAF47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224AE-2953-42CE-9613-1BED2FF1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9280-B5A6-40FF-9B94-8675CD1C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F51DC-23DC-4A62-8B3B-F6826046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92077-019B-471A-B91E-329D3839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67F2F-883B-4BC2-86B4-22258AF2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B217F-8EE6-451F-B7C7-D262B717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71269-632E-430D-B5A5-6B3A8BEC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0A8D-F99F-46CE-8013-4E806585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E68C-C3C5-4816-B5D2-0A82CF7A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0ACBB-C7EB-41EA-BEA2-E66825BB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4C14E-1F71-4110-8241-0BEDFBFA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4CF6-C43B-4DD0-AB82-B52466B3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FFE9A-6420-46B3-AE87-A63A19C5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E5626-30C4-4B15-B4A0-BEEE9235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90500-AD98-4123-AA0F-05C422A7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785CF-C393-4030-A104-ECBC435A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4EFDF-C78F-4742-AB22-C480158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41C0C-9538-4DE6-962C-762B1B1A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4BBC7-7D35-47E4-A980-B63D5C22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44C8-6DFB-4862-835E-A61B7FCD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1D5F6-7007-4E26-AC3A-A0025342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C097C-BE36-4221-9351-78FCF48C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2FAD6-F9B4-4433-B0E2-90734ED3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9222B-3A92-43BD-81DE-3DFC4531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A0FBF-B2AA-434B-AC88-69346EF9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B6DB5-9E9A-4D90-B6FD-589897C3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A6136-6071-4437-AA76-E14D775F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C0A0D-F5F1-4AF0-9465-0EAFFC7D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FDAC8-6277-49A7-871C-837A02F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C7B0B-4E3B-438D-A62D-02C1F691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BC52F-71C4-4D24-97AD-66CB1726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8BDFB-69BD-48E8-921F-16B5126C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28BCD-5CCB-4281-9303-B613ED5D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830BA-BAA4-4799-9BF8-5435C155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C1F51-370F-45EA-B8D8-137F8D99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735E2-ECD5-4623-9947-9E24ADE8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7A1E6-2930-45A1-A82B-B06CDBC2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DA839-4DDE-4E19-94E2-866D5D95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B093A-A053-4470-874B-227F63F0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D0577-4DE1-48FA-84B6-82DF190B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82CCD-F95D-40A9-9C75-44F04F61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EB914-1371-4A11-B0FD-73365621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AF684-80D3-4F47-9BA1-9B5ECF13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17AAC-66DE-4A56-A4A9-4FF48BF6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BE832-1A52-4187-BB9B-7059491D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140A-CB47-4699-94F7-183B721F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B9877-9741-4F95-9BB1-6D083ABB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7DF64-992A-4C9D-8062-D7DBDFEF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F5455-5DA0-4D18-9AFF-5F67AE21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7162-8D54-4D17-B666-F36BD090B218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0C40-5895-4A33-9E4D-AB330520F54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6975-5E9C-40BC-84BF-B9BFEB927BA4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8E8C-92A7-4541-B9EB-C56D76B2C5CB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A15E-41FC-41AA-B498-20EEF147BA3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B9FB-FE06-476D-A9E6-7A959C54BD8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61E5-94BF-4966-986B-7EEFB48E924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8D2E-2864-4687-B9F7-32C19B25A42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6F9A-822D-4B40-AFEC-947859A27C96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15AC-FEF7-4C0F-9E0A-6973B1EC01C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8E6D-AED2-45B1-8609-73AB1BB74BF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0C36-1DD6-4410-8175-9B837777D735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6F6A-4532-438A-BAF2-A2C33CFD01E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C7A7-09B5-4317-BF34-839BEF1A412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0753-8773-4A29-BC54-2290C2DEEE31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9B20-0D8F-4867-8BCB-F55ECF5D7F55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D93B-F308-406A-95AB-5FFE53653CBC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EAC6-4436-4B16-98DD-059A4CAE30C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C199-FF69-445F-BD06-0F6575C146AF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7DBB-18E6-49D8-A09C-3466C64E18A8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32A8-0FDD-4614-AA47-CFC19EBF0F6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996B-2C43-499C-925C-79769CAD3D08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995640" y="5516640"/>
            <a:ext cx="496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5198"/>
                </a:solidFill>
                <a:latin typeface="黑体"/>
                <a:ea typeface="黑体"/>
              </a:rPr>
              <a:t>蓝色毕业答辩</a:t>
            </a:r>
            <a:r>
              <a:rPr b="1" lang="en-US" sz="3600" spc="-1" strike="noStrike">
                <a:solidFill>
                  <a:srgbClr val="025198"/>
                </a:solidFill>
                <a:latin typeface="黑体"/>
                <a:ea typeface="黑体"/>
              </a:rPr>
              <a:t>PPT</a:t>
            </a:r>
            <a:r>
              <a:rPr b="1" lang="zh-CN" sz="3600" spc="-1" strike="noStrike">
                <a:solidFill>
                  <a:srgbClr val="025198"/>
                </a:solidFill>
                <a:latin typeface="黑体"/>
                <a:ea typeface="黑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9"/>
          <p:cNvSpPr/>
          <p:nvPr/>
        </p:nvSpPr>
        <p:spPr>
          <a:xfrm>
            <a:off x="3997440" y="6093000"/>
            <a:ext cx="49672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矩形 4"/>
          <p:cNvSpPr/>
          <p:nvPr/>
        </p:nvSpPr>
        <p:spPr>
          <a:xfrm>
            <a:off x="30240" y="573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5-02-05T06:04:15Z</dcterms:modified>
  <cp:revision>61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