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619-6494-487C-A5FB-0C5AC06C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BBD-F42F-4964-A695-099E3682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E4A52-FE79-4847-91C9-64C98D1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6A826-C3D1-40B6-AC07-AEB3069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91FE0-1D60-403C-B67B-4B054EEA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DEAE0-6429-474E-9B70-A4C68E7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3FF87-E42F-474A-9396-83DEAE4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236D2-11BF-4867-A7CD-6114F47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D0ABE-5B0E-4FA1-856D-9ACDE7C4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CBE3C-53EA-468F-B7C1-765FBBCF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8FBE3-21FF-4A6F-805F-42EB4B01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49E0F-B45A-4E3F-A5F2-37ABB70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4ED-92B3-412D-A4DD-780AC74D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EB0A6-C174-4A56-8A1D-05D45E1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EF4FA-1598-480D-9A81-8FBC386F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9E467-5D54-425D-8577-A006013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8197F-8CAA-466C-91E5-BF0FF2A9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D9A49-A866-4C5D-89B4-9BBC447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EB9C0-FE2A-4EAA-8C22-47C407A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5C612-9268-4DDF-85E3-00C0009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25E18-BC27-4497-B0AC-1B17BFC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4FD28-78E0-4302-BADF-95AD273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220E9-F60C-4040-9264-A1723D80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B7C-DF2C-4A88-92E5-2C44DF88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2FC5-045A-4826-90D8-EB72EA57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321B54-493C-4BC2-A8D3-2E6070C2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F8CB36-7C62-478B-8E0D-37C3C3A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51280A-A4C6-4DEB-96DA-F5E4E03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F0B86C-9860-4F94-8B18-818C8047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741CE6-4A89-4FD2-BD7E-6F49E134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EF7FCD-4230-4C73-B318-ECC4B732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7916DB-D8A2-4795-B9F3-5071E28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E2D574-60FC-4F56-9E98-0096A57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318191-A7A1-47C5-9690-1F0FF97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9D35-D8F5-4ECA-A357-04B81840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D1A1E7-C399-4D09-9D98-8F27C347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70B98-C655-4818-85CD-EAE49B71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E670B6-6DC0-4BFC-AE74-9AC4CE31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A700C-316B-44DC-B02E-CAF1A2F3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B46EB-B200-4FD6-96FF-A031DE9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AF595-1169-458A-A291-86794459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30C83-A31A-4DE0-BD1D-2162672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2B577-FB86-4935-BDCD-2754C53B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93FF0-BCE8-4789-8142-BED9DBDE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25076-AA00-4E19-9F7A-A906957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8E5-CE5D-4DD4-8BFD-AB9D514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0CD9D-F79A-4ADD-A8FF-305F676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D2588-9920-4522-93F0-4D532825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45B43-96F5-4C80-8F49-C70910D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3BFBE-D4D9-453B-9A91-8E9CFB14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4F13F-9EBA-469F-B28E-79ACCE55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A6FF4-2DBF-4BA2-9988-932B61AF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1F2368-DD31-40E1-BB8C-B16F9128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7CC02A-8D57-4D15-8E8B-406F1BC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970E2C-5C1B-4D09-A81B-6BA45A75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85A702-CC9C-4A5F-B29A-7A4EBDED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2306-D226-4D07-8150-F76D8F00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D39B50-F9F1-4051-9932-9895142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45D5E1-071D-49D7-9292-25E1454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D9BBE5-9041-4208-8DA8-FBF32D2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E4C4F8-2870-42AE-8A19-CD594B1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FD7EF3-0E59-4363-B20A-09AB6672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A04569-440D-412F-9341-037021D7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0F209F-2FCA-4125-9302-5B2BB914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78A147-DEC0-4643-8DC9-2E47EB33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71C6B4-F5E9-4395-B80F-EC78067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2F2D4B-7A4B-4FB9-83B9-BD6147EA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DA83-3269-4DEC-B7BD-EB29E572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7B409C-C98A-475D-A19B-9801928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C16857-DD14-4138-A68D-0E0DBA7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721D59-0DF3-4DBD-947B-2ED1DD1F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135B0C-94F1-4960-ABF9-1DFF77C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2E309E-D672-4991-B84C-4AB1C21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08F341-DF29-4B71-8C60-411A9F66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4841D1-86F5-47B7-907D-8C089758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39BE8F-FA9B-4C9A-A0EC-8D528FD6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1798DD-AAAB-4C49-9BFB-FADA39CD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1146-E79D-4145-911F-27EF589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12C1-0A9C-4ED0-B922-4699116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74FC-D6FC-4A5C-B0E3-D7B7BB2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7EF-FFA7-4329-88B5-2245D56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7FE2-B8F7-4886-A809-C16804B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81C6-1A46-427E-AA41-C6F3289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AC0A-4FCA-40FC-BF72-1FA6C7CF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1F30-04B9-460F-BA5E-41BF5002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E3B-A920-462E-9D12-6305D2B4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FF388-B0B2-443E-BDAA-2868FF7E2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C96A0-CFA0-4BEA-AA91-F1953DB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181E2-6B3F-4613-A30F-573B948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8FFF9-1B66-4698-B854-5CAA824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5C028-DFAF-4AB6-B6EC-8DDC3110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FA1-5424-4926-B6C9-77986DA8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4856B-F586-4C70-887F-8D14B64F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808AB-8DCE-4853-84DC-12047B68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DB33-F492-49AC-AA01-68E3E31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0E74A-B311-4867-979D-E7F57E7E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6D48D-C1A8-4C43-B89E-B83ABC5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02253-B0ED-41FC-A607-F22E657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3EAC2-A548-4D71-BCB0-36B5B79F3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F621C-23C8-4117-B562-0691C6F20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6ED7D-4854-471F-8E84-28527E9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4E5D6-C855-49DB-8078-1C2B3D9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C83-514D-4E1F-9758-35ED5F7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15469-E1BF-43AE-98F5-E2D5F7B3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09332-2233-4A71-9745-1D891D8B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94D20-9AB6-4438-AB64-7DE4A24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A5F46-8A82-4032-A72F-438A94E6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25FB4-3FFB-4C50-A5A2-3B2C2F94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CEC1C-EBA0-48C3-A692-EA48BE46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9B33E-AD12-4703-B631-C8C4BD6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FDB46-243C-4E3A-9434-01234C4D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29DA0-3EDD-4937-9DE1-1F09171DFC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6C275-51D6-4792-A272-714010D4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99F-F4C6-4FB0-914D-8077682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D93DB-A223-4B16-B4E8-38DA18CA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A386F-EB45-450D-A7DD-E132F7C5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1E4A0-FB5F-4547-A561-D895C03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49213-C4CE-40B2-9E52-21C42AE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B43CC-5184-46D6-BD33-3D147A3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958660-9A7B-484F-9726-3BA9EBB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37E48-BCBD-4EB2-9CDB-9DB230C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14B7D-C968-44AF-9A19-38C809C5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48AFA-BB7A-48B9-B793-11579A6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29B0B-ECD9-4426-A6A1-F6DBEAD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1D6-2C65-487B-A0F5-B660568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A2FC5-4144-4483-80CB-A85695BF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52E80-1065-4BFF-A75C-4A0EE863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414606-261C-471E-A4E8-7578A6B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AE5F4-D8BD-4CD9-8878-6646C00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3E7C2-5E4C-4D9B-883D-D347F5A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AF533-8C95-409F-8E59-6B1DB9C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6FC4C-3192-469E-B0D2-2265A79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20166-6DBC-4895-96E8-08F178A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517EA-C077-443A-B05E-9BB127B3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9110D-E4BD-43C5-BCCD-31D710F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CF6-5112-4CE6-8DE3-8974B18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7EEEDB-42AA-43A1-BC3A-9A70EB07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4F4B8-2E61-4CD4-A438-79762BD2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F0F0C-5175-446C-BC69-32D457B5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1EFAA-5FA0-4AF3-AB19-D4A60AC9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EFC99-7EE2-4413-8E43-EAB87F43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B1FB7-E7EB-4BD0-B4CF-3E04937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FC809-4D50-4086-980C-82CAFD71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6631C-C343-4A80-9F37-4E8D017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E3C975-891D-4050-A5AC-1A9E213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CB089-3E2D-4239-8118-8DE0D32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E17-D88A-468C-9AA3-7AFC7FA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FBB397-2309-4025-A251-E6FC443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2973BF-2F17-4864-9504-0AE11C0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E1B95-710F-4AB8-8B6B-8837A778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CD7AFE-BDE1-4B83-BA9E-1AC9BF29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06D39-61F2-43D3-AFD4-F24A3A70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4EEFD-361B-4CAD-9692-CD424F76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4F0FC-1D1E-4CF7-9378-2733D29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7BE56-0D94-4523-8DAC-9547BD3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CD49E-4EF2-4571-B0E0-55506A3B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41F63C-72E1-432E-8309-74957A6F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9A8-4178-4C63-82AE-27509E1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94E40-20E7-4909-9B2F-2B4CD8A7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E53A08-16F5-427B-B42D-BBCFB9C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22B42-17FC-48D0-80F2-F9CFDCE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A9CFA0-8FEE-4E44-BB55-62A7A95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F92F3-82FB-4556-802A-DE5E7E9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09F2A7-87EC-4924-BBB7-D48E6C28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DF7D0-9E83-4DBB-9771-E9ABB19F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31448-AD64-4D7F-993D-05207CC9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02CC4-B315-4984-81F2-81B90AA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54AC9-5AF3-4C1E-A1C6-132D28CC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4814-96E9-4378-9C44-6CCE4E874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01C-911B-449F-9363-DFA8CB8EFB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EB9-576E-4810-9405-EFA9D5060A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797-8C84-4E39-BA96-3EAAD5F8C7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FFE-DF77-4809-9C4D-342F17CDE9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03E-5969-41AA-9979-A2AC0B9563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954-422E-4D69-B6B4-5F9B83FE4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6FB-82A2-4FE3-A95C-D307DEA6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7CAE-302E-4ED2-A1BD-0B81A3C3F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817-A670-4513-A3AD-E399E8E3C1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F55-52BD-43C8-B535-7AA58FB73E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83B-7358-4843-822D-9B072766D4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4D9-D143-422E-92CE-F38C178B10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FB2-7761-44CE-B888-AC7987048F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3494160" y="3860640"/>
            <a:ext cx="30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微软用户</cp:lastModifiedBy>
  <dcterms:modified xsi:type="dcterms:W3CDTF">2015-02-05T05:52:37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