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C9E-C305-44D6-836C-FEB90DA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787-D4E3-4B68-A221-DB545E7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DB1-7229-4E28-828D-F8D01955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854-4648-459C-8FCA-406DFDE4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E93-2C49-4B25-AE04-2736FDB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214-F75C-4BAD-805A-C8D81CB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D68-78DE-4331-B7BF-0EBB27F5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2DF-E771-4927-AB27-F1E0239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155-80C8-4129-9C36-800359A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27F-7E2A-48D9-86F9-BE9A5F0E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FCC-E862-4C23-9375-03EF926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EA7-19A2-48CE-BBF3-6632EB0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未标题-1-02.jpg"/>
          <p:cNvPicPr/>
          <p:nvPr/>
        </p:nvPicPr>
        <p:blipFill>
          <a:blip r:embed="rId2"/>
          <a:srcRect l="0" t="19983" r="0" b="0"/>
          <a:stretch/>
        </p:blipFill>
        <p:spPr>
          <a:xfrm>
            <a:off x="1440" y="1370160"/>
            <a:ext cx="9142560" cy="54878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未标题-1-02.jpg"/>
          <p:cNvPicPr/>
          <p:nvPr/>
        </p:nvPicPr>
        <p:blipFill>
          <a:blip r:embed="rId3"/>
          <a:srcRect l="0" t="0" r="0" b="82213"/>
          <a:stretch/>
        </p:blipFill>
        <p:spPr>
          <a:xfrm>
            <a:off x="0" y="430200"/>
            <a:ext cx="914256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8597B-4509-4F28-9C25-1589BFA507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9C0B1-3DEC-4256-BF98-75C51997E3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7" descr="未标题-1-03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2:19:00Z</dcterms:created>
  <dc:creator>黄蕊 1</dc:creator>
  <dc:description/>
  <dc:language>en-US</dc:language>
  <cp:lastModifiedBy>ztc</cp:lastModifiedBy>
  <dcterms:modified xsi:type="dcterms:W3CDTF">2013-12-02T13:25:0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