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78E-96B9-41CD-B368-E4E95D2A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68E-7A6F-4009-8FDA-E2B58E20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90F24-B8A4-45CC-A891-582F652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2A2C7-AB69-4360-9B4C-A2D4B98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9E194-D701-4154-B574-B7D5332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A5A5D-2C3E-4450-B779-DEECEA2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54F11-115F-4BC2-A8AD-5FA6A7F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0A517-11C3-4AF1-B420-006A5BC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91A0F-95A3-4AD1-9993-83A67BF0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2511F-19B0-475E-BC2A-9E7F264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9D5C7-BE87-4707-881C-5956015F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4F506-2C0A-4CDC-9BC4-E17D943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5A1-45B5-4825-A4D2-078F40AD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3EA08-9376-427D-B554-F2680E3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D9ECC-081F-45D2-9F9A-328CA42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95408-2763-4FD9-8A2A-356FEC9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0316A-5443-4252-8220-8EBA6BF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32484-1F7C-4B92-AC2D-207CC5A2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AB019-A66D-4649-A1EA-30E6DA1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76DC6-B2E6-444E-A4AB-58C1D2A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63F08-29D8-4AAC-A3FC-53B0CD1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06CAF-FAAF-4B5A-ACC0-F66BE41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B6D02-15EB-4A8B-AE5D-D4F4944B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F3B-88F1-478C-95FB-A44183C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1594A-F7A3-4CEC-AA76-46F9349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D8D2F3-C873-4F90-9DA4-9328B82F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32AE39-FC1E-429A-A0F0-1C78680C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1C0BF-9E25-4B12-8962-FBAC1CA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474EA2-CA16-4C8B-AE66-997CBCF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430F82-8E5C-4CF4-83DA-9E27FA5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6502BD-2ADE-4232-9583-7366D6B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9A4A0-2BD6-42C5-97B0-0B0E32D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D2EE4C-A064-40AA-BC25-284C4D5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1FB9F5-EE52-431C-8F9A-48AE12A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281F5-AAEE-4A91-9F02-710A378B27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535F59-133C-4CAE-AEB5-15A2F3B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BEE444-97E9-4660-9662-B50ADDB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A9FD93-6A44-4AF5-9EFF-8AB8B3DA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AE81A-1BD8-4ED8-AD0C-12A4FE3F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816E4-4E27-48BF-8D2F-5942FAA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B1874-474D-4554-8323-FDB96D2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8F68B-9B60-4502-9892-0DBAE94D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F4300-B8E1-4056-B74B-FF1DFA7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63CE7-F083-4BD5-B3CC-9A7E000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99827-697B-443C-B804-1EE7E35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9BBF0-511B-4B8C-8222-B881C73942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FD9C3-A3BA-4EAB-8D75-1A398EB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4B447-39A9-42BC-B39F-A635752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8B0C4-DBDE-443D-900C-CC1A8D1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FE17B-3E3C-4090-AF1D-219D8E5A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11A9D-A297-4042-9C20-191DE9EC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86261E-4B22-4136-8A61-4F5CA863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ED67BE-5AB4-44C6-A25E-281526CE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BCD6EE-2D2D-462E-88BC-A65089A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76E71D-60A0-47FB-BFFA-06A5CC5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55CC7E-E822-487F-8DC3-EEFC841E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9B881-578C-4D28-81D6-A40316AD29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46D235-8801-4A24-BC97-302882CD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2358F1-EA51-4E52-BA29-530FDB3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D59C89-5617-4681-9023-1448085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D52C07-2103-40DC-8382-69A6568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2F37A9-C943-41B1-9264-68CD9834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6F5499-F9A2-4C93-ABE5-9B8FEEA2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0C3155-DDE8-45D3-AF79-1E987AE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1E384-A64D-487A-825D-0DC364A5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550843-C7D2-44D5-B0FA-2227671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E4EFCF-6F22-41AF-8310-AD957EA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960A-CDE1-4774-A165-4DC0E2A383E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0E1C2E-8911-457A-8741-4366808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8690F2-83BB-4164-8506-BA69EEC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CCDB13-1FFD-4E39-AAAD-E2FD3254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90C83D-F4B9-4C2E-8D60-B4C935C0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713070-26C8-486D-AFF9-0595ECC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6ABF49-EECD-461C-8E18-ABD5392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871A5D-C2DD-4B01-B830-C127458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8075E9-86F0-465F-8F3F-2A66E864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AF93EB-D2CA-426F-8A4E-0EBC96CC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EAF2EC-137E-443C-88EE-CAC206B0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A14BE-8B70-4DE9-862A-8A8EDD6E812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183D84-541A-463E-A90B-A67FAF4A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4847C4-6D56-48AD-B7B9-09AF306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F02C62-E33D-4C6E-8BA3-3E0CAA4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2B24C4-8C8C-488E-93EA-96CD336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AF8F96-A00D-415D-996E-14FCBF7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E43FDF-DE3E-43F5-A924-4059C24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A32E95-107B-49B6-9CD9-EEEC520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684C42-936A-4A8B-8D88-8D22097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26F776-7CED-4574-997F-B713961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786A0D-BD35-4875-AA04-E202F4C2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703E6-C8C7-4F66-92DF-F12F7B4E98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BD67EE-9ADD-4273-B7DD-DC0CCD35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DFDA33-19BF-414F-A8AC-3332E990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CB3A6E-D92B-4736-86B9-55406E4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3D609C-3DD1-49C1-B6E5-8E1CABD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8FF39B-B177-4B77-A7E9-4976BF7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5BFA2C-9C04-4019-B5CD-3812C5E1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A277E0-8A81-4F1E-AE04-E472F991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3D5FFE-FE28-4C5E-85C2-D9B67FB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FA265E-7721-4142-82C2-E47C20D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9E99EA-53A4-4F72-A848-FCB9AFC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8A7B4-404F-4F85-905F-9E6DD8B2F0C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0430F3-92D0-4FED-AE4E-2447A1B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956B84-0703-4835-A051-FE6C8FD5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132037-E872-42CE-BE79-203A98C0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E60D84-4D73-4CA7-89BE-AEB79D27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EA610F-BC6B-49B8-83FE-7DF51C2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CBE2BE-1629-4590-992F-551A5E4A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1D1D3E-4B61-4E66-83D1-0D754DD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080659-484D-4E49-8C0C-E59AF18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56E63F-D1FA-4427-83C6-AC5886F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662E85-6617-4B43-AB76-F64162A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BF9-F4A7-4994-A093-E349032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04E1-9B52-4E27-B6D2-F24F4FF3DD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C4424D-BF42-4692-89D7-61A4E4CB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C3EEBA-20C6-4084-B6E6-D698D5A5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29A386-3021-4A3A-A49D-ED2C1138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7B20F7-2442-4CCD-A535-8CBA30CE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F999BB-7FBB-4AE8-89D7-150DE8B5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7BC75A-1B3B-462E-8DF0-F1D7F75C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CBC09E-D2B2-4CEF-8BE1-FFB957E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E29981-2C14-4CE3-83AD-DA85676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AE3E53-3D9B-4F9D-BDC5-66FFFA5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C7A192-19B4-4ADA-9A67-4C31C6B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756D-866A-4BE8-A2F1-36B2308C807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03318F-E888-4B14-90C5-CCEA856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F025D6-638D-4680-B1C7-D00E84D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B24177-FCD9-4ABC-A192-25271A7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7A4A6B-ED80-4DCB-B66A-535EC09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8D234E-4520-49A5-BB8D-C78DA1B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4FF8D8-2126-4E7C-9B1D-94299676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557BC2-272F-4D5E-986B-AA64EB07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9F545E-2641-4A26-93D1-E5E95F6E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2FAD9E-4801-49AD-BC60-D8EA1620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9FC65B-BD04-429D-AEC8-94B5B61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9171C-B9A5-44B1-803B-886F6CFF15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3CF351-C63D-4C9C-9F4A-BF86B0A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076C16-9033-4D6C-8796-6BF66CF0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7BC9AD-62F5-48AB-92DF-9EBA8DB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8C25B5-82CC-4E1F-AF39-46FC21E4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0E5F1A-6CCC-4C82-B7DA-6FAA418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72B684-FA26-4C73-AC86-8738DD2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5963BC-D5EB-481D-BA80-13900E7B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EF7C19-F03E-4004-A74C-03FFC5F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13F810-CE80-4788-AF45-88FC0D8C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458F35-0B6A-48E6-BB35-B2C9BA47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0598F-CBBF-4F7F-A08A-8D4EDCE936A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C13437-D6E3-4E0D-BCC7-F60D700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20327D-3EA1-456E-B3BC-6885ED0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F305E8-3CDE-471A-AF64-5DF151C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D97897-20F1-4A23-992C-9BF3743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84A2DF-EDC6-4033-ACDE-17D49C42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70A96D-1215-4753-B858-C39C4BE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014EAF-AA04-49B5-A826-85963A6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110DCA-5300-461D-B564-F94B64F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3BADA7-0E46-4DAF-867A-25FA7986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75EFA9-6672-4B3A-ABD9-114BCDC0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5F8BA-632A-4210-9642-987426EDCFD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D29210-4796-42D8-90BF-4C49FE13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639E86-D657-4A13-AB92-64739E69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AAD21C-C248-443C-9D59-CA01AA0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9E025F-FE64-46BC-92B6-4532D87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A0C84A-5EEE-4A6F-8C6E-7B540F0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E988898-70E6-47FD-B40F-78CDE7B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B82632-4DD5-4975-A43E-7A88478D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181DC2-A34E-472C-9A3E-7C3E61A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8CFE43-FE85-481A-A3EC-2101254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C8A637-377A-4556-94C8-52E1362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78BF7-FE86-4654-A8D2-1C1D01D9033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48BE73-4B3D-473B-83D4-1812E1F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E5CB9E-3521-4FDE-B90C-704D4CF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5B3CF1-B009-4091-B21B-5748CDBB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EC712B-AB65-4B70-AE69-E9596313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12AD95-BE36-478A-8F5B-A9B198EE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C299F7-EDBA-4538-83B1-99620308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CD8321E-CF85-4962-9276-D847C84C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7336138-213E-4BD9-8BDF-701FE2D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0CDC0B9-1C6C-4112-8CBC-BC5107D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5D1F44-9269-4574-A0E9-658B80E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EEA58-B655-4EC6-8279-9D5306F088A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2B66AB-7091-4E90-B936-A359262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790F021-3DC2-469D-B154-983834E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2C2DA6-F5C3-463D-8FE9-1F2E28E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8B4B4D-F680-4C94-ABCF-BEE10CD1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A254AE-E76F-4611-A050-2960A6E5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DDB35D-498A-4FED-9EAE-9EE36AD5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875351-7AD1-4E9B-B951-D9EA82A6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639B572-8E4D-4930-8A05-5F14756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DEA01C-7C41-4E81-BBEC-0523A3AE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5A9E02-BB65-45A7-8316-820D54A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6FF9C-8F91-4E55-80AA-8E864023BEF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3F4DA3-A279-46EF-84BA-AA4A7D46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927DE77-C542-409D-B4EE-7200054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4F4F6A-7235-4311-8F36-BDE2333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F44FCF-A0FE-490A-BF03-9B53BD4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2D48A7-DD12-4690-8038-3825AA4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A0FB8E-A871-4646-8ED1-17210FF5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7CDE90-9DBD-4500-B54E-61C0FC9B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6E9568-2094-4440-BAD7-005EA88F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FD982D-82D8-4965-8C34-F331D75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04C921-2D0C-466D-96CC-B6F00190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E169C-E04D-4237-90AE-A01202D971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3521F9-4B1B-435E-B093-95EB6B56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135CB1-B467-45F7-901C-EF97DE1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724FA36-362A-420A-81A1-FD3D9B9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C546CB-F5A7-4E89-9670-FD035A7C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C79D99-C115-45D4-8A13-41BD6D0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97FD7E-42BB-4BE2-8D2A-8797D82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3F6683-F53E-41C9-8E40-56A2E481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BA0824-6691-465D-BD82-9B0DE96E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C529B3-D94A-4282-8E00-78211FDC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44CEB9-1306-407C-828F-2D105D86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C64E7-D2BB-4623-9522-7CD058F4027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ACA663-6375-48B0-A277-DC67BCB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C83B30-5E39-4191-85C5-EADAA17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D3754C-E2F8-4B97-86D7-7A4D787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7F02AB-D525-40EF-AB6A-8151767F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171B37-759B-44DA-9012-F82B7C9A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D3D61FF-A546-4944-8C39-61BCBFE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61DCD6B-2FD4-40DA-BDA2-381BA1B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CA20BF-42B0-42B6-81F5-D2A3EB6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260914-9556-4546-9A2A-5E1933A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6260D8-59B2-4633-9652-6E5D908C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C56-4FE6-4968-A884-A742D21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2DC7A-809F-4C28-8853-DEA411E23FD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234E0A-6657-417E-BF58-66A89A9B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B0AD198-CD74-4A0F-9C1E-E9204E8B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8FA4BC-1CE6-4F06-957C-FB635E4C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C20083-9207-4D93-B2CB-73C85BA2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7B825B7-5E33-43C6-98CB-5038A2A0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BB354C-16B8-48DE-A691-7A10D2A7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F127E3-C22D-4415-AFD2-9C3822BE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80B9CC-0386-47C2-B609-A59CD2E2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176FCF-36FC-4BED-A1FA-C4B1B60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D08541-AF9A-4F24-8E5F-CC81E14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E26D8-7EA4-4473-A99F-E05065B3018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17C6E7-F692-46B4-ABD8-AFCF572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0C3B48-86F5-46B4-8722-7D42A655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D450EA-1C71-4CD8-9609-C84A544B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7EEB8D-696F-40C5-9525-D06F92A6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040911-67DC-4428-B6CA-EE54441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6A566A5-3EDE-4FA3-9EEE-6CF1AE4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8D82C6A-5433-49C3-BBB4-A54A3E4A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42A93B-AEEA-4CDD-8895-38E3987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B8A6054-B8A2-41E4-930E-4F09CE0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1B34876-815C-4EE1-B4D4-455A68B9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FC2BB-DF5A-4EDC-A753-9E22C7DF9F7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7E64D61-7CAB-465F-BEE6-6DD5123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842428A-E42C-4419-AC0B-D2E88CE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767754-C8E1-459A-B201-678A8946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0E107E9-5822-40C9-80F2-6FF5717E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0783AEF-B4DA-47AC-92A7-96F35AC1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ED366A0-4241-4BF9-9E80-CAFCC0EB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D28A6A-DE32-4257-A0D1-37ED89C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2032469-088E-4689-9ADF-91206EA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DB0C52E-F896-4A21-8E72-A5E81FB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EB6016-597E-453B-98E6-FD253E37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22A17-6499-4DCD-AB25-7DB6DC89EEF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7E962F-5835-40E5-AEEA-D49ED936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0EAE33-360E-4E14-8AF3-A502B88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6F5B589-068D-4967-8C8E-6DDCF62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66D89E-45E1-48CB-870C-A7ED9FE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8C3AB1-E293-484E-A598-B413A4B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ADBF860-8B08-4F1D-8EB9-3D149ED9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0A31A6-CFE1-4820-8EFE-32009CD5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25ED9AB-C792-4995-85B9-C457D64F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1F5BFD9-A16F-45A2-AB42-7B2C2D8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560FBF-15D4-4C42-9D09-53F7A5A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124BB-B763-41D2-A06B-544E9B9F5CE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FDD3B28-7B9D-453E-A63E-690C47F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7E1AC4A-39EC-4E71-B96B-3E4E050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BD4F088-B6B5-4413-BC03-00FBF43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BBE1DC8-A8EF-442D-94BD-9F43143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7595315-B294-4F9E-9E5E-1BE7648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A7501C7-5A4A-4DF2-8A8A-21421A2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6845B96-0480-4690-A59D-A050CDC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625C604-CEBB-4C6E-9C65-E39EEB8D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F2C21DF-8D91-4CB1-B1CB-7FCC453A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FD3324-3E0A-4CAE-A6C3-3E9DECE1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520CD-2023-4798-B772-38573F739D4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0E3F611-A6BD-440B-8219-3FE061FE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E82CB8F-958B-4FF5-9236-175C2B1D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9A0409-01F1-49B5-8519-6EF33A34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77FF202-230A-4926-B2AD-AE071BE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74978FA-38AE-41B2-AD71-8A917A2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1AC24A8-BC44-4A77-815D-D5FA9ED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F8A1EC-310B-4676-91AC-C7749BE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2A2993-E8C6-42EF-98FF-2C9A66E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4A1FC7C-DF93-4E9E-930D-5037812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BA4467-C67B-4132-AA9A-06EEB6A9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96CB3-3021-4BCA-8A4F-474D191B772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9B439B7-3577-43AE-B1F8-E1FE632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9940F6-24EE-40FE-B088-7EAED884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6A6FC75-DC2A-40FE-BBED-2377BC7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82440DB-D3C2-4769-A9FB-C951FDD0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F374707-ED48-4C6C-8E9A-84DECB4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0A70B09-0B08-4E8A-B7A4-D83F92A8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EE8A26-AACA-426F-8E2D-FE37C59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B0ACAB7-C14C-4275-82C2-FC75245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92F45B5-5A6E-44C6-9403-A2BC94A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9DB045-848B-4479-80A1-E3D464E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37B52-35D5-47E7-B7B2-A46ECD20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E7BF19-3A66-4DF7-BC25-2CCCB9C2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70418BC-68B3-4B62-BCD4-B7064FBE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FFAAE4D-CCA4-4B50-9DE4-E37B2E66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47D464-12E9-4AD3-ABD8-6ABCD671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DDD1134-07D0-4F19-AFE3-ED96318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E8A3E5-644F-4613-A09B-D1E85E16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1E6EB49-E28D-4045-9295-A650B3D2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E94F9D-4B06-4201-9758-DF8571F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02D66B-DAA6-4AE0-99C9-950D8494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1652941-F4D8-47B8-8893-B6EEC2C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A09F0-6C11-4758-994E-3C6D7C6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810CB8-8356-4CB9-8C11-E2F3446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891B004-A3EE-4760-A3B2-B963FB3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C571F3E-90B4-4B9D-A7F4-CECAF43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33C85C-D6B9-4BF2-A41E-4C54B454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0F945F-798F-4045-BD8B-23F2B7B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CA15B6E-F270-4431-BAF8-9D142E83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9F7E212-5D28-4129-B713-94D556DB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3AEC3D0-AE16-4050-A96F-462FA8A1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B6812C6-BC4E-4C95-A878-A131B15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57828A0-D84F-4760-97F9-5ADB830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B50A5-14B1-4483-BF4A-06035AB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03670A-A29C-426A-ABBA-2C70788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906735B-3BF1-4D5E-86C7-AF1811B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910B281-D822-415B-9C6F-6DB5A13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A9890F0-0CE7-48A8-B05F-14B4C71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9988F0B-9A55-4DFF-B9D1-61AF7A89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E119A61-B89D-44C4-9D4F-CF6ED69A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7E838B5-EF28-4C44-8CAC-2026F05E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BDD6F6-605C-4AA1-A8B3-DD68D66F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AA594B3-859E-4790-88C7-1E9DCC8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1E74E3B-74B0-4C96-9F98-8140D4C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BF6-528A-4B0D-BBCB-52C9C04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1CCEB-2E89-42C9-A9A8-01BA372C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1A77FEC-083F-4628-82F5-AE193DB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323C156-C3D4-4FCB-8CD1-0AD1E89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C0088B8-BC0B-4D7A-8BCA-08251877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139693B-3ABA-48E6-8E19-FFFC3D1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97BAE7E-7FE9-4DBB-83BB-34A5139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399D2E9-6608-4005-A1DC-0E913D72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38960D-454E-410A-8D35-F31C5ABE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6B20050-EA1D-4003-8382-38CC9790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81C13D3-4B14-42A9-8D16-3B78FE0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7483A17-AE97-4D22-B0C8-DF2FE962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747DA-C9AE-4EBE-8ACA-3EEDE39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1BF7AC5-BF63-413B-9D19-182A5D0B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E5A9F17-AD10-4D45-9EDA-6D1B77A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42676F6-0F64-4F1C-ACCF-76F7CE3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7CC4882-F630-4462-B360-E53CB5B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CE4DD95-67FA-4BE8-88A6-2657271D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0BBC260-FA54-4FBA-A5CC-060831C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FC18056-EE1D-4CA2-B93C-DDA496F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F9DFC3F-7B64-4AAE-AFF4-38A8CCC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119425E-B5E9-4951-BDB2-E004077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7859909-5F0A-415B-9F00-7165F1E0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6F5D2-B022-4EC5-9968-7CB9CC1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0850C21-11A3-4F63-A986-0999E85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C38C7AC-FCE3-4DB6-9486-602A9403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79F821B-5966-41DE-B7A9-CA324FD0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CD75FD0-FD8F-4B66-99F0-24D7EEF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0CFA929-94D0-48DE-A958-E7305B6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41937F0-8EF9-49A7-B944-4FEE9EA6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79E3B3-6932-4E61-AA06-0904096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ABEA598-DB76-49FF-B4F3-D3C60D5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A8AB05-640C-4DC6-9501-89AD551C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2C06D23-DAEC-4EF5-8DDA-1666960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9BF6F-A081-4DA5-B2A7-2170430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E08F238-11AF-48F2-A2D6-4D2C9B3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386CA34-6152-4FD4-A945-F4512A78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7A59C5-B67D-43BC-8F6E-5832AF6C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4C9F792-0184-44DB-AF68-3747A915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594C52A-1D8E-4A77-ACF3-7AE2A2D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A57F47F-6F49-430B-A60D-9CEB265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2117C8D-13F5-41A4-87BB-6E92C2A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531E9BB-70E1-4344-9801-B2623F6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F4A678D-8AF9-45DD-A60D-0BB7BF4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F33AF3-0C05-4E01-A282-B2FE49D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E1FE1-A2B0-48F4-82AB-CDF10518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D97EE9D-CABB-4EC8-AF31-F3172726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0F7959D-15BB-46DA-BC52-160ED11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EDC2ACD-32D8-434C-BA6A-1B3BE0D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D74674-2EDC-425A-B237-01147854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E2B0396-C842-4C8D-B594-E7A87D5F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B8ED2-3A05-47DA-A539-B63631D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11B94-5797-4F8F-A46B-997B109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E0589-4087-4185-94C0-34FAEFF3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5F982-E9EB-4AE6-8938-7C7CEF7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CEFB9-2ABD-493F-968E-E21EEB4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410-C91C-4032-8F53-C4AD0EA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EC19E-2A1D-4106-BFA3-A99B1E6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882FF-EBBD-4CC7-B7C3-1DA2DB4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DB5EB-A84B-47CF-9D1A-5504299B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48A32-7563-47FB-80DE-2BA1798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B5E29-1375-46DD-A051-42627470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62DDB-28CC-4613-87A4-5B26C24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FA193-E747-4A92-B6CB-8C4BA81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ADFA3-09CA-45F2-9E60-689C8CC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22797-DF8C-47E3-8F2B-E20BFF8F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6D8BC-5B29-4360-B75D-32F01C17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D8D-F4F5-442C-8C26-A1B50BD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646F3-E585-4BF0-AEA5-883C3EDD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461547-1DB0-4983-B413-2EFF078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54C49-0078-4F7F-A3A6-3CF5491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EBE11-04CB-4339-A885-F16EC34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A64C3-ED66-4C81-BC49-637AE06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58EB9-9E2B-4E7C-92DF-30E796D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350FD-1CC4-4F8B-A944-C16F4612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F1410-6D80-4775-BF02-E430C790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75110-FB1A-40E5-A270-9975445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B8D64-A895-423C-AEC3-3C8CF35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6A1-8522-429B-92EB-D96C610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0DC5E-0419-4F28-96D9-B106E4E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28436-86EF-4044-B3E6-8BC08C9E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306B12-FB8F-4B85-A58E-335067B4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676595-9C1A-4A90-B80B-0BC8AE5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C14F4-9053-4AA8-ADF6-BF49D0D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B9526C-743B-4D9A-A7B9-1E2C9B4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FBC1E-7B69-4C15-AC31-2A7C82EA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7D4EF-5E51-41D5-A70D-C51B5FB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F59DBD-E6BC-47D0-B992-33298E42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DDC61-F25F-4A1E-AB2C-05E6CF6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184-2F59-4340-8D04-843B5ED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A0A44-A815-4EDC-8BE1-025934A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F3747-5F96-476C-8847-E089D51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7B502-B8AA-4664-AD29-F7E92F1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355C76-0588-4F16-AB86-2DAC9DE2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C6B323-0460-4218-AD2F-2C5C591F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72834-8072-4C6C-8239-781A5BA6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DA6313-49B0-4CF7-89F6-A9607BA0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C763B8-7330-4433-BB2D-706E4E2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3B89A-4E07-47E6-B38A-90DF0BB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8EFCB-6ED9-4B50-B0F1-927833B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4B7-01B1-4F7D-81E7-5DACFFE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408445-C52B-4606-87C8-94F83213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C88B1-4C63-4911-8F69-718B9A7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14C734-2498-4FFC-8E32-77A6D6C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5DC53-11D9-4E05-99C5-E52E151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5C128-8AFA-45C2-B9C3-2E7120A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C6381-9852-42F8-A77A-9AB6559D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D17C6-9C01-4DBF-9667-5904077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2517C-6737-4D05-A6D3-9411461A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A1F6A-FEA4-4EB7-967C-E54418E7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92A0E-9A73-4FCE-B6C1-D24BD86D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5DE-4E93-46E9-9684-75BB94E88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" name="Group 190"/>
          <p:cNvGrpSpPr/>
          <p:nvPr/>
        </p:nvGrpSpPr>
        <p:grpSpPr>
          <a:xfrm>
            <a:off x="123840" y="6489720"/>
            <a:ext cx="2376360" cy="252360"/>
            <a:chOff x="123840" y="6489720"/>
            <a:chExt cx="2376360" cy="252360"/>
          </a:xfrm>
        </p:grpSpPr>
        <p:sp>
          <p:nvSpPr>
            <p:cNvPr id="6" name="WordArt 188"/>
            <p:cNvSpPr txBox="1"/>
            <p:nvPr/>
          </p:nvSpPr>
          <p:spPr>
            <a:xfrm>
              <a:off x="123840" y="648972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7" name="WordArt 189"/>
            <p:cNvSpPr txBox="1"/>
            <p:nvPr/>
          </p:nvSpPr>
          <p:spPr>
            <a:xfrm>
              <a:off x="1058760" y="666900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5667-E0BA-49EF-B337-6B1894B2B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FC4-E71D-435A-AB00-C90F1B306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00A-EABA-4A4C-A9CD-917CB611D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495-DF31-465F-85EF-707DAC7C5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CF1-BF99-4C50-BB9F-C97963039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C09-ED4F-4200-A389-49D984714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69F-7B42-4309-8DBE-1262CEEEE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8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857D-9CD2-47CD-B627-472DAC3F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3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0426-D9FD-4270-A9C0-280CE965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7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1D1-8817-4CF0-89E3-CE5805050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87F0-D3A8-48E0-82AD-FE929A122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8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19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0DB-2B7F-4BAC-9FA1-EC1E1952C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63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F9DF-CEEB-495C-9A48-26B1162D9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0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144-7F6A-4A49-A6A8-A3203B15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5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762-AD54-490D-BB0A-219AB218F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2FE-7FF7-4036-9FE9-BE8FAE1E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9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E8E-6E23-4560-8016-6C61B5252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83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C4B5-5B99-4E6E-99FE-086A3E22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2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599-AB64-4307-AF6E-E69CC8AFB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464-1EB5-43E7-96E2-CAA65061ED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57F-49FA-49D5-B76A-2C0C0366CF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F06-9CCA-49F1-8FE5-5D3E7BC2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5B0-E976-4F22-9F72-E338B6BFD6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82FF-9E6E-4687-9AF7-E9FF9EF599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224-A609-45E6-8DCF-6BF6470E7F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5F76-4AB2-4573-BF7E-8BAB15C31C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9FCB-2942-464C-87BF-926EAC4B99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90A-A54B-4BEE-98CA-9EE9F66597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BA1-3B31-4005-9AAF-F79C2A7993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EF5-288B-4823-B530-EBB5D03BBE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CBE-F5AE-47F7-9197-EB8463952F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0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83"/>
          <p:cNvSpPr txBox="1"/>
          <p:nvPr/>
        </p:nvSpPr>
        <p:spPr>
          <a:xfrm>
            <a:off x="595440" y="476280"/>
            <a:ext cx="115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F460-FC4D-4C72-8257-2D02DBB46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3AF-5EB5-44C2-8015-9CA75CB2E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BF1-117A-472E-B09D-67B5DEFBB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82E1-C170-4F29-B90A-BCFD16996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1BD-8B12-4643-A405-44B488570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WordArt 8"/>
          <p:cNvSpPr txBox="1"/>
          <p:nvPr/>
        </p:nvSpPr>
        <p:spPr>
          <a:xfrm>
            <a:off x="179280" y="21096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WordArt 12"/>
          <p:cNvSpPr txBox="1"/>
          <p:nvPr/>
        </p:nvSpPr>
        <p:spPr>
          <a:xfrm>
            <a:off x="179280" y="155520"/>
            <a:ext cx="547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2" name="矩形 5"/>
          <p:cNvSpPr/>
          <p:nvPr/>
        </p:nvSpPr>
        <p:spPr>
          <a:xfrm>
            <a:off x="108000" y="659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/>
  <dc:description/>
  <dc:language>en-US</dc:language>
  <cp:lastModifiedBy/>
  <dcterms:modified xsi:type="dcterms:W3CDTF">2015-02-09T08:28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