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B03C-7A71-4850-8DAD-93BDCA26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F4C-539A-4731-B409-A0B7ACC3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ED2FF-CCFA-44B4-877B-873AA32A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B9782-F761-4EA6-AA1B-2D3E683E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68642-8BF7-40B8-83F1-4C0411A9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F8142-F6F2-482E-8177-D314620F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86616-6BD2-4518-8F7C-36AD1F85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C34D8-E94D-4E29-AAE6-A2075719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3597B-C4B9-42CA-B03A-69C73CEE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2F364-6EB2-4308-BFE1-AC762893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36CAF-1E77-40AE-B03F-EF63772E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27B60-5136-43A6-8EDA-2229BAE2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F34-F3D0-4C51-A234-437DDA17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99231-351C-4933-A0DE-FE676925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B9252-E639-4894-8548-657AEDC9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A91F9-8010-4D1D-B3D2-357382B6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61196-CF03-4D49-94E9-898E8AAA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94F3D-338E-44E8-B87E-C80FD3ED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69F89-1AF1-4B77-9048-B80AB2F3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C57B9-BB68-48B7-BBBC-A4FE6CFF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CB1AB-CC6C-44B3-85A1-EBEFE342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10D55-E8E1-4BBB-A597-DB013AE0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5C05F-D28F-4761-AD22-90A7B00A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B52-AA6C-4979-975B-F5A41EFF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58E3D-9BC7-4C48-A4E8-28B937AE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82292-E103-4B1E-8233-9B69995B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2C1C1-8AA2-4CCB-9511-F8C1B5F7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36BF3-8C0B-4090-9310-3F92F20B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C38CB-F528-420F-81F5-600652E9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BDC5F-2657-4141-AAD4-B07CF755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9FFA2-7708-4948-8D81-17F9578C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D9A66-2ABE-4D25-A27C-07DE7371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ED15F-414D-4ED4-A921-B0EDFCCF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4994A-C90A-41CB-A290-6781CEC1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B28A-5DD5-4D42-AE8E-7DE5E05D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CE8B9-570A-4A4E-8217-47DE873A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36AAF-FFE5-4769-A4AB-9A4B5F0E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87226-22F9-4105-B911-9DDC3408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CA296-C8E3-48C7-84B9-45F4FD42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301A2-74F3-4904-9C0A-8750B5EA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DBB7A-1298-42A2-9B90-EAC84857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7499D-505E-4D3F-9374-D0EFACB3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C82CC-8E1B-490A-A18E-5723729C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C1C93-94C0-4928-950D-525AB393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A3FA9-CEC3-4133-A30D-14D123B0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417B-4673-4CB7-8E70-2136619B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3E8F3-D5B8-4044-8A2D-ECE360DB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200E7-5E17-483B-9C0C-B939236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56326-D34B-411D-9002-841F7C4B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2AAAD-971A-48FD-8EA3-65D8B4B2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7F7BC-B563-4CE4-862C-FA0518FC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99E76-B29A-4396-8915-EDCB77C9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5E861-9378-4219-83E3-9244AFF0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FD2018-CC33-413E-AFCA-D526712C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A43D8-B420-478B-8938-ED8F584F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93504-313C-4928-B77B-A995C7C9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D40F-FFF9-4045-8E7B-4825C2E5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1BB09-CE75-4DBD-8125-FE1B6936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F7D88-A22B-4982-997A-68C27ECE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A14CF3-0ED1-4EA4-9416-ABD72ABC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F86CD-2E72-49B1-A83E-0DB433E2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E3FC4-7B94-4E90-A071-1E47A24D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C88E4-E132-4267-BE42-657F4633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7F563-CCFF-4E5B-AA9B-313E935F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414A-07BB-4E8E-AE8B-5DB1FC97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221F-7410-4FFE-8C1B-F0DB05AE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817A-9898-4400-819E-590581D2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A4A2-35E8-4DAF-B401-0B38693E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BEF-C26B-4D47-AB99-B297CD25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7B5D-B2AC-4B3B-A5E8-4395A628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4E38-6FB4-4262-B164-ABC487DA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1741-1761-4F45-9CD5-AEDDACC1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23FD-CD4E-4302-9BAA-48269B87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4AA6-29AF-424C-8330-DD5EF7CE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D5A1E-E605-478D-B704-47A6E93C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1061-8099-4571-B47D-81EA1453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6D603-9112-4895-B1C2-A8354A84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451B-B09C-47C7-AED5-02761BCD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028D7-FE9B-4646-AF48-2FDF0300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1A9-A574-49F8-B0A8-E4542D05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8662-5DBE-4B33-9D3E-1434406C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44D2F-5F56-426A-A34E-CF19EA7C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883C4-DA59-4B5E-8389-EE07731E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3AD5C-9F5D-4932-B73A-8CE1E521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8A0B-D393-4E17-9CE2-9E4F1311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0F94-4D69-421E-807E-68DAB442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3E42B-B167-471A-B22C-FCB41999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AC749-892E-42B2-922E-2796A70C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05EAE-32DC-490E-A566-390B4054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79154-AC9B-4E9D-96AA-50546176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F33-B1FD-4893-A145-31C25C24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237C3-C56B-4AF6-A46F-C65F9E4F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EFD6D-636A-43DE-AFF0-7FDD24BF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98341-B95B-426E-BDF8-870F2402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E4266-02DA-4490-8627-65CE2614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F2EEB-0111-4B74-A007-88AC3692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45A7F-7D69-49D0-A9BF-DE5A6FC4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A9FF1-2991-4707-A7E3-1B6AE881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7A9B5-C7CB-404E-BF8F-3EDC4139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BBC53-9D62-4B0B-9883-20B64065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ED9E4-A04E-4AF2-807C-F3A0AB0A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A33-1E5A-4013-8C7E-575BCA94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ACC8F-E4AC-4D82-84F6-F1E0ADC3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6DA10-E9F9-48C6-9D92-D91F34D2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1174C-82C5-489F-A98E-19C95940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8CDE8-95C4-4179-A32B-02E25A26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C6A64-3C32-4AA4-A4EF-C21A6FED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0B586-2191-4451-ADB3-E5FB3EBE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634ED-9A0E-424D-8EB0-8F33A552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2C6EF-180F-47CE-BA32-BB5E7A19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F6E64-0F01-4A7C-BFA4-7F407B4F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722C0-9A53-4CCA-A490-86035409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446-E512-4034-81B8-E232F222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A689E-A47D-4910-AE10-CCCD752A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F0A48-F2F2-46E9-9AB4-FC793706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20B23-9EAB-4027-B334-75B77EB0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71143-426D-4D45-8793-DBD257CF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789D4-EF21-4561-B837-D2D9BC7E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08F74-F4CF-4ACE-868B-FED28B52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8A875-7971-4C1E-A3FF-4B74F0B6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AA901-13B8-456D-A90F-665940F8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B0CB6-A5EC-4BEE-BCA0-6B1B7347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A727F-E674-42DB-8C8C-2AA624CF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B38-515B-453C-94BF-4823CCA0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C0331-15F5-4017-9176-4BA4E04A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06587-DF6F-41B1-97B0-35AA3652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EF60A-3B57-4148-8D1F-AEEBDB70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31D11-BC36-4B97-9F58-695D0120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F2EF7-700A-4E81-BA14-2F68A337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7C7D7-89FA-4439-B6D0-7221A6C1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56D9B-AE6E-48D2-9768-8A80F15C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FFE1D-276D-474D-8925-8CEBE6E6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D226C-B02C-4ABF-A1D0-0C2C764C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83D67-53AA-427C-9786-DE42E067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28C-1018-472C-AD5E-E8E6E08F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8300F-358B-46EF-B0C3-BF46F1A6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76B61-08A7-40F6-AD87-DFE95037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6FBAA-A9BE-4B99-A679-A6E31F29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E1A0C-B831-43A4-A019-6C164EDE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9919F-3975-409D-9ED7-80DBDA1D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96FC4-4EFC-467A-9F13-2FEDC706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5AE04-214A-40ED-83D5-901FFC52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40859-532B-4416-8026-7A31797A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1AD84-E312-4E0A-8568-BC9F18E3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89483-0199-4889-B0DA-D9193CB6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F1EA-C3EC-44CF-AFA0-904E40B3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4E409-68E9-4998-BBD0-A541EC45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EFB01-DACC-4520-9F71-A0AA6236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A1D25-EDA3-4552-AA49-43B6E256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B2BA1-F613-4A49-93D1-69F02D0D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2F55A-52D1-46CC-8699-354D26A0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7393E-BC95-4249-A176-DCC1B53A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2FB3C-33C1-41A7-AF85-BC57F714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97DBB-CA19-42B0-8945-4EBB19B8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A4369-7165-4909-9ED1-9970B155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C0C07-F345-4C5F-9214-94F97AAF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8533-8DB7-4E6F-8BFA-F1EA9CC11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349E-7F9A-46CD-ACBF-8651BC5706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94D2-381C-4847-94B5-28BDE5D367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841A-662B-4D3F-9100-90FF19AA9A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DE5E-4936-4B93-96EA-D3286991A2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C76E-8700-4FDA-979C-328897D900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6C09-F636-4313-BFA6-EE03065A33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A44A-E0E6-4343-9566-B234121492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1E3C-3507-4B2A-9EB9-144FCF6038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A483-F2E9-4E63-899B-20987BABC7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3F54-AE5F-4256-BB84-1834FB7412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EA20-599D-4E8C-991D-D74529D466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DAD8-3F9B-49D2-91E4-7B1B78BDF7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8" descr="200882116484157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矩形 7"/>
          <p:cNvSpPr/>
          <p:nvPr/>
        </p:nvSpPr>
        <p:spPr>
          <a:xfrm>
            <a:off x="2771640" y="6165720"/>
            <a:ext cx="3096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7"/>
          <p:cNvSpPr/>
          <p:nvPr/>
        </p:nvSpPr>
        <p:spPr>
          <a:xfrm>
            <a:off x="0" y="907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" descr="200882116541244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200882116555186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200882116560535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4" descr="200882116563184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4" descr="200882116564947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200882116571374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200882116580157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200882116581811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200882116583988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200882116585735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200882116490758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4" descr="200882116591454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4" descr="200882116594755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20088211700023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4" descr="20088211700247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200882117004484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200882117013163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200882117014583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4" descr="200882117020373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图片 9" descr=""/>
          <p:cNvPicPr/>
          <p:nvPr/>
        </p:nvPicPr>
        <p:blipFill>
          <a:blip r:embed="rId20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10" descr="png-0644"/>
          <p:cNvPicPr/>
          <p:nvPr/>
        </p:nvPicPr>
        <p:blipFill>
          <a:blip r:embed="rId21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1" descr="png-0652"/>
          <p:cNvPicPr/>
          <p:nvPr/>
        </p:nvPicPr>
        <p:blipFill>
          <a:blip r:embed="rId22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200882116493357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20088211649577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200882116501463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200882116523658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200882116525334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200882116532816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200882116535122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46:37Z</dcterms:created>
  <dc:creator>微软用户</dc:creator>
  <dc:description/>
  <dc:language>en-US</dc:language>
  <cp:lastModifiedBy>User</cp:lastModifiedBy>
  <dcterms:modified xsi:type="dcterms:W3CDTF">2015-07-02T08:59:5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