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755-4380-43D9-A413-A83B7535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C16-A325-4D28-AB97-30140E9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44924-AB4B-46E4-8931-0118E969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77ECA-851F-4734-84D0-B5D27D4A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870F9-FD7E-4BDE-BF5F-AF6ACFC8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2C173-1361-413B-B175-547740F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61556-F2ED-4ACD-B9EB-A1B43FD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B68C3-7071-43F7-B4E7-F070016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BD3A8-6E3D-49AC-B782-08F4D4F3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164E2-A803-403B-B8AA-C4F1BFED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5137E-5ED5-4BDB-B455-7CCFD02D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9D490-6FAE-43F3-B56D-3566532F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81F-B506-4CE6-91EE-DC9FADF4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F174A-83B6-425A-BD56-9A584127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01DD3-F793-432D-8DE5-B43C6E8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C4DC8-B063-4BB0-B7B3-08DF0B1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F4DBE-7F75-4BF6-A11A-B04B7AE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6F704-1590-465A-9FE1-07F6F13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8739E-0A5A-43FB-8D8E-B7A57D8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0E5C9-8B2D-47CE-9877-1F315F1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B1DD1-8FFC-465E-A7F5-36C8E6C1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AA3A4-A681-4661-A750-E4BD50E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333C4-6AB9-44EC-B4D5-43BB681E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6EB-34AF-4734-9E92-D9A2F30B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FAEE2-49CB-4DD3-9842-EFE2B362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15E07-B71A-4FA3-9AB3-27E3C316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304C2-5BA8-4FE9-B5CC-B4197A29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2D92-8E1F-4F07-929B-CAEA9D9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16950-B599-4E79-A347-250028B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EF340-8CE6-4435-A04A-0281FAE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C3850-FB23-44A1-AA71-685D6785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AD111-022A-4BAB-AF87-93BBE33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EE60-B325-4B81-AE5A-AD74E740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FD487-FCE4-4E55-87DE-8F94A54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E73F-27BA-4AFA-8CD6-EE83D832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DB92B-892F-4E44-9A3A-802C67B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C7020-EEAE-4129-A1A9-206F9E77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AAE2-3969-4707-9995-05C6DC5E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828E0-627F-4ECC-AEFE-6F50551A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93293-41D4-4ACE-964D-EC91EF35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04515-52D5-4AA2-9764-CDB5A572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175E6-45D2-476B-99C6-E783A04C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6884-6F58-4E01-80C7-14D0A8B1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0F7E5-4841-45CE-A1DA-CF5AEDC0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EB2FE-8973-4E33-963D-98BCC1A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E818-61E6-4299-8400-36A025D1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595CD-039A-4F54-A0BC-99AC4A4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D71D8-893D-4BD3-AB87-CF2616E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1C8C9-46FE-42A2-8040-3D7DD9A3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FC1DB-DE13-4598-B596-A69663AE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3338A-758C-40A7-A153-0856509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A3171-A6B2-4830-98CB-1F165D76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DB57B-5AF1-4C64-848B-643B3C1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13E66-B6EF-4348-A871-778D1E9D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884D2-363A-4B9D-8A28-CC509919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2FEFD-AE83-4E81-8F7C-2FE846A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ED6A-F370-40AA-A6BC-95410321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CB73E-D914-4956-BB19-0A3A63E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47D1C-66CF-4974-B5CE-B09D8C55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C9A17-45B9-4810-9BE7-F83843CB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5F164-D92E-451C-AD5A-4573D04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A3732-D97E-4520-9907-8939184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23B96-CD0E-4FD5-A102-C7724571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D57EE-D175-445D-93BF-A7961133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F0076-7895-413D-A921-06EF6821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80736-7AC3-4047-87F4-7504CCD6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802B8F-7C16-447F-9737-FAC0F75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A4EB-C66D-481B-B0BC-540CA186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A5DEF-4C23-4086-B0C0-888A04A4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45651-9E06-4EE4-B2F7-EC78E626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E8518-3851-4121-A8B6-4DDB179D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8B85F-BB59-434D-A60F-D72582FE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52FEB-9F1C-4381-8659-9576D42D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C583F-0CBC-4D88-8286-FC4E1CA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1FE16C-07E7-48F4-BA55-AB8677D7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5C7E5-0442-46E1-8369-F35FE326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12D7E-672C-4AEF-A200-A7F0750E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EB85-98E9-496D-B426-4ED31A30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8335-2390-4588-A3BD-B8FE948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B8A9-02FD-44AE-BF1C-E4BF1B9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44C-7F31-4B45-9E30-0B9BBF9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C207-0B41-4300-8C7F-078F1DD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1B2D-A2F9-4780-A7D1-EEF4D2D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DA93-D0CA-4933-B6B6-98890EF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E1B3-A89A-4629-8FD6-1E92BE01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D91-4995-4E31-B47C-46445A88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6564-BA86-40E5-90E9-54A4DF23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46AE-335D-420E-93F1-ED0FC993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AE3A4-ECEB-40E8-8780-7252D9B2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89AD-A2EA-41BB-8A9A-B8BC88C2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973C-C022-4D33-88CF-6D3496FB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B6B-DB15-4532-9988-413D849C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1359-C7BE-41AD-983A-53BC444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2FF0-03DA-4724-A82D-FBCAC10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08C1-9FC4-40CE-9101-F3D6FD73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36F0-0584-4DEE-ABA8-69B2F4DC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9513-B788-4B70-A294-2DE1D810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BBEC-1FCC-4CA8-B310-1A5F48E1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D2B6-9606-4F8D-A03E-35064E77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664F-1916-4152-91C3-D7C18F75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09E0-7182-466B-BCEA-7CDCCAB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0CFB-F9B7-4C2C-894C-0A6EF00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16D-AA94-4A3D-BCD9-BC06C391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A86B-CE4E-4074-B075-9CE25477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4D44-CFC4-4A69-811A-D98645E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66144-D7EB-44E5-A93E-D1550954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C8C1-10B7-4A1C-A52B-8C5AC8D0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BEC2F-1FC2-4451-82A0-4C71423B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37B2-98AC-4AE9-AC4A-C2B04D1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CC7E-4A5B-4178-8542-A3A73FC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2A03-6D76-453C-B3CB-6FF941E4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3A08-687A-4563-8ED5-B445FB30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3824-C2B0-4646-8861-33324CA5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64A-99CF-45D1-903A-BFB569E5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AE6AE-1F6F-4270-9290-E09B93D5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CA7F1-E918-4C13-8D18-2FF90AA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531C-4F45-480A-986F-5DB24EA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C84A-1669-4C39-B5D8-C3114AA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ED95-DCBE-4EE3-9F6D-0DE57D1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9B8E-3CAE-4FDC-936B-A5AF2C1B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B6F2-4376-4C62-A138-308562E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19BE-9CCD-4255-AF99-3FAF02B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6BD8-BF23-4D9C-805C-A0B912C5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DE5E-9F8A-4009-BF27-FD85A054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095-8EAE-44F1-AEE1-D4E92C1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BA266-A6A5-4995-809F-1F022957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14496-BC8A-40FC-B170-DEA610CD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260C5-3499-42D6-97E4-A8061B11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75385-70F7-4AEC-A79F-F2043B9C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A3323-32EA-43B7-9948-5AE67D7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0E186-E73E-4E3B-8494-3508E18C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B931-7ED4-4CF3-903A-96FE4A94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06C7-4DAB-4247-8A41-5620D28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87F2B-C5D9-4447-BB8B-E9DC8B8D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05ECE-57F9-4E6A-987D-04D4DB0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06D-5037-401C-A562-D6F6494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E0197-1FB4-40B6-AF04-2CE305C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60E6-1B7E-450F-8402-C4AF10D7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A7EF-DBC5-4C6B-9AFC-698458E2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E377-6703-4345-907F-D6541832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4AE3C-938A-4AD5-B5C7-0D49AA41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FE8D-483F-40D6-9E60-714E975B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4F703-F0E3-4F9E-8E30-1E6EBE7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1576-800A-4405-9793-81C02AB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5F31-08D4-4348-94F2-7BD7B63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6D87C-34FF-4FE4-9583-7A1E14E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90B-0594-420F-A940-E6A01154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B660-6660-475F-BDAB-6BB2A03D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30791-E3E3-4970-BCEC-5361827F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65E97-4AE8-4CC9-98C8-BD7F3B7E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B29B-53C9-47BD-8CB9-78DB1C33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24119-D58D-4383-AEF8-486F3B43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C6735-9624-4341-A433-05EDE251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A6975-FB2D-4003-A556-934EE64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DC70-07C4-4879-A963-FC79D76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03B1-EF89-4795-A7D8-81B000B6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E7A1-F02E-4691-96ED-06592B98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169-7E78-482F-84E2-A954D76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93D7-2B49-4C21-9670-47E17A49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E0BE-F3FF-4E56-98FE-AAC995D0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DB89-632B-4148-94CB-A830458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FA18-D68C-4863-B25F-D7114E3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E587-7BC0-436F-962B-33554F69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6F072-96B7-44DB-BD4C-079305CE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40FC-78D5-4B2E-B9A2-A1CC2AF1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28705-4F4E-43D5-825C-2E8FC2CF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9C5AE-3B91-42EA-AD7D-36321E35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168A1-7965-4F2B-8A99-AA242B0A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F963-DAC3-4D37-901D-B95B9F11CC2B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5A0C-17CB-42C8-AFED-F5FD340EED47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04E8-14D6-4C7A-B3B7-E23F7DD34985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2461-0054-4626-A145-E07A50DD4E07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818-0E67-47BD-A860-518AB71923E3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C7A-5803-457C-BAE4-CEE508469E69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0" t="15122" r="25305" b="22999"/>
          <a:stretch/>
        </p:blipFill>
        <p:spPr>
          <a:xfrm>
            <a:off x="0" y="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3240"/>
            <a:ext cx="9144000" cy="5049720"/>
          </a:xfrm>
          <a:prstGeom prst="rect">
            <a:avLst/>
          </a:prstGeom>
          <a:gradFill rotWithShape="0">
            <a:gsLst>
              <a:gs pos="0">
                <a:srgbClr val="ffffff">
                  <a:alpha val="85098"/>
                </a:srgbClr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FFD5-139A-4261-8859-E94FAB4E31D4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7407360" y="0"/>
            <a:ext cx="1260360" cy="433440"/>
            <a:chOff x="7407360" y="0"/>
            <a:chExt cx="1260360" cy="433440"/>
          </a:xfrm>
        </p:grpSpPr>
        <p:sp>
          <p:nvSpPr>
            <p:cNvPr id="85" name="矩形 7"/>
            <p:cNvSpPr/>
            <p:nvPr/>
          </p:nvSpPr>
          <p:spPr>
            <a:xfrm>
              <a:off x="7407360" y="0"/>
              <a:ext cx="1260360" cy="389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pic>
          <p:nvPicPr>
            <p:cNvPr id="86" name="Picture 2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7421040" y="0"/>
              <a:ext cx="124668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KE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KE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32F9-FFCB-4FBB-B0BE-93F9D39E858A}" type="slidenum">
              <a:rPr b="0" lang="zh-CN" sz="1200" spc="-1" strike="noStrike">
                <a:solidFill>
                  <a:srgbClr val="898989"/>
                </a:solidFill>
                <a:latin typeface="IKEA Sans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F6A9-4F04-48A1-9D91-7EEE1B0FF1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F392-8C69-4F01-93CD-AB4D99A0514A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4A30-DE2A-4002-A1C7-E6D15EF7FF7A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D90B-D5A7-4ADE-9F2B-3A3756809805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1D11-DDF8-4712-A932-973C0BC68132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KE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KE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6E38-96E0-4710-AE12-F89AC5116C4E}" type="slidenum">
              <a:rPr b="0" lang="zh-CN" sz="1200" spc="-1" strike="noStrike">
                <a:solidFill>
                  <a:srgbClr val="898989"/>
                </a:solidFill>
                <a:latin typeface="IKE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70man.com/?cat=1553" TargetMode="External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"/>
          <p:cNvPicPr/>
          <p:nvPr/>
        </p:nvPicPr>
        <p:blipFill>
          <a:blip r:embed="rId1"/>
          <a:srcRect l="0" t="3558" r="6249" b="18964"/>
          <a:stretch/>
        </p:blipFill>
        <p:spPr>
          <a:xfrm>
            <a:off x="0" y="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580" name="矩形 9"/>
          <p:cNvSpPr/>
          <p:nvPr/>
        </p:nvSpPr>
        <p:spPr>
          <a:xfrm>
            <a:off x="-84240" y="2070000"/>
            <a:ext cx="9228240" cy="2656080"/>
          </a:xfrm>
          <a:prstGeom prst="rect">
            <a:avLst/>
          </a:prstGeom>
          <a:solidFill>
            <a:srgbClr val="f2f2f2">
              <a:alpha val="78000"/>
            </a:srgbClr>
          </a:solidFill>
          <a:ln w="0">
            <a:noFill/>
          </a:ln>
          <a:effectLst>
            <a:outerShdw dist="3816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581" name="Group 4"/>
          <p:cNvGrpSpPr/>
          <p:nvPr/>
        </p:nvGrpSpPr>
        <p:grpSpPr>
          <a:xfrm>
            <a:off x="3543120" y="3635280"/>
            <a:ext cx="2286360" cy="1000080"/>
            <a:chOff x="3543120" y="3635280"/>
            <a:chExt cx="2286360" cy="1000080"/>
          </a:xfrm>
        </p:grpSpPr>
        <p:grpSp>
          <p:nvGrpSpPr>
            <p:cNvPr id="582" name="Group 5"/>
            <p:cNvGrpSpPr/>
            <p:nvPr/>
          </p:nvGrpSpPr>
          <p:grpSpPr>
            <a:xfrm>
              <a:off x="3596040" y="3635280"/>
              <a:ext cx="1950840" cy="749520"/>
              <a:chOff x="3596040" y="3635280"/>
              <a:chExt cx="1950840" cy="749520"/>
            </a:xfrm>
          </p:grpSpPr>
          <p:pic>
            <p:nvPicPr>
              <p:cNvPr id="583" name="Picture 2" descr=""/>
              <p:cNvPicPr/>
              <p:nvPr/>
            </p:nvPicPr>
            <p:blipFill>
              <a:blip r:embed="rId2"/>
              <a:srcRect l="0" t="0" r="3486" b="0"/>
              <a:stretch/>
            </p:blipFill>
            <p:spPr>
              <a:xfrm>
                <a:off x="3596040" y="3635280"/>
                <a:ext cx="195084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TextBox 12"/>
              <p:cNvSpPr/>
              <p:nvPr/>
            </p:nvSpPr>
            <p:spPr>
              <a:xfrm>
                <a:off x="3908160" y="4123440"/>
                <a:ext cx="1351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 </a:t>
                </a:r>
                <a:r>
                  <a:rPr b="1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面试技巧集萃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</a:t>
                </a:r>
                <a:endParaRPr b="0" lang="en-US" sz="11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585" name="TextBox 14"/>
            <p:cNvSpPr/>
            <p:nvPr/>
          </p:nvSpPr>
          <p:spPr>
            <a:xfrm>
              <a:off x="3543120" y="4389120"/>
              <a:ext cx="228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搜集  秋叶语录        整理  黄丽娟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  曹将</a:t>
              </a:r>
              <a:endParaRPr b="0" lang="en-US" sz="10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586" name="Group 9"/>
          <p:cNvGrpSpPr/>
          <p:nvPr/>
        </p:nvGrpSpPr>
        <p:grpSpPr>
          <a:xfrm>
            <a:off x="3251160" y="2631960"/>
            <a:ext cx="2223360" cy="703440"/>
            <a:chOff x="3251160" y="2631960"/>
            <a:chExt cx="2223360" cy="703440"/>
          </a:xfrm>
        </p:grpSpPr>
        <p:sp>
          <p:nvSpPr>
            <p:cNvPr id="587" name="矩形 17"/>
            <p:cNvSpPr/>
            <p:nvPr/>
          </p:nvSpPr>
          <p:spPr>
            <a:xfrm>
              <a:off x="4074480" y="26319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40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588" name="圆角矩形 18"/>
            <p:cNvSpPr/>
            <p:nvPr/>
          </p:nvSpPr>
          <p:spPr>
            <a:xfrm>
              <a:off x="3251160" y="2818080"/>
              <a:ext cx="405000" cy="405360"/>
            </a:xfrm>
            <a:custGeom>
              <a:avLst/>
              <a:gdLst>
                <a:gd name="textAreaLeft" fmla="*/ 19440 w 405000"/>
                <a:gd name="textAreaRight" fmla="*/ 385560 w 405000"/>
                <a:gd name="textAreaTop" fmla="*/ 19440 h 405360"/>
                <a:gd name="textAreaBottom" fmla="*/ 385920 h 405360"/>
              </a:gdLst>
              <a:ahLst/>
              <a:rect l="textAreaLeft" t="textAreaTop" r="textAreaRight" b="textAreaBottom"/>
              <a:pathLst>
                <a:path w="21600" h="21619">
                  <a:moveTo>
                    <a:pt x="3600" y="0"/>
                  </a:moveTo>
                  <a:arcTo wR="3600" hR="3600" stAng="16200000" swAng="-5400000"/>
                  <a:lnTo>
                    <a:pt x="0" y="18019"/>
                  </a:lnTo>
                  <a:arcTo wR="3600" hR="3600" stAng="10800000" swAng="-5400000"/>
                  <a:lnTo>
                    <a:pt x="18000" y="216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华康俪金黑W8(P)"/>
                  <a:ea typeface="华康俪金黑W8(P)"/>
                </a:rPr>
                <a:t>陆</a:t>
              </a:r>
              <a:endParaRPr b="0" lang="en-US" sz="2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589" name="TextBox 12"/>
          <p:cNvSpPr/>
          <p:nvPr/>
        </p:nvSpPr>
        <p:spPr>
          <a:xfrm>
            <a:off x="3340800" y="3348000"/>
            <a:ext cx="189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cr173.com</a:t>
            </a:r>
            <a:r>
              <a:rPr b="1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706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07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708" name="Picture 3" descr=""/>
          <p:cNvPicPr/>
          <p:nvPr/>
        </p:nvPicPr>
        <p:blipFill>
          <a:blip r:embed="rId1"/>
          <a:stretch/>
        </p:blipFill>
        <p:spPr>
          <a:xfrm>
            <a:off x="2270160" y="1515960"/>
            <a:ext cx="6576840" cy="252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709" name="矩形 2"/>
          <p:cNvSpPr/>
          <p:nvPr/>
        </p:nvSpPr>
        <p:spPr>
          <a:xfrm>
            <a:off x="1150920" y="1515960"/>
            <a:ext cx="1030320" cy="2524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390680" y="36338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范例</a:t>
            </a:r>
            <a:r>
              <a:rPr b="0" lang="en-US" sz="24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712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13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14" name="矩形 2"/>
          <p:cNvSpPr/>
          <p:nvPr/>
        </p:nvSpPr>
        <p:spPr>
          <a:xfrm>
            <a:off x="1150920" y="1515960"/>
            <a:ext cx="1030320" cy="2524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1345320" y="36338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范例</a:t>
            </a:r>
            <a:r>
              <a:rPr b="0" lang="en-US" sz="24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1"/>
          <a:stretch/>
        </p:blipFill>
        <p:spPr>
          <a:xfrm>
            <a:off x="2276640" y="1515960"/>
            <a:ext cx="5424480" cy="252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717" name="矩形 7"/>
          <p:cNvSpPr/>
          <p:nvPr/>
        </p:nvSpPr>
        <p:spPr>
          <a:xfrm>
            <a:off x="162000" y="13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IKEA San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IKEA San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2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719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20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21" name="矩形 2"/>
          <p:cNvSpPr/>
          <p:nvPr/>
        </p:nvSpPr>
        <p:spPr>
          <a:xfrm>
            <a:off x="1150920" y="1515960"/>
            <a:ext cx="1030320" cy="2524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22" name="TextBox 5"/>
          <p:cNvSpPr/>
          <p:nvPr/>
        </p:nvSpPr>
        <p:spPr>
          <a:xfrm>
            <a:off x="1345320" y="363384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范例</a:t>
            </a:r>
            <a:r>
              <a:rPr b="0" lang="en-US" sz="24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723" name="Picture 2" descr=""/>
          <p:cNvPicPr/>
          <p:nvPr/>
        </p:nvPicPr>
        <p:blipFill>
          <a:blip r:embed="rId1"/>
          <a:stretch/>
        </p:blipFill>
        <p:spPr>
          <a:xfrm>
            <a:off x="2279520" y="1515960"/>
            <a:ext cx="5534280" cy="252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1122480" y="1430280"/>
            <a:ext cx="5970600" cy="153036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3"/>
          <p:cNvGrpSpPr/>
          <p:nvPr/>
        </p:nvGrpSpPr>
        <p:grpSpPr>
          <a:xfrm>
            <a:off x="695160" y="609480"/>
            <a:ext cx="7058160" cy="1195200"/>
            <a:chOff x="695160" y="609480"/>
            <a:chExt cx="7058160" cy="1195200"/>
          </a:xfrm>
        </p:grpSpPr>
        <p:pic>
          <p:nvPicPr>
            <p:cNvPr id="726" name="矩形 3" descr=""/>
            <p:cNvPicPr/>
            <p:nvPr/>
          </p:nvPicPr>
          <p:blipFill>
            <a:blip r:embed="rId2"/>
            <a:stretch/>
          </p:blipFill>
          <p:spPr>
            <a:xfrm>
              <a:off x="695160" y="610560"/>
              <a:ext cx="705672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Text Box 5"/>
            <p:cNvSpPr/>
            <p:nvPr/>
          </p:nvSpPr>
          <p:spPr>
            <a:xfrm>
              <a:off x="695160" y="609480"/>
              <a:ext cx="7058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28" name="Group 6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729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所获荣誉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30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31" name="Group 9"/>
          <p:cNvGrpSpPr/>
          <p:nvPr/>
        </p:nvGrpSpPr>
        <p:grpSpPr>
          <a:xfrm>
            <a:off x="695160" y="2176560"/>
            <a:ext cx="7058160" cy="1199880"/>
            <a:chOff x="695160" y="2176560"/>
            <a:chExt cx="7058160" cy="1199880"/>
          </a:xfrm>
        </p:grpSpPr>
        <p:pic>
          <p:nvPicPr>
            <p:cNvPr id="732" name="矩形 11" descr=""/>
            <p:cNvPicPr/>
            <p:nvPr/>
          </p:nvPicPr>
          <p:blipFill>
            <a:blip r:embed="rId3"/>
            <a:stretch/>
          </p:blipFill>
          <p:spPr>
            <a:xfrm>
              <a:off x="695160" y="2176560"/>
              <a:ext cx="705672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11"/>
            <p:cNvSpPr/>
            <p:nvPr/>
          </p:nvSpPr>
          <p:spPr>
            <a:xfrm rot="10800000">
              <a:off x="695160" y="2178720"/>
              <a:ext cx="7058160" cy="11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34" name="矩形 21"/>
          <p:cNvSpPr/>
          <p:nvPr/>
        </p:nvSpPr>
        <p:spPr>
          <a:xfrm>
            <a:off x="1014480" y="2844720"/>
            <a:ext cx="616752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标注比例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比如获优秀毕业论文（奖励前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5%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）这样的写法是最专业的。写简历有个原则，把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当傻瓜，因为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HR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一小时可能就要看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多封简历，他根本不会去思考你的奖项比例或是什么的，所以尽量表达清楚，一看就能明白最好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无关奖励不要放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！比如“军训优秀学员”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695160" y="609480"/>
            <a:ext cx="7058160" cy="1195200"/>
            <a:chOff x="695160" y="609480"/>
            <a:chExt cx="7058160" cy="1195200"/>
          </a:xfrm>
        </p:grpSpPr>
        <p:pic>
          <p:nvPicPr>
            <p:cNvPr id="736" name="矩形 3" descr=""/>
            <p:cNvPicPr/>
            <p:nvPr/>
          </p:nvPicPr>
          <p:blipFill>
            <a:blip r:embed="rId1"/>
            <a:stretch/>
          </p:blipFill>
          <p:spPr>
            <a:xfrm>
              <a:off x="695160" y="610560"/>
              <a:ext cx="705672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 Box 4"/>
            <p:cNvSpPr/>
            <p:nvPr/>
          </p:nvSpPr>
          <p:spPr>
            <a:xfrm>
              <a:off x="695160" y="609480"/>
              <a:ext cx="7058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38" name="Group 5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739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相关技能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40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2995560" y="1360440"/>
            <a:ext cx="4759200" cy="1171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742" name="矩形 1"/>
          <p:cNvSpPr/>
          <p:nvPr/>
        </p:nvSpPr>
        <p:spPr>
          <a:xfrm>
            <a:off x="1150920" y="1360440"/>
            <a:ext cx="1711440" cy="117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3" name="TextBox 12"/>
          <p:cNvSpPr/>
          <p:nvPr/>
        </p:nvSpPr>
        <p:spPr>
          <a:xfrm>
            <a:off x="1374480" y="208764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4" name="矩形 13"/>
          <p:cNvSpPr/>
          <p:nvPr/>
        </p:nvSpPr>
        <p:spPr>
          <a:xfrm>
            <a:off x="1150920" y="2622600"/>
            <a:ext cx="1711440" cy="1171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5" name="TextBox 14"/>
          <p:cNvSpPr/>
          <p:nvPr/>
        </p:nvSpPr>
        <p:spPr>
          <a:xfrm>
            <a:off x="1629720" y="33498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6" name="矩形 4"/>
          <p:cNvSpPr/>
          <p:nvPr/>
        </p:nvSpPr>
        <p:spPr>
          <a:xfrm>
            <a:off x="2995560" y="2622600"/>
            <a:ext cx="4759200" cy="117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7" name="矩形 6"/>
          <p:cNvSpPr/>
          <p:nvPr/>
        </p:nvSpPr>
        <p:spPr>
          <a:xfrm>
            <a:off x="2995560" y="2622600"/>
            <a:ext cx="4759200" cy="30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8" name="TextBox 7"/>
          <p:cNvSpPr/>
          <p:nvPr/>
        </p:nvSpPr>
        <p:spPr>
          <a:xfrm>
            <a:off x="3074760" y="2625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相关技能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49" name="矩形 21"/>
          <p:cNvSpPr/>
          <p:nvPr/>
        </p:nvSpPr>
        <p:spPr>
          <a:xfrm>
            <a:off x="3013200" y="2935440"/>
            <a:ext cx="1288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IKEA Sans"/>
                <a:ea typeface="微软雅黑"/>
              </a:rPr>
              <a:t>外语能力</a:t>
            </a:r>
            <a:endParaRPr b="0" lang="en-US" sz="9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50" name="TextBox 9"/>
          <p:cNvSpPr/>
          <p:nvPr/>
        </p:nvSpPr>
        <p:spPr>
          <a:xfrm>
            <a:off x="3512520" y="3103560"/>
            <a:ext cx="18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大学英语四级：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573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分  大学英语六级：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586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分</a:t>
            </a:r>
            <a:endParaRPr b="0" lang="en-US" sz="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51" name="矩形 20"/>
          <p:cNvSpPr/>
          <p:nvPr/>
        </p:nvSpPr>
        <p:spPr>
          <a:xfrm>
            <a:off x="3013200" y="3251160"/>
            <a:ext cx="1288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IKEA Sans"/>
                <a:ea typeface="微软雅黑"/>
              </a:rPr>
              <a:t>计算机能力</a:t>
            </a:r>
            <a:endParaRPr b="0" lang="en-US" sz="9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52" name="TextBox 23"/>
          <p:cNvSpPr/>
          <p:nvPr/>
        </p:nvSpPr>
        <p:spPr>
          <a:xfrm>
            <a:off x="3511440" y="3419640"/>
            <a:ext cx="27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能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Word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做海报，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Excel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做报表，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PowerPoint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做简易动画片；</a:t>
            </a:r>
            <a:endParaRPr b="0" lang="en-US" sz="8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能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Photoshop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处理图片，用</a:t>
            </a:r>
            <a:r>
              <a:rPr b="0" lang="en-US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Dreamweaver</a:t>
            </a:r>
            <a:r>
              <a:rPr b="0" lang="zh-CN" sz="800" spc="-1" strike="noStrike">
                <a:solidFill>
                  <a:srgbClr val="000000"/>
                </a:solidFill>
                <a:latin typeface="IKEA Sans"/>
                <a:ea typeface="微软雅黑"/>
              </a:rPr>
              <a:t>制作简单网页。</a:t>
            </a:r>
            <a:endParaRPr b="0" lang="en-US" sz="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53" name="矩形 15"/>
          <p:cNvSpPr/>
          <p:nvPr/>
        </p:nvSpPr>
        <p:spPr>
          <a:xfrm>
            <a:off x="1058760" y="3919680"/>
            <a:ext cx="53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显示出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具体能用该软件做的事情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，会更有说服力。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695160" y="609480"/>
            <a:ext cx="7058160" cy="1195200"/>
            <a:chOff x="695160" y="609480"/>
            <a:chExt cx="7058160" cy="1195200"/>
          </a:xfrm>
        </p:grpSpPr>
        <p:pic>
          <p:nvPicPr>
            <p:cNvPr id="755" name="矩形 3" descr=""/>
            <p:cNvPicPr/>
            <p:nvPr/>
          </p:nvPicPr>
          <p:blipFill>
            <a:blip r:embed="rId1"/>
            <a:stretch/>
          </p:blipFill>
          <p:spPr>
            <a:xfrm>
              <a:off x="695160" y="610560"/>
              <a:ext cx="7056720" cy="11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 Box 4"/>
            <p:cNvSpPr/>
            <p:nvPr/>
          </p:nvSpPr>
          <p:spPr>
            <a:xfrm>
              <a:off x="695160" y="609480"/>
              <a:ext cx="705816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57" name="Group 5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758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自我评价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59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60" name="矩形 1"/>
          <p:cNvSpPr/>
          <p:nvPr/>
        </p:nvSpPr>
        <p:spPr>
          <a:xfrm>
            <a:off x="1150920" y="1360440"/>
            <a:ext cx="1711440" cy="12495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61" name="TextBox 12"/>
          <p:cNvSpPr/>
          <p:nvPr/>
        </p:nvSpPr>
        <p:spPr>
          <a:xfrm>
            <a:off x="1374480" y="208764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762" name="Picture 2" descr=""/>
          <p:cNvPicPr/>
          <p:nvPr/>
        </p:nvPicPr>
        <p:blipFill>
          <a:blip r:embed="rId2"/>
          <a:stretch/>
        </p:blipFill>
        <p:spPr>
          <a:xfrm>
            <a:off x="3013200" y="1360440"/>
            <a:ext cx="5338800" cy="9144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11"/>
          <p:cNvGrpSpPr/>
          <p:nvPr/>
        </p:nvGrpSpPr>
        <p:grpSpPr>
          <a:xfrm>
            <a:off x="3013200" y="2317680"/>
            <a:ext cx="5338800" cy="307080"/>
            <a:chOff x="3013200" y="2317680"/>
            <a:chExt cx="5338800" cy="307080"/>
          </a:xfrm>
        </p:grpSpPr>
        <p:sp>
          <p:nvSpPr>
            <p:cNvPr id="764" name="矩形 2"/>
            <p:cNvSpPr/>
            <p:nvPr/>
          </p:nvSpPr>
          <p:spPr>
            <a:xfrm>
              <a:off x="3013200" y="2340720"/>
              <a:ext cx="5338800" cy="262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65" name="TextBox 5"/>
            <p:cNvSpPr/>
            <p:nvPr/>
          </p:nvSpPr>
          <p:spPr>
            <a:xfrm>
              <a:off x="4952160" y="231768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iragino Sans GB W3"/>
                  <a:ea typeface="Hiragino Sans GB W3"/>
                </a:rPr>
                <a:t>空话，套话，毫无自我特色</a:t>
              </a:r>
              <a:endParaRPr b="0" lang="en-US" sz="1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66" name="矩形 24"/>
          <p:cNvSpPr/>
          <p:nvPr/>
        </p:nvSpPr>
        <p:spPr>
          <a:xfrm>
            <a:off x="1150920" y="2784600"/>
            <a:ext cx="1711440" cy="1251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593000" y="35272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768" name="Group 16"/>
          <p:cNvGrpSpPr/>
          <p:nvPr/>
        </p:nvGrpSpPr>
        <p:grpSpPr>
          <a:xfrm>
            <a:off x="3013200" y="3743280"/>
            <a:ext cx="5338800" cy="307080"/>
            <a:chOff x="3013200" y="3743280"/>
            <a:chExt cx="5338800" cy="307080"/>
          </a:xfrm>
        </p:grpSpPr>
        <p:sp>
          <p:nvSpPr>
            <p:cNvPr id="769" name="矩形 28"/>
            <p:cNvSpPr/>
            <p:nvPr/>
          </p:nvSpPr>
          <p:spPr>
            <a:xfrm>
              <a:off x="3013200" y="3765960"/>
              <a:ext cx="5338800" cy="260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70" name="TextBox 29"/>
            <p:cNvSpPr/>
            <p:nvPr/>
          </p:nvSpPr>
          <p:spPr>
            <a:xfrm>
              <a:off x="4898520" y="374328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e46c0a"/>
                  </a:solidFill>
                  <a:latin typeface="Hiragino Sans GB W3"/>
                  <a:ea typeface="Hiragino Sans GB W3"/>
                </a:rPr>
                <a:t>挖掘自己真正与众不同的地方</a:t>
              </a:r>
              <a:endParaRPr b="0" lang="en-US" sz="14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71" name="Group 19"/>
          <p:cNvGrpSpPr/>
          <p:nvPr/>
        </p:nvGrpSpPr>
        <p:grpSpPr>
          <a:xfrm>
            <a:off x="2995560" y="2773440"/>
            <a:ext cx="5356440" cy="914400"/>
            <a:chOff x="2995560" y="2773440"/>
            <a:chExt cx="5356440" cy="914400"/>
          </a:xfrm>
        </p:grpSpPr>
        <p:sp>
          <p:nvSpPr>
            <p:cNvPr id="772" name="矩形 34"/>
            <p:cNvSpPr/>
            <p:nvPr/>
          </p:nvSpPr>
          <p:spPr>
            <a:xfrm>
              <a:off x="2995560" y="2773440"/>
              <a:ext cx="5356440" cy="9144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73" name="矩形 35"/>
            <p:cNvSpPr/>
            <p:nvPr/>
          </p:nvSpPr>
          <p:spPr>
            <a:xfrm>
              <a:off x="2995560" y="2773440"/>
              <a:ext cx="5356440" cy="2469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74" name="TextBox 36"/>
          <p:cNvSpPr/>
          <p:nvPr/>
        </p:nvSpPr>
        <p:spPr>
          <a:xfrm>
            <a:off x="3092760" y="2760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自我评价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75" name="矩形 18"/>
          <p:cNvSpPr/>
          <p:nvPr/>
        </p:nvSpPr>
        <p:spPr>
          <a:xfrm>
            <a:off x="2978280" y="3005280"/>
            <a:ext cx="541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执着而坚韧的蜗牛，求索于交大，在通往理想的道路上跋山涉水。瘦小的身体内蕴含着独特的思维和丰富的表达。在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结网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中净化，在思索中洞悉国内外互联网的变化。从意气风发的社团主席到成熟稳健的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Intel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大使，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Follow my heart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的我期望追随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Pony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的团队一起去创造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Internet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的神话！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矩形 47"/>
          <p:cNvSpPr/>
          <p:nvPr/>
        </p:nvSpPr>
        <p:spPr>
          <a:xfrm>
            <a:off x="2411280" y="2048040"/>
            <a:ext cx="531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77" name="矩形 48"/>
          <p:cNvSpPr/>
          <p:nvPr/>
        </p:nvSpPr>
        <p:spPr>
          <a:xfrm>
            <a:off x="2411280" y="2746440"/>
            <a:ext cx="531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78" name="矩形 49"/>
          <p:cNvSpPr/>
          <p:nvPr/>
        </p:nvSpPr>
        <p:spPr>
          <a:xfrm>
            <a:off x="2411280" y="3435480"/>
            <a:ext cx="531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2411280" y="1349280"/>
            <a:ext cx="5310360" cy="63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780" name="Group 6"/>
          <p:cNvGrpSpPr/>
          <p:nvPr/>
        </p:nvGrpSpPr>
        <p:grpSpPr>
          <a:xfrm>
            <a:off x="1262160" y="765000"/>
            <a:ext cx="1423080" cy="368280"/>
            <a:chOff x="1262160" y="765000"/>
            <a:chExt cx="1423080" cy="368280"/>
          </a:xfrm>
        </p:grpSpPr>
        <p:sp>
          <p:nvSpPr>
            <p:cNvPr id="781" name="TextBox 8"/>
            <p:cNvSpPr/>
            <p:nvPr/>
          </p:nvSpPr>
          <p:spPr>
            <a:xfrm>
              <a:off x="2114640" y="765000"/>
              <a:ext cx="5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82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83" name="Group 9"/>
          <p:cNvGrpSpPr/>
          <p:nvPr/>
        </p:nvGrpSpPr>
        <p:grpSpPr>
          <a:xfrm>
            <a:off x="1162080" y="1349280"/>
            <a:ext cx="1171440" cy="694440"/>
            <a:chOff x="1162080" y="1349280"/>
            <a:chExt cx="1171440" cy="694440"/>
          </a:xfrm>
        </p:grpSpPr>
        <p:sp>
          <p:nvSpPr>
            <p:cNvPr id="784" name="矩形 23"/>
            <p:cNvSpPr/>
            <p:nvPr/>
          </p:nvSpPr>
          <p:spPr>
            <a:xfrm>
              <a:off x="1162080" y="1349280"/>
              <a:ext cx="1171440" cy="631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85" name="TextBox 26"/>
            <p:cNvSpPr/>
            <p:nvPr/>
          </p:nvSpPr>
          <p:spPr>
            <a:xfrm>
              <a:off x="1541160" y="1462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整洁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86" name="Group 12"/>
          <p:cNvGrpSpPr/>
          <p:nvPr/>
        </p:nvGrpSpPr>
        <p:grpSpPr>
          <a:xfrm>
            <a:off x="1162080" y="2048040"/>
            <a:ext cx="1171440" cy="694440"/>
            <a:chOff x="1162080" y="2048040"/>
            <a:chExt cx="1171440" cy="694440"/>
          </a:xfrm>
        </p:grpSpPr>
        <p:sp>
          <p:nvSpPr>
            <p:cNvPr id="787" name="矩形 39"/>
            <p:cNvSpPr/>
            <p:nvPr/>
          </p:nvSpPr>
          <p:spPr>
            <a:xfrm>
              <a:off x="1162080" y="2048040"/>
              <a:ext cx="1171440" cy="630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88" name="TextBox 40"/>
            <p:cNvSpPr/>
            <p:nvPr/>
          </p:nvSpPr>
          <p:spPr>
            <a:xfrm>
              <a:off x="1581840" y="21610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统一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89" name="Group 15"/>
          <p:cNvGrpSpPr/>
          <p:nvPr/>
        </p:nvGrpSpPr>
        <p:grpSpPr>
          <a:xfrm>
            <a:off x="1162080" y="2746440"/>
            <a:ext cx="1171440" cy="694440"/>
            <a:chOff x="1162080" y="2746440"/>
            <a:chExt cx="1171440" cy="694440"/>
          </a:xfrm>
        </p:grpSpPr>
        <p:sp>
          <p:nvSpPr>
            <p:cNvPr id="790" name="矩形 42"/>
            <p:cNvSpPr/>
            <p:nvPr/>
          </p:nvSpPr>
          <p:spPr>
            <a:xfrm>
              <a:off x="1162080" y="2746440"/>
              <a:ext cx="1171440" cy="6292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91" name="TextBox 43"/>
            <p:cNvSpPr/>
            <p:nvPr/>
          </p:nvSpPr>
          <p:spPr>
            <a:xfrm>
              <a:off x="1541160" y="2859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清楚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792" name="Group 18"/>
          <p:cNvGrpSpPr/>
          <p:nvPr/>
        </p:nvGrpSpPr>
        <p:grpSpPr>
          <a:xfrm>
            <a:off x="1162080" y="3435480"/>
            <a:ext cx="1171440" cy="694440"/>
            <a:chOff x="1162080" y="3435480"/>
            <a:chExt cx="1171440" cy="694440"/>
          </a:xfrm>
        </p:grpSpPr>
        <p:sp>
          <p:nvSpPr>
            <p:cNvPr id="793" name="矩形 45"/>
            <p:cNvSpPr/>
            <p:nvPr/>
          </p:nvSpPr>
          <p:spPr>
            <a:xfrm>
              <a:off x="1162080" y="3435480"/>
              <a:ext cx="1171440" cy="630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794" name="TextBox 46"/>
            <p:cNvSpPr/>
            <p:nvPr/>
          </p:nvSpPr>
          <p:spPr>
            <a:xfrm>
              <a:off x="1541160" y="35485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专业</a:t>
              </a:r>
              <a:endParaRPr b="0" lang="en-US" sz="32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795" name="矩形 4"/>
          <p:cNvSpPr/>
          <p:nvPr/>
        </p:nvSpPr>
        <p:spPr>
          <a:xfrm>
            <a:off x="2470320" y="1530360"/>
            <a:ext cx="54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没有错别字和错误的标点符号，建议仔细审核后，转成</a:t>
            </a:r>
            <a:r>
              <a:rPr b="0" lang="zh-CN" sz="1400" spc="-1" strike="noStrike">
                <a:solidFill>
                  <a:srgbClr val="ff0000"/>
                </a:solidFill>
                <a:latin typeface="IKEA Sans"/>
                <a:ea typeface="微软雅黑"/>
              </a:rPr>
              <a:t>ＰＤＦ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96" name="矩形 6"/>
          <p:cNvSpPr/>
          <p:nvPr/>
        </p:nvSpPr>
        <p:spPr>
          <a:xfrm>
            <a:off x="4054320" y="2212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格式统一，日期、项目符号、字体、颜色等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97" name="矩形 7"/>
          <p:cNvSpPr/>
          <p:nvPr/>
        </p:nvSpPr>
        <p:spPr>
          <a:xfrm>
            <a:off x="2470320" y="2835360"/>
            <a:ext cx="53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所有要表达的东西，清晰表达，有条理不混乱，</a:t>
            </a:r>
            <a:r>
              <a:rPr b="0" lang="zh-CN" sz="1400" spc="-1" strike="noStrike">
                <a:solidFill>
                  <a:srgbClr val="ff0000"/>
                </a:solidFill>
                <a:latin typeface="IKEA Sans"/>
                <a:ea typeface="微软雅黑"/>
              </a:rPr>
              <a:t>无关的经历和奖励不需要写！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798" name="矩形 9"/>
          <p:cNvSpPr/>
          <p:nvPr/>
        </p:nvSpPr>
        <p:spPr>
          <a:xfrm>
            <a:off x="2470320" y="3481560"/>
            <a:ext cx="53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用词</a:t>
            </a:r>
            <a:r>
              <a:rPr b="0" lang="zh-CN" sz="1400" spc="-1" strike="noStrike">
                <a:solidFill>
                  <a:srgbClr val="ff0000"/>
                </a:solidFill>
                <a:latin typeface="IKEA Sans"/>
                <a:ea typeface="微软雅黑"/>
              </a:rPr>
              <a:t>商务化</a:t>
            </a: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，不要有第一人称的出现，只用动词引导每句开头，如“负责</a:t>
            </a:r>
            <a:r>
              <a:rPr b="0" lang="en-US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……”</a:t>
            </a: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，“销售了</a:t>
            </a:r>
            <a:r>
              <a:rPr b="0" lang="en-US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……”</a:t>
            </a:r>
            <a:r>
              <a:rPr b="0" lang="zh-CN" sz="1400" spc="-1" strike="noStrike">
                <a:solidFill>
                  <a:srgbClr val="000000"/>
                </a:solidFill>
                <a:latin typeface="IKEA Sans"/>
                <a:ea typeface="微软雅黑"/>
              </a:rPr>
              <a:t>等</a:t>
            </a:r>
            <a:endParaRPr b="0" lang="en-US" sz="14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矩形 2"/>
          <p:cNvSpPr/>
          <p:nvPr/>
        </p:nvSpPr>
        <p:spPr>
          <a:xfrm>
            <a:off x="1150920" y="1349280"/>
            <a:ext cx="7437600" cy="22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1262160" y="765000"/>
            <a:ext cx="1423080" cy="368280"/>
            <a:chOff x="1262160" y="765000"/>
            <a:chExt cx="1423080" cy="368280"/>
          </a:xfrm>
        </p:grpSpPr>
        <p:sp>
          <p:nvSpPr>
            <p:cNvPr id="801" name="TextBox 8"/>
            <p:cNvSpPr/>
            <p:nvPr/>
          </p:nvSpPr>
          <p:spPr>
            <a:xfrm>
              <a:off x="2114640" y="765000"/>
              <a:ext cx="5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推荐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802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803" name="Picture 3" descr=""/>
          <p:cNvPicPr/>
          <p:nvPr/>
        </p:nvPicPr>
        <p:blipFill>
          <a:blip r:embed="rId1"/>
          <a:srcRect l="0" t="0" r="10192" b="40232"/>
          <a:stretch/>
        </p:blipFill>
        <p:spPr>
          <a:xfrm>
            <a:off x="1149480" y="1349280"/>
            <a:ext cx="7439040" cy="226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804" name="矩形 3"/>
          <p:cNvSpPr/>
          <p:nvPr/>
        </p:nvSpPr>
        <p:spPr>
          <a:xfrm>
            <a:off x="1510560" y="3722760"/>
            <a:ext cx="21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页纸简历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70man.com</a:t>
            </a:r>
            <a:endParaRPr b="0" lang="en-US" sz="16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Box 18"/>
          <p:cNvSpPr/>
          <p:nvPr/>
        </p:nvSpPr>
        <p:spPr>
          <a:xfrm>
            <a:off x="2764440" y="301464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IKEA Sans"/>
                <a:ea typeface="微软雅黑"/>
              </a:rPr>
              <a:t>搜集  秋叶语录        整理  黄丽娟      </a:t>
            </a:r>
            <a:r>
              <a:rPr b="1" lang="en-US" sz="1600" spc="-1" strike="noStrike">
                <a:solidFill>
                  <a:srgbClr val="000000"/>
                </a:solidFill>
                <a:latin typeface="IKEA Sans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IKEA Sans"/>
                <a:ea typeface="微软雅黑"/>
              </a:rPr>
              <a:t>制作  曹将</a:t>
            </a:r>
            <a:endParaRPr b="0" lang="en-US" sz="16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806" name="Group 3"/>
          <p:cNvGrpSpPr/>
          <p:nvPr/>
        </p:nvGrpSpPr>
        <p:grpSpPr>
          <a:xfrm>
            <a:off x="1649520" y="1357200"/>
            <a:ext cx="5479200" cy="1303920"/>
            <a:chOff x="1649520" y="1357200"/>
            <a:chExt cx="5479200" cy="1303920"/>
          </a:xfrm>
        </p:grpSpPr>
        <p:grpSp>
          <p:nvGrpSpPr>
            <p:cNvPr id="807" name="Group 4"/>
            <p:cNvGrpSpPr/>
            <p:nvPr/>
          </p:nvGrpSpPr>
          <p:grpSpPr>
            <a:xfrm>
              <a:off x="1649520" y="1357200"/>
              <a:ext cx="3589200" cy="1303920"/>
              <a:chOff x="1649520" y="1357200"/>
              <a:chExt cx="3589200" cy="1303920"/>
            </a:xfrm>
          </p:grpSpPr>
          <p:pic>
            <p:nvPicPr>
              <p:cNvPr id="808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649520" y="1357200"/>
                <a:ext cx="3589200" cy="12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Box 10"/>
              <p:cNvSpPr/>
              <p:nvPr/>
            </p:nvSpPr>
            <p:spPr>
              <a:xfrm>
                <a:off x="2822760" y="2262240"/>
                <a:ext cx="173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—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面试技巧集萃</a:t>
                </a:r>
                <a:endParaRPr b="0" lang="en-US" sz="20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810" name="矩形 17"/>
              <p:cNvSpPr/>
              <p:nvPr/>
            </p:nvSpPr>
            <p:spPr>
              <a:xfrm>
                <a:off x="4905720" y="1679760"/>
                <a:ext cx="72000" cy="925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811" name="TextBox 2"/>
            <p:cNvSpPr/>
            <p:nvPr/>
          </p:nvSpPr>
          <p:spPr>
            <a:xfrm>
              <a:off x="5576400" y="152316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3"/>
          <p:cNvSpPr/>
          <p:nvPr/>
        </p:nvSpPr>
        <p:spPr>
          <a:xfrm>
            <a:off x="4711320" y="110160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秒</a:t>
            </a:r>
            <a:endParaRPr b="0" lang="en-US" sz="5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91" name="TextBox 4"/>
          <p:cNvSpPr/>
          <p:nvPr/>
        </p:nvSpPr>
        <p:spPr>
          <a:xfrm>
            <a:off x="5153400" y="195120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筛选简历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停留时间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pic>
        <p:nvPicPr>
          <p:cNvPr id="592" name="Picture 7" descr=""/>
          <p:cNvPicPr/>
          <p:nvPr/>
        </p:nvPicPr>
        <p:blipFill>
          <a:blip r:embed="rId1"/>
          <a:stretch/>
        </p:blipFill>
        <p:spPr>
          <a:xfrm>
            <a:off x="609480" y="1255680"/>
            <a:ext cx="1438560" cy="36082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9" descr=""/>
          <p:cNvPicPr/>
          <p:nvPr/>
        </p:nvPicPr>
        <p:blipFill>
          <a:blip r:embed="rId2"/>
          <a:stretch/>
        </p:blipFill>
        <p:spPr>
          <a:xfrm>
            <a:off x="1079640" y="1255680"/>
            <a:ext cx="1577880" cy="39751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0" descr=""/>
          <p:cNvPicPr/>
          <p:nvPr/>
        </p:nvPicPr>
        <p:blipFill>
          <a:blip r:embed="rId3"/>
          <a:stretch/>
        </p:blipFill>
        <p:spPr>
          <a:xfrm>
            <a:off x="1676520" y="1243080"/>
            <a:ext cx="1785960" cy="4376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1" descr=""/>
          <p:cNvPicPr/>
          <p:nvPr/>
        </p:nvPicPr>
        <p:blipFill>
          <a:blip r:embed="rId4"/>
          <a:stretch/>
        </p:blipFill>
        <p:spPr>
          <a:xfrm>
            <a:off x="2468520" y="1243080"/>
            <a:ext cx="1884240" cy="474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3"/>
          <p:cNvSpPr/>
          <p:nvPr/>
        </p:nvSpPr>
        <p:spPr>
          <a:xfrm>
            <a:off x="4779720" y="1125360"/>
            <a:ext cx="11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秒</a:t>
            </a:r>
            <a:endParaRPr b="0" lang="en-US" sz="5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5297400" y="1973160"/>
            <a:ext cx="25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简历必须在最初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内吸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332000" y="1068480"/>
            <a:ext cx="3552840" cy="3159000"/>
            <a:chOff x="1332000" y="1068480"/>
            <a:chExt cx="3552840" cy="3159000"/>
          </a:xfrm>
        </p:grpSpPr>
        <p:pic>
          <p:nvPicPr>
            <p:cNvPr id="599" name="Picture 5" descr=""/>
            <p:cNvPicPr/>
            <p:nvPr/>
          </p:nvPicPr>
          <p:blipFill>
            <a:blip r:embed="rId1"/>
            <a:srcRect l="0" t="0" r="0" b="10579"/>
            <a:stretch/>
          </p:blipFill>
          <p:spPr>
            <a:xfrm>
              <a:off x="1332000" y="1068480"/>
              <a:ext cx="3060720" cy="3159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</p:pic>
        <p:grpSp>
          <p:nvGrpSpPr>
            <p:cNvPr id="600" name="椭圆 1"/>
            <p:cNvGrpSpPr/>
            <p:nvPr/>
          </p:nvGrpSpPr>
          <p:grpSpPr>
            <a:xfrm>
              <a:off x="2511360" y="1779840"/>
              <a:ext cx="1926360" cy="1926360"/>
              <a:chOff x="2511360" y="1779840"/>
              <a:chExt cx="1926360" cy="1926360"/>
            </a:xfrm>
          </p:grpSpPr>
          <p:pic>
            <p:nvPicPr>
              <p:cNvPr id="601" name="椭圆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1360" y="1779840"/>
                <a:ext cx="1926360" cy="192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2817000" y="2086560"/>
                <a:ext cx="1305000" cy="13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sp>
          <p:nvSpPr>
            <p:cNvPr id="603" name="矩形 5"/>
            <p:cNvSpPr/>
            <p:nvPr/>
          </p:nvSpPr>
          <p:spPr>
            <a:xfrm rot="2635200">
              <a:off x="4000320" y="3571560"/>
              <a:ext cx="9554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rcRect l="3283" t="1787" r="2365" b="1731"/>
          <a:stretch/>
        </p:blipFill>
        <p:spPr>
          <a:xfrm>
            <a:off x="1062000" y="1185840"/>
            <a:ext cx="2835360" cy="38545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2397600" y="76500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哪类简历容易吸引</a:t>
            </a:r>
            <a:r>
              <a:rPr b="0" lang="en-US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06" name="TextBox 10"/>
          <p:cNvSpPr/>
          <p:nvPr/>
        </p:nvSpPr>
        <p:spPr>
          <a:xfrm>
            <a:off x="1262520" y="76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简历制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07" name="矩形 11"/>
          <p:cNvSpPr/>
          <p:nvPr/>
        </p:nvSpPr>
        <p:spPr>
          <a:xfrm>
            <a:off x="4087800" y="2212920"/>
            <a:ext cx="4940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内容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清晰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扼要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容易理解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无用语不当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完整地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详列过往的工作记录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没有出现难以解释的空档期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经过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修饰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并能引起阅者的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兴趣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08" name="矩形 12"/>
          <p:cNvSpPr/>
          <p:nvPr/>
        </p:nvSpPr>
        <p:spPr>
          <a:xfrm>
            <a:off x="4032360" y="2324160"/>
            <a:ext cx="6804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8"/>
          <p:cNvSpPr/>
          <p:nvPr/>
        </p:nvSpPr>
        <p:spPr>
          <a:xfrm>
            <a:off x="2208600" y="765000"/>
            <a:ext cx="8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两个版本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1262520" y="76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简历制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1" name="矩形 11"/>
          <p:cNvSpPr/>
          <p:nvPr/>
        </p:nvSpPr>
        <p:spPr>
          <a:xfrm>
            <a:off x="3301920" y="1214280"/>
            <a:ext cx="455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在明确自己职业定位求职目的前提下，不针对任何企业只针对相关行业和职种而制作的简历。包括：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9433080" y="2544840"/>
            <a:ext cx="68040" cy="541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3" name="矩形 1"/>
          <p:cNvSpPr/>
          <p:nvPr/>
        </p:nvSpPr>
        <p:spPr>
          <a:xfrm>
            <a:off x="1212840" y="1305000"/>
            <a:ext cx="1935000" cy="99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4" name="矩形 9"/>
          <p:cNvSpPr/>
          <p:nvPr/>
        </p:nvSpPr>
        <p:spPr>
          <a:xfrm>
            <a:off x="1212840" y="3174840"/>
            <a:ext cx="1935000" cy="990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2304000" y="187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通用版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2304000" y="372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IKEA Sans"/>
                <a:ea typeface="微软雅黑"/>
              </a:rPr>
              <a:t>特殊版</a:t>
            </a:r>
            <a:endParaRPr b="0" lang="en-US" sz="24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7" name="矩形 14"/>
          <p:cNvSpPr/>
          <p:nvPr/>
        </p:nvSpPr>
        <p:spPr>
          <a:xfrm>
            <a:off x="3413160" y="1697040"/>
            <a:ext cx="4444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职业定位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想要的是什么，自己适合做什么，自己又能做什么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岗位调研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弄清楚该岗位的通用要求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自身相关资质、经历提炼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简洁而重点突出地表达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20000"/>
              </a:lnSpc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IKEA Sans"/>
                <a:ea typeface="微软雅黑"/>
              </a:rPr>
              <a:t>细节的适当处理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。形式美观、版本控制（两页以内）、错别字检查等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8" name="矩形 15"/>
          <p:cNvSpPr/>
          <p:nvPr/>
        </p:nvSpPr>
        <p:spPr>
          <a:xfrm>
            <a:off x="3301920" y="3094200"/>
            <a:ext cx="4556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找准特定企业的情况下，专门针对该企业而制作的简历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19" name="矩形 6"/>
          <p:cNvSpPr/>
          <p:nvPr/>
        </p:nvSpPr>
        <p:spPr>
          <a:xfrm>
            <a:off x="3413160" y="336240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结合你要应聘的特定企业的岗位职责和任职要求，稍作修改就</a:t>
            </a:r>
            <a:r>
              <a:rPr b="0" lang="en-US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ok</a:t>
            </a:r>
            <a:r>
              <a:rPr b="0" lang="zh-CN" sz="1100" spc="-1" strike="noStrike">
                <a:solidFill>
                  <a:srgbClr val="000000"/>
                </a:solidFill>
                <a:latin typeface="IKEA Sans"/>
                <a:ea typeface="微软雅黑"/>
              </a:rPr>
              <a:t>了。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6" descr=""/>
          <p:cNvPicPr/>
          <p:nvPr/>
        </p:nvPicPr>
        <p:blipFill>
          <a:blip r:embed="rId1"/>
          <a:stretch/>
        </p:blipFill>
        <p:spPr>
          <a:xfrm>
            <a:off x="923760" y="1487520"/>
            <a:ext cx="3151440" cy="386856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3"/>
          <p:cNvGrpSpPr/>
          <p:nvPr/>
        </p:nvGrpSpPr>
        <p:grpSpPr>
          <a:xfrm>
            <a:off x="695160" y="1554120"/>
            <a:ext cx="3870360" cy="499680"/>
            <a:chOff x="695160" y="1554120"/>
            <a:chExt cx="3870360" cy="499680"/>
          </a:xfrm>
        </p:grpSpPr>
        <p:pic>
          <p:nvPicPr>
            <p:cNvPr id="622" name="矩形 3" descr=""/>
            <p:cNvPicPr/>
            <p:nvPr/>
          </p:nvPicPr>
          <p:blipFill>
            <a:blip r:embed="rId2"/>
            <a:stretch/>
          </p:blipFill>
          <p:spPr>
            <a:xfrm>
              <a:off x="695160" y="1555200"/>
              <a:ext cx="38689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5"/>
            <p:cNvSpPr/>
            <p:nvPr/>
          </p:nvSpPr>
          <p:spPr>
            <a:xfrm>
              <a:off x="695160" y="1554120"/>
              <a:ext cx="387036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24" name="Group 6"/>
          <p:cNvGrpSpPr/>
          <p:nvPr/>
        </p:nvGrpSpPr>
        <p:grpSpPr>
          <a:xfrm>
            <a:off x="560520" y="1944360"/>
            <a:ext cx="3878280" cy="3548160"/>
            <a:chOff x="560520" y="1944360"/>
            <a:chExt cx="3878280" cy="3548160"/>
          </a:xfrm>
        </p:grpSpPr>
        <p:pic>
          <p:nvPicPr>
            <p:cNvPr id="625" name="矩形 16" descr=""/>
            <p:cNvPicPr/>
            <p:nvPr/>
          </p:nvPicPr>
          <p:blipFill>
            <a:blip r:embed="rId3"/>
            <a:stretch/>
          </p:blipFill>
          <p:spPr>
            <a:xfrm>
              <a:off x="560520" y="1945800"/>
              <a:ext cx="3878280" cy="35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8"/>
            <p:cNvSpPr/>
            <p:nvPr/>
          </p:nvSpPr>
          <p:spPr>
            <a:xfrm rot="10800000">
              <a:off x="561960" y="1944360"/>
              <a:ext cx="3873600" cy="35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627" name="矩形 21"/>
          <p:cNvSpPr/>
          <p:nvPr/>
        </p:nvSpPr>
        <p:spPr>
          <a:xfrm>
            <a:off x="5615640" y="1803240"/>
            <a:ext cx="3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简历最上方一般只需填姓名、电话、电子邮箱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28" name="Group 10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629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基本信息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30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631" name="矩形 23"/>
          <p:cNvSpPr/>
          <p:nvPr/>
        </p:nvSpPr>
        <p:spPr>
          <a:xfrm>
            <a:off x="4321080" y="2050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如果应聘企业没有具体要求，照片就不用附上，</a:t>
            </a: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放照片减分比加分的时候多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lnSpc>
                <a:spcPct val="10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姓名加粗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，因为这是最想让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HR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记住的信息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手机号码通用写法是</a:t>
            </a:r>
            <a:r>
              <a:rPr b="0" lang="en-US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434</a:t>
            </a: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原则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1357-xxx-xxxx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邮箱推荐</a:t>
            </a:r>
            <a:r>
              <a:rPr b="0" lang="en-US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Gmail</a:t>
            </a: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和</a:t>
            </a:r>
            <a:r>
              <a:rPr b="0" lang="en-US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Yahoo</a:t>
            </a:r>
            <a:r>
              <a:rPr b="0" lang="zh-CN" sz="1000" spc="-1" strike="noStrike">
                <a:solidFill>
                  <a:srgbClr val="ff0000"/>
                </a:solidFill>
                <a:latin typeface="IKEA Sans"/>
                <a:ea typeface="微软雅黑"/>
              </a:rPr>
              <a:t>！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32" name="矩形 24"/>
          <p:cNvSpPr/>
          <p:nvPr/>
        </p:nvSpPr>
        <p:spPr>
          <a:xfrm>
            <a:off x="4105440" y="2824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求职意向一定写在简历上方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可以放在个人信息前，或者紧跟着个人信息后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6" descr=""/>
          <p:cNvPicPr/>
          <p:nvPr/>
        </p:nvPicPr>
        <p:blipFill>
          <a:blip r:embed="rId1"/>
          <a:stretch/>
        </p:blipFill>
        <p:spPr>
          <a:xfrm>
            <a:off x="923760" y="855720"/>
            <a:ext cx="3151440" cy="386712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3"/>
          <p:cNvGrpSpPr/>
          <p:nvPr/>
        </p:nvGrpSpPr>
        <p:grpSpPr>
          <a:xfrm>
            <a:off x="695160" y="853920"/>
            <a:ext cx="3870360" cy="1200240"/>
            <a:chOff x="695160" y="853920"/>
            <a:chExt cx="3870360" cy="1200240"/>
          </a:xfrm>
        </p:grpSpPr>
        <p:pic>
          <p:nvPicPr>
            <p:cNvPr id="635" name="矩形 3" descr=""/>
            <p:cNvPicPr/>
            <p:nvPr/>
          </p:nvPicPr>
          <p:blipFill>
            <a:blip r:embed="rId2"/>
            <a:stretch/>
          </p:blipFill>
          <p:spPr>
            <a:xfrm>
              <a:off x="695160" y="853920"/>
              <a:ext cx="38689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5"/>
            <p:cNvSpPr/>
            <p:nvPr/>
          </p:nvSpPr>
          <p:spPr>
            <a:xfrm>
              <a:off x="695160" y="855360"/>
              <a:ext cx="387036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37" name="Group 6"/>
          <p:cNvGrpSpPr/>
          <p:nvPr/>
        </p:nvGrpSpPr>
        <p:grpSpPr>
          <a:xfrm>
            <a:off x="560520" y="1804680"/>
            <a:ext cx="3878280" cy="4314600"/>
            <a:chOff x="560520" y="1804680"/>
            <a:chExt cx="3878280" cy="4314600"/>
          </a:xfrm>
        </p:grpSpPr>
        <p:pic>
          <p:nvPicPr>
            <p:cNvPr id="638" name="矩形 16" descr=""/>
            <p:cNvPicPr/>
            <p:nvPr/>
          </p:nvPicPr>
          <p:blipFill>
            <a:blip r:embed="rId3"/>
            <a:stretch/>
          </p:blipFill>
          <p:spPr>
            <a:xfrm>
              <a:off x="560520" y="1806120"/>
              <a:ext cx="3878280" cy="43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8"/>
            <p:cNvSpPr/>
            <p:nvPr/>
          </p:nvSpPr>
          <p:spPr>
            <a:xfrm rot="10800000">
              <a:off x="561960" y="1804680"/>
              <a:ext cx="3873600" cy="43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640" name="矩形 21"/>
          <p:cNvSpPr/>
          <p:nvPr/>
        </p:nvSpPr>
        <p:spPr>
          <a:xfrm>
            <a:off x="4105440" y="1803240"/>
            <a:ext cx="457200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排序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如果你有不止一个学位，并曾就读于不同的学校，那么你可以从</a:t>
            </a: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最近的教育经历开始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，按照时间顺序把具体的学习情况介绍清楚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时间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常用的年月写法（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2010.09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）也可，用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09/2010 – 10/2010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的这种日期写法也可，但如果投的是外企，建议后一种写法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相关课程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根据你应聘的职位是否有关来决定，如果你是数学系的你要去应聘计算机相关职位，你就应该把计算数学，数学实验，</a:t>
            </a:r>
            <a:r>
              <a:rPr b="0" lang="en-US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语言各种和计算机有关的放到相关课程中去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  <a:p>
            <a:pPr marL="228600" indent="-228600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IKEA San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IKEA Sans"/>
                <a:ea typeface="微软雅黑"/>
              </a:rPr>
              <a:t>摆放位置</a:t>
            </a:r>
            <a:r>
              <a:rPr b="0" lang="zh-CN" sz="1200" spc="-1" strike="noStrike">
                <a:solidFill>
                  <a:srgbClr val="000000"/>
                </a:solidFill>
                <a:latin typeface="IKEA Sans"/>
                <a:ea typeface="微软雅黑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41" name="Group 10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642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教育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43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644" name="TextBox 1"/>
          <p:cNvSpPr/>
          <p:nvPr/>
        </p:nvSpPr>
        <p:spPr>
          <a:xfrm>
            <a:off x="5246640" y="3914640"/>
            <a:ext cx="27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学校较好、学业杰出：个人信息之下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IKEA Sans"/>
                <a:ea typeface="微软雅黑"/>
              </a:rPr>
              <a:t>学校稍微差一些、已经毕业的、实习经历较强：实习（实践）经历之下</a:t>
            </a:r>
            <a:endParaRPr b="0" lang="en-US" sz="10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32"/>
          <p:cNvSpPr/>
          <p:nvPr/>
        </p:nvSpPr>
        <p:spPr>
          <a:xfrm>
            <a:off x="1162080" y="2079720"/>
            <a:ext cx="16365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46" name="矩形 33"/>
          <p:cNvSpPr/>
          <p:nvPr/>
        </p:nvSpPr>
        <p:spPr>
          <a:xfrm>
            <a:off x="1162080" y="2814480"/>
            <a:ext cx="1636560" cy="63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47" name="矩形 34"/>
          <p:cNvSpPr/>
          <p:nvPr/>
        </p:nvSpPr>
        <p:spPr>
          <a:xfrm>
            <a:off x="1162080" y="3548160"/>
            <a:ext cx="16365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48" name="矩形 9"/>
          <p:cNvSpPr/>
          <p:nvPr/>
        </p:nvSpPr>
        <p:spPr>
          <a:xfrm>
            <a:off x="1162080" y="1349280"/>
            <a:ext cx="1636560" cy="63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49" name="Group 6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650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51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52" name="Group 9"/>
          <p:cNvGrpSpPr/>
          <p:nvPr/>
        </p:nvGrpSpPr>
        <p:grpSpPr>
          <a:xfrm>
            <a:off x="1162080" y="1349280"/>
            <a:ext cx="634680" cy="726480"/>
            <a:chOff x="1162080" y="1349280"/>
            <a:chExt cx="634680" cy="726480"/>
          </a:xfrm>
        </p:grpSpPr>
        <p:sp>
          <p:nvSpPr>
            <p:cNvPr id="653" name="矩形 2"/>
            <p:cNvSpPr/>
            <p:nvPr/>
          </p:nvSpPr>
          <p:spPr>
            <a:xfrm>
              <a:off x="1162080" y="1349280"/>
              <a:ext cx="629640" cy="630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54" name="TextBox 4"/>
            <p:cNvSpPr/>
            <p:nvPr/>
          </p:nvSpPr>
          <p:spPr>
            <a:xfrm>
              <a:off x="1364400" y="14331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55" name="Group 12"/>
          <p:cNvGrpSpPr/>
          <p:nvPr/>
        </p:nvGrpSpPr>
        <p:grpSpPr>
          <a:xfrm>
            <a:off x="1162080" y="2084400"/>
            <a:ext cx="636120" cy="726480"/>
            <a:chOff x="1162080" y="2084400"/>
            <a:chExt cx="636120" cy="726480"/>
          </a:xfrm>
        </p:grpSpPr>
        <p:sp>
          <p:nvSpPr>
            <p:cNvPr id="656" name="矩形 15"/>
            <p:cNvSpPr/>
            <p:nvPr/>
          </p:nvSpPr>
          <p:spPr>
            <a:xfrm>
              <a:off x="1162080" y="2084400"/>
              <a:ext cx="629640" cy="630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57" name="TextBox 17"/>
            <p:cNvSpPr/>
            <p:nvPr/>
          </p:nvSpPr>
          <p:spPr>
            <a:xfrm>
              <a:off x="1362960" y="21682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58" name="Group 15"/>
          <p:cNvGrpSpPr/>
          <p:nvPr/>
        </p:nvGrpSpPr>
        <p:grpSpPr>
          <a:xfrm>
            <a:off x="1162080" y="2817720"/>
            <a:ext cx="673920" cy="726480"/>
            <a:chOff x="1162080" y="2817720"/>
            <a:chExt cx="673920" cy="726480"/>
          </a:xfrm>
        </p:grpSpPr>
        <p:sp>
          <p:nvSpPr>
            <p:cNvPr id="659" name="矩形 19"/>
            <p:cNvSpPr/>
            <p:nvPr/>
          </p:nvSpPr>
          <p:spPr>
            <a:xfrm>
              <a:off x="1162080" y="2817720"/>
              <a:ext cx="630360" cy="630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60" name="TextBox 20"/>
            <p:cNvSpPr/>
            <p:nvPr/>
          </p:nvSpPr>
          <p:spPr>
            <a:xfrm>
              <a:off x="1362600" y="29016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grpSp>
        <p:nvGrpSpPr>
          <p:cNvPr id="661" name="Group 18"/>
          <p:cNvGrpSpPr/>
          <p:nvPr/>
        </p:nvGrpSpPr>
        <p:grpSpPr>
          <a:xfrm>
            <a:off x="1162080" y="3551400"/>
            <a:ext cx="663840" cy="726480"/>
            <a:chOff x="1162080" y="3551400"/>
            <a:chExt cx="663840" cy="726480"/>
          </a:xfrm>
        </p:grpSpPr>
        <p:sp>
          <p:nvSpPr>
            <p:cNvPr id="662" name="矩形 24"/>
            <p:cNvSpPr/>
            <p:nvPr/>
          </p:nvSpPr>
          <p:spPr>
            <a:xfrm>
              <a:off x="1162080" y="3551400"/>
              <a:ext cx="629280" cy="630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63" name="TextBox 25"/>
            <p:cNvSpPr/>
            <p:nvPr/>
          </p:nvSpPr>
          <p:spPr>
            <a:xfrm>
              <a:off x="1360080" y="363528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iragino Sans GB W3"/>
                  <a:ea typeface="Hiragino Sans GB W3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sp>
        <p:nvSpPr>
          <p:cNvPr id="664" name="TextBox 6"/>
          <p:cNvSpPr/>
          <p:nvPr/>
        </p:nvSpPr>
        <p:spPr>
          <a:xfrm>
            <a:off x="1773720" y="16653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ituation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65" name="TextBox 26"/>
          <p:cNvSpPr/>
          <p:nvPr/>
        </p:nvSpPr>
        <p:spPr>
          <a:xfrm>
            <a:off x="1853280" y="2421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a   s   k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66" name="TextBox 27"/>
          <p:cNvSpPr/>
          <p:nvPr/>
        </p:nvSpPr>
        <p:spPr>
          <a:xfrm>
            <a:off x="1816200" y="31496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c t i o n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67" name="TextBox 28"/>
          <p:cNvSpPr/>
          <p:nvPr/>
        </p:nvSpPr>
        <p:spPr>
          <a:xfrm>
            <a:off x="1817640" y="3867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Hiragino Sans GB W3"/>
                <a:ea typeface="Hiragino Sans GB W3"/>
              </a:rPr>
              <a:t>e s u l t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68" name="TextBox 7"/>
          <p:cNvSpPr/>
          <p:nvPr/>
        </p:nvSpPr>
        <p:spPr>
          <a:xfrm>
            <a:off x="2024280" y="13161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情  景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69" name="TextBox 29"/>
          <p:cNvSpPr/>
          <p:nvPr/>
        </p:nvSpPr>
        <p:spPr>
          <a:xfrm>
            <a:off x="2024280" y="20685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任  务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0" name="TextBox 30"/>
          <p:cNvSpPr/>
          <p:nvPr/>
        </p:nvSpPr>
        <p:spPr>
          <a:xfrm>
            <a:off x="2024280" y="28177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行  动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1" name="TextBox 31"/>
          <p:cNvSpPr/>
          <p:nvPr/>
        </p:nvSpPr>
        <p:spPr>
          <a:xfrm>
            <a:off x="2024280" y="35481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结  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2" name="矩形 13"/>
          <p:cNvSpPr/>
          <p:nvPr/>
        </p:nvSpPr>
        <p:spPr>
          <a:xfrm>
            <a:off x="3742920" y="1481040"/>
            <a:ext cx="27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什么时候在什么企业</a:t>
            </a:r>
            <a:r>
              <a:rPr b="0" lang="en-US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活动担任什么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职位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3" name="矩形 36"/>
          <p:cNvSpPr/>
          <p:nvPr/>
        </p:nvSpPr>
        <p:spPr>
          <a:xfrm>
            <a:off x="3841560" y="221472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分配的任务是什么，你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负责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做哪部分工作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4" name="矩形 37"/>
          <p:cNvSpPr/>
          <p:nvPr/>
        </p:nvSpPr>
        <p:spPr>
          <a:xfrm>
            <a:off x="3649320" y="2948040"/>
            <a:ext cx="24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你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具体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做了哪些事情（量化</a:t>
            </a:r>
            <a:r>
              <a:rPr b="0" lang="en-US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事实）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75" name="矩形 38"/>
          <p:cNvSpPr/>
          <p:nvPr/>
        </p:nvSpPr>
        <p:spPr>
          <a:xfrm>
            <a:off x="3596400" y="3678120"/>
            <a:ext cx="26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通过这项工作</a:t>
            </a:r>
            <a:r>
              <a:rPr b="0" lang="en-US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IKEA Sans"/>
                <a:ea typeface="微软雅黑"/>
              </a:rPr>
              <a:t>活动获得的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经验</a:t>
            </a:r>
            <a:r>
              <a:rPr b="0" lang="en-US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0000"/>
                </a:solidFill>
                <a:latin typeface="IKEA Sans"/>
                <a:ea typeface="微软雅黑"/>
              </a:rPr>
              <a:t>成绩</a:t>
            </a: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矩形 44"/>
          <p:cNvSpPr/>
          <p:nvPr/>
        </p:nvSpPr>
        <p:spPr>
          <a:xfrm>
            <a:off x="3492360" y="2981160"/>
            <a:ext cx="5119920" cy="1405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1262160" y="765000"/>
            <a:ext cx="1791360" cy="368280"/>
            <a:chOff x="1262160" y="765000"/>
            <a:chExt cx="1791360" cy="368280"/>
          </a:xfrm>
        </p:grpSpPr>
        <p:sp>
          <p:nvSpPr>
            <p:cNvPr id="678" name="TextBox 8"/>
            <p:cNvSpPr/>
            <p:nvPr/>
          </p:nvSpPr>
          <p:spPr>
            <a:xfrm>
              <a:off x="2208600" y="765000"/>
              <a:ext cx="84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·</a:t>
              </a: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实践经历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  <p:sp>
          <p:nvSpPr>
            <p:cNvPr id="679" name="TextBox 10"/>
            <p:cNvSpPr/>
            <p:nvPr/>
          </p:nvSpPr>
          <p:spPr>
            <a:xfrm>
              <a:off x="1262160" y="765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简历制作</a:t>
              </a:r>
              <a:endParaRPr b="0" lang="en-US" sz="1800" spc="-1" strike="noStrike">
                <a:solidFill>
                  <a:srgbClr val="000000"/>
                </a:solidFill>
                <a:latin typeface="IKEA Sans"/>
              </a:endParaRPr>
            </a:p>
          </p:txBody>
        </p:sp>
      </p:grpSp>
      <p:pic>
        <p:nvPicPr>
          <p:cNvPr id="680" name="Picture 1" descr="C:\Documents and Settings\ljhuang\Application Data\Tencent\Users\9639504\QQ\WinTemp\RichOle\AVHSD_NA`V61]6B]Z8_A9$6.jpg"/>
          <p:cNvPicPr/>
          <p:nvPr/>
        </p:nvPicPr>
        <p:blipFill>
          <a:blip r:embed="rId1"/>
          <a:srcRect l="0" t="0" r="0" b="6207"/>
          <a:stretch/>
        </p:blipFill>
        <p:spPr>
          <a:xfrm>
            <a:off x="3492360" y="1454040"/>
            <a:ext cx="5119920" cy="1405080"/>
          </a:xfrm>
          <a:prstGeom prst="rect">
            <a:avLst/>
          </a:prstGeom>
          <a:ln w="0">
            <a:noFill/>
          </a:ln>
        </p:spPr>
      </p:pic>
      <p:sp>
        <p:nvSpPr>
          <p:cNvPr id="681" name="矩形 1"/>
          <p:cNvSpPr/>
          <p:nvPr/>
        </p:nvSpPr>
        <p:spPr>
          <a:xfrm>
            <a:off x="1150920" y="1454040"/>
            <a:ext cx="2205000" cy="1405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82" name="TextBox 3"/>
          <p:cNvSpPr/>
          <p:nvPr/>
        </p:nvSpPr>
        <p:spPr>
          <a:xfrm>
            <a:off x="1622520" y="234000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83" name="矩形 42"/>
          <p:cNvSpPr/>
          <p:nvPr/>
        </p:nvSpPr>
        <p:spPr>
          <a:xfrm>
            <a:off x="1150920" y="2970360"/>
            <a:ext cx="2205000" cy="1404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84" name="TextBox 43"/>
          <p:cNvSpPr/>
          <p:nvPr/>
        </p:nvSpPr>
        <p:spPr>
          <a:xfrm>
            <a:off x="1946880" y="38577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IKEA Sans"/>
            </a:endParaRPr>
          </a:p>
        </p:txBody>
      </p:sp>
      <p:sp>
        <p:nvSpPr>
          <p:cNvPr id="685" name="矩形 11"/>
          <p:cNvSpPr/>
          <p:nvPr/>
        </p:nvSpPr>
        <p:spPr>
          <a:xfrm>
            <a:off x="3870360" y="3014640"/>
            <a:ext cx="5119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/2010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至今      　ＸＸ社团     　　 主席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并支持社团的整体运转，协助完善社团章程与制度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策划社团ＸＸ活动，获得活动赞助ＸＸ元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了ＸＸ活动，活动开展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参加人数共计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职期间社团招新共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社团被评为“明星社团”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职期间，提高了团队合作能力、组织能力和领导能力．．．</a:t>
            </a:r>
            <a:endParaRPr b="0" lang="en-US" sz="1100" spc="-1" strike="noStrike">
              <a:solidFill>
                <a:srgbClr val="000000"/>
              </a:solidFill>
              <a:latin typeface="IKEA Sans"/>
            </a:endParaRPr>
          </a:p>
        </p:txBody>
      </p:sp>
      <p:grpSp>
        <p:nvGrpSpPr>
          <p:cNvPr id="686" name="Group 12"/>
          <p:cNvGrpSpPr/>
          <p:nvPr/>
        </p:nvGrpSpPr>
        <p:grpSpPr>
          <a:xfrm>
            <a:off x="3680640" y="3070080"/>
            <a:ext cx="253800" cy="1205280"/>
            <a:chOff x="3680640" y="3070080"/>
            <a:chExt cx="253800" cy="1205280"/>
          </a:xfrm>
        </p:grpSpPr>
        <p:grpSp>
          <p:nvGrpSpPr>
            <p:cNvPr id="687" name="Group 13"/>
            <p:cNvGrpSpPr/>
            <p:nvPr/>
          </p:nvGrpSpPr>
          <p:grpSpPr>
            <a:xfrm>
              <a:off x="3686040" y="3070080"/>
              <a:ext cx="243360" cy="231120"/>
              <a:chOff x="3686040" y="3070080"/>
              <a:chExt cx="243360" cy="231120"/>
            </a:xfrm>
          </p:grpSpPr>
          <p:sp>
            <p:nvSpPr>
              <p:cNvPr id="688" name="矩形 12"/>
              <p:cNvSpPr/>
              <p:nvPr/>
            </p:nvSpPr>
            <p:spPr>
              <a:xfrm>
                <a:off x="3716280" y="3095280"/>
                <a:ext cx="14436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89" name="TextBox 16"/>
              <p:cNvSpPr/>
              <p:nvPr/>
            </p:nvSpPr>
            <p:spPr>
              <a:xfrm>
                <a:off x="3686040" y="3070080"/>
                <a:ext cx="243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690" name="Group 16"/>
            <p:cNvGrpSpPr/>
            <p:nvPr/>
          </p:nvGrpSpPr>
          <p:grpSpPr>
            <a:xfrm>
              <a:off x="3684960" y="3264840"/>
              <a:ext cx="244800" cy="231120"/>
              <a:chOff x="3684960" y="3264840"/>
              <a:chExt cx="244800" cy="231120"/>
            </a:xfrm>
          </p:grpSpPr>
          <p:sp>
            <p:nvSpPr>
              <p:cNvPr id="691" name="矩形 46"/>
              <p:cNvSpPr/>
              <p:nvPr/>
            </p:nvSpPr>
            <p:spPr>
              <a:xfrm>
                <a:off x="3717000" y="329472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92" name="TextBox 47"/>
              <p:cNvSpPr/>
              <p:nvPr/>
            </p:nvSpPr>
            <p:spPr>
              <a:xfrm>
                <a:off x="3684960" y="32648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693" name="Group 19"/>
            <p:cNvGrpSpPr/>
            <p:nvPr/>
          </p:nvGrpSpPr>
          <p:grpSpPr>
            <a:xfrm>
              <a:off x="3680640" y="3459600"/>
              <a:ext cx="253800" cy="231120"/>
              <a:chOff x="3680640" y="3459600"/>
              <a:chExt cx="253800" cy="231120"/>
            </a:xfrm>
          </p:grpSpPr>
          <p:sp>
            <p:nvSpPr>
              <p:cNvPr id="694" name="矩形 49"/>
              <p:cNvSpPr/>
              <p:nvPr/>
            </p:nvSpPr>
            <p:spPr>
              <a:xfrm>
                <a:off x="3716280" y="348480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95" name="TextBox 50"/>
              <p:cNvSpPr/>
              <p:nvPr/>
            </p:nvSpPr>
            <p:spPr>
              <a:xfrm>
                <a:off x="3680640" y="3459600"/>
                <a:ext cx="25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696" name="Group 22"/>
            <p:cNvGrpSpPr/>
            <p:nvPr/>
          </p:nvGrpSpPr>
          <p:grpSpPr>
            <a:xfrm>
              <a:off x="3680640" y="3654360"/>
              <a:ext cx="253800" cy="231120"/>
              <a:chOff x="3680640" y="3654360"/>
              <a:chExt cx="253800" cy="231120"/>
            </a:xfrm>
          </p:grpSpPr>
          <p:sp>
            <p:nvSpPr>
              <p:cNvPr id="697" name="矩形 52"/>
              <p:cNvSpPr/>
              <p:nvPr/>
            </p:nvSpPr>
            <p:spPr>
              <a:xfrm>
                <a:off x="3716280" y="367956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698" name="TextBox 53"/>
              <p:cNvSpPr/>
              <p:nvPr/>
            </p:nvSpPr>
            <p:spPr>
              <a:xfrm>
                <a:off x="3680640" y="3654360"/>
                <a:ext cx="25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699" name="Group 25"/>
            <p:cNvGrpSpPr/>
            <p:nvPr/>
          </p:nvGrpSpPr>
          <p:grpSpPr>
            <a:xfrm>
              <a:off x="3680640" y="3849480"/>
              <a:ext cx="253800" cy="231120"/>
              <a:chOff x="3680640" y="3849480"/>
              <a:chExt cx="253800" cy="231120"/>
            </a:xfrm>
          </p:grpSpPr>
          <p:sp>
            <p:nvSpPr>
              <p:cNvPr id="700" name="矩形 55"/>
              <p:cNvSpPr/>
              <p:nvPr/>
            </p:nvSpPr>
            <p:spPr>
              <a:xfrm>
                <a:off x="3716280" y="3874680"/>
                <a:ext cx="14400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701" name="TextBox 56"/>
              <p:cNvSpPr/>
              <p:nvPr/>
            </p:nvSpPr>
            <p:spPr>
              <a:xfrm>
                <a:off x="3680640" y="3849480"/>
                <a:ext cx="25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  <p:grpSp>
          <p:nvGrpSpPr>
            <p:cNvPr id="702" name="Group 28"/>
            <p:cNvGrpSpPr/>
            <p:nvPr/>
          </p:nvGrpSpPr>
          <p:grpSpPr>
            <a:xfrm>
              <a:off x="3681360" y="4044240"/>
              <a:ext cx="252360" cy="231120"/>
              <a:chOff x="3681360" y="4044240"/>
              <a:chExt cx="252360" cy="231120"/>
            </a:xfrm>
          </p:grpSpPr>
          <p:sp>
            <p:nvSpPr>
              <p:cNvPr id="703" name="矩形 58"/>
              <p:cNvSpPr/>
              <p:nvPr/>
            </p:nvSpPr>
            <p:spPr>
              <a:xfrm>
                <a:off x="3717720" y="4069440"/>
                <a:ext cx="144360" cy="144000"/>
              </a:xfrm>
              <a:prstGeom prst="rect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  <p:sp>
            <p:nvSpPr>
              <p:cNvPr id="704" name="TextBox 59"/>
              <p:cNvSpPr/>
              <p:nvPr/>
            </p:nvSpPr>
            <p:spPr>
              <a:xfrm>
                <a:off x="3681360" y="4044240"/>
                <a:ext cx="25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Hiragino Sans GB W3"/>
                    <a:ea typeface="Hiragino Sans GB W3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IKEA Sans"/>
                </a:endParaRPr>
              </a:p>
            </p:txBody>
          </p:sp>
        </p:grp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44:35Z</dcterms:created>
  <dc:creator>Administrator</dc:creator>
  <dc:description/>
  <dc:language>en-US</dc:language>
  <cp:lastModifiedBy>微软用户</cp:lastModifiedBy>
  <dcterms:modified xsi:type="dcterms:W3CDTF">2015-07-07T03:51:0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