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17279938" cy="12963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E56-0290-4441-8949-224B359D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AEF-E830-4DF6-BDF8-36B3ABC6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6F1AF-0719-4A74-B76E-7764DD51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B89DF-C526-4113-8460-FEEA11CB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F4557-EA44-4FDE-A427-6446405F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46F2A-0714-4528-B705-9EC8ECD3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938A7-1309-4A93-92E4-EF999C92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FF183-ED32-48FD-A40E-95AAE858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8C535-268F-4D09-9887-4EF1378D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B9902-ABF2-4CE8-BA7C-CA30F909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BD4C7-D9DF-4072-9D1C-2E1C9123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95233-6E87-4A71-93FE-7CAA7DC1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D71-1651-4EF7-B1A1-E1EC4A28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EDC67-6B06-4F9B-9231-6B6B8C69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F476B-ACA8-4921-BE64-A180721D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0AB00-81DB-459C-A8E7-260CAD11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BB6E3-2C95-4876-893E-183FCCA2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CCE96-774D-4487-A781-E93971E2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0B4D3-91E6-4A70-BDF2-0072D524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75093-5D34-433F-8374-A90D0F22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CCF27-2B12-4542-A615-2493073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8752A-D8FB-4C1F-99C4-2C6A9915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4AF0C-454F-430A-8131-9B8178EB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21AE-64F4-43FB-89FD-CAC49A8C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63357-4435-4A2D-AF61-DC8292AE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31BAA-9FA7-4BCC-944D-6EA2A3BE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EB949-531D-4384-9A59-BF6D10EB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37498-5DDE-480E-A1D3-6D61821E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21FBE-EF1D-4963-A494-680DB72A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69624-E400-43BA-80B4-5BAEB7DB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4FD5A-E209-4EA9-91C7-A607AC4A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9EA5F-A11D-41B0-83C1-FABB6DB9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603EF-C608-4109-B1C5-DA40231D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1D389-7559-4DD8-95E3-7724431A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2ED8-228D-4798-9423-395DB07E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8E006-8B4D-423A-B5CE-279A900D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EA641-FBE1-4BCF-89EF-472FE6EA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ADE28-EE3C-4167-B475-473A3E0F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C44280-3B3D-4FAC-8D2C-18BACA93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DF7DA-48B4-4F16-B09B-2300933F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A4FD0-E834-48AA-AF50-71B6B718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40B3C-4E3C-46A6-8534-48102F71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F58FA-72DC-49DB-8FB2-F2627D64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9DD75-AF19-410E-9EBA-85EE96E8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AFFA3-8C15-49DA-8555-9F931F24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A682-E9CA-4FBB-93B1-AB81F8F9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D92DE-6B94-4076-9467-0E5FE38C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51AF5-FC20-47D6-8D04-AF243A65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751AE-A7A2-4C1F-A29A-C795CFD8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784BF-983D-4ACE-A988-660647CC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360F1-E015-43D8-A15B-9A888594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A62AF-69B6-4045-885E-730F28F8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528A6-06E8-4BD5-AA49-B90ABE9D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D1767-CF5D-44C3-A698-F124E2E6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06FE4-DEBE-45DE-AA5C-0E79E297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0BB60-F60D-4C44-9D9E-B458AACD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33D4-7BD0-4523-92FD-4162BBBB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781455-5FEE-47A0-BA86-E90D88B2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1BEF8-AFFB-44C0-BBBE-82154BB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C0539-2030-427D-BAC1-92C64560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03D8D-CD50-4635-B57A-63354501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C3BDA-9302-4CF4-8BAF-7EE31FB1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B4E875-3444-481F-8A5C-BC0DC36E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73842-4EDD-4107-8224-4C8DA893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B80B-7B0C-43DD-BE2F-08DB0321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9636-EBA4-48C6-AC3B-C5EDB450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7501-A514-49CA-901D-0B67A29E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8BAF-0821-4626-85D4-89F556D7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023-4C63-462C-8D9D-7DF32EF9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E6E4-237D-45D0-AE33-E45110F2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E135-4984-4408-A702-31C851FB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9029-0CC2-49AB-A854-69555704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A3E2-04D7-444F-AC86-69DE995E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60CF-AC81-42AD-9CEB-CDDC2D8BC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5B2E-012F-4C0A-BA7C-2FC7B165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DA5F0-00E8-4DEF-8F0C-8C3B4409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C0F42-BF40-40BE-B154-FD7F65FB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F1316-7F71-4603-B0E9-3739964D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67A7A-35B1-4EFF-A8E1-41B904D3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F1F-9417-4917-AFFB-CAFBE4A4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CC6BA-EF05-4754-8D9B-CF48C628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577D1-3640-4143-AD54-8DD3B930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D77F4-8141-4F13-8450-0943F772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68B8D-01A3-486C-99EA-DDCF5E70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EC619-20A4-44BE-BF43-9F219D20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6F1B6-BA7F-4970-9F6A-7387E0CD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F4FD4-4BBC-4D5C-A889-F8B5DD66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1110C-EE34-47E0-BFFE-5AE15141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B12D9-9850-48EE-A9AA-701A7A19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2968C-09B9-48B8-8280-EFD288B6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9546-B063-4A41-9901-10C3BB34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DE59E-D241-4A81-9CFE-09935563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D8091-6F13-4F92-9489-D77F950E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47D64-7507-41AF-BC07-E708B6EA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DCA56-29CD-4654-B6E3-741E1946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3A48E-2E07-4972-885B-28D6C1E2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FA8F4-912D-436A-A6C3-34D1F622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96758-6713-45AD-B1BB-96DC9461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037B7-02CF-49C9-9E6E-7329EDA7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CA353-3609-4F06-8E0F-A295BAAF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9AF3B-6B06-4544-B0C7-6E7D83B9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5B0C-BF7D-46BB-8145-3DCCBD9B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A4D78-A4D0-4337-BCF8-03E7DE76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29CD7-BB6E-4D1F-AC33-ED54B4F8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8647F-E8B7-4023-B3D8-A148DF25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5B5EF-B78E-4E3A-94A7-EBB90118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CA9AB-4FCC-4AE3-ACBE-BA3DAF49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250C7-8E2D-42BF-9A70-C3C8E1E9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7E487-413D-438D-B4CD-2F0069CD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B70FD-723E-465B-82BE-91B2E758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47DF6-180E-4F4D-A90A-B6CD70A4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2859C-CDD5-4B0E-B760-A31DE6F9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D92-7709-4375-A12C-D85E0151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67828-4D94-43B4-967A-4E6C7121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B4FCE-0056-4DC4-9CF1-3145B607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DB15A-3BB2-4004-BBA6-0C8E6BDA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347C4-E69F-4805-A952-AFEC4FFE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38A4D-6419-44DF-91FE-9F11F579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D3912-962B-4A3E-8AE5-32B6BF68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DADDC-D522-4754-B906-432623F7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E450B-3534-43CB-8577-C4DDE94C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F1527-1072-491B-B40D-A1D2D184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897F5-93D9-48CF-BBC7-15019C6F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ACE-8007-4E91-A806-F3901BC9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92098-B1F9-4D0F-B290-D5607A5E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99D2C-C22A-4554-8411-A83D9FF6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11773-060F-4A8F-ACFA-E434E798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0BBA7-DDE9-4DB4-9AD2-DA392CDE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FF8E1-6268-4389-AF29-224F50FB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CA75E-517A-49DE-8444-8EF7C669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72C51-CC51-4312-AEBB-01C915F7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1966F-E1C1-4B2A-8386-ADEB1684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9B097-FB6F-47A8-9D57-81F2A492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9714C-0C2E-42C6-A999-56236A11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CC9-FD09-4F7F-BE10-87F04488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21508-ADF4-4AB7-9B23-0D89C729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E6FC8-DF2B-4754-91DA-B4E13E8A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7E578-6733-484B-A373-2CBA348A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09D94-199D-4156-822F-811A3459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04F1D-60A3-48F4-BC75-D5460780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7FDEB-5DD7-47AE-B597-DDCBBCF1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4E5D8-1828-4A68-81AB-AA48E1B4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74707-8E75-44B7-91A6-271FD196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17176-D355-4F07-9B97-89DFDF17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0BFF0-9F82-4AD9-BEE8-CBC5CA36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C83-6022-4504-955C-CC870A13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63640" y="519120"/>
            <a:ext cx="15554160" cy="1001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DA6C0-3CCA-4463-951E-59828EC6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54323-C48C-43B3-BB04-0C02904D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32BC3-F5CE-4BC6-AFBB-F54C9CA5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1CA9E-304C-4FF3-BCCE-2031EF23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63640" y="7493040"/>
            <a:ext cx="1555416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7983A-FC8E-4C76-868E-AD2B7A97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833680" y="302436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6364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833680" y="7493040"/>
            <a:ext cx="759024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D4A4E-4E14-4BB5-B911-79B3E962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12288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381760" y="302436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6364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612288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11381760" y="7493040"/>
            <a:ext cx="5008320" cy="408060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3949B-E1D5-4241-88B6-C36C13E6E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B7F03-23E1-4448-B701-45F2C298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2B72F-B29D-48CB-8873-55221692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36D8A-C1BA-4428-A825-1E837A5C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2160720" indent="-4320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3280" y="11802600"/>
            <a:ext cx="403236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04000" y="11802600"/>
            <a:ext cx="547344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385800" y="11802600"/>
            <a:ext cx="4032000" cy="90036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Autofit/>
          </a:bodyPr>
          <a:lstStyle>
            <a:lvl1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fld id="{EB1291A1-CB61-4344-A351-A9433DD61B9A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4301-5E9E-4CEF-869E-4E01C73B97B0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D5EC-7FC6-406B-95ED-E6849F03F4F5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ADC7-5418-4BC3-BC09-4A5F037CD67D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2F56-DB3D-4791-BEA4-A1FE2AC47272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  <a:defRPr b="0" lang="zh-CN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  <a:defRPr b="0" lang="zh-CN" sz="2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fld id="{CF7995D0-E897-46FA-91ED-0EE426DD838F}" type="slidenum">
              <a:rPr b="0" lang="zh-CN" sz="2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0FE6-A857-4ED7-9FDC-E835E8D85672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CBB3-7A88-400C-BA46-FFC331369352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9EB3-BDF7-48BA-8FF0-D01EACC2CFDC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9694-C729-433A-91DC-E3A1757C3641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A35C-0C5C-408D-856C-B6A8DFEFC7B7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0784-639D-42CE-A09C-0B9028CEB525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63640" y="519120"/>
            <a:ext cx="15554160" cy="216072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 algn="ctr">
              <a:buNone/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63640" y="3024360"/>
            <a:ext cx="15554160" cy="8555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403280" indent="-5396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2" marL="2158920" indent="-4316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3" marL="3024360" indent="-4320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4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5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6" marL="3887640" indent="-43164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63280" y="12014280"/>
            <a:ext cx="403236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904000" y="12014280"/>
            <a:ext cx="547344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12385800" y="12014280"/>
            <a:ext cx="4032000" cy="689040"/>
          </a:xfrm>
          <a:prstGeom prst="rect">
            <a:avLst/>
          </a:prstGeom>
          <a:noFill/>
          <a:ln w="0">
            <a:noFill/>
          </a:ln>
        </p:spPr>
        <p:txBody>
          <a:bodyPr lIns="172800" rIns="172800" tIns="86400" bIns="86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E9BE-9CCE-470F-B26A-77A93F0F3D09}" type="slidenum">
              <a:rPr b="0" lang="zh-CN" sz="2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5.jpeg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3887640" y="1155600"/>
            <a:ext cx="9161640" cy="10361880"/>
          </a:xfrm>
          <a:prstGeom prst="rect">
            <a:avLst/>
          </a:prstGeom>
          <a:ln w="0">
            <a:noFill/>
          </a:ln>
        </p:spPr>
      </p:pic>
      <p:sp>
        <p:nvSpPr>
          <p:cNvPr id="534" name="矩形 5"/>
          <p:cNvSpPr/>
          <p:nvPr/>
        </p:nvSpPr>
        <p:spPr>
          <a:xfrm>
            <a:off x="5545080" y="10915560"/>
            <a:ext cx="311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6" descr=""/>
          <p:cNvPicPr/>
          <p:nvPr/>
        </p:nvPicPr>
        <p:blipFill>
          <a:blip r:embed="rId1"/>
          <a:stretch/>
        </p:blipFill>
        <p:spPr>
          <a:xfrm>
            <a:off x="822240" y="1512720"/>
            <a:ext cx="1549728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6" descr=""/>
          <p:cNvPicPr/>
          <p:nvPr/>
        </p:nvPicPr>
        <p:blipFill>
          <a:blip r:embed="rId1"/>
          <a:stretch/>
        </p:blipFill>
        <p:spPr>
          <a:xfrm>
            <a:off x="638280" y="1512720"/>
            <a:ext cx="160146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6" descr=""/>
          <p:cNvPicPr/>
          <p:nvPr/>
        </p:nvPicPr>
        <p:blipFill>
          <a:blip r:embed="rId1"/>
          <a:stretch/>
        </p:blipFill>
        <p:spPr>
          <a:xfrm>
            <a:off x="750960" y="1512720"/>
            <a:ext cx="15789240" cy="950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7" descr=""/>
          <p:cNvPicPr/>
          <p:nvPr/>
        </p:nvPicPr>
        <p:blipFill>
          <a:blip r:embed="rId1"/>
          <a:stretch/>
        </p:blipFill>
        <p:spPr>
          <a:xfrm>
            <a:off x="638280" y="1512720"/>
            <a:ext cx="160146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"/>
          <p:cNvPicPr/>
          <p:nvPr/>
        </p:nvPicPr>
        <p:blipFill>
          <a:blip r:embed="rId1"/>
          <a:stretch/>
        </p:blipFill>
        <p:spPr>
          <a:xfrm>
            <a:off x="942840" y="1655640"/>
            <a:ext cx="15405120" cy="929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矩形 5"/>
          <p:cNvSpPr/>
          <p:nvPr/>
        </p:nvSpPr>
        <p:spPr>
          <a:xfrm>
            <a:off x="4610160" y="6697800"/>
            <a:ext cx="64620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"/>
          <p:cNvPicPr/>
          <p:nvPr/>
        </p:nvPicPr>
        <p:blipFill>
          <a:blip r:embed="rId16"/>
          <a:stretch/>
        </p:blipFill>
        <p:spPr>
          <a:xfrm>
            <a:off x="749160" y="1512720"/>
            <a:ext cx="15854400" cy="9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3710160" y="792000"/>
            <a:ext cx="9285120" cy="108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3887640" y="1155600"/>
            <a:ext cx="9161640" cy="10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矩形 4"/>
          <p:cNvSpPr/>
          <p:nvPr/>
        </p:nvSpPr>
        <p:spPr>
          <a:xfrm>
            <a:off x="2971800" y="8180280"/>
            <a:ext cx="12201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0" rIns="172800" tIns="86400" bIns="86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2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en-US" sz="2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7"/>
          <p:cNvSpPr/>
          <p:nvPr/>
        </p:nvSpPr>
        <p:spPr>
          <a:xfrm>
            <a:off x="0" y="5122800"/>
            <a:ext cx="17281440" cy="258300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2800" rIns="172800" tIns="86400" bIns="86400" anchor="ctr">
            <a:noAutofit/>
          </a:bodyPr>
          <a:p>
            <a:pPr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图片 9" descr=""/>
          <p:cNvPicPr/>
          <p:nvPr/>
        </p:nvPicPr>
        <p:blipFill>
          <a:blip r:embed="rId16"/>
          <a:stretch/>
        </p:blipFill>
        <p:spPr>
          <a:xfrm>
            <a:off x="3124080" y="658800"/>
            <a:ext cx="10547640" cy="36752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3"/>
          <p:cNvSpPr/>
          <p:nvPr/>
        </p:nvSpPr>
        <p:spPr>
          <a:xfrm>
            <a:off x="885960" y="5310360"/>
            <a:ext cx="775476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0" rIns="172800" tIns="86400" bIns="8640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8640720" y="5310360"/>
            <a:ext cx="775512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0" rIns="172800" tIns="86400" bIns="86400" anchor="t">
            <a:no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1" lang="zh-CN" sz="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1727280"/>
                <a:tab algn="l" pos="3454560"/>
                <a:tab algn="l" pos="5181480"/>
                <a:tab algn="l" pos="6908760"/>
                <a:tab algn="l" pos="8636040"/>
                <a:tab algn="l" pos="10363320"/>
              </a:tabLst>
            </a:pPr>
            <a:r>
              <a:rPr b="0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10" descr="png-0644"/>
          <p:cNvPicPr/>
          <p:nvPr/>
        </p:nvPicPr>
        <p:blipFill>
          <a:blip r:embed="rId17"/>
          <a:stretch/>
        </p:blipFill>
        <p:spPr>
          <a:xfrm>
            <a:off x="5511960" y="531036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1" descr="png-0652"/>
          <p:cNvPicPr/>
          <p:nvPr/>
        </p:nvPicPr>
        <p:blipFill>
          <a:blip r:embed="rId18"/>
          <a:stretch/>
        </p:blipFill>
        <p:spPr>
          <a:xfrm>
            <a:off x="13671720" y="5310360"/>
            <a:ext cx="7444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3710160" y="792000"/>
            <a:ext cx="9285120" cy="108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"/>
          <p:cNvPicPr/>
          <p:nvPr/>
        </p:nvPicPr>
        <p:blipFill>
          <a:blip r:embed="rId1"/>
          <a:stretch/>
        </p:blipFill>
        <p:spPr>
          <a:xfrm>
            <a:off x="528480" y="1584360"/>
            <a:ext cx="16224480" cy="976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"/>
          <p:cNvPicPr/>
          <p:nvPr/>
        </p:nvPicPr>
        <p:blipFill>
          <a:blip r:embed="rId1"/>
          <a:stretch/>
        </p:blipFill>
        <p:spPr>
          <a:xfrm>
            <a:off x="638280" y="1512720"/>
            <a:ext cx="160146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6" descr=""/>
          <p:cNvPicPr/>
          <p:nvPr/>
        </p:nvPicPr>
        <p:blipFill>
          <a:blip r:embed="rId1"/>
          <a:stretch/>
        </p:blipFill>
        <p:spPr>
          <a:xfrm>
            <a:off x="855720" y="1584360"/>
            <a:ext cx="159354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6" descr=""/>
          <p:cNvPicPr/>
          <p:nvPr/>
        </p:nvPicPr>
        <p:blipFill>
          <a:blip r:embed="rId1"/>
          <a:stretch/>
        </p:blipFill>
        <p:spPr>
          <a:xfrm>
            <a:off x="717480" y="1512720"/>
            <a:ext cx="158562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6" descr=""/>
          <p:cNvPicPr/>
          <p:nvPr/>
        </p:nvPicPr>
        <p:blipFill>
          <a:blip r:embed="rId1"/>
          <a:stretch/>
        </p:blipFill>
        <p:spPr>
          <a:xfrm>
            <a:off x="611280" y="1512720"/>
            <a:ext cx="16068600" cy="957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6" descr=""/>
          <p:cNvPicPr/>
          <p:nvPr/>
        </p:nvPicPr>
        <p:blipFill>
          <a:blip r:embed="rId1"/>
          <a:stretch/>
        </p:blipFill>
        <p:spPr>
          <a:xfrm>
            <a:off x="798480" y="1584360"/>
            <a:ext cx="15694200" cy="94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"/>
          <p:cNvPicPr/>
          <p:nvPr/>
        </p:nvPicPr>
        <p:blipFill>
          <a:blip r:embed="rId1"/>
          <a:stretch/>
        </p:blipFill>
        <p:spPr>
          <a:xfrm>
            <a:off x="750960" y="1584360"/>
            <a:ext cx="15789240" cy="95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4:40:41Z</dcterms:created>
  <dc:creator>新教育</dc:creator>
  <dc:description/>
  <dc:language>en-US</dc:language>
  <cp:lastModifiedBy>User</cp:lastModifiedBy>
  <dcterms:modified xsi:type="dcterms:W3CDTF">2015-07-02T08:50:52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