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53468-8FDD-45BB-87A7-F928FA71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3A940-C3E5-4D65-A22C-13ED0B49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5702A-1992-4B8D-9864-DEB5FE2F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8BAE2-198F-4234-90D6-FA373BA8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8EA80-050E-462E-A2C7-CA566546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DD543-12FE-4D04-B54B-2E01B172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03421-9A78-4BD7-87FD-60B86F11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A6E7B-9DF3-41C9-9AD2-21390DDC3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0C486-5C97-4177-88B6-E875FAD50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FFD9-720A-459D-9D1E-63CF5CE18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83B7-B10D-4100-9910-1BA439E5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B439-4AB0-4A4D-A60A-38032E3D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C492-C5DB-49F9-904D-6FC77480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039F-F51B-4B67-8A3A-09EC1701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6699-DC8A-4515-835D-B2CC11D2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C063-5857-4B3B-9EEA-3BBC48E6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37ED-99BC-4149-986C-D1C2E34C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9362-C7BA-4A05-BE69-BF99ED46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2380-463A-4AEE-9AF3-42FDB742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67CE-FF1C-4A0D-A233-889AF8D1D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C86D-82F5-4599-AA11-6F0A9AEC7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E1BD-E225-4AFB-BDD1-B2F7F26D0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84CE-8812-4A88-9681-3192109C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177C-2785-4270-A6B2-7EC94645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F389-02AD-489A-99F3-DDD732A6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12E8-DD28-4FD7-AF2A-3E11D0F7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D38A-4574-4191-B417-98B68E1A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6005-27DA-44A1-BC7A-4ABF9365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212F-0898-4798-9D45-744006C8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CB3D-6EE5-4943-B22F-164E1473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094A-B6D6-426F-8993-7142AB5F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5B5A-16D0-4687-996E-CA1E38732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24D7-30C5-44C2-8CB6-08B2F14A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8E3A3-B44A-4A41-AFE2-A24A5988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B6C05-1DE1-4619-BCE6-14B3C0C0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33A35-DECB-4429-8EF3-EBEB3C9D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0CAE6-0949-4F0B-A216-5DBE98DC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8AD7B-3FAF-4D6F-B303-E7D74524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F6EEB-9469-4AFB-92F1-54507715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ECC92-952F-41BD-A884-B68ADEF9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7685A-7303-4717-85F2-B1E5851C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75A08-4487-4D0C-AFF6-2E6508CD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FFEB2-96B6-48DE-911E-C5473CE0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043F5-704F-483A-949B-271E16BC6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4B59C-DA37-48E6-8E6F-83C2ADA94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D0281-A889-4889-AF10-8BB92BBAE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E3C08-253F-4909-BBDF-45C1EC28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E9F11-C2FF-48E1-AF3A-BEC87D6B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1AB66-3276-43E8-A488-A7CC9108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3DAA5-DC5B-4199-BB8F-9F20CB6D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5083D-15B5-4684-B417-DC653EDC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022A6-3036-4F36-AD83-5D3F9B8B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84030-11DF-478A-BC4F-2EF2F375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CDE05-B10D-4630-98FF-9CA70ACB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68D29-AF00-46F8-A527-FACE0485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EC67A-9BA9-445D-91F2-092A31432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290F2-B806-4A17-94C1-1D074C740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A1EF9-FBC9-4F5B-9FC6-66E362679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5594E-29C5-4933-9091-C3551343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AF4D9-E0B1-49F1-AC18-60154C8E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E1656-34DB-403E-9336-EA1EF835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03C57-C203-4890-A421-306883AE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6AA07-2757-48E2-AE92-7267A86E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954A2-1AEF-4213-9560-49EC5137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57FFA-8704-477E-A13E-821D47EE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C3820-D85E-40DF-9432-60444E22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B367B-B37F-4A59-BBC4-94DEBE93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039D5-99F1-446F-9AF3-92B823138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72BFA-0874-44A7-AADF-5171E064F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73270-4DA5-451A-A0BD-7212A2181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2B335-803B-4957-A600-0E401A76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B2E13-8ED9-48EC-84CF-B5767E35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20928-9224-4417-8CC0-3F050922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FE3E8-0387-4CFD-A226-0386353C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8699C-6998-44E2-B590-9E870202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D16BB-F0B4-48D9-9C6B-309B0D1A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AA832-5EE0-46F1-9D81-B5317E41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52819-141F-4F91-97ED-1BDE2B7E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EE79E-5B75-4539-AC98-CA6361F8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D9888-8877-4B99-B3C7-29943F47F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0004C-4466-4145-8BD1-9D009D85B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96CDF-D69B-4FC5-BBC4-0CBEA6EAC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BB47F-C150-4E5D-8FDC-058BC830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A7E9A-0296-440A-A60A-9B026BB1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82241-F9D0-4E47-9DC4-DFC63A22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F59D8-78DA-48AC-A575-6E3C753C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AB21B-E674-42B2-801E-0DFDE912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0ABD3-5C8D-425B-80A1-221938A4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C6316-1151-426D-A23E-A070346E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223E8-2372-408A-BE5C-9428A9F5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E0BE5-81AF-4A9E-8191-41298033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CB288-D1BA-40C0-9843-FF71C8874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99BCE-CC3E-435F-8D7D-9F609D348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1E010-96B6-4475-B185-2CD7727AF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824ED-6574-49D4-9520-7DC88600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6F038-D336-49A7-AF86-500EB703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EB95-321C-4593-97D0-B90CBF187DD4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6A61-30E7-4CF1-880C-7C7FB0DBC744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96FB-71A2-47D4-96C8-6A6C1E7DFA82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8C3A-396F-4D5A-8038-AB080EC3C427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9468-EB5C-48FA-AF8D-340A3783413E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AD41-8BA3-4C09-A205-B2C831F5223A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B784-BB6C-48D8-859D-60E7318ED7F9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0284-1815-44C4-B858-B4E0942E25C3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audio" Target="file:///tmp/home/.config/libreoffice/4/user/gallery/9F54978D.wav" TargetMode="External"/><Relationship Id="rId8" Type="http://schemas.microsoft.com/office/2007/relationships/media" Target="file:///tmp/home/.config/libreoffice/4/user/gallery/9F54978D.wav" TargetMode="External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矩形 6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2f2f2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23" descr="E:\工作夹\PPT模版\s1015教师节\原图片\5.png"/>
          <p:cNvPicPr/>
          <p:nvPr/>
        </p:nvPicPr>
        <p:blipFill>
          <a:blip r:embed="rId1"/>
          <a:stretch/>
        </p:blipFill>
        <p:spPr>
          <a:xfrm>
            <a:off x="-57240" y="0"/>
            <a:ext cx="9051840" cy="51451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3" descr="E:\工作夹\PPT模版\s1015教师节\原图片\5.png"/>
          <p:cNvPicPr/>
          <p:nvPr/>
        </p:nvPicPr>
        <p:blipFill>
          <a:blip r:embed="rId2"/>
          <a:stretch/>
        </p:blipFill>
        <p:spPr>
          <a:xfrm>
            <a:off x="108000" y="0"/>
            <a:ext cx="9051840" cy="5145120"/>
          </a:xfrm>
          <a:prstGeom prst="rect">
            <a:avLst/>
          </a:prstGeom>
          <a:ln w="0">
            <a:noFill/>
          </a:ln>
        </p:spPr>
      </p:pic>
      <p:grpSp>
        <p:nvGrpSpPr>
          <p:cNvPr id="360" name="组合 60"/>
          <p:cNvGrpSpPr/>
          <p:nvPr/>
        </p:nvGrpSpPr>
        <p:grpSpPr>
          <a:xfrm>
            <a:off x="1465200" y="-195120"/>
            <a:ext cx="6232680" cy="6234120"/>
            <a:chOff x="1465200" y="-195120"/>
            <a:chExt cx="6232680" cy="6234120"/>
          </a:xfrm>
        </p:grpSpPr>
        <p:grpSp>
          <p:nvGrpSpPr>
            <p:cNvPr id="361" name="椭圆 67"/>
            <p:cNvGrpSpPr/>
            <p:nvPr/>
          </p:nvGrpSpPr>
          <p:grpSpPr>
            <a:xfrm>
              <a:off x="1465200" y="-195120"/>
              <a:ext cx="6232680" cy="6234120"/>
              <a:chOff x="1465200" y="-195120"/>
              <a:chExt cx="6232680" cy="6234120"/>
            </a:xfrm>
          </p:grpSpPr>
          <p:pic>
            <p:nvPicPr>
              <p:cNvPr id="362" name="椭圆 67" descr=""/>
              <p:cNvPicPr/>
              <p:nvPr/>
            </p:nvPicPr>
            <p:blipFill>
              <a:blip r:embed="rId3"/>
              <a:stretch/>
            </p:blipFill>
            <p:spPr>
              <a:xfrm>
                <a:off x="1465200" y="-195120"/>
                <a:ext cx="6232680" cy="623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3" name=""/>
              <p:cNvSpPr/>
              <p:nvPr/>
            </p:nvSpPr>
            <p:spPr>
              <a:xfrm>
                <a:off x="2379600" y="717120"/>
                <a:ext cx="4404600" cy="440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64" name="椭圆 59"/>
            <p:cNvSpPr/>
            <p:nvPr/>
          </p:nvSpPr>
          <p:spPr>
            <a:xfrm>
              <a:off x="3261960" y="1599480"/>
              <a:ext cx="2640240" cy="2642400"/>
            </a:xfrm>
            <a:prstGeom prst="ellipse">
              <a:avLst/>
            </a:prstGeom>
            <a:gradFill rotWithShape="0">
              <a:gsLst>
                <a:gs pos="0">
                  <a:srgbClr val="ffe57a">
                    <a:alpha val="50196"/>
                  </a:srgbClr>
                </a:gs>
                <a:gs pos="100000">
                  <a:srgbClr val="f7ba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5" name="Group 9"/>
          <p:cNvGrpSpPr/>
          <p:nvPr/>
        </p:nvGrpSpPr>
        <p:grpSpPr>
          <a:xfrm>
            <a:off x="3534120" y="2688840"/>
            <a:ext cx="2299680" cy="2243880"/>
            <a:chOff x="3534120" y="2688840"/>
            <a:chExt cx="2299680" cy="2243880"/>
          </a:xfrm>
        </p:grpSpPr>
        <p:pic>
          <p:nvPicPr>
            <p:cNvPr id="366" name="Picture 10" descr="未标题-5"/>
            <p:cNvPicPr/>
            <p:nvPr/>
          </p:nvPicPr>
          <p:blipFill>
            <a:blip r:embed="rId4"/>
            <a:stretch/>
          </p:blipFill>
          <p:spPr>
            <a:xfrm rot="20859000">
              <a:off x="3711600" y="2874960"/>
              <a:ext cx="1944360" cy="18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11" descr="未标题-8"/>
            <p:cNvPicPr/>
            <p:nvPr/>
          </p:nvPicPr>
          <p:blipFill>
            <a:blip r:embed="rId5"/>
            <a:stretch/>
          </p:blipFill>
          <p:spPr>
            <a:xfrm rot="20859000">
              <a:off x="4541760" y="3140640"/>
              <a:ext cx="186120" cy="457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8" name="Picture 12" descr="图片2副本"/>
          <p:cNvPicPr/>
          <p:nvPr/>
        </p:nvPicPr>
        <p:blipFill>
          <a:blip r:embed="rId6"/>
          <a:srcRect l="-7435" t="3101" r="0" b="18965"/>
          <a:stretch/>
        </p:blipFill>
        <p:spPr>
          <a:xfrm>
            <a:off x="4468680" y="2073240"/>
            <a:ext cx="424080" cy="1231920"/>
          </a:xfrm>
          <a:prstGeom prst="rect">
            <a:avLst/>
          </a:prstGeom>
          <a:ln w="0">
            <a:noFill/>
          </a:ln>
        </p:spPr>
      </p:pic>
      <p:sp>
        <p:nvSpPr>
          <p:cNvPr id="369" name="Freeform 13"/>
          <p:cNvSpPr/>
          <p:nvPr/>
        </p:nvSpPr>
        <p:spPr>
          <a:xfrm>
            <a:off x="3782880" y="2824200"/>
            <a:ext cx="798480" cy="270000"/>
          </a:xfrm>
          <a:custGeom>
            <a:avLst/>
            <a:gdLst/>
            <a:ahLst/>
            <a:rect l="l" t="t" r="r" b="b"/>
            <a:pathLst>
              <a:path w="317" h="107">
                <a:moveTo>
                  <a:pt x="0" y="101"/>
                </a:moveTo>
                <a:cubicBezTo>
                  <a:pt x="184" y="0"/>
                  <a:pt x="317" y="107"/>
                  <a:pt x="317" y="107"/>
                </a:cubicBezTo>
              </a:path>
            </a:pathLst>
          </a:custGeom>
          <a:noFill/>
          <a:ln w="0">
            <a:solidFill>
              <a:srgbClr val="dcd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Freeform 14"/>
          <p:cNvSpPr/>
          <p:nvPr/>
        </p:nvSpPr>
        <p:spPr>
          <a:xfrm>
            <a:off x="3440160" y="3078000"/>
            <a:ext cx="1060560" cy="1392480"/>
          </a:xfrm>
          <a:custGeom>
            <a:avLst/>
            <a:gdLst/>
            <a:ahLst/>
            <a:rect l="l" t="t" r="r" b="b"/>
            <a:pathLst>
              <a:path w="421" h="552">
                <a:moveTo>
                  <a:pt x="421" y="552"/>
                </a:moveTo>
                <a:cubicBezTo>
                  <a:pt x="250" y="387"/>
                  <a:pt x="128" y="264"/>
                  <a:pt x="128" y="264"/>
                </a:cubicBezTo>
                <a:cubicBezTo>
                  <a:pt x="0" y="91"/>
                  <a:pt x="136" y="0"/>
                  <a:pt x="136" y="0"/>
                </a:cubicBezTo>
              </a:path>
            </a:pathLst>
          </a:custGeom>
          <a:noFill/>
          <a:ln w="0">
            <a:solidFill>
              <a:srgbClr val="dcd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Freeform 15"/>
          <p:cNvSpPr/>
          <p:nvPr/>
        </p:nvSpPr>
        <p:spPr>
          <a:xfrm>
            <a:off x="4500720" y="2959200"/>
            <a:ext cx="1217520" cy="1511280"/>
          </a:xfrm>
          <a:custGeom>
            <a:avLst/>
            <a:gdLst/>
            <a:ahLst/>
            <a:rect l="l" t="t" r="r" b="b"/>
            <a:pathLst>
              <a:path w="483" h="599">
                <a:moveTo>
                  <a:pt x="299" y="0"/>
                </a:moveTo>
                <a:cubicBezTo>
                  <a:pt x="360" y="19"/>
                  <a:pt x="483" y="150"/>
                  <a:pt x="395" y="266"/>
                </a:cubicBezTo>
                <a:cubicBezTo>
                  <a:pt x="283" y="413"/>
                  <a:pt x="139" y="504"/>
                  <a:pt x="0" y="599"/>
                </a:cubicBezTo>
              </a:path>
            </a:pathLst>
          </a:custGeom>
          <a:noFill/>
          <a:ln w="0">
            <a:solidFill>
              <a:srgbClr val="dcd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reeform 16"/>
          <p:cNvSpPr/>
          <p:nvPr/>
        </p:nvSpPr>
        <p:spPr>
          <a:xfrm>
            <a:off x="4610160" y="2859120"/>
            <a:ext cx="644400" cy="241200"/>
          </a:xfrm>
          <a:custGeom>
            <a:avLst/>
            <a:gdLst/>
            <a:ahLst/>
            <a:rect l="l" t="t" r="r" b="b"/>
            <a:pathLst>
              <a:path w="256" h="96">
                <a:moveTo>
                  <a:pt x="0" y="96"/>
                </a:moveTo>
                <a:cubicBezTo>
                  <a:pt x="0" y="96"/>
                  <a:pt x="130" y="0"/>
                  <a:pt x="256" y="40"/>
                </a:cubicBezTo>
              </a:path>
            </a:pathLst>
          </a:custGeom>
          <a:noFill/>
          <a:ln w="0">
            <a:solidFill>
              <a:srgbClr val="dcd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弧形 61"/>
          <p:cNvSpPr/>
          <p:nvPr/>
        </p:nvSpPr>
        <p:spPr>
          <a:xfrm>
            <a:off x="550800" y="91440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89693" y="0"/>
                </a:moveTo>
                <a:cubicBezTo>
                  <a:pt x="139230" y="0"/>
                  <a:pt x="179387" y="40513"/>
                  <a:pt x="179387" y="90488"/>
                </a:cubicBezTo>
                <a:lnTo>
                  <a:pt x="89694" y="90488"/>
                </a:lnTo>
                <a:cubicBezTo>
                  <a:pt x="89694" y="60325"/>
                  <a:pt x="89693" y="30163"/>
                  <a:pt x="89693" y="0"/>
                </a:cubicBezTo>
                <a:close/>
              </a:path>
              <a:path fill="none" w="179387" h="180975">
                <a:moveTo>
                  <a:pt x="89693" y="0"/>
                </a:moveTo>
                <a:cubicBezTo>
                  <a:pt x="139230" y="0"/>
                  <a:pt x="179387" y="40513"/>
                  <a:pt x="179387" y="90488"/>
                </a:cubicBezTo>
              </a:path>
            </a:pathLst>
          </a:custGeom>
          <a:noFill/>
          <a:ln w="324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任意多边形 62"/>
          <p:cNvSpPr/>
          <p:nvPr/>
        </p:nvSpPr>
        <p:spPr>
          <a:xfrm flipH="1">
            <a:off x="1116000" y="2900520"/>
            <a:ext cx="123840" cy="198360"/>
          </a:xfrm>
          <a:custGeom>
            <a:avLst/>
            <a:gdLst/>
            <a:ahLst/>
            <a:rect l="l" t="t" r="r" b="b"/>
            <a:pathLst>
              <a:path w="451387" h="718004">
                <a:moveTo>
                  <a:pt x="813" y="0"/>
                </a:moveTo>
                <a:cubicBezTo>
                  <a:pt x="166465" y="46382"/>
                  <a:pt x="332117" y="92765"/>
                  <a:pt x="332117" y="212035"/>
                </a:cubicBezTo>
                <a:cubicBezTo>
                  <a:pt x="332117" y="331305"/>
                  <a:pt x="-19065" y="682488"/>
                  <a:pt x="813" y="715618"/>
                </a:cubicBezTo>
                <a:cubicBezTo>
                  <a:pt x="20691" y="748748"/>
                  <a:pt x="349787" y="426279"/>
                  <a:pt x="451387" y="410818"/>
                </a:cubicBezTo>
              </a:path>
            </a:pathLst>
          </a:custGeom>
          <a:noFill/>
          <a:ln w="324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任意多边形 63"/>
          <p:cNvSpPr/>
          <p:nvPr/>
        </p:nvSpPr>
        <p:spPr>
          <a:xfrm>
            <a:off x="2340000" y="1808280"/>
            <a:ext cx="252360" cy="177840"/>
          </a:xfrm>
          <a:custGeom>
            <a:avLst/>
            <a:gdLst/>
            <a:ahLst/>
            <a:rect l="l" t="t" r="r" b="b"/>
            <a:pathLst>
              <a:path w="505425" h="358035">
                <a:moveTo>
                  <a:pt x="66261" y="0"/>
                </a:moveTo>
                <a:cubicBezTo>
                  <a:pt x="75096" y="26504"/>
                  <a:pt x="92765" y="51575"/>
                  <a:pt x="92765" y="79513"/>
                </a:cubicBezTo>
                <a:cubicBezTo>
                  <a:pt x="92765" y="92007"/>
                  <a:pt x="71849" y="94843"/>
                  <a:pt x="66261" y="106018"/>
                </a:cubicBezTo>
                <a:cubicBezTo>
                  <a:pt x="53767" y="131007"/>
                  <a:pt x="48591" y="159027"/>
                  <a:pt x="39756" y="185531"/>
                </a:cubicBezTo>
                <a:cubicBezTo>
                  <a:pt x="35339" y="198783"/>
                  <a:pt x="32751" y="212793"/>
                  <a:pt x="26504" y="225287"/>
                </a:cubicBezTo>
                <a:lnTo>
                  <a:pt x="0" y="278296"/>
                </a:lnTo>
                <a:cubicBezTo>
                  <a:pt x="4417" y="300383"/>
                  <a:pt x="-1168" y="327253"/>
                  <a:pt x="13252" y="344557"/>
                </a:cubicBezTo>
                <a:cubicBezTo>
                  <a:pt x="24912" y="358549"/>
                  <a:pt x="48060" y="358483"/>
                  <a:pt x="66261" y="357809"/>
                </a:cubicBezTo>
                <a:cubicBezTo>
                  <a:pt x="168175" y="354034"/>
                  <a:pt x="269461" y="340140"/>
                  <a:pt x="371061" y="331305"/>
                </a:cubicBezTo>
                <a:cubicBezTo>
                  <a:pt x="499119" y="254470"/>
                  <a:pt x="547478" y="283737"/>
                  <a:pt x="463826" y="212035"/>
                </a:cubicBezTo>
                <a:cubicBezTo>
                  <a:pt x="362330" y="125038"/>
                  <a:pt x="438735" y="200199"/>
                  <a:pt x="397565" y="159026"/>
                </a:cubicBezTo>
              </a:path>
            </a:pathLst>
          </a:custGeom>
          <a:noFill/>
          <a:ln w="324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任意多边形 64"/>
          <p:cNvSpPr/>
          <p:nvPr/>
        </p:nvSpPr>
        <p:spPr>
          <a:xfrm flipH="1">
            <a:off x="7163640" y="3833640"/>
            <a:ext cx="219240" cy="290520"/>
          </a:xfrm>
          <a:custGeom>
            <a:avLst/>
            <a:gdLst/>
            <a:ahLst/>
            <a:rect l="l" t="t" r="r" b="b"/>
            <a:pathLst>
              <a:path w="450574" h="596348">
                <a:moveTo>
                  <a:pt x="66261" y="0"/>
                </a:moveTo>
                <a:cubicBezTo>
                  <a:pt x="48592" y="26504"/>
                  <a:pt x="22406" y="49002"/>
                  <a:pt x="13253" y="79513"/>
                </a:cubicBezTo>
                <a:cubicBezTo>
                  <a:pt x="8019" y="96958"/>
                  <a:pt x="19330" y="115781"/>
                  <a:pt x="26505" y="132522"/>
                </a:cubicBezTo>
                <a:cubicBezTo>
                  <a:pt x="43925" y="173170"/>
                  <a:pt x="64668" y="178317"/>
                  <a:pt x="92766" y="212035"/>
                </a:cubicBezTo>
                <a:cubicBezTo>
                  <a:pt x="102962" y="224271"/>
                  <a:pt x="107034" y="241596"/>
                  <a:pt x="119270" y="251792"/>
                </a:cubicBezTo>
                <a:cubicBezTo>
                  <a:pt x="134446" y="264439"/>
                  <a:pt x="154609" y="269461"/>
                  <a:pt x="172279" y="278296"/>
                </a:cubicBezTo>
                <a:cubicBezTo>
                  <a:pt x="185531" y="291548"/>
                  <a:pt x="197042" y="306807"/>
                  <a:pt x="212035" y="318052"/>
                </a:cubicBezTo>
                <a:cubicBezTo>
                  <a:pt x="232641" y="333507"/>
                  <a:pt x="256359" y="344309"/>
                  <a:pt x="278296" y="357809"/>
                </a:cubicBezTo>
                <a:cubicBezTo>
                  <a:pt x="313788" y="379650"/>
                  <a:pt x="349638" y="400954"/>
                  <a:pt x="384313" y="424070"/>
                </a:cubicBezTo>
                <a:cubicBezTo>
                  <a:pt x="397565" y="432905"/>
                  <a:pt x="411633" y="440624"/>
                  <a:pt x="424070" y="450574"/>
                </a:cubicBezTo>
                <a:cubicBezTo>
                  <a:pt x="433826" y="458379"/>
                  <a:pt x="441739" y="468244"/>
                  <a:pt x="450574" y="477079"/>
                </a:cubicBezTo>
                <a:cubicBezTo>
                  <a:pt x="441739" y="499166"/>
                  <a:pt x="439299" y="525065"/>
                  <a:pt x="424070" y="543339"/>
                </a:cubicBezTo>
                <a:cubicBezTo>
                  <a:pt x="415127" y="554070"/>
                  <a:pt x="397745" y="552754"/>
                  <a:pt x="384313" y="556592"/>
                </a:cubicBezTo>
                <a:cubicBezTo>
                  <a:pt x="366801" y="561596"/>
                  <a:pt x="348750" y="564611"/>
                  <a:pt x="331305" y="569844"/>
                </a:cubicBezTo>
                <a:cubicBezTo>
                  <a:pt x="304545" y="577872"/>
                  <a:pt x="251792" y="596348"/>
                  <a:pt x="251792" y="596348"/>
                </a:cubicBezTo>
                <a:lnTo>
                  <a:pt x="0" y="583096"/>
                </a:lnTo>
              </a:path>
            </a:pathLst>
          </a:custGeom>
          <a:noFill/>
          <a:ln w="324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任意多边形 83"/>
          <p:cNvSpPr/>
          <p:nvPr/>
        </p:nvSpPr>
        <p:spPr>
          <a:xfrm flipH="1">
            <a:off x="6732720" y="1697040"/>
            <a:ext cx="218880" cy="289080"/>
          </a:xfrm>
          <a:custGeom>
            <a:avLst/>
            <a:gdLst/>
            <a:ahLst/>
            <a:rect l="l" t="t" r="r" b="b"/>
            <a:pathLst>
              <a:path w="450574" h="596348">
                <a:moveTo>
                  <a:pt x="66261" y="0"/>
                </a:moveTo>
                <a:cubicBezTo>
                  <a:pt x="48592" y="26504"/>
                  <a:pt x="22406" y="49002"/>
                  <a:pt x="13253" y="79513"/>
                </a:cubicBezTo>
                <a:cubicBezTo>
                  <a:pt x="8019" y="96958"/>
                  <a:pt x="19330" y="115781"/>
                  <a:pt x="26505" y="132522"/>
                </a:cubicBezTo>
                <a:cubicBezTo>
                  <a:pt x="43925" y="173170"/>
                  <a:pt x="64668" y="178317"/>
                  <a:pt x="92766" y="212035"/>
                </a:cubicBezTo>
                <a:cubicBezTo>
                  <a:pt x="102962" y="224271"/>
                  <a:pt x="107034" y="241596"/>
                  <a:pt x="119270" y="251792"/>
                </a:cubicBezTo>
                <a:cubicBezTo>
                  <a:pt x="134446" y="264439"/>
                  <a:pt x="154609" y="269461"/>
                  <a:pt x="172279" y="278296"/>
                </a:cubicBezTo>
                <a:cubicBezTo>
                  <a:pt x="185531" y="291548"/>
                  <a:pt x="197042" y="306807"/>
                  <a:pt x="212035" y="318052"/>
                </a:cubicBezTo>
                <a:cubicBezTo>
                  <a:pt x="232641" y="333507"/>
                  <a:pt x="256359" y="344309"/>
                  <a:pt x="278296" y="357809"/>
                </a:cubicBezTo>
                <a:cubicBezTo>
                  <a:pt x="313788" y="379650"/>
                  <a:pt x="349638" y="400954"/>
                  <a:pt x="384313" y="424070"/>
                </a:cubicBezTo>
                <a:cubicBezTo>
                  <a:pt x="397565" y="432905"/>
                  <a:pt x="411633" y="440624"/>
                  <a:pt x="424070" y="450574"/>
                </a:cubicBezTo>
                <a:cubicBezTo>
                  <a:pt x="433826" y="458379"/>
                  <a:pt x="441739" y="468244"/>
                  <a:pt x="450574" y="477079"/>
                </a:cubicBezTo>
                <a:cubicBezTo>
                  <a:pt x="441739" y="499166"/>
                  <a:pt x="439299" y="525065"/>
                  <a:pt x="424070" y="543339"/>
                </a:cubicBezTo>
                <a:cubicBezTo>
                  <a:pt x="415127" y="554070"/>
                  <a:pt x="397745" y="552754"/>
                  <a:pt x="384313" y="556592"/>
                </a:cubicBezTo>
                <a:cubicBezTo>
                  <a:pt x="366801" y="561596"/>
                  <a:pt x="348750" y="564611"/>
                  <a:pt x="331305" y="569844"/>
                </a:cubicBezTo>
                <a:cubicBezTo>
                  <a:pt x="304545" y="577872"/>
                  <a:pt x="251792" y="596348"/>
                  <a:pt x="251792" y="596348"/>
                </a:cubicBezTo>
                <a:lnTo>
                  <a:pt x="0" y="583096"/>
                </a:lnTo>
              </a:path>
            </a:pathLst>
          </a:custGeom>
          <a:noFill/>
          <a:ln w="324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任意多边形 84"/>
          <p:cNvSpPr/>
          <p:nvPr/>
        </p:nvSpPr>
        <p:spPr>
          <a:xfrm flipH="1" rot="9975000">
            <a:off x="6155280" y="1004760"/>
            <a:ext cx="219240" cy="290160"/>
          </a:xfrm>
          <a:custGeom>
            <a:avLst/>
            <a:gdLst/>
            <a:ahLst/>
            <a:rect l="l" t="t" r="r" b="b"/>
            <a:pathLst>
              <a:path w="450574" h="596348">
                <a:moveTo>
                  <a:pt x="66261" y="0"/>
                </a:moveTo>
                <a:cubicBezTo>
                  <a:pt x="48592" y="26504"/>
                  <a:pt x="22406" y="49002"/>
                  <a:pt x="13253" y="79513"/>
                </a:cubicBezTo>
                <a:cubicBezTo>
                  <a:pt x="8019" y="96958"/>
                  <a:pt x="19330" y="115781"/>
                  <a:pt x="26505" y="132522"/>
                </a:cubicBezTo>
                <a:cubicBezTo>
                  <a:pt x="43925" y="173170"/>
                  <a:pt x="64668" y="178317"/>
                  <a:pt x="92766" y="212035"/>
                </a:cubicBezTo>
                <a:cubicBezTo>
                  <a:pt x="102962" y="224271"/>
                  <a:pt x="107034" y="241596"/>
                  <a:pt x="119270" y="251792"/>
                </a:cubicBezTo>
                <a:cubicBezTo>
                  <a:pt x="134446" y="264439"/>
                  <a:pt x="154609" y="269461"/>
                  <a:pt x="172279" y="278296"/>
                </a:cubicBezTo>
                <a:cubicBezTo>
                  <a:pt x="185531" y="291548"/>
                  <a:pt x="197042" y="306807"/>
                  <a:pt x="212035" y="318052"/>
                </a:cubicBezTo>
                <a:cubicBezTo>
                  <a:pt x="232641" y="333507"/>
                  <a:pt x="256359" y="344309"/>
                  <a:pt x="278296" y="357809"/>
                </a:cubicBezTo>
                <a:cubicBezTo>
                  <a:pt x="313788" y="379650"/>
                  <a:pt x="349638" y="400954"/>
                  <a:pt x="384313" y="424070"/>
                </a:cubicBezTo>
                <a:cubicBezTo>
                  <a:pt x="397565" y="432905"/>
                  <a:pt x="411633" y="440624"/>
                  <a:pt x="424070" y="450574"/>
                </a:cubicBezTo>
                <a:cubicBezTo>
                  <a:pt x="433826" y="458379"/>
                  <a:pt x="441739" y="468244"/>
                  <a:pt x="450574" y="477079"/>
                </a:cubicBezTo>
                <a:cubicBezTo>
                  <a:pt x="441739" y="499166"/>
                  <a:pt x="439299" y="525065"/>
                  <a:pt x="424070" y="543339"/>
                </a:cubicBezTo>
                <a:cubicBezTo>
                  <a:pt x="415127" y="554070"/>
                  <a:pt x="397745" y="552754"/>
                  <a:pt x="384313" y="556592"/>
                </a:cubicBezTo>
                <a:cubicBezTo>
                  <a:pt x="366801" y="561596"/>
                  <a:pt x="348750" y="564611"/>
                  <a:pt x="331305" y="569844"/>
                </a:cubicBezTo>
                <a:cubicBezTo>
                  <a:pt x="304545" y="577872"/>
                  <a:pt x="251792" y="596348"/>
                  <a:pt x="251792" y="596348"/>
                </a:cubicBezTo>
                <a:lnTo>
                  <a:pt x="0" y="583096"/>
                </a:lnTo>
              </a:path>
            </a:pathLst>
          </a:custGeom>
          <a:noFill/>
          <a:ln w="324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Oval 279"/>
          <p:cNvSpPr/>
          <p:nvPr/>
        </p:nvSpPr>
        <p:spPr>
          <a:xfrm>
            <a:off x="3933720" y="2631960"/>
            <a:ext cx="1305000" cy="130032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Oval 280"/>
          <p:cNvSpPr/>
          <p:nvPr/>
        </p:nvSpPr>
        <p:spPr>
          <a:xfrm>
            <a:off x="3454560" y="2154240"/>
            <a:ext cx="2263680" cy="225576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Oval 282"/>
          <p:cNvSpPr/>
          <p:nvPr/>
        </p:nvSpPr>
        <p:spPr>
          <a:xfrm>
            <a:off x="4330800" y="3029040"/>
            <a:ext cx="511200" cy="50616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Oval 282"/>
          <p:cNvSpPr/>
          <p:nvPr/>
        </p:nvSpPr>
        <p:spPr>
          <a:xfrm>
            <a:off x="4203720" y="2900520"/>
            <a:ext cx="765000" cy="76356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9468000" y="241920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8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8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8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3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0">
                                  <p:stCondLst>
                                    <p:cond delay="3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0">
                                  <p:stCondLst>
                                    <p:cond delay="3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3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400" fill="hold"/>
                                        <p:tgtEl>
                                          <p:spTgt spid="368"/>
                                        </p:tgtEl>
                                      </p:cBhvr>
                                      <p:to x="10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0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800" fill="hold"/>
                                        <p:tgtEl>
                                          <p:spTgt spid="368"/>
                                        </p:tgtEl>
                                      </p:cBhvr>
                                      <p:to x="10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42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400" fill="hold"/>
                                        <p:tgtEl>
                                          <p:spTgt spid="360"/>
                                        </p:tgtEl>
                                      </p:cBhvr>
                                      <p:to x="10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4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" dur="800" fill="hold"/>
                                        <p:tgtEl>
                                          <p:spTgt spid="360"/>
                                        </p:tgtEl>
                                      </p:cBhvr>
                                      <p:to x="10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 repeatCount="indefinite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 repeatCount="indefinite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6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18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7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0">
                                  <p:stCondLst>
                                    <p:cond delay="6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18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7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0">
                                  <p:stCondLst>
                                    <p:cond delay="6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18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7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6">
                                  <p:stCondLst>
                                    <p:cond delay="6700"/>
                                  </p:stCondLst>
                                  <p:childTnLst>
                                    <p:animScale>
                                      <p:cBhvr>
                                        <p:cTn id="89" dur="1800" fill="hold"/>
                                        <p:tgtEl>
                                          <p:spTgt spid="3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6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8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7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6">
                                  <p:stCondLst>
                                    <p:cond delay="6700"/>
                                  </p:stCondLst>
                                  <p:childTnLst>
                                    <p:animScale>
                                      <p:cBhvr>
                                        <p:cTn id="97" dur="1800" fill="hold"/>
                                        <p:tgtEl>
                                          <p:spTgt spid="380"/>
                                        </p:tgtEl>
                                      </p:cBhvr>
                                      <p:to x="180000" y="180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0">
                                  <p:stCondLst>
                                    <p:cond delay="6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8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7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6">
                                  <p:stCondLst>
                                    <p:cond delay="6700"/>
                                  </p:stCondLst>
                                  <p:childTnLst>
                                    <p:animScale>
                                      <p:cBhvr>
                                        <p:cTn id="105" dur="1800" fill="hold"/>
                                        <p:tgtEl>
                                          <p:spTgt spid="381"/>
                                        </p:tgtEl>
                                      </p:cBhvr>
                                      <p:to x="20000" y="20000"/>
                                    </p:animScale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6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18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7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6">
                                  <p:stCondLst>
                                    <p:cond delay="6700"/>
                                  </p:stCondLst>
                                  <p:childTnLst>
                                    <p:animScale>
                                      <p:cBhvr>
                                        <p:cTn id="122" dur="1800" fill="hold"/>
                                        <p:tgtEl>
                                          <p:spTgt spid="3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6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18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7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" fill="hold"/>
                                        <p:tgtEl>
                                          <p:spTgt spid="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0" y="0"/>
            <a:ext cx="10152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8"/>
          <p:cNvSpPr/>
          <p:nvPr/>
        </p:nvSpPr>
        <p:spPr>
          <a:xfrm>
            <a:off x="523800" y="0"/>
            <a:ext cx="10800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9"/>
          <p:cNvSpPr/>
          <p:nvPr/>
        </p:nvSpPr>
        <p:spPr>
          <a:xfrm>
            <a:off x="177840" y="0"/>
            <a:ext cx="4752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Rectangle 10"/>
          <p:cNvSpPr/>
          <p:nvPr/>
        </p:nvSpPr>
        <p:spPr>
          <a:xfrm>
            <a:off x="295200" y="0"/>
            <a:ext cx="16524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11"/>
          <p:cNvSpPr/>
          <p:nvPr/>
        </p:nvSpPr>
        <p:spPr>
          <a:xfrm>
            <a:off x="743040" y="0"/>
            <a:ext cx="10296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Rectangle 12"/>
          <p:cNvSpPr/>
          <p:nvPr/>
        </p:nvSpPr>
        <p:spPr>
          <a:xfrm>
            <a:off x="1268280" y="0"/>
            <a:ext cx="10800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13"/>
          <p:cNvSpPr/>
          <p:nvPr/>
        </p:nvSpPr>
        <p:spPr>
          <a:xfrm>
            <a:off x="922320" y="0"/>
            <a:ext cx="4752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Rectangle 14"/>
          <p:cNvSpPr/>
          <p:nvPr/>
        </p:nvSpPr>
        <p:spPr>
          <a:xfrm>
            <a:off x="1039680" y="0"/>
            <a:ext cx="1652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Rectangle 15"/>
          <p:cNvSpPr/>
          <p:nvPr/>
        </p:nvSpPr>
        <p:spPr>
          <a:xfrm>
            <a:off x="1487520" y="0"/>
            <a:ext cx="10152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Freeform 16"/>
          <p:cNvSpPr/>
          <p:nvPr/>
        </p:nvSpPr>
        <p:spPr>
          <a:xfrm>
            <a:off x="2008080" y="0"/>
            <a:ext cx="111240" cy="5149800"/>
          </a:xfrm>
          <a:custGeom>
            <a:avLst/>
            <a:gdLst/>
            <a:ahLst/>
            <a:rect l="l" t="t" r="r" b="b"/>
            <a:pathLst>
              <a:path w="35" h="1620">
                <a:moveTo>
                  <a:pt x="5" y="774"/>
                </a:moveTo>
                <a:cubicBezTo>
                  <a:pt x="0" y="747"/>
                  <a:pt x="14" y="728"/>
                  <a:pt x="20" y="711"/>
                </a:cubicBezTo>
                <a:cubicBezTo>
                  <a:pt x="20" y="741"/>
                  <a:pt x="20" y="741"/>
                  <a:pt x="20" y="741"/>
                </a:cubicBezTo>
                <a:cubicBezTo>
                  <a:pt x="22" y="755"/>
                  <a:pt x="28" y="768"/>
                  <a:pt x="35" y="778"/>
                </a:cubicBezTo>
                <a:cubicBezTo>
                  <a:pt x="35" y="0"/>
                  <a:pt x="35" y="0"/>
                  <a:pt x="35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1620"/>
                  <a:pt x="1" y="1620"/>
                  <a:pt x="1" y="1620"/>
                </a:cubicBezTo>
                <a:cubicBezTo>
                  <a:pt x="35" y="1620"/>
                  <a:pt x="35" y="1620"/>
                  <a:pt x="35" y="1620"/>
                </a:cubicBezTo>
                <a:cubicBezTo>
                  <a:pt x="35" y="822"/>
                  <a:pt x="35" y="822"/>
                  <a:pt x="35" y="822"/>
                </a:cubicBezTo>
                <a:cubicBezTo>
                  <a:pt x="20" y="809"/>
                  <a:pt x="9" y="793"/>
                  <a:pt x="5" y="774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17"/>
          <p:cNvSpPr/>
          <p:nvPr/>
        </p:nvSpPr>
        <p:spPr>
          <a:xfrm>
            <a:off x="1665360" y="0"/>
            <a:ext cx="4428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18"/>
          <p:cNvSpPr/>
          <p:nvPr/>
        </p:nvSpPr>
        <p:spPr>
          <a:xfrm>
            <a:off x="1782720" y="0"/>
            <a:ext cx="16524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Freeform 19"/>
          <p:cNvSpPr/>
          <p:nvPr/>
        </p:nvSpPr>
        <p:spPr>
          <a:xfrm>
            <a:off x="2230560" y="2784600"/>
            <a:ext cx="102960" cy="2365200"/>
          </a:xfrm>
          <a:custGeom>
            <a:avLst/>
            <a:gdLst/>
            <a:ahLst/>
            <a:rect l="l" t="t" r="r" b="b"/>
            <a:pathLst>
              <a:path w="32" h="744">
                <a:moveTo>
                  <a:pt x="0" y="744"/>
                </a:moveTo>
                <a:cubicBezTo>
                  <a:pt x="32" y="744"/>
                  <a:pt x="32" y="744"/>
                  <a:pt x="32" y="744"/>
                </a:cubicBezTo>
                <a:cubicBezTo>
                  <a:pt x="32" y="9"/>
                  <a:pt x="32" y="9"/>
                  <a:pt x="32" y="9"/>
                </a:cubicBezTo>
                <a:cubicBezTo>
                  <a:pt x="21" y="7"/>
                  <a:pt x="10" y="4"/>
                  <a:pt x="0" y="0"/>
                </a:cubicBezTo>
                <a:lnTo>
                  <a:pt x="0" y="744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Freeform 20"/>
          <p:cNvSpPr/>
          <p:nvPr/>
        </p:nvSpPr>
        <p:spPr>
          <a:xfrm>
            <a:off x="2230560" y="0"/>
            <a:ext cx="102960" cy="2498760"/>
          </a:xfrm>
          <a:custGeom>
            <a:avLst/>
            <a:gdLst/>
            <a:ahLst/>
            <a:rect l="l" t="t" r="r" b="b"/>
            <a:pathLst>
              <a:path w="32" h="786">
                <a:moveTo>
                  <a:pt x="3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775"/>
                  <a:pt x="0" y="775"/>
                  <a:pt x="0" y="775"/>
                </a:cubicBezTo>
                <a:cubicBezTo>
                  <a:pt x="10" y="780"/>
                  <a:pt x="21" y="784"/>
                  <a:pt x="32" y="786"/>
                </a:cubicBezTo>
                <a:lnTo>
                  <a:pt x="32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Freeform 21"/>
          <p:cNvSpPr/>
          <p:nvPr/>
        </p:nvSpPr>
        <p:spPr>
          <a:xfrm>
            <a:off x="2755800" y="0"/>
            <a:ext cx="108000" cy="2232000"/>
          </a:xfrm>
          <a:custGeom>
            <a:avLst/>
            <a:gdLst/>
            <a:ahLst/>
            <a:rect l="l" t="t" r="r" b="b"/>
            <a:pathLst>
              <a:path w="34" h="702">
                <a:moveTo>
                  <a:pt x="0" y="702"/>
                </a:moveTo>
                <a:cubicBezTo>
                  <a:pt x="20" y="678"/>
                  <a:pt x="32" y="639"/>
                  <a:pt x="34" y="626"/>
                </a:cubicBezTo>
                <a:cubicBezTo>
                  <a:pt x="34" y="0"/>
                  <a:pt x="34" y="0"/>
                  <a:pt x="34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Freeform 22"/>
          <p:cNvSpPr/>
          <p:nvPr/>
        </p:nvSpPr>
        <p:spPr>
          <a:xfrm>
            <a:off x="2755800" y="2806560"/>
            <a:ext cx="108000" cy="2343240"/>
          </a:xfrm>
          <a:custGeom>
            <a:avLst/>
            <a:gdLst/>
            <a:ahLst/>
            <a:rect l="l" t="t" r="r" b="b"/>
            <a:pathLst>
              <a:path w="34" h="737">
                <a:moveTo>
                  <a:pt x="0" y="737"/>
                </a:moveTo>
                <a:cubicBezTo>
                  <a:pt x="34" y="737"/>
                  <a:pt x="34" y="737"/>
                  <a:pt x="34" y="737"/>
                </a:cubicBezTo>
                <a:cubicBezTo>
                  <a:pt x="34" y="0"/>
                  <a:pt x="34" y="0"/>
                  <a:pt x="34" y="0"/>
                </a:cubicBezTo>
                <a:cubicBezTo>
                  <a:pt x="23" y="6"/>
                  <a:pt x="12" y="12"/>
                  <a:pt x="0" y="17"/>
                </a:cubicBezTo>
                <a:lnTo>
                  <a:pt x="0" y="73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Freeform 23"/>
          <p:cNvSpPr/>
          <p:nvPr/>
        </p:nvSpPr>
        <p:spPr>
          <a:xfrm>
            <a:off x="2409840" y="0"/>
            <a:ext cx="44280" cy="2432160"/>
          </a:xfrm>
          <a:custGeom>
            <a:avLst/>
            <a:gdLst/>
            <a:ahLst/>
            <a:rect l="l" t="t" r="r" b="b"/>
            <a:pathLst>
              <a:path w="14" h="765">
                <a:moveTo>
                  <a:pt x="14" y="765"/>
                </a:moveTo>
                <a:cubicBezTo>
                  <a:pt x="14" y="0"/>
                  <a:pt x="14" y="0"/>
                  <a:pt x="1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765"/>
                  <a:pt x="0" y="765"/>
                  <a:pt x="0" y="765"/>
                </a:cubicBezTo>
                <a:cubicBezTo>
                  <a:pt x="5" y="765"/>
                  <a:pt x="10" y="765"/>
                  <a:pt x="14" y="765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Freeform 24"/>
          <p:cNvSpPr/>
          <p:nvPr/>
        </p:nvSpPr>
        <p:spPr>
          <a:xfrm>
            <a:off x="2409840" y="2898720"/>
            <a:ext cx="44280" cy="2251080"/>
          </a:xfrm>
          <a:custGeom>
            <a:avLst/>
            <a:gdLst/>
            <a:ahLst/>
            <a:rect l="l" t="t" r="r" b="b"/>
            <a:pathLst>
              <a:path w="14" h="708">
                <a:moveTo>
                  <a:pt x="0" y="708"/>
                </a:moveTo>
                <a:cubicBezTo>
                  <a:pt x="14" y="708"/>
                  <a:pt x="14" y="708"/>
                  <a:pt x="14" y="708"/>
                </a:cubicBezTo>
                <a:cubicBezTo>
                  <a:pt x="14" y="0"/>
                  <a:pt x="14" y="0"/>
                  <a:pt x="14" y="0"/>
                </a:cubicBezTo>
                <a:cubicBezTo>
                  <a:pt x="10" y="0"/>
                  <a:pt x="5" y="0"/>
                  <a:pt x="0" y="0"/>
                </a:cubicBezTo>
                <a:lnTo>
                  <a:pt x="0" y="70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Freeform 25"/>
          <p:cNvSpPr/>
          <p:nvPr/>
        </p:nvSpPr>
        <p:spPr>
          <a:xfrm>
            <a:off x="2527200" y="0"/>
            <a:ext cx="165240" cy="2502000"/>
          </a:xfrm>
          <a:custGeom>
            <a:avLst/>
            <a:gdLst/>
            <a:ahLst/>
            <a:rect l="l" t="t" r="r" b="b"/>
            <a:pathLst>
              <a:path w="52" h="787">
                <a:moveTo>
                  <a:pt x="5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787"/>
                  <a:pt x="0" y="787"/>
                  <a:pt x="0" y="787"/>
                </a:cubicBezTo>
                <a:cubicBezTo>
                  <a:pt x="18" y="785"/>
                  <a:pt x="35" y="780"/>
                  <a:pt x="52" y="774"/>
                </a:cubicBezTo>
                <a:lnTo>
                  <a:pt x="52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Freeform 26"/>
          <p:cNvSpPr/>
          <p:nvPr/>
        </p:nvSpPr>
        <p:spPr>
          <a:xfrm>
            <a:off x="2527200" y="2781360"/>
            <a:ext cx="165240" cy="2368440"/>
          </a:xfrm>
          <a:custGeom>
            <a:avLst/>
            <a:gdLst/>
            <a:ahLst/>
            <a:rect l="l" t="t" r="r" b="b"/>
            <a:pathLst>
              <a:path w="52" h="745">
                <a:moveTo>
                  <a:pt x="0" y="12"/>
                </a:moveTo>
                <a:cubicBezTo>
                  <a:pt x="0" y="745"/>
                  <a:pt x="0" y="745"/>
                  <a:pt x="0" y="745"/>
                </a:cubicBezTo>
                <a:cubicBezTo>
                  <a:pt x="52" y="745"/>
                  <a:pt x="52" y="745"/>
                  <a:pt x="52" y="745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4"/>
                  <a:pt x="29" y="8"/>
                  <a:pt x="16" y="10"/>
                </a:cubicBezTo>
                <a:cubicBezTo>
                  <a:pt x="11" y="11"/>
                  <a:pt x="5" y="12"/>
                  <a:pt x="0" y="12"/>
                </a:cubicBez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Freeform 27"/>
          <p:cNvSpPr/>
          <p:nvPr/>
        </p:nvSpPr>
        <p:spPr>
          <a:xfrm>
            <a:off x="2975040" y="2736720"/>
            <a:ext cx="101520" cy="2413080"/>
          </a:xfrm>
          <a:custGeom>
            <a:avLst/>
            <a:gdLst/>
            <a:ahLst/>
            <a:rect l="l" t="t" r="r" b="b"/>
            <a:pathLst>
              <a:path w="32" h="759">
                <a:moveTo>
                  <a:pt x="0" y="759"/>
                </a:moveTo>
                <a:cubicBezTo>
                  <a:pt x="32" y="759"/>
                  <a:pt x="32" y="759"/>
                  <a:pt x="32" y="759"/>
                </a:cubicBezTo>
                <a:cubicBezTo>
                  <a:pt x="32" y="10"/>
                  <a:pt x="32" y="10"/>
                  <a:pt x="32" y="10"/>
                </a:cubicBezTo>
                <a:cubicBezTo>
                  <a:pt x="19" y="7"/>
                  <a:pt x="8" y="6"/>
                  <a:pt x="0" y="0"/>
                </a:cubicBezTo>
                <a:lnTo>
                  <a:pt x="0" y="759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Rectangle 28"/>
          <p:cNvSpPr/>
          <p:nvPr/>
        </p:nvSpPr>
        <p:spPr>
          <a:xfrm>
            <a:off x="2975040" y="0"/>
            <a:ext cx="101520" cy="163656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Rectangle 29"/>
          <p:cNvSpPr/>
          <p:nvPr/>
        </p:nvSpPr>
        <p:spPr>
          <a:xfrm>
            <a:off x="3498840" y="0"/>
            <a:ext cx="108000" cy="156996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Freeform 30"/>
          <p:cNvSpPr/>
          <p:nvPr/>
        </p:nvSpPr>
        <p:spPr>
          <a:xfrm>
            <a:off x="3498840" y="3367080"/>
            <a:ext cx="108000" cy="1782720"/>
          </a:xfrm>
          <a:custGeom>
            <a:avLst/>
            <a:gdLst/>
            <a:ahLst/>
            <a:rect l="l" t="t" r="r" b="b"/>
            <a:pathLst>
              <a:path w="34" h="561">
                <a:moveTo>
                  <a:pt x="0" y="561"/>
                </a:moveTo>
                <a:cubicBezTo>
                  <a:pt x="34" y="561"/>
                  <a:pt x="34" y="561"/>
                  <a:pt x="34" y="561"/>
                </a:cubicBezTo>
                <a:cubicBezTo>
                  <a:pt x="34" y="0"/>
                  <a:pt x="34" y="0"/>
                  <a:pt x="34" y="0"/>
                </a:cubicBezTo>
                <a:cubicBezTo>
                  <a:pt x="24" y="8"/>
                  <a:pt x="14" y="13"/>
                  <a:pt x="0" y="16"/>
                </a:cubicBezTo>
                <a:lnTo>
                  <a:pt x="0" y="561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Rectangle 31"/>
          <p:cNvSpPr/>
          <p:nvPr/>
        </p:nvSpPr>
        <p:spPr>
          <a:xfrm>
            <a:off x="3152880" y="0"/>
            <a:ext cx="44280" cy="1668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Freeform 32"/>
          <p:cNvSpPr/>
          <p:nvPr/>
        </p:nvSpPr>
        <p:spPr>
          <a:xfrm>
            <a:off x="3152880" y="3522600"/>
            <a:ext cx="44280" cy="1627200"/>
          </a:xfrm>
          <a:custGeom>
            <a:avLst/>
            <a:gdLst/>
            <a:ahLst/>
            <a:rect l="l" t="t" r="r" b="b"/>
            <a:pathLst>
              <a:path w="14" h="512">
                <a:moveTo>
                  <a:pt x="0" y="512"/>
                </a:moveTo>
                <a:cubicBezTo>
                  <a:pt x="14" y="512"/>
                  <a:pt x="14" y="512"/>
                  <a:pt x="14" y="512"/>
                </a:cubicBezTo>
                <a:cubicBezTo>
                  <a:pt x="14" y="4"/>
                  <a:pt x="14" y="4"/>
                  <a:pt x="14" y="4"/>
                </a:cubicBezTo>
                <a:cubicBezTo>
                  <a:pt x="9" y="4"/>
                  <a:pt x="5" y="2"/>
                  <a:pt x="0" y="0"/>
                </a:cubicBezTo>
                <a:lnTo>
                  <a:pt x="0" y="51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33"/>
          <p:cNvSpPr/>
          <p:nvPr/>
        </p:nvSpPr>
        <p:spPr>
          <a:xfrm>
            <a:off x="3270240" y="0"/>
            <a:ext cx="165240" cy="1668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34"/>
          <p:cNvSpPr/>
          <p:nvPr/>
        </p:nvSpPr>
        <p:spPr>
          <a:xfrm>
            <a:off x="3270240" y="3427560"/>
            <a:ext cx="165240" cy="1722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Freeform 35"/>
          <p:cNvSpPr/>
          <p:nvPr/>
        </p:nvSpPr>
        <p:spPr>
          <a:xfrm>
            <a:off x="3718080" y="3516480"/>
            <a:ext cx="101520" cy="1633320"/>
          </a:xfrm>
          <a:custGeom>
            <a:avLst/>
            <a:gdLst/>
            <a:ahLst/>
            <a:rect l="l" t="t" r="r" b="b"/>
            <a:pathLst>
              <a:path w="32" h="514">
                <a:moveTo>
                  <a:pt x="0" y="0"/>
                </a:moveTo>
                <a:cubicBezTo>
                  <a:pt x="0" y="514"/>
                  <a:pt x="0" y="514"/>
                  <a:pt x="0" y="514"/>
                </a:cubicBezTo>
                <a:cubicBezTo>
                  <a:pt x="32" y="514"/>
                  <a:pt x="32" y="514"/>
                  <a:pt x="32" y="514"/>
                </a:cubicBezTo>
                <a:cubicBezTo>
                  <a:pt x="32" y="4"/>
                  <a:pt x="32" y="4"/>
                  <a:pt x="32" y="4"/>
                </a:cubicBezTo>
                <a:cubicBezTo>
                  <a:pt x="18" y="4"/>
                  <a:pt x="8" y="3"/>
                  <a:pt x="0" y="0"/>
                </a:cubicBez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36"/>
          <p:cNvSpPr/>
          <p:nvPr/>
        </p:nvSpPr>
        <p:spPr>
          <a:xfrm>
            <a:off x="3718080" y="0"/>
            <a:ext cx="101520" cy="172872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Freeform 37"/>
          <p:cNvSpPr/>
          <p:nvPr/>
        </p:nvSpPr>
        <p:spPr>
          <a:xfrm>
            <a:off x="4243320" y="0"/>
            <a:ext cx="108000" cy="1716120"/>
          </a:xfrm>
          <a:custGeom>
            <a:avLst/>
            <a:gdLst/>
            <a:ahLst/>
            <a:rect l="l" t="t" r="r" b="b"/>
            <a:pathLst>
              <a:path w="34" h="540">
                <a:moveTo>
                  <a:pt x="3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40"/>
                  <a:pt x="0" y="540"/>
                  <a:pt x="0" y="540"/>
                </a:cubicBezTo>
                <a:cubicBezTo>
                  <a:pt x="11" y="540"/>
                  <a:pt x="23" y="540"/>
                  <a:pt x="34" y="540"/>
                </a:cubicBezTo>
                <a:lnTo>
                  <a:pt x="34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Freeform 38"/>
          <p:cNvSpPr/>
          <p:nvPr/>
        </p:nvSpPr>
        <p:spPr>
          <a:xfrm>
            <a:off x="4243320" y="3411360"/>
            <a:ext cx="108000" cy="1738440"/>
          </a:xfrm>
          <a:custGeom>
            <a:avLst/>
            <a:gdLst/>
            <a:ahLst/>
            <a:rect l="l" t="t" r="r" b="b"/>
            <a:pathLst>
              <a:path w="68" h="1095">
                <a:moveTo>
                  <a:pt x="0" y="6"/>
                </a:moveTo>
                <a:lnTo>
                  <a:pt x="0" y="1095"/>
                </a:lnTo>
                <a:lnTo>
                  <a:pt x="68" y="1095"/>
                </a:lnTo>
                <a:lnTo>
                  <a:pt x="68" y="0"/>
                </a:lnTo>
                <a:lnTo>
                  <a:pt x="0" y="6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39"/>
          <p:cNvSpPr/>
          <p:nvPr/>
        </p:nvSpPr>
        <p:spPr>
          <a:xfrm>
            <a:off x="3897360" y="0"/>
            <a:ext cx="44280" cy="1620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Freeform 40"/>
          <p:cNvSpPr/>
          <p:nvPr/>
        </p:nvSpPr>
        <p:spPr>
          <a:xfrm>
            <a:off x="3897360" y="0"/>
            <a:ext cx="44280" cy="1620720"/>
          </a:xfrm>
          <a:custGeom>
            <a:avLst/>
            <a:gdLst/>
            <a:ahLst/>
            <a:rect l="l" t="t" r="r" b="b"/>
            <a:pathLst>
              <a:path w="28" h="1021">
                <a:moveTo>
                  <a:pt x="28" y="0"/>
                </a:moveTo>
                <a:lnTo>
                  <a:pt x="0" y="0"/>
                </a:lnTo>
                <a:lnTo>
                  <a:pt x="0" y="1021"/>
                </a:lnTo>
                <a:lnTo>
                  <a:pt x="28" y="102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Rectangle 41"/>
          <p:cNvSpPr/>
          <p:nvPr/>
        </p:nvSpPr>
        <p:spPr>
          <a:xfrm>
            <a:off x="3897360" y="3433680"/>
            <a:ext cx="44280" cy="1716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Freeform 42"/>
          <p:cNvSpPr/>
          <p:nvPr/>
        </p:nvSpPr>
        <p:spPr>
          <a:xfrm>
            <a:off x="4014720" y="3373560"/>
            <a:ext cx="165240" cy="1776240"/>
          </a:xfrm>
          <a:custGeom>
            <a:avLst/>
            <a:gdLst/>
            <a:ahLst/>
            <a:rect l="l" t="t" r="r" b="b"/>
            <a:pathLst>
              <a:path w="52" h="559">
                <a:moveTo>
                  <a:pt x="29" y="33"/>
                </a:moveTo>
                <a:cubicBezTo>
                  <a:pt x="21" y="38"/>
                  <a:pt x="12" y="41"/>
                  <a:pt x="0" y="42"/>
                </a:cubicBezTo>
                <a:cubicBezTo>
                  <a:pt x="0" y="559"/>
                  <a:pt x="0" y="559"/>
                  <a:pt x="0" y="559"/>
                </a:cubicBezTo>
                <a:cubicBezTo>
                  <a:pt x="52" y="559"/>
                  <a:pt x="52" y="559"/>
                  <a:pt x="52" y="559"/>
                </a:cubicBezTo>
                <a:cubicBezTo>
                  <a:pt x="52" y="0"/>
                  <a:pt x="52" y="0"/>
                  <a:pt x="52" y="0"/>
                </a:cubicBezTo>
                <a:cubicBezTo>
                  <a:pt x="45" y="15"/>
                  <a:pt x="37" y="28"/>
                  <a:pt x="29" y="33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Rectangle 43"/>
          <p:cNvSpPr/>
          <p:nvPr/>
        </p:nvSpPr>
        <p:spPr>
          <a:xfrm>
            <a:off x="4462560" y="3503520"/>
            <a:ext cx="101520" cy="164628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Freeform 44"/>
          <p:cNvSpPr/>
          <p:nvPr/>
        </p:nvSpPr>
        <p:spPr>
          <a:xfrm>
            <a:off x="4462560" y="0"/>
            <a:ext cx="101520" cy="1595520"/>
          </a:xfrm>
          <a:custGeom>
            <a:avLst/>
            <a:gdLst/>
            <a:ahLst/>
            <a:rect l="l" t="t" r="r" b="b"/>
            <a:pathLst>
              <a:path w="32" h="502">
                <a:moveTo>
                  <a:pt x="3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02"/>
                  <a:pt x="0" y="502"/>
                  <a:pt x="0" y="502"/>
                </a:cubicBezTo>
                <a:cubicBezTo>
                  <a:pt x="11" y="502"/>
                  <a:pt x="21" y="502"/>
                  <a:pt x="32" y="502"/>
                </a:cubicBezTo>
                <a:lnTo>
                  <a:pt x="32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45"/>
          <p:cNvSpPr/>
          <p:nvPr/>
        </p:nvSpPr>
        <p:spPr>
          <a:xfrm>
            <a:off x="4986360" y="3909960"/>
            <a:ext cx="108000" cy="123984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Rectangle 46"/>
          <p:cNvSpPr/>
          <p:nvPr/>
        </p:nvSpPr>
        <p:spPr>
          <a:xfrm>
            <a:off x="4986360" y="0"/>
            <a:ext cx="108000" cy="163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Freeform 47"/>
          <p:cNvSpPr/>
          <p:nvPr/>
        </p:nvSpPr>
        <p:spPr>
          <a:xfrm>
            <a:off x="4640400" y="0"/>
            <a:ext cx="44280" cy="1719360"/>
          </a:xfrm>
          <a:custGeom>
            <a:avLst/>
            <a:gdLst/>
            <a:ahLst/>
            <a:rect l="l" t="t" r="r" b="b"/>
            <a:pathLst>
              <a:path w="14" h="541">
                <a:moveTo>
                  <a:pt x="1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41"/>
                  <a:pt x="0" y="541"/>
                  <a:pt x="0" y="541"/>
                </a:cubicBezTo>
                <a:cubicBezTo>
                  <a:pt x="5" y="541"/>
                  <a:pt x="10" y="541"/>
                  <a:pt x="14" y="541"/>
                </a:cubicBezTo>
                <a:lnTo>
                  <a:pt x="1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Freeform 48"/>
          <p:cNvSpPr/>
          <p:nvPr/>
        </p:nvSpPr>
        <p:spPr>
          <a:xfrm>
            <a:off x="4640400" y="3360600"/>
            <a:ext cx="44280" cy="1789200"/>
          </a:xfrm>
          <a:custGeom>
            <a:avLst/>
            <a:gdLst/>
            <a:ahLst/>
            <a:rect l="l" t="t" r="r" b="b"/>
            <a:pathLst>
              <a:path w="14" h="563">
                <a:moveTo>
                  <a:pt x="0" y="17"/>
                </a:moveTo>
                <a:cubicBezTo>
                  <a:pt x="0" y="563"/>
                  <a:pt x="0" y="563"/>
                  <a:pt x="0" y="563"/>
                </a:cubicBezTo>
                <a:cubicBezTo>
                  <a:pt x="14" y="563"/>
                  <a:pt x="14" y="563"/>
                  <a:pt x="14" y="563"/>
                </a:cubicBezTo>
                <a:cubicBezTo>
                  <a:pt x="14" y="0"/>
                  <a:pt x="14" y="0"/>
                  <a:pt x="14" y="0"/>
                </a:cubicBezTo>
                <a:cubicBezTo>
                  <a:pt x="12" y="7"/>
                  <a:pt x="9" y="12"/>
                  <a:pt x="7" y="16"/>
                </a:cubicBezTo>
                <a:cubicBezTo>
                  <a:pt x="5" y="16"/>
                  <a:pt x="2" y="17"/>
                  <a:pt x="0" y="17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49"/>
          <p:cNvSpPr/>
          <p:nvPr/>
        </p:nvSpPr>
        <p:spPr>
          <a:xfrm>
            <a:off x="4757760" y="3795840"/>
            <a:ext cx="165240" cy="1353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Freeform 50"/>
          <p:cNvSpPr/>
          <p:nvPr/>
        </p:nvSpPr>
        <p:spPr>
          <a:xfrm>
            <a:off x="4757760" y="0"/>
            <a:ext cx="165240" cy="1719360"/>
          </a:xfrm>
          <a:custGeom>
            <a:avLst/>
            <a:gdLst/>
            <a:ahLst/>
            <a:rect l="l" t="t" r="r" b="b"/>
            <a:pathLst>
              <a:path w="52" h="541">
                <a:moveTo>
                  <a:pt x="5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41"/>
                  <a:pt x="0" y="541"/>
                  <a:pt x="0" y="541"/>
                </a:cubicBezTo>
                <a:cubicBezTo>
                  <a:pt x="18" y="541"/>
                  <a:pt x="35" y="541"/>
                  <a:pt x="52" y="541"/>
                </a:cubicBezTo>
                <a:lnTo>
                  <a:pt x="52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Freeform 51"/>
          <p:cNvSpPr/>
          <p:nvPr/>
        </p:nvSpPr>
        <p:spPr>
          <a:xfrm>
            <a:off x="5205240" y="3767040"/>
            <a:ext cx="101880" cy="1382760"/>
          </a:xfrm>
          <a:custGeom>
            <a:avLst/>
            <a:gdLst/>
            <a:ahLst/>
            <a:rect l="l" t="t" r="r" b="b"/>
            <a:pathLst>
              <a:path w="32" h="435">
                <a:moveTo>
                  <a:pt x="0" y="0"/>
                </a:moveTo>
                <a:cubicBezTo>
                  <a:pt x="0" y="435"/>
                  <a:pt x="0" y="435"/>
                  <a:pt x="0" y="435"/>
                </a:cubicBezTo>
                <a:cubicBezTo>
                  <a:pt x="32" y="435"/>
                  <a:pt x="32" y="435"/>
                  <a:pt x="32" y="435"/>
                </a:cubicBezTo>
                <a:cubicBezTo>
                  <a:pt x="32" y="0"/>
                  <a:pt x="32" y="0"/>
                  <a:pt x="32" y="0"/>
                </a:cubicBezTo>
                <a:cubicBezTo>
                  <a:pt x="31" y="0"/>
                  <a:pt x="30" y="1"/>
                  <a:pt x="30" y="1"/>
                </a:cubicBezTo>
                <a:lnTo>
                  <a:pt x="0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Freeform 52"/>
          <p:cNvSpPr/>
          <p:nvPr/>
        </p:nvSpPr>
        <p:spPr>
          <a:xfrm>
            <a:off x="5730840" y="3618000"/>
            <a:ext cx="108000" cy="1531800"/>
          </a:xfrm>
          <a:custGeom>
            <a:avLst/>
            <a:gdLst/>
            <a:ahLst/>
            <a:rect l="l" t="t" r="r" b="b"/>
            <a:pathLst>
              <a:path w="34" h="482">
                <a:moveTo>
                  <a:pt x="0" y="49"/>
                </a:moveTo>
                <a:cubicBezTo>
                  <a:pt x="0" y="482"/>
                  <a:pt x="0" y="482"/>
                  <a:pt x="0" y="482"/>
                </a:cubicBezTo>
                <a:cubicBezTo>
                  <a:pt x="34" y="482"/>
                  <a:pt x="34" y="482"/>
                  <a:pt x="34" y="482"/>
                </a:cubicBezTo>
                <a:cubicBezTo>
                  <a:pt x="34" y="0"/>
                  <a:pt x="34" y="0"/>
                  <a:pt x="34" y="0"/>
                </a:cubicBezTo>
                <a:cubicBezTo>
                  <a:pt x="26" y="25"/>
                  <a:pt x="18" y="40"/>
                  <a:pt x="0" y="49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Freeform 53"/>
          <p:cNvSpPr/>
          <p:nvPr/>
        </p:nvSpPr>
        <p:spPr>
          <a:xfrm>
            <a:off x="5384880" y="0"/>
            <a:ext cx="44280" cy="1706400"/>
          </a:xfrm>
          <a:custGeom>
            <a:avLst/>
            <a:gdLst/>
            <a:ahLst/>
            <a:rect l="l" t="t" r="r" b="b"/>
            <a:pathLst>
              <a:path w="14" h="537">
                <a:moveTo>
                  <a:pt x="14" y="536"/>
                </a:moveTo>
                <a:cubicBezTo>
                  <a:pt x="14" y="0"/>
                  <a:pt x="14" y="0"/>
                  <a:pt x="1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537"/>
                  <a:pt x="0" y="537"/>
                  <a:pt x="0" y="537"/>
                </a:cubicBezTo>
                <a:cubicBezTo>
                  <a:pt x="4" y="536"/>
                  <a:pt x="9" y="535"/>
                  <a:pt x="14" y="536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Rectangle 54"/>
          <p:cNvSpPr/>
          <p:nvPr/>
        </p:nvSpPr>
        <p:spPr>
          <a:xfrm>
            <a:off x="5384880" y="3719520"/>
            <a:ext cx="44280" cy="1430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Freeform 55"/>
          <p:cNvSpPr/>
          <p:nvPr/>
        </p:nvSpPr>
        <p:spPr>
          <a:xfrm>
            <a:off x="5502240" y="3852720"/>
            <a:ext cx="165240" cy="1297080"/>
          </a:xfrm>
          <a:custGeom>
            <a:avLst/>
            <a:gdLst/>
            <a:ahLst/>
            <a:rect l="l" t="t" r="r" b="b"/>
            <a:pathLst>
              <a:path w="52" h="408">
                <a:moveTo>
                  <a:pt x="0" y="408"/>
                </a:moveTo>
                <a:cubicBezTo>
                  <a:pt x="52" y="408"/>
                  <a:pt x="52" y="408"/>
                  <a:pt x="52" y="408"/>
                </a:cubicBezTo>
                <a:cubicBezTo>
                  <a:pt x="52" y="0"/>
                  <a:pt x="52" y="0"/>
                  <a:pt x="52" y="0"/>
                </a:cubicBezTo>
                <a:cubicBezTo>
                  <a:pt x="39" y="2"/>
                  <a:pt x="22" y="3"/>
                  <a:pt x="0" y="4"/>
                </a:cubicBezTo>
                <a:lnTo>
                  <a:pt x="0" y="408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Freeform 56"/>
          <p:cNvSpPr/>
          <p:nvPr/>
        </p:nvSpPr>
        <p:spPr>
          <a:xfrm>
            <a:off x="5950080" y="0"/>
            <a:ext cx="101520" cy="1836720"/>
          </a:xfrm>
          <a:custGeom>
            <a:avLst/>
            <a:gdLst/>
            <a:ahLst/>
            <a:rect l="l" t="t" r="r" b="b"/>
            <a:pathLst>
              <a:path w="32" h="578">
                <a:moveTo>
                  <a:pt x="32" y="553"/>
                </a:moveTo>
                <a:cubicBezTo>
                  <a:pt x="32" y="0"/>
                  <a:pt x="32" y="0"/>
                  <a:pt x="3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578"/>
                  <a:pt x="0" y="578"/>
                  <a:pt x="0" y="578"/>
                </a:cubicBezTo>
                <a:cubicBezTo>
                  <a:pt x="12" y="572"/>
                  <a:pt x="20" y="563"/>
                  <a:pt x="30" y="553"/>
                </a:cubicBezTo>
                <a:cubicBezTo>
                  <a:pt x="31" y="553"/>
                  <a:pt x="31" y="553"/>
                  <a:pt x="32" y="553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Freeform 57"/>
          <p:cNvSpPr/>
          <p:nvPr/>
        </p:nvSpPr>
        <p:spPr>
          <a:xfrm>
            <a:off x="6473880" y="3117960"/>
            <a:ext cx="108000" cy="2031840"/>
          </a:xfrm>
          <a:custGeom>
            <a:avLst/>
            <a:gdLst/>
            <a:ahLst/>
            <a:rect l="l" t="t" r="r" b="b"/>
            <a:pathLst>
              <a:path w="34" h="639">
                <a:moveTo>
                  <a:pt x="0" y="639"/>
                </a:moveTo>
                <a:cubicBezTo>
                  <a:pt x="34" y="639"/>
                  <a:pt x="34" y="639"/>
                  <a:pt x="34" y="639"/>
                </a:cubicBezTo>
                <a:cubicBezTo>
                  <a:pt x="34" y="0"/>
                  <a:pt x="34" y="0"/>
                  <a:pt x="34" y="0"/>
                </a:cubicBezTo>
                <a:cubicBezTo>
                  <a:pt x="24" y="7"/>
                  <a:pt x="13" y="11"/>
                  <a:pt x="0" y="13"/>
                </a:cubicBezTo>
                <a:lnTo>
                  <a:pt x="0" y="63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Freeform 58"/>
          <p:cNvSpPr/>
          <p:nvPr/>
        </p:nvSpPr>
        <p:spPr>
          <a:xfrm>
            <a:off x="6127920" y="3057480"/>
            <a:ext cx="44280" cy="2092320"/>
          </a:xfrm>
          <a:custGeom>
            <a:avLst/>
            <a:gdLst/>
            <a:ahLst/>
            <a:rect l="l" t="t" r="r" b="b"/>
            <a:pathLst>
              <a:path w="14" h="658">
                <a:moveTo>
                  <a:pt x="0" y="658"/>
                </a:moveTo>
                <a:cubicBezTo>
                  <a:pt x="14" y="658"/>
                  <a:pt x="14" y="658"/>
                  <a:pt x="14" y="658"/>
                </a:cubicBezTo>
                <a:cubicBezTo>
                  <a:pt x="14" y="12"/>
                  <a:pt x="14" y="12"/>
                  <a:pt x="14" y="12"/>
                </a:cubicBezTo>
                <a:cubicBezTo>
                  <a:pt x="10" y="8"/>
                  <a:pt x="5" y="4"/>
                  <a:pt x="0" y="0"/>
                </a:cubicBezTo>
                <a:lnTo>
                  <a:pt x="0" y="658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Freeform 59"/>
          <p:cNvSpPr/>
          <p:nvPr/>
        </p:nvSpPr>
        <p:spPr>
          <a:xfrm>
            <a:off x="6245280" y="3249720"/>
            <a:ext cx="164880" cy="1900080"/>
          </a:xfrm>
          <a:custGeom>
            <a:avLst/>
            <a:gdLst/>
            <a:ahLst/>
            <a:rect l="l" t="t" r="r" b="b"/>
            <a:pathLst>
              <a:path w="52" h="598">
                <a:moveTo>
                  <a:pt x="0" y="0"/>
                </a:moveTo>
                <a:cubicBezTo>
                  <a:pt x="0" y="598"/>
                  <a:pt x="0" y="598"/>
                  <a:pt x="0" y="598"/>
                </a:cubicBezTo>
                <a:cubicBezTo>
                  <a:pt x="52" y="598"/>
                  <a:pt x="52" y="598"/>
                  <a:pt x="52" y="598"/>
                </a:cubicBezTo>
                <a:cubicBezTo>
                  <a:pt x="52" y="8"/>
                  <a:pt x="52" y="8"/>
                  <a:pt x="52" y="8"/>
                </a:cubicBezTo>
                <a:cubicBezTo>
                  <a:pt x="35" y="8"/>
                  <a:pt x="16" y="6"/>
                  <a:pt x="0" y="0"/>
                </a:cubicBez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Freeform 60"/>
          <p:cNvSpPr/>
          <p:nvPr/>
        </p:nvSpPr>
        <p:spPr>
          <a:xfrm>
            <a:off x="6245280" y="0"/>
            <a:ext cx="164880" cy="1719360"/>
          </a:xfrm>
          <a:custGeom>
            <a:avLst/>
            <a:gdLst/>
            <a:ahLst/>
            <a:rect l="l" t="t" r="r" b="b"/>
            <a:pathLst>
              <a:path w="52" h="541">
                <a:moveTo>
                  <a:pt x="52" y="509"/>
                </a:moveTo>
                <a:cubicBezTo>
                  <a:pt x="52" y="0"/>
                  <a:pt x="52" y="0"/>
                  <a:pt x="5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541"/>
                  <a:pt x="0" y="541"/>
                  <a:pt x="0" y="541"/>
                </a:cubicBezTo>
                <a:cubicBezTo>
                  <a:pt x="0" y="541"/>
                  <a:pt x="7" y="524"/>
                  <a:pt x="20" y="516"/>
                </a:cubicBezTo>
                <a:cubicBezTo>
                  <a:pt x="34" y="507"/>
                  <a:pt x="52" y="509"/>
                  <a:pt x="52" y="509"/>
                </a:cubicBez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61"/>
          <p:cNvSpPr/>
          <p:nvPr/>
        </p:nvSpPr>
        <p:spPr>
          <a:xfrm>
            <a:off x="6692760" y="0"/>
            <a:ext cx="10188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62"/>
          <p:cNvSpPr/>
          <p:nvPr/>
        </p:nvSpPr>
        <p:spPr>
          <a:xfrm>
            <a:off x="7218360" y="0"/>
            <a:ext cx="10800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63"/>
          <p:cNvSpPr/>
          <p:nvPr/>
        </p:nvSpPr>
        <p:spPr>
          <a:xfrm>
            <a:off x="6870600" y="0"/>
            <a:ext cx="446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64"/>
          <p:cNvSpPr/>
          <p:nvPr/>
        </p:nvSpPr>
        <p:spPr>
          <a:xfrm>
            <a:off x="6989760" y="0"/>
            <a:ext cx="1652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65"/>
          <p:cNvSpPr/>
          <p:nvPr/>
        </p:nvSpPr>
        <p:spPr>
          <a:xfrm>
            <a:off x="7437600" y="0"/>
            <a:ext cx="10152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Rectangle 66"/>
          <p:cNvSpPr/>
          <p:nvPr/>
        </p:nvSpPr>
        <p:spPr>
          <a:xfrm>
            <a:off x="7961400" y="0"/>
            <a:ext cx="10800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Rectangle 67"/>
          <p:cNvSpPr/>
          <p:nvPr/>
        </p:nvSpPr>
        <p:spPr>
          <a:xfrm>
            <a:off x="7615080" y="0"/>
            <a:ext cx="446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Rectangle 68"/>
          <p:cNvSpPr/>
          <p:nvPr/>
        </p:nvSpPr>
        <p:spPr>
          <a:xfrm>
            <a:off x="7732800" y="0"/>
            <a:ext cx="16488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Rectangle 69"/>
          <p:cNvSpPr/>
          <p:nvPr/>
        </p:nvSpPr>
        <p:spPr>
          <a:xfrm>
            <a:off x="8180280" y="0"/>
            <a:ext cx="10188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Rectangle 70"/>
          <p:cNvSpPr/>
          <p:nvPr/>
        </p:nvSpPr>
        <p:spPr>
          <a:xfrm>
            <a:off x="8705880" y="0"/>
            <a:ext cx="10800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71"/>
          <p:cNvSpPr/>
          <p:nvPr/>
        </p:nvSpPr>
        <p:spPr>
          <a:xfrm>
            <a:off x="8358120" y="0"/>
            <a:ext cx="4464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Rectangle 72"/>
          <p:cNvSpPr/>
          <p:nvPr/>
        </p:nvSpPr>
        <p:spPr>
          <a:xfrm>
            <a:off x="8477280" y="0"/>
            <a:ext cx="16524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Rectangle 73"/>
          <p:cNvSpPr/>
          <p:nvPr/>
        </p:nvSpPr>
        <p:spPr>
          <a:xfrm>
            <a:off x="8924760" y="0"/>
            <a:ext cx="10188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Rectangle 74"/>
          <p:cNvSpPr/>
          <p:nvPr/>
        </p:nvSpPr>
        <p:spPr>
          <a:xfrm>
            <a:off x="9102600" y="0"/>
            <a:ext cx="446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Rectangle 75"/>
          <p:cNvSpPr/>
          <p:nvPr/>
        </p:nvSpPr>
        <p:spPr>
          <a:xfrm>
            <a:off x="5730840" y="0"/>
            <a:ext cx="108000" cy="2124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Rectangle 76"/>
          <p:cNvSpPr/>
          <p:nvPr/>
        </p:nvSpPr>
        <p:spPr>
          <a:xfrm>
            <a:off x="5502240" y="0"/>
            <a:ext cx="165240" cy="17892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77"/>
          <p:cNvSpPr/>
          <p:nvPr/>
        </p:nvSpPr>
        <p:spPr>
          <a:xfrm>
            <a:off x="5205240" y="0"/>
            <a:ext cx="101880" cy="18684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ectangle 78"/>
          <p:cNvSpPr/>
          <p:nvPr/>
        </p:nvSpPr>
        <p:spPr>
          <a:xfrm>
            <a:off x="6127920" y="0"/>
            <a:ext cx="44280" cy="164952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Rectangle 79"/>
          <p:cNvSpPr/>
          <p:nvPr/>
        </p:nvSpPr>
        <p:spPr>
          <a:xfrm>
            <a:off x="6473880" y="0"/>
            <a:ext cx="108000" cy="1735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Rectangle 80"/>
          <p:cNvSpPr/>
          <p:nvPr/>
        </p:nvSpPr>
        <p:spPr>
          <a:xfrm>
            <a:off x="5950080" y="3351240"/>
            <a:ext cx="101520" cy="1798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Rectangle 81"/>
          <p:cNvSpPr/>
          <p:nvPr/>
        </p:nvSpPr>
        <p:spPr>
          <a:xfrm>
            <a:off x="4014720" y="0"/>
            <a:ext cx="165240" cy="1386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reeform 86"/>
          <p:cNvSpPr/>
          <p:nvPr/>
        </p:nvSpPr>
        <p:spPr>
          <a:xfrm>
            <a:off x="8047080" y="3943440"/>
            <a:ext cx="541440" cy="396720"/>
          </a:xfrm>
          <a:custGeom>
            <a:avLst/>
            <a:gdLst/>
            <a:ahLst/>
            <a:rect l="l" t="t" r="r" b="b"/>
            <a:pathLst>
              <a:path w="168" h="123">
                <a:moveTo>
                  <a:pt x="154" y="0"/>
                </a:moveTo>
                <a:cubicBezTo>
                  <a:pt x="122" y="46"/>
                  <a:pt x="0" y="18"/>
                  <a:pt x="64" y="123"/>
                </a:cubicBezTo>
                <a:cubicBezTo>
                  <a:pt x="168" y="108"/>
                  <a:pt x="162" y="44"/>
                  <a:pt x="154" y="0"/>
                </a:cubicBezTo>
                <a:close/>
                <a:moveTo>
                  <a:pt x="141" y="24"/>
                </a:moveTo>
                <a:cubicBezTo>
                  <a:pt x="137" y="79"/>
                  <a:pt x="77" y="57"/>
                  <a:pt x="67" y="112"/>
                </a:cubicBezTo>
                <a:cubicBezTo>
                  <a:pt x="62" y="54"/>
                  <a:pt x="131" y="80"/>
                  <a:pt x="141" y="24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reeform 88"/>
          <p:cNvSpPr/>
          <p:nvPr/>
        </p:nvSpPr>
        <p:spPr>
          <a:xfrm>
            <a:off x="8101080" y="941400"/>
            <a:ext cx="376200" cy="276120"/>
          </a:xfrm>
          <a:custGeom>
            <a:avLst/>
            <a:gdLst/>
            <a:ahLst/>
            <a:rect l="l" t="t" r="r" b="b"/>
            <a:pathLst>
              <a:path w="117" h="86">
                <a:moveTo>
                  <a:pt x="107" y="0"/>
                </a:moveTo>
                <a:cubicBezTo>
                  <a:pt x="85" y="32"/>
                  <a:pt x="0" y="13"/>
                  <a:pt x="45" y="86"/>
                </a:cubicBezTo>
                <a:cubicBezTo>
                  <a:pt x="117" y="75"/>
                  <a:pt x="113" y="31"/>
                  <a:pt x="107" y="0"/>
                </a:cubicBezTo>
                <a:close/>
                <a:moveTo>
                  <a:pt x="98" y="17"/>
                </a:moveTo>
                <a:cubicBezTo>
                  <a:pt x="96" y="55"/>
                  <a:pt x="54" y="40"/>
                  <a:pt x="47" y="78"/>
                </a:cubicBezTo>
                <a:cubicBezTo>
                  <a:pt x="43" y="37"/>
                  <a:pt x="91" y="56"/>
                  <a:pt x="98" y="17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reeform 89"/>
          <p:cNvSpPr/>
          <p:nvPr/>
        </p:nvSpPr>
        <p:spPr>
          <a:xfrm>
            <a:off x="1927080" y="4197240"/>
            <a:ext cx="335160" cy="246240"/>
          </a:xfrm>
          <a:custGeom>
            <a:avLst/>
            <a:gdLst/>
            <a:ahLst/>
            <a:rect l="l" t="t" r="r" b="b"/>
            <a:pathLst>
              <a:path w="104" h="76">
                <a:moveTo>
                  <a:pt x="95" y="0"/>
                </a:moveTo>
                <a:cubicBezTo>
                  <a:pt x="75" y="29"/>
                  <a:pt x="0" y="11"/>
                  <a:pt x="39" y="76"/>
                </a:cubicBezTo>
                <a:cubicBezTo>
                  <a:pt x="104" y="67"/>
                  <a:pt x="100" y="27"/>
                  <a:pt x="95" y="0"/>
                </a:cubicBezTo>
                <a:close/>
                <a:moveTo>
                  <a:pt x="87" y="15"/>
                </a:moveTo>
                <a:cubicBezTo>
                  <a:pt x="85" y="49"/>
                  <a:pt x="48" y="36"/>
                  <a:pt x="41" y="69"/>
                </a:cubicBezTo>
                <a:cubicBezTo>
                  <a:pt x="38" y="33"/>
                  <a:pt x="81" y="50"/>
                  <a:pt x="87" y="15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reeform 90"/>
          <p:cNvSpPr/>
          <p:nvPr/>
        </p:nvSpPr>
        <p:spPr>
          <a:xfrm>
            <a:off x="1025640" y="3859200"/>
            <a:ext cx="419040" cy="309600"/>
          </a:xfrm>
          <a:custGeom>
            <a:avLst/>
            <a:gdLst/>
            <a:ahLst/>
            <a:rect l="l" t="t" r="r" b="b"/>
            <a:pathLst>
              <a:path w="130" h="96">
                <a:moveTo>
                  <a:pt x="119" y="0"/>
                </a:moveTo>
                <a:cubicBezTo>
                  <a:pt x="94" y="36"/>
                  <a:pt x="0" y="15"/>
                  <a:pt x="50" y="96"/>
                </a:cubicBezTo>
                <a:cubicBezTo>
                  <a:pt x="130" y="84"/>
                  <a:pt x="125" y="35"/>
                  <a:pt x="119" y="0"/>
                </a:cubicBezTo>
                <a:close/>
                <a:moveTo>
                  <a:pt x="109" y="19"/>
                </a:moveTo>
                <a:cubicBezTo>
                  <a:pt x="106" y="62"/>
                  <a:pt x="60" y="45"/>
                  <a:pt x="52" y="87"/>
                </a:cubicBezTo>
                <a:cubicBezTo>
                  <a:pt x="48" y="42"/>
                  <a:pt x="101" y="62"/>
                  <a:pt x="109" y="19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reeform 91"/>
          <p:cNvSpPr/>
          <p:nvPr/>
        </p:nvSpPr>
        <p:spPr>
          <a:xfrm>
            <a:off x="606600" y="3164040"/>
            <a:ext cx="869760" cy="663480"/>
          </a:xfrm>
          <a:custGeom>
            <a:avLst/>
            <a:gdLst/>
            <a:ahLst/>
            <a:rect l="l" t="t" r="r" b="b"/>
            <a:pathLst>
              <a:path w="270" h="206">
                <a:moveTo>
                  <a:pt x="51" y="0"/>
                </a:moveTo>
                <a:cubicBezTo>
                  <a:pt x="26" y="63"/>
                  <a:pt x="0" y="155"/>
                  <a:pt x="147" y="206"/>
                </a:cubicBezTo>
                <a:cubicBezTo>
                  <a:pt x="270" y="70"/>
                  <a:pt x="85" y="77"/>
                  <a:pt x="51" y="0"/>
                </a:cubicBezTo>
                <a:close/>
                <a:moveTo>
                  <a:pt x="146" y="188"/>
                </a:moveTo>
                <a:cubicBezTo>
                  <a:pt x="146" y="106"/>
                  <a:pt x="52" y="120"/>
                  <a:pt x="62" y="39"/>
                </a:cubicBezTo>
                <a:cubicBezTo>
                  <a:pt x="62" y="123"/>
                  <a:pt x="169" y="105"/>
                  <a:pt x="146" y="188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reeform 92"/>
          <p:cNvSpPr/>
          <p:nvPr/>
        </p:nvSpPr>
        <p:spPr>
          <a:xfrm>
            <a:off x="1908000" y="538200"/>
            <a:ext cx="206640" cy="158760"/>
          </a:xfrm>
          <a:custGeom>
            <a:avLst/>
            <a:gdLst/>
            <a:ahLst/>
            <a:rect l="l" t="t" r="r" b="b"/>
            <a:pathLst>
              <a:path w="64" h="49">
                <a:moveTo>
                  <a:pt x="12" y="0"/>
                </a:moveTo>
                <a:cubicBezTo>
                  <a:pt x="6" y="15"/>
                  <a:pt x="0" y="37"/>
                  <a:pt x="35" y="49"/>
                </a:cubicBezTo>
                <a:cubicBezTo>
                  <a:pt x="64" y="17"/>
                  <a:pt x="20" y="18"/>
                  <a:pt x="12" y="0"/>
                </a:cubicBezTo>
                <a:close/>
                <a:moveTo>
                  <a:pt x="35" y="45"/>
                </a:moveTo>
                <a:cubicBezTo>
                  <a:pt x="35" y="25"/>
                  <a:pt x="12" y="29"/>
                  <a:pt x="15" y="9"/>
                </a:cubicBezTo>
                <a:cubicBezTo>
                  <a:pt x="14" y="29"/>
                  <a:pt x="40" y="25"/>
                  <a:pt x="35" y="45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reeform 93"/>
          <p:cNvSpPr/>
          <p:nvPr/>
        </p:nvSpPr>
        <p:spPr>
          <a:xfrm>
            <a:off x="7818480" y="3160800"/>
            <a:ext cx="735120" cy="557280"/>
          </a:xfrm>
          <a:custGeom>
            <a:avLst/>
            <a:gdLst/>
            <a:ahLst/>
            <a:rect l="l" t="t" r="r" b="b"/>
            <a:pathLst>
              <a:path w="228" h="173">
                <a:moveTo>
                  <a:pt x="43" y="0"/>
                </a:moveTo>
                <a:cubicBezTo>
                  <a:pt x="22" y="53"/>
                  <a:pt x="0" y="130"/>
                  <a:pt x="125" y="173"/>
                </a:cubicBezTo>
                <a:cubicBezTo>
                  <a:pt x="228" y="59"/>
                  <a:pt x="72" y="64"/>
                  <a:pt x="43" y="0"/>
                </a:cubicBezTo>
                <a:close/>
                <a:moveTo>
                  <a:pt x="124" y="159"/>
                </a:moveTo>
                <a:cubicBezTo>
                  <a:pt x="124" y="89"/>
                  <a:pt x="44" y="101"/>
                  <a:pt x="53" y="33"/>
                </a:cubicBezTo>
                <a:cubicBezTo>
                  <a:pt x="52" y="104"/>
                  <a:pt x="143" y="88"/>
                  <a:pt x="124" y="159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reeform 94"/>
          <p:cNvSpPr/>
          <p:nvPr/>
        </p:nvSpPr>
        <p:spPr>
          <a:xfrm>
            <a:off x="6742080" y="4443480"/>
            <a:ext cx="428760" cy="328680"/>
          </a:xfrm>
          <a:custGeom>
            <a:avLst/>
            <a:gdLst/>
            <a:ahLst/>
            <a:rect l="l" t="t" r="r" b="b"/>
            <a:pathLst>
              <a:path w="133" h="102">
                <a:moveTo>
                  <a:pt x="25" y="0"/>
                </a:moveTo>
                <a:cubicBezTo>
                  <a:pt x="13" y="31"/>
                  <a:pt x="0" y="76"/>
                  <a:pt x="73" y="102"/>
                </a:cubicBezTo>
                <a:cubicBezTo>
                  <a:pt x="133" y="34"/>
                  <a:pt x="42" y="38"/>
                  <a:pt x="25" y="0"/>
                </a:cubicBezTo>
                <a:close/>
                <a:moveTo>
                  <a:pt x="72" y="93"/>
                </a:moveTo>
                <a:cubicBezTo>
                  <a:pt x="72" y="52"/>
                  <a:pt x="26" y="59"/>
                  <a:pt x="31" y="19"/>
                </a:cubicBezTo>
                <a:cubicBezTo>
                  <a:pt x="31" y="61"/>
                  <a:pt x="84" y="52"/>
                  <a:pt x="72" y="93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7" name="Picture 98" descr=""/>
          <p:cNvPicPr/>
          <p:nvPr/>
        </p:nvPicPr>
        <p:blipFill>
          <a:blip r:embed="rId1"/>
          <a:stretch/>
        </p:blipFill>
        <p:spPr>
          <a:xfrm>
            <a:off x="2014560" y="1671480"/>
            <a:ext cx="4678200" cy="2027520"/>
          </a:xfrm>
          <a:prstGeom prst="rect">
            <a:avLst/>
          </a:prstGeom>
          <a:ln w="0">
            <a:noFill/>
          </a:ln>
        </p:spPr>
      </p:pic>
      <p:sp>
        <p:nvSpPr>
          <p:cNvPr id="468" name="TextBox 12"/>
          <p:cNvSpPr/>
          <p:nvPr/>
        </p:nvSpPr>
        <p:spPr>
          <a:xfrm>
            <a:off x="4080240" y="4446720"/>
            <a:ext cx="129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E:\公司作品\新logo应用\20110708新LOGO应用\锐普PPT红LOGO-02.png"/>
          <p:cNvPicPr/>
          <p:nvPr/>
        </p:nvPicPr>
        <p:blipFill>
          <a:blip r:embed="rId2"/>
          <a:stretch/>
        </p:blipFill>
        <p:spPr>
          <a:xfrm>
            <a:off x="263520" y="171360"/>
            <a:ext cx="941400" cy="366840"/>
          </a:xfrm>
          <a:prstGeom prst="rect">
            <a:avLst/>
          </a:prstGeom>
          <a:ln w="0">
            <a:noFill/>
          </a:ln>
        </p:spPr>
      </p:pic>
      <p:sp>
        <p:nvSpPr>
          <p:cNvPr id="470" name="TextBox 13"/>
          <p:cNvSpPr/>
          <p:nvPr/>
        </p:nvSpPr>
        <p:spPr>
          <a:xfrm>
            <a:off x="4622040" y="4691160"/>
            <a:ext cx="215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教师节祝褔、贺卡等相关类别的演示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TextBox 1"/>
          <p:cNvSpPr/>
          <p:nvPr/>
        </p:nvSpPr>
        <p:spPr>
          <a:xfrm>
            <a:off x="3953880" y="40942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上海锐普广告有限公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6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6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3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3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8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8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4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4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4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5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5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5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Box 394"/>
          <p:cNvSpPr/>
          <p:nvPr/>
        </p:nvSpPr>
        <p:spPr>
          <a:xfrm>
            <a:off x="6119640" y="3765600"/>
            <a:ext cx="2961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海锐普广告有限公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矩形 2"/>
          <p:cNvSpPr/>
          <p:nvPr/>
        </p:nvSpPr>
        <p:spPr>
          <a:xfrm>
            <a:off x="900000" y="2152800"/>
            <a:ext cx="7848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一种情感不能相守却天长地久，有一种付出不计回报却没有尽头，有一种坚持不离不弃却永不放手。老师，感谢您用心关爱我们每一个人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98" descr=""/>
          <p:cNvPicPr/>
          <p:nvPr/>
        </p:nvPicPr>
        <p:blipFill>
          <a:blip r:embed="rId1"/>
          <a:stretch/>
        </p:blipFill>
        <p:spPr>
          <a:xfrm>
            <a:off x="1182600" y="1149480"/>
            <a:ext cx="2281320" cy="987120"/>
          </a:xfrm>
          <a:prstGeom prst="rect">
            <a:avLst/>
          </a:prstGeom>
          <a:ln w="0">
            <a:noFill/>
          </a:ln>
        </p:spPr>
      </p:pic>
      <p:sp>
        <p:nvSpPr>
          <p:cNvPr id="475" name="直接连接符 4"/>
          <p:cNvSpPr/>
          <p:nvPr/>
        </p:nvSpPr>
        <p:spPr>
          <a:xfrm>
            <a:off x="1006560" y="2044800"/>
            <a:ext cx="149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extBox 394"/>
          <p:cNvSpPr/>
          <p:nvPr/>
        </p:nvSpPr>
        <p:spPr>
          <a:xfrm>
            <a:off x="7658280" y="4125960"/>
            <a:ext cx="12254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教师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矩形 9"/>
          <p:cNvSpPr/>
          <p:nvPr/>
        </p:nvSpPr>
        <p:spPr>
          <a:xfrm>
            <a:off x="887400" y="2921040"/>
            <a:ext cx="78487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祝福老师教师节快乐，收获桃李满园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0" y="0"/>
            <a:ext cx="10152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Rectangle 8"/>
          <p:cNvSpPr/>
          <p:nvPr/>
        </p:nvSpPr>
        <p:spPr>
          <a:xfrm>
            <a:off x="523800" y="0"/>
            <a:ext cx="10800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Rectangle 9"/>
          <p:cNvSpPr/>
          <p:nvPr/>
        </p:nvSpPr>
        <p:spPr>
          <a:xfrm>
            <a:off x="177840" y="0"/>
            <a:ext cx="4752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Rectangle 10"/>
          <p:cNvSpPr/>
          <p:nvPr/>
        </p:nvSpPr>
        <p:spPr>
          <a:xfrm>
            <a:off x="295200" y="0"/>
            <a:ext cx="16524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Rectangle 11"/>
          <p:cNvSpPr/>
          <p:nvPr/>
        </p:nvSpPr>
        <p:spPr>
          <a:xfrm>
            <a:off x="743040" y="0"/>
            <a:ext cx="10296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Rectangle 12"/>
          <p:cNvSpPr/>
          <p:nvPr/>
        </p:nvSpPr>
        <p:spPr>
          <a:xfrm>
            <a:off x="1268280" y="0"/>
            <a:ext cx="10800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13"/>
          <p:cNvSpPr/>
          <p:nvPr/>
        </p:nvSpPr>
        <p:spPr>
          <a:xfrm>
            <a:off x="922320" y="0"/>
            <a:ext cx="4752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Rectangle 14"/>
          <p:cNvSpPr/>
          <p:nvPr/>
        </p:nvSpPr>
        <p:spPr>
          <a:xfrm>
            <a:off x="1039680" y="0"/>
            <a:ext cx="1652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Rectangle 15"/>
          <p:cNvSpPr/>
          <p:nvPr/>
        </p:nvSpPr>
        <p:spPr>
          <a:xfrm>
            <a:off x="1487520" y="0"/>
            <a:ext cx="10152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Freeform 16"/>
          <p:cNvSpPr/>
          <p:nvPr/>
        </p:nvSpPr>
        <p:spPr>
          <a:xfrm>
            <a:off x="2008080" y="0"/>
            <a:ext cx="111240" cy="5149800"/>
          </a:xfrm>
          <a:custGeom>
            <a:avLst/>
            <a:gdLst/>
            <a:ahLst/>
            <a:rect l="l" t="t" r="r" b="b"/>
            <a:pathLst>
              <a:path w="35" h="1620">
                <a:moveTo>
                  <a:pt x="5" y="774"/>
                </a:moveTo>
                <a:cubicBezTo>
                  <a:pt x="0" y="747"/>
                  <a:pt x="14" y="728"/>
                  <a:pt x="20" y="711"/>
                </a:cubicBezTo>
                <a:cubicBezTo>
                  <a:pt x="20" y="741"/>
                  <a:pt x="20" y="741"/>
                  <a:pt x="20" y="741"/>
                </a:cubicBezTo>
                <a:cubicBezTo>
                  <a:pt x="22" y="755"/>
                  <a:pt x="28" y="768"/>
                  <a:pt x="35" y="778"/>
                </a:cubicBezTo>
                <a:cubicBezTo>
                  <a:pt x="35" y="0"/>
                  <a:pt x="35" y="0"/>
                  <a:pt x="35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1620"/>
                  <a:pt x="1" y="1620"/>
                  <a:pt x="1" y="1620"/>
                </a:cubicBezTo>
                <a:cubicBezTo>
                  <a:pt x="35" y="1620"/>
                  <a:pt x="35" y="1620"/>
                  <a:pt x="35" y="1620"/>
                </a:cubicBezTo>
                <a:cubicBezTo>
                  <a:pt x="35" y="822"/>
                  <a:pt x="35" y="822"/>
                  <a:pt x="35" y="822"/>
                </a:cubicBezTo>
                <a:cubicBezTo>
                  <a:pt x="20" y="809"/>
                  <a:pt x="9" y="793"/>
                  <a:pt x="5" y="774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Rectangle 17"/>
          <p:cNvSpPr/>
          <p:nvPr/>
        </p:nvSpPr>
        <p:spPr>
          <a:xfrm>
            <a:off x="1665360" y="0"/>
            <a:ext cx="4428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Rectangle 18"/>
          <p:cNvSpPr/>
          <p:nvPr/>
        </p:nvSpPr>
        <p:spPr>
          <a:xfrm>
            <a:off x="1782720" y="0"/>
            <a:ext cx="16524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Freeform 19"/>
          <p:cNvSpPr/>
          <p:nvPr/>
        </p:nvSpPr>
        <p:spPr>
          <a:xfrm>
            <a:off x="2230560" y="2784600"/>
            <a:ext cx="102960" cy="2365200"/>
          </a:xfrm>
          <a:custGeom>
            <a:avLst/>
            <a:gdLst/>
            <a:ahLst/>
            <a:rect l="l" t="t" r="r" b="b"/>
            <a:pathLst>
              <a:path w="32" h="744">
                <a:moveTo>
                  <a:pt x="0" y="744"/>
                </a:moveTo>
                <a:cubicBezTo>
                  <a:pt x="32" y="744"/>
                  <a:pt x="32" y="744"/>
                  <a:pt x="32" y="744"/>
                </a:cubicBezTo>
                <a:cubicBezTo>
                  <a:pt x="32" y="9"/>
                  <a:pt x="32" y="9"/>
                  <a:pt x="32" y="9"/>
                </a:cubicBezTo>
                <a:cubicBezTo>
                  <a:pt x="21" y="7"/>
                  <a:pt x="10" y="4"/>
                  <a:pt x="0" y="0"/>
                </a:cubicBezTo>
                <a:lnTo>
                  <a:pt x="0" y="744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reeform 20"/>
          <p:cNvSpPr/>
          <p:nvPr/>
        </p:nvSpPr>
        <p:spPr>
          <a:xfrm>
            <a:off x="2230560" y="0"/>
            <a:ext cx="102960" cy="2498760"/>
          </a:xfrm>
          <a:custGeom>
            <a:avLst/>
            <a:gdLst/>
            <a:ahLst/>
            <a:rect l="l" t="t" r="r" b="b"/>
            <a:pathLst>
              <a:path w="32" h="786">
                <a:moveTo>
                  <a:pt x="3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775"/>
                  <a:pt x="0" y="775"/>
                  <a:pt x="0" y="775"/>
                </a:cubicBezTo>
                <a:cubicBezTo>
                  <a:pt x="10" y="780"/>
                  <a:pt x="21" y="784"/>
                  <a:pt x="32" y="786"/>
                </a:cubicBezTo>
                <a:lnTo>
                  <a:pt x="32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Freeform 21"/>
          <p:cNvSpPr/>
          <p:nvPr/>
        </p:nvSpPr>
        <p:spPr>
          <a:xfrm>
            <a:off x="2755800" y="0"/>
            <a:ext cx="108000" cy="2232000"/>
          </a:xfrm>
          <a:custGeom>
            <a:avLst/>
            <a:gdLst/>
            <a:ahLst/>
            <a:rect l="l" t="t" r="r" b="b"/>
            <a:pathLst>
              <a:path w="34" h="702">
                <a:moveTo>
                  <a:pt x="0" y="702"/>
                </a:moveTo>
                <a:cubicBezTo>
                  <a:pt x="20" y="678"/>
                  <a:pt x="32" y="639"/>
                  <a:pt x="34" y="626"/>
                </a:cubicBezTo>
                <a:cubicBezTo>
                  <a:pt x="34" y="0"/>
                  <a:pt x="34" y="0"/>
                  <a:pt x="34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Freeform 22"/>
          <p:cNvSpPr/>
          <p:nvPr/>
        </p:nvSpPr>
        <p:spPr>
          <a:xfrm>
            <a:off x="2755800" y="2806560"/>
            <a:ext cx="108000" cy="2343240"/>
          </a:xfrm>
          <a:custGeom>
            <a:avLst/>
            <a:gdLst/>
            <a:ahLst/>
            <a:rect l="l" t="t" r="r" b="b"/>
            <a:pathLst>
              <a:path w="34" h="737">
                <a:moveTo>
                  <a:pt x="0" y="737"/>
                </a:moveTo>
                <a:cubicBezTo>
                  <a:pt x="34" y="737"/>
                  <a:pt x="34" y="737"/>
                  <a:pt x="34" y="737"/>
                </a:cubicBezTo>
                <a:cubicBezTo>
                  <a:pt x="34" y="0"/>
                  <a:pt x="34" y="0"/>
                  <a:pt x="34" y="0"/>
                </a:cubicBezTo>
                <a:cubicBezTo>
                  <a:pt x="23" y="6"/>
                  <a:pt x="12" y="12"/>
                  <a:pt x="0" y="17"/>
                </a:cubicBezTo>
                <a:lnTo>
                  <a:pt x="0" y="73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reeform 23"/>
          <p:cNvSpPr/>
          <p:nvPr/>
        </p:nvSpPr>
        <p:spPr>
          <a:xfrm>
            <a:off x="2409840" y="0"/>
            <a:ext cx="44280" cy="2432160"/>
          </a:xfrm>
          <a:custGeom>
            <a:avLst/>
            <a:gdLst/>
            <a:ahLst/>
            <a:rect l="l" t="t" r="r" b="b"/>
            <a:pathLst>
              <a:path w="14" h="765">
                <a:moveTo>
                  <a:pt x="14" y="765"/>
                </a:moveTo>
                <a:cubicBezTo>
                  <a:pt x="14" y="0"/>
                  <a:pt x="14" y="0"/>
                  <a:pt x="1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765"/>
                  <a:pt x="0" y="765"/>
                  <a:pt x="0" y="765"/>
                </a:cubicBezTo>
                <a:cubicBezTo>
                  <a:pt x="5" y="765"/>
                  <a:pt x="10" y="765"/>
                  <a:pt x="14" y="765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Freeform 24"/>
          <p:cNvSpPr/>
          <p:nvPr/>
        </p:nvSpPr>
        <p:spPr>
          <a:xfrm>
            <a:off x="2409840" y="2898720"/>
            <a:ext cx="44280" cy="2251080"/>
          </a:xfrm>
          <a:custGeom>
            <a:avLst/>
            <a:gdLst/>
            <a:ahLst/>
            <a:rect l="l" t="t" r="r" b="b"/>
            <a:pathLst>
              <a:path w="14" h="708">
                <a:moveTo>
                  <a:pt x="0" y="708"/>
                </a:moveTo>
                <a:cubicBezTo>
                  <a:pt x="14" y="708"/>
                  <a:pt x="14" y="708"/>
                  <a:pt x="14" y="708"/>
                </a:cubicBezTo>
                <a:cubicBezTo>
                  <a:pt x="14" y="0"/>
                  <a:pt x="14" y="0"/>
                  <a:pt x="14" y="0"/>
                </a:cubicBezTo>
                <a:cubicBezTo>
                  <a:pt x="10" y="0"/>
                  <a:pt x="5" y="0"/>
                  <a:pt x="0" y="0"/>
                </a:cubicBezTo>
                <a:lnTo>
                  <a:pt x="0" y="70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Freeform 25"/>
          <p:cNvSpPr/>
          <p:nvPr/>
        </p:nvSpPr>
        <p:spPr>
          <a:xfrm>
            <a:off x="2527200" y="0"/>
            <a:ext cx="165240" cy="2502000"/>
          </a:xfrm>
          <a:custGeom>
            <a:avLst/>
            <a:gdLst/>
            <a:ahLst/>
            <a:rect l="l" t="t" r="r" b="b"/>
            <a:pathLst>
              <a:path w="52" h="787">
                <a:moveTo>
                  <a:pt x="5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787"/>
                  <a:pt x="0" y="787"/>
                  <a:pt x="0" y="787"/>
                </a:cubicBezTo>
                <a:cubicBezTo>
                  <a:pt x="18" y="785"/>
                  <a:pt x="35" y="780"/>
                  <a:pt x="52" y="774"/>
                </a:cubicBezTo>
                <a:lnTo>
                  <a:pt x="52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reeform 26"/>
          <p:cNvSpPr/>
          <p:nvPr/>
        </p:nvSpPr>
        <p:spPr>
          <a:xfrm>
            <a:off x="2527200" y="2781360"/>
            <a:ext cx="165240" cy="2368440"/>
          </a:xfrm>
          <a:custGeom>
            <a:avLst/>
            <a:gdLst/>
            <a:ahLst/>
            <a:rect l="l" t="t" r="r" b="b"/>
            <a:pathLst>
              <a:path w="52" h="745">
                <a:moveTo>
                  <a:pt x="0" y="12"/>
                </a:moveTo>
                <a:cubicBezTo>
                  <a:pt x="0" y="745"/>
                  <a:pt x="0" y="745"/>
                  <a:pt x="0" y="745"/>
                </a:cubicBezTo>
                <a:cubicBezTo>
                  <a:pt x="52" y="745"/>
                  <a:pt x="52" y="745"/>
                  <a:pt x="52" y="745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4"/>
                  <a:pt x="29" y="8"/>
                  <a:pt x="16" y="10"/>
                </a:cubicBezTo>
                <a:cubicBezTo>
                  <a:pt x="11" y="11"/>
                  <a:pt x="5" y="12"/>
                  <a:pt x="0" y="12"/>
                </a:cubicBez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Freeform 27"/>
          <p:cNvSpPr/>
          <p:nvPr/>
        </p:nvSpPr>
        <p:spPr>
          <a:xfrm>
            <a:off x="2975040" y="2736720"/>
            <a:ext cx="101520" cy="2413080"/>
          </a:xfrm>
          <a:custGeom>
            <a:avLst/>
            <a:gdLst/>
            <a:ahLst/>
            <a:rect l="l" t="t" r="r" b="b"/>
            <a:pathLst>
              <a:path w="32" h="759">
                <a:moveTo>
                  <a:pt x="0" y="759"/>
                </a:moveTo>
                <a:cubicBezTo>
                  <a:pt x="32" y="759"/>
                  <a:pt x="32" y="759"/>
                  <a:pt x="32" y="759"/>
                </a:cubicBezTo>
                <a:cubicBezTo>
                  <a:pt x="32" y="10"/>
                  <a:pt x="32" y="10"/>
                  <a:pt x="32" y="10"/>
                </a:cubicBezTo>
                <a:cubicBezTo>
                  <a:pt x="19" y="7"/>
                  <a:pt x="8" y="6"/>
                  <a:pt x="0" y="0"/>
                </a:cubicBezTo>
                <a:lnTo>
                  <a:pt x="0" y="759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28"/>
          <p:cNvSpPr/>
          <p:nvPr/>
        </p:nvSpPr>
        <p:spPr>
          <a:xfrm>
            <a:off x="2975040" y="0"/>
            <a:ext cx="101520" cy="163656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29"/>
          <p:cNvSpPr/>
          <p:nvPr/>
        </p:nvSpPr>
        <p:spPr>
          <a:xfrm>
            <a:off x="3498840" y="0"/>
            <a:ext cx="108000" cy="156996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Freeform 30"/>
          <p:cNvSpPr/>
          <p:nvPr/>
        </p:nvSpPr>
        <p:spPr>
          <a:xfrm>
            <a:off x="3498840" y="3367080"/>
            <a:ext cx="108000" cy="1782720"/>
          </a:xfrm>
          <a:custGeom>
            <a:avLst/>
            <a:gdLst/>
            <a:ahLst/>
            <a:rect l="l" t="t" r="r" b="b"/>
            <a:pathLst>
              <a:path w="34" h="561">
                <a:moveTo>
                  <a:pt x="0" y="561"/>
                </a:moveTo>
                <a:cubicBezTo>
                  <a:pt x="34" y="561"/>
                  <a:pt x="34" y="561"/>
                  <a:pt x="34" y="561"/>
                </a:cubicBezTo>
                <a:cubicBezTo>
                  <a:pt x="34" y="0"/>
                  <a:pt x="34" y="0"/>
                  <a:pt x="34" y="0"/>
                </a:cubicBezTo>
                <a:cubicBezTo>
                  <a:pt x="24" y="8"/>
                  <a:pt x="14" y="13"/>
                  <a:pt x="0" y="16"/>
                </a:cubicBezTo>
                <a:lnTo>
                  <a:pt x="0" y="561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31"/>
          <p:cNvSpPr/>
          <p:nvPr/>
        </p:nvSpPr>
        <p:spPr>
          <a:xfrm>
            <a:off x="3152880" y="0"/>
            <a:ext cx="44280" cy="1668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reeform 32"/>
          <p:cNvSpPr/>
          <p:nvPr/>
        </p:nvSpPr>
        <p:spPr>
          <a:xfrm>
            <a:off x="3152880" y="3522600"/>
            <a:ext cx="44280" cy="1627200"/>
          </a:xfrm>
          <a:custGeom>
            <a:avLst/>
            <a:gdLst/>
            <a:ahLst/>
            <a:rect l="l" t="t" r="r" b="b"/>
            <a:pathLst>
              <a:path w="14" h="512">
                <a:moveTo>
                  <a:pt x="0" y="512"/>
                </a:moveTo>
                <a:cubicBezTo>
                  <a:pt x="14" y="512"/>
                  <a:pt x="14" y="512"/>
                  <a:pt x="14" y="512"/>
                </a:cubicBezTo>
                <a:cubicBezTo>
                  <a:pt x="14" y="4"/>
                  <a:pt x="14" y="4"/>
                  <a:pt x="14" y="4"/>
                </a:cubicBezTo>
                <a:cubicBezTo>
                  <a:pt x="9" y="4"/>
                  <a:pt x="5" y="2"/>
                  <a:pt x="0" y="0"/>
                </a:cubicBezTo>
                <a:lnTo>
                  <a:pt x="0" y="51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33"/>
          <p:cNvSpPr/>
          <p:nvPr/>
        </p:nvSpPr>
        <p:spPr>
          <a:xfrm>
            <a:off x="3270240" y="0"/>
            <a:ext cx="165240" cy="1668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34"/>
          <p:cNvSpPr/>
          <p:nvPr/>
        </p:nvSpPr>
        <p:spPr>
          <a:xfrm>
            <a:off x="3270240" y="3427560"/>
            <a:ext cx="165240" cy="1722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reeform 35"/>
          <p:cNvSpPr/>
          <p:nvPr/>
        </p:nvSpPr>
        <p:spPr>
          <a:xfrm>
            <a:off x="3718080" y="3516480"/>
            <a:ext cx="101520" cy="1633320"/>
          </a:xfrm>
          <a:custGeom>
            <a:avLst/>
            <a:gdLst/>
            <a:ahLst/>
            <a:rect l="l" t="t" r="r" b="b"/>
            <a:pathLst>
              <a:path w="32" h="514">
                <a:moveTo>
                  <a:pt x="0" y="0"/>
                </a:moveTo>
                <a:cubicBezTo>
                  <a:pt x="0" y="514"/>
                  <a:pt x="0" y="514"/>
                  <a:pt x="0" y="514"/>
                </a:cubicBezTo>
                <a:cubicBezTo>
                  <a:pt x="32" y="514"/>
                  <a:pt x="32" y="514"/>
                  <a:pt x="32" y="514"/>
                </a:cubicBezTo>
                <a:cubicBezTo>
                  <a:pt x="32" y="4"/>
                  <a:pt x="32" y="4"/>
                  <a:pt x="32" y="4"/>
                </a:cubicBezTo>
                <a:cubicBezTo>
                  <a:pt x="18" y="4"/>
                  <a:pt x="8" y="3"/>
                  <a:pt x="0" y="0"/>
                </a:cubicBez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36"/>
          <p:cNvSpPr/>
          <p:nvPr/>
        </p:nvSpPr>
        <p:spPr>
          <a:xfrm>
            <a:off x="3718080" y="0"/>
            <a:ext cx="101520" cy="172872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Freeform 37"/>
          <p:cNvSpPr/>
          <p:nvPr/>
        </p:nvSpPr>
        <p:spPr>
          <a:xfrm>
            <a:off x="4243320" y="0"/>
            <a:ext cx="108000" cy="1716120"/>
          </a:xfrm>
          <a:custGeom>
            <a:avLst/>
            <a:gdLst/>
            <a:ahLst/>
            <a:rect l="l" t="t" r="r" b="b"/>
            <a:pathLst>
              <a:path w="34" h="540">
                <a:moveTo>
                  <a:pt x="3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40"/>
                  <a:pt x="0" y="540"/>
                  <a:pt x="0" y="540"/>
                </a:cubicBezTo>
                <a:cubicBezTo>
                  <a:pt x="11" y="540"/>
                  <a:pt x="23" y="540"/>
                  <a:pt x="34" y="540"/>
                </a:cubicBezTo>
                <a:lnTo>
                  <a:pt x="34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reeform 38"/>
          <p:cNvSpPr/>
          <p:nvPr/>
        </p:nvSpPr>
        <p:spPr>
          <a:xfrm>
            <a:off x="4243320" y="3411360"/>
            <a:ext cx="108000" cy="1738440"/>
          </a:xfrm>
          <a:custGeom>
            <a:avLst/>
            <a:gdLst/>
            <a:ahLst/>
            <a:rect l="l" t="t" r="r" b="b"/>
            <a:pathLst>
              <a:path w="68" h="1095">
                <a:moveTo>
                  <a:pt x="0" y="6"/>
                </a:moveTo>
                <a:lnTo>
                  <a:pt x="0" y="1095"/>
                </a:lnTo>
                <a:lnTo>
                  <a:pt x="68" y="1095"/>
                </a:lnTo>
                <a:lnTo>
                  <a:pt x="68" y="0"/>
                </a:lnTo>
                <a:lnTo>
                  <a:pt x="0" y="6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39"/>
          <p:cNvSpPr/>
          <p:nvPr/>
        </p:nvSpPr>
        <p:spPr>
          <a:xfrm>
            <a:off x="3897360" y="0"/>
            <a:ext cx="44280" cy="1620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Freeform 40"/>
          <p:cNvSpPr/>
          <p:nvPr/>
        </p:nvSpPr>
        <p:spPr>
          <a:xfrm>
            <a:off x="3897360" y="0"/>
            <a:ext cx="44280" cy="1620720"/>
          </a:xfrm>
          <a:custGeom>
            <a:avLst/>
            <a:gdLst/>
            <a:ahLst/>
            <a:rect l="l" t="t" r="r" b="b"/>
            <a:pathLst>
              <a:path w="28" h="1021">
                <a:moveTo>
                  <a:pt x="28" y="0"/>
                </a:moveTo>
                <a:lnTo>
                  <a:pt x="0" y="0"/>
                </a:lnTo>
                <a:lnTo>
                  <a:pt x="0" y="1021"/>
                </a:lnTo>
                <a:lnTo>
                  <a:pt x="28" y="102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Rectangle 41"/>
          <p:cNvSpPr/>
          <p:nvPr/>
        </p:nvSpPr>
        <p:spPr>
          <a:xfrm>
            <a:off x="3897360" y="3433680"/>
            <a:ext cx="44280" cy="1716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Freeform 42"/>
          <p:cNvSpPr/>
          <p:nvPr/>
        </p:nvSpPr>
        <p:spPr>
          <a:xfrm>
            <a:off x="4014720" y="3373560"/>
            <a:ext cx="165240" cy="1776240"/>
          </a:xfrm>
          <a:custGeom>
            <a:avLst/>
            <a:gdLst/>
            <a:ahLst/>
            <a:rect l="l" t="t" r="r" b="b"/>
            <a:pathLst>
              <a:path w="52" h="559">
                <a:moveTo>
                  <a:pt x="29" y="33"/>
                </a:moveTo>
                <a:cubicBezTo>
                  <a:pt x="21" y="38"/>
                  <a:pt x="12" y="41"/>
                  <a:pt x="0" y="42"/>
                </a:cubicBezTo>
                <a:cubicBezTo>
                  <a:pt x="0" y="559"/>
                  <a:pt x="0" y="559"/>
                  <a:pt x="0" y="559"/>
                </a:cubicBezTo>
                <a:cubicBezTo>
                  <a:pt x="52" y="559"/>
                  <a:pt x="52" y="559"/>
                  <a:pt x="52" y="559"/>
                </a:cubicBezTo>
                <a:cubicBezTo>
                  <a:pt x="52" y="0"/>
                  <a:pt x="52" y="0"/>
                  <a:pt x="52" y="0"/>
                </a:cubicBezTo>
                <a:cubicBezTo>
                  <a:pt x="45" y="15"/>
                  <a:pt x="37" y="28"/>
                  <a:pt x="29" y="33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43"/>
          <p:cNvSpPr/>
          <p:nvPr/>
        </p:nvSpPr>
        <p:spPr>
          <a:xfrm>
            <a:off x="4462560" y="3503520"/>
            <a:ext cx="101520" cy="164628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reeform 44"/>
          <p:cNvSpPr/>
          <p:nvPr/>
        </p:nvSpPr>
        <p:spPr>
          <a:xfrm>
            <a:off x="4462560" y="0"/>
            <a:ext cx="101520" cy="1595520"/>
          </a:xfrm>
          <a:custGeom>
            <a:avLst/>
            <a:gdLst/>
            <a:ahLst/>
            <a:rect l="l" t="t" r="r" b="b"/>
            <a:pathLst>
              <a:path w="32" h="502">
                <a:moveTo>
                  <a:pt x="3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02"/>
                  <a:pt x="0" y="502"/>
                  <a:pt x="0" y="502"/>
                </a:cubicBezTo>
                <a:cubicBezTo>
                  <a:pt x="11" y="502"/>
                  <a:pt x="21" y="502"/>
                  <a:pt x="32" y="502"/>
                </a:cubicBezTo>
                <a:lnTo>
                  <a:pt x="32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45"/>
          <p:cNvSpPr/>
          <p:nvPr/>
        </p:nvSpPr>
        <p:spPr>
          <a:xfrm>
            <a:off x="4986360" y="3909960"/>
            <a:ext cx="108000" cy="123984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46"/>
          <p:cNvSpPr/>
          <p:nvPr/>
        </p:nvSpPr>
        <p:spPr>
          <a:xfrm>
            <a:off x="4986360" y="0"/>
            <a:ext cx="108000" cy="163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reeform 47"/>
          <p:cNvSpPr/>
          <p:nvPr/>
        </p:nvSpPr>
        <p:spPr>
          <a:xfrm>
            <a:off x="4640400" y="0"/>
            <a:ext cx="44280" cy="1719360"/>
          </a:xfrm>
          <a:custGeom>
            <a:avLst/>
            <a:gdLst/>
            <a:ahLst/>
            <a:rect l="l" t="t" r="r" b="b"/>
            <a:pathLst>
              <a:path w="14" h="541">
                <a:moveTo>
                  <a:pt x="1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41"/>
                  <a:pt x="0" y="541"/>
                  <a:pt x="0" y="541"/>
                </a:cubicBezTo>
                <a:cubicBezTo>
                  <a:pt x="5" y="541"/>
                  <a:pt x="10" y="541"/>
                  <a:pt x="14" y="541"/>
                </a:cubicBezTo>
                <a:lnTo>
                  <a:pt x="1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Freeform 48"/>
          <p:cNvSpPr/>
          <p:nvPr/>
        </p:nvSpPr>
        <p:spPr>
          <a:xfrm>
            <a:off x="4640400" y="3360600"/>
            <a:ext cx="44280" cy="1789200"/>
          </a:xfrm>
          <a:custGeom>
            <a:avLst/>
            <a:gdLst/>
            <a:ahLst/>
            <a:rect l="l" t="t" r="r" b="b"/>
            <a:pathLst>
              <a:path w="14" h="563">
                <a:moveTo>
                  <a:pt x="0" y="17"/>
                </a:moveTo>
                <a:cubicBezTo>
                  <a:pt x="0" y="563"/>
                  <a:pt x="0" y="563"/>
                  <a:pt x="0" y="563"/>
                </a:cubicBezTo>
                <a:cubicBezTo>
                  <a:pt x="14" y="563"/>
                  <a:pt x="14" y="563"/>
                  <a:pt x="14" y="563"/>
                </a:cubicBezTo>
                <a:cubicBezTo>
                  <a:pt x="14" y="0"/>
                  <a:pt x="14" y="0"/>
                  <a:pt x="14" y="0"/>
                </a:cubicBezTo>
                <a:cubicBezTo>
                  <a:pt x="12" y="7"/>
                  <a:pt x="9" y="12"/>
                  <a:pt x="7" y="16"/>
                </a:cubicBezTo>
                <a:cubicBezTo>
                  <a:pt x="5" y="16"/>
                  <a:pt x="2" y="17"/>
                  <a:pt x="0" y="17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49"/>
          <p:cNvSpPr/>
          <p:nvPr/>
        </p:nvSpPr>
        <p:spPr>
          <a:xfrm>
            <a:off x="4757760" y="3795840"/>
            <a:ext cx="165240" cy="1353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reeform 50"/>
          <p:cNvSpPr/>
          <p:nvPr/>
        </p:nvSpPr>
        <p:spPr>
          <a:xfrm>
            <a:off x="4757760" y="0"/>
            <a:ext cx="165240" cy="1719360"/>
          </a:xfrm>
          <a:custGeom>
            <a:avLst/>
            <a:gdLst/>
            <a:ahLst/>
            <a:rect l="l" t="t" r="r" b="b"/>
            <a:pathLst>
              <a:path w="52" h="541">
                <a:moveTo>
                  <a:pt x="5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41"/>
                  <a:pt x="0" y="541"/>
                  <a:pt x="0" y="541"/>
                </a:cubicBezTo>
                <a:cubicBezTo>
                  <a:pt x="18" y="541"/>
                  <a:pt x="35" y="541"/>
                  <a:pt x="52" y="541"/>
                </a:cubicBezTo>
                <a:lnTo>
                  <a:pt x="52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Freeform 51"/>
          <p:cNvSpPr/>
          <p:nvPr/>
        </p:nvSpPr>
        <p:spPr>
          <a:xfrm>
            <a:off x="5205240" y="3767040"/>
            <a:ext cx="101880" cy="1382760"/>
          </a:xfrm>
          <a:custGeom>
            <a:avLst/>
            <a:gdLst/>
            <a:ahLst/>
            <a:rect l="l" t="t" r="r" b="b"/>
            <a:pathLst>
              <a:path w="32" h="435">
                <a:moveTo>
                  <a:pt x="0" y="0"/>
                </a:moveTo>
                <a:cubicBezTo>
                  <a:pt x="0" y="435"/>
                  <a:pt x="0" y="435"/>
                  <a:pt x="0" y="435"/>
                </a:cubicBezTo>
                <a:cubicBezTo>
                  <a:pt x="32" y="435"/>
                  <a:pt x="32" y="435"/>
                  <a:pt x="32" y="435"/>
                </a:cubicBezTo>
                <a:cubicBezTo>
                  <a:pt x="32" y="0"/>
                  <a:pt x="32" y="0"/>
                  <a:pt x="32" y="0"/>
                </a:cubicBezTo>
                <a:cubicBezTo>
                  <a:pt x="31" y="0"/>
                  <a:pt x="30" y="1"/>
                  <a:pt x="30" y="1"/>
                </a:cubicBezTo>
                <a:lnTo>
                  <a:pt x="0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Freeform 52"/>
          <p:cNvSpPr/>
          <p:nvPr/>
        </p:nvSpPr>
        <p:spPr>
          <a:xfrm>
            <a:off x="5730840" y="3618000"/>
            <a:ext cx="108000" cy="1531800"/>
          </a:xfrm>
          <a:custGeom>
            <a:avLst/>
            <a:gdLst/>
            <a:ahLst/>
            <a:rect l="l" t="t" r="r" b="b"/>
            <a:pathLst>
              <a:path w="34" h="482">
                <a:moveTo>
                  <a:pt x="0" y="49"/>
                </a:moveTo>
                <a:cubicBezTo>
                  <a:pt x="0" y="482"/>
                  <a:pt x="0" y="482"/>
                  <a:pt x="0" y="482"/>
                </a:cubicBezTo>
                <a:cubicBezTo>
                  <a:pt x="34" y="482"/>
                  <a:pt x="34" y="482"/>
                  <a:pt x="34" y="482"/>
                </a:cubicBezTo>
                <a:cubicBezTo>
                  <a:pt x="34" y="0"/>
                  <a:pt x="34" y="0"/>
                  <a:pt x="34" y="0"/>
                </a:cubicBezTo>
                <a:cubicBezTo>
                  <a:pt x="26" y="25"/>
                  <a:pt x="18" y="40"/>
                  <a:pt x="0" y="49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reeform 53"/>
          <p:cNvSpPr/>
          <p:nvPr/>
        </p:nvSpPr>
        <p:spPr>
          <a:xfrm>
            <a:off x="5384880" y="0"/>
            <a:ext cx="44280" cy="1706400"/>
          </a:xfrm>
          <a:custGeom>
            <a:avLst/>
            <a:gdLst/>
            <a:ahLst/>
            <a:rect l="l" t="t" r="r" b="b"/>
            <a:pathLst>
              <a:path w="14" h="537">
                <a:moveTo>
                  <a:pt x="14" y="536"/>
                </a:moveTo>
                <a:cubicBezTo>
                  <a:pt x="14" y="0"/>
                  <a:pt x="14" y="0"/>
                  <a:pt x="1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537"/>
                  <a:pt x="0" y="537"/>
                  <a:pt x="0" y="537"/>
                </a:cubicBezTo>
                <a:cubicBezTo>
                  <a:pt x="4" y="536"/>
                  <a:pt x="9" y="535"/>
                  <a:pt x="14" y="536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Rectangle 54"/>
          <p:cNvSpPr/>
          <p:nvPr/>
        </p:nvSpPr>
        <p:spPr>
          <a:xfrm>
            <a:off x="5384880" y="3719520"/>
            <a:ext cx="44280" cy="1430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Freeform 55"/>
          <p:cNvSpPr/>
          <p:nvPr/>
        </p:nvSpPr>
        <p:spPr>
          <a:xfrm>
            <a:off x="5502240" y="3852720"/>
            <a:ext cx="165240" cy="1297080"/>
          </a:xfrm>
          <a:custGeom>
            <a:avLst/>
            <a:gdLst/>
            <a:ahLst/>
            <a:rect l="l" t="t" r="r" b="b"/>
            <a:pathLst>
              <a:path w="52" h="408">
                <a:moveTo>
                  <a:pt x="0" y="408"/>
                </a:moveTo>
                <a:cubicBezTo>
                  <a:pt x="52" y="408"/>
                  <a:pt x="52" y="408"/>
                  <a:pt x="52" y="408"/>
                </a:cubicBezTo>
                <a:cubicBezTo>
                  <a:pt x="52" y="0"/>
                  <a:pt x="52" y="0"/>
                  <a:pt x="52" y="0"/>
                </a:cubicBezTo>
                <a:cubicBezTo>
                  <a:pt x="39" y="2"/>
                  <a:pt x="22" y="3"/>
                  <a:pt x="0" y="4"/>
                </a:cubicBezTo>
                <a:lnTo>
                  <a:pt x="0" y="408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reeform 56"/>
          <p:cNvSpPr/>
          <p:nvPr/>
        </p:nvSpPr>
        <p:spPr>
          <a:xfrm>
            <a:off x="5950080" y="0"/>
            <a:ext cx="101520" cy="1836720"/>
          </a:xfrm>
          <a:custGeom>
            <a:avLst/>
            <a:gdLst/>
            <a:ahLst/>
            <a:rect l="l" t="t" r="r" b="b"/>
            <a:pathLst>
              <a:path w="32" h="578">
                <a:moveTo>
                  <a:pt x="32" y="553"/>
                </a:moveTo>
                <a:cubicBezTo>
                  <a:pt x="32" y="0"/>
                  <a:pt x="32" y="0"/>
                  <a:pt x="3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578"/>
                  <a:pt x="0" y="578"/>
                  <a:pt x="0" y="578"/>
                </a:cubicBezTo>
                <a:cubicBezTo>
                  <a:pt x="12" y="572"/>
                  <a:pt x="20" y="563"/>
                  <a:pt x="30" y="553"/>
                </a:cubicBezTo>
                <a:cubicBezTo>
                  <a:pt x="31" y="553"/>
                  <a:pt x="31" y="553"/>
                  <a:pt x="32" y="553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reeform 57"/>
          <p:cNvSpPr/>
          <p:nvPr/>
        </p:nvSpPr>
        <p:spPr>
          <a:xfrm>
            <a:off x="6473880" y="3117960"/>
            <a:ext cx="108000" cy="2031840"/>
          </a:xfrm>
          <a:custGeom>
            <a:avLst/>
            <a:gdLst/>
            <a:ahLst/>
            <a:rect l="l" t="t" r="r" b="b"/>
            <a:pathLst>
              <a:path w="34" h="639">
                <a:moveTo>
                  <a:pt x="0" y="639"/>
                </a:moveTo>
                <a:cubicBezTo>
                  <a:pt x="34" y="639"/>
                  <a:pt x="34" y="639"/>
                  <a:pt x="34" y="639"/>
                </a:cubicBezTo>
                <a:cubicBezTo>
                  <a:pt x="34" y="0"/>
                  <a:pt x="34" y="0"/>
                  <a:pt x="34" y="0"/>
                </a:cubicBezTo>
                <a:cubicBezTo>
                  <a:pt x="24" y="7"/>
                  <a:pt x="13" y="11"/>
                  <a:pt x="0" y="13"/>
                </a:cubicBezTo>
                <a:lnTo>
                  <a:pt x="0" y="63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Freeform 58"/>
          <p:cNvSpPr/>
          <p:nvPr/>
        </p:nvSpPr>
        <p:spPr>
          <a:xfrm>
            <a:off x="6127920" y="3057480"/>
            <a:ext cx="44280" cy="2092320"/>
          </a:xfrm>
          <a:custGeom>
            <a:avLst/>
            <a:gdLst/>
            <a:ahLst/>
            <a:rect l="l" t="t" r="r" b="b"/>
            <a:pathLst>
              <a:path w="14" h="658">
                <a:moveTo>
                  <a:pt x="0" y="658"/>
                </a:moveTo>
                <a:cubicBezTo>
                  <a:pt x="14" y="658"/>
                  <a:pt x="14" y="658"/>
                  <a:pt x="14" y="658"/>
                </a:cubicBezTo>
                <a:cubicBezTo>
                  <a:pt x="14" y="12"/>
                  <a:pt x="14" y="12"/>
                  <a:pt x="14" y="12"/>
                </a:cubicBezTo>
                <a:cubicBezTo>
                  <a:pt x="10" y="8"/>
                  <a:pt x="5" y="4"/>
                  <a:pt x="0" y="0"/>
                </a:cubicBezTo>
                <a:lnTo>
                  <a:pt x="0" y="658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reeform 59"/>
          <p:cNvSpPr/>
          <p:nvPr/>
        </p:nvSpPr>
        <p:spPr>
          <a:xfrm>
            <a:off x="6245280" y="3249720"/>
            <a:ext cx="164880" cy="1900080"/>
          </a:xfrm>
          <a:custGeom>
            <a:avLst/>
            <a:gdLst/>
            <a:ahLst/>
            <a:rect l="l" t="t" r="r" b="b"/>
            <a:pathLst>
              <a:path w="52" h="598">
                <a:moveTo>
                  <a:pt x="0" y="0"/>
                </a:moveTo>
                <a:cubicBezTo>
                  <a:pt x="0" y="598"/>
                  <a:pt x="0" y="598"/>
                  <a:pt x="0" y="598"/>
                </a:cubicBezTo>
                <a:cubicBezTo>
                  <a:pt x="52" y="598"/>
                  <a:pt x="52" y="598"/>
                  <a:pt x="52" y="598"/>
                </a:cubicBezTo>
                <a:cubicBezTo>
                  <a:pt x="52" y="8"/>
                  <a:pt x="52" y="8"/>
                  <a:pt x="52" y="8"/>
                </a:cubicBezTo>
                <a:cubicBezTo>
                  <a:pt x="35" y="8"/>
                  <a:pt x="16" y="6"/>
                  <a:pt x="0" y="0"/>
                </a:cubicBez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Freeform 60"/>
          <p:cNvSpPr/>
          <p:nvPr/>
        </p:nvSpPr>
        <p:spPr>
          <a:xfrm>
            <a:off x="6245280" y="0"/>
            <a:ext cx="164880" cy="1719360"/>
          </a:xfrm>
          <a:custGeom>
            <a:avLst/>
            <a:gdLst/>
            <a:ahLst/>
            <a:rect l="l" t="t" r="r" b="b"/>
            <a:pathLst>
              <a:path w="52" h="541">
                <a:moveTo>
                  <a:pt x="52" y="509"/>
                </a:moveTo>
                <a:cubicBezTo>
                  <a:pt x="52" y="0"/>
                  <a:pt x="52" y="0"/>
                  <a:pt x="5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541"/>
                  <a:pt x="0" y="541"/>
                  <a:pt x="0" y="541"/>
                </a:cubicBezTo>
                <a:cubicBezTo>
                  <a:pt x="0" y="541"/>
                  <a:pt x="7" y="524"/>
                  <a:pt x="20" y="516"/>
                </a:cubicBezTo>
                <a:cubicBezTo>
                  <a:pt x="34" y="507"/>
                  <a:pt x="52" y="509"/>
                  <a:pt x="52" y="509"/>
                </a:cubicBez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61"/>
          <p:cNvSpPr/>
          <p:nvPr/>
        </p:nvSpPr>
        <p:spPr>
          <a:xfrm>
            <a:off x="6692760" y="0"/>
            <a:ext cx="10188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Rectangle 62"/>
          <p:cNvSpPr/>
          <p:nvPr/>
        </p:nvSpPr>
        <p:spPr>
          <a:xfrm>
            <a:off x="7218360" y="0"/>
            <a:ext cx="10800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Rectangle 63"/>
          <p:cNvSpPr/>
          <p:nvPr/>
        </p:nvSpPr>
        <p:spPr>
          <a:xfrm>
            <a:off x="6870600" y="0"/>
            <a:ext cx="446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Rectangle 64"/>
          <p:cNvSpPr/>
          <p:nvPr/>
        </p:nvSpPr>
        <p:spPr>
          <a:xfrm>
            <a:off x="6989760" y="0"/>
            <a:ext cx="1652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Rectangle 65"/>
          <p:cNvSpPr/>
          <p:nvPr/>
        </p:nvSpPr>
        <p:spPr>
          <a:xfrm>
            <a:off x="7437600" y="0"/>
            <a:ext cx="10152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Rectangle 66"/>
          <p:cNvSpPr/>
          <p:nvPr/>
        </p:nvSpPr>
        <p:spPr>
          <a:xfrm>
            <a:off x="7961400" y="0"/>
            <a:ext cx="10800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67"/>
          <p:cNvSpPr/>
          <p:nvPr/>
        </p:nvSpPr>
        <p:spPr>
          <a:xfrm>
            <a:off x="7615080" y="0"/>
            <a:ext cx="446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Rectangle 68"/>
          <p:cNvSpPr/>
          <p:nvPr/>
        </p:nvSpPr>
        <p:spPr>
          <a:xfrm>
            <a:off x="7732800" y="0"/>
            <a:ext cx="16488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Rectangle 69"/>
          <p:cNvSpPr/>
          <p:nvPr/>
        </p:nvSpPr>
        <p:spPr>
          <a:xfrm>
            <a:off x="8180280" y="0"/>
            <a:ext cx="10188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70"/>
          <p:cNvSpPr/>
          <p:nvPr/>
        </p:nvSpPr>
        <p:spPr>
          <a:xfrm>
            <a:off x="8705880" y="0"/>
            <a:ext cx="10800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Rectangle 71"/>
          <p:cNvSpPr/>
          <p:nvPr/>
        </p:nvSpPr>
        <p:spPr>
          <a:xfrm>
            <a:off x="8358120" y="0"/>
            <a:ext cx="4464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Rectangle 72"/>
          <p:cNvSpPr/>
          <p:nvPr/>
        </p:nvSpPr>
        <p:spPr>
          <a:xfrm>
            <a:off x="8477280" y="0"/>
            <a:ext cx="16524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73"/>
          <p:cNvSpPr/>
          <p:nvPr/>
        </p:nvSpPr>
        <p:spPr>
          <a:xfrm>
            <a:off x="8924760" y="0"/>
            <a:ext cx="10188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Rectangle 74"/>
          <p:cNvSpPr/>
          <p:nvPr/>
        </p:nvSpPr>
        <p:spPr>
          <a:xfrm>
            <a:off x="9102600" y="0"/>
            <a:ext cx="446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Rectangle 75"/>
          <p:cNvSpPr/>
          <p:nvPr/>
        </p:nvSpPr>
        <p:spPr>
          <a:xfrm>
            <a:off x="5730840" y="0"/>
            <a:ext cx="108000" cy="2124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Rectangle 76"/>
          <p:cNvSpPr/>
          <p:nvPr/>
        </p:nvSpPr>
        <p:spPr>
          <a:xfrm>
            <a:off x="5502240" y="0"/>
            <a:ext cx="165240" cy="17892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Rectangle 77"/>
          <p:cNvSpPr/>
          <p:nvPr/>
        </p:nvSpPr>
        <p:spPr>
          <a:xfrm>
            <a:off x="5205240" y="0"/>
            <a:ext cx="101880" cy="18684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Rectangle 78"/>
          <p:cNvSpPr/>
          <p:nvPr/>
        </p:nvSpPr>
        <p:spPr>
          <a:xfrm>
            <a:off x="6127920" y="0"/>
            <a:ext cx="44280" cy="164952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79"/>
          <p:cNvSpPr/>
          <p:nvPr/>
        </p:nvSpPr>
        <p:spPr>
          <a:xfrm>
            <a:off x="6473880" y="0"/>
            <a:ext cx="108000" cy="1735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Rectangle 80"/>
          <p:cNvSpPr/>
          <p:nvPr/>
        </p:nvSpPr>
        <p:spPr>
          <a:xfrm>
            <a:off x="5950080" y="3351240"/>
            <a:ext cx="101520" cy="1798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Rectangle 81"/>
          <p:cNvSpPr/>
          <p:nvPr/>
        </p:nvSpPr>
        <p:spPr>
          <a:xfrm>
            <a:off x="4014720" y="0"/>
            <a:ext cx="165240" cy="1386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Freeform 86"/>
          <p:cNvSpPr/>
          <p:nvPr/>
        </p:nvSpPr>
        <p:spPr>
          <a:xfrm>
            <a:off x="8047080" y="3943440"/>
            <a:ext cx="541440" cy="396720"/>
          </a:xfrm>
          <a:custGeom>
            <a:avLst/>
            <a:gdLst/>
            <a:ahLst/>
            <a:rect l="l" t="t" r="r" b="b"/>
            <a:pathLst>
              <a:path w="168" h="123">
                <a:moveTo>
                  <a:pt x="154" y="0"/>
                </a:moveTo>
                <a:cubicBezTo>
                  <a:pt x="122" y="46"/>
                  <a:pt x="0" y="18"/>
                  <a:pt x="64" y="123"/>
                </a:cubicBezTo>
                <a:cubicBezTo>
                  <a:pt x="168" y="108"/>
                  <a:pt x="162" y="44"/>
                  <a:pt x="154" y="0"/>
                </a:cubicBezTo>
                <a:close/>
                <a:moveTo>
                  <a:pt x="141" y="24"/>
                </a:moveTo>
                <a:cubicBezTo>
                  <a:pt x="137" y="79"/>
                  <a:pt x="77" y="57"/>
                  <a:pt x="67" y="112"/>
                </a:cubicBezTo>
                <a:cubicBezTo>
                  <a:pt x="62" y="54"/>
                  <a:pt x="131" y="80"/>
                  <a:pt x="141" y="24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Freeform 88"/>
          <p:cNvSpPr/>
          <p:nvPr/>
        </p:nvSpPr>
        <p:spPr>
          <a:xfrm>
            <a:off x="8101080" y="941400"/>
            <a:ext cx="376200" cy="276120"/>
          </a:xfrm>
          <a:custGeom>
            <a:avLst/>
            <a:gdLst/>
            <a:ahLst/>
            <a:rect l="l" t="t" r="r" b="b"/>
            <a:pathLst>
              <a:path w="117" h="86">
                <a:moveTo>
                  <a:pt x="107" y="0"/>
                </a:moveTo>
                <a:cubicBezTo>
                  <a:pt x="85" y="32"/>
                  <a:pt x="0" y="13"/>
                  <a:pt x="45" y="86"/>
                </a:cubicBezTo>
                <a:cubicBezTo>
                  <a:pt x="117" y="75"/>
                  <a:pt x="113" y="31"/>
                  <a:pt x="107" y="0"/>
                </a:cubicBezTo>
                <a:close/>
                <a:moveTo>
                  <a:pt x="98" y="17"/>
                </a:moveTo>
                <a:cubicBezTo>
                  <a:pt x="96" y="55"/>
                  <a:pt x="54" y="40"/>
                  <a:pt x="47" y="78"/>
                </a:cubicBezTo>
                <a:cubicBezTo>
                  <a:pt x="43" y="37"/>
                  <a:pt x="91" y="56"/>
                  <a:pt x="98" y="17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Freeform 89"/>
          <p:cNvSpPr/>
          <p:nvPr/>
        </p:nvSpPr>
        <p:spPr>
          <a:xfrm>
            <a:off x="1927080" y="4197240"/>
            <a:ext cx="335160" cy="246240"/>
          </a:xfrm>
          <a:custGeom>
            <a:avLst/>
            <a:gdLst/>
            <a:ahLst/>
            <a:rect l="l" t="t" r="r" b="b"/>
            <a:pathLst>
              <a:path w="104" h="76">
                <a:moveTo>
                  <a:pt x="95" y="0"/>
                </a:moveTo>
                <a:cubicBezTo>
                  <a:pt x="75" y="29"/>
                  <a:pt x="0" y="11"/>
                  <a:pt x="39" y="76"/>
                </a:cubicBezTo>
                <a:cubicBezTo>
                  <a:pt x="104" y="67"/>
                  <a:pt x="100" y="27"/>
                  <a:pt x="95" y="0"/>
                </a:cubicBezTo>
                <a:close/>
                <a:moveTo>
                  <a:pt x="87" y="15"/>
                </a:moveTo>
                <a:cubicBezTo>
                  <a:pt x="85" y="49"/>
                  <a:pt x="48" y="36"/>
                  <a:pt x="41" y="69"/>
                </a:cubicBezTo>
                <a:cubicBezTo>
                  <a:pt x="38" y="33"/>
                  <a:pt x="81" y="50"/>
                  <a:pt x="87" y="15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Freeform 90"/>
          <p:cNvSpPr/>
          <p:nvPr/>
        </p:nvSpPr>
        <p:spPr>
          <a:xfrm>
            <a:off x="1025640" y="3859200"/>
            <a:ext cx="419040" cy="309600"/>
          </a:xfrm>
          <a:custGeom>
            <a:avLst/>
            <a:gdLst/>
            <a:ahLst/>
            <a:rect l="l" t="t" r="r" b="b"/>
            <a:pathLst>
              <a:path w="130" h="96">
                <a:moveTo>
                  <a:pt x="119" y="0"/>
                </a:moveTo>
                <a:cubicBezTo>
                  <a:pt x="94" y="36"/>
                  <a:pt x="0" y="15"/>
                  <a:pt x="50" y="96"/>
                </a:cubicBezTo>
                <a:cubicBezTo>
                  <a:pt x="130" y="84"/>
                  <a:pt x="125" y="35"/>
                  <a:pt x="119" y="0"/>
                </a:cubicBezTo>
                <a:close/>
                <a:moveTo>
                  <a:pt x="109" y="19"/>
                </a:moveTo>
                <a:cubicBezTo>
                  <a:pt x="106" y="62"/>
                  <a:pt x="60" y="45"/>
                  <a:pt x="52" y="87"/>
                </a:cubicBezTo>
                <a:cubicBezTo>
                  <a:pt x="48" y="42"/>
                  <a:pt x="101" y="62"/>
                  <a:pt x="109" y="19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Freeform 91"/>
          <p:cNvSpPr/>
          <p:nvPr/>
        </p:nvSpPr>
        <p:spPr>
          <a:xfrm>
            <a:off x="606600" y="3164040"/>
            <a:ext cx="869760" cy="663480"/>
          </a:xfrm>
          <a:custGeom>
            <a:avLst/>
            <a:gdLst/>
            <a:ahLst/>
            <a:rect l="l" t="t" r="r" b="b"/>
            <a:pathLst>
              <a:path w="270" h="206">
                <a:moveTo>
                  <a:pt x="51" y="0"/>
                </a:moveTo>
                <a:cubicBezTo>
                  <a:pt x="26" y="63"/>
                  <a:pt x="0" y="155"/>
                  <a:pt x="147" y="206"/>
                </a:cubicBezTo>
                <a:cubicBezTo>
                  <a:pt x="270" y="70"/>
                  <a:pt x="85" y="77"/>
                  <a:pt x="51" y="0"/>
                </a:cubicBezTo>
                <a:close/>
                <a:moveTo>
                  <a:pt x="146" y="188"/>
                </a:moveTo>
                <a:cubicBezTo>
                  <a:pt x="146" y="106"/>
                  <a:pt x="52" y="120"/>
                  <a:pt x="62" y="39"/>
                </a:cubicBezTo>
                <a:cubicBezTo>
                  <a:pt x="62" y="123"/>
                  <a:pt x="169" y="105"/>
                  <a:pt x="146" y="188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Freeform 92"/>
          <p:cNvSpPr/>
          <p:nvPr/>
        </p:nvSpPr>
        <p:spPr>
          <a:xfrm>
            <a:off x="1908000" y="538200"/>
            <a:ext cx="206640" cy="158760"/>
          </a:xfrm>
          <a:custGeom>
            <a:avLst/>
            <a:gdLst/>
            <a:ahLst/>
            <a:rect l="l" t="t" r="r" b="b"/>
            <a:pathLst>
              <a:path w="64" h="49">
                <a:moveTo>
                  <a:pt x="12" y="0"/>
                </a:moveTo>
                <a:cubicBezTo>
                  <a:pt x="6" y="15"/>
                  <a:pt x="0" y="37"/>
                  <a:pt x="35" y="49"/>
                </a:cubicBezTo>
                <a:cubicBezTo>
                  <a:pt x="64" y="17"/>
                  <a:pt x="20" y="18"/>
                  <a:pt x="12" y="0"/>
                </a:cubicBezTo>
                <a:close/>
                <a:moveTo>
                  <a:pt x="35" y="45"/>
                </a:moveTo>
                <a:cubicBezTo>
                  <a:pt x="35" y="25"/>
                  <a:pt x="12" y="29"/>
                  <a:pt x="15" y="9"/>
                </a:cubicBezTo>
                <a:cubicBezTo>
                  <a:pt x="14" y="29"/>
                  <a:pt x="40" y="25"/>
                  <a:pt x="35" y="45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Freeform 93"/>
          <p:cNvSpPr/>
          <p:nvPr/>
        </p:nvSpPr>
        <p:spPr>
          <a:xfrm>
            <a:off x="7818480" y="3160800"/>
            <a:ext cx="735120" cy="557280"/>
          </a:xfrm>
          <a:custGeom>
            <a:avLst/>
            <a:gdLst/>
            <a:ahLst/>
            <a:rect l="l" t="t" r="r" b="b"/>
            <a:pathLst>
              <a:path w="228" h="173">
                <a:moveTo>
                  <a:pt x="43" y="0"/>
                </a:moveTo>
                <a:cubicBezTo>
                  <a:pt x="22" y="53"/>
                  <a:pt x="0" y="130"/>
                  <a:pt x="125" y="173"/>
                </a:cubicBezTo>
                <a:cubicBezTo>
                  <a:pt x="228" y="59"/>
                  <a:pt x="72" y="64"/>
                  <a:pt x="43" y="0"/>
                </a:cubicBezTo>
                <a:close/>
                <a:moveTo>
                  <a:pt x="124" y="159"/>
                </a:moveTo>
                <a:cubicBezTo>
                  <a:pt x="124" y="89"/>
                  <a:pt x="44" y="101"/>
                  <a:pt x="53" y="33"/>
                </a:cubicBezTo>
                <a:cubicBezTo>
                  <a:pt x="52" y="104"/>
                  <a:pt x="143" y="88"/>
                  <a:pt x="124" y="159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reeform 94"/>
          <p:cNvSpPr/>
          <p:nvPr/>
        </p:nvSpPr>
        <p:spPr>
          <a:xfrm>
            <a:off x="6742080" y="4443480"/>
            <a:ext cx="428760" cy="328680"/>
          </a:xfrm>
          <a:custGeom>
            <a:avLst/>
            <a:gdLst/>
            <a:ahLst/>
            <a:rect l="l" t="t" r="r" b="b"/>
            <a:pathLst>
              <a:path w="133" h="102">
                <a:moveTo>
                  <a:pt x="25" y="0"/>
                </a:moveTo>
                <a:cubicBezTo>
                  <a:pt x="13" y="31"/>
                  <a:pt x="0" y="76"/>
                  <a:pt x="73" y="102"/>
                </a:cubicBezTo>
                <a:cubicBezTo>
                  <a:pt x="133" y="34"/>
                  <a:pt x="42" y="38"/>
                  <a:pt x="25" y="0"/>
                </a:cubicBezTo>
                <a:close/>
                <a:moveTo>
                  <a:pt x="72" y="93"/>
                </a:moveTo>
                <a:cubicBezTo>
                  <a:pt x="72" y="52"/>
                  <a:pt x="26" y="59"/>
                  <a:pt x="31" y="19"/>
                </a:cubicBezTo>
                <a:cubicBezTo>
                  <a:pt x="31" y="61"/>
                  <a:pt x="84" y="52"/>
                  <a:pt x="72" y="93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1" name="Picture 2" descr="E:\公司作品\新logo应用\20110708新LOGO应用\锐普PPT红LOGO-02.png"/>
          <p:cNvPicPr/>
          <p:nvPr/>
        </p:nvPicPr>
        <p:blipFill>
          <a:blip r:embed="rId1"/>
          <a:stretch/>
        </p:blipFill>
        <p:spPr>
          <a:xfrm>
            <a:off x="263520" y="171360"/>
            <a:ext cx="941400" cy="366840"/>
          </a:xfrm>
          <a:prstGeom prst="rect">
            <a:avLst/>
          </a:prstGeom>
          <a:ln w="0">
            <a:noFill/>
          </a:ln>
        </p:spPr>
      </p:pic>
      <p:sp>
        <p:nvSpPr>
          <p:cNvPr id="562" name="TextBox 89"/>
          <p:cNvSpPr/>
          <p:nvPr/>
        </p:nvSpPr>
        <p:spPr>
          <a:xfrm>
            <a:off x="3224880" y="200988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f1d22"/>
                </a:solidFill>
                <a:latin typeface="方正粗倩简体"/>
                <a:ea typeface="方正粗倩简体"/>
              </a:rPr>
              <a:t>THANK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Box 90"/>
          <p:cNvSpPr/>
          <p:nvPr/>
        </p:nvSpPr>
        <p:spPr>
          <a:xfrm>
            <a:off x="3504240" y="282744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1d22"/>
                </a:solidFill>
                <a:latin typeface="微软雅黑"/>
                <a:ea typeface="微软雅黑"/>
              </a:rPr>
              <a:t>&gt;&gt;</a:t>
            </a:r>
            <a:r>
              <a:rPr b="0" lang="zh-CN" sz="1800" spc="-1" strike="noStrike">
                <a:solidFill>
                  <a:srgbClr val="8f1d22"/>
                </a:solidFill>
                <a:latin typeface="微软雅黑"/>
                <a:ea typeface="微软雅黑"/>
              </a:rPr>
              <a:t>谢谢观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6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6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8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8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" presetSubtype="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" presetSubtype="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4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4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4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4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45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45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05:31:12Z</dcterms:created>
  <dc:creator>锐普PPT</dc:creator>
  <dc:description>本素材由上海锐普广告有限公司原创，版权受国家法律保护。鼓励您使用和传播，但为了您个人和锐普的利益，请勿用于销售，勿更改版权信息进行传播，否则将承担法律责任。</dc:description>
  <dc:language>en-US</dc:language>
  <cp:lastModifiedBy>锐普PPT</cp:lastModifiedBy>
  <dcterms:modified xsi:type="dcterms:W3CDTF">2015-07-04T03:03:04Z</dcterms:modified>
  <cp:revision>752</cp:revision>
  <dc:subject/>
  <dc:title>朴素师恩-锐普2011年教师节免费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