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CD91-E623-4DE4-B414-64B9616A7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A003-9718-44B1-B207-F156DD1F7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1099-0136-4F4D-B6BE-68754E92D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1BD7-D1D9-4A2B-9A9C-6D325C4D3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F79B4-6A84-4E1C-85B3-624933D83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76F1B-24B8-4428-B0CF-0BB9F6135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EE007-78EB-4233-A324-3A38368B8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3F614-4E76-4A17-B97B-393C527E3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E3538-0517-4BE8-9943-1A44D3101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74C4B-DDE8-4BE6-BA24-46911273F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FC628-A77A-4F34-B662-63DE7FD2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F8A5-711F-4FF1-984B-7E78EBCF1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6A4BC-063D-45AD-B9AA-71FAF1D8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07749-4A50-478E-AA5C-0B674E424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A45E3-1B5F-4E8E-8C18-14447CA26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77F44-5576-4EF9-A3C3-FC856F970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83176-D277-4FB1-B12F-A6C3A51D2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5E47-4E1A-4AF1-99B0-E7A2415EF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5402-E54B-4365-AC6D-D83319875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7450-A138-4B64-AFCC-9FC9E456B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D281-08E4-4A52-A1C4-86EFB524B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58D1-F951-4766-8553-739BCF59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ED0C-2E25-416F-916E-0F481F3D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FA85-A7E2-43E3-ABA2-3C36E3795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303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华文细黑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8078A-03F1-4B31-BDD2-B50C001955D6}" type="datetime">
              <a:rPr b="0" lang="zh-CN" sz="1200" spc="-1" strike="noStrike">
                <a:solidFill>
                  <a:srgbClr val="000000"/>
                </a:solidFill>
                <a:latin typeface="华文细黑"/>
                <a:ea typeface="华文细黑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0396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303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华文细黑"/>
                <a:ea typeface="华文细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6602F-1F93-4691-8132-7AFFAC81004A}" type="slidenum">
              <a:rPr b="0" lang="zh-CN" sz="1200" spc="-1" strike="noStrike">
                <a:solidFill>
                  <a:srgbClr val="000000"/>
                </a:solidFill>
                <a:latin typeface="华文细黑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华文细黑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95547-420B-4342-B2E7-4085A6BC02E3}" type="datetime">
              <a:rPr b="0" lang="zh-CN" sz="1200" spc="-1" strike="noStrike">
                <a:solidFill>
                  <a:srgbClr val="000000"/>
                </a:solidFill>
                <a:latin typeface="华文细黑"/>
                <a:ea typeface="华文细黑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华文细黑"/>
                <a:ea typeface="华文细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EFB29-C7EE-45BE-A11E-8A401303888E}" type="slidenum">
              <a:rPr b="0" lang="zh-CN" sz="1200" spc="-1" strike="noStrike">
                <a:solidFill>
                  <a:srgbClr val="000000"/>
                </a:solidFill>
                <a:latin typeface="华文细黑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3"/>
          <p:cNvSpPr/>
          <p:nvPr/>
        </p:nvSpPr>
        <p:spPr>
          <a:xfrm>
            <a:off x="0" y="19890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00"/>
                </a:solidFill>
                <a:latin typeface="Times New Roman"/>
                <a:ea typeface="华文新魏"/>
              </a:rPr>
              <a:t> 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黑体"/>
              </a:rPr>
              <a:t>开学了，你准备好了吗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楷体"/>
                <a:ea typeface="楷体"/>
              </a:rPr>
              <a:t>——</a:t>
            </a:r>
            <a:r>
              <a:rPr b="1" lang="en-US" sz="3600" spc="-1" strike="noStrike">
                <a:solidFill>
                  <a:srgbClr val="3333cc"/>
                </a:solidFill>
                <a:latin typeface="楷体"/>
                <a:ea typeface="楷体"/>
              </a:rPr>
              <a:t>2015</a:t>
            </a:r>
            <a:r>
              <a:rPr b="1" lang="zh-CN" sz="3600" spc="-1" strike="noStrike">
                <a:solidFill>
                  <a:srgbClr val="3333cc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3333cc"/>
                </a:solidFill>
                <a:latin typeface="楷体"/>
                <a:ea typeface="楷体"/>
              </a:rPr>
              <a:t>开学第一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37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嫁给幸福（汪国真）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6972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细黑"/>
              </a:rPr>
              <a:t>有一个未来的目标，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细黑"/>
              </a:rPr>
              <a:t>总能让我们欢欣鼓舞。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细黑"/>
              </a:rPr>
              <a:t>就像飞向火光的灰蛾，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细黑"/>
              </a:rPr>
              <a:t>甘愿做烈焰的俘虏，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细黑"/>
              </a:rPr>
              <a:t>摆动着的是你不停的脚步，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细黑"/>
              </a:rPr>
              <a:t>飞旋着的是你不停的流苏。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细黑"/>
              </a:rPr>
              <a:t>美丽，在一往情深的日子里，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细黑"/>
              </a:rPr>
              <a:t>有谁说得清，什么是甜，什么是苦。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细黑"/>
              </a:rPr>
              <a:t>只知道，确定了就义无反顾。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细黑"/>
              </a:rPr>
              <a:t>要输就输给追求，要嫁就嫁给幸福。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文本框 1"/>
          <p:cNvSpPr/>
          <p:nvPr/>
        </p:nvSpPr>
        <p:spPr>
          <a:xfrm>
            <a:off x="0" y="549360"/>
            <a:ext cx="9144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晚自习作业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8.3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宋体"/>
              </a:rPr>
              <a:t>、完成一篇小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2060"/>
                </a:solidFill>
                <a:latin typeface="Arial"/>
                <a:ea typeface="宋体"/>
              </a:rPr>
              <a:t>两个月的暑期生活结束了，重新回到久违的班级，你发现身边的同学有了哪些新变化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2060"/>
                </a:solidFill>
                <a:latin typeface="Arial"/>
                <a:ea typeface="宋体"/>
              </a:rPr>
              <a:t>选取一个最触动你的同学，以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宋体"/>
              </a:rPr>
              <a:t>《</a:t>
            </a:r>
            <a:r>
              <a:rPr b="1" lang="zh-CN" sz="2800" spc="-1" strike="noStrike">
                <a:solidFill>
                  <a:srgbClr val="002060"/>
                </a:solidFill>
                <a:latin typeface="Arial"/>
                <a:ea typeface="宋体"/>
              </a:rPr>
              <a:t>发现了一个不一样的你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宋体"/>
              </a:rPr>
              <a:t>》</a:t>
            </a:r>
            <a:r>
              <a:rPr b="1" lang="zh-CN" sz="2800" spc="-1" strike="noStrike">
                <a:solidFill>
                  <a:srgbClr val="002060"/>
                </a:solidFill>
                <a:latin typeface="Arial"/>
                <a:ea typeface="宋体"/>
              </a:rPr>
              <a:t>为题，写一篇记叙类文章。注意细节的表现，写出真情实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宋体"/>
              </a:rPr>
              <a:t>、阅读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宋体"/>
              </a:rPr>
              <a:t>+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宋体"/>
              </a:rPr>
              <a:t>摘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-18000" y="0"/>
            <a:ext cx="91616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一、语言文字运用（</a:t>
            </a:r>
            <a:r>
              <a:rPr b="1" lang="en-US" sz="2400" spc="-1" strike="noStrike">
                <a:solidFill>
                  <a:srgbClr val="000000"/>
                </a:solidFill>
                <a:latin typeface="华文细黑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分）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细黑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．在下面一段话空缺处依次填入词语，最恰当的一组是（</a:t>
            </a:r>
            <a:r>
              <a:rPr b="1" lang="en-US" sz="2400" spc="-1" strike="noStrike">
                <a:solidFill>
                  <a:srgbClr val="000000"/>
                </a:solidFill>
                <a:latin typeface="华文细黑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分）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最使我艳羡的还是园林艺术家化平淡为神奇的</a:t>
            </a:r>
            <a:r>
              <a:rPr b="1" lang="en-US" sz="2400" spc="-1" strike="noStrike">
                <a:solidFill>
                  <a:srgbClr val="000000"/>
                </a:solidFill>
                <a:latin typeface="华文细黑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。某些树木当植当伐；某些花卉当疏当密；何处须巧借地形，顺势筑坡；何处又宜少见轩敞，</a:t>
            </a:r>
            <a:r>
              <a:rPr b="1" lang="en-US" sz="2400" spc="-1" strike="noStrike">
                <a:solidFill>
                  <a:srgbClr val="000000"/>
                </a:solidFill>
                <a:latin typeface="华文细黑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：所有这一切都煞费心血，但又不露惨淡经营的痕迹，正像一帧名作脱稿前画师那奇绝而</a:t>
            </a:r>
            <a:r>
              <a:rPr b="1" lang="en-US" sz="2400" spc="-1" strike="noStrike">
                <a:solidFill>
                  <a:srgbClr val="000000"/>
                </a:solidFill>
                <a:latin typeface="华文细黑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的点睛之笔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华文细黑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．用心  别树一帜  浑成      </a:t>
            </a:r>
            <a:r>
              <a:rPr b="1" lang="en-US" sz="2400" spc="-1" strike="noStrike">
                <a:solidFill>
                  <a:srgbClr val="000000"/>
                </a:solidFill>
                <a:latin typeface="华文细黑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．匠心  别树一帜  饱满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华文细黑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．匠心  别有洞天  浑成      </a:t>
            </a:r>
            <a:r>
              <a:rPr b="1" lang="en-US" sz="2400" spc="-1" strike="noStrike">
                <a:solidFill>
                  <a:srgbClr val="000000"/>
                </a:solidFill>
                <a:latin typeface="华文细黑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．用心  别有洞天  饱满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细黑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．下列诗句与“墙头雨细垂纤草”对仗工整的一项是（</a:t>
            </a:r>
            <a:r>
              <a:rPr b="1" lang="en-US" sz="2400" spc="-1" strike="noStrike">
                <a:solidFill>
                  <a:srgbClr val="000000"/>
                </a:solidFill>
                <a:latin typeface="华文细黑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分）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华文细黑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．水面风回聚落花            </a:t>
            </a:r>
            <a:r>
              <a:rPr b="1" lang="en-US" sz="2400" spc="-1" strike="noStrike">
                <a:solidFill>
                  <a:srgbClr val="000000"/>
                </a:solidFill>
                <a:latin typeface="华文细黑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．数峰无语立斜阳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华文细黑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．楼上春容带雨来            </a:t>
            </a:r>
            <a:r>
              <a:rPr b="1" lang="en-US" sz="2400" spc="-1" strike="noStrike">
                <a:solidFill>
                  <a:srgbClr val="000000"/>
                </a:solidFill>
                <a:latin typeface="华文细黑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．蝉曳残声过别枝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2320" y="30240"/>
            <a:ext cx="9121680" cy="68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细黑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．下列交际用语使用不得体的一项是（</a:t>
            </a:r>
            <a:r>
              <a:rPr b="1" lang="en-US" sz="2400" spc="-1" strike="noStrike">
                <a:solidFill>
                  <a:srgbClr val="000000"/>
                </a:solidFill>
                <a:latin typeface="华文细黑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分）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华文细黑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．涂鸦之作，不足当先生一哂，如蒙赐正，小子不胜感激！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华文细黑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．欣闻敝校百年校庆，本人忝为校友，因事不能躬临为歉！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华文细黑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．吉日良辰，花好月圆，恭祝一对璧人并蒂同心、白首偕老！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华文细黑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．家母古稀之庆，承蒙各位亲友光临，略备薄酒，敬答厚意！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细黑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．在下面一段文字横线处填入语句，衔接最恰当的一项是（</a:t>
            </a:r>
            <a:r>
              <a:rPr b="1" lang="en-US" sz="2400" spc="-1" strike="noStrike">
                <a:solidFill>
                  <a:srgbClr val="000000"/>
                </a:solidFill>
                <a:latin typeface="华文细黑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分）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遥远的</a:t>
            </a:r>
            <a:r>
              <a:rPr b="1" lang="zh-CN" sz="2400" spc="-1" strike="noStrike">
                <a:solidFill>
                  <a:srgbClr val="009dd9"/>
                </a:solidFill>
                <a:latin typeface="华文细黑"/>
              </a:rPr>
              <a:t>箕山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，渐渐化成了一幢巨影，遮断了我的视线。</a:t>
            </a:r>
            <a:r>
              <a:rPr b="1" lang="en-US" sz="2400" spc="-1" strike="noStrike">
                <a:solidFill>
                  <a:srgbClr val="000000"/>
                </a:solidFill>
                <a:latin typeface="华文细黑"/>
              </a:rPr>
              <a:t>________________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我在那个</a:t>
            </a:r>
            <a:r>
              <a:rPr b="1" lang="zh-CN" sz="2400" spc="-1" strike="noStrike">
                <a:solidFill>
                  <a:srgbClr val="e2d700"/>
                </a:solidFill>
                <a:latin typeface="华文细黑"/>
              </a:rPr>
              <a:t>遗址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上发掘了很久，但一无所获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①如果是冬日晴空，从那里可以一直眺望到中岳嵩山齿形的轮廓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②</a:t>
            </a:r>
            <a:r>
              <a:rPr b="1" lang="zh-CN" sz="2400" spc="-1" strike="noStrike">
                <a:solidFill>
                  <a:srgbClr val="009dd9"/>
                </a:solidFill>
                <a:latin typeface="华文细黑"/>
              </a:rPr>
              <a:t>箕顶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宽敞平坦，烟树素淡，悄寂无声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③而</a:t>
            </a:r>
            <a:r>
              <a:rPr b="1" lang="zh-CN" sz="2400" spc="-1" strike="noStrike">
                <a:solidFill>
                  <a:srgbClr val="e2d700"/>
                </a:solidFill>
                <a:latin typeface="华文细黑"/>
              </a:rPr>
              <a:t>遗址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都在下面的河边，那低伏的王城岗上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④山势平缓，从山脚慢慢上坡，一阵工夫就可以到达</a:t>
            </a:r>
            <a:r>
              <a:rPr b="1" lang="zh-CN" sz="2400" spc="-1" strike="noStrike">
                <a:solidFill>
                  <a:srgbClr val="009dd9"/>
                </a:solidFill>
                <a:latin typeface="华文细黑"/>
              </a:rPr>
              <a:t>箕顶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⑤如此空旷，让人略感凄凉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华文细黑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．①②④⑤③        </a:t>
            </a:r>
            <a:r>
              <a:rPr b="1" lang="en-US" sz="2400" spc="-1" strike="noStrike">
                <a:solidFill>
                  <a:srgbClr val="000000"/>
                </a:solidFill>
                <a:latin typeface="华文细黑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．①④⑤③②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华文细黑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．④①③②⑤        </a:t>
            </a:r>
            <a:r>
              <a:rPr b="1" lang="en-US" sz="2400" spc="-1" strike="noStrike">
                <a:solidFill>
                  <a:srgbClr val="000000"/>
                </a:solidFill>
                <a:latin typeface="华文细黑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．④②⑤①③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．阅读右边这幅漫画，对它的寓意理解最贴切的一项是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41911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细黑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华文细黑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．人如果不用眼睛看，而只用耳朵听，肯定会受骗上当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华文细黑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．人生一般总是在两种互相矛盾的真理之间寻找中庸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华文细黑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．我们很少想到我们有什么，可是总想到我们缺什么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华文细黑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．我们不仅希望我们自己幸福，而且也希望他人幸福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pic>
        <p:nvPicPr>
          <p:cNvPr id="98" name="Picture 4" descr="高考资源网(ks5u.com),中国最大的高考网站,您身边的高考专家。"/>
          <p:cNvPicPr/>
          <p:nvPr/>
        </p:nvPicPr>
        <p:blipFill>
          <a:blip r:embed="rId1"/>
          <a:stretch/>
        </p:blipFill>
        <p:spPr>
          <a:xfrm>
            <a:off x="2514600" y="1219320"/>
            <a:ext cx="32590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文本框 1"/>
          <p:cNvSpPr/>
          <p:nvPr/>
        </p:nvSpPr>
        <p:spPr>
          <a:xfrm>
            <a:off x="395280" y="1773360"/>
            <a:ext cx="8064360" cy="28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一、认识你的新搭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崔永元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《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不过如此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邵（逸夫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402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进门的第二张桌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文本框 1"/>
          <p:cNvSpPr/>
          <p:nvPr/>
        </p:nvSpPr>
        <p:spPr>
          <a:xfrm>
            <a:off x="395280" y="1270080"/>
            <a:ext cx="842472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二、正视你的老“朋友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、爱与不爱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宋体"/>
              </a:rPr>
              <a:t>（高分与均分的分水岭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柴静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《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看见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韩寒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《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后会无期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文本框 1"/>
          <p:cNvSpPr/>
          <p:nvPr/>
        </p:nvSpPr>
        <p:spPr>
          <a:xfrm>
            <a:off x="366840" y="1270080"/>
            <a:ext cx="864216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二、正视你的老“朋友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、想与不想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宋体"/>
              </a:rPr>
              <a:t>（均分与低分的分水岭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林清玄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《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半梦半醒之间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文本框 1"/>
          <p:cNvSpPr/>
          <p:nvPr/>
        </p:nvSpPr>
        <p:spPr>
          <a:xfrm>
            <a:off x="395280" y="1270080"/>
            <a:ext cx="874872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二、正视你的老“朋友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、做与不做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宋体"/>
              </a:rPr>
              <a:t>（分数高下的决胜关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《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职来职往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》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南开大学的应征者二次高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简单的事情重复地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重复的事情用心地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文本框 1"/>
          <p:cNvSpPr/>
          <p:nvPr/>
        </p:nvSpPr>
        <p:spPr>
          <a:xfrm>
            <a:off x="395280" y="1270080"/>
            <a:ext cx="8424720" cy="28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三、重视你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半壁江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胡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**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的要命作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陈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*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的得心之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顾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**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的大意失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文本框 1"/>
          <p:cNvSpPr/>
          <p:nvPr/>
        </p:nvSpPr>
        <p:spPr>
          <a:xfrm>
            <a:off x="0" y="1989000"/>
            <a:ext cx="896472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黑体"/>
              </a:rPr>
              <a:t>高考阅卷组组长骆冬青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建议中学作文教学也应当做出变革：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</a:rPr>
              <a:t>多写记叙文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刘震云：生活远比相声小品有趣。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</a:rPr>
              <a:t>生活中不乏可笑之事，关键我们是否长了一双可笑的眼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文本框 1"/>
          <p:cNvSpPr/>
          <p:nvPr/>
        </p:nvSpPr>
        <p:spPr>
          <a:xfrm>
            <a:off x="0" y="1270080"/>
            <a:ext cx="91440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四、开启你一轮复习的新征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时间跨度：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9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号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—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期末考试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22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23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准备：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日知录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》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正反、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素材本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》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正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        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《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作业本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》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《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默写本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        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《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大    作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》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《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小   作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文本框 1"/>
          <p:cNvSpPr/>
          <p:nvPr/>
        </p:nvSpPr>
        <p:spPr>
          <a:xfrm>
            <a:off x="0" y="12700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作业要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、一次认真的练习远胜于一百次的囫囵吞枣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、限时完成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、加强书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罗曼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罗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贝多芬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许永峰</dc:creator>
  <dc:description/>
  <cp:keywords/>
  <dc:language>en-US</dc:language>
  <cp:lastModifiedBy>邵小燕</cp:lastModifiedBy>
  <dcterms:modified xsi:type="dcterms:W3CDTF">2014-08-30T07:26:55Z</dcterms:modified>
  <cp:revision>2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