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72943-8953-430A-862A-E9FBFA86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692E4-A4F1-4431-9BAA-0107AE87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E7A23-4031-49F9-803D-C82D307D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64665-6387-4848-9992-A0FC2285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86227-971B-45EE-BCC1-8E755317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731D6-3D4B-4A13-A150-4EA071FE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F4B3E-5E37-4D7A-AF51-235396EE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35FD9-C5F3-4C08-986B-413563D4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93580-89CB-4BCB-9D0A-74F98D32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F617-9F7B-42B1-9EFA-FA460E07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9465-611E-4F43-B6E7-4417FCA0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693F-D1FB-469E-9455-5B2A9E3F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79D-1D00-4769-8EFB-BAC3D761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A211-29F2-4E20-879D-DBC758E7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0F9-6DDE-447D-AE00-629DD5A6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E44D-A08A-452D-883B-212B7177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3404-5205-459C-B7B8-996D4D00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5DE2-637A-4F7B-B61A-6499975A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30A-DC96-4CBC-9EF6-641AEFD9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6A7-FF3F-4F8D-8B13-61217E99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F637-7DB0-4944-841E-2348F8C9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572F-B648-44E0-8A54-C8E3921D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DA8B-05B9-4962-B7C1-1F621A2A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9431-3C8D-4655-AAA6-F93F5309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5217-E834-48A2-93D6-F15C3B28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2767-3992-498D-BA61-62198CE6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43AF-065D-4572-A456-AC008050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E043-8F9A-4430-8813-E24EABEE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85A6-9F9D-4DF7-B1D0-1BCE4617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5116-F67E-4303-A41F-DEDEC069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0A32-26EF-47A4-A718-F1ED40AD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BE49-C46C-4309-BFB6-FDB198CC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C295-DDCD-498D-B66C-B791B7E7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53BD0-7895-4F74-99D0-B94BAB44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14D1-BB56-4426-85AD-08994B1A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ECF4B-B1D9-4FF2-81AF-B755079E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1F309-7BFD-474D-A330-02A17141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600BE-CF78-42A5-B458-9C705D92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D0A2D-5AF8-4249-8900-DE8938A9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F6F7E-0524-4994-9311-F767302A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ACFBB-235E-40AC-8604-01AE04D6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6EE12-494D-4ECA-B76E-F6BB116D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0A7B4-B5C5-49E5-BA16-3E0B2E35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EBBC4-6369-472F-9AAF-22E067EF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4A7AA-46EE-45E4-8649-A8F0D170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6412B-22AE-4712-A35D-D26CCC38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9F754-47B4-4B2E-AA2C-DF37F9BD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36F02-DB7A-41E4-A8EB-029B39B8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A3968-9B46-444E-8F91-D741EEB0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84DB2-9434-4787-B1B4-FF16AE3F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86358-BCFA-436A-AEB5-51AADA49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278D3-738E-4B91-ACAB-A1012F82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24EDA-4EA0-4222-9D12-8A9AFB24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A6FE1-9D18-41B6-8CE5-BC25E572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2E3D6-C1EC-4D71-B85F-8B597539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B36E0-1412-4B9A-B8F8-13BD7D4A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74B8A-458E-483B-BBC4-C33B389D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E9F81-967D-4002-B078-12F8CF77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73743-928C-4494-A39D-F55463D3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8606D-BB27-4EB7-BC21-0CBA0EAC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70E9D-AA2A-430D-982C-35F1161C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E5A1B-85CC-409B-9F27-DC469591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FF766-78B1-449F-8202-2AE193A3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8E762-AEF0-41E3-9C78-B0A6C3CB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78106-FDA0-440A-9113-9DA80F1B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758B0-C34D-4517-BDFA-7B584C2C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59F4A-6AE4-4CEE-BF3E-D5BFC830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D6088-BCE3-480E-A868-DCF32058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1900E-0085-4B3D-9049-5AF6AE4F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70FB1-C8A7-486F-8019-97D0D2A5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9A90E-6459-45D8-9B60-0A7F5053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65C8B-1164-49D6-9197-5A170755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80A30-3AD5-4C12-8C68-7060755B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C773A-5E1F-4824-ACE5-DFDDCC0D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BEB76-82B8-48B6-9E56-7A51D124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8BF4B-D40D-4A38-BBC6-52D9BEC7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A0187-2C27-4334-A3C1-0480909C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9B2F7-09D8-4215-843C-FA2FE2E3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4E5DC-B3F0-4F4E-9D1C-A85DB31E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D59EA-27E6-49FB-AE0B-8C712620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00618-7EF3-4E17-AF86-1DA523D5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25D20-D61B-4ECB-A177-A8D52B07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95A25-7275-4B80-9630-D16A118B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2A844-73F2-4E65-89B7-11D95051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0EDAA-6DB0-4C8E-A7E2-80BF5FB8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3FF02-D43F-4026-AAC3-13932298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0D233-6F5F-45BF-93C9-E689892E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F0CDD-136A-42BA-9002-BCE6F436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473D7-3E7D-4F0C-B208-B22E5319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44C04-F88C-46FF-8E67-A706669E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9940F-6960-47A7-8A3D-FA49EE2B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D3B6F-AF8D-439E-A7F7-E94E3DBF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4DB02-CEC1-41C2-A791-7D31E894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5B07A-C1A5-451C-B0F2-29D10AB4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6C16F-A242-41AB-B540-CAC62876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8C659-11D2-49AB-AA80-CE29BBA1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36F1-213C-48F3-BB2D-B45278F61653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170C-A9AB-4C20-8D69-C9817CCD0F59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F791-4CA1-4539-A0EF-B672B4643E14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4FB6-6907-4252-9AC1-9174210D2D50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C5E5-06BA-4D19-932A-BCB345F31F2E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6A8D-44F6-4CDE-A6EA-C9BEE35605E3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EB97-D0ED-400B-8DC0-CF5DD3DAD45C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AEBD-9B97-46D4-A999-443EF032CCF4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0" y="0"/>
            <a:ext cx="101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523800" y="0"/>
            <a:ext cx="10800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177840" y="0"/>
            <a:ext cx="4752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29520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743040" y="0"/>
            <a:ext cx="10296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126828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922320" y="0"/>
            <a:ext cx="47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1039680" y="0"/>
            <a:ext cx="1652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1487520" y="0"/>
            <a:ext cx="10152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16"/>
          <p:cNvSpPr/>
          <p:nvPr/>
        </p:nvSpPr>
        <p:spPr>
          <a:xfrm>
            <a:off x="2008080" y="0"/>
            <a:ext cx="111240" cy="5149800"/>
          </a:xfrm>
          <a:custGeom>
            <a:avLst/>
            <a:gdLst/>
            <a:ahLst/>
            <a:rect l="l" t="t" r="r" b="b"/>
            <a:pathLst>
              <a:path w="35" h="1620">
                <a:moveTo>
                  <a:pt x="5" y="774"/>
                </a:moveTo>
                <a:cubicBezTo>
                  <a:pt x="0" y="747"/>
                  <a:pt x="14" y="728"/>
                  <a:pt x="20" y="711"/>
                </a:cubicBezTo>
                <a:cubicBezTo>
                  <a:pt x="20" y="741"/>
                  <a:pt x="20" y="741"/>
                  <a:pt x="20" y="741"/>
                </a:cubicBezTo>
                <a:cubicBezTo>
                  <a:pt x="22" y="755"/>
                  <a:pt x="28" y="768"/>
                  <a:pt x="35" y="778"/>
                </a:cubicBezTo>
                <a:cubicBezTo>
                  <a:pt x="35" y="0"/>
                  <a:pt x="35" y="0"/>
                  <a:pt x="35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620"/>
                  <a:pt x="1" y="1620"/>
                  <a:pt x="1" y="1620"/>
                </a:cubicBezTo>
                <a:cubicBezTo>
                  <a:pt x="35" y="1620"/>
                  <a:pt x="35" y="1620"/>
                  <a:pt x="35" y="1620"/>
                </a:cubicBezTo>
                <a:cubicBezTo>
                  <a:pt x="35" y="822"/>
                  <a:pt x="35" y="822"/>
                  <a:pt x="35" y="822"/>
                </a:cubicBezTo>
                <a:cubicBezTo>
                  <a:pt x="20" y="809"/>
                  <a:pt x="9" y="793"/>
                  <a:pt x="5" y="774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1665360" y="0"/>
            <a:ext cx="4428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18"/>
          <p:cNvSpPr/>
          <p:nvPr/>
        </p:nvSpPr>
        <p:spPr>
          <a:xfrm>
            <a:off x="178272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19"/>
          <p:cNvSpPr/>
          <p:nvPr/>
        </p:nvSpPr>
        <p:spPr>
          <a:xfrm>
            <a:off x="2230560" y="2784600"/>
            <a:ext cx="102960" cy="2365200"/>
          </a:xfrm>
          <a:custGeom>
            <a:avLst/>
            <a:gdLst/>
            <a:ahLst/>
            <a:rect l="l" t="t" r="r" b="b"/>
            <a:pathLst>
              <a:path w="32" h="744">
                <a:moveTo>
                  <a:pt x="0" y="744"/>
                </a:moveTo>
                <a:cubicBezTo>
                  <a:pt x="32" y="744"/>
                  <a:pt x="32" y="744"/>
                  <a:pt x="32" y="744"/>
                </a:cubicBezTo>
                <a:cubicBezTo>
                  <a:pt x="32" y="9"/>
                  <a:pt x="32" y="9"/>
                  <a:pt x="32" y="9"/>
                </a:cubicBezTo>
                <a:cubicBezTo>
                  <a:pt x="21" y="7"/>
                  <a:pt x="10" y="4"/>
                  <a:pt x="0" y="0"/>
                </a:cubicBezTo>
                <a:lnTo>
                  <a:pt x="0" y="744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20"/>
          <p:cNvSpPr/>
          <p:nvPr/>
        </p:nvSpPr>
        <p:spPr>
          <a:xfrm>
            <a:off x="2230560" y="0"/>
            <a:ext cx="102960" cy="2498760"/>
          </a:xfrm>
          <a:custGeom>
            <a:avLst/>
            <a:gdLst/>
            <a:ahLst/>
            <a:rect l="l" t="t" r="r" b="b"/>
            <a:pathLst>
              <a:path w="32" h="786">
                <a:moveTo>
                  <a:pt x="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775"/>
                  <a:pt x="0" y="775"/>
                  <a:pt x="0" y="775"/>
                </a:cubicBezTo>
                <a:cubicBezTo>
                  <a:pt x="10" y="780"/>
                  <a:pt x="21" y="784"/>
                  <a:pt x="32" y="786"/>
                </a:cubicBezTo>
                <a:lnTo>
                  <a:pt x="3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21"/>
          <p:cNvSpPr/>
          <p:nvPr/>
        </p:nvSpPr>
        <p:spPr>
          <a:xfrm>
            <a:off x="2755800" y="0"/>
            <a:ext cx="108000" cy="2232000"/>
          </a:xfrm>
          <a:custGeom>
            <a:avLst/>
            <a:gdLst/>
            <a:ahLst/>
            <a:rect l="l" t="t" r="r" b="b"/>
            <a:pathLst>
              <a:path w="34" h="702">
                <a:moveTo>
                  <a:pt x="0" y="702"/>
                </a:moveTo>
                <a:cubicBezTo>
                  <a:pt x="20" y="678"/>
                  <a:pt x="32" y="639"/>
                  <a:pt x="34" y="626"/>
                </a:cubicBezTo>
                <a:cubicBezTo>
                  <a:pt x="34" y="0"/>
                  <a:pt x="34" y="0"/>
                  <a:pt x="34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22"/>
          <p:cNvSpPr/>
          <p:nvPr/>
        </p:nvSpPr>
        <p:spPr>
          <a:xfrm>
            <a:off x="2755800" y="2806560"/>
            <a:ext cx="108000" cy="2343240"/>
          </a:xfrm>
          <a:custGeom>
            <a:avLst/>
            <a:gdLst/>
            <a:ahLst/>
            <a:rect l="l" t="t" r="r" b="b"/>
            <a:pathLst>
              <a:path w="34" h="737">
                <a:moveTo>
                  <a:pt x="0" y="737"/>
                </a:moveTo>
                <a:cubicBezTo>
                  <a:pt x="34" y="737"/>
                  <a:pt x="34" y="737"/>
                  <a:pt x="34" y="737"/>
                </a:cubicBezTo>
                <a:cubicBezTo>
                  <a:pt x="34" y="0"/>
                  <a:pt x="34" y="0"/>
                  <a:pt x="34" y="0"/>
                </a:cubicBezTo>
                <a:cubicBezTo>
                  <a:pt x="23" y="6"/>
                  <a:pt x="12" y="12"/>
                  <a:pt x="0" y="17"/>
                </a:cubicBezTo>
                <a:lnTo>
                  <a:pt x="0" y="73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Freeform 23"/>
          <p:cNvSpPr/>
          <p:nvPr/>
        </p:nvSpPr>
        <p:spPr>
          <a:xfrm>
            <a:off x="2409840" y="0"/>
            <a:ext cx="44280" cy="2432160"/>
          </a:xfrm>
          <a:custGeom>
            <a:avLst/>
            <a:gdLst/>
            <a:ahLst/>
            <a:rect l="l" t="t" r="r" b="b"/>
            <a:pathLst>
              <a:path w="14" h="765">
                <a:moveTo>
                  <a:pt x="14" y="765"/>
                </a:moveTo>
                <a:cubicBezTo>
                  <a:pt x="14" y="0"/>
                  <a:pt x="14" y="0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765"/>
                  <a:pt x="0" y="765"/>
                  <a:pt x="0" y="765"/>
                </a:cubicBezTo>
                <a:cubicBezTo>
                  <a:pt x="5" y="765"/>
                  <a:pt x="10" y="765"/>
                  <a:pt x="14" y="765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24"/>
          <p:cNvSpPr/>
          <p:nvPr/>
        </p:nvSpPr>
        <p:spPr>
          <a:xfrm>
            <a:off x="2409840" y="2898720"/>
            <a:ext cx="44280" cy="2251080"/>
          </a:xfrm>
          <a:custGeom>
            <a:avLst/>
            <a:gdLst/>
            <a:ahLst/>
            <a:rect l="l" t="t" r="r" b="b"/>
            <a:pathLst>
              <a:path w="14" h="708">
                <a:moveTo>
                  <a:pt x="0" y="708"/>
                </a:moveTo>
                <a:cubicBezTo>
                  <a:pt x="14" y="708"/>
                  <a:pt x="14" y="708"/>
                  <a:pt x="14" y="708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0"/>
                  <a:pt x="5" y="0"/>
                  <a:pt x="0" y="0"/>
                </a:cubicBezTo>
                <a:lnTo>
                  <a:pt x="0" y="70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Freeform 25"/>
          <p:cNvSpPr/>
          <p:nvPr/>
        </p:nvSpPr>
        <p:spPr>
          <a:xfrm>
            <a:off x="2527200" y="0"/>
            <a:ext cx="165240" cy="2502000"/>
          </a:xfrm>
          <a:custGeom>
            <a:avLst/>
            <a:gdLst/>
            <a:ahLst/>
            <a:rect l="l" t="t" r="r" b="b"/>
            <a:pathLst>
              <a:path w="52" h="787">
                <a:moveTo>
                  <a:pt x="5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787"/>
                  <a:pt x="0" y="787"/>
                  <a:pt x="0" y="787"/>
                </a:cubicBezTo>
                <a:cubicBezTo>
                  <a:pt x="18" y="785"/>
                  <a:pt x="35" y="780"/>
                  <a:pt x="52" y="774"/>
                </a:cubicBezTo>
                <a:lnTo>
                  <a:pt x="5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reeform 26"/>
          <p:cNvSpPr/>
          <p:nvPr/>
        </p:nvSpPr>
        <p:spPr>
          <a:xfrm>
            <a:off x="2527200" y="2781360"/>
            <a:ext cx="165240" cy="2368440"/>
          </a:xfrm>
          <a:custGeom>
            <a:avLst/>
            <a:gdLst/>
            <a:ahLst/>
            <a:rect l="l" t="t" r="r" b="b"/>
            <a:pathLst>
              <a:path w="52" h="745">
                <a:moveTo>
                  <a:pt x="0" y="12"/>
                </a:moveTo>
                <a:cubicBezTo>
                  <a:pt x="0" y="745"/>
                  <a:pt x="0" y="745"/>
                  <a:pt x="0" y="745"/>
                </a:cubicBezTo>
                <a:cubicBezTo>
                  <a:pt x="52" y="745"/>
                  <a:pt x="52" y="745"/>
                  <a:pt x="52" y="745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4"/>
                  <a:pt x="29" y="8"/>
                  <a:pt x="16" y="10"/>
                </a:cubicBezTo>
                <a:cubicBezTo>
                  <a:pt x="11" y="11"/>
                  <a:pt x="5" y="12"/>
                  <a:pt x="0" y="12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Freeform 27"/>
          <p:cNvSpPr/>
          <p:nvPr/>
        </p:nvSpPr>
        <p:spPr>
          <a:xfrm>
            <a:off x="2975040" y="2736720"/>
            <a:ext cx="101520" cy="2413080"/>
          </a:xfrm>
          <a:custGeom>
            <a:avLst/>
            <a:gdLst/>
            <a:ahLst/>
            <a:rect l="l" t="t" r="r" b="b"/>
            <a:pathLst>
              <a:path w="32" h="759">
                <a:moveTo>
                  <a:pt x="0" y="759"/>
                </a:moveTo>
                <a:cubicBezTo>
                  <a:pt x="32" y="759"/>
                  <a:pt x="32" y="759"/>
                  <a:pt x="32" y="759"/>
                </a:cubicBezTo>
                <a:cubicBezTo>
                  <a:pt x="32" y="10"/>
                  <a:pt x="32" y="10"/>
                  <a:pt x="32" y="10"/>
                </a:cubicBezTo>
                <a:cubicBezTo>
                  <a:pt x="19" y="7"/>
                  <a:pt x="8" y="6"/>
                  <a:pt x="0" y="0"/>
                </a:cubicBezTo>
                <a:lnTo>
                  <a:pt x="0" y="759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28"/>
          <p:cNvSpPr/>
          <p:nvPr/>
        </p:nvSpPr>
        <p:spPr>
          <a:xfrm>
            <a:off x="2975040" y="0"/>
            <a:ext cx="101520" cy="163656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29"/>
          <p:cNvSpPr/>
          <p:nvPr/>
        </p:nvSpPr>
        <p:spPr>
          <a:xfrm>
            <a:off x="3498840" y="0"/>
            <a:ext cx="108000" cy="156996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Freeform 30"/>
          <p:cNvSpPr/>
          <p:nvPr/>
        </p:nvSpPr>
        <p:spPr>
          <a:xfrm>
            <a:off x="3498840" y="3367080"/>
            <a:ext cx="108000" cy="1782720"/>
          </a:xfrm>
          <a:custGeom>
            <a:avLst/>
            <a:gdLst/>
            <a:ahLst/>
            <a:rect l="l" t="t" r="r" b="b"/>
            <a:pathLst>
              <a:path w="34" h="561">
                <a:moveTo>
                  <a:pt x="0" y="561"/>
                </a:moveTo>
                <a:cubicBezTo>
                  <a:pt x="34" y="561"/>
                  <a:pt x="34" y="561"/>
                  <a:pt x="34" y="561"/>
                </a:cubicBezTo>
                <a:cubicBezTo>
                  <a:pt x="34" y="0"/>
                  <a:pt x="34" y="0"/>
                  <a:pt x="34" y="0"/>
                </a:cubicBezTo>
                <a:cubicBezTo>
                  <a:pt x="24" y="8"/>
                  <a:pt x="14" y="13"/>
                  <a:pt x="0" y="16"/>
                </a:cubicBezTo>
                <a:lnTo>
                  <a:pt x="0" y="561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31"/>
          <p:cNvSpPr/>
          <p:nvPr/>
        </p:nvSpPr>
        <p:spPr>
          <a:xfrm>
            <a:off x="3152880" y="0"/>
            <a:ext cx="44280" cy="166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Freeform 32"/>
          <p:cNvSpPr/>
          <p:nvPr/>
        </p:nvSpPr>
        <p:spPr>
          <a:xfrm>
            <a:off x="3152880" y="3522600"/>
            <a:ext cx="44280" cy="1627200"/>
          </a:xfrm>
          <a:custGeom>
            <a:avLst/>
            <a:gdLst/>
            <a:ahLst/>
            <a:rect l="l" t="t" r="r" b="b"/>
            <a:pathLst>
              <a:path w="14" h="512">
                <a:moveTo>
                  <a:pt x="0" y="512"/>
                </a:moveTo>
                <a:cubicBezTo>
                  <a:pt x="14" y="512"/>
                  <a:pt x="14" y="512"/>
                  <a:pt x="14" y="512"/>
                </a:cubicBezTo>
                <a:cubicBezTo>
                  <a:pt x="14" y="4"/>
                  <a:pt x="14" y="4"/>
                  <a:pt x="14" y="4"/>
                </a:cubicBezTo>
                <a:cubicBezTo>
                  <a:pt x="9" y="4"/>
                  <a:pt x="5" y="2"/>
                  <a:pt x="0" y="0"/>
                </a:cubicBezTo>
                <a:lnTo>
                  <a:pt x="0" y="5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33"/>
          <p:cNvSpPr/>
          <p:nvPr/>
        </p:nvSpPr>
        <p:spPr>
          <a:xfrm>
            <a:off x="3270240" y="0"/>
            <a:ext cx="165240" cy="166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4"/>
          <p:cNvSpPr/>
          <p:nvPr/>
        </p:nvSpPr>
        <p:spPr>
          <a:xfrm>
            <a:off x="3270240" y="3427560"/>
            <a:ext cx="165240" cy="1722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reeform 35"/>
          <p:cNvSpPr/>
          <p:nvPr/>
        </p:nvSpPr>
        <p:spPr>
          <a:xfrm>
            <a:off x="3718080" y="3516480"/>
            <a:ext cx="101520" cy="1633320"/>
          </a:xfrm>
          <a:custGeom>
            <a:avLst/>
            <a:gdLst/>
            <a:ahLst/>
            <a:rect l="l" t="t" r="r" b="b"/>
            <a:pathLst>
              <a:path w="32" h="514">
                <a:moveTo>
                  <a:pt x="0" y="0"/>
                </a:moveTo>
                <a:cubicBezTo>
                  <a:pt x="0" y="514"/>
                  <a:pt x="0" y="514"/>
                  <a:pt x="0" y="514"/>
                </a:cubicBezTo>
                <a:cubicBezTo>
                  <a:pt x="32" y="514"/>
                  <a:pt x="32" y="514"/>
                  <a:pt x="32" y="514"/>
                </a:cubicBezTo>
                <a:cubicBezTo>
                  <a:pt x="32" y="4"/>
                  <a:pt x="32" y="4"/>
                  <a:pt x="32" y="4"/>
                </a:cubicBezTo>
                <a:cubicBezTo>
                  <a:pt x="18" y="4"/>
                  <a:pt x="8" y="3"/>
                  <a:pt x="0" y="0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36"/>
          <p:cNvSpPr/>
          <p:nvPr/>
        </p:nvSpPr>
        <p:spPr>
          <a:xfrm>
            <a:off x="3718080" y="0"/>
            <a:ext cx="101520" cy="172872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37"/>
          <p:cNvSpPr/>
          <p:nvPr/>
        </p:nvSpPr>
        <p:spPr>
          <a:xfrm>
            <a:off x="4243320" y="0"/>
            <a:ext cx="108000" cy="1716120"/>
          </a:xfrm>
          <a:custGeom>
            <a:avLst/>
            <a:gdLst/>
            <a:ahLst/>
            <a:rect l="l" t="t" r="r" b="b"/>
            <a:pathLst>
              <a:path w="34" h="540">
                <a:moveTo>
                  <a:pt x="3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0"/>
                  <a:pt x="0" y="540"/>
                  <a:pt x="0" y="540"/>
                </a:cubicBezTo>
                <a:cubicBezTo>
                  <a:pt x="11" y="540"/>
                  <a:pt x="23" y="540"/>
                  <a:pt x="34" y="540"/>
                </a:cubicBezTo>
                <a:lnTo>
                  <a:pt x="34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reeform 38"/>
          <p:cNvSpPr/>
          <p:nvPr/>
        </p:nvSpPr>
        <p:spPr>
          <a:xfrm>
            <a:off x="4243320" y="3411360"/>
            <a:ext cx="108000" cy="1738440"/>
          </a:xfrm>
          <a:custGeom>
            <a:avLst/>
            <a:gdLst/>
            <a:ahLst/>
            <a:rect l="l" t="t" r="r" b="b"/>
            <a:pathLst>
              <a:path w="68" h="1095">
                <a:moveTo>
                  <a:pt x="0" y="6"/>
                </a:moveTo>
                <a:lnTo>
                  <a:pt x="0" y="1095"/>
                </a:lnTo>
                <a:lnTo>
                  <a:pt x="68" y="1095"/>
                </a:lnTo>
                <a:lnTo>
                  <a:pt x="68" y="0"/>
                </a:lnTo>
                <a:lnTo>
                  <a:pt x="0" y="6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39"/>
          <p:cNvSpPr/>
          <p:nvPr/>
        </p:nvSpPr>
        <p:spPr>
          <a:xfrm>
            <a:off x="3897360" y="0"/>
            <a:ext cx="44280" cy="1620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Freeform 40"/>
          <p:cNvSpPr/>
          <p:nvPr/>
        </p:nvSpPr>
        <p:spPr>
          <a:xfrm>
            <a:off x="3897360" y="0"/>
            <a:ext cx="44280" cy="1620720"/>
          </a:xfrm>
          <a:custGeom>
            <a:avLst/>
            <a:gdLst/>
            <a:ahLst/>
            <a:rect l="l" t="t" r="r" b="b"/>
            <a:pathLst>
              <a:path w="28" h="1021">
                <a:moveTo>
                  <a:pt x="28" y="0"/>
                </a:moveTo>
                <a:lnTo>
                  <a:pt x="0" y="0"/>
                </a:lnTo>
                <a:lnTo>
                  <a:pt x="0" y="1021"/>
                </a:lnTo>
                <a:lnTo>
                  <a:pt x="28" y="10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41"/>
          <p:cNvSpPr/>
          <p:nvPr/>
        </p:nvSpPr>
        <p:spPr>
          <a:xfrm>
            <a:off x="3897360" y="3433680"/>
            <a:ext cx="44280" cy="1716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reeform 42"/>
          <p:cNvSpPr/>
          <p:nvPr/>
        </p:nvSpPr>
        <p:spPr>
          <a:xfrm>
            <a:off x="4014720" y="3373560"/>
            <a:ext cx="165240" cy="1776240"/>
          </a:xfrm>
          <a:custGeom>
            <a:avLst/>
            <a:gdLst/>
            <a:ahLst/>
            <a:rect l="l" t="t" r="r" b="b"/>
            <a:pathLst>
              <a:path w="52" h="559">
                <a:moveTo>
                  <a:pt x="29" y="33"/>
                </a:moveTo>
                <a:cubicBezTo>
                  <a:pt x="21" y="38"/>
                  <a:pt x="12" y="41"/>
                  <a:pt x="0" y="42"/>
                </a:cubicBezTo>
                <a:cubicBezTo>
                  <a:pt x="0" y="559"/>
                  <a:pt x="0" y="559"/>
                  <a:pt x="0" y="559"/>
                </a:cubicBezTo>
                <a:cubicBezTo>
                  <a:pt x="52" y="559"/>
                  <a:pt x="52" y="559"/>
                  <a:pt x="52" y="559"/>
                </a:cubicBezTo>
                <a:cubicBezTo>
                  <a:pt x="52" y="0"/>
                  <a:pt x="52" y="0"/>
                  <a:pt x="52" y="0"/>
                </a:cubicBezTo>
                <a:cubicBezTo>
                  <a:pt x="45" y="15"/>
                  <a:pt x="37" y="28"/>
                  <a:pt x="29" y="33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43"/>
          <p:cNvSpPr/>
          <p:nvPr/>
        </p:nvSpPr>
        <p:spPr>
          <a:xfrm>
            <a:off x="4462560" y="3503520"/>
            <a:ext cx="101520" cy="164628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44"/>
          <p:cNvSpPr/>
          <p:nvPr/>
        </p:nvSpPr>
        <p:spPr>
          <a:xfrm>
            <a:off x="4462560" y="0"/>
            <a:ext cx="101520" cy="1595520"/>
          </a:xfrm>
          <a:custGeom>
            <a:avLst/>
            <a:gdLst/>
            <a:ahLst/>
            <a:rect l="l" t="t" r="r" b="b"/>
            <a:pathLst>
              <a:path w="32" h="502">
                <a:moveTo>
                  <a:pt x="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02"/>
                  <a:pt x="0" y="502"/>
                  <a:pt x="0" y="502"/>
                </a:cubicBezTo>
                <a:cubicBezTo>
                  <a:pt x="11" y="502"/>
                  <a:pt x="21" y="502"/>
                  <a:pt x="32" y="502"/>
                </a:cubicBezTo>
                <a:lnTo>
                  <a:pt x="3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45"/>
          <p:cNvSpPr/>
          <p:nvPr/>
        </p:nvSpPr>
        <p:spPr>
          <a:xfrm>
            <a:off x="4986360" y="3909960"/>
            <a:ext cx="108000" cy="123984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46"/>
          <p:cNvSpPr/>
          <p:nvPr/>
        </p:nvSpPr>
        <p:spPr>
          <a:xfrm>
            <a:off x="4986360" y="0"/>
            <a:ext cx="108000" cy="163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Freeform 47"/>
          <p:cNvSpPr/>
          <p:nvPr/>
        </p:nvSpPr>
        <p:spPr>
          <a:xfrm>
            <a:off x="4640400" y="0"/>
            <a:ext cx="44280" cy="1719360"/>
          </a:xfrm>
          <a:custGeom>
            <a:avLst/>
            <a:gdLst/>
            <a:ahLst/>
            <a:rect l="l" t="t" r="r" b="b"/>
            <a:pathLst>
              <a:path w="14" h="541">
                <a:moveTo>
                  <a:pt x="1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5" y="541"/>
                  <a:pt x="10" y="541"/>
                  <a:pt x="14" y="541"/>
                </a:cubicBezTo>
                <a:lnTo>
                  <a:pt x="1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Freeform 48"/>
          <p:cNvSpPr/>
          <p:nvPr/>
        </p:nvSpPr>
        <p:spPr>
          <a:xfrm>
            <a:off x="4640400" y="3360600"/>
            <a:ext cx="44280" cy="1789200"/>
          </a:xfrm>
          <a:custGeom>
            <a:avLst/>
            <a:gdLst/>
            <a:ahLst/>
            <a:rect l="l" t="t" r="r" b="b"/>
            <a:pathLst>
              <a:path w="14" h="563">
                <a:moveTo>
                  <a:pt x="0" y="17"/>
                </a:moveTo>
                <a:cubicBezTo>
                  <a:pt x="0" y="563"/>
                  <a:pt x="0" y="563"/>
                  <a:pt x="0" y="563"/>
                </a:cubicBezTo>
                <a:cubicBezTo>
                  <a:pt x="14" y="563"/>
                  <a:pt x="14" y="563"/>
                  <a:pt x="14" y="563"/>
                </a:cubicBezTo>
                <a:cubicBezTo>
                  <a:pt x="14" y="0"/>
                  <a:pt x="14" y="0"/>
                  <a:pt x="14" y="0"/>
                </a:cubicBezTo>
                <a:cubicBezTo>
                  <a:pt x="12" y="7"/>
                  <a:pt x="9" y="12"/>
                  <a:pt x="7" y="16"/>
                </a:cubicBezTo>
                <a:cubicBezTo>
                  <a:pt x="5" y="16"/>
                  <a:pt x="2" y="17"/>
                  <a:pt x="0" y="17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49"/>
          <p:cNvSpPr/>
          <p:nvPr/>
        </p:nvSpPr>
        <p:spPr>
          <a:xfrm>
            <a:off x="4757760" y="3795840"/>
            <a:ext cx="165240" cy="135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Freeform 50"/>
          <p:cNvSpPr/>
          <p:nvPr/>
        </p:nvSpPr>
        <p:spPr>
          <a:xfrm>
            <a:off x="4757760" y="0"/>
            <a:ext cx="165240" cy="1719360"/>
          </a:xfrm>
          <a:custGeom>
            <a:avLst/>
            <a:gdLst/>
            <a:ahLst/>
            <a:rect l="l" t="t" r="r" b="b"/>
            <a:pathLst>
              <a:path w="52" h="541">
                <a:moveTo>
                  <a:pt x="5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18" y="541"/>
                  <a:pt x="35" y="541"/>
                  <a:pt x="52" y="541"/>
                </a:cubicBezTo>
                <a:lnTo>
                  <a:pt x="5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Freeform 51"/>
          <p:cNvSpPr/>
          <p:nvPr/>
        </p:nvSpPr>
        <p:spPr>
          <a:xfrm>
            <a:off x="5205240" y="3767040"/>
            <a:ext cx="101880" cy="1382760"/>
          </a:xfrm>
          <a:custGeom>
            <a:avLst/>
            <a:gdLst/>
            <a:ahLst/>
            <a:rect l="l" t="t" r="r" b="b"/>
            <a:pathLst>
              <a:path w="32" h="435">
                <a:moveTo>
                  <a:pt x="0" y="0"/>
                </a:moveTo>
                <a:cubicBezTo>
                  <a:pt x="0" y="435"/>
                  <a:pt x="0" y="435"/>
                  <a:pt x="0" y="435"/>
                </a:cubicBezTo>
                <a:cubicBezTo>
                  <a:pt x="32" y="435"/>
                  <a:pt x="32" y="435"/>
                  <a:pt x="32" y="435"/>
                </a:cubicBezTo>
                <a:cubicBezTo>
                  <a:pt x="32" y="0"/>
                  <a:pt x="32" y="0"/>
                  <a:pt x="32" y="0"/>
                </a:cubicBezTo>
                <a:cubicBezTo>
                  <a:pt x="31" y="0"/>
                  <a:pt x="30" y="1"/>
                  <a:pt x="30" y="1"/>
                </a:cubicBezTo>
                <a:lnTo>
                  <a:pt x="0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52"/>
          <p:cNvSpPr/>
          <p:nvPr/>
        </p:nvSpPr>
        <p:spPr>
          <a:xfrm>
            <a:off x="5730840" y="3618000"/>
            <a:ext cx="108000" cy="1531800"/>
          </a:xfrm>
          <a:custGeom>
            <a:avLst/>
            <a:gdLst/>
            <a:ahLst/>
            <a:rect l="l" t="t" r="r" b="b"/>
            <a:pathLst>
              <a:path w="34" h="482">
                <a:moveTo>
                  <a:pt x="0" y="49"/>
                </a:moveTo>
                <a:cubicBezTo>
                  <a:pt x="0" y="482"/>
                  <a:pt x="0" y="482"/>
                  <a:pt x="0" y="482"/>
                </a:cubicBezTo>
                <a:cubicBezTo>
                  <a:pt x="34" y="482"/>
                  <a:pt x="34" y="482"/>
                  <a:pt x="34" y="482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25"/>
                  <a:pt x="18" y="40"/>
                  <a:pt x="0" y="49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reeform 53"/>
          <p:cNvSpPr/>
          <p:nvPr/>
        </p:nvSpPr>
        <p:spPr>
          <a:xfrm>
            <a:off x="5384880" y="0"/>
            <a:ext cx="44280" cy="1706400"/>
          </a:xfrm>
          <a:custGeom>
            <a:avLst/>
            <a:gdLst/>
            <a:ahLst/>
            <a:rect l="l" t="t" r="r" b="b"/>
            <a:pathLst>
              <a:path w="14" h="537">
                <a:moveTo>
                  <a:pt x="14" y="536"/>
                </a:moveTo>
                <a:cubicBezTo>
                  <a:pt x="14" y="0"/>
                  <a:pt x="14" y="0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4" y="536"/>
                  <a:pt x="9" y="535"/>
                  <a:pt x="14" y="536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54"/>
          <p:cNvSpPr/>
          <p:nvPr/>
        </p:nvSpPr>
        <p:spPr>
          <a:xfrm>
            <a:off x="5384880" y="3719520"/>
            <a:ext cx="44280" cy="1430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Freeform 55"/>
          <p:cNvSpPr/>
          <p:nvPr/>
        </p:nvSpPr>
        <p:spPr>
          <a:xfrm>
            <a:off x="5502240" y="3852720"/>
            <a:ext cx="165240" cy="1297080"/>
          </a:xfrm>
          <a:custGeom>
            <a:avLst/>
            <a:gdLst/>
            <a:ahLst/>
            <a:rect l="l" t="t" r="r" b="b"/>
            <a:pathLst>
              <a:path w="52" h="408">
                <a:moveTo>
                  <a:pt x="0" y="408"/>
                </a:moveTo>
                <a:cubicBezTo>
                  <a:pt x="52" y="408"/>
                  <a:pt x="52" y="408"/>
                  <a:pt x="52" y="408"/>
                </a:cubicBezTo>
                <a:cubicBezTo>
                  <a:pt x="52" y="0"/>
                  <a:pt x="52" y="0"/>
                  <a:pt x="52" y="0"/>
                </a:cubicBezTo>
                <a:cubicBezTo>
                  <a:pt x="39" y="2"/>
                  <a:pt x="22" y="3"/>
                  <a:pt x="0" y="4"/>
                </a:cubicBezTo>
                <a:lnTo>
                  <a:pt x="0" y="408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Freeform 56"/>
          <p:cNvSpPr/>
          <p:nvPr/>
        </p:nvSpPr>
        <p:spPr>
          <a:xfrm>
            <a:off x="5950080" y="0"/>
            <a:ext cx="101520" cy="1836720"/>
          </a:xfrm>
          <a:custGeom>
            <a:avLst/>
            <a:gdLst/>
            <a:ahLst/>
            <a:rect l="l" t="t" r="r" b="b"/>
            <a:pathLst>
              <a:path w="32" h="578">
                <a:moveTo>
                  <a:pt x="32" y="553"/>
                </a:moveTo>
                <a:cubicBezTo>
                  <a:pt x="32" y="0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78"/>
                  <a:pt x="0" y="578"/>
                  <a:pt x="0" y="578"/>
                </a:cubicBezTo>
                <a:cubicBezTo>
                  <a:pt x="12" y="572"/>
                  <a:pt x="20" y="563"/>
                  <a:pt x="30" y="553"/>
                </a:cubicBezTo>
                <a:cubicBezTo>
                  <a:pt x="31" y="553"/>
                  <a:pt x="31" y="553"/>
                  <a:pt x="32" y="553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Freeform 57"/>
          <p:cNvSpPr/>
          <p:nvPr/>
        </p:nvSpPr>
        <p:spPr>
          <a:xfrm>
            <a:off x="6473880" y="3117960"/>
            <a:ext cx="108000" cy="2031840"/>
          </a:xfrm>
          <a:custGeom>
            <a:avLst/>
            <a:gdLst/>
            <a:ahLst/>
            <a:rect l="l" t="t" r="r" b="b"/>
            <a:pathLst>
              <a:path w="34" h="639">
                <a:moveTo>
                  <a:pt x="0" y="639"/>
                </a:moveTo>
                <a:cubicBezTo>
                  <a:pt x="34" y="639"/>
                  <a:pt x="34" y="639"/>
                  <a:pt x="34" y="639"/>
                </a:cubicBezTo>
                <a:cubicBezTo>
                  <a:pt x="34" y="0"/>
                  <a:pt x="34" y="0"/>
                  <a:pt x="34" y="0"/>
                </a:cubicBezTo>
                <a:cubicBezTo>
                  <a:pt x="24" y="7"/>
                  <a:pt x="13" y="11"/>
                  <a:pt x="0" y="13"/>
                </a:cubicBezTo>
                <a:lnTo>
                  <a:pt x="0" y="63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Freeform 58"/>
          <p:cNvSpPr/>
          <p:nvPr/>
        </p:nvSpPr>
        <p:spPr>
          <a:xfrm>
            <a:off x="6127920" y="3057480"/>
            <a:ext cx="44280" cy="2092320"/>
          </a:xfrm>
          <a:custGeom>
            <a:avLst/>
            <a:gdLst/>
            <a:ahLst/>
            <a:rect l="l" t="t" r="r" b="b"/>
            <a:pathLst>
              <a:path w="14" h="658">
                <a:moveTo>
                  <a:pt x="0" y="658"/>
                </a:moveTo>
                <a:cubicBezTo>
                  <a:pt x="14" y="658"/>
                  <a:pt x="14" y="658"/>
                  <a:pt x="14" y="658"/>
                </a:cubicBezTo>
                <a:cubicBezTo>
                  <a:pt x="14" y="12"/>
                  <a:pt x="14" y="12"/>
                  <a:pt x="14" y="12"/>
                </a:cubicBezTo>
                <a:cubicBezTo>
                  <a:pt x="10" y="8"/>
                  <a:pt x="5" y="4"/>
                  <a:pt x="0" y="0"/>
                </a:cubicBezTo>
                <a:lnTo>
                  <a:pt x="0" y="658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59"/>
          <p:cNvSpPr/>
          <p:nvPr/>
        </p:nvSpPr>
        <p:spPr>
          <a:xfrm>
            <a:off x="6245280" y="3249720"/>
            <a:ext cx="164880" cy="1900080"/>
          </a:xfrm>
          <a:custGeom>
            <a:avLst/>
            <a:gdLst/>
            <a:ahLst/>
            <a:rect l="l" t="t" r="r" b="b"/>
            <a:pathLst>
              <a:path w="52" h="598">
                <a:moveTo>
                  <a:pt x="0" y="0"/>
                </a:moveTo>
                <a:cubicBezTo>
                  <a:pt x="0" y="598"/>
                  <a:pt x="0" y="598"/>
                  <a:pt x="0" y="598"/>
                </a:cubicBezTo>
                <a:cubicBezTo>
                  <a:pt x="52" y="598"/>
                  <a:pt x="52" y="598"/>
                  <a:pt x="52" y="598"/>
                </a:cubicBezTo>
                <a:cubicBezTo>
                  <a:pt x="52" y="8"/>
                  <a:pt x="52" y="8"/>
                  <a:pt x="52" y="8"/>
                </a:cubicBezTo>
                <a:cubicBezTo>
                  <a:pt x="35" y="8"/>
                  <a:pt x="16" y="6"/>
                  <a:pt x="0" y="0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60"/>
          <p:cNvSpPr/>
          <p:nvPr/>
        </p:nvSpPr>
        <p:spPr>
          <a:xfrm>
            <a:off x="6245280" y="0"/>
            <a:ext cx="164880" cy="1719360"/>
          </a:xfrm>
          <a:custGeom>
            <a:avLst/>
            <a:gdLst/>
            <a:ahLst/>
            <a:rect l="l" t="t" r="r" b="b"/>
            <a:pathLst>
              <a:path w="52" h="541">
                <a:moveTo>
                  <a:pt x="52" y="509"/>
                </a:moveTo>
                <a:cubicBezTo>
                  <a:pt x="52" y="0"/>
                  <a:pt x="52" y="0"/>
                  <a:pt x="5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0" y="541"/>
                  <a:pt x="7" y="524"/>
                  <a:pt x="20" y="516"/>
                </a:cubicBezTo>
                <a:cubicBezTo>
                  <a:pt x="34" y="507"/>
                  <a:pt x="52" y="509"/>
                  <a:pt x="52" y="509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61"/>
          <p:cNvSpPr/>
          <p:nvPr/>
        </p:nvSpPr>
        <p:spPr>
          <a:xfrm>
            <a:off x="6692760" y="0"/>
            <a:ext cx="101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62"/>
          <p:cNvSpPr/>
          <p:nvPr/>
        </p:nvSpPr>
        <p:spPr>
          <a:xfrm>
            <a:off x="721836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63"/>
          <p:cNvSpPr/>
          <p:nvPr/>
        </p:nvSpPr>
        <p:spPr>
          <a:xfrm>
            <a:off x="687060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64"/>
          <p:cNvSpPr/>
          <p:nvPr/>
        </p:nvSpPr>
        <p:spPr>
          <a:xfrm>
            <a:off x="6989760" y="0"/>
            <a:ext cx="1652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65"/>
          <p:cNvSpPr/>
          <p:nvPr/>
        </p:nvSpPr>
        <p:spPr>
          <a:xfrm>
            <a:off x="7437600" y="0"/>
            <a:ext cx="101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66"/>
          <p:cNvSpPr/>
          <p:nvPr/>
        </p:nvSpPr>
        <p:spPr>
          <a:xfrm>
            <a:off x="796140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67"/>
          <p:cNvSpPr/>
          <p:nvPr/>
        </p:nvSpPr>
        <p:spPr>
          <a:xfrm>
            <a:off x="761508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68"/>
          <p:cNvSpPr/>
          <p:nvPr/>
        </p:nvSpPr>
        <p:spPr>
          <a:xfrm>
            <a:off x="7732800" y="0"/>
            <a:ext cx="164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le 69"/>
          <p:cNvSpPr/>
          <p:nvPr/>
        </p:nvSpPr>
        <p:spPr>
          <a:xfrm>
            <a:off x="8180280" y="0"/>
            <a:ext cx="10188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Rectangle 70"/>
          <p:cNvSpPr/>
          <p:nvPr/>
        </p:nvSpPr>
        <p:spPr>
          <a:xfrm>
            <a:off x="8705880" y="0"/>
            <a:ext cx="10800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71"/>
          <p:cNvSpPr/>
          <p:nvPr/>
        </p:nvSpPr>
        <p:spPr>
          <a:xfrm>
            <a:off x="8358120" y="0"/>
            <a:ext cx="446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72"/>
          <p:cNvSpPr/>
          <p:nvPr/>
        </p:nvSpPr>
        <p:spPr>
          <a:xfrm>
            <a:off x="847728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73"/>
          <p:cNvSpPr/>
          <p:nvPr/>
        </p:nvSpPr>
        <p:spPr>
          <a:xfrm>
            <a:off x="8924760" y="0"/>
            <a:ext cx="101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74"/>
          <p:cNvSpPr/>
          <p:nvPr/>
        </p:nvSpPr>
        <p:spPr>
          <a:xfrm>
            <a:off x="910260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75"/>
          <p:cNvSpPr/>
          <p:nvPr/>
        </p:nvSpPr>
        <p:spPr>
          <a:xfrm>
            <a:off x="5730840" y="0"/>
            <a:ext cx="108000" cy="212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6"/>
          <p:cNvSpPr/>
          <p:nvPr/>
        </p:nvSpPr>
        <p:spPr>
          <a:xfrm>
            <a:off x="5502240" y="0"/>
            <a:ext cx="165240" cy="17892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77"/>
          <p:cNvSpPr/>
          <p:nvPr/>
        </p:nvSpPr>
        <p:spPr>
          <a:xfrm>
            <a:off x="5205240" y="0"/>
            <a:ext cx="101880" cy="18684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78"/>
          <p:cNvSpPr/>
          <p:nvPr/>
        </p:nvSpPr>
        <p:spPr>
          <a:xfrm>
            <a:off x="6127920" y="0"/>
            <a:ext cx="44280" cy="164952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tangle 79"/>
          <p:cNvSpPr/>
          <p:nvPr/>
        </p:nvSpPr>
        <p:spPr>
          <a:xfrm>
            <a:off x="6473880" y="0"/>
            <a:ext cx="108000" cy="1735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80"/>
          <p:cNvSpPr/>
          <p:nvPr/>
        </p:nvSpPr>
        <p:spPr>
          <a:xfrm>
            <a:off x="5950080" y="3351240"/>
            <a:ext cx="101520" cy="1798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le 81"/>
          <p:cNvSpPr/>
          <p:nvPr/>
        </p:nvSpPr>
        <p:spPr>
          <a:xfrm>
            <a:off x="4014720" y="0"/>
            <a:ext cx="165240" cy="1386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86"/>
          <p:cNvSpPr/>
          <p:nvPr/>
        </p:nvSpPr>
        <p:spPr>
          <a:xfrm>
            <a:off x="8047080" y="3943440"/>
            <a:ext cx="541440" cy="396720"/>
          </a:xfrm>
          <a:custGeom>
            <a:avLst/>
            <a:gdLst/>
            <a:ahLst/>
            <a:rect l="l" t="t" r="r" b="b"/>
            <a:pathLst>
              <a:path w="168" h="123">
                <a:moveTo>
                  <a:pt x="154" y="0"/>
                </a:moveTo>
                <a:cubicBezTo>
                  <a:pt x="122" y="46"/>
                  <a:pt x="0" y="18"/>
                  <a:pt x="64" y="123"/>
                </a:cubicBezTo>
                <a:cubicBezTo>
                  <a:pt x="168" y="108"/>
                  <a:pt x="162" y="44"/>
                  <a:pt x="154" y="0"/>
                </a:cubicBezTo>
                <a:close/>
                <a:moveTo>
                  <a:pt x="141" y="24"/>
                </a:moveTo>
                <a:cubicBezTo>
                  <a:pt x="137" y="79"/>
                  <a:pt x="77" y="57"/>
                  <a:pt x="67" y="112"/>
                </a:cubicBezTo>
                <a:cubicBezTo>
                  <a:pt x="62" y="54"/>
                  <a:pt x="131" y="80"/>
                  <a:pt x="141" y="24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88"/>
          <p:cNvSpPr/>
          <p:nvPr/>
        </p:nvSpPr>
        <p:spPr>
          <a:xfrm>
            <a:off x="8101080" y="941400"/>
            <a:ext cx="376200" cy="276120"/>
          </a:xfrm>
          <a:custGeom>
            <a:avLst/>
            <a:gdLst/>
            <a:ahLst/>
            <a:rect l="l" t="t" r="r" b="b"/>
            <a:pathLst>
              <a:path w="117" h="86">
                <a:moveTo>
                  <a:pt x="107" y="0"/>
                </a:moveTo>
                <a:cubicBezTo>
                  <a:pt x="85" y="32"/>
                  <a:pt x="0" y="13"/>
                  <a:pt x="45" y="86"/>
                </a:cubicBezTo>
                <a:cubicBezTo>
                  <a:pt x="117" y="75"/>
                  <a:pt x="113" y="31"/>
                  <a:pt x="107" y="0"/>
                </a:cubicBezTo>
                <a:close/>
                <a:moveTo>
                  <a:pt x="98" y="17"/>
                </a:moveTo>
                <a:cubicBezTo>
                  <a:pt x="96" y="55"/>
                  <a:pt x="54" y="40"/>
                  <a:pt x="47" y="78"/>
                </a:cubicBezTo>
                <a:cubicBezTo>
                  <a:pt x="43" y="37"/>
                  <a:pt x="91" y="56"/>
                  <a:pt x="98" y="17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89"/>
          <p:cNvSpPr/>
          <p:nvPr/>
        </p:nvSpPr>
        <p:spPr>
          <a:xfrm>
            <a:off x="1927080" y="4197240"/>
            <a:ext cx="335160" cy="246240"/>
          </a:xfrm>
          <a:custGeom>
            <a:avLst/>
            <a:gdLst/>
            <a:ahLst/>
            <a:rect l="l" t="t" r="r" b="b"/>
            <a:pathLst>
              <a:path w="104" h="76">
                <a:moveTo>
                  <a:pt x="95" y="0"/>
                </a:moveTo>
                <a:cubicBezTo>
                  <a:pt x="75" y="29"/>
                  <a:pt x="0" y="11"/>
                  <a:pt x="39" y="76"/>
                </a:cubicBezTo>
                <a:cubicBezTo>
                  <a:pt x="104" y="67"/>
                  <a:pt x="100" y="27"/>
                  <a:pt x="95" y="0"/>
                </a:cubicBezTo>
                <a:close/>
                <a:moveTo>
                  <a:pt x="87" y="15"/>
                </a:moveTo>
                <a:cubicBezTo>
                  <a:pt x="85" y="49"/>
                  <a:pt x="48" y="36"/>
                  <a:pt x="41" y="69"/>
                </a:cubicBezTo>
                <a:cubicBezTo>
                  <a:pt x="38" y="33"/>
                  <a:pt x="81" y="50"/>
                  <a:pt x="87" y="15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90"/>
          <p:cNvSpPr/>
          <p:nvPr/>
        </p:nvSpPr>
        <p:spPr>
          <a:xfrm>
            <a:off x="1025640" y="3859200"/>
            <a:ext cx="419040" cy="309600"/>
          </a:xfrm>
          <a:custGeom>
            <a:avLst/>
            <a:gdLst/>
            <a:ahLst/>
            <a:rect l="l" t="t" r="r" b="b"/>
            <a:pathLst>
              <a:path w="130" h="96">
                <a:moveTo>
                  <a:pt x="119" y="0"/>
                </a:moveTo>
                <a:cubicBezTo>
                  <a:pt x="94" y="36"/>
                  <a:pt x="0" y="15"/>
                  <a:pt x="50" y="96"/>
                </a:cubicBezTo>
                <a:cubicBezTo>
                  <a:pt x="130" y="84"/>
                  <a:pt x="125" y="35"/>
                  <a:pt x="119" y="0"/>
                </a:cubicBezTo>
                <a:close/>
                <a:moveTo>
                  <a:pt x="109" y="19"/>
                </a:moveTo>
                <a:cubicBezTo>
                  <a:pt x="106" y="62"/>
                  <a:pt x="60" y="45"/>
                  <a:pt x="52" y="87"/>
                </a:cubicBezTo>
                <a:cubicBezTo>
                  <a:pt x="48" y="42"/>
                  <a:pt x="101" y="62"/>
                  <a:pt x="109" y="19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91"/>
          <p:cNvSpPr/>
          <p:nvPr/>
        </p:nvSpPr>
        <p:spPr>
          <a:xfrm>
            <a:off x="606600" y="3164040"/>
            <a:ext cx="869760" cy="663480"/>
          </a:xfrm>
          <a:custGeom>
            <a:avLst/>
            <a:gdLst/>
            <a:ahLst/>
            <a:rect l="l" t="t" r="r" b="b"/>
            <a:pathLst>
              <a:path w="270" h="206">
                <a:moveTo>
                  <a:pt x="51" y="0"/>
                </a:moveTo>
                <a:cubicBezTo>
                  <a:pt x="26" y="63"/>
                  <a:pt x="0" y="155"/>
                  <a:pt x="147" y="206"/>
                </a:cubicBezTo>
                <a:cubicBezTo>
                  <a:pt x="270" y="70"/>
                  <a:pt x="85" y="77"/>
                  <a:pt x="51" y="0"/>
                </a:cubicBezTo>
                <a:close/>
                <a:moveTo>
                  <a:pt x="146" y="188"/>
                </a:moveTo>
                <a:cubicBezTo>
                  <a:pt x="146" y="106"/>
                  <a:pt x="52" y="120"/>
                  <a:pt x="62" y="39"/>
                </a:cubicBezTo>
                <a:cubicBezTo>
                  <a:pt x="62" y="123"/>
                  <a:pt x="169" y="105"/>
                  <a:pt x="146" y="188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92"/>
          <p:cNvSpPr/>
          <p:nvPr/>
        </p:nvSpPr>
        <p:spPr>
          <a:xfrm>
            <a:off x="1908000" y="538200"/>
            <a:ext cx="206640" cy="158760"/>
          </a:xfrm>
          <a:custGeom>
            <a:avLst/>
            <a:gdLst/>
            <a:ahLst/>
            <a:rect l="l" t="t" r="r" b="b"/>
            <a:pathLst>
              <a:path w="64" h="49">
                <a:moveTo>
                  <a:pt x="12" y="0"/>
                </a:moveTo>
                <a:cubicBezTo>
                  <a:pt x="6" y="15"/>
                  <a:pt x="0" y="37"/>
                  <a:pt x="35" y="49"/>
                </a:cubicBezTo>
                <a:cubicBezTo>
                  <a:pt x="64" y="17"/>
                  <a:pt x="20" y="18"/>
                  <a:pt x="12" y="0"/>
                </a:cubicBezTo>
                <a:close/>
                <a:moveTo>
                  <a:pt x="35" y="45"/>
                </a:moveTo>
                <a:cubicBezTo>
                  <a:pt x="35" y="25"/>
                  <a:pt x="12" y="29"/>
                  <a:pt x="15" y="9"/>
                </a:cubicBezTo>
                <a:cubicBezTo>
                  <a:pt x="14" y="29"/>
                  <a:pt x="40" y="25"/>
                  <a:pt x="35" y="45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Freeform 93"/>
          <p:cNvSpPr/>
          <p:nvPr/>
        </p:nvSpPr>
        <p:spPr>
          <a:xfrm>
            <a:off x="7818480" y="3160800"/>
            <a:ext cx="735120" cy="557280"/>
          </a:xfrm>
          <a:custGeom>
            <a:avLst/>
            <a:gdLst/>
            <a:ahLst/>
            <a:rect l="l" t="t" r="r" b="b"/>
            <a:pathLst>
              <a:path w="228" h="173">
                <a:moveTo>
                  <a:pt x="43" y="0"/>
                </a:moveTo>
                <a:cubicBezTo>
                  <a:pt x="22" y="53"/>
                  <a:pt x="0" y="130"/>
                  <a:pt x="125" y="173"/>
                </a:cubicBezTo>
                <a:cubicBezTo>
                  <a:pt x="228" y="59"/>
                  <a:pt x="72" y="64"/>
                  <a:pt x="43" y="0"/>
                </a:cubicBezTo>
                <a:close/>
                <a:moveTo>
                  <a:pt x="124" y="159"/>
                </a:moveTo>
                <a:cubicBezTo>
                  <a:pt x="124" y="89"/>
                  <a:pt x="44" y="101"/>
                  <a:pt x="53" y="33"/>
                </a:cubicBezTo>
                <a:cubicBezTo>
                  <a:pt x="52" y="104"/>
                  <a:pt x="143" y="88"/>
                  <a:pt x="124" y="159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94"/>
          <p:cNvSpPr/>
          <p:nvPr/>
        </p:nvSpPr>
        <p:spPr>
          <a:xfrm>
            <a:off x="6742080" y="4443480"/>
            <a:ext cx="428760" cy="328680"/>
          </a:xfrm>
          <a:custGeom>
            <a:avLst/>
            <a:gdLst/>
            <a:ahLst/>
            <a:rect l="l" t="t" r="r" b="b"/>
            <a:pathLst>
              <a:path w="133" h="102">
                <a:moveTo>
                  <a:pt x="25" y="0"/>
                </a:moveTo>
                <a:cubicBezTo>
                  <a:pt x="13" y="31"/>
                  <a:pt x="0" y="76"/>
                  <a:pt x="73" y="102"/>
                </a:cubicBezTo>
                <a:cubicBezTo>
                  <a:pt x="133" y="34"/>
                  <a:pt x="42" y="38"/>
                  <a:pt x="25" y="0"/>
                </a:cubicBezTo>
                <a:close/>
                <a:moveTo>
                  <a:pt x="72" y="93"/>
                </a:moveTo>
                <a:cubicBezTo>
                  <a:pt x="72" y="52"/>
                  <a:pt x="26" y="59"/>
                  <a:pt x="31" y="19"/>
                </a:cubicBezTo>
                <a:cubicBezTo>
                  <a:pt x="31" y="61"/>
                  <a:pt x="84" y="52"/>
                  <a:pt x="72" y="93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98" descr=""/>
          <p:cNvPicPr/>
          <p:nvPr/>
        </p:nvPicPr>
        <p:blipFill>
          <a:blip r:embed="rId1"/>
          <a:stretch/>
        </p:blipFill>
        <p:spPr>
          <a:xfrm>
            <a:off x="2014560" y="1671480"/>
            <a:ext cx="4678200" cy="2027520"/>
          </a:xfrm>
          <a:prstGeom prst="rect">
            <a:avLst/>
          </a:prstGeom>
          <a:ln w="0">
            <a:noFill/>
          </a:ln>
        </p:spPr>
      </p:pic>
      <p:sp>
        <p:nvSpPr>
          <p:cNvPr id="441" name="TextBox 12"/>
          <p:cNvSpPr/>
          <p:nvPr/>
        </p:nvSpPr>
        <p:spPr>
          <a:xfrm>
            <a:off x="4080240" y="4446720"/>
            <a:ext cx="129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13"/>
          <p:cNvSpPr/>
          <p:nvPr/>
        </p:nvSpPr>
        <p:spPr>
          <a:xfrm>
            <a:off x="4622040" y="4691160"/>
            <a:ext cx="21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教师节祝褔、贺卡等相关类别的演示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6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6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5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5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矩形 6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2f2f2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23" descr="E:\工作夹\PPT模版\s1015教师节\原图片\5.png"/>
          <p:cNvPicPr/>
          <p:nvPr/>
        </p:nvPicPr>
        <p:blipFill>
          <a:blip r:embed="rId1"/>
          <a:stretch/>
        </p:blipFill>
        <p:spPr>
          <a:xfrm>
            <a:off x="-57240" y="0"/>
            <a:ext cx="9051840" cy="5145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3" descr="E:\工作夹\PPT模版\s1015教师节\原图片\5.png"/>
          <p:cNvPicPr/>
          <p:nvPr/>
        </p:nvPicPr>
        <p:blipFill>
          <a:blip r:embed="rId2"/>
          <a:stretch/>
        </p:blipFill>
        <p:spPr>
          <a:xfrm>
            <a:off x="108000" y="0"/>
            <a:ext cx="905184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46" name="组合 60"/>
          <p:cNvGrpSpPr/>
          <p:nvPr/>
        </p:nvGrpSpPr>
        <p:grpSpPr>
          <a:xfrm>
            <a:off x="1465200" y="-195120"/>
            <a:ext cx="6232680" cy="6234120"/>
            <a:chOff x="1465200" y="-195120"/>
            <a:chExt cx="6232680" cy="6234120"/>
          </a:xfrm>
        </p:grpSpPr>
        <p:grpSp>
          <p:nvGrpSpPr>
            <p:cNvPr id="447" name="椭圆 67"/>
            <p:cNvGrpSpPr/>
            <p:nvPr/>
          </p:nvGrpSpPr>
          <p:grpSpPr>
            <a:xfrm>
              <a:off x="1465200" y="-195120"/>
              <a:ext cx="6232680" cy="6234120"/>
              <a:chOff x="1465200" y="-195120"/>
              <a:chExt cx="6232680" cy="6234120"/>
            </a:xfrm>
          </p:grpSpPr>
          <p:pic>
            <p:nvPicPr>
              <p:cNvPr id="448" name="椭圆 67" descr=""/>
              <p:cNvPicPr/>
              <p:nvPr/>
            </p:nvPicPr>
            <p:blipFill>
              <a:blip r:embed="rId3"/>
              <a:stretch/>
            </p:blipFill>
            <p:spPr>
              <a:xfrm>
                <a:off x="1465200" y="-195120"/>
                <a:ext cx="6232680" cy="623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"/>
              <p:cNvSpPr/>
              <p:nvPr/>
            </p:nvSpPr>
            <p:spPr>
              <a:xfrm>
                <a:off x="2379600" y="717120"/>
                <a:ext cx="4404600" cy="44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0" name="椭圆 59"/>
            <p:cNvSpPr/>
            <p:nvPr/>
          </p:nvSpPr>
          <p:spPr>
            <a:xfrm>
              <a:off x="3261960" y="1599480"/>
              <a:ext cx="2640240" cy="2642400"/>
            </a:xfrm>
            <a:prstGeom prst="ellipse">
              <a:avLst/>
            </a:prstGeom>
            <a:gradFill rotWithShape="0">
              <a:gsLst>
                <a:gs pos="0">
                  <a:srgbClr val="ffe57a">
                    <a:alpha val="50196"/>
                  </a:srgbClr>
                </a:gs>
                <a:gs pos="100000">
                  <a:srgbClr val="f7ba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1" name="Group 9"/>
          <p:cNvGrpSpPr/>
          <p:nvPr/>
        </p:nvGrpSpPr>
        <p:grpSpPr>
          <a:xfrm>
            <a:off x="3534120" y="2688840"/>
            <a:ext cx="2299680" cy="2243880"/>
            <a:chOff x="3534120" y="2688840"/>
            <a:chExt cx="2299680" cy="2243880"/>
          </a:xfrm>
        </p:grpSpPr>
        <p:pic>
          <p:nvPicPr>
            <p:cNvPr id="452" name="Picture 10" descr="未标题-5"/>
            <p:cNvPicPr/>
            <p:nvPr/>
          </p:nvPicPr>
          <p:blipFill>
            <a:blip r:embed="rId4"/>
            <a:stretch/>
          </p:blipFill>
          <p:spPr>
            <a:xfrm rot="20859000">
              <a:off x="3711600" y="2874960"/>
              <a:ext cx="1944360" cy="18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11" descr="未标题-8"/>
            <p:cNvPicPr/>
            <p:nvPr/>
          </p:nvPicPr>
          <p:blipFill>
            <a:blip r:embed="rId5"/>
            <a:stretch/>
          </p:blipFill>
          <p:spPr>
            <a:xfrm rot="20859000">
              <a:off x="4541760" y="3140640"/>
              <a:ext cx="186120" cy="45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4" name="Picture 12" descr="图片2副本"/>
          <p:cNvPicPr/>
          <p:nvPr/>
        </p:nvPicPr>
        <p:blipFill>
          <a:blip r:embed="rId6"/>
          <a:srcRect l="-7435" t="3101" r="0" b="18965"/>
          <a:stretch/>
        </p:blipFill>
        <p:spPr>
          <a:xfrm>
            <a:off x="4468680" y="2073240"/>
            <a:ext cx="424080" cy="1231920"/>
          </a:xfrm>
          <a:prstGeom prst="rect">
            <a:avLst/>
          </a:prstGeom>
          <a:ln w="0">
            <a:noFill/>
          </a:ln>
        </p:spPr>
      </p:pic>
      <p:sp>
        <p:nvSpPr>
          <p:cNvPr id="455" name="Freeform 13"/>
          <p:cNvSpPr/>
          <p:nvPr/>
        </p:nvSpPr>
        <p:spPr>
          <a:xfrm>
            <a:off x="3782880" y="2824200"/>
            <a:ext cx="798480" cy="270000"/>
          </a:xfrm>
          <a:custGeom>
            <a:avLst/>
            <a:gdLst/>
            <a:ahLst/>
            <a:rect l="l" t="t" r="r" b="b"/>
            <a:pathLst>
              <a:path w="317" h="107">
                <a:moveTo>
                  <a:pt x="0" y="101"/>
                </a:moveTo>
                <a:cubicBezTo>
                  <a:pt x="184" y="0"/>
                  <a:pt x="317" y="107"/>
                  <a:pt x="317" y="107"/>
                </a:cubicBezTo>
              </a:path>
            </a:pathLst>
          </a:custGeom>
          <a:noFill/>
          <a:ln w="0">
            <a:solidFill>
              <a:srgbClr val="dcd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reeform 14"/>
          <p:cNvSpPr/>
          <p:nvPr/>
        </p:nvSpPr>
        <p:spPr>
          <a:xfrm>
            <a:off x="3440160" y="3078000"/>
            <a:ext cx="1060560" cy="1392480"/>
          </a:xfrm>
          <a:custGeom>
            <a:avLst/>
            <a:gdLst/>
            <a:ahLst/>
            <a:rect l="l" t="t" r="r" b="b"/>
            <a:pathLst>
              <a:path w="421" h="552">
                <a:moveTo>
                  <a:pt x="421" y="552"/>
                </a:moveTo>
                <a:cubicBezTo>
                  <a:pt x="250" y="387"/>
                  <a:pt x="128" y="264"/>
                  <a:pt x="128" y="264"/>
                </a:cubicBezTo>
                <a:cubicBezTo>
                  <a:pt x="0" y="91"/>
                  <a:pt x="136" y="0"/>
                  <a:pt x="136" y="0"/>
                </a:cubicBezTo>
              </a:path>
            </a:pathLst>
          </a:custGeom>
          <a:noFill/>
          <a:ln w="0">
            <a:solidFill>
              <a:srgbClr val="dcd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15"/>
          <p:cNvSpPr/>
          <p:nvPr/>
        </p:nvSpPr>
        <p:spPr>
          <a:xfrm>
            <a:off x="4500720" y="2959200"/>
            <a:ext cx="1217520" cy="1511280"/>
          </a:xfrm>
          <a:custGeom>
            <a:avLst/>
            <a:gdLst/>
            <a:ahLst/>
            <a:rect l="l" t="t" r="r" b="b"/>
            <a:pathLst>
              <a:path w="483" h="599">
                <a:moveTo>
                  <a:pt x="299" y="0"/>
                </a:moveTo>
                <a:cubicBezTo>
                  <a:pt x="360" y="19"/>
                  <a:pt x="483" y="150"/>
                  <a:pt x="395" y="266"/>
                </a:cubicBezTo>
                <a:cubicBezTo>
                  <a:pt x="283" y="413"/>
                  <a:pt x="139" y="504"/>
                  <a:pt x="0" y="599"/>
                </a:cubicBezTo>
              </a:path>
            </a:pathLst>
          </a:custGeom>
          <a:noFill/>
          <a:ln w="0">
            <a:solidFill>
              <a:srgbClr val="dcd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16"/>
          <p:cNvSpPr/>
          <p:nvPr/>
        </p:nvSpPr>
        <p:spPr>
          <a:xfrm>
            <a:off x="4610160" y="2859120"/>
            <a:ext cx="644400" cy="241200"/>
          </a:xfrm>
          <a:custGeom>
            <a:avLst/>
            <a:gdLst/>
            <a:ahLst/>
            <a:rect l="l" t="t" r="r" b="b"/>
            <a:pathLst>
              <a:path w="256" h="96">
                <a:moveTo>
                  <a:pt x="0" y="96"/>
                </a:moveTo>
                <a:cubicBezTo>
                  <a:pt x="0" y="96"/>
                  <a:pt x="130" y="0"/>
                  <a:pt x="256" y="40"/>
                </a:cubicBezTo>
              </a:path>
            </a:pathLst>
          </a:custGeom>
          <a:noFill/>
          <a:ln w="0">
            <a:solidFill>
              <a:srgbClr val="dcd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弧形 61"/>
          <p:cNvSpPr/>
          <p:nvPr/>
        </p:nvSpPr>
        <p:spPr>
          <a:xfrm>
            <a:off x="550800" y="91440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89693" y="0"/>
                </a:moveTo>
                <a:cubicBezTo>
                  <a:pt x="139230" y="0"/>
                  <a:pt x="179387" y="40513"/>
                  <a:pt x="179387" y="90488"/>
                </a:cubicBezTo>
                <a:lnTo>
                  <a:pt x="89694" y="90488"/>
                </a:lnTo>
                <a:cubicBezTo>
                  <a:pt x="89694" y="60325"/>
                  <a:pt x="89693" y="30163"/>
                  <a:pt x="89693" y="0"/>
                </a:cubicBezTo>
                <a:close/>
              </a:path>
              <a:path fill="none" w="179387" h="180975">
                <a:moveTo>
                  <a:pt x="89693" y="0"/>
                </a:moveTo>
                <a:cubicBezTo>
                  <a:pt x="139230" y="0"/>
                  <a:pt x="179387" y="40513"/>
                  <a:pt x="179387" y="90488"/>
                </a:cubicBez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任意多边形 62"/>
          <p:cNvSpPr/>
          <p:nvPr/>
        </p:nvSpPr>
        <p:spPr>
          <a:xfrm flipH="1">
            <a:off x="1116000" y="2900520"/>
            <a:ext cx="123840" cy="198360"/>
          </a:xfrm>
          <a:custGeom>
            <a:avLst/>
            <a:gdLst/>
            <a:ahLst/>
            <a:rect l="l" t="t" r="r" b="b"/>
            <a:pathLst>
              <a:path w="451387" h="718004">
                <a:moveTo>
                  <a:pt x="813" y="0"/>
                </a:moveTo>
                <a:cubicBezTo>
                  <a:pt x="166465" y="46382"/>
                  <a:pt x="332117" y="92765"/>
                  <a:pt x="332117" y="212035"/>
                </a:cubicBezTo>
                <a:cubicBezTo>
                  <a:pt x="332117" y="331305"/>
                  <a:pt x="-19065" y="682488"/>
                  <a:pt x="813" y="715618"/>
                </a:cubicBezTo>
                <a:cubicBezTo>
                  <a:pt x="20691" y="748748"/>
                  <a:pt x="349787" y="426279"/>
                  <a:pt x="451387" y="410818"/>
                </a:cubicBez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任意多边形 63"/>
          <p:cNvSpPr/>
          <p:nvPr/>
        </p:nvSpPr>
        <p:spPr>
          <a:xfrm>
            <a:off x="2340000" y="1808280"/>
            <a:ext cx="252360" cy="177840"/>
          </a:xfrm>
          <a:custGeom>
            <a:avLst/>
            <a:gdLst/>
            <a:ahLst/>
            <a:rect l="l" t="t" r="r" b="b"/>
            <a:pathLst>
              <a:path w="505425" h="358035">
                <a:moveTo>
                  <a:pt x="66261" y="0"/>
                </a:moveTo>
                <a:cubicBezTo>
                  <a:pt x="75096" y="26504"/>
                  <a:pt x="92765" y="51575"/>
                  <a:pt x="92765" y="79513"/>
                </a:cubicBezTo>
                <a:cubicBezTo>
                  <a:pt x="92765" y="92007"/>
                  <a:pt x="71849" y="94843"/>
                  <a:pt x="66261" y="106018"/>
                </a:cubicBezTo>
                <a:cubicBezTo>
                  <a:pt x="53767" y="131007"/>
                  <a:pt x="48591" y="159027"/>
                  <a:pt x="39756" y="185531"/>
                </a:cubicBezTo>
                <a:cubicBezTo>
                  <a:pt x="35339" y="198783"/>
                  <a:pt x="32751" y="212793"/>
                  <a:pt x="26504" y="225287"/>
                </a:cubicBezTo>
                <a:lnTo>
                  <a:pt x="0" y="278296"/>
                </a:lnTo>
                <a:cubicBezTo>
                  <a:pt x="4417" y="300383"/>
                  <a:pt x="-1168" y="327253"/>
                  <a:pt x="13252" y="344557"/>
                </a:cubicBezTo>
                <a:cubicBezTo>
                  <a:pt x="24912" y="358549"/>
                  <a:pt x="48060" y="358483"/>
                  <a:pt x="66261" y="357809"/>
                </a:cubicBezTo>
                <a:cubicBezTo>
                  <a:pt x="168175" y="354034"/>
                  <a:pt x="269461" y="340140"/>
                  <a:pt x="371061" y="331305"/>
                </a:cubicBezTo>
                <a:cubicBezTo>
                  <a:pt x="499119" y="254470"/>
                  <a:pt x="547478" y="283737"/>
                  <a:pt x="463826" y="212035"/>
                </a:cubicBezTo>
                <a:cubicBezTo>
                  <a:pt x="362330" y="125038"/>
                  <a:pt x="438735" y="200199"/>
                  <a:pt x="397565" y="159026"/>
                </a:cubicBez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任意多边形 64"/>
          <p:cNvSpPr/>
          <p:nvPr/>
        </p:nvSpPr>
        <p:spPr>
          <a:xfrm flipH="1">
            <a:off x="7163640" y="3833640"/>
            <a:ext cx="219240" cy="290520"/>
          </a:xfrm>
          <a:custGeom>
            <a:avLst/>
            <a:gdLst/>
            <a:ahLst/>
            <a:rect l="l" t="t" r="r" b="b"/>
            <a:pathLst>
              <a:path w="450574" h="596348">
                <a:moveTo>
                  <a:pt x="66261" y="0"/>
                </a:moveTo>
                <a:cubicBezTo>
                  <a:pt x="48592" y="26504"/>
                  <a:pt x="22406" y="49002"/>
                  <a:pt x="13253" y="79513"/>
                </a:cubicBezTo>
                <a:cubicBezTo>
                  <a:pt x="8019" y="96958"/>
                  <a:pt x="19330" y="115781"/>
                  <a:pt x="26505" y="132522"/>
                </a:cubicBezTo>
                <a:cubicBezTo>
                  <a:pt x="43925" y="173170"/>
                  <a:pt x="64668" y="178317"/>
                  <a:pt x="92766" y="212035"/>
                </a:cubicBezTo>
                <a:cubicBezTo>
                  <a:pt x="102962" y="224271"/>
                  <a:pt x="107034" y="241596"/>
                  <a:pt x="119270" y="251792"/>
                </a:cubicBezTo>
                <a:cubicBezTo>
                  <a:pt x="134446" y="264439"/>
                  <a:pt x="154609" y="269461"/>
                  <a:pt x="172279" y="278296"/>
                </a:cubicBezTo>
                <a:cubicBezTo>
                  <a:pt x="185531" y="291548"/>
                  <a:pt x="197042" y="306807"/>
                  <a:pt x="212035" y="318052"/>
                </a:cubicBezTo>
                <a:cubicBezTo>
                  <a:pt x="232641" y="333507"/>
                  <a:pt x="256359" y="344309"/>
                  <a:pt x="278296" y="357809"/>
                </a:cubicBezTo>
                <a:cubicBezTo>
                  <a:pt x="313788" y="379650"/>
                  <a:pt x="349638" y="400954"/>
                  <a:pt x="384313" y="424070"/>
                </a:cubicBezTo>
                <a:cubicBezTo>
                  <a:pt x="397565" y="432905"/>
                  <a:pt x="411633" y="440624"/>
                  <a:pt x="424070" y="450574"/>
                </a:cubicBezTo>
                <a:cubicBezTo>
                  <a:pt x="433826" y="458379"/>
                  <a:pt x="441739" y="468244"/>
                  <a:pt x="450574" y="477079"/>
                </a:cubicBezTo>
                <a:cubicBezTo>
                  <a:pt x="441739" y="499166"/>
                  <a:pt x="439299" y="525065"/>
                  <a:pt x="424070" y="543339"/>
                </a:cubicBezTo>
                <a:cubicBezTo>
                  <a:pt x="415127" y="554070"/>
                  <a:pt x="397745" y="552754"/>
                  <a:pt x="384313" y="556592"/>
                </a:cubicBezTo>
                <a:cubicBezTo>
                  <a:pt x="366801" y="561596"/>
                  <a:pt x="348750" y="564611"/>
                  <a:pt x="331305" y="569844"/>
                </a:cubicBezTo>
                <a:cubicBezTo>
                  <a:pt x="304545" y="577872"/>
                  <a:pt x="251792" y="596348"/>
                  <a:pt x="251792" y="596348"/>
                </a:cubicBezTo>
                <a:lnTo>
                  <a:pt x="0" y="583096"/>
                </a:ln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任意多边形 83"/>
          <p:cNvSpPr/>
          <p:nvPr/>
        </p:nvSpPr>
        <p:spPr>
          <a:xfrm flipH="1">
            <a:off x="6732720" y="1697040"/>
            <a:ext cx="218880" cy="289080"/>
          </a:xfrm>
          <a:custGeom>
            <a:avLst/>
            <a:gdLst/>
            <a:ahLst/>
            <a:rect l="l" t="t" r="r" b="b"/>
            <a:pathLst>
              <a:path w="450574" h="596348">
                <a:moveTo>
                  <a:pt x="66261" y="0"/>
                </a:moveTo>
                <a:cubicBezTo>
                  <a:pt x="48592" y="26504"/>
                  <a:pt x="22406" y="49002"/>
                  <a:pt x="13253" y="79513"/>
                </a:cubicBezTo>
                <a:cubicBezTo>
                  <a:pt x="8019" y="96958"/>
                  <a:pt x="19330" y="115781"/>
                  <a:pt x="26505" y="132522"/>
                </a:cubicBezTo>
                <a:cubicBezTo>
                  <a:pt x="43925" y="173170"/>
                  <a:pt x="64668" y="178317"/>
                  <a:pt x="92766" y="212035"/>
                </a:cubicBezTo>
                <a:cubicBezTo>
                  <a:pt x="102962" y="224271"/>
                  <a:pt x="107034" y="241596"/>
                  <a:pt x="119270" y="251792"/>
                </a:cubicBezTo>
                <a:cubicBezTo>
                  <a:pt x="134446" y="264439"/>
                  <a:pt x="154609" y="269461"/>
                  <a:pt x="172279" y="278296"/>
                </a:cubicBezTo>
                <a:cubicBezTo>
                  <a:pt x="185531" y="291548"/>
                  <a:pt x="197042" y="306807"/>
                  <a:pt x="212035" y="318052"/>
                </a:cubicBezTo>
                <a:cubicBezTo>
                  <a:pt x="232641" y="333507"/>
                  <a:pt x="256359" y="344309"/>
                  <a:pt x="278296" y="357809"/>
                </a:cubicBezTo>
                <a:cubicBezTo>
                  <a:pt x="313788" y="379650"/>
                  <a:pt x="349638" y="400954"/>
                  <a:pt x="384313" y="424070"/>
                </a:cubicBezTo>
                <a:cubicBezTo>
                  <a:pt x="397565" y="432905"/>
                  <a:pt x="411633" y="440624"/>
                  <a:pt x="424070" y="450574"/>
                </a:cubicBezTo>
                <a:cubicBezTo>
                  <a:pt x="433826" y="458379"/>
                  <a:pt x="441739" y="468244"/>
                  <a:pt x="450574" y="477079"/>
                </a:cubicBezTo>
                <a:cubicBezTo>
                  <a:pt x="441739" y="499166"/>
                  <a:pt x="439299" y="525065"/>
                  <a:pt x="424070" y="543339"/>
                </a:cubicBezTo>
                <a:cubicBezTo>
                  <a:pt x="415127" y="554070"/>
                  <a:pt x="397745" y="552754"/>
                  <a:pt x="384313" y="556592"/>
                </a:cubicBezTo>
                <a:cubicBezTo>
                  <a:pt x="366801" y="561596"/>
                  <a:pt x="348750" y="564611"/>
                  <a:pt x="331305" y="569844"/>
                </a:cubicBezTo>
                <a:cubicBezTo>
                  <a:pt x="304545" y="577872"/>
                  <a:pt x="251792" y="596348"/>
                  <a:pt x="251792" y="596348"/>
                </a:cubicBezTo>
                <a:lnTo>
                  <a:pt x="0" y="583096"/>
                </a:ln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任意多边形 84"/>
          <p:cNvSpPr/>
          <p:nvPr/>
        </p:nvSpPr>
        <p:spPr>
          <a:xfrm flipH="1" rot="9975000">
            <a:off x="6155280" y="1004760"/>
            <a:ext cx="219240" cy="290160"/>
          </a:xfrm>
          <a:custGeom>
            <a:avLst/>
            <a:gdLst/>
            <a:ahLst/>
            <a:rect l="l" t="t" r="r" b="b"/>
            <a:pathLst>
              <a:path w="450574" h="596348">
                <a:moveTo>
                  <a:pt x="66261" y="0"/>
                </a:moveTo>
                <a:cubicBezTo>
                  <a:pt x="48592" y="26504"/>
                  <a:pt x="22406" y="49002"/>
                  <a:pt x="13253" y="79513"/>
                </a:cubicBezTo>
                <a:cubicBezTo>
                  <a:pt x="8019" y="96958"/>
                  <a:pt x="19330" y="115781"/>
                  <a:pt x="26505" y="132522"/>
                </a:cubicBezTo>
                <a:cubicBezTo>
                  <a:pt x="43925" y="173170"/>
                  <a:pt x="64668" y="178317"/>
                  <a:pt x="92766" y="212035"/>
                </a:cubicBezTo>
                <a:cubicBezTo>
                  <a:pt x="102962" y="224271"/>
                  <a:pt x="107034" y="241596"/>
                  <a:pt x="119270" y="251792"/>
                </a:cubicBezTo>
                <a:cubicBezTo>
                  <a:pt x="134446" y="264439"/>
                  <a:pt x="154609" y="269461"/>
                  <a:pt x="172279" y="278296"/>
                </a:cubicBezTo>
                <a:cubicBezTo>
                  <a:pt x="185531" y="291548"/>
                  <a:pt x="197042" y="306807"/>
                  <a:pt x="212035" y="318052"/>
                </a:cubicBezTo>
                <a:cubicBezTo>
                  <a:pt x="232641" y="333507"/>
                  <a:pt x="256359" y="344309"/>
                  <a:pt x="278296" y="357809"/>
                </a:cubicBezTo>
                <a:cubicBezTo>
                  <a:pt x="313788" y="379650"/>
                  <a:pt x="349638" y="400954"/>
                  <a:pt x="384313" y="424070"/>
                </a:cubicBezTo>
                <a:cubicBezTo>
                  <a:pt x="397565" y="432905"/>
                  <a:pt x="411633" y="440624"/>
                  <a:pt x="424070" y="450574"/>
                </a:cubicBezTo>
                <a:cubicBezTo>
                  <a:pt x="433826" y="458379"/>
                  <a:pt x="441739" y="468244"/>
                  <a:pt x="450574" y="477079"/>
                </a:cubicBezTo>
                <a:cubicBezTo>
                  <a:pt x="441739" y="499166"/>
                  <a:pt x="439299" y="525065"/>
                  <a:pt x="424070" y="543339"/>
                </a:cubicBezTo>
                <a:cubicBezTo>
                  <a:pt x="415127" y="554070"/>
                  <a:pt x="397745" y="552754"/>
                  <a:pt x="384313" y="556592"/>
                </a:cubicBezTo>
                <a:cubicBezTo>
                  <a:pt x="366801" y="561596"/>
                  <a:pt x="348750" y="564611"/>
                  <a:pt x="331305" y="569844"/>
                </a:cubicBezTo>
                <a:cubicBezTo>
                  <a:pt x="304545" y="577872"/>
                  <a:pt x="251792" y="596348"/>
                  <a:pt x="251792" y="596348"/>
                </a:cubicBezTo>
                <a:lnTo>
                  <a:pt x="0" y="583096"/>
                </a:ln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Oval 279"/>
          <p:cNvSpPr/>
          <p:nvPr/>
        </p:nvSpPr>
        <p:spPr>
          <a:xfrm>
            <a:off x="3933720" y="2631960"/>
            <a:ext cx="1305000" cy="130032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Oval 280"/>
          <p:cNvSpPr/>
          <p:nvPr/>
        </p:nvSpPr>
        <p:spPr>
          <a:xfrm>
            <a:off x="3454560" y="2154240"/>
            <a:ext cx="2263680" cy="225576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Oval 282"/>
          <p:cNvSpPr/>
          <p:nvPr/>
        </p:nvSpPr>
        <p:spPr>
          <a:xfrm>
            <a:off x="4330800" y="3029040"/>
            <a:ext cx="511200" cy="50616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Oval 282"/>
          <p:cNvSpPr/>
          <p:nvPr/>
        </p:nvSpPr>
        <p:spPr>
          <a:xfrm>
            <a:off x="4203720" y="2900520"/>
            <a:ext cx="765000" cy="76356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9F543882.wav" descr=""/>
          <p:cNvPicPr/>
          <p:nvPr/>
        </p:nvPicPr>
        <p:blipFill>
          <a:blip r:embed="rId7"/>
          <a:stretch/>
        </p:blipFill>
        <p:spPr>
          <a:xfrm>
            <a:off x="9468000" y="24192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8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8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8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8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9" dur="400" fill="hold"/>
                                        <p:tgtEl>
                                          <p:spTgt spid="454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0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1" dur="800" fill="hold"/>
                                        <p:tgtEl>
                                          <p:spTgt spid="454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8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3" dur="400" fill="hold"/>
                                        <p:tgtEl>
                                          <p:spTgt spid="446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4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800" fill="hold"/>
                                        <p:tgtEl>
                                          <p:spTgt spid="446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 repeatCount="indefinite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 repeatCount="indefinite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18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18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18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6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429" dur="1800" fill="hold"/>
                                        <p:tgtEl>
                                          <p:spTgt spid="4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18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6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437" dur="18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18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6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445" dur="1800" fill="hold"/>
                                        <p:tgtEl>
                                          <p:spTgt spid="467"/>
                                        </p:tgtEl>
                                      </p:cBhvr>
                                      <p:to x="20000" y="20000"/>
                                    </p:animScale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18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6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462" dur="1800" fill="hold"/>
                                        <p:tgtEl>
                                          <p:spTgt spid="4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18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1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矩形 2"/>
          <p:cNvSpPr/>
          <p:nvPr/>
        </p:nvSpPr>
        <p:spPr>
          <a:xfrm>
            <a:off x="900000" y="2152800"/>
            <a:ext cx="7848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一种情感不能相守却天长地久，有一种付出不计回报却没有尽头，有一种坚持不离不弃却永不放手。老师，感谢您用心关爱我们每一个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98" descr=""/>
          <p:cNvPicPr/>
          <p:nvPr/>
        </p:nvPicPr>
        <p:blipFill>
          <a:blip r:embed="rId1"/>
          <a:stretch/>
        </p:blipFill>
        <p:spPr>
          <a:xfrm>
            <a:off x="1182600" y="1149480"/>
            <a:ext cx="2281320" cy="987120"/>
          </a:xfrm>
          <a:prstGeom prst="rect">
            <a:avLst/>
          </a:prstGeom>
          <a:ln w="0">
            <a:noFill/>
          </a:ln>
        </p:spPr>
      </p:pic>
      <p:sp>
        <p:nvSpPr>
          <p:cNvPr id="472" name="直接连接符 4"/>
          <p:cNvSpPr/>
          <p:nvPr/>
        </p:nvSpPr>
        <p:spPr>
          <a:xfrm>
            <a:off x="1006560" y="204480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Box 394"/>
          <p:cNvSpPr/>
          <p:nvPr/>
        </p:nvSpPr>
        <p:spPr>
          <a:xfrm>
            <a:off x="7658280" y="4125960"/>
            <a:ext cx="12254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6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师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矩形 9"/>
          <p:cNvSpPr/>
          <p:nvPr/>
        </p:nvSpPr>
        <p:spPr>
          <a:xfrm>
            <a:off x="887400" y="2921040"/>
            <a:ext cx="7848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祝福老师教师节快乐，收获桃李满园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0" y="0"/>
            <a:ext cx="101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523800" y="0"/>
            <a:ext cx="10800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177840" y="0"/>
            <a:ext cx="4752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29520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743040" y="0"/>
            <a:ext cx="10296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126828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13"/>
          <p:cNvSpPr/>
          <p:nvPr/>
        </p:nvSpPr>
        <p:spPr>
          <a:xfrm>
            <a:off x="922320" y="0"/>
            <a:ext cx="47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14"/>
          <p:cNvSpPr/>
          <p:nvPr/>
        </p:nvSpPr>
        <p:spPr>
          <a:xfrm>
            <a:off x="1039680" y="0"/>
            <a:ext cx="1652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15"/>
          <p:cNvSpPr/>
          <p:nvPr/>
        </p:nvSpPr>
        <p:spPr>
          <a:xfrm>
            <a:off x="1487520" y="0"/>
            <a:ext cx="10152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Freeform 16"/>
          <p:cNvSpPr/>
          <p:nvPr/>
        </p:nvSpPr>
        <p:spPr>
          <a:xfrm>
            <a:off x="2008080" y="0"/>
            <a:ext cx="111240" cy="5149800"/>
          </a:xfrm>
          <a:custGeom>
            <a:avLst/>
            <a:gdLst/>
            <a:ahLst/>
            <a:rect l="l" t="t" r="r" b="b"/>
            <a:pathLst>
              <a:path w="35" h="1620">
                <a:moveTo>
                  <a:pt x="5" y="774"/>
                </a:moveTo>
                <a:cubicBezTo>
                  <a:pt x="0" y="747"/>
                  <a:pt x="14" y="728"/>
                  <a:pt x="20" y="711"/>
                </a:cubicBezTo>
                <a:cubicBezTo>
                  <a:pt x="20" y="741"/>
                  <a:pt x="20" y="741"/>
                  <a:pt x="20" y="741"/>
                </a:cubicBezTo>
                <a:cubicBezTo>
                  <a:pt x="22" y="755"/>
                  <a:pt x="28" y="768"/>
                  <a:pt x="35" y="778"/>
                </a:cubicBezTo>
                <a:cubicBezTo>
                  <a:pt x="35" y="0"/>
                  <a:pt x="35" y="0"/>
                  <a:pt x="35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620"/>
                  <a:pt x="1" y="1620"/>
                  <a:pt x="1" y="1620"/>
                </a:cubicBezTo>
                <a:cubicBezTo>
                  <a:pt x="35" y="1620"/>
                  <a:pt x="35" y="1620"/>
                  <a:pt x="35" y="1620"/>
                </a:cubicBezTo>
                <a:cubicBezTo>
                  <a:pt x="35" y="822"/>
                  <a:pt x="35" y="822"/>
                  <a:pt x="35" y="822"/>
                </a:cubicBezTo>
                <a:cubicBezTo>
                  <a:pt x="20" y="809"/>
                  <a:pt x="9" y="793"/>
                  <a:pt x="5" y="774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Rectangle 17"/>
          <p:cNvSpPr/>
          <p:nvPr/>
        </p:nvSpPr>
        <p:spPr>
          <a:xfrm>
            <a:off x="1665360" y="0"/>
            <a:ext cx="4428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Rectangle 18"/>
          <p:cNvSpPr/>
          <p:nvPr/>
        </p:nvSpPr>
        <p:spPr>
          <a:xfrm>
            <a:off x="178272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19"/>
          <p:cNvSpPr/>
          <p:nvPr/>
        </p:nvSpPr>
        <p:spPr>
          <a:xfrm>
            <a:off x="2230560" y="2784600"/>
            <a:ext cx="102960" cy="2365200"/>
          </a:xfrm>
          <a:custGeom>
            <a:avLst/>
            <a:gdLst/>
            <a:ahLst/>
            <a:rect l="l" t="t" r="r" b="b"/>
            <a:pathLst>
              <a:path w="32" h="744">
                <a:moveTo>
                  <a:pt x="0" y="744"/>
                </a:moveTo>
                <a:cubicBezTo>
                  <a:pt x="32" y="744"/>
                  <a:pt x="32" y="744"/>
                  <a:pt x="32" y="744"/>
                </a:cubicBezTo>
                <a:cubicBezTo>
                  <a:pt x="32" y="9"/>
                  <a:pt x="32" y="9"/>
                  <a:pt x="32" y="9"/>
                </a:cubicBezTo>
                <a:cubicBezTo>
                  <a:pt x="21" y="7"/>
                  <a:pt x="10" y="4"/>
                  <a:pt x="0" y="0"/>
                </a:cubicBezTo>
                <a:lnTo>
                  <a:pt x="0" y="744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20"/>
          <p:cNvSpPr/>
          <p:nvPr/>
        </p:nvSpPr>
        <p:spPr>
          <a:xfrm>
            <a:off x="2230560" y="0"/>
            <a:ext cx="102960" cy="2498760"/>
          </a:xfrm>
          <a:custGeom>
            <a:avLst/>
            <a:gdLst/>
            <a:ahLst/>
            <a:rect l="l" t="t" r="r" b="b"/>
            <a:pathLst>
              <a:path w="32" h="786">
                <a:moveTo>
                  <a:pt x="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775"/>
                  <a:pt x="0" y="775"/>
                  <a:pt x="0" y="775"/>
                </a:cubicBezTo>
                <a:cubicBezTo>
                  <a:pt x="10" y="780"/>
                  <a:pt x="21" y="784"/>
                  <a:pt x="32" y="786"/>
                </a:cubicBezTo>
                <a:lnTo>
                  <a:pt x="3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21"/>
          <p:cNvSpPr/>
          <p:nvPr/>
        </p:nvSpPr>
        <p:spPr>
          <a:xfrm>
            <a:off x="2755800" y="0"/>
            <a:ext cx="108000" cy="2232000"/>
          </a:xfrm>
          <a:custGeom>
            <a:avLst/>
            <a:gdLst/>
            <a:ahLst/>
            <a:rect l="l" t="t" r="r" b="b"/>
            <a:pathLst>
              <a:path w="34" h="702">
                <a:moveTo>
                  <a:pt x="0" y="702"/>
                </a:moveTo>
                <a:cubicBezTo>
                  <a:pt x="20" y="678"/>
                  <a:pt x="32" y="639"/>
                  <a:pt x="34" y="626"/>
                </a:cubicBezTo>
                <a:cubicBezTo>
                  <a:pt x="34" y="0"/>
                  <a:pt x="34" y="0"/>
                  <a:pt x="34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reeform 22"/>
          <p:cNvSpPr/>
          <p:nvPr/>
        </p:nvSpPr>
        <p:spPr>
          <a:xfrm>
            <a:off x="2755800" y="2806560"/>
            <a:ext cx="108000" cy="2343240"/>
          </a:xfrm>
          <a:custGeom>
            <a:avLst/>
            <a:gdLst/>
            <a:ahLst/>
            <a:rect l="l" t="t" r="r" b="b"/>
            <a:pathLst>
              <a:path w="34" h="737">
                <a:moveTo>
                  <a:pt x="0" y="737"/>
                </a:moveTo>
                <a:cubicBezTo>
                  <a:pt x="34" y="737"/>
                  <a:pt x="34" y="737"/>
                  <a:pt x="34" y="737"/>
                </a:cubicBezTo>
                <a:cubicBezTo>
                  <a:pt x="34" y="0"/>
                  <a:pt x="34" y="0"/>
                  <a:pt x="34" y="0"/>
                </a:cubicBezTo>
                <a:cubicBezTo>
                  <a:pt x="23" y="6"/>
                  <a:pt x="12" y="12"/>
                  <a:pt x="0" y="17"/>
                </a:cubicBezTo>
                <a:lnTo>
                  <a:pt x="0" y="73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reeform 23"/>
          <p:cNvSpPr/>
          <p:nvPr/>
        </p:nvSpPr>
        <p:spPr>
          <a:xfrm>
            <a:off x="2409840" y="0"/>
            <a:ext cx="44280" cy="2432160"/>
          </a:xfrm>
          <a:custGeom>
            <a:avLst/>
            <a:gdLst/>
            <a:ahLst/>
            <a:rect l="l" t="t" r="r" b="b"/>
            <a:pathLst>
              <a:path w="14" h="765">
                <a:moveTo>
                  <a:pt x="14" y="765"/>
                </a:moveTo>
                <a:cubicBezTo>
                  <a:pt x="14" y="0"/>
                  <a:pt x="14" y="0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765"/>
                  <a:pt x="0" y="765"/>
                  <a:pt x="0" y="765"/>
                </a:cubicBezTo>
                <a:cubicBezTo>
                  <a:pt x="5" y="765"/>
                  <a:pt x="10" y="765"/>
                  <a:pt x="14" y="765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Freeform 24"/>
          <p:cNvSpPr/>
          <p:nvPr/>
        </p:nvSpPr>
        <p:spPr>
          <a:xfrm>
            <a:off x="2409840" y="2898720"/>
            <a:ext cx="44280" cy="2251080"/>
          </a:xfrm>
          <a:custGeom>
            <a:avLst/>
            <a:gdLst/>
            <a:ahLst/>
            <a:rect l="l" t="t" r="r" b="b"/>
            <a:pathLst>
              <a:path w="14" h="708">
                <a:moveTo>
                  <a:pt x="0" y="708"/>
                </a:moveTo>
                <a:cubicBezTo>
                  <a:pt x="14" y="708"/>
                  <a:pt x="14" y="708"/>
                  <a:pt x="14" y="708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0"/>
                  <a:pt x="5" y="0"/>
                  <a:pt x="0" y="0"/>
                </a:cubicBezTo>
                <a:lnTo>
                  <a:pt x="0" y="70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Freeform 25"/>
          <p:cNvSpPr/>
          <p:nvPr/>
        </p:nvSpPr>
        <p:spPr>
          <a:xfrm>
            <a:off x="2527200" y="0"/>
            <a:ext cx="165240" cy="2502000"/>
          </a:xfrm>
          <a:custGeom>
            <a:avLst/>
            <a:gdLst/>
            <a:ahLst/>
            <a:rect l="l" t="t" r="r" b="b"/>
            <a:pathLst>
              <a:path w="52" h="787">
                <a:moveTo>
                  <a:pt x="5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787"/>
                  <a:pt x="0" y="787"/>
                  <a:pt x="0" y="787"/>
                </a:cubicBezTo>
                <a:cubicBezTo>
                  <a:pt x="18" y="785"/>
                  <a:pt x="35" y="780"/>
                  <a:pt x="52" y="774"/>
                </a:cubicBezTo>
                <a:lnTo>
                  <a:pt x="5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reeform 26"/>
          <p:cNvSpPr/>
          <p:nvPr/>
        </p:nvSpPr>
        <p:spPr>
          <a:xfrm>
            <a:off x="2527200" y="2781360"/>
            <a:ext cx="165240" cy="2368440"/>
          </a:xfrm>
          <a:custGeom>
            <a:avLst/>
            <a:gdLst/>
            <a:ahLst/>
            <a:rect l="l" t="t" r="r" b="b"/>
            <a:pathLst>
              <a:path w="52" h="745">
                <a:moveTo>
                  <a:pt x="0" y="12"/>
                </a:moveTo>
                <a:cubicBezTo>
                  <a:pt x="0" y="745"/>
                  <a:pt x="0" y="745"/>
                  <a:pt x="0" y="745"/>
                </a:cubicBezTo>
                <a:cubicBezTo>
                  <a:pt x="52" y="745"/>
                  <a:pt x="52" y="745"/>
                  <a:pt x="52" y="745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4"/>
                  <a:pt x="29" y="8"/>
                  <a:pt x="16" y="10"/>
                </a:cubicBezTo>
                <a:cubicBezTo>
                  <a:pt x="11" y="11"/>
                  <a:pt x="5" y="12"/>
                  <a:pt x="0" y="12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reeform 27"/>
          <p:cNvSpPr/>
          <p:nvPr/>
        </p:nvSpPr>
        <p:spPr>
          <a:xfrm>
            <a:off x="2975040" y="2736720"/>
            <a:ext cx="101520" cy="2413080"/>
          </a:xfrm>
          <a:custGeom>
            <a:avLst/>
            <a:gdLst/>
            <a:ahLst/>
            <a:rect l="l" t="t" r="r" b="b"/>
            <a:pathLst>
              <a:path w="32" h="759">
                <a:moveTo>
                  <a:pt x="0" y="759"/>
                </a:moveTo>
                <a:cubicBezTo>
                  <a:pt x="32" y="759"/>
                  <a:pt x="32" y="759"/>
                  <a:pt x="32" y="759"/>
                </a:cubicBezTo>
                <a:cubicBezTo>
                  <a:pt x="32" y="10"/>
                  <a:pt x="32" y="10"/>
                  <a:pt x="32" y="10"/>
                </a:cubicBezTo>
                <a:cubicBezTo>
                  <a:pt x="19" y="7"/>
                  <a:pt x="8" y="6"/>
                  <a:pt x="0" y="0"/>
                </a:cubicBezTo>
                <a:lnTo>
                  <a:pt x="0" y="759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28"/>
          <p:cNvSpPr/>
          <p:nvPr/>
        </p:nvSpPr>
        <p:spPr>
          <a:xfrm>
            <a:off x="2975040" y="0"/>
            <a:ext cx="101520" cy="163656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29"/>
          <p:cNvSpPr/>
          <p:nvPr/>
        </p:nvSpPr>
        <p:spPr>
          <a:xfrm>
            <a:off x="3498840" y="0"/>
            <a:ext cx="108000" cy="156996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reeform 30"/>
          <p:cNvSpPr/>
          <p:nvPr/>
        </p:nvSpPr>
        <p:spPr>
          <a:xfrm>
            <a:off x="3498840" y="3367080"/>
            <a:ext cx="108000" cy="1782720"/>
          </a:xfrm>
          <a:custGeom>
            <a:avLst/>
            <a:gdLst/>
            <a:ahLst/>
            <a:rect l="l" t="t" r="r" b="b"/>
            <a:pathLst>
              <a:path w="34" h="561">
                <a:moveTo>
                  <a:pt x="0" y="561"/>
                </a:moveTo>
                <a:cubicBezTo>
                  <a:pt x="34" y="561"/>
                  <a:pt x="34" y="561"/>
                  <a:pt x="34" y="561"/>
                </a:cubicBezTo>
                <a:cubicBezTo>
                  <a:pt x="34" y="0"/>
                  <a:pt x="34" y="0"/>
                  <a:pt x="34" y="0"/>
                </a:cubicBezTo>
                <a:cubicBezTo>
                  <a:pt x="24" y="8"/>
                  <a:pt x="14" y="13"/>
                  <a:pt x="0" y="16"/>
                </a:cubicBezTo>
                <a:lnTo>
                  <a:pt x="0" y="561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31"/>
          <p:cNvSpPr/>
          <p:nvPr/>
        </p:nvSpPr>
        <p:spPr>
          <a:xfrm>
            <a:off x="3152880" y="0"/>
            <a:ext cx="44280" cy="166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reeform 32"/>
          <p:cNvSpPr/>
          <p:nvPr/>
        </p:nvSpPr>
        <p:spPr>
          <a:xfrm>
            <a:off x="3152880" y="3522600"/>
            <a:ext cx="44280" cy="1627200"/>
          </a:xfrm>
          <a:custGeom>
            <a:avLst/>
            <a:gdLst/>
            <a:ahLst/>
            <a:rect l="l" t="t" r="r" b="b"/>
            <a:pathLst>
              <a:path w="14" h="512">
                <a:moveTo>
                  <a:pt x="0" y="512"/>
                </a:moveTo>
                <a:cubicBezTo>
                  <a:pt x="14" y="512"/>
                  <a:pt x="14" y="512"/>
                  <a:pt x="14" y="512"/>
                </a:cubicBezTo>
                <a:cubicBezTo>
                  <a:pt x="14" y="4"/>
                  <a:pt x="14" y="4"/>
                  <a:pt x="14" y="4"/>
                </a:cubicBezTo>
                <a:cubicBezTo>
                  <a:pt x="9" y="4"/>
                  <a:pt x="5" y="2"/>
                  <a:pt x="0" y="0"/>
                </a:cubicBezTo>
                <a:lnTo>
                  <a:pt x="0" y="5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33"/>
          <p:cNvSpPr/>
          <p:nvPr/>
        </p:nvSpPr>
        <p:spPr>
          <a:xfrm>
            <a:off x="3270240" y="0"/>
            <a:ext cx="165240" cy="166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34"/>
          <p:cNvSpPr/>
          <p:nvPr/>
        </p:nvSpPr>
        <p:spPr>
          <a:xfrm>
            <a:off x="3270240" y="3427560"/>
            <a:ext cx="165240" cy="1722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reeform 35"/>
          <p:cNvSpPr/>
          <p:nvPr/>
        </p:nvSpPr>
        <p:spPr>
          <a:xfrm>
            <a:off x="3718080" y="3516480"/>
            <a:ext cx="101520" cy="1633320"/>
          </a:xfrm>
          <a:custGeom>
            <a:avLst/>
            <a:gdLst/>
            <a:ahLst/>
            <a:rect l="l" t="t" r="r" b="b"/>
            <a:pathLst>
              <a:path w="32" h="514">
                <a:moveTo>
                  <a:pt x="0" y="0"/>
                </a:moveTo>
                <a:cubicBezTo>
                  <a:pt x="0" y="514"/>
                  <a:pt x="0" y="514"/>
                  <a:pt x="0" y="514"/>
                </a:cubicBezTo>
                <a:cubicBezTo>
                  <a:pt x="32" y="514"/>
                  <a:pt x="32" y="514"/>
                  <a:pt x="32" y="514"/>
                </a:cubicBezTo>
                <a:cubicBezTo>
                  <a:pt x="32" y="4"/>
                  <a:pt x="32" y="4"/>
                  <a:pt x="32" y="4"/>
                </a:cubicBezTo>
                <a:cubicBezTo>
                  <a:pt x="18" y="4"/>
                  <a:pt x="8" y="3"/>
                  <a:pt x="0" y="0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36"/>
          <p:cNvSpPr/>
          <p:nvPr/>
        </p:nvSpPr>
        <p:spPr>
          <a:xfrm>
            <a:off x="3718080" y="0"/>
            <a:ext cx="101520" cy="172872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reeform 37"/>
          <p:cNvSpPr/>
          <p:nvPr/>
        </p:nvSpPr>
        <p:spPr>
          <a:xfrm>
            <a:off x="4243320" y="0"/>
            <a:ext cx="108000" cy="1716120"/>
          </a:xfrm>
          <a:custGeom>
            <a:avLst/>
            <a:gdLst/>
            <a:ahLst/>
            <a:rect l="l" t="t" r="r" b="b"/>
            <a:pathLst>
              <a:path w="34" h="540">
                <a:moveTo>
                  <a:pt x="3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0"/>
                  <a:pt x="0" y="540"/>
                  <a:pt x="0" y="540"/>
                </a:cubicBezTo>
                <a:cubicBezTo>
                  <a:pt x="11" y="540"/>
                  <a:pt x="23" y="540"/>
                  <a:pt x="34" y="540"/>
                </a:cubicBezTo>
                <a:lnTo>
                  <a:pt x="34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reeform 38"/>
          <p:cNvSpPr/>
          <p:nvPr/>
        </p:nvSpPr>
        <p:spPr>
          <a:xfrm>
            <a:off x="4243320" y="3411360"/>
            <a:ext cx="108000" cy="1738440"/>
          </a:xfrm>
          <a:custGeom>
            <a:avLst/>
            <a:gdLst/>
            <a:ahLst/>
            <a:rect l="l" t="t" r="r" b="b"/>
            <a:pathLst>
              <a:path w="68" h="1095">
                <a:moveTo>
                  <a:pt x="0" y="6"/>
                </a:moveTo>
                <a:lnTo>
                  <a:pt x="0" y="1095"/>
                </a:lnTo>
                <a:lnTo>
                  <a:pt x="68" y="1095"/>
                </a:lnTo>
                <a:lnTo>
                  <a:pt x="68" y="0"/>
                </a:lnTo>
                <a:lnTo>
                  <a:pt x="0" y="6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39"/>
          <p:cNvSpPr/>
          <p:nvPr/>
        </p:nvSpPr>
        <p:spPr>
          <a:xfrm>
            <a:off x="3897360" y="0"/>
            <a:ext cx="44280" cy="1620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reeform 40"/>
          <p:cNvSpPr/>
          <p:nvPr/>
        </p:nvSpPr>
        <p:spPr>
          <a:xfrm>
            <a:off x="3897360" y="0"/>
            <a:ext cx="44280" cy="1620720"/>
          </a:xfrm>
          <a:custGeom>
            <a:avLst/>
            <a:gdLst/>
            <a:ahLst/>
            <a:rect l="l" t="t" r="r" b="b"/>
            <a:pathLst>
              <a:path w="28" h="1021">
                <a:moveTo>
                  <a:pt x="28" y="0"/>
                </a:moveTo>
                <a:lnTo>
                  <a:pt x="0" y="0"/>
                </a:lnTo>
                <a:lnTo>
                  <a:pt x="0" y="1021"/>
                </a:lnTo>
                <a:lnTo>
                  <a:pt x="28" y="10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41"/>
          <p:cNvSpPr/>
          <p:nvPr/>
        </p:nvSpPr>
        <p:spPr>
          <a:xfrm>
            <a:off x="3897360" y="3433680"/>
            <a:ext cx="44280" cy="1716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reeform 42"/>
          <p:cNvSpPr/>
          <p:nvPr/>
        </p:nvSpPr>
        <p:spPr>
          <a:xfrm>
            <a:off x="4014720" y="3373560"/>
            <a:ext cx="165240" cy="1776240"/>
          </a:xfrm>
          <a:custGeom>
            <a:avLst/>
            <a:gdLst/>
            <a:ahLst/>
            <a:rect l="l" t="t" r="r" b="b"/>
            <a:pathLst>
              <a:path w="52" h="559">
                <a:moveTo>
                  <a:pt x="29" y="33"/>
                </a:moveTo>
                <a:cubicBezTo>
                  <a:pt x="21" y="38"/>
                  <a:pt x="12" y="41"/>
                  <a:pt x="0" y="42"/>
                </a:cubicBezTo>
                <a:cubicBezTo>
                  <a:pt x="0" y="559"/>
                  <a:pt x="0" y="559"/>
                  <a:pt x="0" y="559"/>
                </a:cubicBezTo>
                <a:cubicBezTo>
                  <a:pt x="52" y="559"/>
                  <a:pt x="52" y="559"/>
                  <a:pt x="52" y="559"/>
                </a:cubicBezTo>
                <a:cubicBezTo>
                  <a:pt x="52" y="0"/>
                  <a:pt x="52" y="0"/>
                  <a:pt x="52" y="0"/>
                </a:cubicBezTo>
                <a:cubicBezTo>
                  <a:pt x="45" y="15"/>
                  <a:pt x="37" y="28"/>
                  <a:pt x="29" y="33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43"/>
          <p:cNvSpPr/>
          <p:nvPr/>
        </p:nvSpPr>
        <p:spPr>
          <a:xfrm>
            <a:off x="4462560" y="3503520"/>
            <a:ext cx="101520" cy="164628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44"/>
          <p:cNvSpPr/>
          <p:nvPr/>
        </p:nvSpPr>
        <p:spPr>
          <a:xfrm>
            <a:off x="4462560" y="0"/>
            <a:ext cx="101520" cy="1595520"/>
          </a:xfrm>
          <a:custGeom>
            <a:avLst/>
            <a:gdLst/>
            <a:ahLst/>
            <a:rect l="l" t="t" r="r" b="b"/>
            <a:pathLst>
              <a:path w="32" h="502">
                <a:moveTo>
                  <a:pt x="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02"/>
                  <a:pt x="0" y="502"/>
                  <a:pt x="0" y="502"/>
                </a:cubicBezTo>
                <a:cubicBezTo>
                  <a:pt x="11" y="502"/>
                  <a:pt x="21" y="502"/>
                  <a:pt x="32" y="502"/>
                </a:cubicBezTo>
                <a:lnTo>
                  <a:pt x="3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45"/>
          <p:cNvSpPr/>
          <p:nvPr/>
        </p:nvSpPr>
        <p:spPr>
          <a:xfrm>
            <a:off x="4986360" y="3909960"/>
            <a:ext cx="108000" cy="123984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46"/>
          <p:cNvSpPr/>
          <p:nvPr/>
        </p:nvSpPr>
        <p:spPr>
          <a:xfrm>
            <a:off x="4986360" y="0"/>
            <a:ext cx="108000" cy="163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reeform 47"/>
          <p:cNvSpPr/>
          <p:nvPr/>
        </p:nvSpPr>
        <p:spPr>
          <a:xfrm>
            <a:off x="4640400" y="0"/>
            <a:ext cx="44280" cy="1719360"/>
          </a:xfrm>
          <a:custGeom>
            <a:avLst/>
            <a:gdLst/>
            <a:ahLst/>
            <a:rect l="l" t="t" r="r" b="b"/>
            <a:pathLst>
              <a:path w="14" h="541">
                <a:moveTo>
                  <a:pt x="1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5" y="541"/>
                  <a:pt x="10" y="541"/>
                  <a:pt x="14" y="541"/>
                </a:cubicBezTo>
                <a:lnTo>
                  <a:pt x="1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48"/>
          <p:cNvSpPr/>
          <p:nvPr/>
        </p:nvSpPr>
        <p:spPr>
          <a:xfrm>
            <a:off x="4640400" y="3360600"/>
            <a:ext cx="44280" cy="1789200"/>
          </a:xfrm>
          <a:custGeom>
            <a:avLst/>
            <a:gdLst/>
            <a:ahLst/>
            <a:rect l="l" t="t" r="r" b="b"/>
            <a:pathLst>
              <a:path w="14" h="563">
                <a:moveTo>
                  <a:pt x="0" y="17"/>
                </a:moveTo>
                <a:cubicBezTo>
                  <a:pt x="0" y="563"/>
                  <a:pt x="0" y="563"/>
                  <a:pt x="0" y="563"/>
                </a:cubicBezTo>
                <a:cubicBezTo>
                  <a:pt x="14" y="563"/>
                  <a:pt x="14" y="563"/>
                  <a:pt x="14" y="563"/>
                </a:cubicBezTo>
                <a:cubicBezTo>
                  <a:pt x="14" y="0"/>
                  <a:pt x="14" y="0"/>
                  <a:pt x="14" y="0"/>
                </a:cubicBezTo>
                <a:cubicBezTo>
                  <a:pt x="12" y="7"/>
                  <a:pt x="9" y="12"/>
                  <a:pt x="7" y="16"/>
                </a:cubicBezTo>
                <a:cubicBezTo>
                  <a:pt x="5" y="16"/>
                  <a:pt x="2" y="17"/>
                  <a:pt x="0" y="17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49"/>
          <p:cNvSpPr/>
          <p:nvPr/>
        </p:nvSpPr>
        <p:spPr>
          <a:xfrm>
            <a:off x="4757760" y="3795840"/>
            <a:ext cx="165240" cy="135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50"/>
          <p:cNvSpPr/>
          <p:nvPr/>
        </p:nvSpPr>
        <p:spPr>
          <a:xfrm>
            <a:off x="4757760" y="0"/>
            <a:ext cx="165240" cy="1719360"/>
          </a:xfrm>
          <a:custGeom>
            <a:avLst/>
            <a:gdLst/>
            <a:ahLst/>
            <a:rect l="l" t="t" r="r" b="b"/>
            <a:pathLst>
              <a:path w="52" h="541">
                <a:moveTo>
                  <a:pt x="5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18" y="541"/>
                  <a:pt x="35" y="541"/>
                  <a:pt x="52" y="541"/>
                </a:cubicBezTo>
                <a:lnTo>
                  <a:pt x="5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Freeform 51"/>
          <p:cNvSpPr/>
          <p:nvPr/>
        </p:nvSpPr>
        <p:spPr>
          <a:xfrm>
            <a:off x="5205240" y="3767040"/>
            <a:ext cx="101880" cy="1382760"/>
          </a:xfrm>
          <a:custGeom>
            <a:avLst/>
            <a:gdLst/>
            <a:ahLst/>
            <a:rect l="l" t="t" r="r" b="b"/>
            <a:pathLst>
              <a:path w="32" h="435">
                <a:moveTo>
                  <a:pt x="0" y="0"/>
                </a:moveTo>
                <a:cubicBezTo>
                  <a:pt x="0" y="435"/>
                  <a:pt x="0" y="435"/>
                  <a:pt x="0" y="435"/>
                </a:cubicBezTo>
                <a:cubicBezTo>
                  <a:pt x="32" y="435"/>
                  <a:pt x="32" y="435"/>
                  <a:pt x="32" y="435"/>
                </a:cubicBezTo>
                <a:cubicBezTo>
                  <a:pt x="32" y="0"/>
                  <a:pt x="32" y="0"/>
                  <a:pt x="32" y="0"/>
                </a:cubicBezTo>
                <a:cubicBezTo>
                  <a:pt x="31" y="0"/>
                  <a:pt x="30" y="1"/>
                  <a:pt x="30" y="1"/>
                </a:cubicBezTo>
                <a:lnTo>
                  <a:pt x="0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reeform 52"/>
          <p:cNvSpPr/>
          <p:nvPr/>
        </p:nvSpPr>
        <p:spPr>
          <a:xfrm>
            <a:off x="5730840" y="3618000"/>
            <a:ext cx="108000" cy="1531800"/>
          </a:xfrm>
          <a:custGeom>
            <a:avLst/>
            <a:gdLst/>
            <a:ahLst/>
            <a:rect l="l" t="t" r="r" b="b"/>
            <a:pathLst>
              <a:path w="34" h="482">
                <a:moveTo>
                  <a:pt x="0" y="49"/>
                </a:moveTo>
                <a:cubicBezTo>
                  <a:pt x="0" y="482"/>
                  <a:pt x="0" y="482"/>
                  <a:pt x="0" y="482"/>
                </a:cubicBezTo>
                <a:cubicBezTo>
                  <a:pt x="34" y="482"/>
                  <a:pt x="34" y="482"/>
                  <a:pt x="34" y="482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25"/>
                  <a:pt x="18" y="40"/>
                  <a:pt x="0" y="49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reeform 53"/>
          <p:cNvSpPr/>
          <p:nvPr/>
        </p:nvSpPr>
        <p:spPr>
          <a:xfrm>
            <a:off x="5384880" y="0"/>
            <a:ext cx="44280" cy="1706400"/>
          </a:xfrm>
          <a:custGeom>
            <a:avLst/>
            <a:gdLst/>
            <a:ahLst/>
            <a:rect l="l" t="t" r="r" b="b"/>
            <a:pathLst>
              <a:path w="14" h="537">
                <a:moveTo>
                  <a:pt x="14" y="536"/>
                </a:moveTo>
                <a:cubicBezTo>
                  <a:pt x="14" y="0"/>
                  <a:pt x="14" y="0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4" y="536"/>
                  <a:pt x="9" y="535"/>
                  <a:pt x="14" y="536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54"/>
          <p:cNvSpPr/>
          <p:nvPr/>
        </p:nvSpPr>
        <p:spPr>
          <a:xfrm>
            <a:off x="5384880" y="3719520"/>
            <a:ext cx="44280" cy="1430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55"/>
          <p:cNvSpPr/>
          <p:nvPr/>
        </p:nvSpPr>
        <p:spPr>
          <a:xfrm>
            <a:off x="5502240" y="3852720"/>
            <a:ext cx="165240" cy="1297080"/>
          </a:xfrm>
          <a:custGeom>
            <a:avLst/>
            <a:gdLst/>
            <a:ahLst/>
            <a:rect l="l" t="t" r="r" b="b"/>
            <a:pathLst>
              <a:path w="52" h="408">
                <a:moveTo>
                  <a:pt x="0" y="408"/>
                </a:moveTo>
                <a:cubicBezTo>
                  <a:pt x="52" y="408"/>
                  <a:pt x="52" y="408"/>
                  <a:pt x="52" y="408"/>
                </a:cubicBezTo>
                <a:cubicBezTo>
                  <a:pt x="52" y="0"/>
                  <a:pt x="52" y="0"/>
                  <a:pt x="52" y="0"/>
                </a:cubicBezTo>
                <a:cubicBezTo>
                  <a:pt x="39" y="2"/>
                  <a:pt x="22" y="3"/>
                  <a:pt x="0" y="4"/>
                </a:cubicBezTo>
                <a:lnTo>
                  <a:pt x="0" y="408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56"/>
          <p:cNvSpPr/>
          <p:nvPr/>
        </p:nvSpPr>
        <p:spPr>
          <a:xfrm>
            <a:off x="5950080" y="0"/>
            <a:ext cx="101520" cy="1836720"/>
          </a:xfrm>
          <a:custGeom>
            <a:avLst/>
            <a:gdLst/>
            <a:ahLst/>
            <a:rect l="l" t="t" r="r" b="b"/>
            <a:pathLst>
              <a:path w="32" h="578">
                <a:moveTo>
                  <a:pt x="32" y="553"/>
                </a:moveTo>
                <a:cubicBezTo>
                  <a:pt x="32" y="0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78"/>
                  <a:pt x="0" y="578"/>
                  <a:pt x="0" y="578"/>
                </a:cubicBezTo>
                <a:cubicBezTo>
                  <a:pt x="12" y="572"/>
                  <a:pt x="20" y="563"/>
                  <a:pt x="30" y="553"/>
                </a:cubicBezTo>
                <a:cubicBezTo>
                  <a:pt x="31" y="553"/>
                  <a:pt x="31" y="553"/>
                  <a:pt x="32" y="553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57"/>
          <p:cNvSpPr/>
          <p:nvPr/>
        </p:nvSpPr>
        <p:spPr>
          <a:xfrm>
            <a:off x="6473880" y="3117960"/>
            <a:ext cx="108000" cy="2031840"/>
          </a:xfrm>
          <a:custGeom>
            <a:avLst/>
            <a:gdLst/>
            <a:ahLst/>
            <a:rect l="l" t="t" r="r" b="b"/>
            <a:pathLst>
              <a:path w="34" h="639">
                <a:moveTo>
                  <a:pt x="0" y="639"/>
                </a:moveTo>
                <a:cubicBezTo>
                  <a:pt x="34" y="639"/>
                  <a:pt x="34" y="639"/>
                  <a:pt x="34" y="639"/>
                </a:cubicBezTo>
                <a:cubicBezTo>
                  <a:pt x="34" y="0"/>
                  <a:pt x="34" y="0"/>
                  <a:pt x="34" y="0"/>
                </a:cubicBezTo>
                <a:cubicBezTo>
                  <a:pt x="24" y="7"/>
                  <a:pt x="13" y="11"/>
                  <a:pt x="0" y="13"/>
                </a:cubicBezTo>
                <a:lnTo>
                  <a:pt x="0" y="63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58"/>
          <p:cNvSpPr/>
          <p:nvPr/>
        </p:nvSpPr>
        <p:spPr>
          <a:xfrm>
            <a:off x="6127920" y="3057480"/>
            <a:ext cx="44280" cy="2092320"/>
          </a:xfrm>
          <a:custGeom>
            <a:avLst/>
            <a:gdLst/>
            <a:ahLst/>
            <a:rect l="l" t="t" r="r" b="b"/>
            <a:pathLst>
              <a:path w="14" h="658">
                <a:moveTo>
                  <a:pt x="0" y="658"/>
                </a:moveTo>
                <a:cubicBezTo>
                  <a:pt x="14" y="658"/>
                  <a:pt x="14" y="658"/>
                  <a:pt x="14" y="658"/>
                </a:cubicBezTo>
                <a:cubicBezTo>
                  <a:pt x="14" y="12"/>
                  <a:pt x="14" y="12"/>
                  <a:pt x="14" y="12"/>
                </a:cubicBezTo>
                <a:cubicBezTo>
                  <a:pt x="10" y="8"/>
                  <a:pt x="5" y="4"/>
                  <a:pt x="0" y="0"/>
                </a:cubicBezTo>
                <a:lnTo>
                  <a:pt x="0" y="658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reeform 59"/>
          <p:cNvSpPr/>
          <p:nvPr/>
        </p:nvSpPr>
        <p:spPr>
          <a:xfrm>
            <a:off x="6245280" y="3249720"/>
            <a:ext cx="164880" cy="1900080"/>
          </a:xfrm>
          <a:custGeom>
            <a:avLst/>
            <a:gdLst/>
            <a:ahLst/>
            <a:rect l="l" t="t" r="r" b="b"/>
            <a:pathLst>
              <a:path w="52" h="598">
                <a:moveTo>
                  <a:pt x="0" y="0"/>
                </a:moveTo>
                <a:cubicBezTo>
                  <a:pt x="0" y="598"/>
                  <a:pt x="0" y="598"/>
                  <a:pt x="0" y="598"/>
                </a:cubicBezTo>
                <a:cubicBezTo>
                  <a:pt x="52" y="598"/>
                  <a:pt x="52" y="598"/>
                  <a:pt x="52" y="598"/>
                </a:cubicBezTo>
                <a:cubicBezTo>
                  <a:pt x="52" y="8"/>
                  <a:pt x="52" y="8"/>
                  <a:pt x="52" y="8"/>
                </a:cubicBezTo>
                <a:cubicBezTo>
                  <a:pt x="35" y="8"/>
                  <a:pt x="16" y="6"/>
                  <a:pt x="0" y="0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60"/>
          <p:cNvSpPr/>
          <p:nvPr/>
        </p:nvSpPr>
        <p:spPr>
          <a:xfrm>
            <a:off x="6245280" y="0"/>
            <a:ext cx="164880" cy="1719360"/>
          </a:xfrm>
          <a:custGeom>
            <a:avLst/>
            <a:gdLst/>
            <a:ahLst/>
            <a:rect l="l" t="t" r="r" b="b"/>
            <a:pathLst>
              <a:path w="52" h="541">
                <a:moveTo>
                  <a:pt x="52" y="509"/>
                </a:moveTo>
                <a:cubicBezTo>
                  <a:pt x="52" y="0"/>
                  <a:pt x="52" y="0"/>
                  <a:pt x="5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0" y="541"/>
                  <a:pt x="7" y="524"/>
                  <a:pt x="20" y="516"/>
                </a:cubicBezTo>
                <a:cubicBezTo>
                  <a:pt x="34" y="507"/>
                  <a:pt x="52" y="509"/>
                  <a:pt x="52" y="509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61"/>
          <p:cNvSpPr/>
          <p:nvPr/>
        </p:nvSpPr>
        <p:spPr>
          <a:xfrm>
            <a:off x="6692760" y="0"/>
            <a:ext cx="101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Rectangle 62"/>
          <p:cNvSpPr/>
          <p:nvPr/>
        </p:nvSpPr>
        <p:spPr>
          <a:xfrm>
            <a:off x="721836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63"/>
          <p:cNvSpPr/>
          <p:nvPr/>
        </p:nvSpPr>
        <p:spPr>
          <a:xfrm>
            <a:off x="687060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64"/>
          <p:cNvSpPr/>
          <p:nvPr/>
        </p:nvSpPr>
        <p:spPr>
          <a:xfrm>
            <a:off x="6989760" y="0"/>
            <a:ext cx="1652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65"/>
          <p:cNvSpPr/>
          <p:nvPr/>
        </p:nvSpPr>
        <p:spPr>
          <a:xfrm>
            <a:off x="7437600" y="0"/>
            <a:ext cx="101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66"/>
          <p:cNvSpPr/>
          <p:nvPr/>
        </p:nvSpPr>
        <p:spPr>
          <a:xfrm>
            <a:off x="796140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67"/>
          <p:cNvSpPr/>
          <p:nvPr/>
        </p:nvSpPr>
        <p:spPr>
          <a:xfrm>
            <a:off x="761508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68"/>
          <p:cNvSpPr/>
          <p:nvPr/>
        </p:nvSpPr>
        <p:spPr>
          <a:xfrm>
            <a:off x="7732800" y="0"/>
            <a:ext cx="164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69"/>
          <p:cNvSpPr/>
          <p:nvPr/>
        </p:nvSpPr>
        <p:spPr>
          <a:xfrm>
            <a:off x="8180280" y="0"/>
            <a:ext cx="10188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70"/>
          <p:cNvSpPr/>
          <p:nvPr/>
        </p:nvSpPr>
        <p:spPr>
          <a:xfrm>
            <a:off x="8705880" y="0"/>
            <a:ext cx="10800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71"/>
          <p:cNvSpPr/>
          <p:nvPr/>
        </p:nvSpPr>
        <p:spPr>
          <a:xfrm>
            <a:off x="8358120" y="0"/>
            <a:ext cx="446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72"/>
          <p:cNvSpPr/>
          <p:nvPr/>
        </p:nvSpPr>
        <p:spPr>
          <a:xfrm>
            <a:off x="847728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73"/>
          <p:cNvSpPr/>
          <p:nvPr/>
        </p:nvSpPr>
        <p:spPr>
          <a:xfrm>
            <a:off x="8924760" y="0"/>
            <a:ext cx="101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74"/>
          <p:cNvSpPr/>
          <p:nvPr/>
        </p:nvSpPr>
        <p:spPr>
          <a:xfrm>
            <a:off x="910260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Rectangle 75"/>
          <p:cNvSpPr/>
          <p:nvPr/>
        </p:nvSpPr>
        <p:spPr>
          <a:xfrm>
            <a:off x="5730840" y="0"/>
            <a:ext cx="108000" cy="212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76"/>
          <p:cNvSpPr/>
          <p:nvPr/>
        </p:nvSpPr>
        <p:spPr>
          <a:xfrm>
            <a:off x="5502240" y="0"/>
            <a:ext cx="165240" cy="17892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77"/>
          <p:cNvSpPr/>
          <p:nvPr/>
        </p:nvSpPr>
        <p:spPr>
          <a:xfrm>
            <a:off x="5205240" y="0"/>
            <a:ext cx="101880" cy="18684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78"/>
          <p:cNvSpPr/>
          <p:nvPr/>
        </p:nvSpPr>
        <p:spPr>
          <a:xfrm>
            <a:off x="6127920" y="0"/>
            <a:ext cx="44280" cy="164952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79"/>
          <p:cNvSpPr/>
          <p:nvPr/>
        </p:nvSpPr>
        <p:spPr>
          <a:xfrm>
            <a:off x="6473880" y="0"/>
            <a:ext cx="108000" cy="1735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80"/>
          <p:cNvSpPr/>
          <p:nvPr/>
        </p:nvSpPr>
        <p:spPr>
          <a:xfrm>
            <a:off x="5950080" y="3351240"/>
            <a:ext cx="101520" cy="1798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81"/>
          <p:cNvSpPr/>
          <p:nvPr/>
        </p:nvSpPr>
        <p:spPr>
          <a:xfrm>
            <a:off x="4014720" y="0"/>
            <a:ext cx="165240" cy="1386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86"/>
          <p:cNvSpPr/>
          <p:nvPr/>
        </p:nvSpPr>
        <p:spPr>
          <a:xfrm>
            <a:off x="8047080" y="3943440"/>
            <a:ext cx="541440" cy="396720"/>
          </a:xfrm>
          <a:custGeom>
            <a:avLst/>
            <a:gdLst/>
            <a:ahLst/>
            <a:rect l="l" t="t" r="r" b="b"/>
            <a:pathLst>
              <a:path w="168" h="123">
                <a:moveTo>
                  <a:pt x="154" y="0"/>
                </a:moveTo>
                <a:cubicBezTo>
                  <a:pt x="122" y="46"/>
                  <a:pt x="0" y="18"/>
                  <a:pt x="64" y="123"/>
                </a:cubicBezTo>
                <a:cubicBezTo>
                  <a:pt x="168" y="108"/>
                  <a:pt x="162" y="44"/>
                  <a:pt x="154" y="0"/>
                </a:cubicBezTo>
                <a:close/>
                <a:moveTo>
                  <a:pt x="141" y="24"/>
                </a:moveTo>
                <a:cubicBezTo>
                  <a:pt x="137" y="79"/>
                  <a:pt x="77" y="57"/>
                  <a:pt x="67" y="112"/>
                </a:cubicBezTo>
                <a:cubicBezTo>
                  <a:pt x="62" y="54"/>
                  <a:pt x="131" y="80"/>
                  <a:pt x="141" y="24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88"/>
          <p:cNvSpPr/>
          <p:nvPr/>
        </p:nvSpPr>
        <p:spPr>
          <a:xfrm>
            <a:off x="8101080" y="941400"/>
            <a:ext cx="376200" cy="276120"/>
          </a:xfrm>
          <a:custGeom>
            <a:avLst/>
            <a:gdLst/>
            <a:ahLst/>
            <a:rect l="l" t="t" r="r" b="b"/>
            <a:pathLst>
              <a:path w="117" h="86">
                <a:moveTo>
                  <a:pt x="107" y="0"/>
                </a:moveTo>
                <a:cubicBezTo>
                  <a:pt x="85" y="32"/>
                  <a:pt x="0" y="13"/>
                  <a:pt x="45" y="86"/>
                </a:cubicBezTo>
                <a:cubicBezTo>
                  <a:pt x="117" y="75"/>
                  <a:pt x="113" y="31"/>
                  <a:pt x="107" y="0"/>
                </a:cubicBezTo>
                <a:close/>
                <a:moveTo>
                  <a:pt x="98" y="17"/>
                </a:moveTo>
                <a:cubicBezTo>
                  <a:pt x="96" y="55"/>
                  <a:pt x="54" y="40"/>
                  <a:pt x="47" y="78"/>
                </a:cubicBezTo>
                <a:cubicBezTo>
                  <a:pt x="43" y="37"/>
                  <a:pt x="91" y="56"/>
                  <a:pt x="98" y="17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89"/>
          <p:cNvSpPr/>
          <p:nvPr/>
        </p:nvSpPr>
        <p:spPr>
          <a:xfrm>
            <a:off x="1927080" y="4197240"/>
            <a:ext cx="335160" cy="246240"/>
          </a:xfrm>
          <a:custGeom>
            <a:avLst/>
            <a:gdLst/>
            <a:ahLst/>
            <a:rect l="l" t="t" r="r" b="b"/>
            <a:pathLst>
              <a:path w="104" h="76">
                <a:moveTo>
                  <a:pt x="95" y="0"/>
                </a:moveTo>
                <a:cubicBezTo>
                  <a:pt x="75" y="29"/>
                  <a:pt x="0" y="11"/>
                  <a:pt x="39" y="76"/>
                </a:cubicBezTo>
                <a:cubicBezTo>
                  <a:pt x="104" y="67"/>
                  <a:pt x="100" y="27"/>
                  <a:pt x="95" y="0"/>
                </a:cubicBezTo>
                <a:close/>
                <a:moveTo>
                  <a:pt x="87" y="15"/>
                </a:moveTo>
                <a:cubicBezTo>
                  <a:pt x="85" y="49"/>
                  <a:pt x="48" y="36"/>
                  <a:pt x="41" y="69"/>
                </a:cubicBezTo>
                <a:cubicBezTo>
                  <a:pt x="38" y="33"/>
                  <a:pt x="81" y="50"/>
                  <a:pt x="87" y="15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90"/>
          <p:cNvSpPr/>
          <p:nvPr/>
        </p:nvSpPr>
        <p:spPr>
          <a:xfrm>
            <a:off x="1025640" y="3859200"/>
            <a:ext cx="419040" cy="309600"/>
          </a:xfrm>
          <a:custGeom>
            <a:avLst/>
            <a:gdLst/>
            <a:ahLst/>
            <a:rect l="l" t="t" r="r" b="b"/>
            <a:pathLst>
              <a:path w="130" h="96">
                <a:moveTo>
                  <a:pt x="119" y="0"/>
                </a:moveTo>
                <a:cubicBezTo>
                  <a:pt x="94" y="36"/>
                  <a:pt x="0" y="15"/>
                  <a:pt x="50" y="96"/>
                </a:cubicBezTo>
                <a:cubicBezTo>
                  <a:pt x="130" y="84"/>
                  <a:pt x="125" y="35"/>
                  <a:pt x="119" y="0"/>
                </a:cubicBezTo>
                <a:close/>
                <a:moveTo>
                  <a:pt x="109" y="19"/>
                </a:moveTo>
                <a:cubicBezTo>
                  <a:pt x="106" y="62"/>
                  <a:pt x="60" y="45"/>
                  <a:pt x="52" y="87"/>
                </a:cubicBezTo>
                <a:cubicBezTo>
                  <a:pt x="48" y="42"/>
                  <a:pt x="101" y="62"/>
                  <a:pt x="109" y="19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91"/>
          <p:cNvSpPr/>
          <p:nvPr/>
        </p:nvSpPr>
        <p:spPr>
          <a:xfrm>
            <a:off x="606600" y="3164040"/>
            <a:ext cx="869760" cy="663480"/>
          </a:xfrm>
          <a:custGeom>
            <a:avLst/>
            <a:gdLst/>
            <a:ahLst/>
            <a:rect l="l" t="t" r="r" b="b"/>
            <a:pathLst>
              <a:path w="270" h="206">
                <a:moveTo>
                  <a:pt x="51" y="0"/>
                </a:moveTo>
                <a:cubicBezTo>
                  <a:pt x="26" y="63"/>
                  <a:pt x="0" y="155"/>
                  <a:pt x="147" y="206"/>
                </a:cubicBezTo>
                <a:cubicBezTo>
                  <a:pt x="270" y="70"/>
                  <a:pt x="85" y="77"/>
                  <a:pt x="51" y="0"/>
                </a:cubicBezTo>
                <a:close/>
                <a:moveTo>
                  <a:pt x="146" y="188"/>
                </a:moveTo>
                <a:cubicBezTo>
                  <a:pt x="146" y="106"/>
                  <a:pt x="52" y="120"/>
                  <a:pt x="62" y="39"/>
                </a:cubicBezTo>
                <a:cubicBezTo>
                  <a:pt x="62" y="123"/>
                  <a:pt x="169" y="105"/>
                  <a:pt x="146" y="188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92"/>
          <p:cNvSpPr/>
          <p:nvPr/>
        </p:nvSpPr>
        <p:spPr>
          <a:xfrm>
            <a:off x="1908000" y="538200"/>
            <a:ext cx="206640" cy="158760"/>
          </a:xfrm>
          <a:custGeom>
            <a:avLst/>
            <a:gdLst/>
            <a:ahLst/>
            <a:rect l="l" t="t" r="r" b="b"/>
            <a:pathLst>
              <a:path w="64" h="49">
                <a:moveTo>
                  <a:pt x="12" y="0"/>
                </a:moveTo>
                <a:cubicBezTo>
                  <a:pt x="6" y="15"/>
                  <a:pt x="0" y="37"/>
                  <a:pt x="35" y="49"/>
                </a:cubicBezTo>
                <a:cubicBezTo>
                  <a:pt x="64" y="17"/>
                  <a:pt x="20" y="18"/>
                  <a:pt x="12" y="0"/>
                </a:cubicBezTo>
                <a:close/>
                <a:moveTo>
                  <a:pt x="35" y="45"/>
                </a:moveTo>
                <a:cubicBezTo>
                  <a:pt x="35" y="25"/>
                  <a:pt x="12" y="29"/>
                  <a:pt x="15" y="9"/>
                </a:cubicBezTo>
                <a:cubicBezTo>
                  <a:pt x="14" y="29"/>
                  <a:pt x="40" y="25"/>
                  <a:pt x="35" y="45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93"/>
          <p:cNvSpPr/>
          <p:nvPr/>
        </p:nvSpPr>
        <p:spPr>
          <a:xfrm>
            <a:off x="7818480" y="3160800"/>
            <a:ext cx="735120" cy="557280"/>
          </a:xfrm>
          <a:custGeom>
            <a:avLst/>
            <a:gdLst/>
            <a:ahLst/>
            <a:rect l="l" t="t" r="r" b="b"/>
            <a:pathLst>
              <a:path w="228" h="173">
                <a:moveTo>
                  <a:pt x="43" y="0"/>
                </a:moveTo>
                <a:cubicBezTo>
                  <a:pt x="22" y="53"/>
                  <a:pt x="0" y="130"/>
                  <a:pt x="125" y="173"/>
                </a:cubicBezTo>
                <a:cubicBezTo>
                  <a:pt x="228" y="59"/>
                  <a:pt x="72" y="64"/>
                  <a:pt x="43" y="0"/>
                </a:cubicBezTo>
                <a:close/>
                <a:moveTo>
                  <a:pt x="124" y="159"/>
                </a:moveTo>
                <a:cubicBezTo>
                  <a:pt x="124" y="89"/>
                  <a:pt x="44" y="101"/>
                  <a:pt x="53" y="33"/>
                </a:cubicBezTo>
                <a:cubicBezTo>
                  <a:pt x="52" y="104"/>
                  <a:pt x="143" y="88"/>
                  <a:pt x="124" y="159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94"/>
          <p:cNvSpPr/>
          <p:nvPr/>
        </p:nvSpPr>
        <p:spPr>
          <a:xfrm>
            <a:off x="6742080" y="4443480"/>
            <a:ext cx="428760" cy="328680"/>
          </a:xfrm>
          <a:custGeom>
            <a:avLst/>
            <a:gdLst/>
            <a:ahLst/>
            <a:rect l="l" t="t" r="r" b="b"/>
            <a:pathLst>
              <a:path w="133" h="102">
                <a:moveTo>
                  <a:pt x="25" y="0"/>
                </a:moveTo>
                <a:cubicBezTo>
                  <a:pt x="13" y="31"/>
                  <a:pt x="0" y="76"/>
                  <a:pt x="73" y="102"/>
                </a:cubicBezTo>
                <a:cubicBezTo>
                  <a:pt x="133" y="34"/>
                  <a:pt x="42" y="38"/>
                  <a:pt x="25" y="0"/>
                </a:cubicBezTo>
                <a:close/>
                <a:moveTo>
                  <a:pt x="72" y="93"/>
                </a:moveTo>
                <a:cubicBezTo>
                  <a:pt x="72" y="52"/>
                  <a:pt x="26" y="59"/>
                  <a:pt x="31" y="19"/>
                </a:cubicBezTo>
                <a:cubicBezTo>
                  <a:pt x="31" y="61"/>
                  <a:pt x="84" y="52"/>
                  <a:pt x="72" y="93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89"/>
          <p:cNvSpPr/>
          <p:nvPr/>
        </p:nvSpPr>
        <p:spPr>
          <a:xfrm>
            <a:off x="3224880" y="200988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f1d22"/>
                </a:solidFill>
                <a:latin typeface="方正粗倩简体"/>
                <a:ea typeface="方正粗倩简体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Box 90"/>
          <p:cNvSpPr/>
          <p:nvPr/>
        </p:nvSpPr>
        <p:spPr>
          <a:xfrm>
            <a:off x="3504240" y="282744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1d22"/>
                </a:solidFill>
                <a:latin typeface="微软雅黑"/>
                <a:ea typeface="微软雅黑"/>
              </a:rPr>
              <a:t>&gt;&gt;</a:t>
            </a:r>
            <a:r>
              <a:rPr b="0" lang="zh-CN" sz="1800" spc="-1" strike="noStrike">
                <a:solidFill>
                  <a:srgbClr val="8f1d22"/>
                </a:solidFill>
                <a:latin typeface="微软雅黑"/>
                <a:ea typeface="微软雅黑"/>
              </a:rPr>
              <a:t>谢谢观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6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6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4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05:31:12Z</dcterms:created>
  <dc:creator>锐普PPT</dc:creator>
  <dc:description>本素材由上海锐普广告有限公司原创，版权受国家法律保护。鼓励您使用和传播，但为了您个人和锐普的利益，请勿用于销售，勿更改版权信息进行传播，否则将承担法律责任。</dc:description>
  <dc:language>en-US</dc:language>
  <cp:lastModifiedBy>Sky123.Org</cp:lastModifiedBy>
  <dcterms:modified xsi:type="dcterms:W3CDTF">2015-07-10T03:09:00Z</dcterms:modified>
  <cp:revision>754</cp:revision>
  <dc:subject/>
  <dc:title>朴素师恩-锐普2011年教师节免费PPT模板</dc:title>
</cp:coreProperties>
</file>