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applause.wav" ContentType="audio/x-wav"/>
  <Override PartName="/ppt/media/image6.jpeg" ContentType="image/jpeg"/>
  <Override PartName="/ppt/media/image10.png" ContentType="image/png"/>
  <Override PartName="/ppt/media/chimes.wav" ContentType="audio/x-wav"/>
  <Override PartName="/ppt/media/image13.gif" ContentType="image/gif"/>
  <Override PartName="/ppt/media/clap.wav" ContentType="audio/x-wav"/>
  <Override PartName="/ppt/media/image8.jpeg" ContentType="image/jpeg"/>
  <Override PartName="/ppt/media/image5.png" ContentType="image/png"/>
  <Override PartName="/ppt/media/image4.png" ContentType="image/png"/>
  <Override PartName="/ppt/media/image12.wmf" ContentType="image/x-wmf"/>
  <Override PartName="/ppt/media/image3.jpeg" ContentType="image/jpeg"/>
  <Override PartName="/ppt/media/image19.png" ContentType="image/png"/>
  <Override PartName="/ppt/media/image16.gif" ContentType="image/gif"/>
  <Override PartName="/ppt/media/image2.png" ContentType="image/png"/>
  <Override PartName="/ppt/media/image9.jpeg" ContentType="image/jpeg"/>
  <Override PartName="/ppt/media/image15.jpeg" ContentType="image/jpeg"/>
  <Override PartName="/ppt/media/image7.jpeg" ContentType="image/jpeg"/>
  <Override PartName="/ppt/media/image18.png" ContentType="image/png"/>
  <Override PartName="/ppt/media/image14.wmf" ContentType="image/x-wmf"/>
  <Override PartName="/ppt/media/type.wav" ContentType="audio/x-wav"/>
  <Override PartName="/ppt/media/image17.png" ContentType="image/png"/>
  <Override PartName="/ppt/media/projctor.wav" ContentType="audio/x-wav"/>
  <Override PartName="/ppt/media/image11.png" ContentType="image/png"/>
  <Override PartName="/ppt/media/camera.wav" ContentType="audio/x-wav"/>
  <Override PartName="/ppt/media/image1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55EF9-7566-411E-9EF3-A0FF400E9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ED7A2-EE02-4645-870D-8D97C7EFF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1466F-EA5C-4B99-AAC0-6927C5754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C476E-2F02-49E8-8CB5-FA7BD9677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114ED-EB04-4D51-BD03-AC786780A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5413A-30E4-4B19-94FA-155DB594D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7F401-63D8-4ED7-BDFA-29F09DF58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5ADA1-B36C-4358-9ED2-8ADBB80E3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48492-097B-400D-9810-DF4F956D0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A2717-5487-4A8D-B4C9-83BA61314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F0B21-92C2-4718-8FEF-6E99B4092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D15EF-115A-42A9-9A8F-F9BD242DA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2070D-80C9-4F3E-A13D-5E57F8EA356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clap.wav"/><Relationship Id="rId8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jpeg"/><Relationship Id="rId3" Type="http://schemas.openxmlformats.org/officeDocument/2006/relationships/image" Target="../media/image16.gif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0.pn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gif"/><Relationship Id="rId3" Type="http://schemas.openxmlformats.org/officeDocument/2006/relationships/audio" Target="../media/projctor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4500720" y="0"/>
            <a:ext cx="464328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31680" y="1916280"/>
            <a:ext cx="8062920" cy="4105080"/>
          </a:xfrm>
          <a:prstGeom prst="rect">
            <a:avLst/>
          </a:prstGeom>
          <a:gradFill rotWithShape="0">
            <a:gsLst>
              <a:gs pos="0">
                <a:srgbClr val="3399ff"/>
              </a:gs>
              <a:gs pos="100000">
                <a:srgbClr val="006699"/>
              </a:gs>
            </a:gsLst>
            <a:lin ang="5400000"/>
          </a:gradFill>
          <a:ln w="92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“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谋杀”我的隐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“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切切察察”的毛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摆成“大”字的睡相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令人厌烦的种种规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“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长毛”的往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1476360" y="1989000"/>
            <a:ext cx="5400720" cy="4105080"/>
            <a:chOff x="1476360" y="1989000"/>
            <a:chExt cx="5400720" cy="4105080"/>
          </a:xfrm>
        </p:grpSpPr>
        <p:sp>
          <p:nvSpPr>
            <p:cNvPr id="76" name=""/>
            <p:cNvSpPr/>
            <p:nvPr/>
          </p:nvSpPr>
          <p:spPr>
            <a:xfrm>
              <a:off x="4068720" y="1989000"/>
              <a:ext cx="0" cy="410508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476360" y="1989000"/>
              <a:ext cx="0" cy="403380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651280" y="2061720"/>
              <a:ext cx="0" cy="396108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627280" y="1989000"/>
              <a:ext cx="0" cy="410508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77080" y="1989000"/>
              <a:ext cx="0" cy="403380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"/>
          <p:cNvSpPr/>
          <p:nvPr/>
        </p:nvSpPr>
        <p:spPr>
          <a:xfrm>
            <a:off x="611280" y="5157720"/>
            <a:ext cx="304560" cy="381240"/>
          </a:xfrm>
          <a:prstGeom prst="sun">
            <a:avLst>
              <a:gd name="adj" fmla="val 25000"/>
            </a:avLst>
          </a:prstGeom>
          <a:solidFill>
            <a:srgbClr val="ffff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9144000" cy="287028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-700560" y="3733920"/>
            <a:ext cx="8958600" cy="3124080"/>
          </a:xfrm>
          <a:prstGeom prst="rect">
            <a:avLst/>
          </a:prstGeom>
          <a:solidFill>
            <a:srgbClr val="ff99ff">
              <a:alpha val="50000"/>
            </a:srgbClr>
          </a:solidFill>
          <a:ln w="936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Times New Roman"/>
              </a:rPr>
              <a:t>连真正的名字也没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Times New Roman"/>
              </a:rPr>
              <a:t>相貌平平甚至有些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Times New Roman"/>
              </a:rPr>
              <a:t>多事，切切察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Times New Roman"/>
              </a:rPr>
              <a:t>不拘小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Times New Roman"/>
              </a:rPr>
              <a:t>麻烦、规矩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Times New Roman"/>
              </a:rPr>
              <a:t>愚昧，无知，似有阿</a:t>
            </a:r>
            <a:r>
              <a:rPr b="1" lang="zh-CN" sz="2400" spc="-1" strike="noStrike">
                <a:solidFill>
                  <a:srgbClr val="008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Times New Roman"/>
              </a:rPr>
              <a:t>精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Times New Roman"/>
              </a:rPr>
              <a:t>心地善良，仁慈，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Times New Roman"/>
              </a:rPr>
              <a:t>于帮助别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304920" y="380880"/>
            <a:ext cx="1981080" cy="7146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199691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华文行楷"/>
              </a:rPr>
              <a:t>精读</a:t>
            </a:r>
            <a:endParaRPr b="0" lang="en-US" sz="4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86" name=""/>
          <p:cNvSpPr/>
          <p:nvPr/>
        </p:nvSpPr>
        <p:spPr>
          <a:xfrm>
            <a:off x="762120" y="1600200"/>
            <a:ext cx="7772400" cy="167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华文彩云"/>
                <a:ea typeface="华文彩云"/>
              </a:rPr>
              <a:t>精读并按以下句式说话</a:t>
            </a:r>
            <a:r>
              <a:rPr b="1" lang="zh-CN" sz="4800" spc="-1" strike="noStrike">
                <a:solidFill>
                  <a:srgbClr val="0000ff"/>
                </a:solidFill>
                <a:latin typeface="华文彩云"/>
                <a:ea typeface="华文彩云"/>
              </a:rPr>
              <a:t>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华文新魏"/>
                <a:ea typeface="华文新魏"/>
              </a:rPr>
              <a:t>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华文新魏"/>
                <a:ea typeface="华文新魏"/>
              </a:rPr>
              <a:t>              </a:t>
            </a:r>
            <a:r>
              <a:rPr b="1" lang="zh-CN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“</a:t>
            </a:r>
            <a:r>
              <a:rPr b="1" lang="zh-CN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读文章＿＿＿＿片断</a:t>
            </a:r>
            <a:r>
              <a:rPr b="1" lang="zh-CN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,</a:t>
            </a:r>
            <a:r>
              <a:rPr b="1" lang="zh-CN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我认识到长妈妈是个＿＿＿＿＿＿＿＿的劳动妇女。</a:t>
            </a:r>
            <a:r>
              <a:rPr b="1" lang="zh-CN" sz="3200" spc="-1" strike="noStrike" u="sng">
                <a:solidFill>
                  <a:srgbClr val="0000ff"/>
                </a:solidFill>
                <a:uFillTx/>
                <a:latin typeface="华文新魏"/>
                <a:ea typeface="华文新魏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09680" y="3733920"/>
            <a:ext cx="304920" cy="304560"/>
          </a:xfrm>
          <a:prstGeom prst="sun">
            <a:avLst>
              <a:gd name="adj" fmla="val 25000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0" y="5823000"/>
            <a:ext cx="1143000" cy="103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80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2098800" cy="74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不大佩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39640" y="2565360"/>
            <a:ext cx="208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不耐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859280" y="1916280"/>
            <a:ext cx="298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特别的敬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56000" y="249228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3203280" y="4508640"/>
            <a:ext cx="158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003640" y="4076640"/>
            <a:ext cx="374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敬意淡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435640" y="2565360"/>
            <a:ext cx="1022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Arial"/>
              </a:rPr>
              <a:t>↓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900000" y="4149720"/>
            <a:ext cx="388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新的敬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8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468360" y="1628640"/>
            <a:ext cx="8388360" cy="316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楷体_GB2312"/>
              </a:rPr>
              <a:t>深沉的怀念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 flipH="1">
            <a:off x="9143640" y="-228600"/>
            <a:ext cx="304920" cy="739152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914400" y="914400"/>
            <a:ext cx="7924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09480" y="781200"/>
            <a:ext cx="2895840" cy="89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学一学</a:t>
            </a:r>
            <a:endParaRPr b="0" lang="en-US" sz="4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1981080"/>
            <a:ext cx="7772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华文隶书"/>
              </a:rPr>
              <a:t>本文在叙述上注意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华文隶书"/>
              </a:rPr>
              <a:t>详略结合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华文隶书"/>
              </a:rPr>
              <a:t>，突出了典型事件来体现人物的典型性格；外貌描写、动作描写和语言描写生动、逼真、入木三分；并且采用了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华文隶书"/>
              </a:rPr>
              <a:t>先抑后扬（欲扬先抑）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华文隶书"/>
              </a:rPr>
              <a:t>的写作手法，展现出作者思想感情的前后变化，给读者留下了深刻的印象，也使得人物形象更加真实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7" dur="2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质疑探究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429000" y="0"/>
            <a:ext cx="5867280" cy="6885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-529200" y="380880"/>
            <a:ext cx="261828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ff"/>
                </a:solidFill>
                <a:latin typeface="Arial"/>
                <a:ea typeface="方正舒体"/>
              </a:rPr>
              <a:t>阿 长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365200" y="1066680"/>
            <a:ext cx="100332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ff"/>
                </a:solidFill>
                <a:latin typeface="Arial"/>
                <a:ea typeface="方正舒体"/>
              </a:rPr>
              <a:t>与《山海经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 rot="1200000">
            <a:off x="5100120" y="1868400"/>
            <a:ext cx="3181680" cy="4597560"/>
          </a:xfrm>
          <a:prstGeom prst="rect">
            <a:avLst/>
          </a:prstGeom>
          <a:ln w="76320">
            <a:solidFill>
              <a:srgbClr val="808080"/>
            </a:solidFill>
            <a:miter/>
          </a:ln>
        </p:spPr>
      </p:pic>
      <p:sp>
        <p:nvSpPr>
          <p:cNvPr id="47" name=""/>
          <p:cNvSpPr txBox="1"/>
          <p:nvPr/>
        </p:nvSpPr>
        <p:spPr>
          <a:xfrm>
            <a:off x="1066680" y="5410080"/>
            <a:ext cx="228600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3300"/>
                </a:solidFill>
                <a:latin typeface="华文新魏"/>
              </a:rPr>
              <a:t>鲁迅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663300"/>
              </a:solidFill>
              <a:latin typeface="华文新魏"/>
              <a:ea typeface="华文新魏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0" y="6286680"/>
            <a:ext cx="76320" cy="57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211640" cy="68580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4716360" y="0"/>
            <a:ext cx="4427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500720" y="0"/>
            <a:ext cx="4643280" cy="66294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995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rcRect l="0" t="0" r="11431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《山海经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1280" y="1268280"/>
            <a:ext cx="785016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《山海经》是我国第一部描述山川、物产、风俗、民情的大型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地理著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又是我国古代第一部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神话传说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大汇编。全书共十八篇，分为《山经》和《海经》两个部分。它以描述各地山川为纲，记述了许多当地的神话传说。如《精卫填海》、《夸父逐日》、《女娲补天》、《后羿射日》、《大禹治水》、《黄帝擒蚩尤》等神话传说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60948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读一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50920" y="25876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骇          掳           悚            惶急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疮疤             诘问                渴慕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霹雳               烦琐            惧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600200" y="14176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666880" y="190512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华文细黑"/>
              </a:rPr>
              <a:t>l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42440" y="3184560"/>
            <a:ext cx="221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华文细黑"/>
              </a:rPr>
              <a:t>chuāng b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278160" y="327672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华文细黑"/>
              </a:rPr>
              <a:t>ji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038480" y="1905120"/>
            <a:ext cx="123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华文细黑"/>
              </a:rPr>
              <a:t>sǒ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943600" y="1905120"/>
            <a:ext cx="17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华文细黑"/>
              </a:rPr>
              <a:t>huáng j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886360" y="320040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华文细黑"/>
              </a:rPr>
              <a:t>k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824040" y="4343400"/>
            <a:ext cx="101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华文细黑"/>
              </a:rPr>
              <a:t>Pī  l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665520" y="4419720"/>
            <a:ext cx="90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华文细黑"/>
              </a:rPr>
              <a:t>su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944320" y="4419720"/>
            <a:ext cx="90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华文细黑"/>
              </a:rPr>
              <a:t>dà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990720" y="190512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华文细黑"/>
              </a:rPr>
              <a:t>hà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468360" y="2708280"/>
            <a:ext cx="8229600" cy="25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买《山海经》一事的起因、经过、结果是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通过这件事，“我”对“阿长”产生了怎样的看法？你认为“阿长”是一个怎样的人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11280" y="0"/>
            <a:ext cx="2376360" cy="1916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宋体"/>
              </a:rPr>
              <a:t>选读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1116000" y="1052640"/>
            <a:ext cx="7238880" cy="28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当阿长来问《山海经》是怎么一回事时，“我”是怎样想的？这种想法表现了“我”的什么心理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当阿长说“哥儿，有画儿的‘三哼经’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我给你买来了”，“我” 有什么反应？表现出怎样的心情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为什么说“她确有伟大的神力”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这四本书，乃是我最初得到，最为心爱的宝物。”为什么这么说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7605720" y="5257800"/>
            <a:ext cx="1311120" cy="14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4T10:12:51Z</dcterms:created>
  <dc:creator>微软用户</dc:creator>
  <dc:description/>
  <dc:language>en-US</dc:language>
  <cp:lastModifiedBy>微软中国</cp:lastModifiedBy>
  <dcterms:modified xsi:type="dcterms:W3CDTF">2011-10-26T07:14:42Z</dcterms:modified>
  <cp:revision>10</cp:revision>
  <dc:subject/>
  <dc:title>幻灯片 1</dc:title>
</cp:coreProperties>
</file>