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A72-D96C-4A82-BA53-0C16C97B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941-4FFB-4411-9329-9BD35D0E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445-6E64-46EE-A2D9-570AE50E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D06-B430-4E15-BC21-A376C9D3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497-B6A7-4365-8682-6B9438CA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44F-CBA1-4D9A-B950-4AE83DE1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4DC-10C2-43CA-9AE5-5DE5C0B9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DAB-EBDF-4775-881E-4BEB90FB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B5C-AD29-481F-9F01-DF568E63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A1E-C2F3-4877-8B4A-5F5073D6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09A-6DCE-4A0F-A83B-71722703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E4D-3160-4CCE-A2EE-A8F73691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BB96-917F-4A54-A81B-260B0B2E4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51460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42670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她讲的美女蛇的故事真是神秘莫测，给百草园蒙上一层神秘的面纱。那么，长妈妈是一个什么样的人呢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我们—起来看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鲁迅先生的散文《从百草园到三味书屋》里，鲁迅除写了自己的老师寿镜吾先生之外，还写到了—个人，这个人是谁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91600" y="4572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总结阿长的形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49200" y="1211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妈妈是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219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   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很不幸，又渴望一生平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劳动妇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7524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她没有文化，愚昧无知，粗俗好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不拘小节，但又心地善良，热心帮助孩子解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疑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53352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作者对长妈妈的态度和感情是怎样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变化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开篇写知道阿长谋害了“我”的隐鼠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6320" y="5638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文章最后以“仁厚黑暗的地母啊，愿在你怀里永安她的魂灵”结束，表达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2193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对于阿长的平常举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133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对于阿长所懂得的许多规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457200" y="3048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阿长给“我”讲长毛的故事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57200" y="4343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阿长给“我”买来《山海经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7621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6668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8098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5257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0800" y="23184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感情上是“憎恶”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1219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我实在不大佩服她”，“最讨厌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21920" y="21337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我”也是‘不耐烦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04812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我”也曾“发生过空前的敬意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但那后来也“逐渐淡漠”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24600" y="4329000"/>
            <a:ext cx="377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才真正“使我发生新的敬意了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甚至连“谋害隐鼠的怨恨，从此完全消灭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7200" y="6019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作者对阿长的深切怀念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5720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—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都在写“不大佩服”“讨厌”“憎恶”阿长，结尾却说“仁厚黑暗的地母啊，愿在你怀里永安她的魂灵！”这是一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什么样的写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表达了作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怎样的思想感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664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没有入笔就写长妈妈这好那好，却用了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篇幅来写长妈妈的“缺点”和“错误”：饶舌、多事、睡相不好、有许多繁文缛节、愚昧无知。而在后文又用她给我买《山海经》的事，表现出她爽朗、热情、乐于帮助别人的性情。这就是采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先抑后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手法。作者以此凸现出长妈妈淳朴、宽厚、善良、仁慈的美德，表达自己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深切思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样文章更加真切生动，人物形象更为丰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609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文的记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线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5238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散文的“神不散”说的是：主题集中。写散文时要散得开，但是要受到中心思想的制约，所以还得收得拢。在阅读散文时，要注意抓住文章的线索，理清全篇的层次结构和理解全篇思想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本文是以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为线索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28560" y="4724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的感情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7588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课文前半部分，作者大写他如何“憎恶”“讨厌”阿长，但在这些充满贬义的文字后面，你能感受到作者对阿长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情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怀念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吗？请同学们交流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066680" y="685800"/>
            <a:ext cx="7925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阿长与《山海经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48520" y="24382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鲁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441972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阅读课文中买《山海经》的部分，回答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523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当阿长来问《山海经》是怎么一回事时，“我”是怎样想的？这种想法表现了“我”的什么心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4290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当阿长买来《山海经》时，“我”有什么反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952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你怎样理解文中说的阿长“确有伟大的神力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当阿长来问《山海经》是怎么一回事时，“我”是怎样想的？这种想法表现了“我”的什么心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2767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因为“我知道她并非学者，说了也无益”，阿长不但没文化，而且也不会理解我渴望这本书的心情。这种想法表明了“我”对阿长心存隔膜乃至轻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762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当阿长买来《山海经》时，“我”有什么反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286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似乎遇着一个霹雳，全体都震悚起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这又使我发生新的敬意了”，觉得“她确有伟大的神力。谋害隐鼠的怨恨，从此完全消灭了。”觉得又惊又喜，感激不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066680" y="685800"/>
            <a:ext cx="7925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阿长与《山海经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48520" y="24382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鲁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41972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第一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你怎样理解文中说的阿长“确有伟大的神力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819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别人不肯做，或不能做的事”，热心的阿长却能够做成功。不识字的她，一定是费尽周折为我买来《山海经》，所以觉得她确有伟大的神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11430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在你的童年生活中，有没有像阿长这样的给你留下深刻印象的普通人？你怎样看待他们？请用一二百字写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48564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拓展延伸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阿长买《山海经》的笔墨并不多，大家想像一下她是怎样到处打听，怎样跑书店书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了多少心才买到这本书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9401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们假设阿长现在还健在，她读了鲁迅这篇文章，会对鲁迅说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265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请同学们紧扣课文内容与人物性格特征，放飞想象的翅膀，赋予人物新的时代特色，代长妈妈说些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1143000"/>
            <a:ext cx="780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       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哥儿啊，我虽无名无姓，但经你一写，现在也成了名人了，可是你说我无名无姓，生得黄胖而矮倒也罢了，怎么连颈上的灸疮疤也写进去了呢？说我规矩多、烦琐、迷信也罢了，那时谁不迷信啊？可是你，怎么连我睡相不好这种私事都写进去了呢？特别是给你讲长毛故事时，讲的将我们掳去后，让我们脱下裤子站在墙头，大炮就放不出来，你也照实写下来了，你不怕人笑话我还怕人笑话呢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7632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积累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鲁迅诗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自题小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灵台无计逃神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雨如磐暗故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寄意寒星荃不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我以我血荐轩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67760" y="3841920"/>
            <a:ext cx="3289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自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交华盖欲何求， 未敢翻身已碰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帽遮颜过闹市， 漏船载酒泛中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横眉冷对千夫指 ，俯首甘为孺子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躲进小楼成一统， 管它冬夏与春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55850" t="8879" r="0" b="9992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39760"/>
            <a:ext cx="59436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鲁迅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8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〕，中国（           ）（           ）和（            ）。原名（            ），字（         ），浙江绍兴人。出身于破落封建家庭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0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去日本留学，原在仙台医学院学医， 后从事文艺工作，企图用以改变国民精神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首次用“鲁迅”的笔名，发表中国现代文学史上第一篇白话小说《                  》，奠定了新文学运动的 基石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间，陆续创作出版了小说集《           》、《             》、论文集《         》、 散文诗集《           》、散文集《                》、杂文集《           》、《               》等专集。其中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发表的中篇小说《                》，是中国现代文学史上的不朽杰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609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文学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思想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990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革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周树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295280"/>
            <a:ext cx="12193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豫才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124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狂人日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呐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彷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朝花夕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5334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阿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Q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正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野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热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华盖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320" y="685800"/>
            <a:ext cx="937260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阿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震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疮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渴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霹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孤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憎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福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烦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惧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哀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守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粗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76320" y="685800"/>
            <a:ext cx="937260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阿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chá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hà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l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震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sǒ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huá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疮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chuāng b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ji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渴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m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sh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霹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pīl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孤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shuā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憎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zēng w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x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福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j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gō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烦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su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p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惧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dà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哀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dà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守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gu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粗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zhu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3352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释下列词语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惶急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诘问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惧惮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渴慕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霹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烦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震悚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不相干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有可原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不可测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莫名其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65320" y="685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恐惧着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76200" y="12193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追问、责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57440" y="1676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害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9440" y="2163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迫切地羡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22200" y="262080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来势迅猛响声很大的雷。形容极大的震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1640" y="31240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繁杂琐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12280" y="41450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一点关系也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55560" y="4648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这种情况有可以原谅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84000" y="51354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深度大，难以测量。形容深奥难以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64440" y="5638680"/>
            <a:ext cx="421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没有人能说明它的奥妙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{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道理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}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名，说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77640" y="3611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全身因恐惧或过度兴奋而颤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称呼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590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摆成“大”字的睡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1981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常喜欢切切察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3200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元旦时“逼”我吃福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514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给我讲长毛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35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．给我买来《山海经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809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5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．长妈妈有一肚子繁琐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4956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．谋害了我的隐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76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总结归纳一下，文章围绕阿长写了哪些事件？请整理在学案卷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066680" y="685800"/>
            <a:ext cx="7925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阿长与《山海经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48520" y="24382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鲁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41972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主要描写的对象是长妈妈，作者几乎是按生活的原样，真实而亲切地再现了自己童年时期与长妈妈相处的情景。请同学们在自读课文的基础上，找出描写长妈妈的事件或细节，并说说这些事件或细节体现了长妈妈什么样的性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752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称呼的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27432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摆成“大”字的睡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2860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常喜欢切切察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元旦时“逼”我吃福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5334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给我讲长毛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0339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给我买来《山海经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676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地位低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666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俗、不拘小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2209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喜欢饶舌多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52722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愚昧无知而又淳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60339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热心善良，关心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7339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5 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长妈妈有一肚子繁琐的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648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．谋害了我的隐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1240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迷信，但淳朴善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1911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迷信、守旧，但淳朴善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24T00:04:56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