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8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4.jpeg" ContentType="image/jpeg"/>
  <Override PartName="/ppt/media/chimes.wav" ContentType="audio/x-wav"/>
  <Override PartName="/ppt/media/image16.jpeg" ContentType="image/jpeg"/>
  <Override PartName="/ppt/media/type.wav" ContentType="audio/x-wav"/>
  <Override PartName="/ppt/media/image7.jpeg" ContentType="image/jpeg"/>
  <Override PartName="/ppt/media/image18.png" ContentType="image/png"/>
  <Override PartName="/ppt/media/camera.wav" ContentType="audio/x-wav"/>
  <Override PartName="/ppt/media/image21.jpeg" ContentType="image/jpeg"/>
  <Override PartName="/ppt/media/image2.jpeg" ContentType="image/jpeg"/>
  <Override PartName="/ppt/media/image22.jpeg" ContentType="image/jpeg"/>
  <Override PartName="/ppt/media/image17.jpeg" ContentType="image/jpeg"/>
  <Override PartName="/ppt/media/laser.wav" ContentType="audio/x-wav"/>
  <Override PartName="/ppt/media/image15.jpeg" ContentType="image/jpeg"/>
  <Override PartName="/ppt/media/image1.png" ContentType="image/png"/>
  <Override PartName="/ppt/media/image3.jpeg" ContentType="image/jpeg"/>
  <Override PartName="/ppt/media/carbrake.wav" ContentType="audio/x-wav"/>
  <Override PartName="/ppt/media/image14.jpeg" ContentType="image/jpeg"/>
  <Override PartName="/ppt/media/image20.gif" ContentType="image/gif"/>
  <Override PartName="/ppt/media/image13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4.xml"/><Relationship Id="rId3" Type="http://schemas.openxmlformats.org/officeDocument/2006/relationships/audio" Target="../media/camera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audio" Target="../media/carbrak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20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type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6172200" y="304920"/>
            <a:ext cx="2716200" cy="3809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" name=""/>
          <p:cNvGraphicFramePr/>
          <p:nvPr/>
        </p:nvGraphicFramePr>
        <p:xfrm>
          <a:off x="76320" y="1981080"/>
          <a:ext cx="5943600" cy="4130640"/>
        </p:xfrm>
        <a:graphic>
          <a:graphicData uri="http://schemas.openxmlformats.org/drawingml/2006/table">
            <a:tbl>
              <a:tblPr/>
              <a:tblGrid>
                <a:gridCol w="1981080"/>
                <a:gridCol w="2100240"/>
                <a:gridCol w="1862280"/>
              </a:tblGrid>
              <a:tr h="10872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Arial"/>
                        </a:rPr>
                        <a:t>篇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Arial"/>
                        </a:rPr>
                        <a:t>出处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2f2f"/>
                          </a:solidFill>
                          <a:latin typeface="Arial"/>
                        </a:rPr>
                        <a:t>文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10861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102708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  <a:tr h="9302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8cf8a"/>
                        </a:gs>
                        <a:gs pos="100000">
                          <a:srgbClr val="669900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pSp>
        <p:nvGrpSpPr>
          <p:cNvPr id="41" name=""/>
          <p:cNvGrpSpPr/>
          <p:nvPr/>
        </p:nvGrpSpPr>
        <p:grpSpPr>
          <a:xfrm>
            <a:off x="304920" y="3124080"/>
            <a:ext cx="5410080" cy="825480"/>
            <a:chOff x="304920" y="3124080"/>
            <a:chExt cx="5410080" cy="825480"/>
          </a:xfrm>
        </p:grpSpPr>
        <p:sp>
          <p:nvSpPr>
            <p:cNvPr id="42" name=""/>
            <p:cNvSpPr/>
            <p:nvPr/>
          </p:nvSpPr>
          <p:spPr>
            <a:xfrm>
              <a:off x="304920" y="3124080"/>
              <a:ext cx="1752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从百草园到三味书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4572000" y="32767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散   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362320" y="327672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朝花夕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95280" y="5445000"/>
            <a:ext cx="5262120" cy="536040"/>
            <a:chOff x="395280" y="5445000"/>
            <a:chExt cx="5262120" cy="536040"/>
          </a:xfrm>
        </p:grpSpPr>
        <p:sp>
          <p:nvSpPr>
            <p:cNvPr id="46" name=""/>
            <p:cNvSpPr/>
            <p:nvPr/>
          </p:nvSpPr>
          <p:spPr>
            <a:xfrm>
              <a:off x="395280" y="5445000"/>
              <a:ext cx="172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风筝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349720" y="5521320"/>
              <a:ext cx="1653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野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529880" y="5521320"/>
              <a:ext cx="1127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散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380880" y="4343400"/>
            <a:ext cx="5333760" cy="459720"/>
            <a:chOff x="380880" y="4343400"/>
            <a:chExt cx="5333760" cy="459720"/>
          </a:xfrm>
        </p:grpSpPr>
        <p:sp>
          <p:nvSpPr>
            <p:cNvPr id="50" name=""/>
            <p:cNvSpPr/>
            <p:nvPr/>
          </p:nvSpPr>
          <p:spPr>
            <a:xfrm>
              <a:off x="380880" y="4343400"/>
              <a:ext cx="137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社      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571640" y="43434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小   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361960" y="4343400"/>
              <a:ext cx="167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ahoma"/>
                </a:rPr>
                <a:t>呐      喊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696080" y="5943600"/>
            <a:ext cx="9144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Tahoma"/>
                <a:hlinkClick r:id="rId2" action="ppaction://hlinksldjump"/>
              </a:rPr>
              <a:t>下一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40800" y="533520"/>
            <a:ext cx="3198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Tahoma"/>
              </a:rPr>
              <a:t>我们学过的鲁迅作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4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" dur="5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0" y="692280"/>
            <a:ext cx="756144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请你简要叙述鲁迅的生平及作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39640" y="1628640"/>
            <a:ext cx="1728720" cy="21592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916360" y="1628640"/>
            <a:ext cx="3365280" cy="2540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7056360" y="1628640"/>
            <a:ext cx="2087640" cy="3313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0" y="4365720"/>
            <a:ext cx="2916360" cy="2232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5"/>
          <a:stretch/>
        </p:blipFill>
        <p:spPr>
          <a:xfrm>
            <a:off x="3419640" y="4365720"/>
            <a:ext cx="3384360" cy="23223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62120" y="99072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468360" y="1773360"/>
            <a:ext cx="8458200" cy="2384280"/>
            <a:chOff x="468360" y="1773360"/>
            <a:chExt cx="8458200" cy="2384280"/>
          </a:xfrm>
        </p:grpSpPr>
        <p:sp>
          <p:nvSpPr>
            <p:cNvPr id="90" name=""/>
            <p:cNvSpPr/>
            <p:nvPr/>
          </p:nvSpPr>
          <p:spPr>
            <a:xfrm>
              <a:off x="2678040" y="1773360"/>
              <a:ext cx="62485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81—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，原名周树人，浙江省绍兴市人，伟大的文学家、思想家、革命家。著作有杂文、小说、散文、诗歌等，收在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鲁迅全集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里。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468360" y="1849320"/>
              <a:ext cx="2133720" cy="2308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dissolv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rbrak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260280"/>
            <a:ext cx="5257800" cy="3080160"/>
          </a:xfrm>
          <a:prstGeom prst="rect">
            <a:avLst/>
          </a:prstGeom>
          <a:solidFill>
            <a:srgbClr val="f8f8f8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，首次用“鲁迅”的笔名，发表中国现代文学史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第一篇白话小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狂人日记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奠定了新文学运动的 基石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1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间，陆续创作出版了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小说集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呐喊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、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彷徨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论文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 散文诗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野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散文集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朝花夕拾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杂文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热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华盖集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等专集。其中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92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月发表的中篇小说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《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阿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Q</a:t>
            </a:r>
            <a:r>
              <a:rPr b="1" lang="zh-CN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正传</a:t>
            </a:r>
            <a:r>
              <a:rPr b="1" lang="en-US" sz="2800" spc="-1" strike="noStrike">
                <a:solidFill>
                  <a:srgbClr val="cc00cc"/>
                </a:solidFill>
                <a:latin typeface="Times New Roman"/>
                <a:ea typeface="_x000b__x000c_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_x000b__x000c_"/>
              </a:rPr>
              <a:t>，是中国现代文学 史上的不朽杰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692360" y="1844640"/>
            <a:ext cx="7010280" cy="2745720"/>
            <a:chOff x="1692360" y="1844640"/>
            <a:chExt cx="7010280" cy="2745720"/>
          </a:xfrm>
        </p:grpSpPr>
        <p:sp>
          <p:nvSpPr>
            <p:cNvPr id="95" name=""/>
            <p:cNvSpPr/>
            <p:nvPr/>
          </p:nvSpPr>
          <p:spPr>
            <a:xfrm>
              <a:off x="6340320" y="1844640"/>
              <a:ext cx="5335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舫       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92360" y="1844640"/>
              <a:ext cx="70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973960" y="1844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54320" y="1844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83320" y="18446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惶急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92360" y="4130640"/>
              <a:ext cx="106668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疮疤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35360" y="4130640"/>
              <a:ext cx="114300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诘  问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054320" y="4130640"/>
              <a:ext cx="106704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渴慕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97320" y="4130640"/>
              <a:ext cx="106704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霹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40320" y="4130640"/>
              <a:ext cx="114300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陆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559640" y="4130640"/>
              <a:ext cx="1143000" cy="45972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粗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197320" y="18446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斋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366920" y="1341360"/>
            <a:ext cx="7776720" cy="2745720"/>
            <a:chOff x="1366920" y="1341360"/>
            <a:chExt cx="7776720" cy="2745720"/>
          </a:xfrm>
        </p:grpSpPr>
        <p:sp>
          <p:nvSpPr>
            <p:cNvPr id="108" name=""/>
            <p:cNvSpPr/>
            <p:nvPr/>
          </p:nvSpPr>
          <p:spPr>
            <a:xfrm>
              <a:off x="1744560" y="1341360"/>
              <a:ext cx="9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77120" y="1341360"/>
              <a:ext cx="7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ǔ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4920" y="1341360"/>
              <a:ext cx="90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ǒ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293080" y="1417680"/>
              <a:ext cx="75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hā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50040" y="1341360"/>
              <a:ext cx="107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fǎ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82600" y="1341360"/>
              <a:ext cx="1359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uá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66920" y="3551040"/>
              <a:ext cx="218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huāng   b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877120" y="3551040"/>
              <a:ext cx="12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ié  wè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084920" y="3551040"/>
              <a:ext cx="120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kě   mù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217480" y="3551040"/>
              <a:ext cx="1056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pī    l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954480" y="3627360"/>
              <a:ext cx="67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ī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62280" y="3551040"/>
              <a:ext cx="98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zhu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457200" y="762120"/>
            <a:ext cx="8686800" cy="4876560"/>
            <a:chOff x="457200" y="762120"/>
            <a:chExt cx="8686800" cy="4876560"/>
          </a:xfrm>
        </p:grpSpPr>
        <p:grpSp>
          <p:nvGrpSpPr>
            <p:cNvPr id="121" name=""/>
            <p:cNvGrpSpPr/>
            <p:nvPr/>
          </p:nvGrpSpPr>
          <p:grpSpPr>
            <a:xfrm>
              <a:off x="2286000" y="2362320"/>
              <a:ext cx="2286000" cy="609480"/>
              <a:chOff x="2286000" y="2362320"/>
              <a:chExt cx="2286000" cy="609480"/>
            </a:xfrm>
          </p:grpSpPr>
          <p:sp>
            <p:nvSpPr>
              <p:cNvPr id="122" name=""/>
              <p:cNvSpPr/>
              <p:nvPr/>
            </p:nvSpPr>
            <p:spPr>
              <a:xfrm>
                <a:off x="2286000" y="2362320"/>
                <a:ext cx="2286000" cy="609480"/>
              </a:xfrm>
              <a:prstGeom prst="wedgeEllipseCallout">
                <a:avLst>
                  <a:gd name="adj1" fmla="val -48125"/>
                  <a:gd name="adj2" fmla="val -83074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90920" y="2438280"/>
                <a:ext cx="1904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惊吓；震惊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3429000" y="762120"/>
              <a:ext cx="2209680" cy="609480"/>
              <a:chOff x="3429000" y="762120"/>
              <a:chExt cx="2209680" cy="609480"/>
            </a:xfrm>
          </p:grpSpPr>
          <p:sp>
            <p:nvSpPr>
              <p:cNvPr id="125" name=""/>
              <p:cNvSpPr/>
              <p:nvPr/>
            </p:nvSpPr>
            <p:spPr>
              <a:xfrm>
                <a:off x="3429000" y="762120"/>
                <a:ext cx="2209680" cy="609480"/>
              </a:xfrm>
              <a:prstGeom prst="wedgeEllipseCallout">
                <a:avLst>
                  <a:gd name="adj1" fmla="val -46981"/>
                  <a:gd name="adj2" fmla="val 62500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657600" y="83808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把人抢走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800600" y="2590920"/>
              <a:ext cx="1371600" cy="609480"/>
              <a:chOff x="4800600" y="2590920"/>
              <a:chExt cx="1371600" cy="609480"/>
            </a:xfrm>
          </p:grpSpPr>
          <p:sp>
            <p:nvSpPr>
              <p:cNvPr id="128" name=""/>
              <p:cNvSpPr/>
              <p:nvPr/>
            </p:nvSpPr>
            <p:spPr>
              <a:xfrm>
                <a:off x="4800600" y="2590920"/>
                <a:ext cx="1371600" cy="609480"/>
              </a:xfrm>
              <a:prstGeom prst="wedgeEllipseCallout">
                <a:avLst>
                  <a:gd name="adj1" fmla="val -65972"/>
                  <a:gd name="adj2" fmla="val -127342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05520" y="266688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害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0" name=""/>
            <p:cNvGrpSpPr/>
            <p:nvPr/>
          </p:nvGrpSpPr>
          <p:grpSpPr>
            <a:xfrm>
              <a:off x="6934320" y="2743200"/>
              <a:ext cx="2209680" cy="609480"/>
              <a:chOff x="6934320" y="2743200"/>
              <a:chExt cx="2209680" cy="609480"/>
            </a:xfrm>
          </p:grpSpPr>
          <p:sp>
            <p:nvSpPr>
              <p:cNvPr id="131" name=""/>
              <p:cNvSpPr/>
              <p:nvPr/>
            </p:nvSpPr>
            <p:spPr>
              <a:xfrm>
                <a:off x="6934320" y="2743200"/>
                <a:ext cx="2057400" cy="609480"/>
              </a:xfrm>
              <a:prstGeom prst="wedgeEllipseCallout">
                <a:avLst>
                  <a:gd name="adj1" fmla="val -384"/>
                  <a:gd name="adj2" fmla="val -145050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315200" y="2819520"/>
                <a:ext cx="1828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恐惧着急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1295280" y="5029200"/>
              <a:ext cx="1905120" cy="609480"/>
              <a:chOff x="1295280" y="5029200"/>
              <a:chExt cx="1905120" cy="609480"/>
            </a:xfrm>
          </p:grpSpPr>
          <p:sp>
            <p:nvSpPr>
              <p:cNvPr id="134" name=""/>
              <p:cNvSpPr/>
              <p:nvPr/>
            </p:nvSpPr>
            <p:spPr>
              <a:xfrm>
                <a:off x="1295280" y="5029200"/>
                <a:ext cx="1905120" cy="609480"/>
              </a:xfrm>
              <a:prstGeom prst="wedgeEllipseCallout">
                <a:avLst>
                  <a:gd name="adj1" fmla="val 53166"/>
                  <a:gd name="adj2" fmla="val -115884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447920" y="5105520"/>
                <a:ext cx="17524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追问；责问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3276720" y="5029200"/>
              <a:ext cx="1828800" cy="609480"/>
              <a:chOff x="3276720" y="5029200"/>
              <a:chExt cx="1828800" cy="609480"/>
            </a:xfrm>
          </p:grpSpPr>
          <p:sp>
            <p:nvSpPr>
              <p:cNvPr id="137" name=""/>
              <p:cNvSpPr/>
              <p:nvPr/>
            </p:nvSpPr>
            <p:spPr>
              <a:xfrm>
                <a:off x="3276720" y="5029200"/>
                <a:ext cx="1828800" cy="609480"/>
              </a:xfrm>
              <a:prstGeom prst="wedgeEllipseCallout">
                <a:avLst>
                  <a:gd name="adj1" fmla="val 24912"/>
                  <a:gd name="adj2" fmla="val -108592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3429000" y="5105520"/>
                <a:ext cx="1676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非常思慕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457200" y="2971800"/>
              <a:ext cx="3276720" cy="609480"/>
              <a:chOff x="457200" y="2971800"/>
              <a:chExt cx="3276720" cy="609480"/>
            </a:xfrm>
          </p:grpSpPr>
          <p:sp>
            <p:nvSpPr>
              <p:cNvPr id="140" name=""/>
              <p:cNvSpPr/>
              <p:nvPr/>
            </p:nvSpPr>
            <p:spPr>
              <a:xfrm>
                <a:off x="457200" y="2971800"/>
                <a:ext cx="3276720" cy="609480"/>
              </a:xfrm>
              <a:prstGeom prst="wedgeEllipseCallout">
                <a:avLst>
                  <a:gd name="adj1" fmla="val 9546"/>
                  <a:gd name="adj2" fmla="val 96615"/>
                </a:avLst>
              </a:prstGeom>
              <a:solidFill>
                <a:srgbClr val="f8fd95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762120" y="3048120"/>
                <a:ext cx="2819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Times New Roman"/>
                  </a:rPr>
                  <a:t>好了以后留下的疤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67480" y="5562720"/>
            <a:ext cx="1676520" cy="129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71640" y="47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Arial"/>
              </a:rPr>
              <a:t>识记字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1699920"/>
            <a:ext cx="59040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3300"/>
                </a:solidFill>
                <a:latin typeface="Arial"/>
              </a:rPr>
              <a:t>听读课文    初步感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24000" y="3429000"/>
            <a:ext cx="853272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阿长”名字的由来是怎样的？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作者对“阿长”的感情是怎样变化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901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文章围绕“阿长”写了几件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50920" y="476280"/>
            <a:ext cx="8076960" cy="703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</a:rPr>
              <a:t>文章开头写阿长名字由来的目的是什么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205000"/>
            <a:ext cx="835344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Times New Roman"/>
              </a:rPr>
              <a:t>作者这样写，形象地刻画出阿长是一个不被人重视、地位低下的劳动人民形象。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此外，以写名字的由来开头，还能起到使读者对阿长有个总的印象，从而很自然地引出下文的作用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"/>
          <p:cNvGrpSpPr/>
          <p:nvPr/>
        </p:nvGrpSpPr>
        <p:grpSpPr>
          <a:xfrm>
            <a:off x="0" y="549360"/>
            <a:ext cx="4038480" cy="5105160"/>
            <a:chOff x="0" y="549360"/>
            <a:chExt cx="4038480" cy="5105160"/>
          </a:xfrm>
        </p:grpSpPr>
        <p:sp>
          <p:nvSpPr>
            <p:cNvPr id="149" name=""/>
            <p:cNvSpPr/>
            <p:nvPr/>
          </p:nvSpPr>
          <p:spPr>
            <a:xfrm>
              <a:off x="0" y="549360"/>
              <a:ext cx="4038480" cy="510516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0" y="549360"/>
              <a:ext cx="4038480" cy="5105160"/>
            </a:xfrm>
            <a:prstGeom prst="flowChartTerminator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0" y="930240"/>
              <a:ext cx="4038480" cy="4266720"/>
            </a:xfrm>
            <a:prstGeom prst="flowChartTerminator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2280" y="1920600"/>
              <a:ext cx="3809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-1" strike="noStrike">
                  <a:solidFill>
                    <a:srgbClr val="0000ff"/>
                  </a:solidFill>
                  <a:latin typeface="Times New Roman"/>
                  <a:ea typeface="华文行楷"/>
                </a:rPr>
                <a:t>一、速读课文，探讨作者对阿长的感情变化。</a:t>
              </a:r>
              <a:endParaRPr b="0" lang="en-US" sz="4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" name=""/>
          <p:cNvSpPr/>
          <p:nvPr/>
        </p:nvSpPr>
        <p:spPr>
          <a:xfrm>
            <a:off x="4427640" y="47628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不大佩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757400" y="1916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认为麻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57400" y="31417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空前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57400" y="4437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憎恶怨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57400" y="57340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新的敬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64000" y="1197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64000" y="2492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364000" y="3716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64000" y="49417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288920" y="3252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由衷的祝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88000" y="907920"/>
            <a:ext cx="216000" cy="5472360"/>
          </a:xfrm>
          <a:custGeom>
            <a:avLst/>
            <a:gdLst>
              <a:gd name="textAreaLeft" fmla="*/ 0 w 216000"/>
              <a:gd name="textAreaRight" fmla="*/ 78120 w 216000"/>
              <a:gd name="textAreaTop" fmla="*/ 142560 h 5472360"/>
              <a:gd name="textAreaBottom" fmla="*/ 5329800 h 547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0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2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979640" y="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二、总结全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484200" y="476280"/>
            <a:ext cx="1217160" cy="7245000"/>
            <a:chOff x="-484200" y="476280"/>
            <a:chExt cx="1217160" cy="7245000"/>
          </a:xfrm>
        </p:grpSpPr>
        <p:sp>
          <p:nvSpPr>
            <p:cNvPr id="166" name=""/>
            <p:cNvSpPr/>
            <p:nvPr/>
          </p:nvSpPr>
          <p:spPr>
            <a:xfrm>
              <a:off x="-484200" y="2311560"/>
              <a:ext cx="1155240" cy="260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  <a:ea typeface="华文中宋"/>
                </a:rPr>
                <a:t>先  抑  后  扬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32960" y="476280"/>
              <a:ext cx="0" cy="7245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8381880" y="457200"/>
            <a:ext cx="762120" cy="5638680"/>
            <a:chOff x="8381880" y="457200"/>
            <a:chExt cx="762120" cy="5638680"/>
          </a:xfrm>
        </p:grpSpPr>
        <p:sp>
          <p:nvSpPr>
            <p:cNvPr id="169" name=""/>
            <p:cNvSpPr/>
            <p:nvPr/>
          </p:nvSpPr>
          <p:spPr>
            <a:xfrm>
              <a:off x="8458200" y="2057400"/>
              <a:ext cx="685800" cy="28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深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切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Times New Roman"/>
                </a:rPr>
                <a:t>念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381880" y="457200"/>
              <a:ext cx="0" cy="563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900000" y="1268280"/>
            <a:ext cx="1613160" cy="50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不大佩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认为麻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空前敬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憎恶怨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新的敬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3994920" y="404640"/>
            <a:ext cx="43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主要事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843280" y="981000"/>
            <a:ext cx="5565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常喜欢切切察察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②摆成“大”字的睡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43280" y="220500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旦的古怪仪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43280" y="3716280"/>
            <a:ext cx="586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⑤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讲长毛攻城时护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916360" y="4508640"/>
            <a:ext cx="386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⑥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谋害我的隐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16360" y="5805360"/>
            <a:ext cx="403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⑦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为我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700360" y="1125360"/>
            <a:ext cx="216000" cy="79092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920"/>
              <a:gd name="textAreaBottom" fmla="*/ 770400 h 790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411280" y="400536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484360" y="278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48436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484360" y="616572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5734080"/>
            <a:ext cx="914400" cy="696960"/>
          </a:xfrm>
          <a:custGeom>
            <a:avLst/>
            <a:gdLst>
              <a:gd name="textAreaLeft" fmla="*/ 376560 w 914400"/>
              <a:gd name="textAreaRight" fmla="*/ 537840 w 914400"/>
              <a:gd name="textAreaTop" fmla="*/ 287280 h 696960"/>
              <a:gd name="textAreaBottom" fmla="*/ 409680 h 696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285264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肚子烦琐的道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700360" y="2421000"/>
            <a:ext cx="216000" cy="790560"/>
          </a:xfrm>
          <a:custGeom>
            <a:avLst/>
            <a:gdLst>
              <a:gd name="textAreaLeft" fmla="*/ 137880 w 216000"/>
              <a:gd name="textAreaRight" fmla="*/ 216360 w 216000"/>
              <a:gd name="textAreaTop" fmla="*/ 20520 h 790560"/>
              <a:gd name="textAreaBottom" fmla="*/ 770040 h 79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8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6" dur="8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ff"/>
                </a:solidFill>
                <a:latin typeface="Arial"/>
              </a:rPr>
              <a:t>既然作者这么尊敬她，为何题目直呼阿长？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184464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本文前一部分多用抑笔，对她“不大佩服”、“讨厌”、又是“不耐烦”、“麻烦”，倘用“妈妈”称呼，名不符实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将“阿长”与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山海经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连接，看似矛盾，却令人好奇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用“阿”字有亲呢的意味，符合作者当时已经是四十六岁的中年人的口气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2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再读分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06292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分别朗读这七件事，想一想，从这些事情中，可以看出长妈妈是怎样的一个人？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楷体_GB2312"/>
              </a:rPr>
              <a:t>边读边想，仔细分析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581360"/>
            <a:ext cx="8353440" cy="642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阿长是一个很不幸而又渴望一生平安的劳动妇女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她没有文化、粗俗、饶舌、好事，而又淳朴善良、热心助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48120" y="3276720"/>
            <a:ext cx="243828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长妈妈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" name=""/>
          <p:cNvSpPr/>
          <p:nvPr/>
        </p:nvSpPr>
        <p:spPr>
          <a:xfrm>
            <a:off x="755640" y="47242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她讲的美女蛇的故事真是神秘莫测，给百草园蒙上了一层神秘的面纱。那么，长妈妈是一个什么样的人呢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我们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起来看课文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155736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在鲁迅先生的散文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从百草园到三味书屋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里，鲁迅除写了自己的老师寿镜吾先生之外，还写到了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—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个人，这个人是谁呢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533520" y="533520"/>
            <a:ext cx="274320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复习旧知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探讨研究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484280"/>
            <a:ext cx="8424720" cy="172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情感变化的过程中，作者究竟要突出对长妈妈的哪种情感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39640" y="3789360"/>
            <a:ext cx="8460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那么前文为什么要用如此多的笔墨去写如何“憎恶”“讨厌”阿长呢？有什么作用？在这些充满贬义的文字后面，你能感受到作者对阿长的同情与怀念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edge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0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anim calcmode="lin" valueType="num">
                                      <p:cBhvr additive="base">
                                        <p:cTn id="376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503280" y="709560"/>
            <a:ext cx="82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后文的感激、赞颂蓄势，起到了铺垫、衬托的作用，运用了欲扬先抑的写法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3280" y="3141720"/>
            <a:ext cx="824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为了从多角度、全方位地展示长妈妈的形象，使其形象更真实、生动、丰满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900000" y="0"/>
            <a:ext cx="2448000" cy="62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重点研讨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836640"/>
            <a:ext cx="9144000" cy="46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读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——2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自然段，思考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阿长为什么也来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？她懂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吗？何以见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我阿长来问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怎么一回事时，“我”是怎样想的？“我”为什么有这样 的想法？这种想法表现了“我”怎样的心理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当阿长买来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“我”有什么反应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你怎样理解文中说的阿长“确有伟大的神力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文章写阿长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笔墨不多，为什么不详写她是如何买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山海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呢？之前和之后各写了什么事？这样写有什么好处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50920" y="260280"/>
            <a:ext cx="88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之所以这样想，是因因为阿长不识字，没有文化，既不知道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山海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是怎样的一部书，更何况她一向似乎并不善于关心“我”，因此她也不会理解“我”渴望得到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山海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的心情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884240" y="3500280"/>
            <a:ext cx="497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这表明“我”对阿长心存隔膜乃至轻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92360" y="0"/>
            <a:ext cx="45720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研读课文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424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阿长把《山海经》买回时，“我”有什么反应？体现了怎样的心情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" y="234936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似乎遇到一个霹雳，全体都震悚起来，赶紧去接过来，打开纸包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震惊、感动的同时进而对长妈妈产生了新的敬意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4869000"/>
            <a:ext cx="88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买《山海经》一事写出了长妈妈热爱、关心孩子的美好品质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24000" y="76500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、“神力”是指神奇之力。因为这件事“别人不肯做”，谁也没有阿长那样知“我”心，谁也没有阿长那么热心；别人也“不能做”，有画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山海经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很难找，要跑多少路，打听多少地方，谁能像阿长这么给“我”操心费事，况且阿长不识字，居然买来了。所以说，阿长“确有伟大的神力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820000" cy="2514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5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、不写阿长是怎么买到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山海经</a:t>
            </a:r>
            <a:r>
              <a:rPr b="1" lang="en-US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的，就给读者留下一个广阔的想象空间，想象她怎样到处打听，她怎样跑书店书摊，她操了多少心，在想象中更觉得那真是一种“伟大的神力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2637000"/>
            <a:ext cx="8496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写之前的事，才能说明阿长为什么使“我”大喜过望，而且感到她确有“伟大的神力”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3789360"/>
            <a:ext cx="8893080" cy="27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之后写“我”的震悚的心情，写如获至宝的心情，写此后搜集的图书，写了这些，才能说明阿长怎样令人尊敬而又感激，阿长的热心对“我”的成长有怎样的意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9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Arial"/>
                <a:ea typeface="华文隶书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94920" y="1989000"/>
            <a:ext cx="8280360" cy="2880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你的生活中，有没有像阿长这样的给你留下深刻印象的人呢？你怎样看待他（她）？请写一篇随笔，来展示他（她）的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2438280" y="1752480"/>
            <a:ext cx="4114800" cy="2133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381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再 见</a:t>
            </a:r>
            <a:endParaRPr b="0" lang="en-US" sz="2400" spc="1" strike="noStrike">
              <a:ln w="381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0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5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3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30440" y="671400"/>
            <a:ext cx="3886200" cy="4953240"/>
          </a:xfrm>
          <a:prstGeom prst="bevel">
            <a:avLst>
              <a:gd name="adj" fmla="val 125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-1861" t="-1884" r="0" b="0"/>
          <a:stretch/>
        </p:blipFill>
        <p:spPr>
          <a:xfrm>
            <a:off x="2971800" y="1066680"/>
            <a:ext cx="3003480" cy="4191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1066680" y="1600200"/>
            <a:ext cx="678204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4675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阿长与《山海经》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838080" y="533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066680" y="571500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-360" y="1412640"/>
            <a:ext cx="8893080" cy="3313080"/>
          </a:xfrm>
          <a:prstGeom prst="rect">
            <a:avLst/>
          </a:prstGeom>
          <a:solidFill>
            <a:srgbClr val="ffffff"/>
          </a:solidFill>
          <a:ln w="7632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阿长（？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后鲁迅称她为长妈妈，浙江绍兴人，她是鲁迅儿时的保姆。长妈妈的夫家姓余，有一个过继的儿子，是做裁缝的，她有一个女儿，后来招进了一个女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长妈妈只是许多旧式女人中的一个，做了一辈子的老妈子（乡下叫做‘做妈妈’），平时也不回家去，直到临死。”长妈妈患有羊角风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“初六日雨中放舟至大树港看戏，长妈妈发病，辰刻身故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451640" cy="836640"/>
          </a:xfrm>
          <a:prstGeom prst="rect">
            <a:avLst/>
          </a:prstGeom>
          <a:solidFill>
            <a:srgbClr val="bbe0e3"/>
          </a:solidFill>
          <a:ln w="57240">
            <a:solidFill>
              <a:srgbClr val="0000ff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早期百科全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——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907560"/>
            <a:ext cx="8675640" cy="5689800"/>
          </a:xfrm>
          <a:prstGeom prst="rect">
            <a:avLst/>
          </a:prstGeom>
          <a:solidFill>
            <a:srgbClr val="ffffff"/>
          </a:solidFill>
          <a:ln w="7632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一部内容丰富、风貌独特的古代著作，包含历史、地理、民族、神话、宗教、生物、水利、矿产、医学等诸方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性质，历代说法不尽相同。 清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四库全书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把此书列入小说类。近代鲁迅认为此书是巫术、方士之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而大多数论者认为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山海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是一部早期有价值的地理著作，其中尤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五藏山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地理价值最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>
            <a:hlinkClick r:id="rId1" action="ppaction://hlinksldjump"/>
          </p:cNvPr>
          <p:cNvSpPr/>
          <p:nvPr/>
        </p:nvSpPr>
        <p:spPr>
          <a:xfrm>
            <a:off x="8359920" y="0"/>
            <a:ext cx="749160" cy="3682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ff"/>
                </a:solidFill>
                <a:latin typeface="Arial"/>
              </a:rPr>
              <a:t>返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71680" y="145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67200" y="14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1081821754454" descr=""/>
          <p:cNvPicPr/>
          <p:nvPr/>
        </p:nvPicPr>
        <p:blipFill>
          <a:blip r:embed="rId1"/>
          <a:stretch/>
        </p:blipFill>
        <p:spPr>
          <a:xfrm>
            <a:off x="2057400" y="380880"/>
            <a:ext cx="4191120" cy="54104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117880" y="5964120"/>
            <a:ext cx="367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经典图读山海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封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1081821908082" descr=""/>
          <p:cNvPicPr/>
          <p:nvPr/>
        </p:nvPicPr>
        <p:blipFill>
          <a:blip r:embed="rId1"/>
          <a:stretch/>
        </p:blipFill>
        <p:spPr>
          <a:xfrm>
            <a:off x="1523880" y="228600"/>
            <a:ext cx="5791320" cy="571500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00400" y="60199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文 鳐 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2362320" y="640080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帝禹山河图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局部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-235080" y="-6480"/>
            <a:ext cx="9615600" cy="68709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067280" y="549360"/>
            <a:ext cx="4814640" cy="58053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4067280" y="549360"/>
            <a:ext cx="4800600" cy="5715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4067280" y="549360"/>
            <a:ext cx="4811760" cy="5867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622880" y="836640"/>
            <a:ext cx="1277640" cy="35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方正舒体"/>
              </a:rPr>
              <a:t>鲁迅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dissolve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8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13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2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2-09-25T14:04:09Z</dcterms:modified>
  <cp:revision>63</cp:revision>
  <dc:subject/>
  <dc:title>PowerPoint Presentation</dc:title>
</cp:coreProperties>
</file>