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B4B-BFB9-4492-BF96-63B44C76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FD4-2765-4144-9B62-A0D8EA0B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D63-5CB1-491E-8661-1D7C4C6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03B-ACE7-429B-9EA8-80CDBB80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872-6BC3-4146-8324-FF60F8F0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F91-BA91-42EF-BE96-EA16CD7B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036-7351-4924-BE96-A21EA59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A69-8204-4AF0-90FA-258921F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6C30-E7DE-40E9-934E-9191509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E1E3-B798-49B3-8E51-A357C76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A9A-1F4F-4482-988B-34AEDC0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B60-983D-458F-B8E4-C041C5A3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234A-27B1-41BB-A4DB-83836BB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23E4-AAA1-46EB-B7E3-4D14CFE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9D1-58F4-45EF-B086-15AB2F2F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25B4-3F19-443F-A1F1-EEF427B8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681E-AFC2-498C-8EA6-0725779E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CA7-9563-4004-8505-3D7A3F8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229-9EC7-4A0B-9F99-E2334BE4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8D6-C5ED-46DB-A02F-022EDD86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70C-D58D-4D57-8AAE-387DE8E7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7BE-42D6-4F3D-9832-B598C50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CF1-B6CA-4DF6-9CB7-F386242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3FC-9C4F-4DE9-8690-CA995C3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52B-8A87-4BAB-9C86-FD2B52965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0" descr="13.png"/>
          <p:cNvPicPr/>
          <p:nvPr/>
        </p:nvPicPr>
        <p:blipFill>
          <a:blip r:embed="rId3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字1.png"/>
          <p:cNvPicPr/>
          <p:nvPr/>
        </p:nvPicPr>
        <p:blipFill>
          <a:blip r:embed="rId4"/>
          <a:stretch/>
        </p:blipFill>
        <p:spPr>
          <a:xfrm>
            <a:off x="2011320" y="285840"/>
            <a:ext cx="2735280" cy="42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F2D-CEBF-484A-B9C0-11FB632477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xinmin.cn/opinion/xmwp/2008/09/24/136101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字1.png"/>
          <p:cNvPicPr/>
          <p:nvPr/>
        </p:nvPicPr>
        <p:blipFill>
          <a:blip r:embed="rId5"/>
          <a:stretch/>
        </p:blipFill>
        <p:spPr>
          <a:xfrm>
            <a:off x="-3164040" y="2851200"/>
            <a:ext cx="15474960" cy="2378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4" descr="08.png"/>
          <p:cNvPicPr/>
          <p:nvPr/>
        </p:nvPicPr>
        <p:blipFill>
          <a:blip r:embed="rId4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06.png"/>
          <p:cNvPicPr/>
          <p:nvPr/>
        </p:nvPicPr>
        <p:blipFill>
          <a:blip r:embed="rId5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5" descr="07.png"/>
          <p:cNvPicPr/>
          <p:nvPr/>
        </p:nvPicPr>
        <p:blipFill>
          <a:blip r:embed="rId6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0" descr="05.png"/>
          <p:cNvPicPr/>
          <p:nvPr/>
        </p:nvPicPr>
        <p:blipFill>
          <a:blip r:embed="rId7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9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4"/>
          <p:cNvGrpSpPr/>
          <p:nvPr/>
        </p:nvGrpSpPr>
        <p:grpSpPr>
          <a:xfrm>
            <a:off x="500040" y="2211480"/>
            <a:ext cx="8143920" cy="2955960"/>
            <a:chOff x="500040" y="2211480"/>
            <a:chExt cx="8143920" cy="2955960"/>
          </a:xfrm>
        </p:grpSpPr>
        <p:sp>
          <p:nvSpPr>
            <p:cNvPr id="104" name="AutoShape 3"/>
            <p:cNvSpPr/>
            <p:nvPr/>
          </p:nvSpPr>
          <p:spPr>
            <a:xfrm>
              <a:off x="500040" y="22114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502920" y="23097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1454040" y="1846440"/>
            <a:ext cx="6228000" cy="718920"/>
            <a:chOff x="1454040" y="1846440"/>
            <a:chExt cx="6228000" cy="718920"/>
          </a:xfrm>
        </p:grpSpPr>
        <p:sp>
          <p:nvSpPr>
            <p:cNvPr id="108" name="AutoShape 3"/>
            <p:cNvSpPr/>
            <p:nvPr/>
          </p:nvSpPr>
          <p:spPr>
            <a:xfrm>
              <a:off x="1455480" y="1846440"/>
              <a:ext cx="622512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"/>
            <p:cNvSpPr/>
            <p:nvPr/>
          </p:nvSpPr>
          <p:spPr>
            <a:xfrm>
              <a:off x="1454040" y="193572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3206880" y="2021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5"/>
          <p:cNvGrpSpPr/>
          <p:nvPr/>
        </p:nvGrpSpPr>
        <p:grpSpPr>
          <a:xfrm>
            <a:off x="1454040" y="2781360"/>
            <a:ext cx="6228000" cy="718920"/>
            <a:chOff x="1454040" y="2781360"/>
            <a:chExt cx="6228000" cy="718920"/>
          </a:xfrm>
        </p:grpSpPr>
        <p:sp>
          <p:nvSpPr>
            <p:cNvPr id="112" name="AutoShape 3"/>
            <p:cNvSpPr/>
            <p:nvPr/>
          </p:nvSpPr>
          <p:spPr>
            <a:xfrm>
              <a:off x="1454040" y="2781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"/>
            <p:cNvSpPr/>
            <p:nvPr/>
          </p:nvSpPr>
          <p:spPr>
            <a:xfrm>
              <a:off x="1454040" y="2870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3206880" y="2955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9"/>
          <p:cNvGrpSpPr/>
          <p:nvPr/>
        </p:nvGrpSpPr>
        <p:grpSpPr>
          <a:xfrm>
            <a:off x="1454040" y="3762360"/>
            <a:ext cx="6228000" cy="719280"/>
            <a:chOff x="1454040" y="3762360"/>
            <a:chExt cx="6228000" cy="719280"/>
          </a:xfrm>
        </p:grpSpPr>
        <p:sp>
          <p:nvSpPr>
            <p:cNvPr id="116" name="AutoShape 3"/>
            <p:cNvSpPr/>
            <p:nvPr/>
          </p:nvSpPr>
          <p:spPr>
            <a:xfrm>
              <a:off x="1454040" y="376236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"/>
            <p:cNvSpPr/>
            <p:nvPr/>
          </p:nvSpPr>
          <p:spPr>
            <a:xfrm>
              <a:off x="1454040" y="385164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9"/>
          <p:cNvSpPr/>
          <p:nvPr/>
        </p:nvSpPr>
        <p:spPr>
          <a:xfrm>
            <a:off x="3206880" y="3936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3"/>
          <p:cNvGrpSpPr/>
          <p:nvPr/>
        </p:nvGrpSpPr>
        <p:grpSpPr>
          <a:xfrm>
            <a:off x="1454040" y="4767120"/>
            <a:ext cx="6228000" cy="719280"/>
            <a:chOff x="1454040" y="4767120"/>
            <a:chExt cx="6228000" cy="719280"/>
          </a:xfrm>
        </p:grpSpPr>
        <p:sp>
          <p:nvSpPr>
            <p:cNvPr id="120" name="AutoShape 3"/>
            <p:cNvSpPr/>
            <p:nvPr/>
          </p:nvSpPr>
          <p:spPr>
            <a:xfrm>
              <a:off x="1454040" y="4767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"/>
            <p:cNvSpPr/>
            <p:nvPr/>
          </p:nvSpPr>
          <p:spPr>
            <a:xfrm>
              <a:off x="1454040" y="4856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3206880" y="4943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3"/>
          <p:cNvSpPr/>
          <p:nvPr/>
        </p:nvSpPr>
        <p:spPr>
          <a:xfrm>
            <a:off x="8043480" y="220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1"/>
          <p:cNvGrpSpPr/>
          <p:nvPr/>
        </p:nvGrpSpPr>
        <p:grpSpPr>
          <a:xfrm>
            <a:off x="1454040" y="3174840"/>
            <a:ext cx="6228000" cy="719280"/>
            <a:chOff x="1454040" y="3174840"/>
            <a:chExt cx="622800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5480" y="317484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4040" y="32641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3"/>
          <p:cNvSpPr/>
          <p:nvPr/>
        </p:nvSpPr>
        <p:spPr>
          <a:xfrm>
            <a:off x="3206880" y="3349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130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131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圆角矩形 13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134" name="椭圆 10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137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138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22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141" name="椭圆 17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117"/>
              <p:cNvSpPr/>
              <p:nvPr/>
            </p:nvSpPr>
            <p:spPr>
              <a:xfrm>
                <a:off x="2468880" y="3287160"/>
                <a:ext cx="64800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144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145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31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148" name="椭圆 28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151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152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38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155" name="椭圆 35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158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159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45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162" name="椭圆 42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165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166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圆角矩形 52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169" name="椭圆 49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178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193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219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221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224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226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228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231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243" name="任意多边形 125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126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027760" y="2867040"/>
            <a:ext cx="2982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庆纪念日是近代民族国家的一种特征，是伴随着近代民族国家的出现而出现的，并且变得尤为重要。它成为一个独立国家的标志，反映这个国家的国体和政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image.xinmin.cn/2008/09/24/200809241106261208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2228760"/>
            <a:ext cx="3809880" cy="2857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1" descr="04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3892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6" descr="12.png"/>
          <p:cNvPicPr/>
          <p:nvPr/>
        </p:nvPicPr>
        <p:blipFill>
          <a:blip r:embed="rId4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4" descr="08.png"/>
          <p:cNvPicPr/>
          <p:nvPr/>
        </p:nvPicPr>
        <p:blipFill>
          <a:blip r:embed="rId5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3" descr="06.png"/>
          <p:cNvPicPr/>
          <p:nvPr/>
        </p:nvPicPr>
        <p:blipFill>
          <a:blip r:embed="rId6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5" descr="07.png"/>
          <p:cNvPicPr/>
          <p:nvPr/>
        </p:nvPicPr>
        <p:blipFill>
          <a:blip r:embed="rId7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7" descr="字1.png"/>
          <p:cNvPicPr/>
          <p:nvPr/>
        </p:nvPicPr>
        <p:blipFill>
          <a:blip r:embed="rId10"/>
          <a:stretch/>
        </p:blipFill>
        <p:spPr>
          <a:xfrm>
            <a:off x="-2327400" y="1116000"/>
            <a:ext cx="13784400" cy="21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9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3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24T04:06:22Z</dcterms:modified>
  <cp:revision>2</cp:revision>
  <dc:subject/>
  <dc:title>PowerPoint 演示文稿</dc:title>
</cp:coreProperties>
</file>