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569-58F6-4D37-AABD-B4FB5089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5C3-AE5A-4482-A6E2-139ACFA8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04B-6161-4C12-B7A2-DC03234F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585-2748-4628-9049-40BA326D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335-7675-44A1-8809-360C271D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41A-47E3-4CF3-A694-D56165CF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E21-3F3E-452A-8E79-3F2F5C7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2AD-C242-42F6-8386-0FE5499F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A1F-3532-42EA-A3AB-7757D39B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F39-9F82-4533-B97D-C51FFCC5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71A-BF02-4BDA-A4A3-A965655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85B-31AF-4412-BA7F-D90B4984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5AFD-8A14-4084-B389-B1269C70FC8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6873-0515-4FB1-9AED-4E3F779A59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867280" y="36766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 flipH="1">
            <a:off x="4932360" y="860400"/>
            <a:ext cx="2789280" cy="278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2627280" y="3505320"/>
            <a:ext cx="3148200" cy="314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 flipH="1">
            <a:off x="380880" y="907920"/>
            <a:ext cx="3114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0960" y="32907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2916360" y="8301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5430960" y="3068640"/>
            <a:ext cx="25765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67932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219640" y="2143080"/>
            <a:ext cx="3517920" cy="351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4"/>
          <a:stretch/>
        </p:blipFill>
        <p:spPr>
          <a:xfrm>
            <a:off x="539640" y="390204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668840" cy="466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 flipH="1">
            <a:off x="5435640" y="1917720"/>
            <a:ext cx="3225600" cy="3225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2384280" y="76500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3184560" cy="318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3704" t="0" r="0" b="0"/>
          <a:stretch/>
        </p:blipFill>
        <p:spPr>
          <a:xfrm>
            <a:off x="4427640" y="1413000"/>
            <a:ext cx="4419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User</cp:lastModifiedBy>
  <dcterms:modified xsi:type="dcterms:W3CDTF">2015-06-28T03:52:33Z</dcterms:modified>
  <cp:revision>1113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