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F50-963E-455A-95ED-7048F6FD7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882-2678-4C8A-AE30-8FFA26A9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DABA-08C6-4116-9A09-B8AE36C4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FCDF-7D53-4522-93BF-F01479DF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E53-6639-4387-949D-85E2D386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EB0-0A79-44DA-9AF8-229F3143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4CDC-3914-445C-8BAE-D55D96AD4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4C9B-CE1A-4508-B1FA-BC3374C6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028-0E76-49DF-920B-6CF77E4DF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D987-E421-4D68-9D52-5F7D21C3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951-F412-4116-A21C-F441E952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755-DBE1-49D0-B41C-1B7C2E9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F06C-504C-482E-AC8E-445AFFBF02E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73E-5107-46B3-B107-B69BDF4EFD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52840" y="324648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PPTO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3137040" y="6489720"/>
            <a:ext cx="5976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0:36:00Z</dcterms:created>
  <dc:creator>hp</dc:creator>
  <dc:description/>
  <dc:language>en-US</dc:language>
  <cp:lastModifiedBy>pc</cp:lastModifiedBy>
  <cp:lastPrinted>1899-12-30T00:00:00Z</cp:lastPrinted>
  <dcterms:modified xsi:type="dcterms:W3CDTF">2012-02-20T14:15:00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25</vt:lpwstr>
  </property>
</Properties>
</file>