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camera.wav" ContentType="audio/x-wav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2366-B4BA-4A70-AB87-66073C16C1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简介司马迁前半生（受刑前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盛怒中的汉武帝听了司马迁这番话，认为他是为李陵辩解，是在故意贬低当时正在打匈奴而又很不顺利的李广利，于是命令把司马迁判为死罪（或以腐刑代替）。汉武帝时代，判了死罪的可以出钱五十万减死一等。但家境并不富裕的司马迁拿不出这一笔钱，只能受「腐刑」（宫刑）来选择「偷生」这条路。不幸的遭遇，使司马迁精神受到极大刺激，曾一度想自杀，但他想起了父亲的遗言，又以古人孔子、屈原、左丘明、孙子、韩非等在逆境中发愤有为鼓励自己，终于以惊人的意志忍辱负重地活了下来。身心备受摧残、忍辱含垢生活的司马迁深知，「人固有一死，死有重于泰山，或轻于鸿毛」。他决心以残烛之年，完成父亲要他完成的史书。经过六年的囚禁生活，征和元年（前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终于出狱。武帝对司马迁的才能还是爱惜的，任命他为中书令。从此他埋首奋发著述，终于完成了「究天人之际，通古今之变，成中家之言」的巨著─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史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由陈胜为何列入世家导入正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578-BB11-4176-8416-2E7CB676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44C-C563-4354-A1EF-52543E4F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D32-318C-43B8-82B6-39B8D79C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FC1-DB79-456B-A88D-C4882F60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D794-405A-4CD1-BDE2-36079E11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FF23-4E86-48BE-8C9D-76CEFA06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108C-1F6F-4675-9359-827B7234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E2E3-F908-4FBF-A583-B849B122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3B7B-7EC7-4F4F-AC72-17ADC868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1EDE-FE29-494F-B2B2-AAE7D913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E4FA-AF4A-4AFE-BE4F-94C2D0A4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26B-CA61-4640-8F66-859A058E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1146-4C8D-40F0-B191-915516BA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88F1-89E6-47BA-AA34-CB0FACBA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1583-34BF-4BA5-AD68-381DA63C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BCF8-9D30-405A-B4A3-9B5A15D1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54C5-C72B-473B-820B-483125A3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9A3-52F3-4D81-8825-25FA3B88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373-9481-4446-8D27-45CD981D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1E7-96C9-434D-BC7A-08297284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071-612B-4E87-969B-135B2F4B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A49-A1D9-42BA-A7A5-255259AA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A60-6A98-4350-BEA8-0B7D3FFA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7DF-24F9-4C8A-97A1-5F51FBA0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5c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5c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bb2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bb2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b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6BC4-253D-4570-9A35-58D2487D96C5}" type="datetime">
              <a:rPr b="0" lang="zh-CN" sz="1400" spc="-1" strike="noStrike">
                <a:solidFill>
                  <a:srgbClr val="003bb2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b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bb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bb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C8D1-1FE7-4B87-90C1-9DFC7D67FDDA}" type="slidenum">
              <a:rPr b="0" lang="zh-CN" sz="1400" spc="-1" strike="noStrike">
                <a:solidFill>
                  <a:srgbClr val="003b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b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93EC-B144-4A41-9904-FA83C9978B0C}" type="datetime">
              <a:rPr b="0" lang="zh-CN" sz="1400" spc="-1" strike="noStrike">
                <a:solidFill>
                  <a:srgbClr val="003bb2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b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bb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bb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039C-3291-4BC4-87A6-033E07920A27}" type="slidenum">
              <a:rPr b="0" lang="zh-CN" sz="1400" spc="-1" strike="noStrike">
                <a:solidFill>
                  <a:srgbClr val="003b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bb2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5c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b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bb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b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bb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5c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b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bb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bb2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b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bb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bb2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b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b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6280" y="1584000"/>
            <a:ext cx="83980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华文隶书"/>
                <a:ea typeface="华文隶书"/>
              </a:rPr>
              <a:t>陈 涉 世 家</a:t>
            </a:r>
            <a:br>
              <a:rPr sz="10600"/>
            </a:br>
            <a:endParaRPr b="0" lang="en-US" sz="10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9BAD-8FE5-436D-B090-8B4E136323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7C1B7EC-04DE-4F21-A473-76627113F9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76280" y="189000"/>
            <a:ext cx="841536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二世元年七月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发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闾左谪戍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渔阳，九百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屯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大泽乡。陈胜﹑吴广皆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次当行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屯长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天大雨，道不通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度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已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失期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失期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法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皆斩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000" y="2529000"/>
            <a:ext cx="8640720" cy="2410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发”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</a:rPr>
              <a:t>征发 。 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闾左”</a:t>
            </a:r>
            <a:r>
              <a:rPr b="1" lang="zh-CN" sz="3800" spc="-1" strike="noStrike">
                <a:solidFill>
                  <a:srgbClr val="003bb2"/>
                </a:solidFill>
                <a:latin typeface="Times New Roman"/>
              </a:rPr>
              <a:t>：用来指代贫苦人民； “</a:t>
            </a:r>
            <a:r>
              <a:rPr b="1" lang="zh-CN" sz="3800" spc="-1" strike="noStrike">
                <a:solidFill>
                  <a:srgbClr val="ff3300"/>
                </a:solidFill>
                <a:latin typeface="Times New Roman"/>
              </a:rPr>
              <a:t>谪戍</a:t>
            </a:r>
            <a:r>
              <a:rPr b="1" lang="zh-CN" sz="3800" spc="-1" strike="noStrike">
                <a:solidFill>
                  <a:srgbClr val="003bb2"/>
                </a:solidFill>
                <a:latin typeface="Times New Roman"/>
              </a:rPr>
              <a:t>”，强迫去守边，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適”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</a:rPr>
              <a:t>通“谪”</a:t>
            </a:r>
            <a:r>
              <a:rPr b="1" lang="zh-CN" sz="38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戍”</a:t>
            </a:r>
            <a:r>
              <a:rPr b="1" lang="zh-CN" sz="3800" spc="-1" strike="noStrike">
                <a:solidFill>
                  <a:srgbClr val="003bb2"/>
                </a:solidFill>
                <a:latin typeface="Times New Roman"/>
              </a:rPr>
              <a:t>，守边。  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屯”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</a:rPr>
              <a:t>停驻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次”</a:t>
            </a:r>
            <a:r>
              <a:rPr b="1" lang="zh-CN" sz="3800" spc="-1" strike="noStrike">
                <a:solidFill>
                  <a:srgbClr val="003bb2"/>
                </a:solidFill>
                <a:latin typeface="Times New Roman"/>
              </a:rPr>
              <a:t>：编次。 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当行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á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ng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</a:rPr>
              <a:t>当在征发之列。 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为”</a:t>
            </a:r>
            <a:r>
              <a:rPr b="1" lang="zh-CN" sz="3800" spc="-1" strike="noStrike">
                <a:solidFill>
                  <a:srgbClr val="003bb2"/>
                </a:solidFill>
                <a:latin typeface="Times New Roman"/>
              </a:rPr>
              <a:t>：担任。  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会”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</a:rPr>
              <a:t>：适逢，恰巧遇到。   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度ｄｕ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ó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</a:rPr>
              <a:t>估计。</a:t>
            </a:r>
            <a:endParaRPr b="0" lang="en-US" sz="38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失期”：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</a:rPr>
              <a:t>误期。  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法”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</a:rPr>
              <a:t>，按军法。</a:t>
            </a:r>
            <a:endParaRPr b="0" lang="en-US" sz="38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DAD-50A4-45CA-B922-3B061F680EFE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9E35D-4AAE-45C0-BD0A-7A439F4858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2360" y="549360"/>
            <a:ext cx="8639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4400" spc="-1" strike="noStrike">
              <a:solidFill>
                <a:srgbClr val="003bb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   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秦二世元年七月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征发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贫苦人民去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戍守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渔阳，九百人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停驻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在大泽乡。陈胜、吴广都被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编入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戍边的队伍，他们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担任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了戍守队伍的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小头目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。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适逢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天降大雨，道路不通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估计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已经误了期限。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误了期限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按秦朝军法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都要杀头。</a:t>
            </a:r>
            <a:endParaRPr b="0" lang="en-US" sz="4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E0B-B1DF-45FB-8993-25DB11F73271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575E7-FF0A-4BA8-BE67-40CCBF6AF6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2360" y="189000"/>
            <a:ext cx="872964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陈胜﹑吴广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乃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谋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曰：“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亡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亦死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举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大计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亦死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等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死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死国可乎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？”陈胜曰：“天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苦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秦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久矣。吾闻二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少子也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不当立，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当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立者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乃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公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扶苏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280" y="2529000"/>
            <a:ext cx="8685360" cy="1739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乃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于是，就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谋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商量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亡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逃走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举大计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发动大事，指起义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等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同样。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死国可乎”，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为国而死，好吗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死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，为动用法，为……而死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苦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苦于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少子”，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秦始皇的小儿子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也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表判断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当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应该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乃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是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扶苏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秦始皇的长子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682-FA0C-46DF-B750-AC4938D07051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A3EED-218B-45E5-B9CF-D2CC42DEF4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2360" y="368280"/>
            <a:ext cx="8325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44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陈胜、吴广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于是商量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说：“现在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逃跑</a:t>
            </a:r>
            <a:r>
              <a:rPr b="1" lang="en-US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(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被抓回</a:t>
            </a:r>
            <a:r>
              <a:rPr b="1" lang="en-US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)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也是死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发动起义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也是死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同样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是死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为国事而死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可以吗？”陈胜说：“天下人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苦于</a:t>
            </a:r>
            <a:r>
              <a:rPr b="1" lang="zh-CN" sz="4000" spc="-1" strike="noStrike" u="sng">
                <a:solidFill>
                  <a:srgbClr val="003bb2"/>
                </a:solidFill>
                <a:uFillTx/>
                <a:latin typeface="Times New Roman"/>
                <a:ea typeface="黑体"/>
              </a:rPr>
              <a:t>秦的统治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已是很久了。我听说秦二世是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始皇帝的小儿子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，不应该立为国君，应该即帝位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是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长子扶苏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16D-AE60-4890-BBD9-32AEC2E97030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ED706-7687-4C76-A026-C7882C5D2C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2000" y="144360"/>
            <a:ext cx="8982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扶苏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以数谏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故，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上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使外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将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兵。今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或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闻无罪，二世杀之。百姓多闻其贤，未知其死也。项燕为楚将，数有功，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爱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士卒，楚人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怜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之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zh-CN" sz="3300" spc="-1" strike="noStrike" u="sng">
                <a:solidFill>
                  <a:srgbClr val="ff3300"/>
                </a:solidFill>
                <a:uFillTx/>
                <a:latin typeface="Times New Roman"/>
              </a:rPr>
              <a:t>以</a:t>
            </a:r>
            <a:r>
              <a:rPr b="1" lang="zh-CN" sz="3300" spc="-1" strike="noStrike" u="sng">
                <a:solidFill>
                  <a:srgbClr val="ff0000"/>
                </a:solidFill>
                <a:uFillTx/>
                <a:latin typeface="Times New Roman"/>
              </a:rPr>
              <a:t>为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死，或以为亡。今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诚以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吾众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诈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自称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公子扶苏﹑项燕，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天下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唱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宜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多应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者。”吴广</a:t>
            </a:r>
            <a:r>
              <a:rPr b="1" lang="zh-CN" sz="3300" spc="-1" strike="noStrike" u="sng">
                <a:solidFill>
                  <a:srgbClr val="ff0000"/>
                </a:solidFill>
                <a:uFillTx/>
                <a:latin typeface="Times New Roman"/>
              </a:rPr>
              <a:t>以为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然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。</a:t>
            </a:r>
            <a:endParaRPr b="0" lang="en-US" sz="33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360" y="3159000"/>
            <a:ext cx="8731440" cy="1739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以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因为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数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u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ò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屡次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谏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古代下级对上级提意见或建议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上”，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皇上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将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ji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àng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带领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或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有的人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怜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爱戴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以为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认为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诚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如果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以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把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诈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假装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为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向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唱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通“倡”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首发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宜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应该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然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对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54B-F05B-4154-A7B4-B8EA67764FF8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2C608-FDDC-42FE-BDFC-D3115F43BC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52360" y="33480"/>
            <a:ext cx="8891640" cy="182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扶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屡次劝谏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的缘故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皇上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便派他在外面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带兵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。现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有人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听说扶苏并没有什么罪，秦二世杀了他。百姓大多听说他很贤明，不知道他死了。项燕担任楚国将领的时候，屡次立功，爱护士兵，楚国人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爱戴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他。有的人认为他死了，有的人认为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逃跑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了。现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如果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把我们的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假装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自称是公子扶苏、项燕的队伍，向全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发出倡导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应当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有很多响应的人。”吴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认为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陈胜说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1B3-8FD7-47B3-B4EB-145377D16252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6CA62-14EA-45A1-8B92-BD71DA3257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97000" y="233280"/>
            <a:ext cx="8686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乃行卜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卜者知其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指意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曰：“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足下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事皆成，有功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然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足下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鬼乎！”陈胜﹑吴广喜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念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鬼，曰：“此教我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威众耳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乃丹书帛曰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“陈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王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”，置人所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罾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鱼腹中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2360" y="2619360"/>
            <a:ext cx="8685360" cy="1739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乃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于是，就。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行卜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去占卜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指意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意图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足下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指对方，对别人的敬称。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然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不过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之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代足下事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念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考虑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威众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威服众人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“乃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于是；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丹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，朱砂；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书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，写；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王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àng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，称王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罾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鱼网，这里作动词。用网捕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276-4C22-4CAE-A805-C118AD1D22AD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14379-781D-4A29-860E-FD780B83B5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2360" y="0"/>
            <a:ext cx="8891640" cy="3594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于是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他们就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占卜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。占卜人知道他们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意图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，说道：“你们的事都能办成，能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建功立业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。不过你们还是把事情向鬼神卜问一下吧！”陈胜、吴广很高兴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考虑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卜问鬼神的事，说道：“这是让我们先威服众人啊。”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就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用朱砂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在绸子上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写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了“陈胜王”三个字，把它放在别人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捕的鱼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的肚里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B5C-DFB6-4802-A240-19026788A603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240F9-FA9F-4E0C-9B85-BEF6DC85C8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2000" y="0"/>
            <a:ext cx="898200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卒买鱼</a:t>
            </a:r>
            <a:r>
              <a:rPr b="1" lang="zh-CN" sz="3100" spc="-1" strike="noStrike">
                <a:solidFill>
                  <a:srgbClr val="000099"/>
                </a:solidFill>
                <a:latin typeface="Times New Roman"/>
              </a:rPr>
              <a:t>烹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食，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得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鱼腹中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书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固以怪之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矣。又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间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令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吴广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之次所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旁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丛祠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中，夜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篝火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狐鸣呼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曰“大楚兴，陈胜王”。卒皆夜惊恐。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旦日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，卒中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往往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语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，皆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指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目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陈胜。</a:t>
            </a:r>
            <a:endParaRPr b="0" lang="en-US" sz="31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2000" y="1989000"/>
            <a:ext cx="8982000" cy="2104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书”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：字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固”：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本来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以”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：通“已”，已经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怪”：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意动用法，以……为怪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之”：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代鱼腹中书。 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间</a:t>
            </a:r>
            <a:r>
              <a:rPr b="1" lang="en-US" sz="3300" spc="-1" strike="noStrike">
                <a:solidFill>
                  <a:srgbClr val="ff0000"/>
                </a:solidFill>
                <a:latin typeface="Times New Roman"/>
              </a:rPr>
              <a:t>jiàn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令”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：暗使，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间”，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私自、偷着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之”：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去、往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次”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：旅行或行军在途中停留；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次所”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，指军队驻扎的地方。“丛祠”：神祠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篝火”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：用笼罩着火；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篝”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，笼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狐鸣”：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作狐狸嗥叫的凄厉声音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旦日”：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明天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往往语”：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到处谈论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指目”：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指指点点，互相以目示意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。</a:t>
            </a:r>
            <a:endParaRPr b="0" lang="en-US" sz="33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DCF-B37E-4FB8-8F2A-02881B4A533C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18900-A49C-47D9-BFE0-ACB29308B2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2360" y="0"/>
            <a:ext cx="8891640" cy="4254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士兵买鱼回来烹食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发现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鱼肚里的字条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本来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已经对这事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感到诧怪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了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（陈胜）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暗使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吴广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到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驻地旁边的丛林里的神庙中，夜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用笼罩着火装着鬼火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像狐狸的叫声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呼喊“大楚复兴，陈胜为王。”士兵们夜里都惊恐不安。第二天，士兵中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到处议论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这事，都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指指点点，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互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以目示意看着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陈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066-6ECF-48CD-9EC1-89E3AB9D46D7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45663-6065-489B-96B5-7DA0B479F5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1089000"/>
            <a:ext cx="2637000" cy="3195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92360" y="144360"/>
            <a:ext cx="6551640" cy="1510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100" spc="-1" strike="noStrike">
                <a:solidFill>
                  <a:srgbClr val="ff0000"/>
                </a:solidFill>
                <a:latin typeface="黑体"/>
                <a:ea typeface="黑体"/>
              </a:rPr>
              <a:t>司马迁，西汉著名史学家、文学家</a:t>
            </a:r>
            <a:r>
              <a:rPr b="1" lang="zh-CN" sz="3100" spc="-1" strike="noStrike">
                <a:solidFill>
                  <a:srgbClr val="003366"/>
                </a:solidFill>
                <a:latin typeface="黑体"/>
                <a:ea typeface="黑体"/>
              </a:rPr>
              <a:t>字子长，夏阳（陕西韩城县南）人。生于史官世家，其父司马谈是汉朝太史令，</a:t>
            </a:r>
            <a:r>
              <a:rPr b="1" lang="zh-CN" sz="3100" spc="-1" strike="noStrike">
                <a:solidFill>
                  <a:srgbClr val="000099"/>
                </a:solidFill>
                <a:latin typeface="黑体"/>
                <a:ea typeface="黑体"/>
              </a:rPr>
              <a:t>掌管起草文书、编写史料、兼管国家典籍、天文历法等。博览皇室珍藏的大量图书、档案和文献</a:t>
            </a:r>
            <a:r>
              <a:rPr b="1" lang="zh-CN" sz="31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r>
              <a:rPr b="1" lang="zh-CN" sz="3100" spc="-1" strike="noStrike">
                <a:solidFill>
                  <a:srgbClr val="003366"/>
                </a:solidFill>
                <a:latin typeface="黑体"/>
                <a:ea typeface="黑体"/>
              </a:rPr>
              <a:t>司马迁自幼受家庭熏陶，十岁“通古文”，才学过人，二十岁后漫游南北各地考查，搜集史料。司马谈打算编写一部通史，愿望没有实现就去世了。公元前</a:t>
            </a:r>
            <a:r>
              <a:rPr b="1" lang="en-US" sz="3100" spc="-1" strike="noStrike">
                <a:solidFill>
                  <a:srgbClr val="003366"/>
                </a:solidFill>
                <a:latin typeface="黑体"/>
                <a:ea typeface="黑体"/>
              </a:rPr>
              <a:t>108</a:t>
            </a:r>
            <a:r>
              <a:rPr b="1" lang="zh-CN" sz="3100" spc="-1" strike="noStrike">
                <a:solidFill>
                  <a:srgbClr val="003366"/>
                </a:solidFill>
                <a:latin typeface="黑体"/>
                <a:ea typeface="黑体"/>
              </a:rPr>
              <a:t>年司马迁继父职，任太史令，前</a:t>
            </a:r>
            <a:r>
              <a:rPr b="1" lang="en-US" sz="3100" spc="-1" strike="noStrike">
                <a:solidFill>
                  <a:srgbClr val="003366"/>
                </a:solidFill>
                <a:latin typeface="黑体"/>
                <a:ea typeface="黑体"/>
              </a:rPr>
              <a:t>104</a:t>
            </a:r>
            <a:r>
              <a:rPr b="1" lang="zh-CN" sz="3100" spc="-1" strike="noStrike">
                <a:solidFill>
                  <a:srgbClr val="003366"/>
                </a:solidFill>
                <a:latin typeface="黑体"/>
                <a:ea typeface="黑体"/>
              </a:rPr>
              <a:t>年修订太初历，同时着手撰写</a:t>
            </a:r>
            <a:r>
              <a:rPr b="1" lang="en-US" sz="3100" spc="-1" strike="noStrike">
                <a:solidFill>
                  <a:srgbClr val="003366"/>
                </a:solidFill>
                <a:latin typeface="黑体"/>
                <a:ea typeface="黑体"/>
              </a:rPr>
              <a:t>《</a:t>
            </a:r>
            <a:r>
              <a:rPr b="1" lang="zh-CN" sz="3100" spc="-1" strike="noStrike">
                <a:solidFill>
                  <a:srgbClr val="003366"/>
                </a:solidFill>
                <a:latin typeface="黑体"/>
                <a:ea typeface="黑体"/>
              </a:rPr>
              <a:t>史记</a:t>
            </a:r>
            <a:r>
              <a:rPr b="1" lang="en-US" sz="3100" spc="-1" strike="noStrike">
                <a:solidFill>
                  <a:srgbClr val="003366"/>
                </a:solidFill>
                <a:latin typeface="黑体"/>
                <a:ea typeface="黑体"/>
              </a:rPr>
              <a:t>》</a:t>
            </a:r>
            <a:r>
              <a:rPr b="1" lang="zh-CN" sz="3100" spc="-1" strike="noStrike">
                <a:solidFill>
                  <a:srgbClr val="003366"/>
                </a:solidFill>
                <a:latin typeface="黑体"/>
                <a:ea typeface="黑体"/>
              </a:rPr>
              <a:t>。</a:t>
            </a:r>
            <a:endParaRPr b="0" lang="en-US" sz="31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5920" y="5094360"/>
            <a:ext cx="44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约前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145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---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前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90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0B4D-F3EC-42C2-8D2B-811294079D26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1B50E-2E7F-4E51-A969-D07C4F31C614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843120"/>
            <a:ext cx="851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起义的导火线（直接原因）是什么？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起义的根本原因是：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8280" y="2079720"/>
            <a:ext cx="8505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会天大雨，道不通，度已失期。失期，法皆斩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1640" y="4103640"/>
            <a:ext cx="840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“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天下苦秦久矣。”</a:t>
            </a:r>
            <a:r>
              <a:rPr b="1" lang="zh-CN" sz="4000" spc="-1" strike="noStrike">
                <a:solidFill>
                  <a:srgbClr val="000099"/>
                </a:solidFill>
                <a:latin typeface="方正大标宋简体"/>
                <a:ea typeface="华文新魏"/>
              </a:rPr>
              <a:t>说明全国人民对秦王朝的残暴统治极其愤恨，处处都蕴蓄着反抗的力量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189000"/>
            <a:ext cx="5984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隶书"/>
              </a:rPr>
              <a:t>思考第二段：</a:t>
            </a:r>
            <a:endParaRPr b="0" lang="en-US" sz="4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DE7-6110-4E69-BE0E-E425530EC38B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C6F95-669A-47A0-AB17-4E52DD99297C}" type="datetime1">
              <a:rPr lang="en-US"/>
              <a:t>07/31/26</a:t>
            </a:fld>
          </a:p>
        </p:txBody>
      </p:sp>
    </p:spTree>
  </p:cSld>
  <p:transition spd="med">
    <p:push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7000" y="503280"/>
            <a:ext cx="100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、陈胜为起义军制定的</a:t>
            </a:r>
            <a:r>
              <a:rPr b="1" lang="zh-CN" sz="4000" spc="-1" strike="noStrike">
                <a:solidFill>
                  <a:srgbClr val="000099"/>
                </a:solidFill>
                <a:latin typeface="方正大标宋简体"/>
                <a:ea typeface="方正大标宋简体"/>
              </a:rPr>
              <a:t>策略口号</a:t>
            </a:r>
            <a:r>
              <a:rPr b="1" lang="zh-CN" sz="40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是：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2000" y="1268280"/>
            <a:ext cx="8659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诈自称公子扶苏、项燕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2360" y="2079720"/>
            <a:ext cx="861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、陈胜怎样为起义作舆论准备？</a:t>
            </a:r>
            <a:r>
              <a:rPr b="1" lang="zh-CN" sz="3600" spc="-1" strike="noStrike">
                <a:solidFill>
                  <a:srgbClr val="003bb2"/>
                </a:solidFill>
                <a:latin typeface="方正大标宋简体"/>
                <a:ea typeface="方正大标宋简体"/>
              </a:rPr>
              <a:t> 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2360" y="2889360"/>
            <a:ext cx="8729640" cy="18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借鬼神意旨以威服众人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乃丹书帛曰“陈胜王”，置人所罾鱼腹中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间令吴广之次所旁丛祠中，夜篝火，狐鸣呼曰“大楚兴，陈胜王”。 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采用这些斗争策略，说明陈胜、吴广足智多谋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CCB-97F6-46B5-983F-D7652B42EE74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EF33E-7B2F-47A4-BE53-C8237A5C7AD9}" type="datetime1">
              <a:rPr lang="en-US"/>
              <a:t>07/31/26</a:t>
            </a:fld>
          </a:p>
        </p:txBody>
      </p:sp>
    </p:spTree>
  </p:cSld>
  <p:transition spd="med">
    <p:push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41280" y="189000"/>
            <a:ext cx="85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吴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素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爱人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士卒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为用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者。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将尉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醉，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故数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言欲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亡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忿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尉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令辱之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激怒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其众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尉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笞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广。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剑挺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广起，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夺而杀尉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陈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佐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之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并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杀两尉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2360" y="2573280"/>
            <a:ext cx="8753400" cy="1739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素”，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平素，一向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为用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为其所用，愿听他的差遣，为他效力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故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故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数”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u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ò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）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屡次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亡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逃跑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忿恚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使动用法，使……恼怒；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恚”，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恼怒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令辱之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使</a:t>
            </a:r>
            <a:r>
              <a:rPr b="1" lang="en-US" sz="3600" spc="-1" strike="noStrike">
                <a:solidFill>
                  <a:srgbClr val="003bb2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尉官</a:t>
            </a:r>
            <a:r>
              <a:rPr b="1" lang="en-US" sz="3600" spc="-1" strike="noStrike">
                <a:solidFill>
                  <a:srgbClr val="003bb2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责辱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笞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用鞭、杖或竹板打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剑挺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剑拔出鞘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佐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帮助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并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一起，一并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7FF-92CE-426F-8483-BAAB6BEBBC0D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2DA1C-5AA3-46ED-8A08-59DD1C1F80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2360" y="279360"/>
            <a:ext cx="8594640" cy="272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吴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平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很关心周围的人，士兵们大多愿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为他出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（那天）（两个）军官喝醉了，吴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故意屡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提出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逃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使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尉官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恼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他们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责辱他，借此来激怒士兵。那军官果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鞭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了吴广。（众士兵愤愤不平），军官（刚）拔出剑来威吓（士兵），吴广一跃而起，夺过剑来杀死了他。陈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协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吴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一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杀了两个军官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EEF-77C5-4675-A8D3-3F90B02C99FA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981DA-41AF-491B-B122-454CCCF16B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2360" y="233280"/>
            <a:ext cx="86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召令徒属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曰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公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等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遇雨，皆已失期，失期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当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斩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借第令毋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斩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戍死者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固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十六七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且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壮士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不死即已，死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举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大名耳，王侯将相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宁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有种乎！”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2000" y="2529000"/>
            <a:ext cx="8820000" cy="1785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召令徒属”：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召集并号令所属的众人。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公等”：</a:t>
            </a:r>
            <a:r>
              <a:rPr b="1" lang="zh-CN" sz="3700" spc="-1" strike="noStrike">
                <a:solidFill>
                  <a:srgbClr val="000099"/>
                </a:solidFill>
                <a:latin typeface="Times New Roman"/>
              </a:rPr>
              <a:t>你们诸位；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公”，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对人的敬称。 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藉第令毋斩”：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即使仅能免于斩刑；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藉” “第” “令” 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，即使，假若； 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毋”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，不。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而”：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表转折，。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固”：</a:t>
            </a:r>
            <a:r>
              <a:rPr b="1" lang="zh-CN" sz="3700" spc="-1" strike="noStrike">
                <a:solidFill>
                  <a:srgbClr val="000099"/>
                </a:solidFill>
                <a:latin typeface="Times New Roman"/>
              </a:rPr>
              <a:t>本来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。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十六七”：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十分之六七。 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宁（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ì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ng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）”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：难道。</a:t>
            </a:r>
            <a:endParaRPr b="0" lang="en-US" sz="37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C61-DF5F-4A81-A18E-79A910E75FDD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79CB0-D1F5-4C02-8F6C-F31C9C03B8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2360" y="279360"/>
            <a:ext cx="8594640" cy="367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陈胜召集并号令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所属的众人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，说：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你们诸位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遇到大雨，都已经误期了。过期到达就要杀头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即使仅能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免于斩刑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然而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戍守边塞而死的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本来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十分之六七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况且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大丈夫不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则已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，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就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干出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一番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大事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啊。王侯将相难道是天生的贵种吗？”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49D-18AB-48B2-A0F7-6EC884BA5FF8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94348-79B9-4426-82DF-1E52E4C6B0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2360" y="233280"/>
            <a:ext cx="863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徒属皆曰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敬受命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乃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诈称公子扶苏﹑项燕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民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欲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也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袒右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称大楚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坛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盟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600" spc="-1" strike="noStrike" u="sng">
                <a:solidFill>
                  <a:srgbClr val="003bb2"/>
                </a:solidFill>
                <a:uFillTx/>
                <a:latin typeface="Times New Roman"/>
              </a:rPr>
              <a:t>祭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以</a:t>
            </a:r>
            <a:r>
              <a:rPr b="1" lang="zh-CN" sz="3600" spc="-1" strike="noStrike" u="sng">
                <a:solidFill>
                  <a:srgbClr val="003bb2"/>
                </a:solidFill>
                <a:uFillTx/>
                <a:latin typeface="Times New Roman"/>
              </a:rPr>
              <a:t>尉首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陈胜自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将军，吴广为都尉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1280" y="2529000"/>
            <a:ext cx="8640720" cy="2531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受命”：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听从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你的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号命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乃”：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于是，就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从民欲”：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依从人民的愿望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袒右”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大家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露出右肩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为”：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筑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盟”：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盟誓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祭以尉首”，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倒装，“以尉首祭”；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以”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用。用两尉的头祭天。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为”：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做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ADC-7B0E-42DC-B6BF-FD76A3FD0530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27E55-E8C5-4661-BF49-F736588CB6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2000" y="233280"/>
            <a:ext cx="8982000" cy="367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众戍卒齐声应道：“一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听从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你的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号令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。”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于是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冒充是公子扶苏和项燕的队伍，为的是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顺从百姓的愿望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大家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露出右臂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（作为义军的标志），打出大楚旗号。又用土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筑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台，并在台上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宣誓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用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那两尉官的头祭天。陈胜自立为将军，吴广任都尉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642-E4AC-4BB5-8D3A-8F8B5BD3C776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8CD0F-284F-4D5E-A4A0-3B4C47D40B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41280" y="0"/>
            <a:ext cx="8802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攻大泽乡，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收而攻蕲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。蕲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下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乃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令符离人葛婴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将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兵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徇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蕲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东。攻铚﹑酇﹑苦﹑柘﹑谯皆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下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之。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行收兵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。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比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至陈，车六七百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乘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骑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千余，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卒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万人。攻陈，陈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守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令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皆不在，独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守丞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与战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谯门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中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。弗胜，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守丞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死，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乃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入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据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陈。</a:t>
            </a:r>
            <a:endParaRPr b="0" lang="en-US" sz="3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5920" y="2798640"/>
            <a:ext cx="8866080" cy="2228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收而攻蕲”：</a:t>
            </a:r>
            <a:r>
              <a:rPr b="1" lang="zh-CN" sz="3500" spc="-1" strike="noStrike">
                <a:solidFill>
                  <a:srgbClr val="003bb2"/>
                </a:solidFill>
                <a:latin typeface="Times New Roman"/>
              </a:rPr>
              <a:t>收聚大泽乡的军队，攻打蕲县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。“下”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攻下，攻克</a:t>
            </a:r>
            <a:r>
              <a:rPr b="1" lang="zh-CN" sz="35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乃”：</a:t>
            </a:r>
            <a:r>
              <a:rPr b="1" lang="zh-CN" sz="3500" spc="-1" strike="noStrike">
                <a:solidFill>
                  <a:srgbClr val="003bb2"/>
                </a:solidFill>
                <a:latin typeface="Times New Roman"/>
              </a:rPr>
              <a:t>于是，就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将”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ji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à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ng)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率领，带领</a:t>
            </a:r>
            <a:r>
              <a:rPr b="1" lang="zh-CN" sz="35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徇”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攻占</a:t>
            </a:r>
            <a:r>
              <a:rPr b="1" lang="en-US" sz="35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土地</a:t>
            </a:r>
            <a:r>
              <a:rPr b="1" lang="en-US" sz="35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500" spc="-1" strike="noStrike">
                <a:solidFill>
                  <a:srgbClr val="003bb2"/>
                </a:solidFill>
                <a:latin typeface="Times New Roman"/>
              </a:rPr>
              <a:t>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以”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限定范围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行收兵”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行军中沿途收纳兵员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比”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等到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乘”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sh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èng)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车辆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骑”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j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ì)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骑兵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守令”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郡守、县令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谯门中”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城门洞里</a:t>
            </a:r>
            <a:r>
              <a:rPr b="1" lang="en-US" sz="3500" spc="-1" strike="noStrike">
                <a:solidFill>
                  <a:srgbClr val="000099"/>
                </a:solidFill>
                <a:latin typeface="Times New Roman"/>
              </a:rPr>
              <a:t>。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乃”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才。</a:t>
            </a:r>
            <a:endParaRPr b="0" lang="en-US" sz="35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794-BE42-450F-9D8B-61B841BACC84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7D45A-BE64-4764-B3B2-693E553D3A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62000" y="0"/>
            <a:ext cx="8982000" cy="3632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起义军（首先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进攻大泽乡，收集大泽乡的军队攻打蕲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攻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蕲县后，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符离人葛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带兵攻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蕲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东的地方。（陈胜率主力）攻打轾、酂、苦、拓、樵等县，都攻下来了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行军中沿路收纳官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打到陈县的时候，已有战车六七百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战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千多匹，士卒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万人。进攻陈县时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郡守和县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都不在城中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有守丞带兵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城门洞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应战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起义军一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战胜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守丞被杀死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起义军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陈县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7EA-61BE-44DD-A520-3D27CCD068C2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C710B-244A-4FE9-A483-688AD2820C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27360" cy="5616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1640" y="233280"/>
            <a:ext cx="5896080" cy="14191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2900" spc="-1" strike="noStrike">
                <a:solidFill>
                  <a:srgbClr val="003366"/>
                </a:solidFill>
                <a:latin typeface="Times New Roman"/>
              </a:rPr>
              <a:t>因替投降匈奴的李陵辩解，获罪入狱，受宫刑，面对不幸的遭遇，司马迁曾一度想自杀，但他想起了父亲的遗言，又以古人孔子、屈原、左丘明、孙子、韩非等在逆境中发愤有为鼓励自己，身心备受摧残、忍辱生活的司马迁深知，“人固有一死，死有重于泰山，或轻于鸿毛”。他决心以残烛之年，完成父亲要他完成的史书。此后，他发奋著书。前</a:t>
            </a:r>
            <a:r>
              <a:rPr b="1" lang="en-US" sz="2900" spc="-1" strike="noStrike">
                <a:solidFill>
                  <a:srgbClr val="003366"/>
                </a:solidFill>
                <a:latin typeface="Times New Roman"/>
              </a:rPr>
              <a:t>96</a:t>
            </a:r>
            <a:r>
              <a:rPr b="1" lang="zh-CN" sz="2900" spc="-1" strike="noStrike">
                <a:solidFill>
                  <a:srgbClr val="003366"/>
                </a:solidFill>
                <a:latin typeface="Times New Roman"/>
              </a:rPr>
              <a:t>年出狱，任中书令，经十余年努力，约在五十五岁时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</a:rPr>
              <a:t>终于写成我国第一部纪传体的历史巨著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</a:rPr>
              <a:t>史记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900" spc="-1" strike="noStrike">
              <a:solidFill>
                <a:srgbClr val="003bb2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4243320"/>
            <a:ext cx="2727360" cy="261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07B-B03D-43C6-8F33-68E2E51CD62A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A6B9E-B8CA-4DA4-A987-0BBEEAE59C6E}" type="datetime1">
              <a:rPr lang="en-US"/>
              <a:t>07/31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41280" y="14436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数日，号令召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老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豪杰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皆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会计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事。三老﹑豪杰皆曰：“将军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身被坚执锐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无道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诛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暴秦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复立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楚国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社稷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，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宜为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王。”陈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立为王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号为张楚。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当此时，诸郡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苦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秦吏者，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刑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其长吏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杀之以应陈涉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2360" y="2708280"/>
            <a:ext cx="8685360" cy="2043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老”：</a:t>
            </a:r>
            <a:r>
              <a:rPr b="1" lang="zh-CN" sz="3200" spc="-1" strike="noStrike">
                <a:solidFill>
                  <a:srgbClr val="003bb2"/>
                </a:solidFill>
                <a:latin typeface="黑体"/>
                <a:ea typeface="黑体"/>
              </a:rPr>
              <a:t>掌管教化的乡官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豪杰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当地有声望的人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会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集会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计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商议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“被坚执锐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身披着战甲，拿着武器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“身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亲自；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被”，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通“披”，穿着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“坚”“锐”，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都是形容词作名词，分别指铁甲、武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“执”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，紧握着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无道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残暴无道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诛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讨伐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复立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恢复建立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社稷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国家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号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宣称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刑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惩罚。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697-5725-419F-B28D-80964D89D369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6929A-CCB2-4F14-8F4F-3D581003D4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2000" y="0"/>
            <a:ext cx="8982000" cy="3871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几天后，陈胜召集当地的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乡官和有声望的人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一起来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集会议事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。这些人都说：“将军您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亲自披战甲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上阵，手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拿武器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讨伐残暴无道的秦国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，恢复楚国的社稷，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论功应当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称王。”于是陈胜被拥戴称王，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对外宣称要张大楚国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。这时，各郡县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苦于秦朝统治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的人都纷纷起事，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惩罚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当地的郡县长官，把他们杀死，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来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响应陈胜的号召。</a:t>
            </a:r>
            <a:endParaRPr b="0" lang="en-US" sz="39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AAE-1C49-4802-A76E-76583A452986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F6D99-0A4A-48A4-A77B-786DA9268C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2360" y="414360"/>
            <a:ext cx="76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003bb2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3bb2"/>
                </a:solidFill>
                <a:latin typeface="黑体"/>
                <a:ea typeface="黑体"/>
              </a:rPr>
              <a:t>这一大段写了哪些内容？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2360" y="1224000"/>
            <a:ext cx="862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写了三方面内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发动起义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胜利进军。 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3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建立政权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6280" y="3833640"/>
            <a:ext cx="985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最能表现陈胜反抗精神的一句话是：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4360" y="4778280"/>
            <a:ext cx="872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王侯将相宁有种乎！ 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对封建等级制度进行了否定！）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A2A-DD9A-429C-BCDE-525C0479B5E6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E6A64-0A24-4B9F-991D-87F877192D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0"/>
            <a:ext cx="29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总结全文：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67652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bb2"/>
                </a:solidFill>
                <a:latin typeface="Times New Roman"/>
              </a:rPr>
              <a:t>谋划起义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4876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bb2"/>
                </a:solidFill>
                <a:latin typeface="Times New Roman"/>
              </a:rPr>
              <a:t>发动起义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685800"/>
            <a:ext cx="990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bb2"/>
                </a:solidFill>
                <a:latin typeface="Times New Roman"/>
              </a:rPr>
              <a:t>原因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bb2"/>
                </a:solidFill>
                <a:latin typeface="Times New Roman"/>
              </a:rPr>
              <a:t>策略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bb2"/>
                </a:solidFill>
                <a:latin typeface="Times New Roman"/>
              </a:rPr>
              <a:t>舆论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91440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5335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428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bb2"/>
                </a:solidFill>
                <a:latin typeface="Times New Roman"/>
              </a:rPr>
              <a:t>直接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bb2"/>
                </a:solidFill>
                <a:latin typeface="Times New Roman"/>
              </a:rPr>
              <a:t>根本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457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失期，法皆斩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990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天下苦秦久矣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16002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1447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bb2"/>
                </a:solidFill>
                <a:latin typeface="Times New Roman"/>
                <a:ea typeface="楷体_GB2312"/>
              </a:rPr>
              <a:t>立公子扶苏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2133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bb2"/>
                </a:solidFill>
                <a:latin typeface="Times New Roman"/>
                <a:ea typeface="楷体_GB2312"/>
              </a:rPr>
              <a:t>楚人怜楚将项燕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74320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25909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鱼腹藏书</a:t>
            </a:r>
            <a:endParaRPr b="0" lang="en-US" sz="28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3352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篝火狐鸣</a:t>
            </a:r>
            <a:endParaRPr b="0" lang="en-US" sz="28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411480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起义开始时的情形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4876920"/>
            <a:ext cx="586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起义初期的迅猛发展和陈胜立国的经过。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5867280"/>
            <a:ext cx="57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概述此后诸郡县反秦斗争的情形。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38098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35053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并杀两尉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3962520"/>
            <a:ext cx="21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召令徒属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448164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为坛而盟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EC7-9E63-4B42-8014-132FF0D2C60F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A0779-5AA8-452F-9D65-ABF237717F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998280"/>
            <a:ext cx="872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陈涉世家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词类归纳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41280" y="2057040"/>
            <a:ext cx="7424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bb2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3bb2"/>
                </a:solidFill>
                <a:latin typeface="黑体"/>
                <a:ea typeface="黑体"/>
              </a:rPr>
              <a:t>一、通假字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bb2"/>
                </a:solidFill>
                <a:latin typeface="黑体"/>
                <a:ea typeface="黑体"/>
              </a:rPr>
              <a:t>二、一词多义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bb2"/>
                </a:solidFill>
                <a:latin typeface="黑体"/>
                <a:ea typeface="黑体"/>
              </a:rPr>
              <a:t>三、词类活用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bb2"/>
                </a:solidFill>
                <a:latin typeface="黑体"/>
                <a:ea typeface="黑体"/>
              </a:rPr>
              <a:t>四、古今异义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9770-6F64-4D68-A84C-3F60402776E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307682F-C565-457C-A558-B857B9C28F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6280" y="367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通假字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31640" y="1854360"/>
            <a:ext cx="60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b2"/>
                </a:solidFill>
                <a:latin typeface="宋体"/>
              </a:rPr>
              <a:t>发闾左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適</a:t>
            </a:r>
            <a:r>
              <a:rPr b="1" lang="zh-CN" sz="4800" spc="-1" strike="noStrike">
                <a:solidFill>
                  <a:srgbClr val="003bb2"/>
                </a:solidFill>
                <a:latin typeface="宋体"/>
              </a:rPr>
              <a:t>戍渔阳</a:t>
            </a:r>
            <a:r>
              <a:rPr b="1" lang="zh-CN" sz="4800" spc="-1" strike="noStrike" u="sng">
                <a:solidFill>
                  <a:srgbClr val="003bb2"/>
                </a:solidFill>
                <a:uFillTx/>
                <a:latin typeface="宋体"/>
              </a:rPr>
              <a:t> </a:t>
            </a:r>
            <a:endParaRPr b="0" lang="en-US" sz="48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b2"/>
                </a:solidFill>
                <a:latin typeface="宋体"/>
              </a:rPr>
              <a:t>为天下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唱 </a:t>
            </a:r>
            <a:endParaRPr b="0" lang="en-US" sz="48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b2"/>
                </a:solidFill>
                <a:latin typeface="宋体"/>
              </a:rPr>
              <a:t>固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4800" spc="-1" strike="noStrike">
                <a:solidFill>
                  <a:srgbClr val="003bb2"/>
                </a:solidFill>
                <a:latin typeface="宋体"/>
              </a:rPr>
              <a:t>怪之矣</a:t>
            </a:r>
            <a:r>
              <a:rPr b="1" lang="zh-CN" sz="4800" spc="-1" strike="noStrike" u="sng">
                <a:solidFill>
                  <a:srgbClr val="003bb2"/>
                </a:solidFill>
                <a:uFillTx/>
                <a:latin typeface="宋体"/>
              </a:rPr>
              <a:t> </a:t>
            </a:r>
            <a:endParaRPr b="0" lang="en-US" sz="48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b2"/>
                </a:solidFill>
                <a:latin typeface="宋体"/>
              </a:rPr>
              <a:t>将军身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被</a:t>
            </a:r>
            <a:r>
              <a:rPr b="1" lang="zh-CN" sz="4800" spc="-1" strike="noStrike">
                <a:solidFill>
                  <a:srgbClr val="003bb2"/>
                </a:solidFill>
                <a:latin typeface="宋体"/>
              </a:rPr>
              <a:t>坚执锐</a:t>
            </a:r>
            <a:r>
              <a:rPr b="0" lang="zh-CN" sz="4400" spc="-1" strike="noStrike" u="sng">
                <a:solidFill>
                  <a:srgbClr val="003bb2"/>
                </a:solidFill>
                <a:uFillTx/>
                <a:latin typeface="宋体"/>
              </a:rPr>
              <a:t>               </a:t>
            </a:r>
            <a:endParaRPr b="0" lang="en-US" sz="44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19051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通“谪”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281952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唱通“倡”，首发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358128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以”通“已”  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94360" y="4643280"/>
            <a:ext cx="40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被”通“披”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890-96B4-484F-AAC6-A74BC087E59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19F0C-8344-48F1-B971-7CC23C09D8E6}" type="datetime1">
              <a:rPr lang="en-US"/>
              <a:t>07/31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3480"/>
            <a:ext cx="73152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宋体"/>
              </a:rPr>
              <a:t>一词多义（一）：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bb2"/>
                </a:solidFill>
                <a:latin typeface="宋体"/>
              </a:rPr>
              <a:t>之</a:t>
            </a:r>
            <a:endParaRPr b="0" lang="en-US" sz="60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36640" y="1898640"/>
            <a:ext cx="270000" cy="3645000"/>
          </a:xfrm>
          <a:custGeom>
            <a:avLst/>
            <a:gdLst>
              <a:gd name="textAreaLeft" fmla="*/ 172440 w 270000"/>
              <a:gd name="textAreaRight" fmla="*/ 270360 w 270000"/>
              <a:gd name="textAreaTop" fmla="*/ 95040 h 3645000"/>
              <a:gd name="textAreaBottom" fmla="*/ 3549960 h 364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41640" y="1538280"/>
            <a:ext cx="464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宋体"/>
              </a:rPr>
              <a:t>辍耕之垄上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之次所旁丛祠中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2000" y="3249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宋体"/>
              </a:rPr>
              <a:t>怅恨久之 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396252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二世杀之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62000" y="504972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宋体"/>
              </a:rPr>
              <a:t>燕雀安知鸿鹄之志哉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81640" y="189864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、往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92720" y="33386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音节助词，不译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16280" y="405936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词，代扶苏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07000" y="5769000"/>
            <a:ext cx="41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助词，的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32A-704D-4182-8DF8-27B6F195B36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21034-6D7C-4A51-B0EB-0FC867849AEE}" type="datetime1">
              <a:rPr lang="en-US"/>
              <a:t>07/31/26</a:t>
            </a:fld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宋体"/>
              </a:rPr>
              <a:t>一词多义（二）：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bb2"/>
                </a:solidFill>
                <a:latin typeface="宋体"/>
              </a:rPr>
              <a:t>以</a:t>
            </a:r>
            <a:endParaRPr b="0" lang="en-US" sz="60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36640" y="1854360"/>
            <a:ext cx="447840" cy="4584600"/>
          </a:xfrm>
          <a:custGeom>
            <a:avLst/>
            <a:gdLst>
              <a:gd name="textAreaLeft" fmla="*/ 286200 w 447840"/>
              <a:gd name="textAreaRight" fmla="*/ 448200 w 447840"/>
              <a:gd name="textAreaTop" fmla="*/ 119520 h 4584600"/>
              <a:gd name="textAreaBottom" fmla="*/ 4465080 h 45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71640" y="1584360"/>
            <a:ext cx="41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扶苏以数谏故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32000" y="2573280"/>
            <a:ext cx="32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固以怪之矣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41640" y="3564000"/>
            <a:ext cx="34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以激怒其众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495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徇蕲以东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67360" y="1494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，介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22720" y="25732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“已”，已经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81640" y="351936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来，连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42000" y="4464000"/>
            <a:ext cx="40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限定范围，连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41640" y="5229360"/>
            <a:ext cx="31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今诚以吾众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32360" y="527364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51040" y="5859360"/>
            <a:ext cx="26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Arial"/>
              </a:rPr>
              <a:t>祭以尉首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5859360"/>
            <a:ext cx="31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，介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70A-B1ED-4EE3-A1F4-4E01C22F8FB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5026C-1053-4369-B933-000BA4C9A592}" type="datetime1">
              <a:rPr lang="en-US"/>
              <a:t>07/31/26</a:t>
            </a:fld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15840" y="-33480"/>
            <a:ext cx="679752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宋体"/>
              </a:rPr>
              <a:t>一词多义（三）：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bb2"/>
                </a:solidFill>
                <a:latin typeface="宋体"/>
              </a:rPr>
              <a:t>为</a:t>
            </a:r>
            <a:endParaRPr b="0" lang="en-US" sz="60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1905120"/>
            <a:ext cx="304920" cy="3962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3320 h 3962160"/>
              <a:gd name="textAreaBottom" fmla="*/ 385884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36640" y="15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佣耕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2819520"/>
            <a:ext cx="24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天下唱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41148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士卒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用者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36640" y="5319720"/>
            <a:ext cx="44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屯长；为坛而盟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1523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，动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28954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向，介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15000" y="4114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被，介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5334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，动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433-07F8-46BB-B4D1-03B3160BAE0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A1DC2-FD3F-4B51-8785-CF30330AF643}" type="datetime1">
              <a:rPr lang="en-US"/>
              <a:t>07/31/26</a:t>
            </a:fld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936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宋体"/>
              </a:rPr>
              <a:t>一词多义（四）：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bb2"/>
                </a:solidFill>
                <a:latin typeface="宋体"/>
              </a:rPr>
              <a:t>故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52360" y="1314360"/>
            <a:ext cx="223920" cy="1754280"/>
          </a:xfrm>
          <a:custGeom>
            <a:avLst/>
            <a:gdLst>
              <a:gd name="textAreaLeft" fmla="*/ 143280 w 223920"/>
              <a:gd name="textAreaRight" fmla="*/ 224280 w 223920"/>
              <a:gd name="textAreaTop" fmla="*/ 45720 h 1754280"/>
              <a:gd name="textAreaBottom" fmla="*/ 1708560 h 175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6280" y="11336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扶苏以数谏</a:t>
            </a:r>
            <a:r>
              <a:rPr b="1" lang="zh-CN" sz="3200" spc="-1" strike="noStrike">
                <a:solidFill>
                  <a:srgbClr val="e45c00"/>
                </a:solidFill>
                <a:latin typeface="宋体"/>
              </a:rPr>
              <a:t>故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22360" y="2438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广</a:t>
            </a:r>
            <a:r>
              <a:rPr b="1" lang="zh-CN" sz="3200" spc="-1" strike="noStrike">
                <a:solidFill>
                  <a:srgbClr val="e45c00"/>
                </a:solidFill>
                <a:latin typeface="宋体"/>
              </a:rPr>
              <a:t>故</a:t>
            </a: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数言欲亡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27720" y="1224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缘故，名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4114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2438280"/>
            <a:ext cx="313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意，副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7360" y="4554360"/>
            <a:ext cx="13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b2"/>
                </a:solidFill>
                <a:latin typeface="Times New Roman"/>
              </a:rPr>
              <a:t>书</a:t>
            </a:r>
            <a:endParaRPr b="0" lang="en-US" sz="48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6280" y="4149720"/>
            <a:ext cx="225360" cy="1754280"/>
          </a:xfrm>
          <a:custGeom>
            <a:avLst/>
            <a:gdLst>
              <a:gd name="textAreaLeft" fmla="*/ 144000 w 225360"/>
              <a:gd name="textAreaRight" fmla="*/ 225720 w 225360"/>
              <a:gd name="textAreaTop" fmla="*/ 45720 h 1754280"/>
              <a:gd name="textAreaBottom" fmla="*/ 1708560 h 175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11280" y="3924360"/>
            <a:ext cx="24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乃丹</a:t>
            </a:r>
            <a:r>
              <a:rPr b="1" lang="zh-CN" sz="3200" spc="-1" strike="noStrike">
                <a:solidFill>
                  <a:srgbClr val="e45c00"/>
                </a:solidFill>
                <a:latin typeface="Times New Roman"/>
              </a:rPr>
              <a:t>书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帛曰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97000" y="5364000"/>
            <a:ext cx="33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得鱼腹中</a:t>
            </a:r>
            <a:r>
              <a:rPr b="1" lang="zh-CN" sz="3200" spc="-1" strike="noStrike">
                <a:solidFill>
                  <a:srgbClr val="e45c00"/>
                </a:solidFill>
                <a:latin typeface="Times New Roman"/>
              </a:rPr>
              <a:t>书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3968640"/>
            <a:ext cx="28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，动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81480" y="5364000"/>
            <a:ext cx="341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绸条，名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BC2-8C10-4D98-8823-6C44C0A4425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C5C39-ABBE-443F-94D5-2483C7BF4006}" type="datetime1">
              <a:rPr lang="en-US"/>
              <a:t>07/31/26</a:t>
            </a:fld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10351" t="0" r="13773" b="0"/>
          <a:stretch/>
        </p:blipFill>
        <p:spPr>
          <a:xfrm>
            <a:off x="0" y="414360"/>
            <a:ext cx="2187720" cy="2924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4920" y="4014720"/>
            <a:ext cx="2152800" cy="1935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48000" y="324000"/>
            <a:ext cx="648972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《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史记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我国第一部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纪传体通史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  </a:t>
            </a:r>
            <a:r>
              <a:rPr b="1" lang="zh-CN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在史学和文学史上都有很高的地位。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鲁迅</a:t>
            </a:r>
            <a:r>
              <a:rPr b="1" lang="zh-CN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称它是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“史家之绝唱，无韵之</a:t>
            </a:r>
            <a:r>
              <a:rPr b="1" lang="en-US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离骚</a:t>
            </a:r>
            <a:r>
              <a:rPr b="1" lang="en-US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》”</a:t>
            </a:r>
            <a:r>
              <a:rPr b="1" lang="zh-CN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与司马光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资治通鉴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并称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史学双璧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” 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  </a:t>
            </a:r>
            <a:r>
              <a:rPr b="1" lang="zh-CN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记载了从传说中的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黄帝到汉武帝</a:t>
            </a:r>
            <a:r>
              <a:rPr b="1" lang="zh-CN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长达三千年间的历史。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全书共</a:t>
            </a:r>
            <a:r>
              <a:rPr b="1" lang="en-US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130 </a:t>
            </a:r>
            <a:r>
              <a:rPr b="1" lang="zh-CN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篇，包括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本纪</a:t>
            </a:r>
            <a:r>
              <a:rPr b="1" lang="en-US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帝王</a:t>
            </a:r>
            <a:r>
              <a:rPr b="1" lang="en-US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世家</a:t>
            </a:r>
            <a:r>
              <a:rPr b="1" lang="en-US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诸侯世家</a:t>
            </a:r>
            <a:r>
              <a:rPr b="1" lang="en-US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列传</a:t>
            </a:r>
            <a:r>
              <a:rPr b="1" lang="en-US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各阶层有影响的人物</a:t>
            </a:r>
            <a:r>
              <a:rPr b="1" lang="en-US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书表</a:t>
            </a:r>
            <a:r>
              <a:rPr b="1" lang="en-US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经济、天文、历法等</a:t>
            </a:r>
            <a:r>
              <a:rPr b="1" lang="en-US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)</a:t>
            </a:r>
            <a:r>
              <a:rPr b="1" lang="en-US" sz="3400" spc="-1" strike="noStrike">
                <a:solidFill>
                  <a:srgbClr val="009900"/>
                </a:solidFill>
                <a:latin typeface="华文隶书"/>
                <a:ea typeface="华文隶书"/>
              </a:rPr>
              <a:t>            </a:t>
            </a:r>
            <a:endParaRPr b="0" lang="en-US" sz="3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9DE-F0E0-4E80-BB85-B0CE95C1700E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219A8-F1F3-4610-AE65-B9CE390E63B5}" type="datetime1">
              <a:rPr lang="en-US"/>
              <a:t>07/31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宋体"/>
              </a:rPr>
              <a:t>一词多义（五）：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bb2"/>
                </a:solidFill>
                <a:latin typeface="宋体"/>
              </a:rPr>
              <a:t>然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52360" y="1314360"/>
            <a:ext cx="223920" cy="1754280"/>
          </a:xfrm>
          <a:custGeom>
            <a:avLst/>
            <a:gdLst>
              <a:gd name="textAreaLeft" fmla="*/ 143280 w 223920"/>
              <a:gd name="textAreaRight" fmla="*/ 224280 w 223920"/>
              <a:gd name="textAreaTop" fmla="*/ 45720 h 1754280"/>
              <a:gd name="textAreaBottom" fmla="*/ 1708560 h 175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80920" y="131436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吴广以为</a:t>
            </a:r>
            <a:r>
              <a:rPr b="1" lang="zh-CN" sz="3200" spc="-1" strike="noStrike">
                <a:solidFill>
                  <a:srgbClr val="e45c00"/>
                </a:solidFill>
                <a:latin typeface="宋体"/>
              </a:rPr>
              <a:t>然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2000" y="252900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5c00"/>
                </a:solidFill>
                <a:latin typeface="宋体"/>
              </a:rPr>
              <a:t>然</a:t>
            </a: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足下卜之鬼乎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1224000"/>
            <a:ext cx="50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的、正确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4114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00600" y="2529000"/>
            <a:ext cx="35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过，然而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7360" y="4554360"/>
            <a:ext cx="13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b2"/>
                </a:solidFill>
                <a:latin typeface="Times New Roman"/>
              </a:rPr>
              <a:t>数</a:t>
            </a:r>
            <a:endParaRPr b="0" lang="en-US" sz="48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32000" y="4221000"/>
            <a:ext cx="215640" cy="216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12720" y="3924360"/>
            <a:ext cx="2843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5c00"/>
                </a:solidFill>
                <a:latin typeface="Times New Roman"/>
              </a:rPr>
              <a:t>扶苏以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数</a:t>
            </a:r>
            <a:r>
              <a:rPr b="1" lang="zh-CN" sz="3200" spc="-1" strike="noStrike">
                <a:solidFill>
                  <a:srgbClr val="e45c00"/>
                </a:solidFill>
                <a:latin typeface="Times New Roman"/>
              </a:rPr>
              <a:t>谏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数</a:t>
            </a:r>
            <a:r>
              <a:rPr b="1" lang="zh-CN" sz="3200" spc="-1" strike="noStrike">
                <a:solidFill>
                  <a:srgbClr val="e45c00"/>
                </a:solidFill>
                <a:latin typeface="宋体"/>
              </a:rPr>
              <a:t>有功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数</a:t>
            </a:r>
            <a:r>
              <a:rPr b="1" lang="zh-CN" sz="3200" spc="-1" strike="noStrike">
                <a:solidFill>
                  <a:srgbClr val="e45c00"/>
                </a:solidFill>
                <a:latin typeface="宋体"/>
              </a:rPr>
              <a:t>言欲亡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32000" y="5724360"/>
            <a:ext cx="32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卒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万人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03640" y="4437000"/>
            <a:ext cx="22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屡次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62360" y="5724360"/>
            <a:ext cx="30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几，数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D9A-9A9F-4C07-B84D-10FE987129A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8E81B-6A52-44BF-969C-F87E878FD5FA}" type="datetime1">
              <a:rPr lang="en-US"/>
              <a:t>07/31/26</a:t>
            </a:fld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宋体"/>
              </a:rPr>
              <a:t>一词多义（六）：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bb2"/>
                </a:solidFill>
                <a:latin typeface="宋体"/>
              </a:rPr>
              <a:t>将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52360" y="1314360"/>
            <a:ext cx="223920" cy="1754280"/>
          </a:xfrm>
          <a:custGeom>
            <a:avLst/>
            <a:gdLst>
              <a:gd name="textAreaLeft" fmla="*/ 143280 w 223920"/>
              <a:gd name="textAreaRight" fmla="*/ 224280 w 223920"/>
              <a:gd name="textAreaTop" fmla="*/ 45720 h 1754280"/>
              <a:gd name="textAreaBottom" fmla="*/ 1708560 h 175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15920" y="1359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上使外</a:t>
            </a:r>
            <a:r>
              <a:rPr b="1" lang="zh-CN" sz="3200" spc="-1" strike="noStrike">
                <a:solidFill>
                  <a:srgbClr val="e45c00"/>
                </a:solidFill>
                <a:latin typeface="宋体"/>
              </a:rPr>
              <a:t>将</a:t>
            </a: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兵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27000" y="248436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燕为楚</a:t>
            </a:r>
            <a:r>
              <a:rPr b="1" lang="zh-CN" sz="3200" spc="-1" strike="noStrike">
                <a:solidFill>
                  <a:srgbClr val="e45c00"/>
                </a:solidFill>
                <a:latin typeface="宋体"/>
              </a:rPr>
              <a:t>将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81280" y="14032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率领，动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4114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11640" y="2438280"/>
            <a:ext cx="35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领，名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7360" y="4554360"/>
            <a:ext cx="13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b2"/>
                </a:solidFill>
                <a:latin typeface="Times New Roman"/>
              </a:rPr>
              <a:t>次</a:t>
            </a:r>
            <a:endParaRPr b="0" lang="en-US" sz="48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6280" y="4149720"/>
            <a:ext cx="225360" cy="1754280"/>
          </a:xfrm>
          <a:custGeom>
            <a:avLst/>
            <a:gdLst>
              <a:gd name="textAreaLeft" fmla="*/ 144000 w 225360"/>
              <a:gd name="textAreaRight" fmla="*/ 225720 w 225360"/>
              <a:gd name="textAreaTop" fmla="*/ 45720 h 1754280"/>
              <a:gd name="textAreaBottom" fmla="*/ 1708560 h 175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41280" y="3924360"/>
            <a:ext cx="436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陈胜吴广皆</a:t>
            </a:r>
            <a:r>
              <a:rPr b="1" lang="zh-CN" sz="3200" spc="-1" strike="noStrike">
                <a:solidFill>
                  <a:srgbClr val="e45c00"/>
                </a:solidFill>
                <a:latin typeface="Times New Roman"/>
              </a:rPr>
              <a:t>次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当行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41280" y="5454720"/>
            <a:ext cx="37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e45c00"/>
                </a:solidFill>
                <a:latin typeface="Times New Roman"/>
              </a:rPr>
              <a:t>次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所旁丛祠中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27720" y="396864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编次，动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7000" y="5094360"/>
            <a:ext cx="314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旅行或行军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途中停留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A9D-58D3-4B68-8700-AD2E2386BE5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B3D54-9FF5-4EE3-B70F-FE66AE6BEC14}" type="datetime1">
              <a:rPr lang="en-US"/>
              <a:t>07/31/26</a:t>
            </a:fld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黑体"/>
              </a:rPr>
              <a:t>一词多义（七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陈胜、吴广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乃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谋曰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bb2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bb2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当立者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乃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公子扶苏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2529000"/>
            <a:ext cx="330120" cy="3490920"/>
          </a:xfrm>
          <a:custGeom>
            <a:avLst/>
            <a:gdLst>
              <a:gd name="textAreaLeft" fmla="*/ 210960 w 330120"/>
              <a:gd name="textAreaRight" fmla="*/ 330480 w 330120"/>
              <a:gd name="textAreaTop" fmla="*/ 90720 h 3490920"/>
              <a:gd name="textAreaBottom" fmla="*/ 340020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908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76640" y="4464000"/>
            <a:ext cx="31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5c00"/>
                </a:solidFill>
                <a:latin typeface="Arial"/>
              </a:rPr>
              <a:t>乃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入据陈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07000" y="450864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93840" y="5402160"/>
            <a:ext cx="36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5c00"/>
                </a:solidFill>
                <a:latin typeface="Arial"/>
              </a:rPr>
              <a:t>乃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不知有汉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0560" y="5326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竟然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66640" y="3473280"/>
            <a:ext cx="139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b2"/>
                </a:solidFill>
                <a:latin typeface="Arial"/>
              </a:rPr>
              <a:t>乃</a:t>
            </a:r>
            <a:endParaRPr b="0" lang="en-US" sz="48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37360" y="216864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于是，就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72360" y="3384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A81-11CF-4A22-88E2-7208DFB32684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66E48-586F-44A7-AFAE-04CDFD0589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1280" y="9360"/>
            <a:ext cx="77216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词类活用（一）：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2360" y="1179360"/>
            <a:ext cx="54468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b2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、失期，法皆斩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b2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、乃丹书帛曰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陈胜王”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b2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、置人所罾鱼腹中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b2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、忿恚尉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97360" y="1224000"/>
            <a:ext cx="54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法：依法，名词做状语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86280" y="2259000"/>
            <a:ext cx="515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丹，用朱砂，名词作状语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书，写。名词作动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92360" y="3429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王，称王。名词作动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97360" y="4464000"/>
            <a:ext cx="495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bb2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罾，鱼网，用网捕，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作动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51280" y="5678640"/>
            <a:ext cx="54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……恼怒，使动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BB6-9206-46B0-967B-E9EC61793CB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0C376-B49E-4013-847D-2C5231A5E5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1280" y="9360"/>
            <a:ext cx="68835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词类活用（二）：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836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bb2"/>
                </a:solidFill>
                <a:latin typeface="Arial"/>
              </a:rPr>
              <a:t>5 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将军身被坚执锐</a:t>
            </a: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bb2"/>
                </a:solidFill>
                <a:latin typeface="Arial"/>
              </a:rPr>
              <a:t>6 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夜篝火</a:t>
            </a: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bb2"/>
                </a:solidFill>
                <a:latin typeface="Arial"/>
              </a:rPr>
              <a:t>7 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皆指目陈胜</a:t>
            </a: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bb2"/>
                </a:solidFill>
                <a:latin typeface="Arial"/>
              </a:rPr>
              <a:t>8 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狐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鸣呼曰</a:t>
            </a: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54600" y="1314360"/>
            <a:ext cx="453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坚，铁甲。锐，武器。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容词作名词。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37000" y="2484360"/>
            <a:ext cx="526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笼罩着火（装鬼火）名词作动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37000" y="3789360"/>
            <a:ext cx="56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目，用眼睛示意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词作动词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98560" y="398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2000" y="5094360"/>
            <a:ext cx="508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狐，像狐狸一样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词作状语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600-D00C-4A98-BA99-A579F156680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2300A-0C60-4AD3-A83B-3A6EB7A543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古今异义：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6095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bb2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、今亡亦死</a:t>
            </a: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bb2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、等死，死国可乎</a:t>
            </a: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bb2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、又间令吴广</a:t>
            </a: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bb2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、卒中往往语</a:t>
            </a: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b2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、楚人怜之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b2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、怅恨久之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52880" y="12193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逃走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19810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样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待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97360" y="2666880"/>
            <a:ext cx="41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私自偷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间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4280" y="35053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处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常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46640" y="4267080"/>
            <a:ext cx="44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bb2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爱戴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怜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57720" y="4932360"/>
            <a:ext cx="29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叹恨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仇恨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B0D-FA5D-4AC1-ACE7-20ED8652795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7F537-6913-4788-8C1C-B44B384335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0920" y="142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古汉语句式（一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080" y="1181160"/>
            <a:ext cx="9045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判断句：</a:t>
            </a:r>
            <a:endParaRPr b="0" lang="en-US" sz="44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bb2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3bb2"/>
                </a:solidFill>
                <a:latin typeface="Arial"/>
              </a:rPr>
              <a:t>陈胜者，阳城人也，字涉。</a:t>
            </a:r>
            <a:endParaRPr b="0" lang="en-US" sz="44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bb2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3bb2"/>
                </a:solidFill>
                <a:latin typeface="Arial"/>
              </a:rPr>
              <a:t>二世少子也</a:t>
            </a:r>
            <a:endParaRPr b="0" lang="en-US" sz="44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倒装句：</a:t>
            </a:r>
            <a:endParaRPr b="0" lang="en-US" sz="44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bb2"/>
                </a:solidFill>
                <a:latin typeface="Arial"/>
              </a:rPr>
              <a:t>为坛而盟，祭以尉首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以尉首祭）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0BE-2840-4EC9-B579-9F3B8A59B2B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F602F-EAC6-414E-AF15-684D0637AD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40920" y="142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古汉语句式（二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1280" y="1224000"/>
            <a:ext cx="9453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、省略句：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b2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义军</a:t>
            </a:r>
            <a:r>
              <a:rPr b="1" lang="en-US" sz="3600" spc="-1" strike="noStrike">
                <a:solidFill>
                  <a:srgbClr val="003bb2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弗胜，守丞死（义军）乃入据陈。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扶苏以数谏故，上使（之）外将兵。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独守丞与（起义军）战谯门中。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吴广素爱人，士卒多为（之）用者。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令（其）辱之、或以为（之）死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注意：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（译句时，需要把省略词语翻译出来！）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06B-69BB-4A87-AF12-AF8EB511C887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9F4EE-AFE8-4D7D-8A94-F7B31BF9CF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1640" y="609120"/>
            <a:ext cx="848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文言文总结积累的重要性：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bb2"/>
                </a:solidFill>
                <a:latin typeface="Arial"/>
              </a:rPr>
              <a:t>考试原则：课内知识向课外的迁移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bb2"/>
                </a:solidFill>
                <a:latin typeface="Arial"/>
              </a:rPr>
              <a:t>应对方法：“死去活来”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724-CEC3-4A18-9CDC-B0E78A6766B0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4587C-4E7E-42CF-B609-6B88550993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7400" y="457200"/>
            <a:ext cx="26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表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1752480"/>
            <a:ext cx="26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八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书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18280" y="990720"/>
            <a:ext cx="10062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70560" y="1143000"/>
            <a:ext cx="1006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971800"/>
            <a:ext cx="371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十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本纪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4191120"/>
            <a:ext cx="38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三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世家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5257800"/>
            <a:ext cx="34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七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列传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458640"/>
            <a:ext cx="71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以表格形式记大事年月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27360" y="1449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经济、天文、历法等各种典章制度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6640" y="2979720"/>
            <a:ext cx="53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历代帝王传记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37000" y="4149720"/>
            <a:ext cx="42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记诸侯世家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37000" y="5184720"/>
            <a:ext cx="45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记各阶层有影响的重要历史人物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9520" y="773280"/>
            <a:ext cx="1003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bb2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003bb2"/>
                </a:solidFill>
                <a:latin typeface="Times New Roman"/>
              </a:rPr>
              <a:t>史 记</a:t>
            </a:r>
            <a:endParaRPr b="0" lang="en-US" sz="5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762120"/>
            <a:ext cx="533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209680"/>
            <a:ext cx="533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352680"/>
            <a:ext cx="533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572000"/>
            <a:ext cx="533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5638680"/>
            <a:ext cx="533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762120"/>
            <a:ext cx="0" cy="4876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2000" y="2798640"/>
            <a:ext cx="405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CFE3-F9C6-4BA9-A949-2176A5FC2B52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C4620-7BAD-4814-B928-0A73FE590B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326880"/>
            <a:ext cx="7925040" cy="63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夏            辍              怅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嗟           鹄       戍         適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罾               烹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恚           笞           蕲      徇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轾          酂          柘         </a:t>
            </a:r>
            <a:r>
              <a:rPr b="1" lang="zh-CN" sz="4500" spc="-1" strike="noStrike">
                <a:solidFill>
                  <a:srgbClr val="003bb2"/>
                </a:solidFill>
                <a:latin typeface="Times New Roman"/>
              </a:rPr>
              <a:t> 闾</a:t>
            </a:r>
            <a:endParaRPr b="0" lang="en-US" sz="45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谯            稷  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被坚执锐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祠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度         宁        当行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404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ｊｉ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ǎ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52400" y="326880"/>
            <a:ext cx="12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ｃｈｕ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ò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1520" y="398520"/>
            <a:ext cx="15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ｃ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à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ｎｇ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68440" y="126036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ｊｉ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ē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90040" y="126216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ú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9760" y="1262160"/>
            <a:ext cx="9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ｓ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ù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52560" y="126216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zhé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01200" y="2197080"/>
            <a:ext cx="12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ｚ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ē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ｎｇ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22280" y="2125800"/>
            <a:ext cx="12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ｐ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ē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ｎｇ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55400" y="3062160"/>
            <a:ext cx="8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ｈｕ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ì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11200" y="3133800"/>
            <a:ext cx="8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ｃ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ī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19120" y="3062160"/>
            <a:ext cx="6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ｑ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í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47160" y="3062160"/>
            <a:ext cx="10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ｘ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ù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ｎ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55400" y="4070520"/>
            <a:ext cx="8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ｚ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ì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68200" y="414180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c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2320" y="407052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ｚ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è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80080" y="40705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lǘ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14720" y="5006880"/>
            <a:ext cx="13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ｑｉ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á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ｏ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18760" y="4935600"/>
            <a:ext cx="6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ｊ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ì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81800" y="50785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pī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85640" y="5943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cí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64920" y="594360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duó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48920" y="594360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nìng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08920" y="601488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háng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51120" y="0"/>
            <a:ext cx="1399320" cy="71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听读课文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注意字词读音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E89-9EA2-49D6-B174-553DA11F941D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3880C-1133-4C4A-99B2-8C5B67BAE1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2000" y="0"/>
            <a:ext cx="89820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 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陈胜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者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，阳城人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也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，字涉。吴广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者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，阳夏人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也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，字叔。陈涉少时，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尝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与人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佣耕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辍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耕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垄上，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怅恨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久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，曰：“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苟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富贵，无相忘。”庸者笑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而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应曰：“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若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庸耕，何富贵也？”陈涉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太息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曰：“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嗟乎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，燕雀安知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鸿鹄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之志哉！”</a:t>
            </a:r>
            <a:endParaRPr b="0" lang="en-US" sz="33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2360" y="2484360"/>
            <a:ext cx="8729640" cy="1647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“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者……也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”：判断句式。</a:t>
            </a:r>
            <a:r>
              <a:rPr b="1" lang="zh-CN" sz="3400" spc="-1" strike="noStrike">
                <a:solidFill>
                  <a:srgbClr val="e45c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尝”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曾经。</a:t>
            </a:r>
            <a:r>
              <a:rPr b="1" lang="zh-CN" sz="3400" spc="-1" strike="noStrike">
                <a:solidFill>
                  <a:srgbClr val="e45c00"/>
                </a:solidFill>
                <a:latin typeface="Times New Roman"/>
              </a:rPr>
              <a:t>“佣耕”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，被雇佣耕地。</a:t>
            </a:r>
            <a:r>
              <a:rPr b="1" lang="zh-CN" sz="3400" spc="-1" strike="noStrike">
                <a:solidFill>
                  <a:srgbClr val="e45c00"/>
                </a:solidFill>
                <a:latin typeface="Times New Roman"/>
              </a:rPr>
              <a:t>“辍”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：停止。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之”：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去、往。</a:t>
            </a:r>
            <a:r>
              <a:rPr b="1" lang="zh-CN" sz="3400" spc="-1" strike="noStrike">
                <a:solidFill>
                  <a:srgbClr val="e45c00"/>
                </a:solidFill>
                <a:latin typeface="Times New Roman"/>
              </a:rPr>
              <a:t>“怅恨”：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因失望而叹恨，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怅”，失望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之”：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补足音节的助词，不译。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苟”：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如果。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而”，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连词，表修饰。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若”</a:t>
            </a:r>
            <a:r>
              <a:rPr b="1" lang="zh-CN" sz="3400" spc="-1" strike="noStrike">
                <a:solidFill>
                  <a:srgbClr val="e45c00"/>
                </a:solidFill>
                <a:latin typeface="Times New Roman"/>
              </a:rPr>
              <a:t>：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你。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为”，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是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太息”：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长叹。“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嗟乎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”</a:t>
            </a:r>
            <a:r>
              <a:rPr b="1" lang="zh-CN" sz="3400" spc="-1" strike="noStrike">
                <a:solidFill>
                  <a:srgbClr val="e45c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3366"/>
                </a:solidFill>
                <a:latin typeface="Times New Roman"/>
              </a:rPr>
              <a:t>，感叹词，相当于“唉”。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鸿鹄”：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天鹅，比喻有远大抱负的人。</a:t>
            </a:r>
            <a:endParaRPr b="0" lang="en-US" sz="3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025-80AE-495E-B382-2BDAF9392C3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C02F3-28A5-4B56-89CE-95D5003B9D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2360" y="14436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4400" spc="-1" strike="noStrike">
              <a:solidFill>
                <a:srgbClr val="003bb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bb2"/>
                </a:solidFill>
                <a:latin typeface="宋体"/>
                <a:ea typeface="方正姚体"/>
              </a:rPr>
              <a:t> </a:t>
            </a:r>
            <a:r>
              <a:rPr b="1" lang="zh-CN" sz="3800" spc="-1" strike="noStrike">
                <a:solidFill>
                  <a:srgbClr val="003bb2"/>
                </a:solidFill>
                <a:latin typeface="宋体"/>
                <a:ea typeface="黑体"/>
              </a:rPr>
              <a:t>陈胜是阳城人，字涉。吴广是阳夏人，字叔。陈涉年轻时，</a:t>
            </a:r>
            <a:r>
              <a:rPr b="1" lang="zh-CN" sz="3800" spc="-1" strike="noStrike">
                <a:solidFill>
                  <a:srgbClr val="ff0000"/>
                </a:solidFill>
                <a:latin typeface="宋体"/>
                <a:ea typeface="黑体"/>
              </a:rPr>
              <a:t>曾经</a:t>
            </a:r>
            <a:r>
              <a:rPr b="1" lang="zh-CN" sz="3800" spc="-1" strike="noStrike">
                <a:solidFill>
                  <a:srgbClr val="003bb2"/>
                </a:solidFill>
                <a:latin typeface="宋体"/>
                <a:ea typeface="黑体"/>
              </a:rPr>
              <a:t>同别人一道</a:t>
            </a:r>
            <a:r>
              <a:rPr b="1" lang="zh-CN" sz="3800" spc="-1" strike="noStrike">
                <a:solidFill>
                  <a:srgbClr val="ff0000"/>
                </a:solidFill>
                <a:latin typeface="宋体"/>
                <a:ea typeface="黑体"/>
              </a:rPr>
              <a:t>被雇佣</a:t>
            </a:r>
            <a:r>
              <a:rPr b="1" lang="zh-CN" sz="3800" spc="-1" strike="noStrike">
                <a:solidFill>
                  <a:srgbClr val="003bb2"/>
                </a:solidFill>
                <a:latin typeface="宋体"/>
                <a:ea typeface="黑体"/>
              </a:rPr>
              <a:t>耕地，</a:t>
            </a:r>
            <a:r>
              <a:rPr b="1" lang="en-US" sz="3800" spc="-1" strike="noStrike">
                <a:solidFill>
                  <a:srgbClr val="ff0000"/>
                </a:solidFill>
                <a:latin typeface="宋体"/>
                <a:ea typeface="黑体"/>
              </a:rPr>
              <a:t>(</a:t>
            </a:r>
            <a:r>
              <a:rPr b="1" lang="zh-CN" sz="3800" spc="-1" strike="noStrike">
                <a:solidFill>
                  <a:srgbClr val="ff0000"/>
                </a:solidFill>
                <a:latin typeface="宋体"/>
                <a:ea typeface="黑体"/>
              </a:rPr>
              <a:t>一天</a:t>
            </a:r>
            <a:r>
              <a:rPr b="1" lang="en-US" sz="3800" spc="-1" strike="noStrike">
                <a:solidFill>
                  <a:srgbClr val="ff0000"/>
                </a:solidFill>
                <a:latin typeface="宋体"/>
                <a:ea typeface="黑体"/>
              </a:rPr>
              <a:t>,)</a:t>
            </a:r>
            <a:r>
              <a:rPr b="1" lang="zh-CN" sz="3800" spc="-1" strike="noStrike">
                <a:solidFill>
                  <a:srgbClr val="ff0000"/>
                </a:solidFill>
                <a:latin typeface="宋体"/>
                <a:ea typeface="黑体"/>
              </a:rPr>
              <a:t>他</a:t>
            </a:r>
            <a:r>
              <a:rPr b="1" lang="zh-CN" sz="3800" spc="-1" strike="noStrike">
                <a:solidFill>
                  <a:srgbClr val="003bb2"/>
                </a:solidFill>
                <a:latin typeface="宋体"/>
                <a:ea typeface="黑体"/>
              </a:rPr>
              <a:t>停止耕作</a:t>
            </a:r>
            <a:r>
              <a:rPr b="1" lang="zh-CN" sz="3800" spc="-1" strike="noStrike">
                <a:solidFill>
                  <a:srgbClr val="ff0000"/>
                </a:solidFill>
                <a:latin typeface="宋体"/>
                <a:ea typeface="黑体"/>
              </a:rPr>
              <a:t>走到</a:t>
            </a:r>
            <a:r>
              <a:rPr b="1" lang="zh-CN" sz="3800" spc="-1" strike="noStrike">
                <a:solidFill>
                  <a:srgbClr val="003bb2"/>
                </a:solidFill>
                <a:latin typeface="宋体"/>
                <a:ea typeface="黑体"/>
              </a:rPr>
              <a:t>田畔高地上，</a:t>
            </a:r>
            <a:r>
              <a:rPr b="1" lang="zh-CN" sz="3800" spc="-1" strike="noStrike">
                <a:solidFill>
                  <a:srgbClr val="ff0000"/>
                </a:solidFill>
                <a:latin typeface="宋体"/>
                <a:ea typeface="黑体"/>
              </a:rPr>
              <a:t>因失望而叹恨</a:t>
            </a:r>
            <a:r>
              <a:rPr b="1" lang="zh-CN" sz="3800" spc="-1" strike="noStrike">
                <a:solidFill>
                  <a:srgbClr val="003bb2"/>
                </a:solidFill>
                <a:latin typeface="宋体"/>
                <a:ea typeface="黑体"/>
              </a:rPr>
              <a:t>了好久，说道：“如果有朝一日</a:t>
            </a:r>
            <a:r>
              <a:rPr b="1" lang="en-US" sz="3800" spc="-1" strike="noStrike">
                <a:solidFill>
                  <a:srgbClr val="ff0000"/>
                </a:solidFill>
                <a:latin typeface="宋体"/>
                <a:ea typeface="黑体"/>
              </a:rPr>
              <a:t>(</a:t>
            </a:r>
            <a:r>
              <a:rPr b="1" lang="zh-CN" sz="3800" spc="-1" strike="noStrike">
                <a:solidFill>
                  <a:srgbClr val="ff0000"/>
                </a:solidFill>
                <a:latin typeface="宋体"/>
                <a:ea typeface="黑体"/>
              </a:rPr>
              <a:t>谁</a:t>
            </a:r>
            <a:r>
              <a:rPr b="1" lang="en-US" sz="3800" spc="-1" strike="noStrike">
                <a:solidFill>
                  <a:srgbClr val="ff0000"/>
                </a:solidFill>
                <a:latin typeface="宋体"/>
                <a:ea typeface="黑体"/>
              </a:rPr>
              <a:t>)</a:t>
            </a:r>
            <a:r>
              <a:rPr b="1" lang="zh-CN" sz="3800" spc="-1" strike="noStrike">
                <a:solidFill>
                  <a:srgbClr val="003bb2"/>
                </a:solidFill>
                <a:latin typeface="宋体"/>
                <a:ea typeface="黑体"/>
              </a:rPr>
              <a:t>富贵了，不要忘记大家。”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  <a:ea typeface="黑体"/>
              </a:rPr>
              <a:t>被雇佣耕地的同伴</a:t>
            </a:r>
            <a:r>
              <a:rPr b="1" lang="zh-CN" sz="3800" spc="-1" strike="noStrike">
                <a:solidFill>
                  <a:srgbClr val="003bb2"/>
                </a:solidFill>
                <a:latin typeface="宋体"/>
                <a:ea typeface="黑体"/>
              </a:rPr>
              <a:t>笑着应道：“你是被雇佣给人家耕地的，哪里来的富贵啊？”陈涉长叹说：“唉，燕雀怎么知道鸿鹄的志向呢！”</a:t>
            </a:r>
            <a:endParaRPr b="0" lang="en-US" sz="38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494-4F32-4F1C-8D74-268F33ADE40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893E0-9A1A-4D68-9C70-91AE91FCC9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189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思考：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第一段哪句表现陈涉年轻时就有非凡抱负？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先写这段有什么作用？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248436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燕雀安知鸿鹄之志哉！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6640" y="4329000"/>
            <a:ext cx="814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　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为以后领导起义作伏笔。表明陈胜后来发动起义并非偶然，早有其思想根基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C30-E12F-444E-97C5-F8A65070AAE3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5A622-E9A0-441A-A688-CA4574EB1C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*</cp:lastModifiedBy>
  <dcterms:modified xsi:type="dcterms:W3CDTF">2010-09-16T13:14:05Z</dcterms:modified>
  <cp:revision>56</cp:revision>
  <dc:subject/>
  <dc:title>PowerPoint 演示文稿</dc:title>
</cp:coreProperties>
</file>