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F96A-D209-4E13-ACFF-482FC58D0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5F70A-D2C4-4185-B155-D042D240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8E2C-9B2D-4C63-A526-85E3F1D70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01B6-BC0B-4185-B001-B4C704C77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2E0E-1FC2-4477-96B2-456EB81DF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C53D-BF16-4A4E-B6EA-29338B99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A87-65D8-4959-8FC8-FB26D26A7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A49-555F-4C84-9D0A-E8ADE03B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959E-9ADA-4127-85EF-EEC02C6F3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05D5-39DC-45A1-8E37-3A0856B9C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7A9-AD74-4167-86D5-44F238D4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EE69C-0E94-44BB-9698-56E2B374C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A2243-A584-4D2A-B445-DFF2329D0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79280" y="260280"/>
            <a:ext cx="842508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彩云"/>
              </a:rPr>
              <a:t>初中语文文言文复习课件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95280" y="162864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0" spc="-1" strike="noStrike">
                <a:solidFill>
                  <a:srgbClr val="ffff00"/>
                </a:solidFill>
                <a:latin typeface="华文彩云"/>
                <a:ea typeface="华文彩云"/>
              </a:rPr>
              <a:t>陈 涉  世   家</a:t>
            </a:r>
            <a:endParaRPr b="0" lang="en-US" sz="9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32000" y="144360"/>
            <a:ext cx="640872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以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足下卜之鬼乎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而不胜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怡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自乐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乃丹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帛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得鱼腹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抵万金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书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晋王右军墨池”之六字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179280" y="11970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5"/>
          <p:cNvSpPr/>
          <p:nvPr/>
        </p:nvSpPr>
        <p:spPr>
          <a:xfrm>
            <a:off x="1116000" y="54936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250920" y="450684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1187280" y="385920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3708360" y="146160"/>
            <a:ext cx="54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是，对，表示同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9"/>
          <p:cNvSpPr/>
          <p:nvPr/>
        </p:nvSpPr>
        <p:spPr>
          <a:xfrm>
            <a:off x="5435640" y="981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然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0"/>
          <p:cNvSpPr/>
          <p:nvPr/>
        </p:nvSpPr>
        <p:spPr>
          <a:xfrm>
            <a:off x="4716360" y="1658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这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4211640" y="2306520"/>
            <a:ext cx="338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样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4500720" y="36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4429080" y="4365720"/>
            <a:ext cx="33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绸子上的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4572000" y="4941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7596360" y="56610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488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胜、吴广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当行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所旁丛祠中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天大雨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与皆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计事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宾客大宴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179280" y="4367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189080" y="3860640"/>
            <a:ext cx="142920" cy="2016360"/>
          </a:xfrm>
          <a:custGeom>
            <a:avLst/>
            <a:gdLst>
              <a:gd name="textAreaLeft" fmla="*/ 91440 w 142920"/>
              <a:gd name="textAreaRight" fmla="*/ 143280 w 14292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179280" y="127152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7"/>
          <p:cNvSpPr/>
          <p:nvPr/>
        </p:nvSpPr>
        <p:spPr>
          <a:xfrm>
            <a:off x="1187280" y="1268280"/>
            <a:ext cx="144720" cy="1152720"/>
          </a:xfrm>
          <a:custGeom>
            <a:avLst/>
            <a:gdLst>
              <a:gd name="textAreaLeft" fmla="*/ 92520 w 144720"/>
              <a:gd name="textAreaRight" fmla="*/ 145080 w 144720"/>
              <a:gd name="textAreaTop" fmla="*/ 29880 h 1152720"/>
              <a:gd name="textAreaBottom" fmla="*/ 1122840 h 11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6588000" y="1052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编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5724360" y="1628640"/>
            <a:ext cx="3024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旅行或行军在途中停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3995640" y="371628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适逢，恰巧遇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1"/>
          <p:cNvSpPr/>
          <p:nvPr/>
        </p:nvSpPr>
        <p:spPr>
          <a:xfrm>
            <a:off x="5076720" y="43959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聚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2"/>
          <p:cNvSpPr/>
          <p:nvPr/>
        </p:nvSpPr>
        <p:spPr>
          <a:xfrm>
            <a:off x="4211640" y="5084640"/>
            <a:ext cx="468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适逢，恰巧遇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404640"/>
            <a:ext cx="4248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死，死国可乎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遇雨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辱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召三老豪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守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不在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间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令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79280" y="37180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令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189080" y="3357720"/>
            <a:ext cx="214200" cy="208728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360 h 2087280"/>
              <a:gd name="textAreaBottom" fmla="*/ 2032920 h 208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50920" y="90792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7"/>
          <p:cNvSpPr/>
          <p:nvPr/>
        </p:nvSpPr>
        <p:spPr>
          <a:xfrm>
            <a:off x="1258920" y="90792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5580000" y="765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562200" y="1197000"/>
            <a:ext cx="558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隶书"/>
              </a:rPr>
              <a:t>用在人称代词或人、物的名词后，表示多数或列举未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3059280" y="2852640"/>
            <a:ext cx="144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5435640" y="357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命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5435640" y="4149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县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5435640" y="4898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广故数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从民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也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鱼我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也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上青天揽明月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李白乘舟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欲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行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卜者知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意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目陈胜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手有百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不能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其一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108000" y="162864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欲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5"/>
          <p:cNvSpPr/>
          <p:nvPr/>
        </p:nvSpPr>
        <p:spPr>
          <a:xfrm>
            <a:off x="1116000" y="692280"/>
            <a:ext cx="287280" cy="2952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179280" y="47242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7"/>
          <p:cNvSpPr/>
          <p:nvPr/>
        </p:nvSpPr>
        <p:spPr>
          <a:xfrm>
            <a:off x="1187280" y="4075200"/>
            <a:ext cx="216000" cy="244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9440"/>
              <a:gd name="textAreaBottom" fmla="*/ 2385720 h 24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5003640" y="549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3851280" y="105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愿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4284720" y="1730520"/>
            <a:ext cx="18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5435640" y="256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想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2"/>
          <p:cNvSpPr/>
          <p:nvPr/>
        </p:nvSpPr>
        <p:spPr>
          <a:xfrm>
            <a:off x="5435640" y="3213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3"/>
          <p:cNvSpPr/>
          <p:nvPr/>
        </p:nvSpPr>
        <p:spPr>
          <a:xfrm>
            <a:off x="5148360" y="381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意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4"/>
          <p:cNvSpPr/>
          <p:nvPr/>
        </p:nvSpPr>
        <p:spPr>
          <a:xfrm>
            <a:off x="4211640" y="4611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手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5"/>
          <p:cNvSpPr/>
          <p:nvPr/>
        </p:nvSpPr>
        <p:spPr>
          <a:xfrm>
            <a:off x="4068720" y="51879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手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4788000" y="583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32000" y="188640"/>
            <a:ext cx="525600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广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数言欲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扶苏以数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问其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曰，域民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……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桓侯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使人问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而两狼之并驱如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西辞黄鹤楼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具鸡黍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临崩寄臣以大事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179280" y="292428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5"/>
          <p:cNvSpPr/>
          <p:nvPr/>
        </p:nvSpPr>
        <p:spPr>
          <a:xfrm>
            <a:off x="1116000" y="620640"/>
            <a:ext cx="216000" cy="568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148320 h 5688000"/>
              <a:gd name="textAreaBottom" fmla="*/ 5539680 h 568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5003640" y="404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故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4861080" y="1052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因，缘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4861080" y="1628640"/>
            <a:ext cx="309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因，缘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5651640" y="237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5651640" y="29541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特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1"/>
          <p:cNvSpPr/>
          <p:nvPr/>
        </p:nvSpPr>
        <p:spPr>
          <a:xfrm>
            <a:off x="6084720" y="36752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原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2"/>
          <p:cNvSpPr/>
          <p:nvPr/>
        </p:nvSpPr>
        <p:spPr>
          <a:xfrm>
            <a:off x="6084720" y="4395960"/>
            <a:ext cx="251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老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3"/>
          <p:cNvSpPr/>
          <p:nvPr/>
        </p:nvSpPr>
        <p:spPr>
          <a:xfrm>
            <a:off x="4211640" y="5084640"/>
            <a:ext cx="25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老朋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4"/>
          <p:cNvSpPr/>
          <p:nvPr/>
        </p:nvSpPr>
        <p:spPr>
          <a:xfrm>
            <a:off x="6300720" y="57340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所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58560" y="188640"/>
            <a:ext cx="7561080" cy="645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令召三老豪杰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张楚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因以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焉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呼而转徙</a:t>
            </a:r>
            <a:br>
              <a:rPr sz="4400"/>
            </a:b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佣者笑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曰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河曲智叟无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宜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杀之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79280" y="4583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5"/>
          <p:cNvSpPr/>
          <p:nvPr/>
        </p:nvSpPr>
        <p:spPr>
          <a:xfrm>
            <a:off x="1116000" y="3932280"/>
            <a:ext cx="216000" cy="2521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1268280"/>
            <a:ext cx="936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7"/>
          <p:cNvSpPr/>
          <p:nvPr/>
        </p:nvSpPr>
        <p:spPr>
          <a:xfrm>
            <a:off x="1187280" y="549360"/>
            <a:ext cx="216000" cy="2448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63720 h 2448000"/>
              <a:gd name="textAreaBottom" fmla="*/ 2384280 h 244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5508720" y="29052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号令，命令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5580000" y="981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定国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529272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别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1"/>
          <p:cNvSpPr/>
          <p:nvPr/>
        </p:nvSpPr>
        <p:spPr>
          <a:xfrm>
            <a:off x="5291280" y="2349360"/>
            <a:ext cx="295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大声叫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5292720" y="36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5292720" y="43657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回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5292720" y="5013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5292720" y="5762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响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1" dur="indefinite" restart="never" nodeType="tmRoot">
          <p:childTnLst>
            <p:seq>
              <p:cTn id="792" dur="indefinite" nodeType="mainSeq">
                <p:childTnLst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7" dur="1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4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4" dur="1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5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4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4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1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9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4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1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6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4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0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74148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四、词类活用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23640" y="1125360"/>
            <a:ext cx="867564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失期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法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斩（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狐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鸣呼曰（    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上使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兵（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丹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书帛曰（ 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置人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罾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鱼腹中（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忿恚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尉（                      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435640" y="105264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按照法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427640" y="184464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像狐狸似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076720" y="2708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带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219640" y="34592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丹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5940360" y="4322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网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3780000" y="5114880"/>
            <a:ext cx="302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使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恼怒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2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2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7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2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7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7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96360" y="692280"/>
            <a:ext cx="8496360" cy="518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将军身被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坚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锐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（           ） （           ） </a:t>
            </a: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固以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怪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之矣（           ）</a:t>
            </a:r>
            <a:br>
              <a:rPr sz="5400"/>
            </a:br>
            <a:r>
              <a:rPr b="1" lang="en-US" sz="5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、皆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刑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其长吏（           ）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1187280" y="21621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铁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61080" y="2090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指武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4932360" y="2924280"/>
            <a:ext cx="363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认为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……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怪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5869080" y="381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惩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453384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五、翻译句子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468360" y="1485720"/>
            <a:ext cx="82072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涉少时，尝与人佣耕，辍耕上垄上，怅恨久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114560" y="2889360"/>
            <a:ext cx="785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陈涉年轻时，曾经同别人一道被人家雇佣耕地，（有一次）他停止耕作走到田埂上（休息），因失望而叹恨了好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9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4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发闾左適戍渔阳九百人，屯大泽乡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胜、吴广皆次当行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                                           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116000" y="177336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朝廷征发九百名贫苦百姓去驻守渔阳，临时停驻在大泽乡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7"/>
          <p:cNvSpPr/>
          <p:nvPr/>
        </p:nvSpPr>
        <p:spPr>
          <a:xfrm>
            <a:off x="1258920" y="465300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陈胜、吴广都被编进征发戍边的队伍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0" spc="-1" strike="noStrike">
                <a:solidFill>
                  <a:srgbClr val="ffff00"/>
                </a:solidFill>
                <a:latin typeface="Arial"/>
                <a:ea typeface="华文彩云"/>
              </a:rPr>
              <a:t>随  堂</a:t>
            </a:r>
            <a:br>
              <a:rPr sz="20000"/>
            </a:br>
            <a:r>
              <a:rPr b="1" lang="zh-CN" sz="20000" spc="-1" strike="noStrike">
                <a:solidFill>
                  <a:srgbClr val="ffff00"/>
                </a:solidFill>
                <a:latin typeface="Arial"/>
                <a:ea typeface="华文彩云"/>
              </a:rPr>
              <a:t>巩  固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亡亦死，举大计亦死，等死，死国可乎？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扶苏以数谏故，上使外将兵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1187280" y="1557360"/>
            <a:ext cx="7490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现在逃亡（被抓回来）也是死，发动起义也是死，同样是死，为国事而死好吗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1330200" y="4280040"/>
            <a:ext cx="69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扶苏因为屡次劝戒（秦始皇）的缘故，皇上派他在外面带兵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9" dur="indefinite" restart="never" nodeType="tmRoot">
          <p:childTnLst>
            <p:seq>
              <p:cTn id="1040" dur="indefinite" nodeType="mainSeq">
                <p:childTnLst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诚以吾众诈自称公子扶苏、项燕，为天下唱，宜多应者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此教我先威众耳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1187280" y="1614600"/>
            <a:ext cx="7705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现在果真把我们的人假称是公子扶苏和大将项燕的队伍，倡导天下人反秦，应当有很多响应的人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692360" y="5021280"/>
            <a:ext cx="5975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这是叫我们利用鬼神来威服众人罢了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1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4" dur="5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4000" y="404640"/>
            <a:ext cx="8496000" cy="612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丹书帛曰：“陈胜王”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又间令吴广之次所旁丛祠中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1692360" y="170028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就用丹砂在绸子上写“陈胜王”三个字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1258920" y="4292640"/>
            <a:ext cx="70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（陈胜）又暗中指使吴广到驻地旁的丛林里的神庙中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indefinite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1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0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217440"/>
            <a:ext cx="849600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旦日，卒中往往语，皆指目陈胜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吴广素爱人，士卒多为用者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1187280" y="126828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第二天，士兵中到处谈论（晚上发生的事），都用手指并用眼睛注视着陈胜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1330200" y="466092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吴广一向待人很好，士卒中听从吴广差遣的人很多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1" dur="indefinite" restart="never" nodeType="tmRoot">
          <p:childTnLst>
            <p:seq>
              <p:cTn id="1132" dur="indefinite" nodeType="mainSeq">
                <p:childTnLst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8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7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借第令毋斩，而戍死者固十六七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且壮士不死即已，死即举大名耳，王侯将相宁有种乎！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330200" y="1268280"/>
            <a:ext cx="7489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即使仅能免于斩刑，而戍守边塞的人中本来也有十分之六七的会死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900000" y="4567320"/>
            <a:ext cx="8066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况且大丈夫不死便罢了，要死就要（干大事）成就大的名声啊，王侯将相难道有天生的贵种吗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8" dur="indefinite" restart="never" nodeType="tmRoot">
          <p:childTnLst>
            <p:seq>
              <p:cTn id="1159" dur="indefinite" nodeType="mainSeq">
                <p:childTnLst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5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乃诈称公子扶苏、项燕，从民欲也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5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当此时，诸郡县苦秦吏者，皆刑其长吏，杀之以应陈涉。</a:t>
            </a:r>
            <a:br>
              <a:rPr sz="40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187280" y="1197000"/>
            <a:ext cx="756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于是他们就假称是公子扶苏和项燕的队伍，为的是依从人民的愿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5"/>
          <p:cNvSpPr/>
          <p:nvPr/>
        </p:nvSpPr>
        <p:spPr>
          <a:xfrm>
            <a:off x="1187280" y="4427640"/>
            <a:ext cx="741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在这时候，各郡县苦于秦朝官吏压迫的人都纷纷起来惩罚当地的郡县长官，把他们杀死来响应陈胜的（号召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1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4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604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身被坚执锐，伐无道，诛暴秦，复立楚国之社稷，功宜为王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翻译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4"/>
          <p:cNvSpPr/>
          <p:nvPr/>
        </p:nvSpPr>
        <p:spPr>
          <a:xfrm>
            <a:off x="1042920" y="2744640"/>
            <a:ext cx="7632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将军亲自穿着铁甲，拿着锐利的武器，讨伐昏庸无道的暴君，诛灭凶残暴虐的秦王，重建楚国，论功劳应当称王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5" dur="indefinite" restart="never" nodeType="tmRoot">
          <p:childTnLst>
            <p:seq>
              <p:cTn id="1216" dur="indefinite" nodeType="mainSeq">
                <p:childTnLst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2" fill="hold">
                      <p:stCondLst>
                        <p:cond delay="indefinite"/>
                      </p:stCondLst>
                      <p:childTnLst>
                        <p:par>
                          <p:cTn id="1223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7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6247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六、根据课文内容填空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50560" y="126828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陈涉世家</a:t>
            </a: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节选自</a:t>
            </a:r>
            <a:r>
              <a:rPr b="1" lang="en-US" sz="4000" spc="-1" strike="noStrike" u="sng">
                <a:solidFill>
                  <a:srgbClr val="ffff00"/>
                </a:solidFill>
                <a:uFillTx/>
                <a:latin typeface="Arial"/>
              </a:rPr>
              <a:t>《          》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它是我国第一部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通史，作者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是我国西汉著名的史学家和文学家。鲁迅先生评价这部伟大著作：“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，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表现陈涉年轻时远大抱负的句子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940360" y="11970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史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6"/>
          <p:cNvSpPr/>
          <p:nvPr/>
        </p:nvSpPr>
        <p:spPr>
          <a:xfrm>
            <a:off x="3851280" y="180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纪传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7"/>
          <p:cNvSpPr/>
          <p:nvPr/>
        </p:nvSpPr>
        <p:spPr>
          <a:xfrm>
            <a:off x="466560" y="3603600"/>
            <a:ext cx="7921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史家之绝唱     无韵之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离骚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9"/>
          <p:cNvSpPr/>
          <p:nvPr/>
        </p:nvSpPr>
        <p:spPr>
          <a:xfrm>
            <a:off x="1187280" y="4941720"/>
            <a:ext cx="633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燕雀安知鸿鹄之志哉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"/>
          <p:cNvSpPr/>
          <p:nvPr/>
        </p:nvSpPr>
        <p:spPr>
          <a:xfrm>
            <a:off x="324000" y="2492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司马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1" dur="indefinite" restart="never" nodeType="tmRoot">
          <p:childTnLst>
            <p:seq>
              <p:cTn id="1232" dur="indefinite" nodeType="mainSeq">
                <p:childTnLst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7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8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0" fill="hold">
                      <p:stCondLst>
                        <p:cond delay="indefinite"/>
                      </p:stCondLst>
                      <p:childTnLst>
                        <p:par>
                          <p:cTn id="1241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8" dur="5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7" fill="hold">
                      <p:stCondLst>
                        <p:cond delay="indefinite"/>
                      </p:stCondLst>
                      <p:childTnLst>
                        <p:par>
                          <p:cTn id="1268" fill="hold">
                            <p:stCondLst>
                              <p:cond delay="0"/>
                            </p:stCondLst>
                            <p:childTnLst>
                              <p:par>
                                <p:cTn id="1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1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3" fill="hold">
                      <p:stCondLst>
                        <p:cond delay="indefinite"/>
                      </p:stCondLst>
                      <p:childTnLst>
                        <p:par>
                          <p:cTn id="1274" fill="hold">
                            <p:stCondLst>
                              <p:cond delay="0"/>
                            </p:stCondLst>
                            <p:childTnLst>
                              <p:par>
                                <p:cTn id="1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3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4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5" fill="hold">
                      <p:stCondLst>
                        <p:cond delay="indefinite"/>
                      </p:stCondLst>
                      <p:childTnLst>
                        <p:par>
                          <p:cTn id="1286" fill="hold">
                            <p:stCondLst>
                              <p:cond delay="0"/>
                            </p:stCondLst>
                            <p:childTnLst>
                              <p:par>
                                <p:cTn id="1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9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9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820360" cy="645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陈涉起义的导火线是：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陈涉起义的根本原因是：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、起义的策略是</a:t>
            </a:r>
            <a:r>
              <a:rPr b="1" lang="zh-CN" sz="40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000"/>
            </a:b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1187280" y="1197000"/>
            <a:ext cx="66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天大雨，道不通，度已失期。失期，法皆斩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1403280" y="3027240"/>
            <a:ext cx="482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天下苦秦久矣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1187280" y="4797360"/>
            <a:ext cx="691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今诚以吾众诈自称公子扶苏、项燕，为天下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3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4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7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8" fill="hold">
                      <p:stCondLst>
                        <p:cond delay="indefinite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2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3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8920" y="404280"/>
            <a:ext cx="882036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陈涉起义的威众方式是 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（用两个四字短语回答）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表现陈涉远大志向、蔑视权贵、叛逆性格的句子是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                                                                               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95280" y="1484280"/>
            <a:ext cx="698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篝火狐鸣、置书鱼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971640" y="5330880"/>
            <a:ext cx="59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王侯将相宁有种乎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7" dur="indefinite" restart="never" nodeType="tmRoot">
          <p:childTnLst>
            <p:seq>
              <p:cTn id="1348" dur="indefinite" nodeType="mainSeq">
                <p:childTnLst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5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6" fill="hold">
                      <p:stCondLst>
                        <p:cond delay="indefinite"/>
                      </p:stCondLst>
                      <p:childTnLst>
                        <p:par>
                          <p:cTn id="1357" fill="hold">
                            <p:stCondLst>
                              <p:cond delay="0"/>
                            </p:stCondLst>
                            <p:childTnLst>
                              <p:par>
                                <p:cTn id="13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fill="hold">
                      <p:stCondLst>
                        <p:cond delay="indefinite"/>
                      </p:stCondLst>
                      <p:childTnLst>
                        <p:par>
                          <p:cTn id="1366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2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3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44360" y="188640"/>
            <a:ext cx="874872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、找出下列句中通假字并解释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苟富贵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无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相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身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坚执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为天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唱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同“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”，意思为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755640" y="19890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无           毋                   不要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684360" y="360360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被           披                   披着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755640" y="5229360"/>
            <a:ext cx="741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唱           倡                   倡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53800" y="188640"/>
            <a:ext cx="3957480" cy="86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二、古今异义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94920" y="1125000"/>
            <a:ext cx="8497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今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亦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又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间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令吴广之次所旁丛祠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2627280" y="17002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逃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"/>
          <p:cNvSpPr/>
          <p:nvPr/>
        </p:nvSpPr>
        <p:spPr>
          <a:xfrm>
            <a:off x="2627280" y="2379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死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843280" y="4611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暗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2843280" y="54039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间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49600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楚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怜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卒中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往往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语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将军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身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被坚执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4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2627280" y="7650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爱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627280" y="144288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可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2627280" y="2811600"/>
            <a:ext cx="345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处处、到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692360" y="3570120"/>
            <a:ext cx="669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副词，表示某种情况时常存在或经常发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627280" y="4754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亲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2627280" y="547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身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4000" y="404280"/>
            <a:ext cx="8496000" cy="619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比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至陈</a:t>
            </a:r>
            <a:br>
              <a:rPr sz="44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、号令召三老豪杰与皆来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会计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事</a:t>
            </a:r>
            <a:br>
              <a:rPr sz="44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古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今义：</a:t>
            </a:r>
            <a:r>
              <a:rPr b="1" lang="zh-CN" sz="4800" spc="-1" strike="noStrike" u="sng">
                <a:solidFill>
                  <a:srgbClr val="ffff00"/>
                </a:solidFill>
                <a:uFillTx/>
                <a:latin typeface="Arial"/>
              </a:rPr>
              <a:t>                                  </a:t>
            </a:r>
            <a:r>
              <a:rPr b="1" lang="zh-CN" sz="4800" spc="-1" strike="noStrike">
                <a:solidFill>
                  <a:srgbClr val="ffff00"/>
                </a:solidFill>
                <a:latin typeface="Arial"/>
              </a:rPr>
              <a:t>。</a:t>
            </a:r>
            <a:br>
              <a:rPr sz="48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771640" y="1125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等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43280" y="2019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771640" y="4035600"/>
            <a:ext cx="32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集会商议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987640" y="4797360"/>
            <a:ext cx="273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种职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395748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三、一词多义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30200" y="1196640"/>
            <a:ext cx="4321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尝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人佣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皆来会计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呼尔而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吾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汝毕力平险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君离别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飞鸟相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公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与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之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79280" y="31431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6"/>
          <p:cNvSpPr/>
          <p:nvPr/>
        </p:nvSpPr>
        <p:spPr>
          <a:xfrm>
            <a:off x="1116000" y="1484280"/>
            <a:ext cx="216000" cy="4681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22040 h 4681440"/>
              <a:gd name="textAreaBottom" fmla="*/ 4559400 h 46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4643280" y="11253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16360" y="18748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788000" y="259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给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292720" y="324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4788000" y="400536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4716360" y="472428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一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3"/>
          <p:cNvSpPr/>
          <p:nvPr/>
        </p:nvSpPr>
        <p:spPr>
          <a:xfrm>
            <a:off x="4716360" y="561960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31640" y="404280"/>
            <a:ext cx="5327640" cy="57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辍耕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垄上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怅恨久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燕雀安知鸿鹄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志哉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二世杀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陈胜佐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吴广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次所旁丛祠中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楚人怜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79280" y="278460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5"/>
          <p:cNvSpPr/>
          <p:nvPr/>
        </p:nvSpPr>
        <p:spPr>
          <a:xfrm>
            <a:off x="1042920" y="1125360"/>
            <a:ext cx="216000" cy="4392720"/>
          </a:xfrm>
          <a:custGeom>
            <a:avLst/>
            <a:gdLst>
              <a:gd name="textAreaLeft" fmla="*/ 137880 w 216000"/>
              <a:gd name="textAreaRight" fmla="*/ 216360 w 216000"/>
              <a:gd name="textAreaTop" fmla="*/ 114480 h 4392720"/>
              <a:gd name="textAreaBottom" fmla="*/ 4278240 h 439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4643280" y="836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去、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4500720" y="1484280"/>
            <a:ext cx="367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助词，无实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659640" y="2235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3922560" y="285264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公子扶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211640" y="3645000"/>
            <a:ext cx="345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吴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6516720" y="42926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去、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3922560" y="4971960"/>
            <a:ext cx="302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他，指项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258560" y="404280"/>
            <a:ext cx="756108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激怒其众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扶苏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数谏故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死，或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亡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今诚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吾众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固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怪之矣</a:t>
            </a:r>
            <a:br>
              <a:rPr sz="4400"/>
            </a:b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君之力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固国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山溪之险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得而腊之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为饵</a:t>
            </a:r>
            <a:br>
              <a:rPr sz="4400"/>
            </a:b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物喜，不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以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</a:rPr>
              <a:t>己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179280" y="2997360"/>
            <a:ext cx="93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楷体_GB2312"/>
              </a:rPr>
              <a:t>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5"/>
          <p:cNvSpPr/>
          <p:nvPr/>
        </p:nvSpPr>
        <p:spPr>
          <a:xfrm>
            <a:off x="1116000" y="765000"/>
            <a:ext cx="360360" cy="5616720"/>
          </a:xfrm>
          <a:custGeom>
            <a:avLst/>
            <a:gdLst>
              <a:gd name="textAreaLeft" fmla="*/ 230400 w 360360"/>
              <a:gd name="textAreaRight" fmla="*/ 360720 w 360360"/>
              <a:gd name="textAreaTop" fmla="*/ 146160 h 5616720"/>
              <a:gd name="textAreaBottom" fmla="*/ 5470560 h 561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003640" y="29052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219640" y="105264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6516720" y="180324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认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27640" y="252252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"/>
          <p:cNvSpPr/>
          <p:nvPr/>
        </p:nvSpPr>
        <p:spPr>
          <a:xfrm>
            <a:off x="4427640" y="3171960"/>
            <a:ext cx="3673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同“已”已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3995640" y="386064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凭借，依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975280" y="4581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凭借，依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3"/>
          <p:cNvSpPr/>
          <p:nvPr/>
        </p:nvSpPr>
        <p:spPr>
          <a:xfrm>
            <a:off x="5364000" y="5187960"/>
            <a:ext cx="20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用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4"/>
          <p:cNvSpPr/>
          <p:nvPr/>
        </p:nvSpPr>
        <p:spPr>
          <a:xfrm>
            <a:off x="6372360" y="5835600"/>
            <a:ext cx="201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</a:rPr>
              <a:t>因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23:55:13Z</dcterms:created>
  <dc:creator>yyl</dc:creator>
  <dc:description/>
  <dc:language>en-US</dc:language>
  <cp:lastModifiedBy>user</cp:lastModifiedBy>
  <dcterms:modified xsi:type="dcterms:W3CDTF">2012-02-27T06:27:39Z</dcterms:modified>
  <cp:revision>269</cp:revision>
  <dc:subject/>
  <dc:title>幻灯片 1</dc:title>
</cp:coreProperties>
</file>