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12B-716B-4661-A37B-A958CDF1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6195-0807-4E56-9AB1-76E7BBDF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947-E41C-4363-B7C7-C9D88ABA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AE6-2A91-412F-94A8-D184A3E5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E4F1-DC38-43C5-8392-940EB183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0EB5-EF5B-4506-94D7-C6B878A0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EDA7-A2C9-4D1A-9974-2F6ED1F7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4114-D072-4BB1-B77B-84F6959F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A9C4-E81A-4A3B-9380-8BE36BEB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44C9-2205-4EB6-A39B-07AE0B2E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03C7-7839-4FD2-B5BF-07DFA7FB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60DD-459E-4B87-B5C8-AE146255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7E1F-DA0E-4B9E-91F3-D26E1EF6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1572-A4C0-427D-927B-06575F6F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EFAD-4DA3-47F1-A431-362667D1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78EE-A872-4284-9D51-2585BE87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3CF0-4508-440F-AB39-B1C09039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11E-D999-48F8-99DC-4DC51A57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F53-EA27-4E57-9BBB-9F98ADFA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1904-D705-4F21-82AD-7C86B3D0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33AE-932B-4048-B8E3-60CC73B6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7C2-F18C-4087-8339-A03E50B8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45A9-994C-4C8F-8236-E2EF05C6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67AE-4EDD-4A10-8D6C-3A7A8695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5C04-5E0A-4B03-B8EA-CBFBD2009E7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8AE9-DE3B-4366-9390-0F1901F67AB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1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26&#38472;&#28041;&#19990;&#23478;.wav" TargetMode="External"/><Relationship Id="rId3" Type="http://schemas.microsoft.com/office/2007/relationships/media" Target="file:///tmp/home/.config/libreoffice/4/user/gallery/26&#38472;&#28041;&#19990;&#23478;.wav" TargetMode="External"/><Relationship Id="rId4" Type="http://schemas.openxmlformats.org/officeDocument/2006/relationships/image" Target="../media/image7.png"/><Relationship Id="rId5" Type="http://schemas.openxmlformats.org/officeDocument/2006/relationships/hyperlink" Target="file:///tmp/home/.config/libreoffice/4/user/gallery/26&#38472;&#28041;&#19990;&#23478;.wav" TargetMode="External"/><Relationship Id="rId6" Type="http://schemas.openxmlformats.org/officeDocument/2006/relationships/image" Target="../media/image8.png"/><Relationship Id="rId7" Type="http://schemas.openxmlformats.org/officeDocument/2006/relationships/slide" Target="slide1.xml"/><Relationship Id="rId8" Type="http://schemas.openxmlformats.org/officeDocument/2006/relationships/image" Target="../media/image3.gi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>
            <a:hlinkClick r:id="rId2" action="ppaction://hlinksldjump"/>
          </p:cNvPr>
          <p:cNvPicPr/>
          <p:nvPr/>
        </p:nvPicPr>
        <p:blipFill>
          <a:blip r:embed="rId3"/>
          <a:srcRect l="10426" t="8378" r="6473" b="9722"/>
          <a:stretch/>
        </p:blipFill>
        <p:spPr>
          <a:xfrm rot="1095600">
            <a:off x="6732720" y="404280"/>
            <a:ext cx="2008080" cy="244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39640" y="476280"/>
            <a:ext cx="5977080" cy="1774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853272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66560" y="3499920"/>
            <a:ext cx="216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方正行楷简体"/>
              </a:rPr>
              <a:t>一词多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4299840"/>
            <a:ext cx="216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方正行楷简体"/>
              </a:rPr>
              <a:t>词性活用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4720" y="5163480"/>
            <a:ext cx="21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方正行楷简体"/>
              </a:rPr>
              <a:t>古今词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6027120"/>
            <a:ext cx="165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方正行楷简体"/>
              </a:rPr>
              <a:t>通假字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71640" y="2636280"/>
            <a:ext cx="2016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方正行楷简体"/>
              </a:rPr>
              <a:t>虚词用法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3507840"/>
            <a:ext cx="223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方正行楷简体"/>
              </a:rPr>
              <a:t>段落结构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5120" y="4299840"/>
            <a:ext cx="110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方正行楷简体"/>
              </a:rPr>
              <a:t>小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71640" y="4291920"/>
            <a:ext cx="237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方正行楷简体"/>
              </a:rPr>
              <a:t>结构图示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5157360"/>
            <a:ext cx="1728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方正行楷简体"/>
              </a:rPr>
              <a:t>练习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2059560"/>
            <a:ext cx="19432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文鼎习字体"/>
                <a:ea typeface="文鼎习字体"/>
              </a:rPr>
              <a:t>司马迁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6" action="ppaction://hlinksldjump"/>
          </p:cNvPr>
          <p:cNvSpPr/>
          <p:nvPr/>
        </p:nvSpPr>
        <p:spPr>
          <a:xfrm>
            <a:off x="468360" y="2642760"/>
            <a:ext cx="2376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方正行楷简体"/>
              </a:rPr>
              <a:t>课文朗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2720" y="5955840"/>
            <a:ext cx="1728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方正行楷简体"/>
              </a:rPr>
              <a:t>练习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5157360"/>
            <a:ext cx="237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方正行楷简体"/>
              </a:rPr>
              <a:t>内容理解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71640" y="5949360"/>
            <a:ext cx="237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方正行楷简体"/>
              </a:rPr>
              <a:t>人物分析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3499920"/>
            <a:ext cx="223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方正行楷简体"/>
              </a:rPr>
              <a:t>思路结构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00000" y="33300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通假字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40360" y="5157720"/>
            <a:ext cx="417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被 通“披”，穿着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84440" y="14842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发闾左適戍渔阳九百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8120" y="263700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天下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8280" y="4005360"/>
            <a:ext cx="155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以怪之矣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56800" y="5164200"/>
            <a:ext cx="237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军身被坚执锐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09240" y="1484280"/>
            <a:ext cx="2872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適 通“谪”，贬谪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71640" y="2643120"/>
            <a:ext cx="4321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唱 通“倡”，倡导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4005360"/>
            <a:ext cx="431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 通“已”，已经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>
            <a:hlinkClick r:id="rId2" action="ppaction://hlinksldjump"/>
          </p:cNvPr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7308720" y="6313320"/>
            <a:ext cx="1835280" cy="54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11280" y="3391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虚词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398960"/>
            <a:ext cx="475308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燕雀安知鸿鹄之志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陈胜佐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然足下卜之鬼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辍耕之垄上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1125360"/>
            <a:ext cx="93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48360" y="1779480"/>
            <a:ext cx="2376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助词  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71640" y="2708280"/>
            <a:ext cx="252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代词  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40360" y="3724200"/>
            <a:ext cx="2376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代词  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3640" y="4732200"/>
            <a:ext cx="338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动词  去、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24000" y="1050840"/>
            <a:ext cx="748800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祭以尉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激怒其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乃令符离人葛婴将兵徇蕲以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扶苏以数谏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诚以吾众诈自称公子扶苏、项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以怪之矣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或以为死，或以为亡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00000" y="260280"/>
            <a:ext cx="93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27280" y="1131840"/>
            <a:ext cx="100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59280" y="1844640"/>
            <a:ext cx="865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59640" y="2500200"/>
            <a:ext cx="187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表方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92360" y="3219480"/>
            <a:ext cx="122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因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96360" y="3867120"/>
            <a:ext cx="936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4587840"/>
            <a:ext cx="287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同“已”已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03640" y="5235480"/>
            <a:ext cx="273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为，认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4000" y="1629720"/>
            <a:ext cx="450036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收而攻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佣者笑而应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戍死者固十六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5560" y="73980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84920" y="1916280"/>
            <a:ext cx="2100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表承接  不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30200" y="2852640"/>
            <a:ext cx="1826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表修饰  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13640" y="3716280"/>
            <a:ext cx="2100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表转折  但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>
            <a:hlinkClick r:id="rId2" action="ppaction://hlinksldjump"/>
          </p:cNvPr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7308720" y="6313320"/>
            <a:ext cx="1835280" cy="54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978120"/>
            <a:ext cx="9144000" cy="37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</a:t>
            </a: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下面句子停顿划分不当的一句是（  ）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</a:t>
            </a: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卒／买鱼烹食，得／鱼腹中书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</a:t>
            </a: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且／壮士不死／即已，死即／举大名耳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</a:t>
            </a: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陈守令／皆不在，独守承／与战／谯门中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</a:t>
            </a: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旦日，卒／中往往语，皆指／目陈胜。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37080" y="1125360"/>
            <a:ext cx="511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9640" y="4869000"/>
            <a:ext cx="828036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旦日，卒中／往往语，皆／指目／陈胜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29240" y="7650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逃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13600" y="148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17040" y="213372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08680" y="278136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即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78640" y="3429000"/>
            <a:ext cx="155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分之六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1360" y="4076640"/>
            <a:ext cx="155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坚固的甲衣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1360" y="4797360"/>
            <a:ext cx="155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锐利的武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80320" y="54450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惩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85040" y="602136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苦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-281880"/>
            <a:ext cx="8532720" cy="733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解释下列划线词的意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今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亡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亦死（ 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等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死，死国可乎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  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大楚兴，陈胜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王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  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借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令毋斩（ 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而戍死者固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十六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      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将军身被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坚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执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锐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        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        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皆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刑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其长吏（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天下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苦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秦久矣（       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50920" y="3330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、把下面的文言文翻译成现代汉语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1382760"/>
            <a:ext cx="8550000" cy="33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嗟乎，燕雀安知鸿鹄之志哉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王侯将相宁有种乎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今诚以吾众诈自称公子扶苏、项燕，为天下唱，宜多应者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72280" y="1700280"/>
            <a:ext cx="4844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唉，燕雀怎么知道鸿鹄的凌云壮志呢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12760" y="3068640"/>
            <a:ext cx="4130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侯将相难道是天生的贵种吗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5013360"/>
            <a:ext cx="8424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今假使把我们的人冒充公子扶苏和项燕的队伍，向全国发出号召，应当有很多人来响应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>
            <a:hlinkClick r:id="rId2" action="ppaction://hlinksldjump"/>
          </p:cNvPr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7308720" y="6313320"/>
            <a:ext cx="1835280" cy="54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42920" y="404280"/>
            <a:ext cx="482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归纳各段的大意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693000"/>
            <a:ext cx="2520720" cy="429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段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段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段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14960" y="141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叙述陈胜青年时代的远大抱负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24000" y="2781360"/>
            <a:ext cx="6147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叙述陈胜、吴广谋划起义并为起义作舆论准备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24000" y="4221000"/>
            <a:ext cx="6408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叙述发动起义到建立张楚政权的经过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>
            <a:hlinkClick r:id="rId2" action="ppaction://hlinksldjump"/>
          </p:cNvPr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7308720" y="6313320"/>
            <a:ext cx="1835280" cy="54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71640" y="764640"/>
            <a:ext cx="6697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这场起义的导火线是什么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9640" y="1902600"/>
            <a:ext cx="792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戍卒在开赴渔阳的途中遇雨失期。失期，法皆斩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3428640"/>
            <a:ext cx="7199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这场起义的根本原因是什么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58920" y="4652280"/>
            <a:ext cx="547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下苦秦久矣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39640" y="627840"/>
            <a:ext cx="8064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陈胜认为起义将得到广大人民支持的理由是什么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1852920"/>
            <a:ext cx="8569080" cy="379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秦二世杀太子扶苏篡位，引起人民群众对秦王朝的更大不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⑵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楚人怀念楚将项燕，有强烈的复国愿望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此，陈胜将起义军冒充太子扶苏和项燕的军队，会得到人民群众的支持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7325" t="0" r="2943" b="15979"/>
          <a:stretch/>
        </p:blipFill>
        <p:spPr>
          <a:xfrm>
            <a:off x="395280" y="3284640"/>
            <a:ext cx="2603520" cy="309708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539640" y="724320"/>
            <a:ext cx="8209080" cy="4235760"/>
            <a:chOff x="539640" y="724320"/>
            <a:chExt cx="8209080" cy="4235760"/>
          </a:xfrm>
        </p:grpSpPr>
        <p:sp>
          <p:nvSpPr>
            <p:cNvPr id="101" name=""/>
            <p:cNvSpPr/>
            <p:nvPr/>
          </p:nvSpPr>
          <p:spPr>
            <a:xfrm>
              <a:off x="539640" y="724320"/>
              <a:ext cx="8209080" cy="2104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3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《史记》是我国第一部纪传体史书，记载了从传说中的黄帝到汉武帝长达</a:t>
              </a:r>
              <a:r>
                <a:rPr b="1" lang="zh-CN" sz="33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000</a:t>
              </a:r>
              <a:r>
                <a:rPr b="1" lang="zh-CN" sz="33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年间的历史。全书共</a:t>
              </a:r>
              <a:r>
                <a:rPr b="1" lang="zh-CN" sz="33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30</a:t>
              </a:r>
              <a:r>
                <a:rPr b="1" lang="zh-CN" sz="33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篇，包括本纪（帝王传记）</a:t>
              </a:r>
              <a:r>
                <a:rPr b="1" lang="zh-CN" sz="33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2</a:t>
              </a:r>
              <a:r>
                <a:rPr b="1" lang="zh-CN" sz="33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篇，世家（记诸侯本系）</a:t>
              </a:r>
              <a:r>
                <a:rPr b="1" lang="zh-CN" sz="33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0</a:t>
              </a:r>
              <a:r>
                <a:rPr b="1" lang="zh-CN" sz="33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篇，列传（序列人臣事迹）</a:t>
              </a:r>
              <a:r>
                <a:rPr b="1" lang="zh-CN" sz="33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70</a:t>
              </a:r>
              <a:r>
                <a:rPr b="1" lang="zh-CN" sz="33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篇，年表</a:t>
              </a:r>
              <a:r>
                <a:rPr b="1" lang="zh-CN" sz="33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0</a:t>
              </a:r>
              <a:r>
                <a:rPr b="1" lang="zh-CN" sz="33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篇，书（记经济、天文、历法、礼乐等方面的情况） </a:t>
              </a:r>
              <a:r>
                <a:rPr b="1" lang="zh-CN" sz="33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8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59280" y="4363560"/>
              <a:ext cx="5689440" cy="596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篇，共</a:t>
              </a:r>
              <a:r>
                <a:rPr b="1" lang="zh-CN" sz="33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526500</a:t>
              </a:r>
              <a:r>
                <a:rPr b="1" lang="zh-CN" sz="33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字。 《史记》对历史人物的记叙，语言生动，形象鲜明，在文学史上也极有地位。鲁迅称它为“史家之绝唱，无韵之《离骚》”。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4" action="ppaction://hlinksldjump"/>
          </p:cNvPr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7308720" y="6313320"/>
            <a:ext cx="1835280" cy="54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11280" y="534240"/>
            <a:ext cx="755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陈胜、吴广为起义作了什么样的舆论准备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2230200"/>
            <a:ext cx="8064360" cy="264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将写有“陈胜王”的布条放置鱼腹中，戍卒买鱼烹食，得鱼腹中书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⑵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吴广在驻地旁的丛祠中，狐鸣呼曰：“大楚兴，陈胜王。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79280" y="280800"/>
            <a:ext cx="8353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陈胜、吴广起义的第一步做什么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接着用什么作为动员群众起义的口号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2949480"/>
            <a:ext cx="799128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步，并杀二尉，召令徒属，为坛而盟，祭以尉首。诈称公子扶苏、项燕的队伍，作为起义的口号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258920" y="548640"/>
            <a:ext cx="6408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起义军的进攻路线是怎么样的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1961640"/>
            <a:ext cx="8137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攻大泽乡，收而攻蕲。蕲下，令符离人葛婴将兵徇蕲以东，攻铚、酂、苦、柘、谯，皆下之，攻陈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87280" y="3573000"/>
            <a:ext cx="669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起义军建立了什么农民政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32000" y="4723920"/>
            <a:ext cx="3887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建立了张楚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2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95280" y="2160720"/>
            <a:ext cx="8064360" cy="113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把以上情节串起来，口述这次农民起义的发动和建立政权的过程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>
            <a:hlinkClick r:id="rId2" action="ppaction://hlinksldjump"/>
          </p:cNvPr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7308720" y="6313320"/>
            <a:ext cx="1835280" cy="54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95280" y="273960"/>
            <a:ext cx="835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起义军领袖陈胜是一个什么样的人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从课文中举例说明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92140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年轻时就有远大的抱负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如，他在与人佣耕之时，就有“鸿鹄之志”，希望摆脱受压迫、受奴役的地位，反抗秦王朝的暴虐统治。在適戍渔阳途中，他看到因雨失期而被置于死地的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900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戍卒是一支可依靠的力量，并充分估计到全国人民对秦王朝的愤恨情绪，于是跟吴广商量，确定了“举大计”的方针。他清楚地知道，起义有失败的可能，但又认为“死国”是有价值的，这也是他有远大抱负的表现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24000" y="2876040"/>
            <a:ext cx="8424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有突出的组织领导才干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如，表现在他对起义策略口号“诈自称公子扶苏、项燕”的分析上。当时秦二世靠搞阴谋上台，并且假父命杀了太子扶苏，这就引发了秦王朝的内部矛盾，广大人民对秦王朝也更加不满；其次，在秦灭六国中，楚国受害最深，所以楚国人民反抗情绪极其强烈，并且把复国的希望寄托在楚将项燕身上。陈涉抓住这两个敏感问题，利用百姓不知二人存亡的情况，果断地提出起义策略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11280" y="2511000"/>
            <a:ext cx="7920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如，在起义的准备过程中制造舆论，先以置丹书鱼腹的方式树立陈胜的形象，然后用“狐鸣”而呼，把复兴楚国的希望与陈胜联系在一起，这就掌握了戍卒的心理，进一步巩固了陈胜在群众心目中的地位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50920" y="2372040"/>
            <a:ext cx="856908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如，在起义的发动过程中，关键要先杀死两尉，又要使士兵群众站在自己一边，所以先使吴广“故数言欲亡，忿恚尉”，待到“尉果笞广”，众被激怒，然后动手，这表现了陈胜的机智。杀尉之后，召令徒属，指出他们面临的绝境，揭露秦王朝的苛政，然后用“死即举大名”“王侯将相宁有种”等语来坚定众人的抗争信念，这又表现了陈胜卓越的宣传能力。入陈后，又召集三老、豪杰，请他们出谋划策，更可以看出他是一个成熟的农民运动的领导者和组织者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>
            <a:hlinkClick r:id="rId2" action="ppaction://hlinksldjump"/>
          </p:cNvPr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7308720" y="6313320"/>
            <a:ext cx="1835280" cy="54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44360" y="691920"/>
            <a:ext cx="8820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本文在选材上有详有略，试分析哪些部分写得详，哪些部分写得略，为什么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3560040"/>
            <a:ext cx="8209080" cy="83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全篇来看，详写的是起义的准备和发动的过程，略写的是陈胜少时与人佣耕、起义军的进攻路线、农民政权的建立等。这样有详有略的写来，才能突出的表现陈胜的非凡才略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>
            <a:hlinkClick r:id="rId2" action="ppaction://hlinksldjump"/>
          </p:cNvPr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7308720" y="6313320"/>
            <a:ext cx="1835280" cy="54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68360" y="3033360"/>
            <a:ext cx="8351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本文以陈胜、吴广的活动为线索，以可靠的历史资料为依据，生动的再现了我国历史上第一次农民起义——大泽乡起义的发生、发展过程，鲜明的揭示了它的本质——一场得到广大人民支持的、反对暴力统治的伟大革命运动。文中的主要人物形象是陈胜，作者通过对典型历史环境的描写和人物语言、行动的刻画，塑造出一位栩栩如生的农民革命运动领导者和组织者的光辉形象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89400" y="12384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>
            <a:hlinkClick r:id="rId2" action="ppaction://hlinksldjump"/>
          </p:cNvPr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7308720" y="6313320"/>
            <a:ext cx="1835280" cy="54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9640" y="40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0000" y="836640"/>
            <a:ext cx="5472360" cy="1623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7" action="ppaction://hlinksldjump"/>
          </p:cNvPr>
          <p:cNvPicPr/>
          <p:nvPr/>
        </p:nvPicPr>
        <p:blipFill>
          <a:blip r:embed="rId8">
            <a:lum bright="24000"/>
          </a:blip>
          <a:stretch/>
        </p:blipFill>
        <p:spPr>
          <a:xfrm>
            <a:off x="7308720" y="6313320"/>
            <a:ext cx="1835280" cy="544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1042920" y="2997360"/>
            <a:ext cx="2162160" cy="2990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867280" y="2059560"/>
            <a:ext cx="19432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文鼎习字体"/>
                <a:ea typeface="文鼎习字体"/>
              </a:rPr>
              <a:t>司马迁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-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结构图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280" y="2564280"/>
            <a:ext cx="10080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0200" y="764280"/>
            <a:ext cx="288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出身与抱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067280" y="489600"/>
            <a:ext cx="1441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佣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鸿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30200" y="2419920"/>
            <a:ext cx="252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原因与谋划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67280" y="1843920"/>
            <a:ext cx="180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原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80000" y="1627920"/>
            <a:ext cx="3384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直接：失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根本：苦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67280" y="2923200"/>
            <a:ext cx="1655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谋划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80000" y="2707200"/>
            <a:ext cx="2592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死国可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陈胜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46200" y="4291560"/>
            <a:ext cx="2592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起义经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67280" y="3933000"/>
            <a:ext cx="3960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激  起  夺  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67280" y="4723560"/>
            <a:ext cx="3456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诈称  称大楚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03280" y="5733000"/>
            <a:ext cx="316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声势与政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67280" y="5409360"/>
            <a:ext cx="2663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攻  收  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67280" y="6088680"/>
            <a:ext cx="3527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号为张楚（应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0200" y="1125360"/>
            <a:ext cx="289080" cy="4824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125640 h 4824720"/>
              <a:gd name="textAreaBottom" fmla="*/ 4699080 h 482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95640" y="620640"/>
            <a:ext cx="216000" cy="7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80000" y="170028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580000" y="278136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95640" y="2276640"/>
            <a:ext cx="216000" cy="863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95640" y="414972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95640" y="558972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>
            <a:hlinkClick r:id="rId2" action="ppaction://hlinksldjump"/>
          </p:cNvPr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7308720" y="6313320"/>
            <a:ext cx="1835280" cy="54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95280" y="176040"/>
            <a:ext cx="8354880" cy="116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阅读下面文字，回答问题。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吴广素爱人，士卒多为用者。将尉醉，广故数言欲亡，忿恚尉，令辱之，以激怒其众。尉果笞广。尉剑挺，广起，夺而杀尉。陈胜佐之，并杀两尉。召令徒属曰：“公等遇雨，皆已失期，失期当斩。借第令毋斩，而戍死者固十六七。且壮士不死即已，死即举大名耳，王侯将相宁有种乎！”徒属皆曰：“敬受命。”乃诈称公子扶苏、项燕，从民欲也。袒右，称大楚。为坛而盟，祭以尉首。陈胜自立为将军，吴广为都尉。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9640" y="765000"/>
            <a:ext cx="5904000" cy="448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解释下面划线的词语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广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故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言欲亡（ 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尉果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笞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广（ 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从民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欲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也（ 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忿恚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尉（           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81760" y="1916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故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5400" y="27874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鞭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18120" y="36450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愿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945520" y="4581360"/>
            <a:ext cx="155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使……愤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6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6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6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6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16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6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6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6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16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6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6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6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16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6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6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6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50920" y="620640"/>
            <a:ext cx="856908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翻译下列文言句子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为坛而盟，祭以尉首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借第令毋斩，而戍死者固十六七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1989000"/>
            <a:ext cx="7920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用土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筑台，并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在台上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宣誓，用两尉的头祭天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5640" y="4724280"/>
            <a:ext cx="7458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即使侥幸不被杀头，而戍守边塞的人十个中也得死去六七个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34920" y="620640"/>
            <a:ext cx="820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段文字写的是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8360" y="1628640"/>
            <a:ext cx="8424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陈胜吴广为什么在激怒尉后杀尉，在杀尉之后才召令徒属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表现了陈胜是一个什么样的人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5280" y="3500280"/>
            <a:ext cx="83408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激怒都尉后杀死都尉，使士兵群众能同情自己，站在自己一边。杀尉之后，群龙无首，再召令徒属，晓以利害，揭露暴秦，坚定群众起义的信念，表现陈胜卓越的组织领导的才能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86200" y="627120"/>
            <a:ext cx="3673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起义的发动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>
            <a:hlinkClick r:id="rId2" action="ppaction://hlinksldjump"/>
          </p:cNvPr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7308720" y="6313320"/>
            <a:ext cx="1835280" cy="54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53960" y="115920"/>
            <a:ext cx="8366040" cy="164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思路结构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文章抓住陈胜、吴广的活动为主线，叙述了历史上第一次农民起义这一史实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全文共三段，叙述陈胜青年时代的远大抱负。第二段，叙述陈胜、吴广谋划起义并为起义作舆论准备。本段按起义背景、起义的谋划、陈胜、吴广的“威众”之策可分为三层。第三段，叙述发动起义到建立张楚政权的经过。本段亦可分为三个层次：①起义开始的情形；②起义初期的迅猛发展形势和陈胜立国经过；③概述诸郡县反秦斗争情形，照应“宜多应者”。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>
            <a:hlinkClick r:id="rId2" action="ppaction://hlinksldjump"/>
          </p:cNvPr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7308720" y="6313320"/>
            <a:ext cx="1835280" cy="54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395280" y="1413000"/>
            <a:ext cx="84247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0000"/>
                </a:solidFill>
                <a:latin typeface="Tahoma"/>
                <a:ea typeface="文鼎习字体"/>
              </a:rPr>
              <a:t>重庆七中</a:t>
            </a:r>
            <a:endParaRPr b="0" lang="en-US" sz="1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2000" y="4941720"/>
            <a:ext cx="5689800" cy="116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2003</a:t>
            </a:r>
            <a:r>
              <a:rPr b="0" lang="zh-CN" sz="7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年</a:t>
            </a:r>
            <a:r>
              <a:rPr b="0" lang="zh-CN" sz="7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5</a:t>
            </a:r>
            <a:r>
              <a:rPr b="0" lang="zh-CN" sz="7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月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188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一词多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907920"/>
            <a:ext cx="38894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陈涉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少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吾闻二世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少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子也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2722680"/>
            <a:ext cx="26654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等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遇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等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4522680"/>
            <a:ext cx="35272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扶苏以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数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谏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卒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数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人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7800" y="153828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64320" y="11970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69960" y="191628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9360" y="326556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64320" y="299736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各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72320" y="3716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0640" y="497844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11960" y="472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屡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28520" y="558972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1341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306864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486900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16000" y="4594320"/>
            <a:ext cx="49687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乃丹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书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帛曰“陈胜王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得鱼腹中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书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2349360"/>
            <a:ext cx="590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陈胜、吴广皆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次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又间令吴广之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次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所旁丛祠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201600"/>
            <a:ext cx="39592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吴广以为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然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足下卜之鬼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3800" y="90792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40680" y="476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72320" y="1268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但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8640" y="300348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63040" y="257184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编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90440" y="336384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军队驻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6880" y="522936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73240" y="479736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08680" y="56610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5084640"/>
            <a:ext cx="215640" cy="1150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2781360"/>
            <a:ext cx="215640" cy="1150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692280"/>
            <a:ext cx="215640" cy="1150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>
            <a:hlinkClick r:id="rId2" action="ppaction://hlinksldjump"/>
          </p:cNvPr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7308720" y="6313320"/>
            <a:ext cx="1835280" cy="54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9640" y="-36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词性活用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553680"/>
            <a:ext cx="5113080" cy="489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陈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乃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丹书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帛曰“陈胜王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狐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鸣呼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忿恚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军身披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坚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执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0920" y="620640"/>
            <a:ext cx="4321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，名作动，为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65600" y="1341360"/>
            <a:ext cx="4478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丹，名作状，用丹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2060640"/>
            <a:ext cx="360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，名作动，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3284640"/>
            <a:ext cx="867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狐（鸣），名作状  像狐狸一样（嗥叫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4149720"/>
            <a:ext cx="6480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忿恚，使动用法  使……恼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4797360"/>
            <a:ext cx="565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坚，形作名 指坚固的甲衣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5661000"/>
            <a:ext cx="565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锐，形作名 指锐利的武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>
            <a:hlinkClick r:id="rId2" action="ppaction://hlinksldjump"/>
          </p:cNvPr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7308720" y="6313320"/>
            <a:ext cx="1835280" cy="54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25992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古今词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114560"/>
            <a:ext cx="151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2409840"/>
            <a:ext cx="1729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3778200"/>
            <a:ext cx="1656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5291280"/>
            <a:ext cx="1657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3240" y="1407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0" y="1125360"/>
            <a:ext cx="475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曾经    尝与人佣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1844640"/>
            <a:ext cx="1944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尝一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240" y="278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68360" y="2492280"/>
            <a:ext cx="640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假如，如果  苟富贵，无相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68360" y="3068640"/>
            <a:ext cx="13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苟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3240" y="40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68360" y="3795840"/>
            <a:ext cx="3743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怜爱  楚人怜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68360" y="4437000"/>
            <a:ext cx="144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2520" y="5661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30280" y="5308560"/>
            <a:ext cx="7137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果真 今诚以吾众诈自称公子扶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6021360"/>
            <a:ext cx="151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诚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341360"/>
            <a:ext cx="215640" cy="935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2637000"/>
            <a:ext cx="215640" cy="934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393372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5516640"/>
            <a:ext cx="216000" cy="934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76360" y="2122560"/>
            <a:ext cx="1727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3280" y="3740040"/>
            <a:ext cx="1656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3440" y="5291280"/>
            <a:ext cx="15829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609480"/>
            <a:ext cx="16556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1240" y="915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43280" y="700200"/>
            <a:ext cx="460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本来    固以怪之矣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16360" y="1274760"/>
            <a:ext cx="136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坚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3960" y="2427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往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74800" y="2133720"/>
            <a:ext cx="4273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到处  卒中往往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81280" y="2781360"/>
            <a:ext cx="145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常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4640" y="40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46440" y="3795840"/>
            <a:ext cx="4346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平素  吴广素爱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00360" y="4437000"/>
            <a:ext cx="29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本色、白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4640" y="5667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1640" y="5373720"/>
            <a:ext cx="3745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一共  并杀两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71640" y="6021360"/>
            <a:ext cx="144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并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836640"/>
            <a:ext cx="216000" cy="934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234936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4005360"/>
            <a:ext cx="216000" cy="934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5516640"/>
            <a:ext cx="216000" cy="934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58920" y="2660760"/>
            <a:ext cx="1440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4570560"/>
            <a:ext cx="1584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825480"/>
            <a:ext cx="1405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640" y="1131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00360" y="1492200"/>
            <a:ext cx="511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暂时使用别人的财物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836640"/>
            <a:ext cx="439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即使  借第令毋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3360" y="2997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27280" y="2643120"/>
            <a:ext cx="3816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仅  借第令毋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24040" y="3357720"/>
            <a:ext cx="4900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表次序的词头，第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960" y="4941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会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00360" y="4659480"/>
            <a:ext cx="5759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集会议事  与皆来会计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33160" y="5229360"/>
            <a:ext cx="2100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管理财务的人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1052640"/>
            <a:ext cx="216000" cy="934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28526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7280" y="479736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>
            <a:hlinkClick r:id="rId2" action="ppaction://hlinksldjump"/>
          </p:cNvPr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7308720" y="6313320"/>
            <a:ext cx="1835280" cy="54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2:11:18Z</dcterms:created>
  <dc:creator>MPF</dc:creator>
  <dc:description/>
  <dc:language>en-US</dc:language>
  <cp:lastModifiedBy>MPF</cp:lastModifiedBy>
  <dcterms:modified xsi:type="dcterms:W3CDTF">2003-05-11T06:49:59Z</dcterms:modified>
  <cp:revision>12</cp:revision>
  <dc:subject/>
  <dc:title>幻灯片 1</dc:title>
</cp:coreProperties>
</file>