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32D-16FD-4E9B-A1E0-FCEE3BC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64E-A9BF-489F-8427-CA3BF63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C0D-06A1-4CAB-B7E7-2701DC09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BFA-DA9B-42EE-93EA-7B44631B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BDD-F059-4D53-A7A8-78E157D3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37B-8D20-4755-A030-26471CF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ACB6-D350-4F7B-9676-503C7301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44C1-D36F-4A8F-9351-39DE1FC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295F-D2E9-4C5A-8C76-16EEC02D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BE7C-9B3A-45D6-A9EE-D984B90A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7B0A-4644-4196-8C94-2BC1BB0D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9A2-ACA0-4F2D-86E0-C6918ED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3BE5-0C37-4E35-8F42-A1D831FB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DF7-7395-4CDE-8A17-5E6AC9F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12BE-6D08-43BD-99D2-4059F2A2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75E-DB10-422E-B3B0-C5372B31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EA41-A733-4D24-B243-6D498211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183-A18D-45F6-A29C-9AF178D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DDD-6F0F-468E-AE68-66E3EF8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268-2A11-4BF6-912E-A0EDA12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3AD-83CA-4678-BF3A-2F732172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905-C503-4A9C-987B-013C281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544-A7CF-416D-82B9-2CB1327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681-ACB1-4E8B-AF6F-41BAB05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FE95-6C62-4616-B52F-5D4F4C6F3A0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7D93-58E0-4C08-9689-3EA85F1A752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167652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1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陈涉世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581280"/>
            <a:ext cx="4419720" cy="1219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司 马 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68580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陈胜﹑吴广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乃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曰：“今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亦死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大计亦死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死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死国可乎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？”陈胜曰：“天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苦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秦久矣。吾闻二世少子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不当立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立者乃公子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扶苏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81952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”：于是，就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谋”：商量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亡”：逃走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举”：发动。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计”：重大的谋划，这里指起义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等”：同样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死国可乎？”为国而死，好吗？“死”，为动用法，为……而死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苦”：苦于，为某种事物或境况所苦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也”：表判断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当”：应该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乃”：是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扶苏”：秦始皇的长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扶苏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以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谏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上使外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兵。今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闻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无罪，二世杀之。百姓多闻其贤，未知其死也。项燕为楚将，数有功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爱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士卒，楚人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之。或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为死，或以为亡。今诚以吾众诈自称公子扶苏﹑项燕，为天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唱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多应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者。”吴广以为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1240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”：因为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数”（ｓｈ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ò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：屡次。“故”：原因。“将兵”（ｊ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ｎｇ）：带兵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或”：有人。“闻”：传说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爱”：爱护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怜”：爱戴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以”：认为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为”：是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诚”：如果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以”：把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诈”：假装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为”：作为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唱”：通“倡”，首发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宜”：应当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应”：响应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然”：正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457200"/>
            <a:ext cx="8686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乃行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卜者知其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指意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曰：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足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事皆成，有功。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足下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鬼乎！”陈胜﹑吴广喜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念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鬼，曰：“此教我先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威众耳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”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乃丹书帛曰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陈胜王”，置人所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罾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鱼腹中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81952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乃”：于是，就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行卜”：去占卜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指意”：意图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足下”：对对方的敬称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然”：不过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之”：代足下事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念”：考虑。“威众”：在戍卒中取得威望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耳”：“而已”的合音，罢了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乃丹书帛曰‘陈胜王’”：于是用朱砂在帛上写了“陈胜王”三个字；“丹”，朱砂；“书”，写；“帛”，丝织品；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王”（ｗ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à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ｎｇ），称王，成就王业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罾”：鱼网，这里意为网捕。“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60948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卒买鱼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烹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食，得鱼腹中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书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固以怪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矣。（陈胜）又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间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令吴广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之次所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旁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丛祠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中，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篝火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狐鸣呼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曰“大楚兴，陈胜王”。卒皆夜惊恐。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旦日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卒中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往往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语，皆指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目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陈胜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81952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烹”：煮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书”：字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固”：本来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以”：已经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“怪”：意动用法，以……为怪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之”：代鱼腹中书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间”（ｊ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ｎ）：乘间，暗中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之”：往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次所”：临时驻扎的地方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丛祠”：乡野林间的神祠；“祠”，庙堂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篝火”：笼罩的火；“篝”，竹笼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狐鸣呼”：装成狐狸嗥叫声呼喊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旦日”：明天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往往”：处处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目”：看，注视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吴广素爱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士卒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者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将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醉，广故数言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忿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尉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令辱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以激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其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果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广。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剑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广起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夺而杀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陈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杀两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05740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吴广素爱人”：吴广平素待人仁惠；“素”，平素，一向；“爱”，爱护，加惠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为用”：为其所用，意为愿意给他效力；“用”，效力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将尉”：统率士卒的尉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故”：故意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数”（ｓｈ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屡次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亡”：逃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“忿恚”：使动用法，使……怒恨；“恚”，发怒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令辱之”：使尉责辱他；“之”，代吴广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其众”：那些戍卒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果”：果然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笞”：用鞭、杖、竹板等抽打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剑挺”：剑脱出了鞘；“挺”，脱出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夺而杀尉”：夺过剑杀了尉；“而”，连接的前后是承接关系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佐”：佐助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并”：一起，一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685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召令徒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曰：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等遇雨，皆已失期，失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斩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借第令毋斩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戍死者固十六七。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壮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死即已，死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大名耳，王侯将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种乎！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819520"/>
            <a:ext cx="7620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召令徒属”：召集并号令部下众戍卒；“徒属”，属众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公”：对人的敬称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“当”：应当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借第令毋斩”：即使仅能免于斩首；“借”，即使；“第”，仅，“令”，使；“毋”，不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而”：表示转折，但是，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固”：必定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十六七”：十之六七，十个当中有六七个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壮士”，勇士；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举”，立；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大名”，崇高美好的名声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宁”（ｎ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ì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ｎｇ）：难道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7621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徒属皆曰：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敬受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诈称公子扶苏﹑项燕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从民欲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袒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称大楚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坛而盟，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尉首。陈胜自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立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将军，吴广为都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27672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敬受命”：谨听尊命；“受”，接受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乃”：于是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“从民欲也”：这是依从民众的愿望；“也”，表示解释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袒右”：解上衣露右肩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为”：制，筑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以”：用。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“立”：指即位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为”：作，当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22860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攻大泽乡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收而攻蕲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蕲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令符离人葛婴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兵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徇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蕲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东。攻铚﹑酇﹑苦﹑柘﹑谯皆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之。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行收兵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比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至陈，车六七百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骑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千余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数万人。攻陈，陈守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令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皆不在，独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守丞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与战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谯门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中。弗胜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守丞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死，乃入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据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陈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74320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而攻蕲”：收聚大泽乡起义的人众，攻打蕲县：“收”，取，收纳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下”：攻陷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乃”：于是，就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将”（ｊ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ｎｇ）：率领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徇”：夺取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以”：这里表地域界限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行收兵”：一边行军一边收纳兵员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比”：等到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乘”（ｓ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ｎｇ）：车辆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骑”（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：骑兵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卒”：步兵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守”：郡守。“令”：县令。“守丞”：辅助守令的主要官吏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谯门”：城门洞里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据”：占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808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日，号令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﹑豪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皆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会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事。三老﹑豪杰皆曰：“将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身被坚执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伐无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秦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楚国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社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宜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王。”陈涉乃立为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号为张楚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当此时，诸郡县苦秦吏者，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长吏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杀之以应陈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92248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老”：掌教化，帮助令丞推行政令的助理官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与”：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会”：相会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计”：商量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身”：亲自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被坚执锐”：披坚甲，执利兵；“被”，通假“披”，穿着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伐”：征讨。“无道”：暴虐，没有德政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诛”：讨伐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复”：恢复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立”：建立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社稷”：代国家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宜”：应当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为”：作，当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号”：名称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为”：是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张楚”：意为张大楚国；“张”，大，使张大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刑”：惩罚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杀之以应陈涉”：杀其长吏，以此响应陈涉；“以”：用；“应”，响应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0"/>
            <a:ext cx="8153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朗读第二段，完成下列练习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起义的导火线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．陈胜认为起义将取得人民支持的理由是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①   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_____________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②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_____________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2560" y="91440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去渔阳途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遇雨失期，按法皆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65760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天下苦秦久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5257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扶苏贤而被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世不当立而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1279440"/>
            <a:ext cx="78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司马迁，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方正姚体"/>
                <a:ea typeface="方正姚体"/>
              </a:rPr>
              <a:t>西汉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伟大的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方正姚体"/>
                <a:ea typeface="方正姚体"/>
              </a:rPr>
              <a:t>史学家、文学家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二十岁时游历了长江中下游和山东、河南一带，三十五岁后又一次游历西南地区，尔后继承父职为太史令。后因李陵之祸，惨受宫刑。出狱后任中书令，潜心著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《史记》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其《史记》被誉为“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史家之绝唱，无韵之离骚。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0"/>
            <a:ext cx="4724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司马迁简介</a:t>
            </a:r>
            <a:endParaRPr b="1" i="1" lang="en-US" sz="4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838080"/>
            <a:ext cx="7750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．为起义作的舆论准备是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①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②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．提出的起义口号是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________________________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349360"/>
            <a:ext cx="289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置书鱼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068640"/>
            <a:ext cx="32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篝火狐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5229360"/>
            <a:ext cx="50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自称扶苏、项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2500920"/>
            <a:ext cx="790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仔细阅读陈、吴二人对当时形势的分析和制定策略的文字。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 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__________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句，概括了秦王朝对人民压迫、剥削程度之深，这是起义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根本原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也是可以利用的有利条件。陈涉提出利用封建统治集团内部的矛盾，即</a:t>
            </a:r>
            <a:r>
              <a:rPr b="1" lang="zh-CN" sz="3600" spc="-1" strike="noStrike">
                <a:solidFill>
                  <a:srgbClr val="ffffb7"/>
                </a:solidFill>
                <a:latin typeface="Times New Roman"/>
              </a:rPr>
              <a:t>假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名义，“为天下唱”，以顺应民心，树立起义队伍的威信。他确信，只要义旗一举，“宜多应者”。显示了他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有勇有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94440" y="1600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下苦秦久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87720" y="4365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扶苏、项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7324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辍耕之垄上，怅恨久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燕雀安知鸿鹄之志哉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发闾左谪戍渔阳九百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今亡亦死，举大计亦死，等死，死国可乎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79440" y="2467080"/>
            <a:ext cx="740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停止耕作走往田畔高地休息，因失望而叹恨了好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燕雀怎么知道鸿鹄的志向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燕雀，比喻见识短浅的人。    鸿鹄，比喻有远大抱负的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征发九百个贫苦人民去驻守渔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现在逃亡也是死，起义也是死，同样是死，为国事而死，可以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1760" y="-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扶苏以数谏故，上使外将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今诚以吾众诈自称公子扶苏、项燕，为天下唱，宜多应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乃丹书帛曰“陈胜王”，置人所    鱼腹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固以怪之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514600"/>
            <a:ext cx="748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扶苏因为屡次劝谏的缘故，皇上派他在外面带兵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现在果真把我们的人冒充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公子扶苏、项燕的部下，向天下人倡导，应当有很多响应的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就用丹砂在绸子上写“陈胜王”，放在别人所捕的鱼肚子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本来已经诧怪这件事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11592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本段开头描述了哪三个场面？反映了什么精神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__________”“___________”“__________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5305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本段后半部分主要写了起义后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势如破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大好形势，对“比至陈”的场面描写有何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288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并杀两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16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召令徒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7600" y="98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为坛而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0436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运用一连串数词“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“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“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，形象地展现了起义后的大好形势。至此，陈胜的“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鸿鹄之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变成了现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0" y="2747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圈出一系列动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ubRRectCallout"/>
          <p:cNvSpPr/>
          <p:nvPr/>
        </p:nvSpPr>
        <p:spPr>
          <a:xfrm flipV="1">
            <a:off x="611280" y="1341000"/>
            <a:ext cx="7704000" cy="2232000"/>
          </a:xfrm>
          <a:custGeom>
            <a:avLst/>
            <a:gdLst>
              <a:gd name="textAreaLeft" fmla="*/ 51480 w 7704000"/>
              <a:gd name="textAreaRight" fmla="*/ 7635960 w 7704000"/>
              <a:gd name="textAreaTop" fmla="*/ 15120 h 2232000"/>
              <a:gd name="textAreaBottom" fmla="*/ 1767960 h 2232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现了陈胜、吴广的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机智勇敢和反抗斗争精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这三个场面，体现了陈胜、吴广把起义运动计划得十分周密，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很有谋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借第令勿斩，固死者十六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且壮士不死即已，死即举大名耳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王侯将相宁有种乎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身被坚执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30733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即使仅能免于斩刑，驻守边疆而死的占十分之六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况且，英雄好汉不死便罢，死就要发动大事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王侯将相难道有天生的贵种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亲身穿着战甲，拿着武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43240" y="69228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找出文中陈胜富有个性化的语言，然后分析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体现了人物怎样的性格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438280"/>
            <a:ext cx="790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苟富贵，无相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燕雀安知鸿鹄之志哉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今亡亦死，举大计亦死，等死，死国可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且壮士不死即已，死即举大名耳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王侯将相宁有种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天下苦秦久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ubRRectCallout"/>
          <p:cNvSpPr/>
          <p:nvPr/>
        </p:nvSpPr>
        <p:spPr>
          <a:xfrm flipH="1">
            <a:off x="2056680" y="0"/>
            <a:ext cx="3313080" cy="2736720"/>
          </a:xfrm>
          <a:custGeom>
            <a:avLst/>
            <a:gdLst>
              <a:gd name="textAreaLeft" fmla="*/ 21960 w 3313080"/>
              <a:gd name="textAreaRight" fmla="*/ 3283920 w 3313080"/>
              <a:gd name="textAreaTop" fmla="*/ 18360 h 2736720"/>
              <a:gd name="textAreaBottom" fmla="*/ 2167560 h 2736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要求摆脱贫困，不甘于安贫守命的反抗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ubRRectCallout"/>
          <p:cNvSpPr/>
          <p:nvPr/>
        </p:nvSpPr>
        <p:spPr>
          <a:xfrm flipH="1">
            <a:off x="2056680" y="2057400"/>
            <a:ext cx="3313080" cy="1324080"/>
          </a:xfrm>
          <a:custGeom>
            <a:avLst/>
            <a:gdLst>
              <a:gd name="textAreaLeft" fmla="*/ 21960 w 3313080"/>
              <a:gd name="textAreaRight" fmla="*/ 3283920 w 3313080"/>
              <a:gd name="textAreaTop" fmla="*/ 8640 h 1324080"/>
              <a:gd name="textAreaBottom" fmla="*/ 1048680 h 1324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陈涉少有雄心壮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ubRRectCallout"/>
          <p:cNvSpPr/>
          <p:nvPr/>
        </p:nvSpPr>
        <p:spPr>
          <a:xfrm flipH="1">
            <a:off x="3058560" y="2924280"/>
            <a:ext cx="3313080" cy="720720"/>
          </a:xfrm>
          <a:custGeom>
            <a:avLst/>
            <a:gdLst>
              <a:gd name="textAreaLeft" fmla="*/ 21960 w 3313080"/>
              <a:gd name="textAreaRight" fmla="*/ 3283920 w 3313080"/>
              <a:gd name="textAreaTop" fmla="*/ 4680 h 720720"/>
              <a:gd name="textAreaBottom" fmla="*/ 570960 h 720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具有强烈的斗争决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ubRRectCallout"/>
          <p:cNvSpPr/>
          <p:nvPr/>
        </p:nvSpPr>
        <p:spPr>
          <a:xfrm flipH="1">
            <a:off x="2057400" y="1905120"/>
            <a:ext cx="4968720" cy="2736720"/>
          </a:xfrm>
          <a:custGeom>
            <a:avLst/>
            <a:gdLst>
              <a:gd name="textAreaLeft" fmla="*/ 33120 w 4968720"/>
              <a:gd name="textAreaRight" fmla="*/ 4924800 w 4968720"/>
              <a:gd name="textAreaTop" fmla="*/ 18360 h 2736720"/>
              <a:gd name="textAreaBottom" fmla="*/ 2167560 h 2736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既显示陈涉的抱负、反抗决心和叛逆性格，又具有号召力和鼓动性。表现其卓越的领导才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ubRRectCallout"/>
          <p:cNvSpPr/>
          <p:nvPr/>
        </p:nvSpPr>
        <p:spPr>
          <a:xfrm flipH="1">
            <a:off x="2056680" y="3962520"/>
            <a:ext cx="3313080" cy="1152360"/>
          </a:xfrm>
          <a:custGeom>
            <a:avLst/>
            <a:gdLst>
              <a:gd name="textAreaLeft" fmla="*/ 21960 w 3313080"/>
              <a:gd name="textAreaRight" fmla="*/ 3283920 w 3313080"/>
              <a:gd name="textAreaTop" fmla="*/ 7560 h 1152360"/>
              <a:gd name="textAreaBottom" fmla="*/ 912600 h 115236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具有敏锐的洞察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0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0"/>
            <a:ext cx="79246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熟读课文，并用课文原话回答问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．陈胜、吴广发动起义的直接原因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＿＿＿＿＿＿＿＿＿＿＿＿＿＿＿＿＿＿＿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．农民起义的根本原因是：＿＿＿＿＿＿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．陈胜为起义制定的策略是：＿＿＿＿＿＿＿＿＿＿＿＿＿＿＿＿＿＿＿＿＿＿＿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．陈胜在发动起义前所做的“威众”准备是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这样做的效果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．陈胜在动员起义时，最具有鼓舞性，气魄雄伟、扣人心弦的一句话是：＿＿＿＿＿＿＿＿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会天大雨，道不通，度已失期。失期，法皆斩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19162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下苦秦久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2924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诈自称公子扶苏、项燕，为天下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5950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王侯将相宁有种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4191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86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鱼腹藏书，篝火狐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4437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卒皆夜惊恐。旦日，卒中往往语，皆指目陈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1746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99"/>
                </a:solidFill>
                <a:uFillTx/>
                <a:latin typeface="方正姚体"/>
                <a:ea typeface="方正姚体"/>
              </a:rPr>
              <a:t>通过对话描写来刻画人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全文共写了三次话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一段陈胜与同伴们的对话，表现了他</a:t>
            </a:r>
            <a:r>
              <a:rPr b="1" i="1" lang="zh-CN" sz="3600" spc="-1" strike="noStrike" u="sng">
                <a:solidFill>
                  <a:srgbClr val="000099"/>
                </a:solidFill>
                <a:uFillTx/>
                <a:latin typeface="方正姚体"/>
                <a:ea typeface="方正姚体"/>
              </a:rPr>
              <a:t>远大的志向和反抗意识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二段陈胜同吴广的对话，反映了他们</a:t>
            </a:r>
            <a:r>
              <a:rPr b="1" i="1" lang="zh-CN" sz="3600" spc="-1" strike="noStrike" u="sng">
                <a:solidFill>
                  <a:srgbClr val="000099"/>
                </a:solidFill>
                <a:uFillTx/>
                <a:latin typeface="方正姚体"/>
                <a:ea typeface="方正姚体"/>
              </a:rPr>
              <a:t>善于斗争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的智慧和才能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三段陈胜同戍卒的对话，表现出陈胜</a:t>
            </a:r>
            <a:r>
              <a:rPr b="1" i="1" lang="zh-CN" sz="3600" spc="-1" strike="noStrike" u="sng">
                <a:solidFill>
                  <a:srgbClr val="000099"/>
                </a:solidFill>
                <a:uFillTx/>
                <a:latin typeface="方正姚体"/>
                <a:ea typeface="方正姚体"/>
              </a:rPr>
              <a:t>反抗阶级压迫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的英雄气概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）根据人物不同身分和处境，写出对话的语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19320" y="60948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通  假  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①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发闾左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谪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戍渔阳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適，通“谪”，因获罪被发配到很远的地方。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②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为天下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唱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唱，通“倡”，倡导。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③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固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怪之矣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以，通“已”，已经。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④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被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坚执锐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被，通“披”。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《史记》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原名《太史公书》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是我国第一部通史，开创了纪体和书表的编写体例。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全书一百三十篇，包括十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本纪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记历代帝王政迹）、八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书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记各种典章制度）、</a:t>
            </a: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表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记大事年月）、三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世家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记侯国兴亡）、七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列传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记重要历史人物的言行事功）五个部分，共五十二万字。记载了从</a:t>
            </a: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黄帝到汉武帝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时长达三千年的政治、经济和文化的历史，比较全面而深刻地反映了我国古代的社会面貌，对后世史学研究有深远影响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715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姚体"/>
              </a:rPr>
              <a:t>鲁迅誉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  <a:ea typeface="方正姚体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方正姚体"/>
              </a:rPr>
              <a:t>史家之绝唱，无韵之离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方正姚体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380880"/>
            <a:ext cx="7391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词类活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、天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苦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秦久矣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苦，形容词用作动词，是“以……为苦”，即是“认为……苦”的意思。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②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、卒中往往语，皆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目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陈胜。 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，名词用作动词，是“使眼色”的意思。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③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忿恚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尉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忿恚，形容词用作动词，是“使……忿恚”的意思。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95360" y="334800"/>
            <a:ext cx="8153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古今异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①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、今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亡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亦死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亡，古义：逃亡。今义：死亡。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②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、又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间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令吴广之次所旁丛祠中  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间，古义：暗地。今义：中间。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　③、卒中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往往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语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往往，古义：到处。义：表示某种情况时常存在或经常发生。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58320" y="685800"/>
            <a:ext cx="1277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会          将         乃            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133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4290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54100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2860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天大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皆来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计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828800"/>
            <a:ext cx="4190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项燕为楚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使外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42900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陈胜吴广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谋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当立者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扶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皆次当行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屯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天下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228600"/>
            <a:ext cx="4419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恰逢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聚集，聚会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19051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领，大将，名词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率领，带兵，动词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4290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，就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25780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做，当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给，替，介词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495360"/>
            <a:ext cx="671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" y="914400"/>
            <a:ext cx="1155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故           道             令           数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6094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4864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049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广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言欲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扶苏以数谏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205740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伐无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73392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乃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离人葛婴将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守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皆不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5334120"/>
            <a:ext cx="4496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谏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卒</a:t>
            </a:r>
            <a:r>
              <a:rPr b="1" lang="zh-CN" sz="3200" spc="-1" strike="noStrike" u="sng">
                <a:solidFill>
                  <a:srgbClr val="ffffb7"/>
                </a:solidFill>
                <a:uFillTx/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04920"/>
            <a:ext cx="5410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意，副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　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缘故，名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205740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道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封建社会所认为好的政治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县令，官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541008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几，数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8000" y="1447920"/>
            <a:ext cx="667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　间　顺　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1600200"/>
            <a:ext cx="0" cy="38098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1447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谋划起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9072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685800"/>
            <a:ext cx="3047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义背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谋划起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威众之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41911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发动起义建立政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9625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429000"/>
            <a:ext cx="25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733920"/>
            <a:ext cx="4724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发动起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义迅猛发展，并立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地反秦斗争激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457200"/>
            <a:ext cx="2057400" cy="642600"/>
          </a:xfrm>
          <a:prstGeom prst="rect">
            <a:avLst/>
          </a:prstGeom>
          <a:solidFill>
            <a:srgbClr val="99ff66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总结全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13372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谋划起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18148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发动起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138600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原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1600200"/>
            <a:ext cx="246240" cy="1981080"/>
          </a:xfrm>
          <a:custGeom>
            <a:avLst/>
            <a:gdLst>
              <a:gd name="textAreaLeft" fmla="*/ 157320 w 246240"/>
              <a:gd name="textAreaRight" fmla="*/ 246600 w 246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219320"/>
            <a:ext cx="246240" cy="838080"/>
          </a:xfrm>
          <a:custGeom>
            <a:avLst/>
            <a:gdLst>
              <a:gd name="textAreaLeft" fmla="*/ 157320 w 246240"/>
              <a:gd name="textAreaRight" fmla="*/ 246600 w 246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54560" y="990720"/>
            <a:ext cx="903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直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根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0320" y="99072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失期，法皆斩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40320" y="161460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天下苦秦久矣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2286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诈自称公子扶苏、项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3048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54560" y="281952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鱼腹藏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54560" y="34434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篝火狐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343400"/>
            <a:ext cx="246240" cy="1981080"/>
          </a:xfrm>
          <a:custGeom>
            <a:avLst/>
            <a:gdLst>
              <a:gd name="textAreaLeft" fmla="*/ 157320 w 246240"/>
              <a:gd name="textAreaRight" fmla="*/ 246600 w 246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205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b7"/>
                </a:solidFill>
                <a:latin typeface="Times New Roman"/>
                <a:ea typeface="黑体"/>
              </a:rPr>
              <a:t>起义开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534816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b7"/>
                </a:solidFill>
                <a:latin typeface="Times New Roman"/>
                <a:ea typeface="黑体"/>
              </a:rPr>
              <a:t>起义初期的迅猛发展和陈胜立国的经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586728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概述此后诸郡县反秦斗争的情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191120"/>
            <a:ext cx="163440" cy="914400"/>
          </a:xfrm>
          <a:custGeom>
            <a:avLst/>
            <a:gdLst>
              <a:gd name="textAreaLeft" fmla="*/ 104400 w 163440"/>
              <a:gd name="textAreaRight" fmla="*/ 163800 w 163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82920" y="39625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并杀两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2920" y="4419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召令徒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82920" y="489096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为坛而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5368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策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5368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舆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80880" y="2362320"/>
            <a:ext cx="7086600" cy="3796920"/>
            <a:chOff x="380880" y="2362320"/>
            <a:chExt cx="7086600" cy="3796920"/>
          </a:xfrm>
        </p:grpSpPr>
        <p:sp>
          <p:nvSpPr>
            <p:cNvPr id="248" name=""/>
            <p:cNvSpPr/>
            <p:nvPr/>
          </p:nvSpPr>
          <p:spPr>
            <a:xfrm>
              <a:off x="380880" y="2362320"/>
              <a:ext cx="7086600" cy="37969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陈涉由蕲西进至陈的线路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3600" y="4419720"/>
              <a:ext cx="609480" cy="609480"/>
            </a:xfrm>
            <a:custGeom>
              <a:avLst/>
              <a:gdLst>
                <a:gd name="textAreaLeft" fmla="*/ 246600 w 609480"/>
                <a:gd name="textAreaRight" fmla="*/ 362880 w 609480"/>
                <a:gd name="textAreaTop" fmla="*/ 246600 h 609480"/>
                <a:gd name="textAreaBottom" fmla="*/ 3628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742" y="8742"/>
                  </a:lnTo>
                  <a:lnTo>
                    <a:pt x="10800" y="0"/>
                  </a:lnTo>
                  <a:lnTo>
                    <a:pt x="12858" y="8742"/>
                  </a:lnTo>
                  <a:lnTo>
                    <a:pt x="21600" y="10800"/>
                  </a:lnTo>
                  <a:lnTo>
                    <a:pt x="12858" y="12858"/>
                  </a:lnTo>
                  <a:lnTo>
                    <a:pt x="10800" y="21600"/>
                  </a:lnTo>
                  <a:lnTo>
                    <a:pt x="8742" y="1285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5000" y="4876920"/>
              <a:ext cx="304920" cy="304560"/>
            </a:xfrm>
            <a:prstGeom prst="octagon">
              <a:avLst>
                <a:gd name="adj" fmla="val 2928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386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105160" y="4876560"/>
              <a:ext cx="609480" cy="1522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76920" y="4495680"/>
              <a:ext cx="304560" cy="3812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铚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4267080" y="4190760"/>
              <a:ext cx="609840" cy="6094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384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252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276720" y="4114800"/>
              <a:ext cx="761760" cy="1522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48120" y="4114800"/>
              <a:ext cx="228600" cy="304920"/>
            </a:xfrm>
            <a:prstGeom prst="donut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952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133720" y="4267080"/>
              <a:ext cx="838080" cy="7632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5120" y="4114800"/>
              <a:ext cx="228600" cy="30492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3880" y="41911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1371600" y="3276720"/>
              <a:ext cx="533520" cy="8380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300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38080" y="3429000"/>
              <a:ext cx="457200" cy="8380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4191120"/>
              <a:ext cx="381240" cy="38088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4267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大泽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943240" y="4724280"/>
              <a:ext cx="304920" cy="2286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3436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课堂讨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590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陈胜、吴广起义的原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304812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直接原因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213372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失期，法皆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3581280"/>
            <a:ext cx="25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根本原因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581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天下苦秦久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2193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陈胜、吴广在什么情况下起义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67652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会天大雨，道不通，度已失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2133720"/>
            <a:ext cx="25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起义背景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1240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失期，法皆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191120"/>
            <a:ext cx="84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陈胜认为起义会受到人民支持的理由有哪些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72428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秦二世杀太子扶苏，引起人民不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25780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楚人怀念楚将项燕，有强烈的复国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466920" cy="466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280" y="4191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作者（          ），字（        ），（       ）朝（            ）家（              ）家。他用毕生精力著成了我国第一部（             ）体通史，全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3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篇。后人把这部书称为《                    》。鲁迅誉为“                  。                         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9000" y="55627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4572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文学常识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1523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司马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1600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子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2209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2209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史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2743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文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4419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史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纪传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50292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史家之绝唱，无韵之离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2286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读准下列字音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0"/>
            <a:ext cx="8305920" cy="63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阳夏（         ）   辍耕（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垄上（          ）       怅恨（         ）   苟富贵（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相忘（         ）    嗟乎（         ）   鸿鹄（ 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闾左（          ）       谪戍（          ）  当行（  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度已失期（         ）数谏故（        ）为天下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乃行卜（          ）   陈胜王（        ）罾（ 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烹食（           ）      间令（          ）  篝火（ 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忿恚（               ） 笞（          ）       蕲（  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符离（          ）      徇（          ）       柘（        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谯（         ）   六七百乘（         ）    被坚执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iǎ                         chu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ǒng                       chàng                    gǒ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iē                          h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  zhé                    há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uó                   shuò                         chā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ǔ                             wàng             zē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ēng                     jiàn                         gō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uì                      chī                         q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ú                         xùn                      zh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qiáo                            shèng                       p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陈涉世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成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燕雀安知鸿鹄之志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燕雀哪里知道鸿鹄的志向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喻平庸的人不能了解杰出人物的远大抱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被（披）坚执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穿着战甲，拿着武器。  形容亲自战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90720" y="917640"/>
            <a:ext cx="7886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①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②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怅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恨久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③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富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④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鸿鹄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之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⑤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適戌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渔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⑥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皆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次当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⑦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已失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⑧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天下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唱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28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解释下面红色的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838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chuò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停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失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1981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如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25146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hú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鸿鹊，天鹅，比喻有远大抱负的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581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zhé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適，通“谪”。適戍，强迫去守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次，编次。行，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háng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。当行，当在征发之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duó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推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62784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唱，通“倡”，倡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14400" y="0"/>
            <a:ext cx="84582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⑨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罾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鱼腹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⑩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间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1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素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2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笞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广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3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借第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令毋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4]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袒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5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收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而攻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6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徇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蕲以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7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至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8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人佣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zēng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鱼网，这里用作动词，就是用网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1066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jiàn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秘密地，悄悄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15238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向来，一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2209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chī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竹板，这里是用竹板打的意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借，即使。第，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34290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tǎn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脱去上衣，露出身体的一部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343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收集、收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3392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xùn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带兵巡行占领地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53341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及，等到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5943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和，跟，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38080" y="380880"/>
            <a:ext cx="8001000" cy="66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19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太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[20]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闾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[21] 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威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[22]  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忿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[23]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社稷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[24]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被坚执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[25]  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陈胜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长叹。注意：“太”、“泰”、“大”三个字在古代常常通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1523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lü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里巷的大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1981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震慑，使……害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2514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huì</a:t>
            </a: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恼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jì</a:t>
            </a: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谷神。社，土地神。社稷，国家的代称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41148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被，通“披”。坚，指铁甲。执，拿着。锐，指武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6019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wàng</a:t>
            </a: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，称王，统治天下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04920"/>
            <a:ext cx="876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陈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阳城人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字涉。吴广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阳夏人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字叔。陈涉少时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与人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佣耕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辍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耕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垄上，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怅恨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久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曰：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苟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富贵，无相忘。”佣者笑而应曰：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为佣耕，何富贵也？”陈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太息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曰：“嗟乎，燕雀安知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鸿鹄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之志哉！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6370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者……也”：表判断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少”：年轻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尝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曾经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佣”，被雇佣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辍”：停止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之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往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垄”：田埂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怅恨”：失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叹恨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之”：助词，调整音节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苟”：如果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若”：你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何富贵也”：哪里谈得上富贵啊？“也”，表反诘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太息”：长叹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安”：怎么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鸿鹄”：天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喻有远大抱负的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0"/>
            <a:ext cx="655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思考回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段是从哪几个方面来写陈胜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什么先写这段？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7524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一段依史传体例开头从姓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籍贯、表字身世、志向等方面来介绍陈胜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1)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人佣耕”，表明陈胜是个被剥削受压迫的穷苦农民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2)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怅恨久之”，说明他对所处的贫困地位的不满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3)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苟富贵，无相忘”，表达出他有福同享的思想意识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4)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燕雀安知鸿鹄之志哉”，用形象的比喻说明了他的远大志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34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 先写这段主要是表明陈胜后来发动起义并非偶然，早有其思想根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228600"/>
            <a:ext cx="84582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按事件发展过程，分三部分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　第一部分（第一段）叙述陈涉年轻时的佣耕生活，表现了他胸怀大志，有反抗精神。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　第二部分（第二段）写起义的筹划过程，表现了陈胜、吴广的斗争决心和政治远见。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　第三部分（第三段）写陈胜、吴广发动起义，胜利进军及建立政权的经过，昭示了农民起义的伟大力量和历史意义。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42080" y="53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朗读第一段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257800"/>
            <a:ext cx="58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以后领导起义作伏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733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段叙述了陈胜青年时代的远大抱负，有什么作用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733200" y="53352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5573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一节运用了什么描写方法来塑造人物形象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7760" y="27432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言、动作、神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380880"/>
            <a:ext cx="74678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二世元年七月，发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闾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適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戍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渔阳，九百人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屯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大泽乡。陈胜﹑吴广皆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次当行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为屯长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会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天大雨，道不通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度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已失期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失期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，法皆斩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19520"/>
            <a:ext cx="807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发”：征发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闾左”：秦代居里门左侧的平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贫苦人民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適”：通“谪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適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迫去守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屯”：停驻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次”：编次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当行”：当在征发之列；“行”（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ｎｇ），行列，古代军制二十五人为一行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为”：担任，当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会”：适逢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度”（ｄ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：估计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失期”：误期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7:03:49Z</dcterms:created>
  <dc:creator>章永华</dc:creator>
  <dc:description/>
  <dc:language>en-US</dc:language>
  <cp:lastModifiedBy>kgfgrgd</cp:lastModifiedBy>
  <dcterms:modified xsi:type="dcterms:W3CDTF">2011-08-14T08:54:39Z</dcterms:modified>
  <cp:revision>33</cp:revision>
  <dc:subject/>
  <dc:title>PowerPoint 演示文稿</dc:title>
</cp:coreProperties>
</file>