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D136-DD31-41E4-BE72-62F7FA711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B642-A885-45B2-8EAE-B0E493279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098D-217E-49EE-BA44-C8DC5BE5B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EA8B-80CB-4581-B6DD-D03669CC2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BA742-E50E-4C1E-9986-8DDA2EBF6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074B7-A508-4380-A623-2486146D5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0CDE0-7C46-40D4-ABB6-93A2B6CB4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8F581-6F63-417E-AC5E-5EBA8C403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A93F0-A537-4FE3-AAB8-733DCF0CC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009A1-2D14-4365-890A-6E00900FB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B08C9-93DC-4008-9383-B8DFEF0F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E0D0-744E-4737-9241-81E9EE4B2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CCB63-39CF-4C9D-8F33-759E8042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78263-9019-4515-B72E-A5313D20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9F384-26AF-4F40-B014-CC39969E7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84B51-8B88-46E8-8288-A280FCC87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172AC-24F1-4743-A817-396036CF3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F7DA-F826-44C7-88C0-B42C3812E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B5505-7948-43A0-82EB-00D7AE4D7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CD4F8-04A7-42DE-9841-00B891509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2CDBA-8769-46B0-8959-D5FEA2D58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BC65-DDE8-444F-8BDB-1E935F5DE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CACCA-E240-4932-8456-31F2A5AD1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53D21-58FA-4983-967A-2C3FFF5D9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EE83B-9B60-418B-B800-FFC0A3565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31A38-804F-4391-B4E2-B4D7B275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1974F-686A-4609-8DDC-93EC7C2A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BBAEB-C9CD-4750-B2DB-A3B38396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C1B05-5E5B-4583-9BFE-B682DDE5D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B3BCB-2447-4614-8DD3-369173A05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E1302-8A2A-4ACC-AC90-E23D3579F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3F8AF-8652-43C4-8D6F-457B50D7F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0F43-49D0-45D0-878E-93540FF1F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13186-759D-43B6-8EC1-86CAC9EF2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1CD93-8C1C-4A45-B25F-F911705B4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91424-E981-44E3-A354-AF983139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CBC10-DC44-438D-BC9D-0B0435E7B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BB09A-DD0E-4191-B031-9104E90B6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3DCFA-495B-4EBB-8F06-CA78FEE3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24D73-BD0E-4A4E-8500-61C347BE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4F96F-E1EF-4F12-815F-D6A90083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A9418-A262-4DC4-8BBD-62AE7D78E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92A36-383B-4C73-B58E-3F4E6684A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784E-3036-48A3-9724-5BA32D332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F26B7-D0B4-48DA-A4ED-FB3D73436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442A1-04CF-4D42-B415-6EB1A9BF5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8325D-4F77-4868-88DE-AF754853E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808C5-D990-47AE-9E75-F7AE11D3E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6AD83-AA98-4CFD-803A-1CCFD064F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8933A-3072-43A0-85F4-60DDA8375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8454D-0032-4B6A-9EA2-FC2A80CF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E5060-113E-488C-955B-CCBC5CF7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1A871-4466-4015-8B25-AB0C512B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E0AED-2A46-45CC-B28C-52A5511F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BB31-0608-4CE2-AE41-C9A82A36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8C40D-2AA5-45AB-AF3B-0D2A999C9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DF97C-7B70-41D8-8C21-C3887BE73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F2391-CE00-4D31-82CA-7474FDD66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3DEE2-BDEF-4769-97DF-3039898EE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B3873-43CA-4469-9323-24A40428F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55290-886A-4A9B-B86A-CA700D44F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83554-4863-49DE-A756-4D7419730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FAC1E7-C141-45B7-A13D-39B44A93A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64AE8C-1366-49FB-9566-B5B3A7822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8F01D-EE1D-4531-A0D5-8AC3C18D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A918-200B-4433-9A94-D37A7D45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87473-254A-4EA6-98D2-6121F771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81D455-F5B4-41F9-A937-FC5209B8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81177-9F5E-4715-9AD4-6767C04AF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7F0A5D-4D5A-42B2-B4B0-8309D808B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FC255-D778-4F5A-B1C5-813E6431E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C369-35D4-4898-A22F-DC8F6270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0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1f0f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1f0f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1f0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1f0f2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1f0f2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f1f0f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1f0f2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1f0f2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f1f0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1f0f2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1f0f2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f1f0f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1f0f2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1f0f2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f1f0f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1f0f2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1f0f2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5955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1f0f2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1f0f2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5955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1f0f2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1f0f2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1f0f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1f0f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1f0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F7113-54E8-485D-BD7C-6F22729444D5}" type="slidenum">
              <a:rPr b="0" lang="en-US" sz="1200" spc="-1" strike="noStrike">
                <a:solidFill>
                  <a:srgbClr val="f1f0f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54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595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54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5955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54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595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54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5955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54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5955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54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54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54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5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54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5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CD9BC-79C7-4C63-8F80-5AB136EE821D}" type="slidenum">
              <a:rPr b="0" lang="en-US" sz="1200" spc="-1" strike="noStrike">
                <a:solidFill>
                  <a:srgbClr val="5955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1f0f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1f0f2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1f0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1f0f2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1f0f2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f1f0f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1f0f2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1f0f2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f1f0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1f0f2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1f0f2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f1f0f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1f0f2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1f0f2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f1f0f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1f0f2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1f0f2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5955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1f0f2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1f0f2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5955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1f0f2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1f0f2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54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595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54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5955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54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595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54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5955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54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5955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54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54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54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5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54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5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8F36A-008C-4E97-8910-1E5C1299414B}" type="slidenum">
              <a:rPr b="0" lang="en-US" sz="1200" spc="-1" strike="noStrike">
                <a:solidFill>
                  <a:srgbClr val="5955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54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595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54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5955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54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595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54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5955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54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5955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54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54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54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5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54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5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C91C2-E380-4FAC-8545-3316969C0D48}" type="slidenum">
              <a:rPr b="0" lang="en-US" sz="1200" spc="-1" strike="noStrike">
                <a:solidFill>
                  <a:srgbClr val="5955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54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595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54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5955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54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595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54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5955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54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5955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54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54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54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5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54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5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A4EFD-6500-4421-BCC3-4FD3DDE51A2F}" type="slidenum">
              <a:rPr b="0" lang="en-US" sz="1200" spc="-1" strike="noStrike">
                <a:solidFill>
                  <a:srgbClr val="5955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54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595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54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5955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54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595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54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5955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54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5955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54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54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54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5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54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5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517AA-ABE4-46B0-B66B-C2ECF419F8FC}" type="slidenum">
              <a:rPr b="0" lang="en-US" sz="1200" spc="-1" strike="noStrike">
                <a:solidFill>
                  <a:srgbClr val="5955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59554d"/>
                </a:solidFill>
                <a:latin typeface="Calibri"/>
                <a:ea typeface="PMingLiU"/>
              </a:rPr>
              <a:t>Title</a:t>
            </a: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54d"/>
                </a:solidFill>
                <a:latin typeface="Calibri"/>
                <a:ea typeface="PMingLiU"/>
              </a:rPr>
              <a:t>Lorem ipsum dolor sit amet, consectetur adipisicing elit, sed do eiusmod tempor incididunt ut labore et dolore magna aliqua.</a:t>
            </a: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835280" y="206280"/>
            <a:ext cx="6851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59554d"/>
                </a:solidFill>
                <a:latin typeface="Calibri"/>
                <a:ea typeface="PMingLiU"/>
              </a:rPr>
              <a:t>Title</a:t>
            </a: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1835280" y="1200240"/>
            <a:ext cx="68515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54d"/>
                </a:solidFill>
                <a:latin typeface="Calibri"/>
                <a:ea typeface="PMingLiU"/>
              </a:rPr>
              <a:t>Lorem ipsum dolor sit amet, consectetur adipisicing elit, sed do eiusmod tempor incididunt ut labore et dolore magna aliqua.</a:t>
            </a: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59554d"/>
                </a:solidFill>
                <a:latin typeface="Calibri"/>
                <a:ea typeface="PMingLiU"/>
              </a:rPr>
              <a:t>Title</a:t>
            </a: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54d"/>
                </a:solidFill>
                <a:latin typeface="Calibri"/>
                <a:ea typeface="PMingLiU"/>
              </a:rPr>
              <a:t>Lorem ipsum dolor sit amet, consectetur adipisicing elit, sed do eiusmod tempor incididunt ut labore et dolore magna aliqua.</a:t>
            </a: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59554d"/>
                </a:solidFill>
                <a:latin typeface="Calibri"/>
                <a:ea typeface="PMingLiU"/>
              </a:rPr>
              <a:t>Title</a:t>
            </a:r>
            <a:endParaRPr b="0" lang="en-US" sz="4400" spc="-1" strike="noStrike">
              <a:solidFill>
                <a:srgbClr val="59554d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77948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54d"/>
                </a:solidFill>
                <a:latin typeface="Calibri"/>
                <a:ea typeface="PMingLiU"/>
              </a:rPr>
              <a:t>Lorem ipsum dolor sit amet, consectetur adipisicing elit, sed do eiusmod tempor incididunt ut labore et dolore magna aliqua.</a:t>
            </a:r>
            <a:endParaRPr b="0" lang="en-US" sz="3200" spc="-1" strike="noStrike">
              <a:solidFill>
                <a:srgbClr val="59554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9T07:03:04Z</dcterms:created>
  <dc:creator>Presentation</dc:creator>
  <dc:description/>
  <dc:language>en-US</dc:language>
  <cp:lastModifiedBy>pc</cp:lastModifiedBy>
  <dcterms:modified xsi:type="dcterms:W3CDTF">2015-07-02T01:26:58Z</dcterms:modified>
  <cp:revision>4</cp:revision>
  <dc:subject/>
  <dc:title>Te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