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155-ACAE-4D53-AA56-8F4AD3BB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74C-C129-4A28-808B-78792D8F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C616-21B0-4B6D-A520-10E23A9C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BCF-DA20-4513-A776-C7DB01E9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8B8-9067-4164-96A5-F28B0FFC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B11-61B8-4CA2-9A50-F29A4D85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6EA-86BE-4C1D-9A4B-481DF8CD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22C-4477-4D45-A769-E1BEB105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695-1955-4EA0-A518-085E39A4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3F4-E76E-4949-A050-6ADDDCD9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42E-5D32-4F5E-BB32-C1D374D2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CB6-6B0C-4DA1-BFF7-93081718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30BF-5887-4593-842C-43854571541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A4FE-87BF-4A50-8570-728D4C230D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260720" y="7912080"/>
            <a:ext cx="1045800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ba346f"/>
                </a:solidFill>
                <a:latin typeface="Microsoft YaHei UI"/>
              </a:rPr>
              <a:t>WHO,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ba346f"/>
                </a:solidFill>
                <a:latin typeface="Microsoft YaHei UI"/>
              </a:rPr>
              <a:t>WHAT,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ba346f"/>
                </a:solidFill>
                <a:latin typeface="Microsoft YaHei UI"/>
              </a:rPr>
              <a:t>AND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ba346f"/>
                </a:solidFill>
                <a:latin typeface="Microsoft YaHei UI"/>
              </a:rPr>
              <a:t>WHER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ba346f"/>
                </a:solidFill>
                <a:latin typeface="Microsoft YaHei UI"/>
              </a:rPr>
              <a:t>CAN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ba346f"/>
                </a:solidFill>
                <a:latin typeface="Microsoft YaHei UI"/>
              </a:rPr>
              <a:t>YOU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ba346f"/>
                </a:solidFill>
                <a:latin typeface="Microsoft YaHei UI"/>
              </a:rPr>
              <a:t>PERSONALIZE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491120" y="6324480"/>
            <a:ext cx="9675000" cy="16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685093"/>
                </a:solidFill>
                <a:uFillTx/>
                <a:latin typeface="Microsoft YaHei UI"/>
              </a:rPr>
              <a:t>OF PERSONALIZ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4253760" y="2146320"/>
            <a:ext cx="501012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dc4a4e"/>
                </a:solidFill>
                <a:latin typeface="Microsoft YaHei UI"/>
              </a:rPr>
              <a:t>3W’s</a:t>
            </a:r>
            <a:endParaRPr b="0" lang="en-US" sz="1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6072480" y="1790640"/>
            <a:ext cx="872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"/>
          <p:cNvSpPr/>
          <p:nvPr/>
        </p:nvSpPr>
        <p:spPr>
          <a:xfrm>
            <a:off x="3393360" y="2641680"/>
            <a:ext cx="666072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 u="sng">
                <a:solidFill>
                  <a:srgbClr val="f1efd7"/>
                </a:solidFill>
                <a:uFillTx/>
                <a:latin typeface="Microsoft YaHei UI"/>
              </a:rPr>
              <a:t>WHAT</a:t>
            </a:r>
            <a:endParaRPr b="0" lang="en-US" sz="1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3595320" y="6908760"/>
            <a:ext cx="580176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shoul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personaliz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853200" y="1143000"/>
            <a:ext cx="1166688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Now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let’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eci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Leverag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lread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have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eal-ti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2667600" y="4330800"/>
            <a:ext cx="3224880" cy="16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Calls-to-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Im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6100920" y="4292640"/>
            <a:ext cx="329256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Us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Exper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Produc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Off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5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"/>
          <p:cNvSpPr/>
          <p:nvPr/>
        </p:nvSpPr>
        <p:spPr>
          <a:xfrm>
            <a:off x="605880" y="1143000"/>
            <a:ext cx="114883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Mos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ompani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ha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mo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h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enoug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re-exi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start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ont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4882680" y="3086280"/>
            <a:ext cx="2579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Blo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P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38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Calls-to-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"/>
          <p:cNvSpPr/>
          <p:nvPr/>
        </p:nvSpPr>
        <p:spPr>
          <a:xfrm>
            <a:off x="8166600" y="3124080"/>
            <a:ext cx="1637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Eboo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Im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1625040" y="3124080"/>
            <a:ext cx="22622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Ca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Vide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1102320" y="5753160"/>
            <a:ext cx="470412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139680"/>
                <a:tab algn="l" pos="16524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It’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ques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o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whi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139680"/>
                <a:tab algn="l" pos="16524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pie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fi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whi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targ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139680"/>
                <a:tab algn="l" pos="16524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audience—whi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phas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139680"/>
                <a:tab algn="l" pos="16524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CD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they’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"/>
          <p:cNvSpPr/>
          <p:nvPr/>
        </p:nvSpPr>
        <p:spPr>
          <a:xfrm>
            <a:off x="909720" y="5308560"/>
            <a:ext cx="695520" cy="22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7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685093"/>
                </a:solidFill>
                <a:latin typeface="Microsoft YaHei UI"/>
              </a:rPr>
              <a:t>{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5430960" y="5334120"/>
            <a:ext cx="695520" cy="22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7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685093"/>
                </a:solidFill>
                <a:latin typeface="Microsoft YaHei UI"/>
              </a:rPr>
              <a:t>}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9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748080" y="1143000"/>
            <a:ext cx="1129320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ls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evelo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multip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sing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ie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ontent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esign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variou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udi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"/>
          <p:cNvSpPr/>
          <p:nvPr/>
        </p:nvSpPr>
        <p:spPr>
          <a:xfrm>
            <a:off x="677160" y="2527200"/>
            <a:ext cx="1111716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exampl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w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CE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m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b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homepag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healthc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CE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m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e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c2415"/>
                </a:solidFill>
                <a:latin typeface="Microsoft YaHei UI"/>
              </a:rPr>
              <a:t>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4258440" y="5435640"/>
            <a:ext cx="481824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ca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combin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content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CTAs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imag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"/>
          <p:cNvSpPr/>
          <p:nvPr/>
        </p:nvSpPr>
        <p:spPr>
          <a:xfrm>
            <a:off x="4529520" y="6350040"/>
            <a:ext cx="4276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mo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personaliz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5193720" y="6807240"/>
            <a:ext cx="2960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us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expe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7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"/>
          <p:cNvSpPr/>
          <p:nvPr/>
        </p:nvSpPr>
        <p:spPr>
          <a:xfrm>
            <a:off x="4744440" y="495360"/>
            <a:ext cx="735156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B2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rospects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eliv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eleva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lead’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articul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972720" y="736560"/>
            <a:ext cx="33886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B2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"/>
          <p:cNvSpPr/>
          <p:nvPr/>
        </p:nvSpPr>
        <p:spPr>
          <a:xfrm>
            <a:off x="3512160" y="2273400"/>
            <a:ext cx="1332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Verti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5398920" y="2273400"/>
            <a:ext cx="233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Organ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8036280" y="2273400"/>
            <a:ext cx="1656360" cy="36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85093"/>
                </a:solidFill>
                <a:latin typeface="Microsoft YaHei UI"/>
              </a:rPr>
              <a:t>B2B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7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4477680" y="495360"/>
            <a:ext cx="883764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F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onsum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market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rospects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e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experienc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bas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6188760" y="2273400"/>
            <a:ext cx="1529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7935120" y="2273400"/>
            <a:ext cx="4157640" cy="54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Pri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Sensi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Wheth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you’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B2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consu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marketing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y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prospec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rece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th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mo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relev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39960"/>
                <a:tab algn="l" pos="977760"/>
                <a:tab algn="l" pos="100332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cont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possi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3186360" y="2273400"/>
            <a:ext cx="2720880" cy="38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Produc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Off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1efd7"/>
                </a:solidFill>
                <a:latin typeface="Microsoft YaHei UI"/>
              </a:rPr>
              <a:t>B2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669960" y="787320"/>
            <a:ext cx="39052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Microsoft YaHei UI"/>
              </a:rPr>
              <a:t>Consumer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Microsoft YaHei UI"/>
              </a:rPr>
              <a:t>Market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7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"/>
          <p:cNvSpPr/>
          <p:nvPr/>
        </p:nvSpPr>
        <p:spPr>
          <a:xfrm>
            <a:off x="2334600" y="2641680"/>
            <a:ext cx="791496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f1efd7"/>
                </a:solidFill>
                <a:latin typeface="Microsoft YaHei UI"/>
              </a:rPr>
              <a:t>WHERE</a:t>
            </a:r>
            <a:endParaRPr b="0" lang="en-US" sz="1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3919320" y="6896160"/>
            <a:ext cx="514044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Whe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personaliz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"/>
          <p:cNvSpPr/>
          <p:nvPr/>
        </p:nvSpPr>
        <p:spPr>
          <a:xfrm>
            <a:off x="829440" y="1092240"/>
            <a:ext cx="11600280" cy="15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’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etermin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h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’l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ne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eci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he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eac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rospect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i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ppro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7264080" y="3606840"/>
            <a:ext cx="434412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6336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W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recomme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star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6336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wit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webs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em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6336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channe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"/>
          <p:cNvSpPr/>
          <p:nvPr/>
        </p:nvSpPr>
        <p:spPr>
          <a:xfrm>
            <a:off x="1274760" y="5562720"/>
            <a:ext cx="396576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Mob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Onlin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Adverti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Off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1630080" y="3187800"/>
            <a:ext cx="1439280" cy="15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Webs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Ema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"/>
          <p:cNvSpPr/>
          <p:nvPr/>
        </p:nvSpPr>
        <p:spPr>
          <a:xfrm>
            <a:off x="7056720" y="3137040"/>
            <a:ext cx="593640" cy="19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4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300" spc="-1" strike="noStrike">
                <a:solidFill>
                  <a:srgbClr val="685093"/>
                </a:solidFill>
                <a:latin typeface="Microsoft YaHei UI"/>
              </a:rPr>
              <a:t>{</a:t>
            </a: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11298240" y="3137040"/>
            <a:ext cx="593640" cy="19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4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300" spc="-1" strike="noStrike">
                <a:solidFill>
                  <a:srgbClr val="685093"/>
                </a:solidFill>
                <a:latin typeface="Microsoft YaHei UI"/>
              </a:rPr>
              <a:t>}</a:t>
            </a:r>
            <a:endParaRPr b="0" lang="en-US" sz="1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8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reeform 3"/>
          <p:cNvSpPr/>
          <p:nvPr/>
        </p:nvSpPr>
        <p:spPr>
          <a:xfrm>
            <a:off x="0" y="0"/>
            <a:ext cx="13004640" cy="975348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0" y="9145440"/>
            <a:ext cx="13004640" cy="608040"/>
          </a:xfrm>
          <a:prstGeom prst="pie">
            <a:avLst/>
          </a:prstGeom>
          <a:solidFill>
            <a:srgbClr val="917961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0" y="8921880"/>
            <a:ext cx="13004640" cy="233280"/>
          </a:xfrm>
          <a:prstGeom prst="pie">
            <a:avLst/>
          </a:prstGeom>
          <a:solidFill>
            <a:srgbClr val="67584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939960" y="766800"/>
            <a:ext cx="11102760" cy="253800"/>
          </a:xfrm>
          <a:prstGeom prst="pie">
            <a:avLst/>
          </a:prstGeom>
          <a:noFill/>
          <a:ln w="127080">
            <a:solidFill>
              <a:srgbClr val="675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3632040" y="8061480"/>
            <a:ext cx="1247760" cy="880920"/>
          </a:xfrm>
          <a:prstGeom prst="pie">
            <a:avLst/>
          </a:prstGeom>
          <a:solidFill>
            <a:srgbClr val="93969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1509840" y="4902120"/>
            <a:ext cx="5491080" cy="3438720"/>
          </a:xfrm>
          <a:prstGeom prst="pie">
            <a:avLst/>
          </a:prstGeom>
          <a:solidFill>
            <a:srgbClr val="a7a9a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1798560" y="5194440"/>
            <a:ext cx="4913280" cy="2855880"/>
          </a:xfrm>
          <a:prstGeom prst="pie">
            <a:avLst/>
          </a:prstGeom>
          <a:solidFill>
            <a:srgbClr val="e8f6f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1795320" y="5194440"/>
            <a:ext cx="4913280" cy="28558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3276720" y="8721720"/>
            <a:ext cx="1958760" cy="220680"/>
          </a:xfrm>
          <a:prstGeom prst="pie">
            <a:avLst/>
          </a:prstGeom>
          <a:solidFill>
            <a:srgbClr val="a7a9a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"/>
          <p:cNvSpPr/>
          <p:nvPr/>
        </p:nvSpPr>
        <p:spPr>
          <a:xfrm>
            <a:off x="2743200" y="5562720"/>
            <a:ext cx="3017880" cy="2117520"/>
          </a:xfrm>
          <a:prstGeom prst="pie">
            <a:avLst/>
          </a:prstGeom>
          <a:solidFill>
            <a:srgbClr val="f0483d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2933640" y="5710320"/>
            <a:ext cx="2594160" cy="1587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2933640" y="6002280"/>
            <a:ext cx="2594160" cy="1495440"/>
          </a:xfrm>
          <a:prstGeom prst="pie">
            <a:avLst/>
          </a:prstGeom>
          <a:solidFill>
            <a:srgbClr val="5b643e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3940200" y="6516720"/>
            <a:ext cx="550800" cy="503280"/>
          </a:xfrm>
          <a:prstGeom prst="pie">
            <a:avLst/>
          </a:prstGeom>
          <a:solidFill>
            <a:srgbClr val="e1c29b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3778200" y="7080120"/>
            <a:ext cx="873000" cy="4064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4229280" y="6734160"/>
            <a:ext cx="295200" cy="19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3905280" y="6734160"/>
            <a:ext cx="295200" cy="19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4095720" y="6603840"/>
            <a:ext cx="44640" cy="1018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4033800" y="6558120"/>
            <a:ext cx="123840" cy="45720"/>
          </a:xfrm>
          <a:prstGeom prst="pie">
            <a:avLst/>
          </a:prstGeom>
          <a:noFill/>
          <a:ln w="63360">
            <a:solidFill>
              <a:srgbClr val="231f2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3"/>
          <p:cNvSpPr/>
          <p:nvPr/>
        </p:nvSpPr>
        <p:spPr>
          <a:xfrm>
            <a:off x="4168800" y="6899400"/>
            <a:ext cx="85680" cy="475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3"/>
          <p:cNvSpPr/>
          <p:nvPr/>
        </p:nvSpPr>
        <p:spPr>
          <a:xfrm>
            <a:off x="3919680" y="6348240"/>
            <a:ext cx="571320" cy="168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4133880" y="6972480"/>
            <a:ext cx="162000" cy="217440"/>
          </a:xfrm>
          <a:prstGeom prst="pie">
            <a:avLst/>
          </a:prstGeom>
          <a:solidFill>
            <a:srgbClr val="e1c29b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4433760" y="6516720"/>
            <a:ext cx="150840" cy="1857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3846600" y="6516720"/>
            <a:ext cx="150840" cy="1857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3821040" y="5986440"/>
            <a:ext cx="766800" cy="409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4324320" y="6041880"/>
            <a:ext cx="61920" cy="284400"/>
          </a:xfrm>
          <a:prstGeom prst="pie">
            <a:avLst/>
          </a:prstGeom>
          <a:noFill/>
          <a:ln w="25560">
            <a:solidFill>
              <a:srgbClr val="a7a9a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4038480" y="6041880"/>
            <a:ext cx="63720" cy="284400"/>
          </a:xfrm>
          <a:prstGeom prst="pie">
            <a:avLst/>
          </a:prstGeom>
          <a:noFill/>
          <a:ln w="25560">
            <a:solidFill>
              <a:srgbClr val="a7a9a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3954600" y="6378480"/>
            <a:ext cx="493560" cy="50760"/>
          </a:xfrm>
          <a:prstGeom prst="pie">
            <a:avLst/>
          </a:prstGeom>
          <a:noFill/>
          <a:ln w="25560">
            <a:solidFill>
              <a:srgbClr val="a7a9a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3954600" y="6459480"/>
            <a:ext cx="493560" cy="50760"/>
          </a:xfrm>
          <a:prstGeom prst="pie">
            <a:avLst/>
          </a:prstGeom>
          <a:noFill/>
          <a:ln w="25560">
            <a:solidFill>
              <a:srgbClr val="a7a9a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4268880" y="6554880"/>
            <a:ext cx="106200" cy="166680"/>
          </a:xfrm>
          <a:prstGeom prst="pie">
            <a:avLst/>
          </a:prstGeom>
          <a:noFill/>
          <a:ln w="38160">
            <a:solidFill>
              <a:srgbClr val="231f2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4275000" y="6627960"/>
            <a:ext cx="115920" cy="50760"/>
          </a:xfrm>
          <a:prstGeom prst="pie">
            <a:avLst/>
          </a:prstGeom>
          <a:noFill/>
          <a:ln w="25560">
            <a:solidFill>
              <a:srgbClr val="231f2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4378320" y="6611760"/>
            <a:ext cx="625320" cy="62424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5865840" y="8115480"/>
            <a:ext cx="2390760" cy="726840"/>
          </a:xfrm>
          <a:prstGeom prst="pie">
            <a:avLst/>
          </a:prstGeom>
          <a:noFill/>
          <a:ln w="50760">
            <a:solidFill>
              <a:srgbClr val="a7a9a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8093160" y="8256600"/>
            <a:ext cx="1487520" cy="611280"/>
          </a:xfrm>
          <a:prstGeom prst="pie">
            <a:avLst/>
          </a:prstGeom>
          <a:solidFill>
            <a:srgbClr val="67509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9817200" y="3645000"/>
            <a:ext cx="799920" cy="4698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"/>
          <p:cNvSpPr/>
          <p:nvPr/>
        </p:nvSpPr>
        <p:spPr>
          <a:xfrm>
            <a:off x="684000" y="1092240"/>
            <a:ext cx="1086228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ebsi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mporta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hanne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bec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rospect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c2415"/>
                </a:solidFill>
                <a:latin typeface="Microsoft YaHei UI"/>
              </a:rPr>
              <a:t>engaged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c2415"/>
                </a:solidFill>
                <a:latin typeface="Microsoft YaHei U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3c2415"/>
                </a:solidFill>
                <a:latin typeface="Microsoft YaHei UI"/>
              </a:rPr>
              <a:t>entive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c2415"/>
                </a:solidFill>
                <a:latin typeface="Microsoft YaHei UI"/>
              </a:rPr>
              <a:t>interes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learn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mo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7914960" y="4241880"/>
            <a:ext cx="457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Unfortunately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mo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th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"/>
          <p:cNvSpPr/>
          <p:nvPr/>
        </p:nvSpPr>
        <p:spPr>
          <a:xfrm>
            <a:off x="7556760" y="4699080"/>
            <a:ext cx="529560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98%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o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first-tim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visito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you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websi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a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anonymo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38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"/>
          <p:cNvSpPr/>
          <p:nvPr/>
        </p:nvSpPr>
        <p:spPr>
          <a:xfrm>
            <a:off x="921960" y="1092240"/>
            <a:ext cx="10322640" cy="15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eal-ti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llow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eng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nonymou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ﬁrst-ti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visito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ebsi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dentify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hei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1412280" y="4826160"/>
            <a:ext cx="181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Indus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1404360" y="6032520"/>
            <a:ext cx="1712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Lo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"/>
          <p:cNvSpPr/>
          <p:nvPr/>
        </p:nvSpPr>
        <p:spPr>
          <a:xfrm>
            <a:off x="1251720" y="7201080"/>
            <a:ext cx="30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Digit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Behavi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1338480" y="3594240"/>
            <a:ext cx="2009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Compan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7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0" y="0"/>
            <a:ext cx="13004640" cy="975348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2957400" y="7450200"/>
            <a:ext cx="189000" cy="1139760"/>
          </a:xfrm>
          <a:prstGeom prst="pie">
            <a:avLst/>
          </a:prstGeom>
          <a:solidFill>
            <a:srgbClr val="e1c29b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2768760" y="7888320"/>
            <a:ext cx="188640" cy="480960"/>
          </a:xfrm>
          <a:prstGeom prst="pie">
            <a:avLst/>
          </a:prstGeom>
          <a:solidFill>
            <a:srgbClr val="e1c29b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3276720" y="8020080"/>
            <a:ext cx="188640" cy="482400"/>
          </a:xfrm>
          <a:prstGeom prst="pie">
            <a:avLst/>
          </a:prstGeom>
          <a:solidFill>
            <a:srgbClr val="e1c29b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2579760" y="7950240"/>
            <a:ext cx="189000" cy="482400"/>
          </a:xfrm>
          <a:prstGeom prst="pie">
            <a:avLst/>
          </a:prstGeom>
          <a:solidFill>
            <a:srgbClr val="e1c29b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2390760" y="7996320"/>
            <a:ext cx="189000" cy="482400"/>
          </a:xfrm>
          <a:prstGeom prst="pie">
            <a:avLst/>
          </a:prstGeom>
          <a:solidFill>
            <a:srgbClr val="e1c29b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2390760" y="8197920"/>
            <a:ext cx="1076400" cy="836640"/>
          </a:xfrm>
          <a:prstGeom prst="pie">
            <a:avLst/>
          </a:prstGeom>
          <a:solidFill>
            <a:srgbClr val="e1c29b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2413080" y="9015480"/>
            <a:ext cx="871560" cy="414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2503440" y="9329760"/>
            <a:ext cx="692280" cy="4190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836640" y="6238800"/>
            <a:ext cx="3801960" cy="1185840"/>
          </a:xfrm>
          <a:prstGeom prst="pie">
            <a:avLst/>
          </a:prstGeom>
          <a:solidFill>
            <a:srgbClr val="d4bf4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760320" y="6162840"/>
            <a:ext cx="3954600" cy="1338120"/>
          </a:xfrm>
          <a:prstGeom prst="pie">
            <a:avLst/>
          </a:prstGeom>
          <a:noFill/>
          <a:ln w="152280">
            <a:solidFill>
              <a:srgbClr val="ab91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4619520" y="7475400"/>
            <a:ext cx="271440" cy="295560"/>
          </a:xfrm>
          <a:prstGeom prst="pie">
            <a:avLst/>
          </a:prstGeom>
          <a:noFill/>
          <a:ln w="38160">
            <a:solidFill>
              <a:srgbClr val="704b4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4853160" y="7299360"/>
            <a:ext cx="68040" cy="214200"/>
          </a:xfrm>
          <a:prstGeom prst="pie">
            <a:avLst/>
          </a:prstGeom>
          <a:noFill/>
          <a:ln w="38160">
            <a:solidFill>
              <a:srgbClr val="704b4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4451400" y="7346880"/>
            <a:ext cx="325440" cy="293760"/>
          </a:xfrm>
          <a:prstGeom prst="pie">
            <a:avLst/>
          </a:prstGeom>
          <a:noFill/>
          <a:ln w="38160">
            <a:solidFill>
              <a:srgbClr val="704b4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549360" y="6026040"/>
            <a:ext cx="573120" cy="763560"/>
          </a:xfrm>
          <a:prstGeom prst="pie">
            <a:avLst/>
          </a:prstGeom>
          <a:noFill/>
          <a:ln w="38160">
            <a:solidFill>
              <a:srgbClr val="704b4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3"/>
          <p:cNvSpPr/>
          <p:nvPr/>
        </p:nvSpPr>
        <p:spPr>
          <a:xfrm>
            <a:off x="344520" y="5951520"/>
            <a:ext cx="344520" cy="654120"/>
          </a:xfrm>
          <a:prstGeom prst="pie">
            <a:avLst/>
          </a:prstGeom>
          <a:noFill/>
          <a:ln w="38160">
            <a:solidFill>
              <a:srgbClr val="704b4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"/>
          <p:cNvSpPr/>
          <p:nvPr/>
        </p:nvSpPr>
        <p:spPr>
          <a:xfrm>
            <a:off x="2525760" y="9169560"/>
            <a:ext cx="108000" cy="107640"/>
          </a:xfrm>
          <a:prstGeom prst="pie">
            <a:avLst/>
          </a:prstGeom>
          <a:solidFill>
            <a:srgbClr val="5b643e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2039760" y="533520"/>
            <a:ext cx="8925120" cy="925560"/>
          </a:xfrm>
          <a:prstGeom prst="pie">
            <a:avLst/>
          </a:prstGeom>
          <a:solidFill>
            <a:srgbClr val="67509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2227320" y="666720"/>
            <a:ext cx="8548560" cy="658800"/>
          </a:xfrm>
          <a:prstGeom prst="pie">
            <a:avLst/>
          </a:prstGeom>
          <a:noFill/>
          <a:ln w="25560">
            <a:solidFill>
              <a:srgbClr val="eba96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441360" y="711360"/>
            <a:ext cx="12363480" cy="26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Personalization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Appeal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Ea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Giv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ustomers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i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expectat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ul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market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nonymou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rospects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eal-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ol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ver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ppeal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marke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5933160" y="4597560"/>
            <a:ext cx="5672880" cy="23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241200"/>
                <a:tab algn="l" pos="558720"/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The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good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new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is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th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241200"/>
                <a:tab algn="l" pos="558720"/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personalization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241200"/>
                <a:tab algn="l" pos="558720"/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easier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to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implement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241200"/>
                <a:tab algn="l" pos="558720"/>
                <a:tab algn="l" pos="660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run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than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you</a:t>
            </a: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900" spc="-1" strike="noStrike">
                <a:solidFill>
                  <a:srgbClr val="685093"/>
                </a:solidFill>
                <a:latin typeface="Microsoft YaHei UI"/>
              </a:rPr>
              <a:t>think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5323680" y="4064040"/>
            <a:ext cx="922680" cy="29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100" spc="-1" strike="noStrike">
                <a:solidFill>
                  <a:srgbClr val="ba346f"/>
                </a:solidFill>
                <a:latin typeface="Microsoft YaHei UI"/>
              </a:rPr>
              <a:t>{</a:t>
            </a:r>
            <a:endParaRPr b="0" lang="en-US" sz="1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1318040" y="4064040"/>
            <a:ext cx="922680" cy="29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100" spc="-1" strike="noStrike">
                <a:solidFill>
                  <a:srgbClr val="ba346f"/>
                </a:solidFill>
                <a:latin typeface="Microsoft YaHei UI"/>
              </a:rPr>
              <a:t>}</a:t>
            </a:r>
            <a:endParaRPr b="0" lang="en-US" sz="1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4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reeform 3"/>
          <p:cNvSpPr/>
          <p:nvPr/>
        </p:nvSpPr>
        <p:spPr>
          <a:xfrm>
            <a:off x="0" y="0"/>
            <a:ext cx="13004640" cy="975348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2616120" y="576360"/>
            <a:ext cx="7772400" cy="927000"/>
          </a:xfrm>
          <a:prstGeom prst="pie">
            <a:avLst/>
          </a:prstGeom>
          <a:solidFill>
            <a:srgbClr val="67509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2762280" y="709560"/>
            <a:ext cx="7480440" cy="660600"/>
          </a:xfrm>
          <a:prstGeom prst="pie">
            <a:avLst/>
          </a:prstGeom>
          <a:noFill/>
          <a:ln w="25560">
            <a:solidFill>
              <a:srgbClr val="eba96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8505720" y="4695840"/>
            <a:ext cx="1854360" cy="1179360"/>
          </a:xfrm>
          <a:prstGeom prst="pie">
            <a:avLst/>
          </a:prstGeom>
          <a:solidFill>
            <a:srgbClr val="a7a9a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3"/>
          <p:cNvSpPr/>
          <p:nvPr/>
        </p:nvSpPr>
        <p:spPr>
          <a:xfrm>
            <a:off x="10307520" y="5224320"/>
            <a:ext cx="1128960" cy="430200"/>
          </a:xfrm>
          <a:prstGeom prst="pie">
            <a:avLst/>
          </a:prstGeom>
          <a:solidFill>
            <a:srgbClr val="67509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"/>
          <p:cNvSpPr/>
          <p:nvPr/>
        </p:nvSpPr>
        <p:spPr>
          <a:xfrm>
            <a:off x="9975960" y="4826160"/>
            <a:ext cx="369720" cy="936360"/>
          </a:xfrm>
          <a:prstGeom prst="pie">
            <a:avLst/>
          </a:prstGeom>
          <a:solidFill>
            <a:srgbClr val="93969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9736200" y="4753080"/>
            <a:ext cx="412560" cy="1066680"/>
          </a:xfrm>
          <a:prstGeom prst="pie">
            <a:avLst/>
          </a:prstGeom>
          <a:solidFill>
            <a:srgbClr val="93969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7583400" y="7678800"/>
            <a:ext cx="960480" cy="1322280"/>
          </a:xfrm>
          <a:prstGeom prst="pie">
            <a:avLst/>
          </a:prstGeom>
          <a:solidFill>
            <a:srgbClr val="67509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"/>
          <p:cNvSpPr/>
          <p:nvPr/>
        </p:nvSpPr>
        <p:spPr>
          <a:xfrm>
            <a:off x="8164440" y="6603840"/>
            <a:ext cx="1174680" cy="1173240"/>
          </a:xfrm>
          <a:prstGeom prst="pie">
            <a:avLst/>
          </a:prstGeom>
          <a:solidFill>
            <a:srgbClr val="a7a9a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3"/>
          <p:cNvSpPr/>
          <p:nvPr/>
        </p:nvSpPr>
        <p:spPr>
          <a:xfrm>
            <a:off x="8228160" y="6667560"/>
            <a:ext cx="1046160" cy="1046160"/>
          </a:xfrm>
          <a:prstGeom prst="pie">
            <a:avLst/>
          </a:prstGeom>
          <a:solidFill>
            <a:srgbClr val="93969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8586720" y="7026120"/>
            <a:ext cx="328680" cy="328680"/>
          </a:xfrm>
          <a:prstGeom prst="pie">
            <a:avLst/>
          </a:prstGeom>
          <a:solidFill>
            <a:srgbClr val="1b1b1b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8280360" y="7102440"/>
            <a:ext cx="550800" cy="739800"/>
          </a:xfrm>
          <a:prstGeom prst="pie">
            <a:avLst/>
          </a:prstGeom>
          <a:solidFill>
            <a:srgbClr val="f0483d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8713800" y="7164360"/>
            <a:ext cx="66600" cy="666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1330200" y="4483080"/>
            <a:ext cx="4103640" cy="10144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1330200" y="5705640"/>
            <a:ext cx="5149800" cy="1012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330200" y="6912000"/>
            <a:ext cx="5480280" cy="1012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10577520" y="7392960"/>
            <a:ext cx="289080" cy="289080"/>
          </a:xfrm>
          <a:prstGeom prst="pie">
            <a:avLst/>
          </a:prstGeom>
          <a:solidFill>
            <a:srgbClr val="ba346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10744200" y="7754760"/>
            <a:ext cx="243000" cy="206640"/>
          </a:xfrm>
          <a:prstGeom prst="pie">
            <a:avLst/>
          </a:prstGeom>
          <a:solidFill>
            <a:srgbClr val="855a51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10787040" y="7904160"/>
            <a:ext cx="93600" cy="103320"/>
          </a:xfrm>
          <a:prstGeom prst="pie">
            <a:avLst/>
          </a:prstGeom>
          <a:solidFill>
            <a:srgbClr val="855a51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10887120" y="7862760"/>
            <a:ext cx="54000" cy="71640"/>
          </a:xfrm>
          <a:prstGeom prst="pie">
            <a:avLst/>
          </a:prstGeom>
          <a:solidFill>
            <a:srgbClr val="d8c6bd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"/>
          <p:cNvSpPr/>
          <p:nvPr/>
        </p:nvSpPr>
        <p:spPr>
          <a:xfrm>
            <a:off x="10761840" y="7839000"/>
            <a:ext cx="72720" cy="54000"/>
          </a:xfrm>
          <a:prstGeom prst="pie">
            <a:avLst/>
          </a:prstGeom>
          <a:solidFill>
            <a:srgbClr val="d8c6bd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10388520" y="6730920"/>
            <a:ext cx="1295640" cy="19432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"/>
          <p:cNvSpPr/>
          <p:nvPr/>
        </p:nvSpPr>
        <p:spPr>
          <a:xfrm>
            <a:off x="1018080" y="1803240"/>
            <a:ext cx="924156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eﬁ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’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successfull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marke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"/>
          <p:cNvSpPr/>
          <p:nvPr/>
        </p:nvSpPr>
        <p:spPr>
          <a:xfrm>
            <a:off x="3164400" y="723960"/>
            <a:ext cx="653652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Deﬁ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Company’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W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1246680" y="4788000"/>
            <a:ext cx="4237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Painfu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"/>
          <p:cNvSpPr/>
          <p:nvPr/>
        </p:nvSpPr>
        <p:spPr>
          <a:xfrm>
            <a:off x="1073520" y="6019920"/>
            <a:ext cx="548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Time-Consumin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Mainte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1021320" y="7226280"/>
            <a:ext cx="599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A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Arsen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o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Br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New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5b643e"/>
                </a:solidFill>
                <a:latin typeface="Microsoft YaHei UI"/>
              </a:rPr>
              <a:t>Cont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>
            <a:off x="948960" y="3060720"/>
            <a:ext cx="1016712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Mak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eal-ti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ool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ar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market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strateg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c2415"/>
                </a:solidFill>
                <a:latin typeface="Microsoft YaHei UI"/>
              </a:rPr>
              <a:t>no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equi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9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03" name="TextBox 1"/>
          <p:cNvSpPr/>
          <p:nvPr/>
        </p:nvSpPr>
        <p:spPr>
          <a:xfrm>
            <a:off x="1916640" y="7074000"/>
            <a:ext cx="9159120" cy="11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fd7"/>
                </a:solidFill>
                <a:latin typeface="Microsoft YaHei UI"/>
              </a:rPr>
              <a:t>Real-ti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1efd7"/>
                </a:solidFill>
                <a:latin typeface="Microsoft YaHei UI"/>
              </a:rPr>
              <a:t>person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1efd7"/>
                </a:solidFill>
                <a:latin typeface="Microsoft YaHei UI"/>
              </a:rPr>
              <a:t>tool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1efd7"/>
                </a:solidFill>
                <a:latin typeface="Microsoft YaHei UI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1efd7"/>
                </a:solidFill>
                <a:latin typeface="Microsoft YaHei UI"/>
              </a:rPr>
              <a:t>bui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600" spc="-1" strike="noStrike">
                <a:solidFill>
                  <a:srgbClr val="f1efd7"/>
                </a:solidFill>
                <a:latin typeface="Microsoft YaHei UI"/>
              </a:rPr>
              <a:t>to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f1efd7"/>
                </a:solidFill>
                <a:latin typeface="Microsoft YaHei UI"/>
              </a:rPr>
              <a:t>OPERA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1efd7"/>
                </a:solidFill>
                <a:latin typeface="Microsoft YaHei UI"/>
              </a:rPr>
              <a:t>and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f1efd7"/>
                </a:solidFill>
                <a:latin typeface="Microsoft YaHei UI"/>
              </a:rPr>
              <a:t>OPTIMIZ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1efd7"/>
                </a:solidFill>
                <a:latin typeface="Microsoft YaHei UI"/>
              </a:rPr>
              <a:t>automatical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3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06" name="TextBox 1"/>
          <p:cNvSpPr/>
          <p:nvPr/>
        </p:nvSpPr>
        <p:spPr>
          <a:xfrm>
            <a:off x="7778160" y="5092560"/>
            <a:ext cx="3646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1efd8"/>
                </a:solidFill>
                <a:latin typeface="Microsoft YaHei UI"/>
              </a:rPr>
              <a:t>Chec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1efd8"/>
                </a:solidFill>
                <a:latin typeface="Microsoft YaHei UI"/>
              </a:rPr>
              <a:t>ou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1efd8"/>
                </a:solidFill>
                <a:latin typeface="Microsoft YaHei UI"/>
              </a:rPr>
              <a:t>Marketo'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7643520" y="5549760"/>
            <a:ext cx="472824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1efd8"/>
                </a:solidFill>
                <a:latin typeface="Microsoft YaHei UI"/>
              </a:rPr>
              <a:t>Real-Tim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1efd8"/>
                </a:solidFill>
                <a:latin typeface="Microsoft YaHei UI"/>
              </a:rPr>
              <a:t>Persona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1efd8"/>
                </a:solidFill>
                <a:latin typeface="Microsoft YaHei UI"/>
              </a:rPr>
              <a:t>http://www.marketo.com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1efd8"/>
                </a:solidFill>
                <a:latin typeface="Microsoft YaHei UI"/>
              </a:rPr>
              <a:t>software/personal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1575720" y="1917720"/>
            <a:ext cx="984096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ba346f"/>
                </a:solidFill>
                <a:latin typeface="Microsoft YaHei UI"/>
              </a:rPr>
              <a:t>Deﬁne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ba346f"/>
                </a:solidFill>
                <a:latin typeface="Microsoft YaHei UI"/>
              </a:rPr>
              <a:t>your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ba346f"/>
                </a:solidFill>
                <a:latin typeface="Microsoft YaHei UI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ba346f"/>
                </a:solidFill>
                <a:latin typeface="Microsoft YaHei UI"/>
              </a:rPr>
              <a:t>W’s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ba346f"/>
                </a:solidFill>
                <a:latin typeface="Microsoft YaHei UI"/>
              </a:rPr>
              <a:t>and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ba346f"/>
                </a:solidFill>
                <a:latin typeface="Microsoft YaHei UI"/>
              </a:rPr>
              <a:t>get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ba346f"/>
                </a:solidFill>
                <a:latin typeface="Microsoft YaHei UI"/>
              </a:rPr>
              <a:t>started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ba346f"/>
                </a:solidFill>
                <a:latin typeface="Microsoft YaHei UI"/>
              </a:rPr>
              <a:t>today!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5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reeform 3"/>
          <p:cNvSpPr/>
          <p:nvPr/>
        </p:nvSpPr>
        <p:spPr>
          <a:xfrm>
            <a:off x="0" y="0"/>
            <a:ext cx="13004640" cy="975348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"/>
          <p:cNvSpPr/>
          <p:nvPr/>
        </p:nvSpPr>
        <p:spPr>
          <a:xfrm>
            <a:off x="1917720" y="533520"/>
            <a:ext cx="9169560" cy="927000"/>
          </a:xfrm>
          <a:prstGeom prst="pie">
            <a:avLst/>
          </a:prstGeom>
          <a:solidFill>
            <a:srgbClr val="67509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2063880" y="666720"/>
            <a:ext cx="8877240" cy="660600"/>
          </a:xfrm>
          <a:prstGeom prst="pie">
            <a:avLst/>
          </a:prstGeom>
          <a:noFill/>
          <a:ln w="25560">
            <a:solidFill>
              <a:srgbClr val="eba96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"/>
          <p:cNvSpPr/>
          <p:nvPr/>
        </p:nvSpPr>
        <p:spPr>
          <a:xfrm>
            <a:off x="4616280" y="7120080"/>
            <a:ext cx="1135080" cy="1135080"/>
          </a:xfrm>
          <a:prstGeom prst="pie">
            <a:avLst/>
          </a:prstGeom>
          <a:solidFill>
            <a:srgbClr val="ba346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4818240" y="7289640"/>
            <a:ext cx="731520" cy="731880"/>
          </a:xfrm>
          <a:prstGeom prst="pie">
            <a:avLst/>
          </a:prstGeom>
          <a:solidFill>
            <a:srgbClr val="5b643e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8507520" y="3408480"/>
            <a:ext cx="534960" cy="534960"/>
          </a:xfrm>
          <a:prstGeom prst="pie">
            <a:avLst/>
          </a:prstGeom>
          <a:solidFill>
            <a:srgbClr val="ba346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8609040" y="3498840"/>
            <a:ext cx="324000" cy="324000"/>
          </a:xfrm>
          <a:prstGeom prst="pie">
            <a:avLst/>
          </a:prstGeom>
          <a:solidFill>
            <a:srgbClr val="5b643e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9274320" y="3467160"/>
            <a:ext cx="674640" cy="674640"/>
          </a:xfrm>
          <a:prstGeom prst="pie">
            <a:avLst/>
          </a:prstGeom>
          <a:solidFill>
            <a:srgbClr val="ba346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9462960" y="3629160"/>
            <a:ext cx="325440" cy="325440"/>
          </a:xfrm>
          <a:prstGeom prst="pie">
            <a:avLst/>
          </a:prstGeom>
          <a:solidFill>
            <a:srgbClr val="5b643e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689120" y="1841400"/>
            <a:ext cx="10147320" cy="76582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2144520" y="2222640"/>
            <a:ext cx="4715280" cy="31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499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9200" spc="-1" strike="noStrike">
                <a:solidFill>
                  <a:srgbClr val="f1efd7"/>
                </a:solidFill>
                <a:latin typeface="Microsoft YaHei UI"/>
              </a:rPr>
              <a:t>1.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Identify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perso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relev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ribut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int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pote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behavior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proﬁl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and/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ﬁrmo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6828120" y="4876920"/>
            <a:ext cx="46191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499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9200" spc="-1" strike="noStrike">
                <a:solidFill>
                  <a:srgbClr val="f1efd7"/>
                </a:solidFill>
                <a:latin typeface="Microsoft YaHei UI"/>
              </a:rPr>
              <a:t>2.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Customiz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perso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on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experi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presen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relev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1efd7"/>
                </a:solidFill>
                <a:latin typeface="Microsoft YaHei UI"/>
              </a:rPr>
              <a:t>vis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2113560" y="673200"/>
            <a:ext cx="87400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Person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Combin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Tw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Thing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4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892800" y="2146320"/>
            <a:ext cx="4626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685093"/>
                </a:solidFill>
                <a:latin typeface="Microsoft YaHei UI"/>
              </a:rPr>
              <a:t>1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695520" y="660240"/>
            <a:ext cx="1147464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Ho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C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Person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Hel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You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Marke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261440" y="2197080"/>
            <a:ext cx="429696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cre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meaningfu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ser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601640" y="4025880"/>
            <a:ext cx="10373400" cy="37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5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4500" spc="-1" strike="noStrike">
                <a:solidFill>
                  <a:srgbClr val="685093"/>
                </a:solidFill>
                <a:latin typeface="Microsoft YaHei UI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educ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nur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top-of-fu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99"/>
              </a:lnSpc>
              <a:tabLst>
                <a:tab algn="l" pos="0"/>
                <a:tab algn="l" pos="7074000"/>
                <a:tab algn="l" pos="751824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optimiz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ba346f"/>
                </a:solidFill>
                <a:latin typeface="Microsoft YaHei UI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3"/>
          <p:cNvSpPr/>
          <p:nvPr/>
        </p:nvSpPr>
        <p:spPr>
          <a:xfrm>
            <a:off x="0" y="0"/>
            <a:ext cx="13004640" cy="975348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3359160" y="3222720"/>
            <a:ext cx="6458040" cy="887400"/>
          </a:xfrm>
          <a:prstGeom prst="pie">
            <a:avLst/>
          </a:prstGeom>
          <a:solidFill>
            <a:srgbClr val="917961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9496440" y="3422520"/>
            <a:ext cx="1817640" cy="486000"/>
          </a:xfrm>
          <a:prstGeom prst="pie">
            <a:avLst/>
          </a:prstGeom>
          <a:solidFill>
            <a:srgbClr val="917961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1862280" y="3422520"/>
            <a:ext cx="1819080" cy="486000"/>
          </a:xfrm>
          <a:prstGeom prst="pie">
            <a:avLst/>
          </a:prstGeom>
          <a:solidFill>
            <a:srgbClr val="917961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2044800" y="533520"/>
            <a:ext cx="8915400" cy="927000"/>
          </a:xfrm>
          <a:prstGeom prst="pie">
            <a:avLst/>
          </a:prstGeom>
          <a:solidFill>
            <a:srgbClr val="67509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2190600" y="666720"/>
            <a:ext cx="8623440" cy="660600"/>
          </a:xfrm>
          <a:prstGeom prst="pie">
            <a:avLst/>
          </a:prstGeom>
          <a:noFill/>
          <a:ln w="25560">
            <a:solidFill>
              <a:srgbClr val="eba96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1557360" y="5261040"/>
            <a:ext cx="2865240" cy="28652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5257800" y="5261040"/>
            <a:ext cx="2867040" cy="28652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8959680" y="5261040"/>
            <a:ext cx="2867040" cy="2865240"/>
          </a:xfrm>
          <a:prstGeom prst="pie">
            <a:avLst/>
          </a:prstGeom>
          <a:solidFill>
            <a:srgbClr val="80808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1346040" y="5029200"/>
            <a:ext cx="2865600" cy="286704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5046840" y="5029200"/>
            <a:ext cx="2865240" cy="286704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8748720" y="5029200"/>
            <a:ext cx="2865600" cy="286704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6066000" y="4726080"/>
            <a:ext cx="782640" cy="782640"/>
          </a:xfrm>
          <a:prstGeom prst="pie">
            <a:avLst/>
          </a:prstGeom>
          <a:solidFill>
            <a:srgbClr val="ba346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6299280" y="4829040"/>
            <a:ext cx="69840" cy="69840"/>
          </a:xfrm>
          <a:prstGeom prst="pie">
            <a:avLst/>
          </a:prstGeom>
          <a:solidFill>
            <a:srgbClr val="dd6d4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6566040" y="4965840"/>
            <a:ext cx="39600" cy="39600"/>
          </a:xfrm>
          <a:prstGeom prst="pie">
            <a:avLst/>
          </a:prstGeom>
          <a:solidFill>
            <a:srgbClr val="dd6d4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6321600" y="5003640"/>
            <a:ext cx="90360" cy="90720"/>
          </a:xfrm>
          <a:prstGeom prst="pie">
            <a:avLst/>
          </a:prstGeom>
          <a:solidFill>
            <a:srgbClr val="dd6d4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6505560" y="5167440"/>
            <a:ext cx="98280" cy="98280"/>
          </a:xfrm>
          <a:prstGeom prst="pie">
            <a:avLst/>
          </a:prstGeom>
          <a:solidFill>
            <a:srgbClr val="dd6d4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6400800" y="5308560"/>
            <a:ext cx="47520" cy="47520"/>
          </a:xfrm>
          <a:prstGeom prst="pie">
            <a:avLst/>
          </a:prstGeom>
          <a:solidFill>
            <a:srgbClr val="dd6d4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6210360" y="5234040"/>
            <a:ext cx="46080" cy="44280"/>
          </a:xfrm>
          <a:prstGeom prst="pie">
            <a:avLst/>
          </a:prstGeom>
          <a:solidFill>
            <a:srgbClr val="dd6d4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6730920" y="5305320"/>
            <a:ext cx="25560" cy="27000"/>
          </a:xfrm>
          <a:prstGeom prst="pie">
            <a:avLst/>
          </a:prstGeom>
          <a:solidFill>
            <a:srgbClr val="dd6d4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9737640" y="4687920"/>
            <a:ext cx="836640" cy="685800"/>
          </a:xfrm>
          <a:prstGeom prst="pie">
            <a:avLst/>
          </a:prstGeom>
          <a:solidFill>
            <a:srgbClr val="704b4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10080720" y="5203800"/>
            <a:ext cx="309600" cy="343080"/>
          </a:xfrm>
          <a:prstGeom prst="pie">
            <a:avLst/>
          </a:prstGeom>
          <a:solidFill>
            <a:srgbClr val="704b4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10263240" y="4971960"/>
            <a:ext cx="236520" cy="193680"/>
          </a:xfrm>
          <a:prstGeom prst="pie">
            <a:avLst/>
          </a:prstGeom>
          <a:solidFill>
            <a:srgbClr val="d8c6bd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9872640" y="5043600"/>
            <a:ext cx="193680" cy="234720"/>
          </a:xfrm>
          <a:prstGeom prst="pie">
            <a:avLst/>
          </a:prstGeom>
          <a:solidFill>
            <a:srgbClr val="d8c6bd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2309760" y="4952880"/>
            <a:ext cx="885960" cy="530280"/>
          </a:xfrm>
          <a:prstGeom prst="pie">
            <a:avLst/>
          </a:prstGeom>
          <a:solidFill>
            <a:srgbClr val="ab913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2309760" y="4751280"/>
            <a:ext cx="885960" cy="292320"/>
          </a:xfrm>
          <a:prstGeom prst="pie">
            <a:avLst/>
          </a:prstGeom>
          <a:solidFill>
            <a:srgbClr val="ab913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2617920" y="5051520"/>
            <a:ext cx="112680" cy="11088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"/>
          <p:cNvSpPr/>
          <p:nvPr/>
        </p:nvSpPr>
        <p:spPr>
          <a:xfrm>
            <a:off x="2955960" y="5270400"/>
            <a:ext cx="111240" cy="11268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3"/>
          <p:cNvSpPr/>
          <p:nvPr/>
        </p:nvSpPr>
        <p:spPr>
          <a:xfrm>
            <a:off x="2452680" y="5218200"/>
            <a:ext cx="112680" cy="11268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2269440" y="8521560"/>
            <a:ext cx="84405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ba346f"/>
                </a:solidFill>
                <a:latin typeface="Microsoft YaHei UI"/>
              </a:rPr>
              <a:t>tha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ba346f"/>
                </a:solidFill>
                <a:latin typeface="Microsoft YaHei UI"/>
              </a:rPr>
              <a:t>you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ba346f"/>
                </a:solidFill>
                <a:latin typeface="Microsoft YaHei UI"/>
              </a:rPr>
              <a:t>wan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ba346f"/>
                </a:solidFill>
                <a:latin typeface="Microsoft YaHei UI"/>
              </a:rPr>
              <a:t>t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ba346f"/>
                </a:solidFill>
                <a:latin typeface="Microsoft YaHei UI"/>
              </a:rPr>
              <a:t>personaliz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-32760" y="660240"/>
            <a:ext cx="12689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Star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wi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W’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icrosoft YaHei UI"/>
              </a:rPr>
              <a:t>Person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99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eal-ti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se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omplicated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elax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’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beg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simpl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eﬁn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’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1930320"/>
                <a:tab algn="l" pos="4724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4000" spc="-1" strike="noStrike">
                <a:solidFill>
                  <a:srgbClr val="f1efd7"/>
                </a:solidFill>
                <a:latin typeface="Microsoft YaHei UI"/>
              </a:rPr>
              <a:t>Defin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1efd7"/>
                </a:solidFill>
                <a:latin typeface="Microsoft YaHei UI"/>
              </a:rPr>
              <a:t>th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5171760" y="5918040"/>
            <a:ext cx="254736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ba346f"/>
                </a:solidFill>
                <a:latin typeface="Microsoft YaHei UI"/>
              </a:rPr>
              <a:t>WH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1654200" y="5918040"/>
            <a:ext cx="217836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ba346f"/>
                </a:solidFill>
                <a:latin typeface="Microsoft YaHei UI"/>
              </a:rPr>
              <a:t>WH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8640720" y="5918040"/>
            <a:ext cx="302580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ba346f"/>
                </a:solidFill>
                <a:latin typeface="Microsoft YaHei UI"/>
              </a:rPr>
              <a:t>WHER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5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"/>
          <p:cNvSpPr/>
          <p:nvPr/>
        </p:nvSpPr>
        <p:spPr>
          <a:xfrm>
            <a:off x="3827520" y="2641680"/>
            <a:ext cx="569880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f1efd7"/>
                </a:solidFill>
                <a:latin typeface="Microsoft YaHei UI"/>
              </a:rPr>
              <a:t>WHO</a:t>
            </a:r>
            <a:endParaRPr b="0" lang="en-US" sz="1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3763080" y="6896160"/>
            <a:ext cx="5453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Wh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personaliz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ba346f"/>
                </a:solidFill>
                <a:latin typeface="Microsoft YaHei UI"/>
              </a:rPr>
              <a:t>f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"/>
          <p:cNvSpPr/>
          <p:nvPr/>
        </p:nvSpPr>
        <p:spPr>
          <a:xfrm>
            <a:off x="830520" y="1359000"/>
            <a:ext cx="1181412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“Who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person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arge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udienc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whic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eﬁn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ombin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ribu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you’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B2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Marketer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you’l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focu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firmographics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su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9677520" y="4699080"/>
            <a:ext cx="1549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c2415"/>
                </a:solidFill>
                <a:latin typeface="Microsoft YaHei UI"/>
              </a:rPr>
              <a:t>Reven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5760720" y="4699080"/>
            <a:ext cx="213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c2415"/>
                </a:solidFill>
                <a:latin typeface="Microsoft YaHei UI"/>
              </a:rPr>
              <a:t>Vertic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3c2415"/>
                </a:solidFill>
                <a:latin typeface="Microsoft YaHei UI"/>
              </a:rPr>
              <a:t>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1634400" y="4699080"/>
            <a:ext cx="2878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c2415"/>
                </a:solidFill>
                <a:latin typeface="Microsoft YaHei UI"/>
              </a:rPr>
              <a:t>Compan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3c2415"/>
                </a:solidFill>
                <a:latin typeface="Microsoft YaHei UI"/>
              </a:rPr>
              <a:t>N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215640" y="1397160"/>
            <a:ext cx="12967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I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you’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Consum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Marketer,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you’l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personaliz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you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cont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bas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2681640" y="3632040"/>
            <a:ext cx="353952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1efd7"/>
                </a:solidFill>
                <a:latin typeface="Microsoft YaHei UI"/>
              </a:rPr>
              <a:t>Customer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f1efd7"/>
                </a:solidFill>
                <a:latin typeface="Microsoft YaHei UI"/>
              </a:rPr>
              <a:t>Journe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3195720" y="4470480"/>
            <a:ext cx="248652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1efd7"/>
                </a:solidFill>
                <a:latin typeface="Microsoft YaHei UI"/>
              </a:rPr>
              <a:t>Geo-lo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2455200" y="4915080"/>
            <a:ext cx="40053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efd7"/>
                </a:solidFill>
                <a:latin typeface="Microsoft YaHei UI"/>
              </a:rPr>
              <a:t>(personalize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f1efd7"/>
                </a:solidFill>
                <a:latin typeface="Microsoft YaHei UI"/>
              </a:rPr>
              <a:t>down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f1efd7"/>
                </a:solidFill>
                <a:latin typeface="Microsoft YaHei UI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f1efd7"/>
                </a:solidFill>
                <a:latin typeface="Microsoft YaHei UI"/>
              </a:rPr>
              <a:t>the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f1efd7"/>
                </a:solidFill>
                <a:latin typeface="Microsoft YaHei UI"/>
              </a:rPr>
              <a:t>zip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f1efd7"/>
                </a:solidFill>
                <a:latin typeface="Microsoft YaHei UI"/>
              </a:rPr>
              <a:t>cod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2838240" y="5549760"/>
            <a:ext cx="3238920" cy="23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1efd7"/>
                </a:solidFill>
                <a:latin typeface="Microsoft YaHei UI"/>
              </a:rPr>
              <a:t>Produc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f1efd7"/>
                </a:solidFill>
                <a:latin typeface="Microsoft YaHei UI"/>
              </a:rPr>
              <a:t>Interes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1efd7"/>
                </a:solidFill>
                <a:latin typeface="Microsoft YaHei UI"/>
              </a:rPr>
              <a:t>Price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f1efd7"/>
                </a:solidFill>
                <a:latin typeface="Microsoft YaHei UI"/>
              </a:rPr>
              <a:t>Sensitiv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3100" spc="-1" strike="noStrike">
                <a:solidFill>
                  <a:srgbClr val="f1efd7"/>
                </a:solidFill>
                <a:latin typeface="Microsoft YaHei UI"/>
              </a:rPr>
              <a:t>Buyin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f1efd7"/>
                </a:solidFill>
                <a:latin typeface="Microsoft YaHei UI"/>
              </a:rPr>
              <a:t>His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3"/>
          <p:cNvSpPr/>
          <p:nvPr/>
        </p:nvSpPr>
        <p:spPr>
          <a:xfrm>
            <a:off x="0" y="0"/>
            <a:ext cx="13004640" cy="9753480"/>
          </a:xfrm>
          <a:prstGeom prst="pie">
            <a:avLst/>
          </a:prstGeom>
          <a:solidFill>
            <a:srgbClr val="f1efd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939960" y="766800"/>
            <a:ext cx="11102760" cy="253800"/>
          </a:xfrm>
          <a:prstGeom prst="pie">
            <a:avLst/>
          </a:prstGeom>
          <a:noFill/>
          <a:ln w="127080">
            <a:solidFill>
              <a:srgbClr val="67509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2330280" y="3443400"/>
            <a:ext cx="1440000" cy="2536560"/>
          </a:xfrm>
          <a:prstGeom prst="pie">
            <a:avLst/>
          </a:prstGeom>
          <a:solidFill>
            <a:srgbClr val="8d2e3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2330280" y="3119400"/>
            <a:ext cx="1214640" cy="2862360"/>
          </a:xfrm>
          <a:prstGeom prst="pie">
            <a:avLst/>
          </a:prstGeom>
          <a:solidFill>
            <a:srgbClr val="ab913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2330280" y="3213000"/>
            <a:ext cx="1186200" cy="27687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2330280" y="3444840"/>
            <a:ext cx="1440000" cy="2536920"/>
          </a:xfrm>
          <a:prstGeom prst="pie">
            <a:avLst/>
          </a:prstGeom>
          <a:solidFill>
            <a:srgbClr val="ab913c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2435400" y="4398840"/>
            <a:ext cx="1228680" cy="397080"/>
          </a:xfrm>
          <a:prstGeom prst="pie">
            <a:avLst/>
          </a:prstGeom>
          <a:noFill/>
          <a:ln w="25560">
            <a:solidFill>
              <a:srgbClr val="942e2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2832120" y="3714840"/>
            <a:ext cx="438120" cy="438120"/>
          </a:xfrm>
          <a:prstGeom prst="pi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4497480" y="4446720"/>
            <a:ext cx="1439640" cy="2536560"/>
          </a:xfrm>
          <a:prstGeom prst="pie">
            <a:avLst/>
          </a:prstGeom>
          <a:solidFill>
            <a:srgbClr val="8d2e3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4497480" y="4122720"/>
            <a:ext cx="1214280" cy="2862360"/>
          </a:xfrm>
          <a:prstGeom prst="pie">
            <a:avLst/>
          </a:prstGeom>
          <a:solidFill>
            <a:srgbClr val="8e8e6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4497480" y="4216320"/>
            <a:ext cx="1149120" cy="27687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4497480" y="4448160"/>
            <a:ext cx="1439640" cy="2536920"/>
          </a:xfrm>
          <a:prstGeom prst="pie">
            <a:avLst/>
          </a:prstGeom>
          <a:solidFill>
            <a:srgbClr val="8e8e60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4998960" y="4718160"/>
            <a:ext cx="438120" cy="438120"/>
          </a:xfrm>
          <a:prstGeom prst="pi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6664320" y="5450040"/>
            <a:ext cx="1441440" cy="2536560"/>
          </a:xfrm>
          <a:prstGeom prst="pie">
            <a:avLst/>
          </a:prstGeom>
          <a:solidFill>
            <a:srgbClr val="8d2e3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6664320" y="5126040"/>
            <a:ext cx="1216080" cy="2862360"/>
          </a:xfrm>
          <a:prstGeom prst="pie">
            <a:avLst/>
          </a:prstGeom>
          <a:solidFill>
            <a:srgbClr val="67509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6664320" y="5219640"/>
            <a:ext cx="1162080" cy="27687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6664320" y="5451480"/>
            <a:ext cx="1441440" cy="2536920"/>
          </a:xfrm>
          <a:prstGeom prst="pie">
            <a:avLst/>
          </a:prstGeom>
          <a:solidFill>
            <a:srgbClr val="67509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6799320" y="6391440"/>
            <a:ext cx="1204920" cy="50760"/>
          </a:xfrm>
          <a:prstGeom prst="pie">
            <a:avLst/>
          </a:prstGeom>
          <a:noFill/>
          <a:ln w="25560">
            <a:solidFill>
              <a:srgbClr val="f1efd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6799320" y="6711840"/>
            <a:ext cx="1204920" cy="50760"/>
          </a:xfrm>
          <a:prstGeom prst="pie">
            <a:avLst/>
          </a:prstGeom>
          <a:noFill/>
          <a:ln w="25560">
            <a:solidFill>
              <a:srgbClr val="f1efd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7165800" y="5721480"/>
            <a:ext cx="438480" cy="438120"/>
          </a:xfrm>
          <a:prstGeom prst="pi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8832960" y="6453360"/>
            <a:ext cx="1439640" cy="2536560"/>
          </a:xfrm>
          <a:prstGeom prst="pie">
            <a:avLst/>
          </a:prstGeom>
          <a:solidFill>
            <a:srgbClr val="8d2e3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8832960" y="6129360"/>
            <a:ext cx="1214280" cy="2862360"/>
          </a:xfrm>
          <a:prstGeom prst="pie">
            <a:avLst/>
          </a:prstGeom>
          <a:solidFill>
            <a:srgbClr val="8e2e3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8832960" y="6222960"/>
            <a:ext cx="1131840" cy="27687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8832960" y="6454800"/>
            <a:ext cx="1439640" cy="2536920"/>
          </a:xfrm>
          <a:prstGeom prst="pie">
            <a:avLst/>
          </a:prstGeom>
          <a:solidFill>
            <a:srgbClr val="8e2e33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9333000" y="6724800"/>
            <a:ext cx="438120" cy="438120"/>
          </a:xfrm>
          <a:prstGeom prst="pi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9829800" y="2565360"/>
            <a:ext cx="800280" cy="4698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"/>
          <p:cNvSpPr/>
          <p:nvPr/>
        </p:nvSpPr>
        <p:spPr>
          <a:xfrm>
            <a:off x="925920" y="1359000"/>
            <a:ext cx="11585160" cy="22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“Who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ls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nclu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audience’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stag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Custom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Decis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Journe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c2415"/>
                </a:solidFill>
                <a:latin typeface="Microsoft YaHei UI"/>
              </a:rPr>
              <a:t>(CDJ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You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“Who”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migh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“h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"/>
          <p:cNvSpPr/>
          <p:nvPr/>
        </p:nvSpPr>
        <p:spPr>
          <a:xfrm>
            <a:off x="7864920" y="3619440"/>
            <a:ext cx="471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prospects”—anyon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i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t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8171640" y="4076640"/>
            <a:ext cx="409140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Evalu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sta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o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t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sal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ba346f"/>
                </a:solidFill>
                <a:latin typeface="Microsoft YaHei UI"/>
              </a:rPr>
              <a:t>journe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2484000" y="4444920"/>
            <a:ext cx="11026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icrosoft YaHei UI"/>
              </a:rPr>
              <a:t>Awar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2942640" y="3695760"/>
            <a:ext cx="261360" cy="4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YaHei U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5101920" y="4699080"/>
            <a:ext cx="261360" cy="4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YaHei U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4532040" y="5359320"/>
            <a:ext cx="580752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2184480"/>
                <a:tab algn="l" pos="2590920"/>
                <a:tab algn="l" pos="422928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1efd7"/>
                </a:solidFill>
                <a:latin typeface="Microsoft YaHei UI"/>
              </a:rPr>
              <a:t>Intere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2184480"/>
                <a:tab algn="l" pos="2590920"/>
                <a:tab algn="l" pos="422928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Microsoft YaHei U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184480"/>
                <a:tab algn="l" pos="2590920"/>
                <a:tab algn="l" pos="422928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184480"/>
                <a:tab algn="l" pos="2590920"/>
                <a:tab algn="l" pos="422928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2184480"/>
                <a:tab algn="l" pos="2590920"/>
                <a:tab algn="l" pos="422928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i="1" lang="en-US" sz="1600" spc="-1" strike="noStrike">
                <a:solidFill>
                  <a:srgbClr val="f1efd7"/>
                </a:solidFill>
                <a:latin typeface="Microsoft YaHei UI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2184480"/>
                <a:tab algn="l" pos="2590920"/>
                <a:tab algn="l" pos="422928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Microsoft YaHei U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184480"/>
                <a:tab algn="l" pos="2590920"/>
                <a:tab algn="l" pos="422928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2184480"/>
                <a:tab algn="l" pos="2590920"/>
                <a:tab algn="l" pos="422928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f1efd7"/>
                </a:solidFill>
                <a:latin typeface="Microsoft YaHei UI"/>
              </a:rPr>
              <a:t>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4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a</cp:lastModifiedBy>
  <dcterms:modified xsi:type="dcterms:W3CDTF">2015-06-27T01:24:16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