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E85-9DD4-4149-8D07-119B3771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4E9-BA7A-4423-8377-AC317C06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165-5E3C-4612-B45C-92B0CE63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426-2FED-4DA1-83C1-8DADDBC1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30D-20EB-4E07-AE89-E9A78C6A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9E3-7EE5-4C7E-B1EC-7C645E9F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E73-D07F-43F1-A67A-662E78E8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094-E6E5-4547-93DF-C2C5F19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EDB-88EB-4365-8414-1C766BAC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79F-A1B7-4327-B9B7-731E9BDD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893-68A1-444A-AEE8-398196E8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5DA-5288-4F42-80A1-331D1643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D044-1259-4735-8EB4-19303A9D00B3}" type="slidenum">
              <a:rPr b="0" lang="en-US" sz="1400" spc="-1" strike="noStrike">
                <a:solidFill>
                  <a:srgbClr val="ffffff"/>
                </a:solidFill>
                <a:latin typeface="华文细黑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Administrator\桌面\图片1.jpg"/>
          <p:cNvPicPr/>
          <p:nvPr/>
        </p:nvPicPr>
        <p:blipFill>
          <a:blip r:embed="rId3"/>
          <a:stretch/>
        </p:blipFill>
        <p:spPr>
          <a:xfrm>
            <a:off x="-46080" y="-42840"/>
            <a:ext cx="9236160" cy="6943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8"/>
          <p:cNvSpPr/>
          <p:nvPr/>
        </p:nvSpPr>
        <p:spPr>
          <a:xfrm rot="19272600">
            <a:off x="-4759200" y="-3513240"/>
            <a:ext cx="15504840" cy="8834400"/>
          </a:xfrm>
          <a:prstGeom prst="ellipse">
            <a:avLst/>
          </a:prstGeom>
          <a:gradFill rotWithShape="0">
            <a:gsLst>
              <a:gs pos="0">
                <a:srgbClr val="181818"/>
              </a:gs>
              <a:gs pos="100000">
                <a:srgbClr val="333333">
                  <a:alpha val="0"/>
                </a:srgbClr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6"/>
          <p:cNvSpPr/>
          <p:nvPr/>
        </p:nvSpPr>
        <p:spPr>
          <a:xfrm>
            <a:off x="3571920" y="6429240"/>
            <a:ext cx="200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ⓒ  </a:t>
            </a:r>
            <a:r>
              <a:rPr b="0" lang="en-US" sz="1000" spc="-1" strike="noStrike">
                <a:solidFill>
                  <a:srgbClr val="ffffff"/>
                </a:solidFill>
                <a:latin typeface="华文细黑"/>
              </a:rPr>
              <a:t>2010 Abby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2286000" y="2858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071720" y="1636560"/>
          <a:ext cx="7010280" cy="211464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Text Box 25"/>
          <p:cNvSpPr/>
          <p:nvPr/>
        </p:nvSpPr>
        <p:spPr>
          <a:xfrm>
            <a:off x="1357200" y="4286160"/>
            <a:ext cx="5857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细黑"/>
              </a:rPr>
              <a:t>备注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：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  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）添加文字  添加文字  添加文字  添加文字   添加文字  添加文字 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7"/>
          <p:cNvGrpSpPr/>
          <p:nvPr/>
        </p:nvGrpSpPr>
        <p:grpSpPr>
          <a:xfrm>
            <a:off x="1285920" y="571680"/>
            <a:ext cx="2855880" cy="502920"/>
            <a:chOff x="1285920" y="571680"/>
            <a:chExt cx="2855880" cy="502920"/>
          </a:xfrm>
        </p:grpSpPr>
        <p:grpSp>
          <p:nvGrpSpPr>
            <p:cNvPr id="372" name="圆角矩形 8"/>
            <p:cNvGrpSpPr/>
            <p:nvPr/>
          </p:nvGrpSpPr>
          <p:grpSpPr>
            <a:xfrm>
              <a:off x="1285920" y="571680"/>
              <a:ext cx="2855880" cy="502920"/>
              <a:chOff x="1285920" y="571680"/>
              <a:chExt cx="2855880" cy="502920"/>
            </a:xfrm>
          </p:grpSpPr>
          <p:pic>
            <p:nvPicPr>
              <p:cNvPr id="373" name="圆角矩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571680"/>
                <a:ext cx="2855880" cy="50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1361880" y="615600"/>
                <a:ext cx="270576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圆角矩形 4"/>
            <p:cNvSpPr/>
            <p:nvPr/>
          </p:nvSpPr>
          <p:spPr>
            <a:xfrm>
              <a:off x="1353600" y="615240"/>
              <a:ext cx="272268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73240" y="1897200"/>
          <a:ext cx="7143840" cy="3406680"/>
        </p:xfrm>
        <a:graphic>
          <a:graphicData uri="http://schemas.openxmlformats.org/drawingml/2006/table">
            <a:tbl>
              <a:tblPr/>
              <a:tblGrid>
                <a:gridCol w="833400"/>
                <a:gridCol w="2103480"/>
                <a:gridCol w="2103480"/>
                <a:gridCol w="2103480"/>
              </a:tblGrid>
              <a:tr h="53964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添加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7808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25280" rIns="125280" tIns="62640" bIns="6264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600" spc="-1" strike="noStrike">
                          <a:solidFill>
                            <a:srgbClr val="ffffff"/>
                          </a:solidFill>
                          <a:latin typeface="华文细黑"/>
                        </a:rPr>
                        <a:t>文字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5280" marR="125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7" name="组合 5"/>
          <p:cNvGrpSpPr/>
          <p:nvPr/>
        </p:nvGrpSpPr>
        <p:grpSpPr>
          <a:xfrm>
            <a:off x="1236600" y="701280"/>
            <a:ext cx="4313160" cy="849240"/>
            <a:chOff x="1236600" y="701280"/>
            <a:chExt cx="4313160" cy="849240"/>
          </a:xfrm>
        </p:grpSpPr>
        <p:grpSp>
          <p:nvGrpSpPr>
            <p:cNvPr id="378" name="圆角矩形 6"/>
            <p:cNvGrpSpPr/>
            <p:nvPr/>
          </p:nvGrpSpPr>
          <p:grpSpPr>
            <a:xfrm>
              <a:off x="1236600" y="703080"/>
              <a:ext cx="4313160" cy="847440"/>
              <a:chOff x="1236600" y="703080"/>
              <a:chExt cx="4313160" cy="847440"/>
            </a:xfrm>
          </p:grpSpPr>
          <p:pic>
            <p:nvPicPr>
              <p:cNvPr id="379" name="圆角矩形 6" descr=""/>
              <p:cNvPicPr/>
              <p:nvPr/>
            </p:nvPicPr>
            <p:blipFill>
              <a:blip r:embed="rId1"/>
              <a:stretch/>
            </p:blipFill>
            <p:spPr>
              <a:xfrm rot="21599400">
                <a:off x="1236600" y="883800"/>
                <a:ext cx="431316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"/>
              <p:cNvSpPr/>
              <p:nvPr/>
            </p:nvSpPr>
            <p:spPr>
              <a:xfrm rot="21043800">
                <a:off x="1313640" y="1037160"/>
                <a:ext cx="4161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圆角矩形 4"/>
            <p:cNvSpPr/>
            <p:nvPr/>
          </p:nvSpPr>
          <p:spPr>
            <a:xfrm rot="21044400">
              <a:off x="1316520" y="1035360"/>
              <a:ext cx="41630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图表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图片 74" descr="2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1" descr="hend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3049560" y="3876840"/>
            <a:ext cx="3044880" cy="30445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6"/>
          <p:cNvSpPr/>
          <p:nvPr/>
        </p:nvSpPr>
        <p:spPr>
          <a:xfrm>
            <a:off x="3000240" y="200016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共创未来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154"/>
          <p:cNvSpPr/>
          <p:nvPr/>
        </p:nvSpPr>
        <p:spPr>
          <a:xfrm>
            <a:off x="4578480" y="470232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4"/>
          <p:cNvSpPr/>
          <p:nvPr/>
        </p:nvSpPr>
        <p:spPr>
          <a:xfrm>
            <a:off x="4578480" y="420228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4"/>
          <p:cNvSpPr/>
          <p:nvPr/>
        </p:nvSpPr>
        <p:spPr>
          <a:xfrm>
            <a:off x="4506840" y="291636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4"/>
          <p:cNvSpPr/>
          <p:nvPr/>
        </p:nvSpPr>
        <p:spPr>
          <a:xfrm>
            <a:off x="4506840" y="2416320"/>
            <a:ext cx="22017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6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6"/>
          <p:cNvSpPr/>
          <p:nvPr/>
        </p:nvSpPr>
        <p:spPr>
          <a:xfrm flipV="1">
            <a:off x="3929040" y="1785960"/>
            <a:ext cx="0" cy="3240000"/>
          </a:xfrm>
          <a:prstGeom prst="line">
            <a:avLst/>
          </a:prstGeom>
          <a:ln w="9360">
            <a:solidFill>
              <a:srgbClr val="4d4d4d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3"/>
          <p:cNvSpPr/>
          <p:nvPr/>
        </p:nvSpPr>
        <p:spPr>
          <a:xfrm>
            <a:off x="2071800" y="3500280"/>
            <a:ext cx="1401480" cy="0"/>
          </a:xfrm>
          <a:prstGeom prst="line">
            <a:avLst/>
          </a:prstGeom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6"/>
          <p:cNvSpPr/>
          <p:nvPr/>
        </p:nvSpPr>
        <p:spPr>
          <a:xfrm>
            <a:off x="1919160" y="241632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华文细黑"/>
              </a:rPr>
              <a:t>标题一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7"/>
          <p:cNvSpPr/>
          <p:nvPr/>
        </p:nvSpPr>
        <p:spPr>
          <a:xfrm>
            <a:off x="2000160" y="1785960"/>
            <a:ext cx="50403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3"/>
          <p:cNvGrpSpPr/>
          <p:nvPr/>
        </p:nvGrpSpPr>
        <p:grpSpPr>
          <a:xfrm>
            <a:off x="1733400" y="811080"/>
            <a:ext cx="5677200" cy="5240160"/>
            <a:chOff x="1733400" y="811080"/>
            <a:chExt cx="5677200" cy="5240160"/>
          </a:xfrm>
        </p:grpSpPr>
        <p:sp>
          <p:nvSpPr>
            <p:cNvPr id="179" name="Line 4"/>
            <p:cNvSpPr/>
            <p:nvPr/>
          </p:nvSpPr>
          <p:spPr>
            <a:xfrm>
              <a:off x="1733400" y="6037200"/>
              <a:ext cx="56772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1733400" y="8110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7408800" y="8110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1733400" y="817560"/>
              <a:ext cx="56772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33"/>
          <p:cNvSpPr/>
          <p:nvPr/>
        </p:nvSpPr>
        <p:spPr>
          <a:xfrm>
            <a:off x="4572000" y="11095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华文细黑"/>
              </a:rPr>
              <a:t>Conten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5"/>
          <p:cNvSpPr/>
          <p:nvPr/>
        </p:nvSpPr>
        <p:spPr>
          <a:xfrm>
            <a:off x="2286000" y="1000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</a:rPr>
              <a:t>目录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526140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261400" y="1987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5261400" y="3773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5261400" y="4773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5261400" y="42735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5261400" y="2975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6"/>
          <p:cNvSpPr/>
          <p:nvPr/>
        </p:nvSpPr>
        <p:spPr>
          <a:xfrm>
            <a:off x="1928880" y="4214880"/>
            <a:ext cx="16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华文细黑"/>
              </a:rPr>
              <a:t>标题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3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F:\于凌波\WDS\WDS图片\-51.jpg"/>
          <p:cNvPicPr/>
          <p:nvPr/>
        </p:nvPicPr>
        <p:blipFill>
          <a:blip r:embed="rId1"/>
          <a:srcRect l="7563" t="0" r="22220" b="3315"/>
          <a:stretch/>
        </p:blipFill>
        <p:spPr>
          <a:xfrm>
            <a:off x="1785960" y="785880"/>
            <a:ext cx="5715000" cy="52480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9"/>
          <p:cNvSpPr/>
          <p:nvPr/>
        </p:nvSpPr>
        <p:spPr>
          <a:xfrm>
            <a:off x="7505640" y="2286000"/>
            <a:ext cx="199548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1785960" y="1714680"/>
            <a:ext cx="57024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824120" y="19288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标题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0"/>
          <p:cNvSpPr/>
          <p:nvPr/>
        </p:nvSpPr>
        <p:spPr>
          <a:xfrm>
            <a:off x="-55440" y="2286000"/>
            <a:ext cx="18414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6"/>
          <p:cNvGrpSpPr/>
          <p:nvPr/>
        </p:nvGrpSpPr>
        <p:grpSpPr>
          <a:xfrm>
            <a:off x="1785960" y="785880"/>
            <a:ext cx="5715000" cy="5240160"/>
            <a:chOff x="1785960" y="785880"/>
            <a:chExt cx="5715000" cy="5240160"/>
          </a:xfrm>
        </p:grpSpPr>
        <p:sp>
          <p:nvSpPr>
            <p:cNvPr id="203" name="Line 57"/>
            <p:cNvSpPr/>
            <p:nvPr/>
          </p:nvSpPr>
          <p:spPr>
            <a:xfrm>
              <a:off x="1785960" y="601200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8"/>
            <p:cNvSpPr/>
            <p:nvPr/>
          </p:nvSpPr>
          <p:spPr>
            <a:xfrm>
              <a:off x="17859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9"/>
            <p:cNvSpPr/>
            <p:nvPr/>
          </p:nvSpPr>
          <p:spPr>
            <a:xfrm>
              <a:off x="74991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60"/>
            <p:cNvSpPr/>
            <p:nvPr/>
          </p:nvSpPr>
          <p:spPr>
            <a:xfrm>
              <a:off x="1785960" y="79236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3"/>
          <p:cNvSpPr/>
          <p:nvPr/>
        </p:nvSpPr>
        <p:spPr>
          <a:xfrm>
            <a:off x="2540160" y="1341360"/>
            <a:ext cx="4162320" cy="361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 rot="20883600">
            <a:off x="2848680" y="21031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细黑"/>
              </a:rPr>
              <a:t>标题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 rot="20872200">
            <a:off x="4411080" y="2052720"/>
            <a:ext cx="179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 rot="20884800">
            <a:off x="3099600" y="2971800"/>
            <a:ext cx="33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文字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文字添加文字添加文字添加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5038560" y="551664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华文细黑"/>
              </a:rPr>
              <a:t> </a:t>
            </a:r>
            <a:r>
              <a:rPr b="1" lang="en-US" sz="4400" spc="-1" strike="noStrike">
                <a:solidFill>
                  <a:srgbClr val="ffc000"/>
                </a:solidFill>
                <a:latin typeface="华文细黑"/>
              </a:rPr>
              <a:t>1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8"/>
          <p:cNvSpPr/>
          <p:nvPr/>
        </p:nvSpPr>
        <p:spPr>
          <a:xfrm>
            <a:off x="4471920" y="551808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华文细黑"/>
              </a:rPr>
              <a:t>题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9"/>
          <p:cNvSpPr/>
          <p:nvPr/>
        </p:nvSpPr>
        <p:spPr>
          <a:xfrm>
            <a:off x="3906720" y="5518080"/>
            <a:ext cx="74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华文细黑"/>
              </a:rPr>
              <a:t>标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3341520" y="5516640"/>
            <a:ext cx="7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华文细黑"/>
              </a:rPr>
              <a:t>副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2428920" y="1214280"/>
            <a:ext cx="4357800" cy="3857760"/>
            <a:chOff x="2428920" y="1214280"/>
            <a:chExt cx="4357800" cy="3857760"/>
          </a:xfrm>
        </p:grpSpPr>
        <p:sp>
          <p:nvSpPr>
            <p:cNvPr id="216" name="Line 4"/>
            <p:cNvSpPr/>
            <p:nvPr/>
          </p:nvSpPr>
          <p:spPr>
            <a:xfrm>
              <a:off x="2428920" y="5061600"/>
              <a:ext cx="43578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"/>
            <p:cNvSpPr/>
            <p:nvPr/>
          </p:nvSpPr>
          <p:spPr>
            <a:xfrm>
              <a:off x="2428920" y="1214280"/>
              <a:ext cx="0" cy="3857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"/>
            <p:cNvSpPr/>
            <p:nvPr/>
          </p:nvSpPr>
          <p:spPr>
            <a:xfrm>
              <a:off x="6785640" y="1214280"/>
              <a:ext cx="0" cy="3857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"/>
            <p:cNvSpPr/>
            <p:nvPr/>
          </p:nvSpPr>
          <p:spPr>
            <a:xfrm>
              <a:off x="2428920" y="1218960"/>
              <a:ext cx="43578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486 -0.22037 L -2.22222E-006 -2.96296E-006 E">
                                      <p:cBhvr>
                                        <p:cTn id="48" dur="3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0" y="2143080"/>
            <a:ext cx="2643120" cy="242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7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263052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2638440" y="1243080"/>
            <a:ext cx="6006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2638440" y="5608800"/>
            <a:ext cx="60069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865044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1280" y="2648880"/>
            <a:ext cx="2428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6019920" y="581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添加标题文字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3"/>
          <p:cNvGrpSpPr/>
          <p:nvPr/>
        </p:nvGrpSpPr>
        <p:grpSpPr>
          <a:xfrm>
            <a:off x="7452000" y="781200"/>
            <a:ext cx="1200240" cy="455040"/>
            <a:chOff x="7452000" y="781200"/>
            <a:chExt cx="1200240" cy="455040"/>
          </a:xfrm>
        </p:grpSpPr>
        <p:cxnSp>
          <p:nvCxnSpPr>
            <p:cNvPr id="228" name="AutoShape 14"/>
            <p:cNvCxnSpPr/>
            <p:nvPr/>
          </p:nvCxnSpPr>
          <p:spPr>
            <a:xfrm flipH="1" flipV="1">
              <a:off x="8313840" y="782280"/>
              <a:ext cx="338760" cy="45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</p:cxnSp>
        <p:cxnSp>
          <p:nvCxnSpPr>
            <p:cNvPr id="229" name="AutoShape 15"/>
            <p:cNvCxnSpPr/>
            <p:nvPr/>
          </p:nvCxnSpPr>
          <p:spPr>
            <a:xfrm>
              <a:off x="7452000" y="781200"/>
              <a:ext cx="85788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</p:cxnSp>
      </p:grpSp>
      <p:grpSp>
        <p:nvGrpSpPr>
          <p:cNvPr id="230" name="组合 17"/>
          <p:cNvGrpSpPr/>
          <p:nvPr/>
        </p:nvGrpSpPr>
        <p:grpSpPr>
          <a:xfrm>
            <a:off x="2714760" y="1522800"/>
            <a:ext cx="5857920" cy="3549240"/>
            <a:chOff x="2714760" y="1522800"/>
            <a:chExt cx="5857920" cy="3549240"/>
          </a:xfrm>
        </p:grpSpPr>
        <p:pic>
          <p:nvPicPr>
            <p:cNvPr id="231" name="Group 3" descr=""/>
            <p:cNvPicPr/>
            <p:nvPr/>
          </p:nvPicPr>
          <p:blipFill>
            <a:blip r:embed="rId1"/>
            <a:stretch/>
          </p:blipFill>
          <p:spPr>
            <a:xfrm>
              <a:off x="2714760" y="1714680"/>
              <a:ext cx="585792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Freeform 8"/>
            <p:cNvSpPr/>
            <p:nvPr/>
          </p:nvSpPr>
          <p:spPr>
            <a:xfrm flipH="1" rot="9639600">
              <a:off x="3637080" y="1780200"/>
              <a:ext cx="1753920" cy="115380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 flipH="1" rot="20857800">
              <a:off x="3538440" y="2342520"/>
              <a:ext cx="1528560" cy="115452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 rot="12583200">
              <a:off x="5716440" y="2018520"/>
              <a:ext cx="995040" cy="86004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组合 477"/>
            <p:cNvGrpSpPr/>
            <p:nvPr/>
          </p:nvGrpSpPr>
          <p:grpSpPr>
            <a:xfrm>
              <a:off x="6247080" y="1716120"/>
              <a:ext cx="1372680" cy="1337040"/>
              <a:chOff x="6247080" y="1716120"/>
              <a:chExt cx="1372680" cy="1337040"/>
            </a:xfrm>
          </p:grpSpPr>
          <p:sp>
            <p:nvSpPr>
              <p:cNvPr id="236" name="Oval 116"/>
              <p:cNvSpPr/>
              <p:nvPr/>
            </p:nvSpPr>
            <p:spPr>
              <a:xfrm>
                <a:off x="6769800" y="225432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3"/>
              <p:cNvSpPr/>
              <p:nvPr/>
            </p:nvSpPr>
            <p:spPr>
              <a:xfrm>
                <a:off x="6573960" y="205236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3"/>
              <p:cNvSpPr/>
              <p:nvPr/>
            </p:nvSpPr>
            <p:spPr>
              <a:xfrm>
                <a:off x="6247080" y="171612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组合 478"/>
            <p:cNvGrpSpPr/>
            <p:nvPr/>
          </p:nvGrpSpPr>
          <p:grpSpPr>
            <a:xfrm>
              <a:off x="4481640" y="2187000"/>
              <a:ext cx="1372680" cy="1337040"/>
              <a:chOff x="4481640" y="2187000"/>
              <a:chExt cx="1372680" cy="1337040"/>
            </a:xfrm>
          </p:grpSpPr>
          <p:sp>
            <p:nvSpPr>
              <p:cNvPr id="240" name="Oval 116"/>
              <p:cNvSpPr/>
              <p:nvPr/>
            </p:nvSpPr>
            <p:spPr>
              <a:xfrm>
                <a:off x="5004360" y="272556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3"/>
              <p:cNvSpPr/>
              <p:nvPr/>
            </p:nvSpPr>
            <p:spPr>
              <a:xfrm>
                <a:off x="4808520" y="2523600"/>
                <a:ext cx="653760" cy="67320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"/>
              <p:cNvSpPr/>
              <p:nvPr/>
            </p:nvSpPr>
            <p:spPr>
              <a:xfrm>
                <a:off x="4481640" y="21870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组合 482"/>
            <p:cNvGrpSpPr/>
            <p:nvPr/>
          </p:nvGrpSpPr>
          <p:grpSpPr>
            <a:xfrm>
              <a:off x="2847240" y="1783440"/>
              <a:ext cx="1372680" cy="1337040"/>
              <a:chOff x="2847240" y="1783440"/>
              <a:chExt cx="1372680" cy="1337040"/>
            </a:xfrm>
          </p:grpSpPr>
          <p:sp>
            <p:nvSpPr>
              <p:cNvPr id="244" name="Oval 116"/>
              <p:cNvSpPr/>
              <p:nvPr/>
            </p:nvSpPr>
            <p:spPr>
              <a:xfrm>
                <a:off x="3370680" y="232236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3"/>
              <p:cNvSpPr/>
              <p:nvPr/>
            </p:nvSpPr>
            <p:spPr>
              <a:xfrm>
                <a:off x="3174120" y="211968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3"/>
              <p:cNvSpPr/>
              <p:nvPr/>
            </p:nvSpPr>
            <p:spPr>
              <a:xfrm>
                <a:off x="2847240" y="178344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486"/>
            <p:cNvGrpSpPr/>
            <p:nvPr/>
          </p:nvGrpSpPr>
          <p:grpSpPr>
            <a:xfrm>
              <a:off x="4874040" y="1850760"/>
              <a:ext cx="1372680" cy="1337040"/>
              <a:chOff x="4874040" y="1850760"/>
              <a:chExt cx="1372680" cy="1337040"/>
            </a:xfrm>
          </p:grpSpPr>
          <p:sp>
            <p:nvSpPr>
              <p:cNvPr id="248" name="Oval 116"/>
              <p:cNvSpPr/>
              <p:nvPr/>
            </p:nvSpPr>
            <p:spPr>
              <a:xfrm>
                <a:off x="5396760" y="238932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3"/>
              <p:cNvSpPr/>
              <p:nvPr/>
            </p:nvSpPr>
            <p:spPr>
              <a:xfrm>
                <a:off x="5200920" y="2187360"/>
                <a:ext cx="653760" cy="67320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3"/>
              <p:cNvSpPr/>
              <p:nvPr/>
            </p:nvSpPr>
            <p:spPr>
              <a:xfrm>
                <a:off x="4874040" y="185076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组合 490"/>
            <p:cNvGrpSpPr/>
            <p:nvPr/>
          </p:nvGrpSpPr>
          <p:grpSpPr>
            <a:xfrm>
              <a:off x="6704640" y="3196800"/>
              <a:ext cx="1372680" cy="1337040"/>
              <a:chOff x="6704640" y="3196800"/>
              <a:chExt cx="1372680" cy="1337040"/>
            </a:xfrm>
          </p:grpSpPr>
          <p:sp>
            <p:nvSpPr>
              <p:cNvPr id="252" name="Oval 116"/>
              <p:cNvSpPr/>
              <p:nvPr/>
            </p:nvSpPr>
            <p:spPr>
              <a:xfrm>
                <a:off x="7227720" y="3735000"/>
                <a:ext cx="23796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3"/>
              <p:cNvSpPr/>
              <p:nvPr/>
            </p:nvSpPr>
            <p:spPr>
              <a:xfrm>
                <a:off x="7031520" y="3533040"/>
                <a:ext cx="65376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3"/>
              <p:cNvSpPr/>
              <p:nvPr/>
            </p:nvSpPr>
            <p:spPr>
              <a:xfrm>
                <a:off x="6704640" y="31968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组合 494"/>
            <p:cNvGrpSpPr/>
            <p:nvPr/>
          </p:nvGrpSpPr>
          <p:grpSpPr>
            <a:xfrm>
              <a:off x="5070240" y="3735000"/>
              <a:ext cx="1372680" cy="1337040"/>
              <a:chOff x="5070240" y="3735000"/>
              <a:chExt cx="1372680" cy="1337040"/>
            </a:xfrm>
          </p:grpSpPr>
          <p:sp>
            <p:nvSpPr>
              <p:cNvPr id="256" name="Oval 116"/>
              <p:cNvSpPr/>
              <p:nvPr/>
            </p:nvSpPr>
            <p:spPr>
              <a:xfrm>
                <a:off x="5592960" y="4273920"/>
                <a:ext cx="238320" cy="245160"/>
              </a:xfrm>
              <a:prstGeom prst="ellipse">
                <a:avLst/>
              </a:prstGeom>
              <a:gradFill rotWithShape="0">
                <a:gsLst>
                  <a:gs pos="0">
                    <a:srgbClr val="5e000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eb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3"/>
              <p:cNvSpPr/>
              <p:nvPr/>
            </p:nvSpPr>
            <p:spPr>
              <a:xfrm>
                <a:off x="5397480" y="4071240"/>
                <a:ext cx="653040" cy="67248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3"/>
              <p:cNvSpPr/>
              <p:nvPr/>
            </p:nvSpPr>
            <p:spPr>
              <a:xfrm>
                <a:off x="5070240" y="3735000"/>
                <a:ext cx="1372680" cy="1337040"/>
              </a:xfrm>
              <a:prstGeom prst="ellipse">
                <a:avLst/>
              </a:prstGeom>
              <a:noFill/>
              <a:ln w="1260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Freeform 8"/>
            <p:cNvSpPr/>
            <p:nvPr/>
          </p:nvSpPr>
          <p:spPr>
            <a:xfrm rot="17271600">
              <a:off x="6645600" y="2723040"/>
              <a:ext cx="1023480" cy="83340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"/>
            <p:cNvSpPr/>
            <p:nvPr/>
          </p:nvSpPr>
          <p:spPr>
            <a:xfrm rot="792000">
              <a:off x="6150240" y="3840840"/>
              <a:ext cx="995040" cy="858240"/>
            </a:xfrm>
            <a:custGeom>
              <a:avLst/>
              <a:gdLst/>
              <a:ahLst/>
              <a:rect l="l" t="t" r="r" b="b"/>
              <a:pathLst>
                <a:path w="875" h="947">
                  <a:moveTo>
                    <a:pt x="0" y="779"/>
                  </a:moveTo>
                  <a:lnTo>
                    <a:pt x="114" y="591"/>
                  </a:lnTo>
                  <a:cubicBezTo>
                    <a:pt x="114" y="618"/>
                    <a:pt x="113" y="645"/>
                    <a:pt x="113" y="672"/>
                  </a:cubicBezTo>
                  <a:lnTo>
                    <a:pt x="117" y="672"/>
                  </a:lnTo>
                  <a:lnTo>
                    <a:pt x="128" y="672"/>
                  </a:lnTo>
                  <a:cubicBezTo>
                    <a:pt x="135" y="672"/>
                    <a:pt x="141" y="671"/>
                    <a:pt x="148" y="671"/>
                  </a:cubicBezTo>
                  <a:cubicBezTo>
                    <a:pt x="156" y="670"/>
                    <a:pt x="165" y="668"/>
                    <a:pt x="173" y="667"/>
                  </a:cubicBezTo>
                  <a:cubicBezTo>
                    <a:pt x="183" y="665"/>
                    <a:pt x="194" y="664"/>
                    <a:pt x="204" y="662"/>
                  </a:cubicBezTo>
                  <a:lnTo>
                    <a:pt x="239" y="653"/>
                  </a:lnTo>
                  <a:lnTo>
                    <a:pt x="279" y="641"/>
                  </a:lnTo>
                  <a:lnTo>
                    <a:pt x="322" y="626"/>
                  </a:lnTo>
                  <a:lnTo>
                    <a:pt x="367" y="605"/>
                  </a:lnTo>
                  <a:lnTo>
                    <a:pt x="415" y="578"/>
                  </a:lnTo>
                  <a:cubicBezTo>
                    <a:pt x="431" y="568"/>
                    <a:pt x="447" y="557"/>
                    <a:pt x="463" y="547"/>
                  </a:cubicBezTo>
                  <a:cubicBezTo>
                    <a:pt x="479" y="534"/>
                    <a:pt x="494" y="521"/>
                    <a:pt x="510" y="508"/>
                  </a:cubicBezTo>
                  <a:lnTo>
                    <a:pt x="558" y="463"/>
                  </a:lnTo>
                  <a:cubicBezTo>
                    <a:pt x="576" y="444"/>
                    <a:pt x="594" y="424"/>
                    <a:pt x="612" y="405"/>
                  </a:cubicBezTo>
                  <a:cubicBezTo>
                    <a:pt x="628" y="387"/>
                    <a:pt x="644" y="368"/>
                    <a:pt x="660" y="350"/>
                  </a:cubicBezTo>
                  <a:lnTo>
                    <a:pt x="703" y="298"/>
                  </a:lnTo>
                  <a:cubicBezTo>
                    <a:pt x="715" y="282"/>
                    <a:pt x="727" y="265"/>
                    <a:pt x="739" y="249"/>
                  </a:cubicBezTo>
                  <a:cubicBezTo>
                    <a:pt x="749" y="234"/>
                    <a:pt x="760" y="219"/>
                    <a:pt x="770" y="204"/>
                  </a:cubicBezTo>
                  <a:cubicBezTo>
                    <a:pt x="779" y="191"/>
                    <a:pt x="787" y="177"/>
                    <a:pt x="796" y="164"/>
                  </a:cubicBezTo>
                  <a:cubicBezTo>
                    <a:pt x="803" y="151"/>
                    <a:pt x="811" y="139"/>
                    <a:pt x="818" y="126"/>
                  </a:cubicBezTo>
                  <a:cubicBezTo>
                    <a:pt x="824" y="115"/>
                    <a:pt x="830" y="105"/>
                    <a:pt x="836" y="94"/>
                  </a:cubicBezTo>
                  <a:cubicBezTo>
                    <a:pt x="840" y="85"/>
                    <a:pt x="845" y="75"/>
                    <a:pt x="849" y="66"/>
                  </a:cubicBezTo>
                  <a:cubicBezTo>
                    <a:pt x="852" y="58"/>
                    <a:pt x="856" y="50"/>
                    <a:pt x="859" y="42"/>
                  </a:cubicBezTo>
                  <a:cubicBezTo>
                    <a:pt x="862" y="36"/>
                    <a:pt x="864" y="30"/>
                    <a:pt x="867" y="24"/>
                  </a:cubicBezTo>
                  <a:cubicBezTo>
                    <a:pt x="869" y="20"/>
                    <a:pt x="870" y="16"/>
                    <a:pt x="872" y="12"/>
                  </a:cubicBezTo>
                  <a:cubicBezTo>
                    <a:pt x="873" y="9"/>
                    <a:pt x="874" y="5"/>
                    <a:pt x="875" y="2"/>
                  </a:cubicBezTo>
                  <a:lnTo>
                    <a:pt x="875" y="0"/>
                  </a:lnTo>
                  <a:lnTo>
                    <a:pt x="875" y="4"/>
                  </a:lnTo>
                  <a:cubicBezTo>
                    <a:pt x="874" y="8"/>
                    <a:pt x="874" y="13"/>
                    <a:pt x="873" y="17"/>
                  </a:cubicBezTo>
                  <a:cubicBezTo>
                    <a:pt x="872" y="23"/>
                    <a:pt x="872" y="30"/>
                    <a:pt x="871" y="36"/>
                  </a:cubicBezTo>
                  <a:cubicBezTo>
                    <a:pt x="869" y="45"/>
                    <a:pt x="867" y="53"/>
                    <a:pt x="865" y="62"/>
                  </a:cubicBezTo>
                  <a:cubicBezTo>
                    <a:pt x="863" y="72"/>
                    <a:pt x="861" y="83"/>
                    <a:pt x="859" y="93"/>
                  </a:cubicBezTo>
                  <a:cubicBezTo>
                    <a:pt x="856" y="105"/>
                    <a:pt x="853" y="118"/>
                    <a:pt x="850" y="130"/>
                  </a:cubicBezTo>
                  <a:cubicBezTo>
                    <a:pt x="846" y="144"/>
                    <a:pt x="841" y="158"/>
                    <a:pt x="837" y="172"/>
                  </a:cubicBezTo>
                  <a:lnTo>
                    <a:pt x="822" y="217"/>
                  </a:lnTo>
                  <a:cubicBezTo>
                    <a:pt x="816" y="233"/>
                    <a:pt x="810" y="248"/>
                    <a:pt x="804" y="264"/>
                  </a:cubicBezTo>
                  <a:lnTo>
                    <a:pt x="780" y="315"/>
                  </a:lnTo>
                  <a:cubicBezTo>
                    <a:pt x="771" y="333"/>
                    <a:pt x="762" y="350"/>
                    <a:pt x="753" y="368"/>
                  </a:cubicBezTo>
                  <a:cubicBezTo>
                    <a:pt x="742" y="386"/>
                    <a:pt x="732" y="403"/>
                    <a:pt x="721" y="421"/>
                  </a:cubicBezTo>
                  <a:lnTo>
                    <a:pt x="685" y="475"/>
                  </a:lnTo>
                  <a:cubicBezTo>
                    <a:pt x="671" y="493"/>
                    <a:pt x="656" y="511"/>
                    <a:pt x="642" y="529"/>
                  </a:cubicBezTo>
                  <a:cubicBezTo>
                    <a:pt x="626" y="547"/>
                    <a:pt x="610" y="564"/>
                    <a:pt x="594" y="582"/>
                  </a:cubicBezTo>
                  <a:lnTo>
                    <a:pt x="536" y="637"/>
                  </a:lnTo>
                  <a:cubicBezTo>
                    <a:pt x="517" y="653"/>
                    <a:pt x="497" y="669"/>
                    <a:pt x="478" y="685"/>
                  </a:cubicBezTo>
                  <a:cubicBezTo>
                    <a:pt x="460" y="699"/>
                    <a:pt x="441" y="712"/>
                    <a:pt x="423" y="726"/>
                  </a:cubicBezTo>
                  <a:lnTo>
                    <a:pt x="370" y="761"/>
                  </a:lnTo>
                  <a:cubicBezTo>
                    <a:pt x="353" y="771"/>
                    <a:pt x="336" y="780"/>
                    <a:pt x="319" y="790"/>
                  </a:cubicBezTo>
                  <a:cubicBezTo>
                    <a:pt x="304" y="798"/>
                    <a:pt x="288" y="805"/>
                    <a:pt x="273" y="813"/>
                  </a:cubicBezTo>
                  <a:lnTo>
                    <a:pt x="230" y="831"/>
                  </a:lnTo>
                  <a:cubicBezTo>
                    <a:pt x="218" y="836"/>
                    <a:pt x="205" y="840"/>
                    <a:pt x="193" y="845"/>
                  </a:cubicBezTo>
                  <a:cubicBezTo>
                    <a:pt x="182" y="848"/>
                    <a:pt x="172" y="852"/>
                    <a:pt x="161" y="855"/>
                  </a:cubicBezTo>
                  <a:cubicBezTo>
                    <a:pt x="152" y="857"/>
                    <a:pt x="144" y="860"/>
                    <a:pt x="135" y="862"/>
                  </a:cubicBezTo>
                  <a:cubicBezTo>
                    <a:pt x="128" y="863"/>
                    <a:pt x="122" y="865"/>
                    <a:pt x="115" y="866"/>
                  </a:cubicBezTo>
                  <a:cubicBezTo>
                    <a:pt x="111" y="867"/>
                    <a:pt x="108" y="867"/>
                    <a:pt x="104" y="868"/>
                  </a:cubicBezTo>
                  <a:lnTo>
                    <a:pt x="99" y="868"/>
                  </a:lnTo>
                  <a:cubicBezTo>
                    <a:pt x="96" y="894"/>
                    <a:pt x="93" y="921"/>
                    <a:pt x="90" y="947"/>
                  </a:cubicBezTo>
                  <a:lnTo>
                    <a:pt x="0" y="77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Oval 16"/>
          <p:cNvSpPr/>
          <p:nvPr/>
        </p:nvSpPr>
        <p:spPr>
          <a:xfrm flipV="1">
            <a:off x="2595600" y="1213560"/>
            <a:ext cx="712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9944E-006 L 0.66111 0.00277 E">
                                      <p:cBhvr>
                                        <p:cTn id="81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6489720" y="2214720"/>
            <a:ext cx="2786040" cy="221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>
                  <a:alpha val="7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45864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466560" y="1243080"/>
            <a:ext cx="6007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466560" y="5608800"/>
            <a:ext cx="6007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6478560" y="1246320"/>
            <a:ext cx="0" cy="436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4527720" y="4021200"/>
            <a:ext cx="88560" cy="106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2025720" y="581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添加标题文字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5"/>
          <p:cNvSpPr/>
          <p:nvPr/>
        </p:nvSpPr>
        <p:spPr>
          <a:xfrm>
            <a:off x="1641600" y="728640"/>
            <a:ext cx="88920" cy="1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6"/>
          <p:cNvGrpSpPr/>
          <p:nvPr/>
        </p:nvGrpSpPr>
        <p:grpSpPr>
          <a:xfrm>
            <a:off x="441000" y="781200"/>
            <a:ext cx="1200240" cy="455040"/>
            <a:chOff x="441000" y="781200"/>
            <a:chExt cx="1200240" cy="455040"/>
          </a:xfrm>
        </p:grpSpPr>
        <p:cxnSp>
          <p:nvCxnSpPr>
            <p:cNvPr id="271" name="AutoShape 17"/>
            <p:cNvCxnSpPr/>
            <p:nvPr/>
          </p:nvCxnSpPr>
          <p:spPr>
            <a:xfrm flipV="1">
              <a:off x="441000" y="782280"/>
              <a:ext cx="338760" cy="454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72" name="AutoShape 18"/>
            <p:cNvCxnSpPr/>
            <p:nvPr/>
          </p:nvCxnSpPr>
          <p:spPr>
            <a:xfrm flipH="1">
              <a:off x="783720" y="781200"/>
              <a:ext cx="85788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73" name="Rectangle 11"/>
          <p:cNvSpPr/>
          <p:nvPr/>
        </p:nvSpPr>
        <p:spPr>
          <a:xfrm>
            <a:off x="6572160" y="2550240"/>
            <a:ext cx="2428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     </a:t>
            </a:r>
            <a:r>
              <a:rPr b="1" lang="zh-CN" sz="1400" spc="-1" strike="noStrike">
                <a:solidFill>
                  <a:srgbClr val="000000"/>
                </a:solidFill>
                <a:latin typeface="华文细黑"/>
              </a:rPr>
              <a:t>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17"/>
          <p:cNvGrpSpPr/>
          <p:nvPr/>
        </p:nvGrpSpPr>
        <p:grpSpPr>
          <a:xfrm>
            <a:off x="785880" y="1500120"/>
            <a:ext cx="5357880" cy="3929040"/>
            <a:chOff x="785880" y="1500120"/>
            <a:chExt cx="5357880" cy="3929040"/>
          </a:xfrm>
        </p:grpSpPr>
        <p:grpSp>
          <p:nvGrpSpPr>
            <p:cNvPr id="275" name="组合 200"/>
            <p:cNvGrpSpPr/>
            <p:nvPr/>
          </p:nvGrpSpPr>
          <p:grpSpPr>
            <a:xfrm>
              <a:off x="1500120" y="1500120"/>
              <a:ext cx="4143600" cy="3214440"/>
              <a:chOff x="1500120" y="1500120"/>
              <a:chExt cx="4143600" cy="3214440"/>
            </a:xfrm>
          </p:grpSpPr>
          <p:sp>
            <p:nvSpPr>
              <p:cNvPr id="276" name="平行四边形 29"/>
              <p:cNvSpPr/>
              <p:nvPr/>
            </p:nvSpPr>
            <p:spPr>
              <a:xfrm flipV="1" rot="5400000">
                <a:off x="3933000" y="2467440"/>
                <a:ext cx="1671840" cy="765360"/>
              </a:xfrm>
              <a:prstGeom prst="parallelogram">
                <a:avLst>
                  <a:gd name="adj" fmla="val 78041"/>
                </a:avLst>
              </a:prstGeom>
              <a:solidFill>
                <a:srgbClr val="ff6600">
                  <a:alpha val="7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5"/>
              <p:cNvSpPr/>
              <p:nvPr/>
            </p:nvSpPr>
            <p:spPr>
              <a:xfrm flipV="1">
                <a:off x="1636920" y="2215440"/>
                <a:ext cx="0" cy="2356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5"/>
              <p:cNvSpPr/>
              <p:nvPr/>
            </p:nvSpPr>
            <p:spPr>
              <a:xfrm>
                <a:off x="1636920" y="4581360"/>
                <a:ext cx="3544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>
                <a:off x="2913480" y="1500120"/>
                <a:ext cx="0" cy="212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7"/>
              <p:cNvSpPr/>
              <p:nvPr/>
            </p:nvSpPr>
            <p:spPr>
              <a:xfrm flipV="1">
                <a:off x="1600560" y="31075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7"/>
              <p:cNvSpPr/>
              <p:nvPr/>
            </p:nvSpPr>
            <p:spPr>
              <a:xfrm>
                <a:off x="2743200" y="379152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6"/>
              <p:cNvSpPr/>
              <p:nvPr/>
            </p:nvSpPr>
            <p:spPr>
              <a:xfrm>
                <a:off x="4386600" y="207144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5"/>
              <p:cNvSpPr/>
              <p:nvPr/>
            </p:nvSpPr>
            <p:spPr>
              <a:xfrm flipV="1">
                <a:off x="1690200" y="2914200"/>
                <a:ext cx="2224440" cy="1616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V="1">
                <a:off x="2086560" y="36043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 flipV="1">
                <a:off x="3352680" y="36043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7"/>
              <p:cNvSpPr/>
              <p:nvPr/>
            </p:nvSpPr>
            <p:spPr>
              <a:xfrm flipV="1">
                <a:off x="3897720" y="355752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7"/>
              <p:cNvSpPr/>
              <p:nvPr/>
            </p:nvSpPr>
            <p:spPr>
              <a:xfrm>
                <a:off x="2133720" y="421236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27"/>
              <p:cNvSpPr/>
              <p:nvPr/>
            </p:nvSpPr>
            <p:spPr>
              <a:xfrm>
                <a:off x="2965680" y="362196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 flipV="1">
                <a:off x="1617840" y="2014200"/>
                <a:ext cx="1312920" cy="98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7"/>
              <p:cNvSpPr/>
              <p:nvPr/>
            </p:nvSpPr>
            <p:spPr>
              <a:xfrm>
                <a:off x="2930760" y="2014200"/>
                <a:ext cx="2362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左大括号 41"/>
              <p:cNvSpPr/>
              <p:nvPr/>
            </p:nvSpPr>
            <p:spPr>
              <a:xfrm rot="16200000">
                <a:off x="2701800" y="4032000"/>
                <a:ext cx="128520" cy="1236600"/>
              </a:xfrm>
              <a:custGeom>
                <a:avLst/>
                <a:gdLst>
                  <a:gd name="textAreaLeft" fmla="*/ 82080 w 128520"/>
                  <a:gd name="textAreaRight" fmla="*/ 128880 w 128520"/>
                  <a:gd name="textAreaTop" fmla="*/ 13320 h 1236600"/>
                  <a:gd name="textAreaBottom" fmla="*/ 1223280 h 123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78"/>
                      <a:pt x="10800" y="755"/>
                    </a:cubicBezTo>
                    <a:lnTo>
                      <a:pt x="10800" y="10045"/>
                    </a:lnTo>
                    <a:cubicBezTo>
                      <a:pt x="10800" y="10423"/>
                      <a:pt x="5400" y="10800"/>
                      <a:pt x="0" y="10800"/>
                    </a:cubicBezTo>
                    <a:cubicBezTo>
                      <a:pt x="5400" y="10800"/>
                      <a:pt x="10800" y="11178"/>
                      <a:pt x="10800" y="11555"/>
                    </a:cubicBezTo>
                    <a:lnTo>
                      <a:pt x="10800" y="20845"/>
                    </a:lnTo>
                    <a:cubicBezTo>
                      <a:pt x="10800" y="21223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左大括号 42"/>
              <p:cNvSpPr/>
              <p:nvPr/>
            </p:nvSpPr>
            <p:spPr>
              <a:xfrm rot="16200000">
                <a:off x="1818360" y="4385160"/>
                <a:ext cx="120600" cy="522360"/>
              </a:xfrm>
              <a:custGeom>
                <a:avLst/>
                <a:gdLst>
                  <a:gd name="textAreaLeft" fmla="*/ 77040 w 120600"/>
                  <a:gd name="textAreaRight" fmla="*/ 120960 w 120600"/>
                  <a:gd name="textAreaTop" fmla="*/ 12600 h 522360"/>
                  <a:gd name="textAreaBottom" fmla="*/ 50976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39"/>
                      <a:pt x="10800" y="1677"/>
                    </a:cubicBezTo>
                    <a:lnTo>
                      <a:pt x="10800" y="9123"/>
                    </a:lnTo>
                    <a:cubicBezTo>
                      <a:pt x="10800" y="9962"/>
                      <a:pt x="5400" y="10800"/>
                      <a:pt x="0" y="10800"/>
                    </a:cubicBezTo>
                    <a:cubicBezTo>
                      <a:pt x="5400" y="10800"/>
                      <a:pt x="10800" y="11639"/>
                      <a:pt x="10800" y="12477"/>
                    </a:cubicBezTo>
                    <a:lnTo>
                      <a:pt x="10800" y="19923"/>
                    </a:lnTo>
                    <a:cubicBezTo>
                      <a:pt x="10800" y="20762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左大括号 43"/>
              <p:cNvSpPr/>
              <p:nvPr/>
            </p:nvSpPr>
            <p:spPr>
              <a:xfrm rot="16200000">
                <a:off x="3585600" y="4385160"/>
                <a:ext cx="120600" cy="522360"/>
              </a:xfrm>
              <a:custGeom>
                <a:avLst/>
                <a:gdLst>
                  <a:gd name="textAreaLeft" fmla="*/ 77040 w 120600"/>
                  <a:gd name="textAreaRight" fmla="*/ 120960 w 120600"/>
                  <a:gd name="textAreaTop" fmla="*/ 12600 h 522360"/>
                  <a:gd name="textAreaBottom" fmla="*/ 50976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39"/>
                      <a:pt x="10800" y="1677"/>
                    </a:cubicBezTo>
                    <a:lnTo>
                      <a:pt x="10800" y="9123"/>
                    </a:lnTo>
                    <a:cubicBezTo>
                      <a:pt x="10800" y="9962"/>
                      <a:pt x="5400" y="10800"/>
                      <a:pt x="0" y="10800"/>
                    </a:cubicBezTo>
                    <a:cubicBezTo>
                      <a:pt x="5400" y="10800"/>
                      <a:pt x="10800" y="11639"/>
                      <a:pt x="10800" y="12477"/>
                    </a:cubicBezTo>
                    <a:lnTo>
                      <a:pt x="10800" y="19923"/>
                    </a:lnTo>
                    <a:cubicBezTo>
                      <a:pt x="10800" y="20762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左大括号 44"/>
              <p:cNvSpPr/>
              <p:nvPr/>
            </p:nvSpPr>
            <p:spPr>
              <a:xfrm>
                <a:off x="1500120" y="2979720"/>
                <a:ext cx="117360" cy="1092240"/>
              </a:xfrm>
              <a:custGeom>
                <a:avLst/>
                <a:gdLst>
                  <a:gd name="textAreaLeft" fmla="*/ 74880 w 117360"/>
                  <a:gd name="textAreaRight" fmla="*/ 117720 w 117360"/>
                  <a:gd name="textAreaTop" fmla="*/ 12240 h 1092240"/>
                  <a:gd name="textAreaBottom" fmla="*/ 1080000 h 10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91"/>
                      <a:pt x="10800" y="781"/>
                    </a:cubicBezTo>
                    <a:lnTo>
                      <a:pt x="10800" y="10019"/>
                    </a:lnTo>
                    <a:cubicBezTo>
                      <a:pt x="10800" y="10410"/>
                      <a:pt x="5400" y="10800"/>
                      <a:pt x="0" y="10800"/>
                    </a:cubicBezTo>
                    <a:cubicBezTo>
                      <a:pt x="5400" y="10800"/>
                      <a:pt x="10800" y="11191"/>
                      <a:pt x="10800" y="11581"/>
                    </a:cubicBezTo>
                    <a:lnTo>
                      <a:pt x="10800" y="20819"/>
                    </a:lnTo>
                    <a:cubicBezTo>
                      <a:pt x="10800" y="2121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左大括号 45"/>
              <p:cNvSpPr/>
              <p:nvPr/>
            </p:nvSpPr>
            <p:spPr>
              <a:xfrm>
                <a:off x="1500120" y="4071960"/>
                <a:ext cx="117360" cy="522360"/>
              </a:xfrm>
              <a:custGeom>
                <a:avLst/>
                <a:gdLst>
                  <a:gd name="textAreaLeft" fmla="*/ 74880 w 117360"/>
                  <a:gd name="textAreaRight" fmla="*/ 117720 w 117360"/>
                  <a:gd name="textAreaTop" fmla="*/ 12240 h 522360"/>
                  <a:gd name="textAreaBottom" fmla="*/ 510120 h 52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817"/>
                      <a:pt x="10800" y="1633"/>
                    </a:cubicBezTo>
                    <a:lnTo>
                      <a:pt x="10800" y="9167"/>
                    </a:lnTo>
                    <a:cubicBezTo>
                      <a:pt x="10800" y="9984"/>
                      <a:pt x="5400" y="10800"/>
                      <a:pt x="0" y="10800"/>
                    </a:cubicBezTo>
                    <a:cubicBezTo>
                      <a:pt x="5400" y="10800"/>
                      <a:pt x="10800" y="11617"/>
                      <a:pt x="10800" y="12433"/>
                    </a:cubicBezTo>
                    <a:lnTo>
                      <a:pt x="10800" y="19967"/>
                    </a:lnTo>
                    <a:cubicBezTo>
                      <a:pt x="10800" y="20784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26"/>
              <p:cNvSpPr/>
              <p:nvPr/>
            </p:nvSpPr>
            <p:spPr>
              <a:xfrm>
                <a:off x="2619360" y="207144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6"/>
              <p:cNvSpPr/>
              <p:nvPr/>
            </p:nvSpPr>
            <p:spPr>
              <a:xfrm>
                <a:off x="3384720" y="156348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6"/>
              <p:cNvSpPr/>
              <p:nvPr/>
            </p:nvSpPr>
            <p:spPr>
              <a:xfrm>
                <a:off x="5151600" y="1500120"/>
                <a:ext cx="0" cy="212112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7"/>
              <p:cNvSpPr/>
              <p:nvPr/>
            </p:nvSpPr>
            <p:spPr>
              <a:xfrm>
                <a:off x="2971800" y="3108240"/>
                <a:ext cx="2671920" cy="0"/>
              </a:xfrm>
              <a:prstGeom prst="line">
                <a:avLst/>
              </a:prstGeom>
              <a:ln w="2556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矩形 50"/>
              <p:cNvSpPr/>
              <p:nvPr/>
            </p:nvSpPr>
            <p:spPr>
              <a:xfrm>
                <a:off x="2619360" y="2592360"/>
                <a:ext cx="1766880" cy="1093680"/>
              </a:xfrm>
              <a:prstGeom prst="rect">
                <a:avLst/>
              </a:prstGeom>
              <a:solidFill>
                <a:srgbClr val="ff9900">
                  <a:alpha val="7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平行四边形 54"/>
              <p:cNvSpPr/>
              <p:nvPr/>
            </p:nvSpPr>
            <p:spPr>
              <a:xfrm>
                <a:off x="2619000" y="2014200"/>
                <a:ext cx="2524680" cy="578520"/>
              </a:xfrm>
              <a:prstGeom prst="parallelogram">
                <a:avLst>
                  <a:gd name="adj" fmla="val 126516"/>
                </a:avLst>
              </a:prstGeom>
              <a:solidFill>
                <a:srgbClr val="ffc000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TextBox 19"/>
            <p:cNvSpPr/>
            <p:nvPr/>
          </p:nvSpPr>
          <p:spPr>
            <a:xfrm>
              <a:off x="785880" y="321444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主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影响力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20"/>
            <p:cNvSpPr/>
            <p:nvPr/>
          </p:nvSpPr>
          <p:spPr>
            <a:xfrm>
              <a:off x="785880" y="4143240"/>
              <a:ext cx="714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非主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影响力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1"/>
            <p:cNvSpPr/>
            <p:nvPr/>
          </p:nvSpPr>
          <p:spPr>
            <a:xfrm>
              <a:off x="155304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华文细黑"/>
                </a:rPr>
                <a:t>弱势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22"/>
            <p:cNvSpPr/>
            <p:nvPr/>
          </p:nvSpPr>
          <p:spPr>
            <a:xfrm>
              <a:off x="248508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华文细黑"/>
                </a:rPr>
                <a:t>中端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3"/>
            <p:cNvSpPr/>
            <p:nvPr/>
          </p:nvSpPr>
          <p:spPr>
            <a:xfrm>
              <a:off x="3342600" y="4714920"/>
              <a:ext cx="5151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华文细黑"/>
                </a:rPr>
                <a:t>顶级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24"/>
            <p:cNvSpPr/>
            <p:nvPr/>
          </p:nvSpPr>
          <p:spPr>
            <a:xfrm>
              <a:off x="4286520" y="428616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生存消费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25"/>
            <p:cNvSpPr/>
            <p:nvPr/>
          </p:nvSpPr>
          <p:spPr>
            <a:xfrm>
              <a:off x="4714920" y="389700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生活消费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6"/>
            <p:cNvSpPr/>
            <p:nvPr/>
          </p:nvSpPr>
          <p:spPr>
            <a:xfrm>
              <a:off x="5072400" y="3611160"/>
              <a:ext cx="100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华文细黑"/>
                </a:rPr>
                <a:t>奢侈品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7"/>
            <p:cNvSpPr/>
            <p:nvPr/>
          </p:nvSpPr>
          <p:spPr>
            <a:xfrm>
              <a:off x="1214280" y="1928520"/>
              <a:ext cx="92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c000"/>
                  </a:solidFill>
                  <a:latin typeface="华文细黑"/>
                </a:rPr>
                <a:t>品牌影响力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8"/>
            <p:cNvSpPr/>
            <p:nvPr/>
          </p:nvSpPr>
          <p:spPr>
            <a:xfrm>
              <a:off x="5215320" y="4500720"/>
              <a:ext cx="928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c000"/>
                  </a:solidFill>
                  <a:latin typeface="华文细黑"/>
                </a:rPr>
                <a:t>关注人群</a:t>
              </a:r>
              <a:endParaRPr b="0" i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-0.44983 -0.41222 E">
                                      <p:cBhvr>
                                        <p:cTn id="129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H:\WDS\WDS图片\15650.jpg"/>
          <p:cNvPicPr/>
          <p:nvPr/>
        </p:nvPicPr>
        <p:blipFill>
          <a:blip r:embed="rId1"/>
          <a:srcRect l="18235" t="0" r="0" b="0"/>
          <a:stretch/>
        </p:blipFill>
        <p:spPr>
          <a:xfrm>
            <a:off x="1811160" y="822240"/>
            <a:ext cx="5689800" cy="5148360"/>
          </a:xfrm>
          <a:prstGeom prst="rect">
            <a:avLst/>
          </a:prstGeom>
          <a:ln w="0">
            <a:noFill/>
          </a:ln>
        </p:spPr>
      </p:pic>
      <p:sp>
        <p:nvSpPr>
          <p:cNvPr id="313" name="Line 3"/>
          <p:cNvSpPr/>
          <p:nvPr/>
        </p:nvSpPr>
        <p:spPr>
          <a:xfrm flipV="1">
            <a:off x="7075440" y="639360"/>
            <a:ext cx="17640" cy="196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"/>
          <p:cNvSpPr/>
          <p:nvPr/>
        </p:nvSpPr>
        <p:spPr>
          <a:xfrm flipH="1" flipV="1">
            <a:off x="6877080" y="352080"/>
            <a:ext cx="15840" cy="484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 flipV="1">
            <a:off x="6732720" y="495360"/>
            <a:ext cx="41040" cy="34128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"/>
          <p:cNvSpPr/>
          <p:nvPr/>
        </p:nvSpPr>
        <p:spPr>
          <a:xfrm flipH="1" flipV="1">
            <a:off x="6516720" y="423360"/>
            <a:ext cx="71280" cy="41292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7"/>
          <p:cNvSpPr/>
          <p:nvPr/>
        </p:nvSpPr>
        <p:spPr>
          <a:xfrm flipV="1">
            <a:off x="6443640" y="568080"/>
            <a:ext cx="0" cy="268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7505640" y="3714840"/>
            <a:ext cx="163836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1785960" y="4286160"/>
            <a:ext cx="571500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1809720" y="450072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标题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0"/>
          <p:cNvSpPr/>
          <p:nvPr/>
        </p:nvSpPr>
        <p:spPr>
          <a:xfrm>
            <a:off x="0" y="3714840"/>
            <a:ext cx="1785960" cy="1000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56"/>
          <p:cNvGrpSpPr/>
          <p:nvPr/>
        </p:nvGrpSpPr>
        <p:grpSpPr>
          <a:xfrm>
            <a:off x="1785960" y="785880"/>
            <a:ext cx="5715000" cy="5240160"/>
            <a:chOff x="1785960" y="785880"/>
            <a:chExt cx="5715000" cy="5240160"/>
          </a:xfrm>
        </p:grpSpPr>
        <p:sp>
          <p:nvSpPr>
            <p:cNvPr id="323" name="Line 57"/>
            <p:cNvSpPr/>
            <p:nvPr/>
          </p:nvSpPr>
          <p:spPr>
            <a:xfrm>
              <a:off x="1785960" y="601200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8"/>
            <p:cNvSpPr/>
            <p:nvPr/>
          </p:nvSpPr>
          <p:spPr>
            <a:xfrm>
              <a:off x="17859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59"/>
            <p:cNvSpPr/>
            <p:nvPr/>
          </p:nvSpPr>
          <p:spPr>
            <a:xfrm>
              <a:off x="7499160" y="785880"/>
              <a:ext cx="0" cy="5240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1785960" y="792360"/>
              <a:ext cx="571500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"/>
          <p:cNvSpPr/>
          <p:nvPr/>
        </p:nvSpPr>
        <p:spPr>
          <a:xfrm>
            <a:off x="1538280" y="1255680"/>
            <a:ext cx="62485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</a:rPr>
              <a:t>单击此处添加文字内容  单击此处添加文字内容  单击此处添加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4"/>
          <p:cNvSpPr/>
          <p:nvPr/>
        </p:nvSpPr>
        <p:spPr>
          <a:xfrm>
            <a:off x="1357200" y="57862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图片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12"/>
          <p:cNvGrpSpPr/>
          <p:nvPr/>
        </p:nvGrpSpPr>
        <p:grpSpPr>
          <a:xfrm>
            <a:off x="1285920" y="571680"/>
            <a:ext cx="2855880" cy="502920"/>
            <a:chOff x="1285920" y="571680"/>
            <a:chExt cx="2855880" cy="502920"/>
          </a:xfrm>
        </p:grpSpPr>
        <p:grpSp>
          <p:nvGrpSpPr>
            <p:cNvPr id="330" name="圆角矩形 13"/>
            <p:cNvGrpSpPr/>
            <p:nvPr/>
          </p:nvGrpSpPr>
          <p:grpSpPr>
            <a:xfrm>
              <a:off x="1285920" y="571680"/>
              <a:ext cx="2855880" cy="502920"/>
              <a:chOff x="1285920" y="571680"/>
              <a:chExt cx="2855880" cy="502920"/>
            </a:xfrm>
          </p:grpSpPr>
          <p:pic>
            <p:nvPicPr>
              <p:cNvPr id="331" name="圆角矩形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571680"/>
                <a:ext cx="2855880" cy="50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1361880" y="615600"/>
                <a:ext cx="2705760" cy="3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圆角矩形 4"/>
            <p:cNvSpPr/>
            <p:nvPr/>
          </p:nvSpPr>
          <p:spPr>
            <a:xfrm>
              <a:off x="1353600" y="615240"/>
              <a:ext cx="272268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文字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6"/>
          <p:cNvGrpSpPr/>
          <p:nvPr/>
        </p:nvGrpSpPr>
        <p:grpSpPr>
          <a:xfrm>
            <a:off x="1143000" y="1343160"/>
            <a:ext cx="6786360" cy="1814040"/>
            <a:chOff x="1143000" y="1343160"/>
            <a:chExt cx="6786360" cy="1814040"/>
          </a:xfrm>
        </p:grpSpPr>
        <p:sp>
          <p:nvSpPr>
            <p:cNvPr id="335" name="Freeform 36"/>
            <p:cNvSpPr/>
            <p:nvPr/>
          </p:nvSpPr>
          <p:spPr>
            <a:xfrm>
              <a:off x="1143000" y="1343160"/>
              <a:ext cx="200520" cy="2286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 rot="16200000">
              <a:off x="1126800" y="2873520"/>
              <a:ext cx="230040" cy="1976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 rot="10800000">
              <a:off x="7668360" y="2928600"/>
              <a:ext cx="200520" cy="2286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9"/>
            <p:cNvSpPr/>
            <p:nvPr/>
          </p:nvSpPr>
          <p:spPr>
            <a:xfrm rot="5400000">
              <a:off x="7715520" y="1373400"/>
              <a:ext cx="230040" cy="1976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427" h="423">
                  <a:moveTo>
                    <a:pt x="0" y="0"/>
                  </a:moveTo>
                  <a:lnTo>
                    <a:pt x="0" y="423"/>
                  </a:lnTo>
                  <a:lnTo>
                    <a:pt x="82" y="423"/>
                  </a:lnTo>
                  <a:lnTo>
                    <a:pt x="82" y="82"/>
                  </a:lnTo>
                  <a:lnTo>
                    <a:pt x="427" y="82"/>
                  </a:lnTo>
                  <a:lnTo>
                    <a:pt x="4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Picture 2" descr="F:\于凌波\WDS\WDS图片\39.jpg"/>
          <p:cNvPicPr/>
          <p:nvPr/>
        </p:nvPicPr>
        <p:blipFill>
          <a:blip r:embed="rId2"/>
          <a:srcRect l="0" t="1643" r="8561" b="0"/>
          <a:stretch/>
        </p:blipFill>
        <p:spPr>
          <a:xfrm>
            <a:off x="928800" y="3357720"/>
            <a:ext cx="3289320" cy="23716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E:\WDS\WDS图片\9.jpg"/>
          <p:cNvPicPr/>
          <p:nvPr/>
        </p:nvPicPr>
        <p:blipFill>
          <a:blip r:embed="rId3"/>
          <a:srcRect l="4444" t="0" r="3287" b="0"/>
          <a:stretch/>
        </p:blipFill>
        <p:spPr>
          <a:xfrm>
            <a:off x="4929120" y="3359160"/>
            <a:ext cx="3214800" cy="233676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4"/>
          <p:cNvSpPr/>
          <p:nvPr/>
        </p:nvSpPr>
        <p:spPr>
          <a:xfrm>
            <a:off x="5214960" y="57862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添加图片标题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7"/>
          <p:cNvSpPr/>
          <p:nvPr/>
        </p:nvSpPr>
        <p:spPr>
          <a:xfrm>
            <a:off x="1227240" y="816120"/>
            <a:ext cx="66895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"/>
          <p:cNvSpPr/>
          <p:nvPr/>
        </p:nvSpPr>
        <p:spPr>
          <a:xfrm>
            <a:off x="1227240" y="6035760"/>
            <a:ext cx="66895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1227240" y="809640"/>
            <a:ext cx="0" cy="5240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>
            <a:off x="7915320" y="809640"/>
            <a:ext cx="0" cy="52401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 flipH="1" flipV="1">
            <a:off x="7410240" y="496440"/>
            <a:ext cx="129960" cy="32076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3"/>
          <p:cNvSpPr/>
          <p:nvPr/>
        </p:nvSpPr>
        <p:spPr>
          <a:xfrm flipH="1" flipV="1">
            <a:off x="7275240" y="496440"/>
            <a:ext cx="82440" cy="32076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4"/>
          <p:cNvSpPr/>
          <p:nvPr/>
        </p:nvSpPr>
        <p:spPr>
          <a:xfrm flipV="1">
            <a:off x="7085160" y="306360"/>
            <a:ext cx="50760" cy="51120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5"/>
          <p:cNvSpPr/>
          <p:nvPr/>
        </p:nvSpPr>
        <p:spPr>
          <a:xfrm flipV="1">
            <a:off x="6908760" y="563400"/>
            <a:ext cx="3240" cy="254160"/>
          </a:xfrm>
          <a:prstGeom prst="line">
            <a:avLst/>
          </a:prstGeom>
          <a:ln w="12600">
            <a:solidFill>
              <a:srgbClr val="c0c0c0">
                <a:alpha val="39000"/>
              </a:srgbClr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785960" y="188136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华文细黑"/>
              </a:rPr>
              <a:t>长期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1785960" y="373212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华文细黑"/>
              </a:rPr>
              <a:t>短期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3216240" y="5283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华文细黑"/>
              </a:rPr>
              <a:t>微观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6148440" y="5283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华文细黑"/>
              </a:rPr>
              <a:t>宏观利益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3093480" y="3657600"/>
            <a:ext cx="866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扩大目标市场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增加目标客户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增加曝光率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增加销售机会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3054240" y="2023920"/>
            <a:ext cx="981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培养客户忠诚度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扩大市场份额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培养潜在客户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拓展销售渠道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2217600" y="1593360"/>
            <a:ext cx="0" cy="3598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217600" y="5207040"/>
            <a:ext cx="540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4714920" y="1903320"/>
            <a:ext cx="0" cy="3240360"/>
          </a:xfrm>
          <a:prstGeom prst="line">
            <a:avLst/>
          </a:prstGeom>
          <a:ln w="255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7"/>
          <p:cNvSpPr/>
          <p:nvPr/>
        </p:nvSpPr>
        <p:spPr>
          <a:xfrm>
            <a:off x="2217600" y="3500280"/>
            <a:ext cx="5040360" cy="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5496840" y="2071800"/>
            <a:ext cx="12096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树立强势品牌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形成良好的社会效益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树立良好口碑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产生辐射效益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5529240" y="3975120"/>
            <a:ext cx="109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提升企业正面形象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华文细黑"/>
              </a:rPr>
              <a:t>提升产品美誉度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2246400" y="1857240"/>
            <a:ext cx="5040360" cy="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6"/>
          <p:cNvSpPr/>
          <p:nvPr/>
        </p:nvSpPr>
        <p:spPr>
          <a:xfrm>
            <a:off x="7215120" y="1928880"/>
            <a:ext cx="0" cy="3240000"/>
          </a:xfrm>
          <a:prstGeom prst="line">
            <a:avLst/>
          </a:prstGeom>
          <a:ln w="255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27"/>
          <p:cNvGrpSpPr/>
          <p:nvPr/>
        </p:nvGrpSpPr>
        <p:grpSpPr>
          <a:xfrm>
            <a:off x="1285920" y="210960"/>
            <a:ext cx="2855880" cy="503280"/>
            <a:chOff x="1285920" y="210960"/>
            <a:chExt cx="2855880" cy="503280"/>
          </a:xfrm>
        </p:grpSpPr>
        <p:grpSp>
          <p:nvGrpSpPr>
            <p:cNvPr id="365" name="圆角矩形 28"/>
            <p:cNvGrpSpPr/>
            <p:nvPr/>
          </p:nvGrpSpPr>
          <p:grpSpPr>
            <a:xfrm>
              <a:off x="1285920" y="210960"/>
              <a:ext cx="2855880" cy="503280"/>
              <a:chOff x="1285920" y="210960"/>
              <a:chExt cx="2855880" cy="503280"/>
            </a:xfrm>
          </p:grpSpPr>
          <p:pic>
            <p:nvPicPr>
              <p:cNvPr id="366" name="圆角矩形 28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210960"/>
                <a:ext cx="2855880" cy="5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1361880" y="254520"/>
                <a:ext cx="2705760" cy="3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圆角矩形 4"/>
            <p:cNvSpPr/>
            <p:nvPr/>
          </p:nvSpPr>
          <p:spPr>
            <a:xfrm>
              <a:off x="1353600" y="252360"/>
              <a:ext cx="27226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华文细黑"/>
                </a:rPr>
                <a:t>添加标题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bby</dc:creator>
  <dc:description/>
  <cp:keywords>car</cp:keywords>
  <dc:language>en-US</dc:language>
  <cp:lastModifiedBy>YANGS-PC</cp:lastModifiedBy>
  <dcterms:modified xsi:type="dcterms:W3CDTF">2015-06-26T09:07:08Z</dcterms:modified>
  <cp:revision>608</cp:revision>
  <dc:subject/>
  <dc:title>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