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28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9.png" ContentType="image/png"/>
  <Override PartName="/ppt/media/image8.png" ContentType="image/png"/>
  <Override PartName="/ppt/media/image13.png" ContentType="image/png"/>
  <Override PartName="/ppt/media/image7.wmf" ContentType="image/x-wmf"/>
  <Override PartName="/ppt/media/image12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F109-96F7-4E18-AA3B-43F7B0C69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6C5A-D125-4B0B-83E3-A694BCB61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38EF-8C59-452A-9ABB-161455C6C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5091-598C-46B8-AE11-E40E604BA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3985-133E-49C6-B163-D10946678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9FC1-62C3-42E2-A030-0CB3E48D6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D11E-1862-47D7-913D-B013D7C1E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E0FB-EC2A-4593-8392-7A1EBF01F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2AE6-EF39-4A23-938B-2A38D8779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C69D-41D7-4593-8962-6A9DAA385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4806-F1C5-4BC1-A391-EF483E00C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33CE-4B66-4D60-B9DF-F22C96D94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CD99B-FD0F-442E-AE8B-7742CE4217C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file:///tmp/home/.config/libreoffice/4/user/gallery/Break31.wav" TargetMode="External"/><Relationship Id="rId3" Type="http://schemas.microsoft.com/office/2007/relationships/media" Target="file:///tmp/home/.config/libreoffice/4/user/gallery/Break31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5.png"/><Relationship Id="rId11" Type="http://schemas.openxmlformats.org/officeDocument/2006/relationships/image" Target="../media/image6.png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8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18.png"/><Relationship Id="rId16" Type="http://schemas.openxmlformats.org/officeDocument/2006/relationships/image" Target="../media/image19.png"/><Relationship Id="rId17" Type="http://schemas.openxmlformats.org/officeDocument/2006/relationships/image" Target="../media/image18.png"/><Relationship Id="rId18" Type="http://schemas.openxmlformats.org/officeDocument/2006/relationships/image" Target="../media/image4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image" Target="../media/image4.png"/><Relationship Id="rId22" Type="http://schemas.openxmlformats.org/officeDocument/2006/relationships/image" Target="../media/image4.png"/><Relationship Id="rId23" Type="http://schemas.openxmlformats.org/officeDocument/2006/relationships/image" Target="../media/image4.png"/><Relationship Id="rId24" Type="http://schemas.openxmlformats.org/officeDocument/2006/relationships/image" Target="../media/image4.png"/><Relationship Id="rId25" Type="http://schemas.openxmlformats.org/officeDocument/2006/relationships/image" Target="../media/image4.png"/><Relationship Id="rId26" Type="http://schemas.openxmlformats.org/officeDocument/2006/relationships/image" Target="../media/image4.png"/><Relationship Id="rId2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image" Target="../media/image29.png"/><Relationship Id="rId11" Type="http://schemas.openxmlformats.org/officeDocument/2006/relationships/image" Target="../media/image30.png"/><Relationship Id="rId12" Type="http://schemas.openxmlformats.org/officeDocument/2006/relationships/image" Target="../media/image31.png"/><Relationship Id="rId13" Type="http://schemas.openxmlformats.org/officeDocument/2006/relationships/image" Target="../media/image32.png"/><Relationship Id="rId14" Type="http://schemas.openxmlformats.org/officeDocument/2006/relationships/image" Target="../media/image33.png"/><Relationship Id="rId15" Type="http://schemas.openxmlformats.org/officeDocument/2006/relationships/image" Target="../media/image33.png"/><Relationship Id="rId16" Type="http://schemas.openxmlformats.org/officeDocument/2006/relationships/image" Target="../media/image33.png"/><Relationship Id="rId17" Type="http://schemas.openxmlformats.org/officeDocument/2006/relationships/image" Target="../media/image33.png"/><Relationship Id="rId18" Type="http://schemas.openxmlformats.org/officeDocument/2006/relationships/image" Target="../media/image33.png"/><Relationship Id="rId19" Type="http://schemas.openxmlformats.org/officeDocument/2006/relationships/image" Target="../media/image33.png"/><Relationship Id="rId20" Type="http://schemas.openxmlformats.org/officeDocument/2006/relationships/image" Target="../media/image33.png"/><Relationship Id="rId21" Type="http://schemas.openxmlformats.org/officeDocument/2006/relationships/image" Target="../media/image34.png"/><Relationship Id="rId22" Type="http://schemas.openxmlformats.org/officeDocument/2006/relationships/image" Target="../media/image33.png"/><Relationship Id="rId23" Type="http://schemas.openxmlformats.org/officeDocument/2006/relationships/image" Target="../media/image33.png"/><Relationship Id="rId24" Type="http://schemas.openxmlformats.org/officeDocument/2006/relationships/image" Target="../media/image34.png"/><Relationship Id="rId25" Type="http://schemas.openxmlformats.org/officeDocument/2006/relationships/image" Target="../media/image33.png"/><Relationship Id="rId26" Type="http://schemas.openxmlformats.org/officeDocument/2006/relationships/image" Target="../media/image33.png"/><Relationship Id="rId27" Type="http://schemas.openxmlformats.org/officeDocument/2006/relationships/image" Target="../media/image35.png"/><Relationship Id="rId2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4"/>
          <p:cNvSpPr/>
          <p:nvPr/>
        </p:nvSpPr>
        <p:spPr>
          <a:xfrm>
            <a:off x="0" y="0"/>
            <a:ext cx="9191520" cy="51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6" descr=""/>
          <p:cNvPicPr/>
          <p:nvPr/>
        </p:nvPicPr>
        <p:blipFill>
          <a:blip r:embed="rId1"/>
          <a:stretch/>
        </p:blipFill>
        <p:spPr>
          <a:xfrm>
            <a:off x="3240" y="0"/>
            <a:ext cx="9140760" cy="5143680"/>
          </a:xfrm>
          <a:prstGeom prst="rect">
            <a:avLst/>
          </a:prstGeom>
          <a:ln w="0">
            <a:noFill/>
          </a:ln>
        </p:spPr>
      </p:pic>
      <p:grpSp>
        <p:nvGrpSpPr>
          <p:cNvPr id="43" name=""/>
          <p:cNvGrpSpPr/>
          <p:nvPr/>
        </p:nvGrpSpPr>
        <p:grpSpPr>
          <a:xfrm>
            <a:off x="3333600" y="-3941640"/>
            <a:ext cx="2419560" cy="7503840"/>
            <a:chOff x="3333600" y="-3941640"/>
            <a:chExt cx="2419560" cy="7503840"/>
          </a:xfrm>
        </p:grpSpPr>
        <p:sp>
          <p:nvSpPr>
            <p:cNvPr id="44" name="Rectangle 8"/>
            <p:cNvSpPr/>
            <p:nvPr/>
          </p:nvSpPr>
          <p:spPr>
            <a:xfrm>
              <a:off x="3333600" y="1619640"/>
              <a:ext cx="2419560" cy="19425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椭圆 10"/>
            <p:cNvSpPr/>
            <p:nvPr/>
          </p:nvSpPr>
          <p:spPr>
            <a:xfrm>
              <a:off x="4357440" y="-3941640"/>
              <a:ext cx="428400" cy="4284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-1922400" y="-2970360"/>
            <a:ext cx="12723840" cy="10236240"/>
            <a:chOff x="-1922400" y="-2970360"/>
            <a:chExt cx="12723840" cy="10236240"/>
          </a:xfrm>
        </p:grpSpPr>
        <p:sp>
          <p:nvSpPr>
            <p:cNvPr id="47" name="Rectangle 8"/>
            <p:cNvSpPr/>
            <p:nvPr/>
          </p:nvSpPr>
          <p:spPr>
            <a:xfrm>
              <a:off x="-1922400" y="3021480"/>
              <a:ext cx="12723840" cy="4244400"/>
            </a:xfrm>
            <a:prstGeom prst="rect">
              <a:avLst/>
            </a:prstGeom>
            <a:gradFill rotWithShape="0">
              <a:gsLst>
                <a:gs pos="0">
                  <a:srgbClr val="00b0f0"/>
                </a:gs>
                <a:gs pos="100000">
                  <a:srgbClr val="007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椭圆 5"/>
            <p:cNvSpPr/>
            <p:nvPr/>
          </p:nvSpPr>
          <p:spPr>
            <a:xfrm>
              <a:off x="4358520" y="-2970360"/>
              <a:ext cx="428400" cy="4284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Freeform 7"/>
          <p:cNvSpPr/>
          <p:nvPr/>
        </p:nvSpPr>
        <p:spPr>
          <a:xfrm>
            <a:off x="2124000" y="1620720"/>
            <a:ext cx="304920" cy="577800"/>
          </a:xfrm>
          <a:custGeom>
            <a:avLst/>
            <a:gdLst>
              <a:gd name="textAreaLeft" fmla="*/ 0 w 304920"/>
              <a:gd name="textAreaRight" fmla="*/ 305280 w 304920"/>
              <a:gd name="textAreaTop" fmla="*/ 0 h 577800"/>
              <a:gd name="textAreaBottom" fmla="*/ 578160 h 577800"/>
            </a:gdLst>
            <a:ahLst/>
            <a:rect l="textAreaLeft" t="textAreaTop" r="textAreaRight" b="textAreaBottom"/>
            <a:pathLst>
              <a:path w="142" h="270">
                <a:moveTo>
                  <a:pt x="0" y="162"/>
                </a:moveTo>
                <a:lnTo>
                  <a:pt x="142" y="0"/>
                </a:lnTo>
                <a:lnTo>
                  <a:pt x="34" y="270"/>
                </a:lnTo>
                <a:lnTo>
                  <a:pt x="0" y="16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Freeform 8"/>
          <p:cNvSpPr/>
          <p:nvPr/>
        </p:nvSpPr>
        <p:spPr>
          <a:xfrm>
            <a:off x="2530440" y="1262160"/>
            <a:ext cx="461880" cy="547560"/>
          </a:xfrm>
          <a:custGeom>
            <a:avLst/>
            <a:gdLst>
              <a:gd name="textAreaLeft" fmla="*/ 0 w 461880"/>
              <a:gd name="textAreaRight" fmla="*/ 462240 w 461880"/>
              <a:gd name="textAreaTop" fmla="*/ 0 h 547560"/>
              <a:gd name="textAreaBottom" fmla="*/ 547920 h 547560"/>
            </a:gdLst>
            <a:ahLst/>
            <a:rect l="textAreaLeft" t="textAreaTop" r="textAreaRight" b="textAreaBottom"/>
            <a:pathLst>
              <a:path w="216" h="256">
                <a:moveTo>
                  <a:pt x="0" y="130"/>
                </a:moveTo>
                <a:lnTo>
                  <a:pt x="216" y="0"/>
                </a:lnTo>
                <a:lnTo>
                  <a:pt x="66" y="256"/>
                </a:lnTo>
                <a:lnTo>
                  <a:pt x="0" y="13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9"/>
          <p:cNvSpPr/>
          <p:nvPr/>
        </p:nvSpPr>
        <p:spPr>
          <a:xfrm>
            <a:off x="3121200" y="958680"/>
            <a:ext cx="607680" cy="505080"/>
          </a:xfrm>
          <a:custGeom>
            <a:avLst/>
            <a:gdLst>
              <a:gd name="textAreaLeft" fmla="*/ 0 w 607680"/>
              <a:gd name="textAreaRight" fmla="*/ 608040 w 60768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284" h="236">
                <a:moveTo>
                  <a:pt x="0" y="114"/>
                </a:moveTo>
                <a:lnTo>
                  <a:pt x="284" y="0"/>
                </a:lnTo>
                <a:lnTo>
                  <a:pt x="142" y="236"/>
                </a:lnTo>
                <a:lnTo>
                  <a:pt x="0" y="1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10"/>
          <p:cNvSpPr/>
          <p:nvPr/>
        </p:nvSpPr>
        <p:spPr>
          <a:xfrm>
            <a:off x="3878280" y="880920"/>
            <a:ext cx="668160" cy="411480"/>
          </a:xfrm>
          <a:custGeom>
            <a:avLst/>
            <a:gdLst>
              <a:gd name="textAreaLeft" fmla="*/ 0 w 668160"/>
              <a:gd name="textAreaRight" fmla="*/ 668520 w 668160"/>
              <a:gd name="textAreaTop" fmla="*/ 0 h 411480"/>
              <a:gd name="textAreaBottom" fmla="*/ 411840 h 411480"/>
            </a:gdLst>
            <a:ahLst/>
            <a:rect l="textAreaLeft" t="textAreaTop" r="textAreaRight" b="textAreaBottom"/>
            <a:pathLst>
              <a:path w="312" h="192">
                <a:moveTo>
                  <a:pt x="0" y="36"/>
                </a:moveTo>
                <a:lnTo>
                  <a:pt x="312" y="0"/>
                </a:lnTo>
                <a:lnTo>
                  <a:pt x="136" y="192"/>
                </a:lnTo>
                <a:lnTo>
                  <a:pt x="0" y="3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11"/>
          <p:cNvSpPr/>
          <p:nvPr/>
        </p:nvSpPr>
        <p:spPr>
          <a:xfrm>
            <a:off x="4708440" y="880920"/>
            <a:ext cx="658800" cy="449280"/>
          </a:xfrm>
          <a:custGeom>
            <a:avLst/>
            <a:gdLst>
              <a:gd name="textAreaLeft" fmla="*/ 0 w 658800"/>
              <a:gd name="textAreaRight" fmla="*/ 659160 w 65880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308" h="210">
                <a:moveTo>
                  <a:pt x="0" y="0"/>
                </a:moveTo>
                <a:lnTo>
                  <a:pt x="308" y="36"/>
                </a:lnTo>
                <a:lnTo>
                  <a:pt x="154" y="2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Freeform 12"/>
          <p:cNvSpPr/>
          <p:nvPr/>
        </p:nvSpPr>
        <p:spPr>
          <a:xfrm>
            <a:off x="5500800" y="1000080"/>
            <a:ext cx="595080" cy="534960"/>
          </a:xfrm>
          <a:custGeom>
            <a:avLst/>
            <a:gdLst>
              <a:gd name="textAreaLeft" fmla="*/ 0 w 595080"/>
              <a:gd name="textAreaRight" fmla="*/ 595440 w 595080"/>
              <a:gd name="textAreaTop" fmla="*/ 0 h 534960"/>
              <a:gd name="textAreaBottom" fmla="*/ 535320 h 534960"/>
            </a:gdLst>
            <a:ahLst/>
            <a:rect l="textAreaLeft" t="textAreaTop" r="textAreaRight" b="textAreaBottom"/>
            <a:pathLst>
              <a:path w="278" h="250">
                <a:moveTo>
                  <a:pt x="0" y="0"/>
                </a:moveTo>
                <a:lnTo>
                  <a:pt x="278" y="98"/>
                </a:lnTo>
                <a:lnTo>
                  <a:pt x="162" y="25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Freeform 13"/>
          <p:cNvSpPr/>
          <p:nvPr/>
        </p:nvSpPr>
        <p:spPr>
          <a:xfrm>
            <a:off x="6240600" y="1330200"/>
            <a:ext cx="428400" cy="547920"/>
          </a:xfrm>
          <a:custGeom>
            <a:avLst/>
            <a:gdLst>
              <a:gd name="textAreaLeft" fmla="*/ 0 w 428400"/>
              <a:gd name="textAreaRight" fmla="*/ 428760 w 428400"/>
              <a:gd name="textAreaTop" fmla="*/ 0 h 547920"/>
              <a:gd name="textAreaBottom" fmla="*/ 548280 h 547920"/>
            </a:gdLst>
            <a:ahLst/>
            <a:rect l="textAreaLeft" t="textAreaTop" r="textAreaRight" b="textAreaBottom"/>
            <a:pathLst>
              <a:path w="200" h="256">
                <a:moveTo>
                  <a:pt x="0" y="0"/>
                </a:moveTo>
                <a:lnTo>
                  <a:pt x="200" y="136"/>
                </a:lnTo>
                <a:lnTo>
                  <a:pt x="130" y="256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Freeform 14"/>
          <p:cNvSpPr/>
          <p:nvPr/>
        </p:nvSpPr>
        <p:spPr>
          <a:xfrm>
            <a:off x="6775560" y="1762200"/>
            <a:ext cx="261720" cy="547560"/>
          </a:xfrm>
          <a:custGeom>
            <a:avLst/>
            <a:gdLst>
              <a:gd name="textAreaLeft" fmla="*/ 0 w 261720"/>
              <a:gd name="textAreaRight" fmla="*/ 262080 w 261720"/>
              <a:gd name="textAreaTop" fmla="*/ 0 h 547560"/>
              <a:gd name="textAreaBottom" fmla="*/ 547920 h 547560"/>
            </a:gdLst>
            <a:ahLst/>
            <a:rect l="textAreaLeft" t="textAreaTop" r="textAreaRight" b="textAreaBottom"/>
            <a:pathLst>
              <a:path w="122" h="256">
                <a:moveTo>
                  <a:pt x="0" y="0"/>
                </a:moveTo>
                <a:lnTo>
                  <a:pt x="122" y="154"/>
                </a:lnTo>
                <a:lnTo>
                  <a:pt x="96" y="256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reeform 15"/>
          <p:cNvSpPr/>
          <p:nvPr/>
        </p:nvSpPr>
        <p:spPr>
          <a:xfrm>
            <a:off x="6959520" y="2708280"/>
            <a:ext cx="217440" cy="679320"/>
          </a:xfrm>
          <a:custGeom>
            <a:avLst/>
            <a:gdLst>
              <a:gd name="textAreaLeft" fmla="*/ 0 w 217440"/>
              <a:gd name="textAreaRight" fmla="*/ 217800 w 217440"/>
              <a:gd name="textAreaTop" fmla="*/ 0 h 679320"/>
              <a:gd name="textAreaBottom" fmla="*/ 679320 h 679320"/>
            </a:gdLst>
            <a:ahLst/>
            <a:rect l="textAreaLeft" t="textAreaTop" r="textAreaRight" b="textAreaBottom"/>
            <a:pathLst>
              <a:path w="102" h="318">
                <a:moveTo>
                  <a:pt x="74" y="0"/>
                </a:moveTo>
                <a:lnTo>
                  <a:pt x="102" y="188"/>
                </a:lnTo>
                <a:lnTo>
                  <a:pt x="0" y="318"/>
                </a:lnTo>
                <a:lnTo>
                  <a:pt x="7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reeform 16"/>
          <p:cNvSpPr/>
          <p:nvPr/>
        </p:nvSpPr>
        <p:spPr>
          <a:xfrm>
            <a:off x="6518160" y="2990880"/>
            <a:ext cx="385920" cy="689040"/>
          </a:xfrm>
          <a:custGeom>
            <a:avLst/>
            <a:gdLst>
              <a:gd name="textAreaLeft" fmla="*/ 0 w 385920"/>
              <a:gd name="textAreaRight" fmla="*/ 386280 w 385920"/>
              <a:gd name="textAreaTop" fmla="*/ 0 h 689040"/>
              <a:gd name="textAreaBottom" fmla="*/ 689400 h 689040"/>
            </a:gdLst>
            <a:ahLst/>
            <a:rect l="textAreaLeft" t="textAreaTop" r="textAreaRight" b="textAreaBottom"/>
            <a:pathLst>
              <a:path w="180" h="322">
                <a:moveTo>
                  <a:pt x="106" y="0"/>
                </a:moveTo>
                <a:lnTo>
                  <a:pt x="180" y="202"/>
                </a:lnTo>
                <a:lnTo>
                  <a:pt x="0" y="322"/>
                </a:lnTo>
                <a:lnTo>
                  <a:pt x="10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Freeform 17"/>
          <p:cNvSpPr/>
          <p:nvPr/>
        </p:nvSpPr>
        <p:spPr>
          <a:xfrm>
            <a:off x="5884920" y="3243240"/>
            <a:ext cx="569880" cy="646200"/>
          </a:xfrm>
          <a:custGeom>
            <a:avLst/>
            <a:gdLst>
              <a:gd name="textAreaLeft" fmla="*/ 0 w 569880"/>
              <a:gd name="textAreaRight" fmla="*/ 570240 w 569880"/>
              <a:gd name="textAreaTop" fmla="*/ 0 h 646200"/>
              <a:gd name="textAreaBottom" fmla="*/ 646560 h 646200"/>
            </a:gdLst>
            <a:ahLst/>
            <a:rect l="textAreaLeft" t="textAreaTop" r="textAreaRight" b="textAreaBottom"/>
            <a:pathLst>
              <a:path w="266" h="302">
                <a:moveTo>
                  <a:pt x="142" y="0"/>
                </a:moveTo>
                <a:lnTo>
                  <a:pt x="266" y="204"/>
                </a:lnTo>
                <a:lnTo>
                  <a:pt x="0" y="302"/>
                </a:lnTo>
                <a:lnTo>
                  <a:pt x="14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Freeform 18"/>
          <p:cNvSpPr/>
          <p:nvPr/>
        </p:nvSpPr>
        <p:spPr>
          <a:xfrm>
            <a:off x="5114880" y="3387600"/>
            <a:ext cx="655560" cy="633600"/>
          </a:xfrm>
          <a:custGeom>
            <a:avLst/>
            <a:gdLst>
              <a:gd name="textAreaLeft" fmla="*/ 0 w 655560"/>
              <a:gd name="textAreaRight" fmla="*/ 655920 w 65556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306" h="296">
                <a:moveTo>
                  <a:pt x="164" y="0"/>
                </a:moveTo>
                <a:lnTo>
                  <a:pt x="306" y="252"/>
                </a:lnTo>
                <a:lnTo>
                  <a:pt x="0" y="296"/>
                </a:lnTo>
                <a:lnTo>
                  <a:pt x="16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reeform 19"/>
          <p:cNvSpPr/>
          <p:nvPr/>
        </p:nvSpPr>
        <p:spPr>
          <a:xfrm>
            <a:off x="4208400" y="3483000"/>
            <a:ext cx="739800" cy="568440"/>
          </a:xfrm>
          <a:custGeom>
            <a:avLst/>
            <a:gdLst>
              <a:gd name="textAreaLeft" fmla="*/ 0 w 739800"/>
              <a:gd name="textAreaRight" fmla="*/ 740160 w 739800"/>
              <a:gd name="textAreaTop" fmla="*/ 0 h 568440"/>
              <a:gd name="textAreaBottom" fmla="*/ 568440 h 568440"/>
            </a:gdLst>
            <a:ahLst/>
            <a:rect l="textAreaLeft" t="textAreaTop" r="textAreaRight" b="textAreaBottom"/>
            <a:pathLst>
              <a:path w="346" h="266">
                <a:moveTo>
                  <a:pt x="178" y="0"/>
                </a:moveTo>
                <a:lnTo>
                  <a:pt x="346" y="266"/>
                </a:lnTo>
                <a:lnTo>
                  <a:pt x="0" y="266"/>
                </a:lnTo>
                <a:lnTo>
                  <a:pt x="17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reeform 20"/>
          <p:cNvSpPr/>
          <p:nvPr/>
        </p:nvSpPr>
        <p:spPr>
          <a:xfrm>
            <a:off x="3386160" y="3422520"/>
            <a:ext cx="681120" cy="598680"/>
          </a:xfrm>
          <a:custGeom>
            <a:avLst/>
            <a:gdLst>
              <a:gd name="textAreaLeft" fmla="*/ 0 w 681120"/>
              <a:gd name="textAreaRight" fmla="*/ 681480 w 681120"/>
              <a:gd name="textAreaTop" fmla="*/ 0 h 598680"/>
              <a:gd name="textAreaBottom" fmla="*/ 599040 h 598680"/>
            </a:gdLst>
            <a:ahLst/>
            <a:rect l="textAreaLeft" t="textAreaTop" r="textAreaRight" b="textAreaBottom"/>
            <a:pathLst>
              <a:path w="318" h="280">
                <a:moveTo>
                  <a:pt x="146" y="0"/>
                </a:moveTo>
                <a:lnTo>
                  <a:pt x="318" y="280"/>
                </a:lnTo>
                <a:lnTo>
                  <a:pt x="0" y="236"/>
                </a:lnTo>
                <a:lnTo>
                  <a:pt x="14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Freeform 21"/>
          <p:cNvSpPr/>
          <p:nvPr/>
        </p:nvSpPr>
        <p:spPr>
          <a:xfrm>
            <a:off x="2727360" y="3243240"/>
            <a:ext cx="547560" cy="646200"/>
          </a:xfrm>
          <a:custGeom>
            <a:avLst/>
            <a:gdLst>
              <a:gd name="textAreaLeft" fmla="*/ 0 w 547560"/>
              <a:gd name="textAreaRight" fmla="*/ 547920 w 547560"/>
              <a:gd name="textAreaTop" fmla="*/ 0 h 646200"/>
              <a:gd name="textAreaBottom" fmla="*/ 646560 h 646200"/>
            </a:gdLst>
            <a:ahLst/>
            <a:rect l="textAreaLeft" t="textAreaTop" r="textAreaRight" b="textAreaBottom"/>
            <a:pathLst>
              <a:path w="256" h="302">
                <a:moveTo>
                  <a:pt x="124" y="0"/>
                </a:moveTo>
                <a:lnTo>
                  <a:pt x="256" y="302"/>
                </a:lnTo>
                <a:lnTo>
                  <a:pt x="0" y="216"/>
                </a:lnTo>
                <a:lnTo>
                  <a:pt x="12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reeform 22"/>
          <p:cNvSpPr/>
          <p:nvPr/>
        </p:nvSpPr>
        <p:spPr>
          <a:xfrm>
            <a:off x="2235240" y="2990880"/>
            <a:ext cx="390600" cy="650880"/>
          </a:xfrm>
          <a:custGeom>
            <a:avLst/>
            <a:gdLst>
              <a:gd name="textAreaLeft" fmla="*/ 0 w 390600"/>
              <a:gd name="textAreaRight" fmla="*/ 390960 w 390600"/>
              <a:gd name="textAreaTop" fmla="*/ 0 h 650880"/>
              <a:gd name="textAreaBottom" fmla="*/ 651240 h 650880"/>
            </a:gdLst>
            <a:ahLst/>
            <a:rect l="textAreaLeft" t="textAreaTop" r="textAreaRight" b="textAreaBottom"/>
            <a:pathLst>
              <a:path w="182" h="304">
                <a:moveTo>
                  <a:pt x="66" y="0"/>
                </a:moveTo>
                <a:lnTo>
                  <a:pt x="182" y="304"/>
                </a:lnTo>
                <a:lnTo>
                  <a:pt x="0" y="186"/>
                </a:lnTo>
                <a:lnTo>
                  <a:pt x="6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Freeform 23"/>
          <p:cNvSpPr/>
          <p:nvPr/>
        </p:nvSpPr>
        <p:spPr>
          <a:xfrm>
            <a:off x="1967040" y="2652840"/>
            <a:ext cx="209520" cy="663480"/>
          </a:xfrm>
          <a:custGeom>
            <a:avLst/>
            <a:gdLst>
              <a:gd name="textAreaLeft" fmla="*/ 0 w 209520"/>
              <a:gd name="textAreaRight" fmla="*/ 209880 w 209520"/>
              <a:gd name="textAreaTop" fmla="*/ 0 h 663480"/>
              <a:gd name="textAreaBottom" fmla="*/ 663840 h 663480"/>
            </a:gdLst>
            <a:ahLst/>
            <a:rect l="textAreaLeft" t="textAreaTop" r="textAreaRight" b="textAreaBottom"/>
            <a:pathLst>
              <a:path w="98" h="310">
                <a:moveTo>
                  <a:pt x="24" y="0"/>
                </a:moveTo>
                <a:lnTo>
                  <a:pt x="98" y="310"/>
                </a:lnTo>
                <a:lnTo>
                  <a:pt x="0" y="184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590400" y="-1265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autoRev="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20000">
                                      <p:cBhvr>
                                        <p:cTn id="8" dur="7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" nodeType="withEffect" fill="hold" presetClass="emph" presetID="8">
                                  <p:stCondLst>
                                    <p:cond delay="1400"/>
                                  </p:stCondLst>
                                  <p:childTnLst>
                                    <p:animRot by="-359880">
                                      <p:cBhvr>
                                        <p:cTn id="10" dur="11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8">
                                  <p:stCondLst>
                                    <p:cond delay="2500"/>
                                  </p:stCondLst>
                                  <p:childTnLst>
                                    <p:animRot by="360000">
                                      <p:cBhvr>
                                        <p:cTn id="12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" nodeType="withEffect" fill="hold" presetClass="emph" presetID="8">
                                  <p:stCondLst>
                                    <p:cond delay="3500"/>
                                  </p:stCondLst>
                                  <p:childTnLst>
                                    <p:animRot by="21600000">
                                      <p:cBhvr>
                                        <p:cTn id="14" dur="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" nodeType="withEffect" fill="hold" presetClass="path" presetID="42">
                                  <p:stCondLst>
                                    <p:cond delay="3500"/>
                                  </p:stCondLst>
                                  <p:childTnLst>
                                    <p:animMotion origin="layout" path="M -3.33333E-006 4.19753E-006 L -0.08333 0.36296 E">
                                      <p:cBhvr>
                                        <p:cTn id="16" dur="7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nodeType="withEffect" fill="hold" presetClass="exit" presetID="10">
                                  <p:stCondLst>
                                    <p:cond delay="3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" dur="3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autoRev="1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3.95062E-006 L -3.33333E-006 -0.05926 E">
                                      <p:cBhvr>
                                        <p:cTn id="24" dur="175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" autoRev="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00000">
                                      <p:cBhvr>
                                        <p:cTn id="26" dur="7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" nodeType="withEffect" fill="hold" presetClass="emph" presetID="8">
                                  <p:stCondLst>
                                    <p:cond delay="1400"/>
                                  </p:stCondLst>
                                  <p:childTnLst>
                                    <p:animRot by="-419880">
                                      <p:cBhvr>
                                        <p:cTn id="28" dur="11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9" nodeType="withEffect" fill="hold" presetClass="emph" presetID="8">
                                  <p:stCondLst>
                                    <p:cond delay="2500"/>
                                  </p:stCondLst>
                                  <p:childTnLst>
                                    <p:animRot by="360000">
                                      <p:cBhvr>
                                        <p:cTn id="30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1" nodeType="withEffect" fill="hold" presetClass="emph" presetID="8">
                                  <p:stCondLst>
                                    <p:cond delay="3500"/>
                                  </p:stCondLst>
                                  <p:childTnLst>
                                    <p:animRot by="21600000">
                                      <p:cBhvr>
                                        <p:cTn id="3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3" nodeType="withEffect" fill="hold" presetClass="emph" presetID="6">
                                  <p:stCondLst>
                                    <p:cond delay="3500"/>
                                  </p:stCondLst>
                                  <p:childTnLst>
                                    <p:animScale>
                                      <p:cBhvr>
                                        <p:cTn id="34" dur="500" fill="hold"/>
                                        <p:tgtEl>
                                          <p:spTgt spid="43"/>
                                        </p:tgtEl>
                                      </p:cBhvr>
                                      <p:to x="30000" y="30000"/>
                                    </p:animScale>
                                  </p:childTnLst>
                                </p:cTn>
                              </p:par>
                              <p:par>
                                <p:cTn id="35" nodeType="withEffect" fill="hold" presetClass="exit" presetID="10">
                                  <p:stCondLst>
                                    <p:cond delay="3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39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39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41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0">
                                  <p:stCondLst>
                                    <p:cond delay="41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42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0">
                                  <p:stCondLst>
                                    <p:cond delay="42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43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0">
                                  <p:stCondLst>
                                    <p:cond delay="43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0">
                                  <p:stCondLst>
                                    <p:cond delay="44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autoRev="1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0 L 1.66667E-006 -0.05926 E">
                                      <p:cBhvr>
                                        <p:cTn id="93" dur="18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4" autoRev="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3.7037E-006 L 0.04376 -0.01851 E">
                                      <p:cBhvr>
                                        <p:cTn id="95" dur="185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6" descr=""/>
          <p:cNvPicPr/>
          <p:nvPr/>
        </p:nvPicPr>
        <p:blipFill>
          <a:blip r:embed="rId1"/>
          <a:stretch/>
        </p:blipFill>
        <p:spPr>
          <a:xfrm>
            <a:off x="0" y="4680"/>
            <a:ext cx="9144000" cy="51357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37200"/>
          </a:xfrm>
          <a:prstGeom prst="rect">
            <a:avLst/>
          </a:prstGeom>
          <a:ln w="0">
            <a:noFill/>
          </a:ln>
        </p:spPr>
      </p:pic>
      <p:sp>
        <p:nvSpPr>
          <p:cNvPr id="69" name="AutoShape 4"/>
          <p:cNvSpPr/>
          <p:nvPr/>
        </p:nvSpPr>
        <p:spPr>
          <a:xfrm>
            <a:off x="4680" y="-6480"/>
            <a:ext cx="9191880" cy="51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reeform 7"/>
          <p:cNvSpPr/>
          <p:nvPr/>
        </p:nvSpPr>
        <p:spPr>
          <a:xfrm>
            <a:off x="1635120" y="1442880"/>
            <a:ext cx="365040" cy="693720"/>
          </a:xfrm>
          <a:custGeom>
            <a:avLst/>
            <a:gdLst>
              <a:gd name="textAreaLeft" fmla="*/ 0 w 365040"/>
              <a:gd name="textAreaRight" fmla="*/ 365400 w 365040"/>
              <a:gd name="textAreaTop" fmla="*/ 0 h 693720"/>
              <a:gd name="textAreaBottom" fmla="*/ 694080 h 693720"/>
            </a:gdLst>
            <a:ahLst/>
            <a:rect l="textAreaLeft" t="textAreaTop" r="textAreaRight" b="textAreaBottom"/>
            <a:pathLst>
              <a:path w="142" h="270">
                <a:moveTo>
                  <a:pt x="0" y="162"/>
                </a:moveTo>
                <a:lnTo>
                  <a:pt x="142" y="0"/>
                </a:lnTo>
                <a:lnTo>
                  <a:pt x="34" y="270"/>
                </a:lnTo>
                <a:lnTo>
                  <a:pt x="0" y="16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Freeform 8"/>
          <p:cNvSpPr/>
          <p:nvPr/>
        </p:nvSpPr>
        <p:spPr>
          <a:xfrm>
            <a:off x="2122560" y="1011240"/>
            <a:ext cx="554040" cy="658800"/>
          </a:xfrm>
          <a:custGeom>
            <a:avLst/>
            <a:gdLst>
              <a:gd name="textAreaLeft" fmla="*/ 0 w 554040"/>
              <a:gd name="textAreaRight" fmla="*/ 554400 w 554040"/>
              <a:gd name="textAreaTop" fmla="*/ 0 h 658800"/>
              <a:gd name="textAreaBottom" fmla="*/ 659160 h 658800"/>
            </a:gdLst>
            <a:ahLst/>
            <a:rect l="textAreaLeft" t="textAreaTop" r="textAreaRight" b="textAreaBottom"/>
            <a:pathLst>
              <a:path w="216" h="256">
                <a:moveTo>
                  <a:pt x="0" y="130"/>
                </a:moveTo>
                <a:lnTo>
                  <a:pt x="216" y="0"/>
                </a:lnTo>
                <a:lnTo>
                  <a:pt x="66" y="256"/>
                </a:lnTo>
                <a:lnTo>
                  <a:pt x="0" y="13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Freeform 9"/>
          <p:cNvSpPr/>
          <p:nvPr/>
        </p:nvSpPr>
        <p:spPr>
          <a:xfrm>
            <a:off x="2832120" y="647640"/>
            <a:ext cx="728640" cy="606600"/>
          </a:xfrm>
          <a:custGeom>
            <a:avLst/>
            <a:gdLst>
              <a:gd name="textAreaLeft" fmla="*/ 0 w 728640"/>
              <a:gd name="textAreaRight" fmla="*/ 729000 w 728640"/>
              <a:gd name="textAreaTop" fmla="*/ 0 h 606600"/>
              <a:gd name="textAreaBottom" fmla="*/ 606960 h 606600"/>
            </a:gdLst>
            <a:ahLst/>
            <a:rect l="textAreaLeft" t="textAreaTop" r="textAreaRight" b="textAreaBottom"/>
            <a:pathLst>
              <a:path w="284" h="236">
                <a:moveTo>
                  <a:pt x="0" y="114"/>
                </a:moveTo>
                <a:lnTo>
                  <a:pt x="284" y="0"/>
                </a:lnTo>
                <a:lnTo>
                  <a:pt x="142" y="236"/>
                </a:lnTo>
                <a:lnTo>
                  <a:pt x="0" y="1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reeform 10"/>
          <p:cNvSpPr/>
          <p:nvPr/>
        </p:nvSpPr>
        <p:spPr>
          <a:xfrm>
            <a:off x="3740040" y="555480"/>
            <a:ext cx="801720" cy="492120"/>
          </a:xfrm>
          <a:custGeom>
            <a:avLst/>
            <a:gdLst>
              <a:gd name="textAreaLeft" fmla="*/ 0 w 801720"/>
              <a:gd name="textAreaRight" fmla="*/ 802080 w 801720"/>
              <a:gd name="textAreaTop" fmla="*/ 0 h 492120"/>
              <a:gd name="textAreaBottom" fmla="*/ 492480 h 492120"/>
            </a:gdLst>
            <a:ahLst/>
            <a:rect l="textAreaLeft" t="textAreaTop" r="textAreaRight" b="textAreaBottom"/>
            <a:pathLst>
              <a:path w="312" h="192">
                <a:moveTo>
                  <a:pt x="0" y="36"/>
                </a:moveTo>
                <a:lnTo>
                  <a:pt x="312" y="0"/>
                </a:lnTo>
                <a:lnTo>
                  <a:pt x="136" y="192"/>
                </a:lnTo>
                <a:lnTo>
                  <a:pt x="0" y="3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Freeform 11"/>
          <p:cNvSpPr/>
          <p:nvPr/>
        </p:nvSpPr>
        <p:spPr>
          <a:xfrm>
            <a:off x="4737240" y="555480"/>
            <a:ext cx="790560" cy="538200"/>
          </a:xfrm>
          <a:custGeom>
            <a:avLst/>
            <a:gdLst>
              <a:gd name="textAreaLeft" fmla="*/ 0 w 790560"/>
              <a:gd name="textAreaRight" fmla="*/ 790920 w 790560"/>
              <a:gd name="textAreaTop" fmla="*/ 0 h 538200"/>
              <a:gd name="textAreaBottom" fmla="*/ 538560 h 538200"/>
            </a:gdLst>
            <a:ahLst/>
            <a:rect l="textAreaLeft" t="textAreaTop" r="textAreaRight" b="textAreaBottom"/>
            <a:pathLst>
              <a:path w="308" h="210">
                <a:moveTo>
                  <a:pt x="0" y="0"/>
                </a:moveTo>
                <a:lnTo>
                  <a:pt x="308" y="36"/>
                </a:lnTo>
                <a:lnTo>
                  <a:pt x="154" y="2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Freeform 12"/>
          <p:cNvSpPr/>
          <p:nvPr/>
        </p:nvSpPr>
        <p:spPr>
          <a:xfrm>
            <a:off x="5686560" y="698400"/>
            <a:ext cx="712800" cy="642960"/>
          </a:xfrm>
          <a:custGeom>
            <a:avLst/>
            <a:gdLst>
              <a:gd name="textAreaLeft" fmla="*/ 0 w 712800"/>
              <a:gd name="textAreaRight" fmla="*/ 713160 w 712800"/>
              <a:gd name="textAreaTop" fmla="*/ 0 h 642960"/>
              <a:gd name="textAreaBottom" fmla="*/ 643320 h 642960"/>
            </a:gdLst>
            <a:ahLst/>
            <a:rect l="textAreaLeft" t="textAreaTop" r="textAreaRight" b="textAreaBottom"/>
            <a:pathLst>
              <a:path w="278" h="250">
                <a:moveTo>
                  <a:pt x="0" y="0"/>
                </a:moveTo>
                <a:lnTo>
                  <a:pt x="278" y="98"/>
                </a:lnTo>
                <a:lnTo>
                  <a:pt x="162" y="25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Freeform 13"/>
          <p:cNvSpPr/>
          <p:nvPr/>
        </p:nvSpPr>
        <p:spPr>
          <a:xfrm>
            <a:off x="6573960" y="1093680"/>
            <a:ext cx="514080" cy="657360"/>
          </a:xfrm>
          <a:custGeom>
            <a:avLst/>
            <a:gdLst>
              <a:gd name="textAreaLeft" fmla="*/ 0 w 514080"/>
              <a:gd name="textAreaRight" fmla="*/ 514440 w 514080"/>
              <a:gd name="textAreaTop" fmla="*/ 0 h 657360"/>
              <a:gd name="textAreaBottom" fmla="*/ 657720 h 657360"/>
            </a:gdLst>
            <a:ahLst/>
            <a:rect l="textAreaLeft" t="textAreaTop" r="textAreaRight" b="textAreaBottom"/>
            <a:pathLst>
              <a:path w="200" h="256">
                <a:moveTo>
                  <a:pt x="0" y="0"/>
                </a:moveTo>
                <a:lnTo>
                  <a:pt x="200" y="136"/>
                </a:lnTo>
                <a:lnTo>
                  <a:pt x="130" y="256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reeform 14"/>
          <p:cNvSpPr/>
          <p:nvPr/>
        </p:nvSpPr>
        <p:spPr>
          <a:xfrm>
            <a:off x="7216920" y="1612800"/>
            <a:ext cx="312480" cy="657360"/>
          </a:xfrm>
          <a:custGeom>
            <a:avLst/>
            <a:gdLst>
              <a:gd name="textAreaLeft" fmla="*/ 0 w 312480"/>
              <a:gd name="textAreaRight" fmla="*/ 312840 w 312480"/>
              <a:gd name="textAreaTop" fmla="*/ 0 h 657360"/>
              <a:gd name="textAreaBottom" fmla="*/ 657720 h 657360"/>
            </a:gdLst>
            <a:ahLst/>
            <a:rect l="textAreaLeft" t="textAreaTop" r="textAreaRight" b="textAreaBottom"/>
            <a:pathLst>
              <a:path w="122" h="256">
                <a:moveTo>
                  <a:pt x="0" y="0"/>
                </a:moveTo>
                <a:lnTo>
                  <a:pt x="122" y="154"/>
                </a:lnTo>
                <a:lnTo>
                  <a:pt x="96" y="256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reeform 15"/>
          <p:cNvSpPr/>
          <p:nvPr/>
        </p:nvSpPr>
        <p:spPr>
          <a:xfrm>
            <a:off x="7437600" y="2747880"/>
            <a:ext cx="261720" cy="816120"/>
          </a:xfrm>
          <a:custGeom>
            <a:avLst/>
            <a:gdLst>
              <a:gd name="textAreaLeft" fmla="*/ 0 w 261720"/>
              <a:gd name="textAreaRight" fmla="*/ 262080 w 261720"/>
              <a:gd name="textAreaTop" fmla="*/ 0 h 816120"/>
              <a:gd name="textAreaBottom" fmla="*/ 816480 h 816120"/>
            </a:gdLst>
            <a:ahLst/>
            <a:rect l="textAreaLeft" t="textAreaTop" r="textAreaRight" b="textAreaBottom"/>
            <a:pathLst>
              <a:path w="102" h="318">
                <a:moveTo>
                  <a:pt x="74" y="0"/>
                </a:moveTo>
                <a:lnTo>
                  <a:pt x="102" y="188"/>
                </a:lnTo>
                <a:lnTo>
                  <a:pt x="0" y="318"/>
                </a:lnTo>
                <a:lnTo>
                  <a:pt x="7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reeform 16"/>
          <p:cNvSpPr/>
          <p:nvPr/>
        </p:nvSpPr>
        <p:spPr>
          <a:xfrm>
            <a:off x="6908760" y="3086280"/>
            <a:ext cx="461880" cy="826920"/>
          </a:xfrm>
          <a:custGeom>
            <a:avLst/>
            <a:gdLst>
              <a:gd name="textAreaLeft" fmla="*/ 0 w 461880"/>
              <a:gd name="textAreaRight" fmla="*/ 462240 w 461880"/>
              <a:gd name="textAreaTop" fmla="*/ 0 h 826920"/>
              <a:gd name="textAreaBottom" fmla="*/ 827280 h 826920"/>
            </a:gdLst>
            <a:ahLst/>
            <a:rect l="textAreaLeft" t="textAreaTop" r="textAreaRight" b="textAreaBottom"/>
            <a:pathLst>
              <a:path w="180" h="322">
                <a:moveTo>
                  <a:pt x="106" y="0"/>
                </a:moveTo>
                <a:lnTo>
                  <a:pt x="180" y="202"/>
                </a:lnTo>
                <a:lnTo>
                  <a:pt x="0" y="322"/>
                </a:lnTo>
                <a:lnTo>
                  <a:pt x="10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reeform 17"/>
          <p:cNvSpPr/>
          <p:nvPr/>
        </p:nvSpPr>
        <p:spPr>
          <a:xfrm>
            <a:off x="6148440" y="3389400"/>
            <a:ext cx="682560" cy="774720"/>
          </a:xfrm>
          <a:custGeom>
            <a:avLst/>
            <a:gdLst>
              <a:gd name="textAreaLeft" fmla="*/ 0 w 682560"/>
              <a:gd name="textAreaRight" fmla="*/ 682920 w 682560"/>
              <a:gd name="textAreaTop" fmla="*/ 0 h 774720"/>
              <a:gd name="textAreaBottom" fmla="*/ 775080 h 774720"/>
            </a:gdLst>
            <a:ahLst/>
            <a:rect l="textAreaLeft" t="textAreaTop" r="textAreaRight" b="textAreaBottom"/>
            <a:pathLst>
              <a:path w="266" h="302">
                <a:moveTo>
                  <a:pt x="142" y="0"/>
                </a:moveTo>
                <a:lnTo>
                  <a:pt x="266" y="204"/>
                </a:lnTo>
                <a:lnTo>
                  <a:pt x="0" y="302"/>
                </a:lnTo>
                <a:lnTo>
                  <a:pt x="14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reeform 18"/>
          <p:cNvSpPr/>
          <p:nvPr/>
        </p:nvSpPr>
        <p:spPr>
          <a:xfrm>
            <a:off x="5224320" y="3564000"/>
            <a:ext cx="785880" cy="760320"/>
          </a:xfrm>
          <a:custGeom>
            <a:avLst/>
            <a:gdLst>
              <a:gd name="textAreaLeft" fmla="*/ 0 w 785880"/>
              <a:gd name="textAreaRight" fmla="*/ 786240 w 785880"/>
              <a:gd name="textAreaTop" fmla="*/ 0 h 760320"/>
              <a:gd name="textAreaBottom" fmla="*/ 760680 h 760320"/>
            </a:gdLst>
            <a:ahLst/>
            <a:rect l="textAreaLeft" t="textAreaTop" r="textAreaRight" b="textAreaBottom"/>
            <a:pathLst>
              <a:path w="306" h="296">
                <a:moveTo>
                  <a:pt x="164" y="0"/>
                </a:moveTo>
                <a:lnTo>
                  <a:pt x="306" y="252"/>
                </a:lnTo>
                <a:lnTo>
                  <a:pt x="0" y="296"/>
                </a:lnTo>
                <a:lnTo>
                  <a:pt x="16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Freeform 19"/>
          <p:cNvSpPr/>
          <p:nvPr/>
        </p:nvSpPr>
        <p:spPr>
          <a:xfrm>
            <a:off x="4135320" y="3676680"/>
            <a:ext cx="889200" cy="682560"/>
          </a:xfrm>
          <a:custGeom>
            <a:avLst/>
            <a:gdLst>
              <a:gd name="textAreaLeft" fmla="*/ 0 w 889200"/>
              <a:gd name="textAreaRight" fmla="*/ 889560 w 889200"/>
              <a:gd name="textAreaTop" fmla="*/ 0 h 682560"/>
              <a:gd name="textAreaBottom" fmla="*/ 682920 h 682560"/>
            </a:gdLst>
            <a:ahLst/>
            <a:rect l="textAreaLeft" t="textAreaTop" r="textAreaRight" b="textAreaBottom"/>
            <a:pathLst>
              <a:path w="346" h="266">
                <a:moveTo>
                  <a:pt x="178" y="0"/>
                </a:moveTo>
                <a:lnTo>
                  <a:pt x="346" y="266"/>
                </a:lnTo>
                <a:lnTo>
                  <a:pt x="0" y="266"/>
                </a:lnTo>
                <a:lnTo>
                  <a:pt x="17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reeform 20"/>
          <p:cNvSpPr/>
          <p:nvPr/>
        </p:nvSpPr>
        <p:spPr>
          <a:xfrm>
            <a:off x="3149640" y="3605040"/>
            <a:ext cx="815760" cy="719280"/>
          </a:xfrm>
          <a:custGeom>
            <a:avLst/>
            <a:gdLst>
              <a:gd name="textAreaLeft" fmla="*/ 0 w 815760"/>
              <a:gd name="textAreaRight" fmla="*/ 816120 w 81576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318" h="280">
                <a:moveTo>
                  <a:pt x="146" y="0"/>
                </a:moveTo>
                <a:lnTo>
                  <a:pt x="318" y="280"/>
                </a:lnTo>
                <a:lnTo>
                  <a:pt x="0" y="236"/>
                </a:lnTo>
                <a:lnTo>
                  <a:pt x="14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Freeform 21"/>
          <p:cNvSpPr/>
          <p:nvPr/>
        </p:nvSpPr>
        <p:spPr>
          <a:xfrm>
            <a:off x="2359080" y="3389400"/>
            <a:ext cx="657000" cy="774720"/>
          </a:xfrm>
          <a:custGeom>
            <a:avLst/>
            <a:gdLst>
              <a:gd name="textAreaLeft" fmla="*/ 0 w 657000"/>
              <a:gd name="textAreaRight" fmla="*/ 657360 w 657000"/>
              <a:gd name="textAreaTop" fmla="*/ 0 h 774720"/>
              <a:gd name="textAreaBottom" fmla="*/ 775080 h 774720"/>
            </a:gdLst>
            <a:ahLst/>
            <a:rect l="textAreaLeft" t="textAreaTop" r="textAreaRight" b="textAreaBottom"/>
            <a:pathLst>
              <a:path w="256" h="302">
                <a:moveTo>
                  <a:pt x="124" y="0"/>
                </a:moveTo>
                <a:lnTo>
                  <a:pt x="256" y="302"/>
                </a:lnTo>
                <a:lnTo>
                  <a:pt x="0" y="216"/>
                </a:lnTo>
                <a:lnTo>
                  <a:pt x="12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Freeform 22"/>
          <p:cNvSpPr/>
          <p:nvPr/>
        </p:nvSpPr>
        <p:spPr>
          <a:xfrm>
            <a:off x="1768320" y="3086280"/>
            <a:ext cx="466920" cy="780840"/>
          </a:xfrm>
          <a:custGeom>
            <a:avLst/>
            <a:gdLst>
              <a:gd name="textAreaLeft" fmla="*/ 0 w 466920"/>
              <a:gd name="textAreaRight" fmla="*/ 467280 w 466920"/>
              <a:gd name="textAreaTop" fmla="*/ 0 h 780840"/>
              <a:gd name="textAreaBottom" fmla="*/ 781200 h 780840"/>
            </a:gdLst>
            <a:ahLst/>
            <a:rect l="textAreaLeft" t="textAreaTop" r="textAreaRight" b="textAreaBottom"/>
            <a:pathLst>
              <a:path w="182" h="304">
                <a:moveTo>
                  <a:pt x="66" y="0"/>
                </a:moveTo>
                <a:lnTo>
                  <a:pt x="182" y="304"/>
                </a:lnTo>
                <a:lnTo>
                  <a:pt x="0" y="186"/>
                </a:lnTo>
                <a:lnTo>
                  <a:pt x="6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Freeform 23"/>
          <p:cNvSpPr/>
          <p:nvPr/>
        </p:nvSpPr>
        <p:spPr>
          <a:xfrm>
            <a:off x="1444680" y="2681280"/>
            <a:ext cx="252360" cy="795240"/>
          </a:xfrm>
          <a:custGeom>
            <a:avLst/>
            <a:gdLst>
              <a:gd name="textAreaLeft" fmla="*/ 0 w 252360"/>
              <a:gd name="textAreaRight" fmla="*/ 252720 w 252360"/>
              <a:gd name="textAreaTop" fmla="*/ 0 h 795240"/>
              <a:gd name="textAreaBottom" fmla="*/ 795600 h 795240"/>
            </a:gdLst>
            <a:ahLst/>
            <a:rect l="textAreaLeft" t="textAreaTop" r="textAreaRight" b="textAreaBottom"/>
            <a:pathLst>
              <a:path w="98" h="310">
                <a:moveTo>
                  <a:pt x="24" y="0"/>
                </a:moveTo>
                <a:lnTo>
                  <a:pt x="98" y="310"/>
                </a:lnTo>
                <a:lnTo>
                  <a:pt x="0" y="184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1967040" y="861840"/>
            <a:ext cx="5209920" cy="3170520"/>
            <a:chOff x="1967040" y="861840"/>
            <a:chExt cx="5209920" cy="3170520"/>
          </a:xfrm>
        </p:grpSpPr>
        <p:sp>
          <p:nvSpPr>
            <p:cNvPr id="88" name="Freeform 7"/>
            <p:cNvSpPr/>
            <p:nvPr/>
          </p:nvSpPr>
          <p:spPr>
            <a:xfrm>
              <a:off x="2125080" y="1602000"/>
              <a:ext cx="303480" cy="577440"/>
            </a:xfrm>
            <a:custGeom>
              <a:avLst/>
              <a:gdLst>
                <a:gd name="textAreaLeft" fmla="*/ 0 w 303480"/>
                <a:gd name="textAreaRight" fmla="*/ 303840 w 303480"/>
                <a:gd name="textAreaTop" fmla="*/ 0 h 577440"/>
                <a:gd name="textAreaBottom" fmla="*/ 577800 h 577440"/>
              </a:gdLst>
              <a:ahLst/>
              <a:rect l="textAreaLeft" t="textAreaTop" r="textAreaRight" b="textAreaBottom"/>
              <a:pathLst>
                <a:path w="142" h="270">
                  <a:moveTo>
                    <a:pt x="0" y="162"/>
                  </a:moveTo>
                  <a:lnTo>
                    <a:pt x="142" y="0"/>
                  </a:lnTo>
                  <a:lnTo>
                    <a:pt x="34" y="270"/>
                  </a:lnTo>
                  <a:lnTo>
                    <a:pt x="0" y="1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8"/>
            <p:cNvSpPr/>
            <p:nvPr/>
          </p:nvSpPr>
          <p:spPr>
            <a:xfrm>
              <a:off x="2531520" y="1242360"/>
              <a:ext cx="461880" cy="547560"/>
            </a:xfrm>
            <a:custGeom>
              <a:avLst/>
              <a:gdLst>
                <a:gd name="textAreaLeft" fmla="*/ 0 w 461880"/>
                <a:gd name="textAreaRight" fmla="*/ 462240 w 461880"/>
                <a:gd name="textAreaTop" fmla="*/ 0 h 547560"/>
                <a:gd name="textAreaBottom" fmla="*/ 547920 h 547560"/>
              </a:gdLst>
              <a:ahLst/>
              <a:rect l="textAreaLeft" t="textAreaTop" r="textAreaRight" b="textAreaBottom"/>
              <a:pathLst>
                <a:path w="216" h="256">
                  <a:moveTo>
                    <a:pt x="0" y="130"/>
                  </a:moveTo>
                  <a:lnTo>
                    <a:pt x="216" y="0"/>
                  </a:lnTo>
                  <a:lnTo>
                    <a:pt x="66" y="256"/>
                  </a:lnTo>
                  <a:lnTo>
                    <a:pt x="0" y="1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9"/>
            <p:cNvSpPr/>
            <p:nvPr/>
          </p:nvSpPr>
          <p:spPr>
            <a:xfrm>
              <a:off x="3121920" y="938520"/>
              <a:ext cx="607320" cy="504720"/>
            </a:xfrm>
            <a:custGeom>
              <a:avLst/>
              <a:gdLst>
                <a:gd name="textAreaLeft" fmla="*/ 0 w 607320"/>
                <a:gd name="textAreaRight" fmla="*/ 607680 w 607320"/>
                <a:gd name="textAreaTop" fmla="*/ 0 h 504720"/>
                <a:gd name="textAreaBottom" fmla="*/ 505080 h 504720"/>
              </a:gdLst>
              <a:ahLst/>
              <a:rect l="textAreaLeft" t="textAreaTop" r="textAreaRight" b="textAreaBottom"/>
              <a:pathLst>
                <a:path w="284" h="236">
                  <a:moveTo>
                    <a:pt x="0" y="114"/>
                  </a:moveTo>
                  <a:lnTo>
                    <a:pt x="284" y="0"/>
                  </a:lnTo>
                  <a:lnTo>
                    <a:pt x="142" y="236"/>
                  </a:lnTo>
                  <a:lnTo>
                    <a:pt x="0" y="1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10"/>
            <p:cNvSpPr/>
            <p:nvPr/>
          </p:nvSpPr>
          <p:spPr>
            <a:xfrm>
              <a:off x="3879000" y="861840"/>
              <a:ext cx="667080" cy="410760"/>
            </a:xfrm>
            <a:custGeom>
              <a:avLst/>
              <a:gdLst>
                <a:gd name="textAreaLeft" fmla="*/ 0 w 667080"/>
                <a:gd name="textAreaRight" fmla="*/ 667440 w 667080"/>
                <a:gd name="textAreaTop" fmla="*/ 0 h 410760"/>
                <a:gd name="textAreaBottom" fmla="*/ 411120 h 410760"/>
              </a:gdLst>
              <a:ahLst/>
              <a:rect l="textAreaLeft" t="textAreaTop" r="textAreaRight" b="textAreaBottom"/>
              <a:pathLst>
                <a:path w="312" h="192">
                  <a:moveTo>
                    <a:pt x="0" y="36"/>
                  </a:moveTo>
                  <a:lnTo>
                    <a:pt x="312" y="0"/>
                  </a:lnTo>
                  <a:lnTo>
                    <a:pt x="136" y="192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11"/>
            <p:cNvSpPr/>
            <p:nvPr/>
          </p:nvSpPr>
          <p:spPr>
            <a:xfrm>
              <a:off x="4708800" y="861840"/>
              <a:ext cx="658440" cy="449280"/>
            </a:xfrm>
            <a:custGeom>
              <a:avLst/>
              <a:gdLst>
                <a:gd name="textAreaLeft" fmla="*/ 0 w 658440"/>
                <a:gd name="textAreaRight" fmla="*/ 658800 w 65844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308" h="210">
                  <a:moveTo>
                    <a:pt x="0" y="0"/>
                  </a:moveTo>
                  <a:lnTo>
                    <a:pt x="308" y="36"/>
                  </a:lnTo>
                  <a:lnTo>
                    <a:pt x="154" y="2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12"/>
            <p:cNvSpPr/>
            <p:nvPr/>
          </p:nvSpPr>
          <p:spPr>
            <a:xfrm>
              <a:off x="5500440" y="981360"/>
              <a:ext cx="594360" cy="534600"/>
            </a:xfrm>
            <a:custGeom>
              <a:avLst/>
              <a:gdLst>
                <a:gd name="textAreaLeft" fmla="*/ 0 w 594360"/>
                <a:gd name="textAreaRight" fmla="*/ 594720 w 594360"/>
                <a:gd name="textAreaTop" fmla="*/ 0 h 534600"/>
                <a:gd name="textAreaBottom" fmla="*/ 534960 h 534600"/>
              </a:gdLst>
              <a:ahLst/>
              <a:rect l="textAreaLeft" t="textAreaTop" r="textAreaRight" b="textAreaBottom"/>
              <a:pathLst>
                <a:path w="278" h="250">
                  <a:moveTo>
                    <a:pt x="0" y="0"/>
                  </a:moveTo>
                  <a:lnTo>
                    <a:pt x="278" y="98"/>
                  </a:lnTo>
                  <a:lnTo>
                    <a:pt x="162" y="25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13"/>
            <p:cNvSpPr/>
            <p:nvPr/>
          </p:nvSpPr>
          <p:spPr>
            <a:xfrm>
              <a:off x="6240240" y="1311120"/>
              <a:ext cx="427680" cy="547560"/>
            </a:xfrm>
            <a:custGeom>
              <a:avLst/>
              <a:gdLst>
                <a:gd name="textAreaLeft" fmla="*/ 0 w 427680"/>
                <a:gd name="textAreaRight" fmla="*/ 428040 w 427680"/>
                <a:gd name="textAreaTop" fmla="*/ 0 h 547560"/>
                <a:gd name="textAreaBottom" fmla="*/ 547920 h 547560"/>
              </a:gdLst>
              <a:ahLst/>
              <a:rect l="textAreaLeft" t="textAreaTop" r="textAreaRight" b="textAreaBottom"/>
              <a:pathLst>
                <a:path w="200" h="256">
                  <a:moveTo>
                    <a:pt x="0" y="0"/>
                  </a:moveTo>
                  <a:lnTo>
                    <a:pt x="200" y="136"/>
                  </a:lnTo>
                  <a:lnTo>
                    <a:pt x="130" y="2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14"/>
            <p:cNvSpPr/>
            <p:nvPr/>
          </p:nvSpPr>
          <p:spPr>
            <a:xfrm>
              <a:off x="6775200" y="1743120"/>
              <a:ext cx="260640" cy="547560"/>
            </a:xfrm>
            <a:custGeom>
              <a:avLst/>
              <a:gdLst>
                <a:gd name="textAreaLeft" fmla="*/ 0 w 260640"/>
                <a:gd name="textAreaRight" fmla="*/ 261000 w 260640"/>
                <a:gd name="textAreaTop" fmla="*/ 0 h 547560"/>
                <a:gd name="textAreaBottom" fmla="*/ 547920 h 547560"/>
              </a:gdLst>
              <a:ahLst/>
              <a:rect l="textAreaLeft" t="textAreaTop" r="textAreaRight" b="textAreaBottom"/>
              <a:pathLst>
                <a:path w="122" h="256">
                  <a:moveTo>
                    <a:pt x="0" y="0"/>
                  </a:moveTo>
                  <a:lnTo>
                    <a:pt x="122" y="154"/>
                  </a:lnTo>
                  <a:lnTo>
                    <a:pt x="96" y="2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15"/>
            <p:cNvSpPr/>
            <p:nvPr/>
          </p:nvSpPr>
          <p:spPr>
            <a:xfrm>
              <a:off x="6958800" y="2688840"/>
              <a:ext cx="218160" cy="680040"/>
            </a:xfrm>
            <a:custGeom>
              <a:avLst/>
              <a:gdLst>
                <a:gd name="textAreaLeft" fmla="*/ 0 w 218160"/>
                <a:gd name="textAreaRight" fmla="*/ 218520 w 218160"/>
                <a:gd name="textAreaTop" fmla="*/ 0 h 680040"/>
                <a:gd name="textAreaBottom" fmla="*/ 680400 h 680040"/>
              </a:gdLst>
              <a:ahLst/>
              <a:rect l="textAreaLeft" t="textAreaTop" r="textAreaRight" b="textAreaBottom"/>
              <a:pathLst>
                <a:path w="102" h="318">
                  <a:moveTo>
                    <a:pt x="74" y="0"/>
                  </a:moveTo>
                  <a:lnTo>
                    <a:pt x="102" y="188"/>
                  </a:lnTo>
                  <a:lnTo>
                    <a:pt x="0" y="318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16"/>
            <p:cNvSpPr/>
            <p:nvPr/>
          </p:nvSpPr>
          <p:spPr>
            <a:xfrm>
              <a:off x="6518520" y="2971440"/>
              <a:ext cx="384840" cy="688680"/>
            </a:xfrm>
            <a:custGeom>
              <a:avLst/>
              <a:gdLst>
                <a:gd name="textAreaLeft" fmla="*/ 0 w 384840"/>
                <a:gd name="textAreaRight" fmla="*/ 385200 w 384840"/>
                <a:gd name="textAreaTop" fmla="*/ 0 h 688680"/>
                <a:gd name="textAreaBottom" fmla="*/ 689040 h 688680"/>
              </a:gdLst>
              <a:ahLst/>
              <a:rect l="textAreaLeft" t="textAreaTop" r="textAreaRight" b="textAreaBottom"/>
              <a:pathLst>
                <a:path w="180" h="322">
                  <a:moveTo>
                    <a:pt x="106" y="0"/>
                  </a:moveTo>
                  <a:lnTo>
                    <a:pt x="180" y="202"/>
                  </a:lnTo>
                  <a:lnTo>
                    <a:pt x="0" y="322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17"/>
            <p:cNvSpPr/>
            <p:nvPr/>
          </p:nvSpPr>
          <p:spPr>
            <a:xfrm>
              <a:off x="5885280" y="3223800"/>
              <a:ext cx="568800" cy="645840"/>
            </a:xfrm>
            <a:custGeom>
              <a:avLst/>
              <a:gdLst>
                <a:gd name="textAreaLeft" fmla="*/ 0 w 568800"/>
                <a:gd name="textAreaRight" fmla="*/ 569160 w 568800"/>
                <a:gd name="textAreaTop" fmla="*/ 0 h 645840"/>
                <a:gd name="textAreaBottom" fmla="*/ 646200 h 645840"/>
              </a:gdLst>
              <a:ahLst/>
              <a:rect l="textAreaLeft" t="textAreaTop" r="textAreaRight" b="textAreaBottom"/>
              <a:pathLst>
                <a:path w="266" h="302">
                  <a:moveTo>
                    <a:pt x="142" y="0"/>
                  </a:moveTo>
                  <a:lnTo>
                    <a:pt x="266" y="204"/>
                  </a:lnTo>
                  <a:lnTo>
                    <a:pt x="0" y="302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18"/>
            <p:cNvSpPr/>
            <p:nvPr/>
          </p:nvSpPr>
          <p:spPr>
            <a:xfrm>
              <a:off x="5115240" y="3369240"/>
              <a:ext cx="654480" cy="633240"/>
            </a:xfrm>
            <a:custGeom>
              <a:avLst/>
              <a:gdLst>
                <a:gd name="textAreaLeft" fmla="*/ 0 w 654480"/>
                <a:gd name="textAreaRight" fmla="*/ 654840 w 654480"/>
                <a:gd name="textAreaTop" fmla="*/ 0 h 633240"/>
                <a:gd name="textAreaBottom" fmla="*/ 633600 h 633240"/>
              </a:gdLst>
              <a:ahLst/>
              <a:rect l="textAreaLeft" t="textAreaTop" r="textAreaRight" b="textAreaBottom"/>
              <a:pathLst>
                <a:path w="306" h="296">
                  <a:moveTo>
                    <a:pt x="164" y="0"/>
                  </a:moveTo>
                  <a:lnTo>
                    <a:pt x="306" y="252"/>
                  </a:lnTo>
                  <a:lnTo>
                    <a:pt x="0" y="296"/>
                  </a:lnTo>
                  <a:lnTo>
                    <a:pt x="16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19"/>
            <p:cNvSpPr/>
            <p:nvPr/>
          </p:nvSpPr>
          <p:spPr>
            <a:xfrm>
              <a:off x="4208400" y="3463560"/>
              <a:ext cx="739800" cy="568800"/>
            </a:xfrm>
            <a:custGeom>
              <a:avLst/>
              <a:gdLst>
                <a:gd name="textAreaLeft" fmla="*/ 0 w 739800"/>
                <a:gd name="textAreaRight" fmla="*/ 740160 w 739800"/>
                <a:gd name="textAreaTop" fmla="*/ 0 h 568800"/>
                <a:gd name="textAreaBottom" fmla="*/ 569160 h 568800"/>
              </a:gdLst>
              <a:ahLst/>
              <a:rect l="textAreaLeft" t="textAreaTop" r="textAreaRight" b="textAreaBottom"/>
              <a:pathLst>
                <a:path w="346" h="266">
                  <a:moveTo>
                    <a:pt x="178" y="0"/>
                  </a:moveTo>
                  <a:lnTo>
                    <a:pt x="346" y="266"/>
                  </a:lnTo>
                  <a:lnTo>
                    <a:pt x="0" y="266"/>
                  </a:lnTo>
                  <a:lnTo>
                    <a:pt x="17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20"/>
            <p:cNvSpPr/>
            <p:nvPr/>
          </p:nvSpPr>
          <p:spPr>
            <a:xfrm>
              <a:off x="3387240" y="3403440"/>
              <a:ext cx="680040" cy="599040"/>
            </a:xfrm>
            <a:custGeom>
              <a:avLst/>
              <a:gdLst>
                <a:gd name="textAreaLeft" fmla="*/ 0 w 680040"/>
                <a:gd name="textAreaRight" fmla="*/ 680400 w 680040"/>
                <a:gd name="textAreaTop" fmla="*/ 0 h 599040"/>
                <a:gd name="textAreaBottom" fmla="*/ 599400 h 599040"/>
              </a:gdLst>
              <a:ahLst/>
              <a:rect l="textAreaLeft" t="textAreaTop" r="textAreaRight" b="textAreaBottom"/>
              <a:pathLst>
                <a:path w="318" h="280">
                  <a:moveTo>
                    <a:pt x="146" y="0"/>
                  </a:moveTo>
                  <a:lnTo>
                    <a:pt x="318" y="280"/>
                  </a:lnTo>
                  <a:lnTo>
                    <a:pt x="0" y="236"/>
                  </a:lnTo>
                  <a:lnTo>
                    <a:pt x="14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21"/>
            <p:cNvSpPr/>
            <p:nvPr/>
          </p:nvSpPr>
          <p:spPr>
            <a:xfrm>
              <a:off x="2728440" y="3223800"/>
              <a:ext cx="547200" cy="645840"/>
            </a:xfrm>
            <a:custGeom>
              <a:avLst/>
              <a:gdLst>
                <a:gd name="textAreaLeft" fmla="*/ 0 w 547200"/>
                <a:gd name="textAreaRight" fmla="*/ 547560 w 547200"/>
                <a:gd name="textAreaTop" fmla="*/ 0 h 645840"/>
                <a:gd name="textAreaBottom" fmla="*/ 646200 h 645840"/>
              </a:gdLst>
              <a:ahLst/>
              <a:rect l="textAreaLeft" t="textAreaTop" r="textAreaRight" b="textAreaBottom"/>
              <a:pathLst>
                <a:path w="256" h="302">
                  <a:moveTo>
                    <a:pt x="124" y="0"/>
                  </a:moveTo>
                  <a:lnTo>
                    <a:pt x="256" y="302"/>
                  </a:lnTo>
                  <a:lnTo>
                    <a:pt x="0" y="216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22"/>
            <p:cNvSpPr/>
            <p:nvPr/>
          </p:nvSpPr>
          <p:spPr>
            <a:xfrm>
              <a:off x="2236320" y="2971440"/>
              <a:ext cx="389160" cy="650160"/>
            </a:xfrm>
            <a:custGeom>
              <a:avLst/>
              <a:gdLst>
                <a:gd name="textAreaLeft" fmla="*/ 0 w 389160"/>
                <a:gd name="textAreaRight" fmla="*/ 389520 w 389160"/>
                <a:gd name="textAreaTop" fmla="*/ 0 h 650160"/>
                <a:gd name="textAreaBottom" fmla="*/ 650520 h 650160"/>
              </a:gdLst>
              <a:ahLst/>
              <a:rect l="textAreaLeft" t="textAreaTop" r="textAreaRight" b="textAreaBottom"/>
              <a:pathLst>
                <a:path w="182" h="304">
                  <a:moveTo>
                    <a:pt x="66" y="0"/>
                  </a:moveTo>
                  <a:lnTo>
                    <a:pt x="182" y="304"/>
                  </a:lnTo>
                  <a:lnTo>
                    <a:pt x="0" y="186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23"/>
            <p:cNvSpPr/>
            <p:nvPr/>
          </p:nvSpPr>
          <p:spPr>
            <a:xfrm>
              <a:off x="1967040" y="2633400"/>
              <a:ext cx="209520" cy="6631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663120"/>
                <a:gd name="textAreaBottom" fmla="*/ 663480 h 663120"/>
              </a:gdLst>
              <a:ahLst/>
              <a:rect l="textAreaLeft" t="textAreaTop" r="textAreaRight" b="textAreaBottom"/>
              <a:pathLst>
                <a:path w="98" h="310">
                  <a:moveTo>
                    <a:pt x="24" y="0"/>
                  </a:moveTo>
                  <a:lnTo>
                    <a:pt x="98" y="310"/>
                  </a:lnTo>
                  <a:lnTo>
                    <a:pt x="0" y="18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矩形 85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1407960" y="-312840"/>
            <a:ext cx="6162840" cy="6256440"/>
            <a:chOff x="1407960" y="-312840"/>
            <a:chExt cx="6162840" cy="6256440"/>
          </a:xfrm>
        </p:grpSpPr>
        <p:sp>
          <p:nvSpPr>
            <p:cNvPr id="107" name="Freeform 6"/>
            <p:cNvSpPr/>
            <p:nvPr/>
          </p:nvSpPr>
          <p:spPr>
            <a:xfrm>
              <a:off x="1407960" y="-312840"/>
              <a:ext cx="6162840" cy="6256440"/>
            </a:xfrm>
            <a:custGeom>
              <a:avLst/>
              <a:gdLst>
                <a:gd name="textAreaLeft" fmla="*/ 0 w 6162840"/>
                <a:gd name="textAreaRight" fmla="*/ 6163200 w 6162840"/>
                <a:gd name="textAreaTop" fmla="*/ 0 h 6256440"/>
                <a:gd name="textAreaBottom" fmla="*/ 6256800 h 6256440"/>
              </a:gdLst>
              <a:ahLst/>
              <a:rect l="textAreaLeft" t="textAreaTop" r="textAreaRight" b="textAreaBottom"/>
              <a:pathLst>
                <a:path w="1941" h="1971">
                  <a:moveTo>
                    <a:pt x="987" y="407"/>
                  </a:moveTo>
                  <a:cubicBezTo>
                    <a:pt x="985" y="405"/>
                    <a:pt x="982" y="405"/>
                    <a:pt x="982" y="403"/>
                  </a:cubicBezTo>
                  <a:cubicBezTo>
                    <a:pt x="984" y="402"/>
                    <a:pt x="985" y="400"/>
                    <a:pt x="985" y="397"/>
                  </a:cubicBezTo>
                  <a:cubicBezTo>
                    <a:pt x="970" y="368"/>
                    <a:pt x="921" y="387"/>
                    <a:pt x="939" y="419"/>
                  </a:cubicBezTo>
                  <a:cubicBezTo>
                    <a:pt x="946" y="419"/>
                    <a:pt x="945" y="424"/>
                    <a:pt x="946" y="428"/>
                  </a:cubicBezTo>
                  <a:cubicBezTo>
                    <a:pt x="952" y="423"/>
                    <a:pt x="959" y="429"/>
                    <a:pt x="966" y="432"/>
                  </a:cubicBezTo>
                  <a:cubicBezTo>
                    <a:pt x="966" y="427"/>
                    <a:pt x="970" y="427"/>
                    <a:pt x="974" y="428"/>
                  </a:cubicBezTo>
                  <a:cubicBezTo>
                    <a:pt x="973" y="418"/>
                    <a:pt x="980" y="422"/>
                    <a:pt x="983" y="419"/>
                  </a:cubicBezTo>
                  <a:cubicBezTo>
                    <a:pt x="979" y="414"/>
                    <a:pt x="983" y="409"/>
                    <a:pt x="987" y="407"/>
                  </a:cubicBezTo>
                  <a:close/>
                  <a:moveTo>
                    <a:pt x="999" y="276"/>
                  </a:moveTo>
                  <a:cubicBezTo>
                    <a:pt x="1001" y="275"/>
                    <a:pt x="1001" y="271"/>
                    <a:pt x="1001" y="268"/>
                  </a:cubicBezTo>
                  <a:cubicBezTo>
                    <a:pt x="998" y="266"/>
                    <a:pt x="996" y="267"/>
                    <a:pt x="993" y="268"/>
                  </a:cubicBezTo>
                  <a:cubicBezTo>
                    <a:pt x="991" y="274"/>
                    <a:pt x="993" y="276"/>
                    <a:pt x="999" y="276"/>
                  </a:cubicBezTo>
                  <a:close/>
                  <a:moveTo>
                    <a:pt x="908" y="286"/>
                  </a:moveTo>
                  <a:cubicBezTo>
                    <a:pt x="908" y="291"/>
                    <a:pt x="916" y="290"/>
                    <a:pt x="916" y="295"/>
                  </a:cubicBezTo>
                  <a:cubicBezTo>
                    <a:pt x="916" y="299"/>
                    <a:pt x="914" y="300"/>
                    <a:pt x="910" y="299"/>
                  </a:cubicBezTo>
                  <a:cubicBezTo>
                    <a:pt x="909" y="303"/>
                    <a:pt x="914" y="301"/>
                    <a:pt x="912" y="305"/>
                  </a:cubicBezTo>
                  <a:cubicBezTo>
                    <a:pt x="906" y="307"/>
                    <a:pt x="902" y="315"/>
                    <a:pt x="895" y="312"/>
                  </a:cubicBezTo>
                  <a:cubicBezTo>
                    <a:pt x="896" y="318"/>
                    <a:pt x="891" y="318"/>
                    <a:pt x="890" y="322"/>
                  </a:cubicBezTo>
                  <a:cubicBezTo>
                    <a:pt x="892" y="333"/>
                    <a:pt x="896" y="341"/>
                    <a:pt x="902" y="353"/>
                  </a:cubicBezTo>
                  <a:cubicBezTo>
                    <a:pt x="913" y="354"/>
                    <a:pt x="918" y="355"/>
                    <a:pt x="926" y="359"/>
                  </a:cubicBezTo>
                  <a:cubicBezTo>
                    <a:pt x="928" y="350"/>
                    <a:pt x="938" y="356"/>
                    <a:pt x="945" y="356"/>
                  </a:cubicBezTo>
                  <a:cubicBezTo>
                    <a:pt x="944" y="347"/>
                    <a:pt x="947" y="343"/>
                    <a:pt x="953" y="339"/>
                  </a:cubicBezTo>
                  <a:cubicBezTo>
                    <a:pt x="950" y="337"/>
                    <a:pt x="946" y="336"/>
                    <a:pt x="946" y="332"/>
                  </a:cubicBezTo>
                  <a:cubicBezTo>
                    <a:pt x="947" y="330"/>
                    <a:pt x="950" y="329"/>
                    <a:pt x="949" y="325"/>
                  </a:cubicBezTo>
                  <a:cubicBezTo>
                    <a:pt x="942" y="321"/>
                    <a:pt x="938" y="315"/>
                    <a:pt x="934" y="309"/>
                  </a:cubicBezTo>
                  <a:cubicBezTo>
                    <a:pt x="937" y="305"/>
                    <a:pt x="941" y="303"/>
                    <a:pt x="947" y="306"/>
                  </a:cubicBezTo>
                  <a:cubicBezTo>
                    <a:pt x="947" y="300"/>
                    <a:pt x="947" y="300"/>
                    <a:pt x="947" y="300"/>
                  </a:cubicBezTo>
                  <a:cubicBezTo>
                    <a:pt x="943" y="300"/>
                    <a:pt x="939" y="302"/>
                    <a:pt x="938" y="298"/>
                  </a:cubicBezTo>
                  <a:cubicBezTo>
                    <a:pt x="943" y="295"/>
                    <a:pt x="947" y="290"/>
                    <a:pt x="955" y="289"/>
                  </a:cubicBezTo>
                  <a:cubicBezTo>
                    <a:pt x="956" y="293"/>
                    <a:pt x="955" y="300"/>
                    <a:pt x="961" y="300"/>
                  </a:cubicBezTo>
                  <a:cubicBezTo>
                    <a:pt x="962" y="295"/>
                    <a:pt x="967" y="293"/>
                    <a:pt x="969" y="288"/>
                  </a:cubicBezTo>
                  <a:cubicBezTo>
                    <a:pt x="973" y="260"/>
                    <a:pt x="955" y="222"/>
                    <a:pt x="915" y="227"/>
                  </a:cubicBezTo>
                  <a:cubicBezTo>
                    <a:pt x="871" y="233"/>
                    <a:pt x="880" y="258"/>
                    <a:pt x="900" y="290"/>
                  </a:cubicBezTo>
                  <a:cubicBezTo>
                    <a:pt x="905" y="291"/>
                    <a:pt x="904" y="285"/>
                    <a:pt x="908" y="286"/>
                  </a:cubicBezTo>
                  <a:close/>
                  <a:moveTo>
                    <a:pt x="916" y="155"/>
                  </a:moveTo>
                  <a:cubicBezTo>
                    <a:pt x="905" y="157"/>
                    <a:pt x="897" y="191"/>
                    <a:pt x="897" y="200"/>
                  </a:cubicBezTo>
                  <a:cubicBezTo>
                    <a:pt x="899" y="276"/>
                    <a:pt x="955" y="147"/>
                    <a:pt x="916" y="155"/>
                  </a:cubicBezTo>
                  <a:close/>
                  <a:moveTo>
                    <a:pt x="992" y="353"/>
                  </a:moveTo>
                  <a:cubicBezTo>
                    <a:pt x="1004" y="340"/>
                    <a:pt x="974" y="323"/>
                    <a:pt x="972" y="343"/>
                  </a:cubicBezTo>
                  <a:cubicBezTo>
                    <a:pt x="971" y="354"/>
                    <a:pt x="985" y="361"/>
                    <a:pt x="992" y="353"/>
                  </a:cubicBezTo>
                  <a:close/>
                  <a:moveTo>
                    <a:pt x="921" y="454"/>
                  </a:moveTo>
                  <a:cubicBezTo>
                    <a:pt x="930" y="455"/>
                    <a:pt x="928" y="466"/>
                    <a:pt x="938" y="467"/>
                  </a:cubicBezTo>
                  <a:cubicBezTo>
                    <a:pt x="945" y="457"/>
                    <a:pt x="927" y="456"/>
                    <a:pt x="922" y="450"/>
                  </a:cubicBezTo>
                  <a:cubicBezTo>
                    <a:pt x="922" y="452"/>
                    <a:pt x="921" y="452"/>
                    <a:pt x="921" y="454"/>
                  </a:cubicBezTo>
                  <a:close/>
                  <a:moveTo>
                    <a:pt x="953" y="519"/>
                  </a:moveTo>
                  <a:cubicBezTo>
                    <a:pt x="947" y="518"/>
                    <a:pt x="944" y="523"/>
                    <a:pt x="945" y="527"/>
                  </a:cubicBezTo>
                  <a:cubicBezTo>
                    <a:pt x="950" y="544"/>
                    <a:pt x="973" y="519"/>
                    <a:pt x="953" y="519"/>
                  </a:cubicBezTo>
                  <a:close/>
                  <a:moveTo>
                    <a:pt x="971" y="512"/>
                  </a:moveTo>
                  <a:cubicBezTo>
                    <a:pt x="964" y="503"/>
                    <a:pt x="952" y="521"/>
                    <a:pt x="968" y="520"/>
                  </a:cubicBezTo>
                  <a:cubicBezTo>
                    <a:pt x="969" y="518"/>
                    <a:pt x="971" y="517"/>
                    <a:pt x="971" y="512"/>
                  </a:cubicBezTo>
                  <a:close/>
                  <a:moveTo>
                    <a:pt x="936" y="425"/>
                  </a:moveTo>
                  <a:cubicBezTo>
                    <a:pt x="932" y="425"/>
                    <a:pt x="933" y="423"/>
                    <a:pt x="930" y="423"/>
                  </a:cubicBezTo>
                  <a:cubicBezTo>
                    <a:pt x="927" y="424"/>
                    <a:pt x="925" y="429"/>
                    <a:pt x="927" y="432"/>
                  </a:cubicBezTo>
                  <a:cubicBezTo>
                    <a:pt x="933" y="434"/>
                    <a:pt x="936" y="431"/>
                    <a:pt x="936" y="425"/>
                  </a:cubicBezTo>
                  <a:close/>
                  <a:moveTo>
                    <a:pt x="946" y="485"/>
                  </a:moveTo>
                  <a:cubicBezTo>
                    <a:pt x="943" y="483"/>
                    <a:pt x="944" y="479"/>
                    <a:pt x="939" y="479"/>
                  </a:cubicBezTo>
                  <a:cubicBezTo>
                    <a:pt x="931" y="482"/>
                    <a:pt x="942" y="491"/>
                    <a:pt x="946" y="485"/>
                  </a:cubicBezTo>
                  <a:close/>
                  <a:moveTo>
                    <a:pt x="716" y="499"/>
                  </a:moveTo>
                  <a:cubicBezTo>
                    <a:pt x="766" y="491"/>
                    <a:pt x="693" y="429"/>
                    <a:pt x="692" y="477"/>
                  </a:cubicBezTo>
                  <a:cubicBezTo>
                    <a:pt x="691" y="489"/>
                    <a:pt x="701" y="502"/>
                    <a:pt x="716" y="499"/>
                  </a:cubicBezTo>
                  <a:close/>
                  <a:moveTo>
                    <a:pt x="933" y="566"/>
                  </a:moveTo>
                  <a:cubicBezTo>
                    <a:pt x="939" y="585"/>
                    <a:pt x="972" y="579"/>
                    <a:pt x="962" y="555"/>
                  </a:cubicBezTo>
                  <a:cubicBezTo>
                    <a:pt x="992" y="554"/>
                    <a:pt x="960" y="521"/>
                    <a:pt x="953" y="547"/>
                  </a:cubicBezTo>
                  <a:cubicBezTo>
                    <a:pt x="945" y="546"/>
                    <a:pt x="943" y="548"/>
                    <a:pt x="935" y="548"/>
                  </a:cubicBezTo>
                  <a:cubicBezTo>
                    <a:pt x="939" y="526"/>
                    <a:pt x="920" y="522"/>
                    <a:pt x="917" y="505"/>
                  </a:cubicBezTo>
                  <a:cubicBezTo>
                    <a:pt x="918" y="505"/>
                    <a:pt x="918" y="504"/>
                    <a:pt x="920" y="504"/>
                  </a:cubicBezTo>
                  <a:cubicBezTo>
                    <a:pt x="925" y="505"/>
                    <a:pt x="925" y="508"/>
                    <a:pt x="930" y="509"/>
                  </a:cubicBezTo>
                  <a:cubicBezTo>
                    <a:pt x="933" y="507"/>
                    <a:pt x="931" y="504"/>
                    <a:pt x="931" y="501"/>
                  </a:cubicBezTo>
                  <a:cubicBezTo>
                    <a:pt x="929" y="498"/>
                    <a:pt x="927" y="501"/>
                    <a:pt x="923" y="500"/>
                  </a:cubicBezTo>
                  <a:cubicBezTo>
                    <a:pt x="922" y="492"/>
                    <a:pt x="925" y="487"/>
                    <a:pt x="927" y="480"/>
                  </a:cubicBezTo>
                  <a:cubicBezTo>
                    <a:pt x="923" y="477"/>
                    <a:pt x="923" y="474"/>
                    <a:pt x="927" y="471"/>
                  </a:cubicBezTo>
                  <a:cubicBezTo>
                    <a:pt x="907" y="454"/>
                    <a:pt x="885" y="436"/>
                    <a:pt x="861" y="461"/>
                  </a:cubicBezTo>
                  <a:cubicBezTo>
                    <a:pt x="860" y="469"/>
                    <a:pt x="869" y="481"/>
                    <a:pt x="861" y="486"/>
                  </a:cubicBezTo>
                  <a:cubicBezTo>
                    <a:pt x="882" y="517"/>
                    <a:pt x="813" y="525"/>
                    <a:pt x="821" y="570"/>
                  </a:cubicBezTo>
                  <a:cubicBezTo>
                    <a:pt x="862" y="573"/>
                    <a:pt x="898" y="588"/>
                    <a:pt x="933" y="566"/>
                  </a:cubicBezTo>
                  <a:close/>
                  <a:moveTo>
                    <a:pt x="796" y="502"/>
                  </a:moveTo>
                  <a:cubicBezTo>
                    <a:pt x="798" y="498"/>
                    <a:pt x="793" y="498"/>
                    <a:pt x="795" y="493"/>
                  </a:cubicBezTo>
                  <a:cubicBezTo>
                    <a:pt x="799" y="492"/>
                    <a:pt x="799" y="495"/>
                    <a:pt x="803" y="495"/>
                  </a:cubicBezTo>
                  <a:cubicBezTo>
                    <a:pt x="803" y="489"/>
                    <a:pt x="806" y="487"/>
                    <a:pt x="808" y="484"/>
                  </a:cubicBezTo>
                  <a:cubicBezTo>
                    <a:pt x="807" y="481"/>
                    <a:pt x="804" y="478"/>
                    <a:pt x="802" y="476"/>
                  </a:cubicBezTo>
                  <a:cubicBezTo>
                    <a:pt x="802" y="472"/>
                    <a:pt x="807" y="474"/>
                    <a:pt x="806" y="469"/>
                  </a:cubicBezTo>
                  <a:cubicBezTo>
                    <a:pt x="799" y="467"/>
                    <a:pt x="795" y="462"/>
                    <a:pt x="796" y="454"/>
                  </a:cubicBezTo>
                  <a:cubicBezTo>
                    <a:pt x="771" y="430"/>
                    <a:pt x="718" y="451"/>
                    <a:pt x="736" y="485"/>
                  </a:cubicBezTo>
                  <a:cubicBezTo>
                    <a:pt x="750" y="501"/>
                    <a:pt x="771" y="503"/>
                    <a:pt x="796" y="502"/>
                  </a:cubicBezTo>
                  <a:close/>
                  <a:moveTo>
                    <a:pt x="725" y="279"/>
                  </a:moveTo>
                  <a:cubicBezTo>
                    <a:pt x="726" y="276"/>
                    <a:pt x="725" y="274"/>
                    <a:pt x="725" y="273"/>
                  </a:cubicBezTo>
                  <a:cubicBezTo>
                    <a:pt x="720" y="272"/>
                    <a:pt x="718" y="274"/>
                    <a:pt x="718" y="278"/>
                  </a:cubicBezTo>
                  <a:cubicBezTo>
                    <a:pt x="719" y="280"/>
                    <a:pt x="723" y="280"/>
                    <a:pt x="725" y="279"/>
                  </a:cubicBezTo>
                  <a:close/>
                  <a:moveTo>
                    <a:pt x="756" y="259"/>
                  </a:moveTo>
                  <a:cubicBezTo>
                    <a:pt x="756" y="274"/>
                    <a:pt x="761" y="294"/>
                    <a:pt x="771" y="305"/>
                  </a:cubicBezTo>
                  <a:cubicBezTo>
                    <a:pt x="768" y="288"/>
                    <a:pt x="774" y="265"/>
                    <a:pt x="756" y="259"/>
                  </a:cubicBezTo>
                  <a:close/>
                  <a:moveTo>
                    <a:pt x="788" y="438"/>
                  </a:moveTo>
                  <a:cubicBezTo>
                    <a:pt x="806" y="415"/>
                    <a:pt x="757" y="429"/>
                    <a:pt x="788" y="438"/>
                  </a:cubicBezTo>
                  <a:close/>
                  <a:moveTo>
                    <a:pt x="700" y="574"/>
                  </a:moveTo>
                  <a:cubicBezTo>
                    <a:pt x="693" y="573"/>
                    <a:pt x="692" y="576"/>
                    <a:pt x="691" y="581"/>
                  </a:cubicBezTo>
                  <a:cubicBezTo>
                    <a:pt x="697" y="583"/>
                    <a:pt x="699" y="579"/>
                    <a:pt x="700" y="574"/>
                  </a:cubicBezTo>
                  <a:close/>
                  <a:moveTo>
                    <a:pt x="707" y="632"/>
                  </a:moveTo>
                  <a:cubicBezTo>
                    <a:pt x="715" y="630"/>
                    <a:pt x="717" y="636"/>
                    <a:pt x="726" y="636"/>
                  </a:cubicBezTo>
                  <a:cubicBezTo>
                    <a:pt x="727" y="629"/>
                    <a:pt x="737" y="629"/>
                    <a:pt x="737" y="624"/>
                  </a:cubicBezTo>
                  <a:cubicBezTo>
                    <a:pt x="741" y="628"/>
                    <a:pt x="747" y="625"/>
                    <a:pt x="751" y="626"/>
                  </a:cubicBezTo>
                  <a:cubicBezTo>
                    <a:pt x="757" y="620"/>
                    <a:pt x="756" y="610"/>
                    <a:pt x="752" y="604"/>
                  </a:cubicBezTo>
                  <a:cubicBezTo>
                    <a:pt x="743" y="601"/>
                    <a:pt x="731" y="606"/>
                    <a:pt x="731" y="596"/>
                  </a:cubicBezTo>
                  <a:cubicBezTo>
                    <a:pt x="765" y="572"/>
                    <a:pt x="695" y="554"/>
                    <a:pt x="715" y="595"/>
                  </a:cubicBezTo>
                  <a:cubicBezTo>
                    <a:pt x="691" y="595"/>
                    <a:pt x="698" y="621"/>
                    <a:pt x="707" y="632"/>
                  </a:cubicBezTo>
                  <a:close/>
                  <a:moveTo>
                    <a:pt x="803" y="199"/>
                  </a:moveTo>
                  <a:cubicBezTo>
                    <a:pt x="834" y="195"/>
                    <a:pt x="789" y="96"/>
                    <a:pt x="783" y="133"/>
                  </a:cubicBezTo>
                  <a:cubicBezTo>
                    <a:pt x="781" y="149"/>
                    <a:pt x="783" y="202"/>
                    <a:pt x="803" y="199"/>
                  </a:cubicBezTo>
                  <a:close/>
                  <a:moveTo>
                    <a:pt x="1043" y="484"/>
                  </a:moveTo>
                  <a:cubicBezTo>
                    <a:pt x="1051" y="470"/>
                    <a:pt x="1040" y="458"/>
                    <a:pt x="1025" y="462"/>
                  </a:cubicBezTo>
                  <a:cubicBezTo>
                    <a:pt x="1010" y="473"/>
                    <a:pt x="1027" y="492"/>
                    <a:pt x="1043" y="484"/>
                  </a:cubicBezTo>
                  <a:close/>
                  <a:moveTo>
                    <a:pt x="1338" y="589"/>
                  </a:moveTo>
                  <a:cubicBezTo>
                    <a:pt x="1367" y="545"/>
                    <a:pt x="1280" y="570"/>
                    <a:pt x="1338" y="589"/>
                  </a:cubicBezTo>
                  <a:close/>
                  <a:moveTo>
                    <a:pt x="1271" y="249"/>
                  </a:moveTo>
                  <a:cubicBezTo>
                    <a:pt x="1246" y="239"/>
                    <a:pt x="1265" y="274"/>
                    <a:pt x="1271" y="249"/>
                  </a:cubicBezTo>
                  <a:close/>
                  <a:moveTo>
                    <a:pt x="1234" y="369"/>
                  </a:moveTo>
                  <a:cubicBezTo>
                    <a:pt x="1238" y="355"/>
                    <a:pt x="1209" y="355"/>
                    <a:pt x="1215" y="370"/>
                  </a:cubicBezTo>
                  <a:cubicBezTo>
                    <a:pt x="1218" y="376"/>
                    <a:pt x="1231" y="377"/>
                    <a:pt x="1234" y="369"/>
                  </a:cubicBezTo>
                  <a:close/>
                  <a:moveTo>
                    <a:pt x="1219" y="528"/>
                  </a:moveTo>
                  <a:cubicBezTo>
                    <a:pt x="1222" y="564"/>
                    <a:pt x="1253" y="516"/>
                    <a:pt x="1219" y="528"/>
                  </a:cubicBezTo>
                  <a:close/>
                  <a:moveTo>
                    <a:pt x="1245" y="353"/>
                  </a:moveTo>
                  <a:cubicBezTo>
                    <a:pt x="1255" y="329"/>
                    <a:pt x="1218" y="348"/>
                    <a:pt x="1245" y="353"/>
                  </a:cubicBezTo>
                  <a:close/>
                  <a:moveTo>
                    <a:pt x="608" y="413"/>
                  </a:moveTo>
                  <a:cubicBezTo>
                    <a:pt x="637" y="412"/>
                    <a:pt x="594" y="378"/>
                    <a:pt x="599" y="405"/>
                  </a:cubicBezTo>
                  <a:cubicBezTo>
                    <a:pt x="600" y="410"/>
                    <a:pt x="602" y="413"/>
                    <a:pt x="608" y="413"/>
                  </a:cubicBezTo>
                  <a:close/>
                  <a:moveTo>
                    <a:pt x="1036" y="231"/>
                  </a:moveTo>
                  <a:cubicBezTo>
                    <a:pt x="1034" y="229"/>
                    <a:pt x="1034" y="226"/>
                    <a:pt x="1029" y="227"/>
                  </a:cubicBezTo>
                  <a:cubicBezTo>
                    <a:pt x="1029" y="229"/>
                    <a:pt x="1027" y="229"/>
                    <a:pt x="1027" y="231"/>
                  </a:cubicBezTo>
                  <a:cubicBezTo>
                    <a:pt x="1029" y="234"/>
                    <a:pt x="1035" y="235"/>
                    <a:pt x="1036" y="231"/>
                  </a:cubicBezTo>
                  <a:close/>
                  <a:moveTo>
                    <a:pt x="1445" y="189"/>
                  </a:moveTo>
                  <a:cubicBezTo>
                    <a:pt x="1446" y="186"/>
                    <a:pt x="1445" y="184"/>
                    <a:pt x="1444" y="183"/>
                  </a:cubicBezTo>
                  <a:cubicBezTo>
                    <a:pt x="1440" y="182"/>
                    <a:pt x="1438" y="184"/>
                    <a:pt x="1438" y="188"/>
                  </a:cubicBezTo>
                  <a:cubicBezTo>
                    <a:pt x="1439" y="190"/>
                    <a:pt x="1443" y="190"/>
                    <a:pt x="1445" y="189"/>
                  </a:cubicBezTo>
                  <a:close/>
                  <a:moveTo>
                    <a:pt x="1466" y="720"/>
                  </a:moveTo>
                  <a:cubicBezTo>
                    <a:pt x="1461" y="709"/>
                    <a:pt x="1455" y="699"/>
                    <a:pt x="1445" y="691"/>
                  </a:cubicBezTo>
                  <a:cubicBezTo>
                    <a:pt x="1444" y="695"/>
                    <a:pt x="1449" y="696"/>
                    <a:pt x="1445" y="699"/>
                  </a:cubicBezTo>
                  <a:cubicBezTo>
                    <a:pt x="1433" y="683"/>
                    <a:pt x="1402" y="688"/>
                    <a:pt x="1389" y="696"/>
                  </a:cubicBezTo>
                  <a:cubicBezTo>
                    <a:pt x="1388" y="701"/>
                    <a:pt x="1393" y="700"/>
                    <a:pt x="1392" y="704"/>
                  </a:cubicBezTo>
                  <a:cubicBezTo>
                    <a:pt x="1376" y="730"/>
                    <a:pt x="1403" y="750"/>
                    <a:pt x="1426" y="752"/>
                  </a:cubicBezTo>
                  <a:cubicBezTo>
                    <a:pt x="1430" y="747"/>
                    <a:pt x="1435" y="747"/>
                    <a:pt x="1444" y="750"/>
                  </a:cubicBezTo>
                  <a:cubicBezTo>
                    <a:pt x="1445" y="742"/>
                    <a:pt x="1445" y="742"/>
                    <a:pt x="1445" y="742"/>
                  </a:cubicBezTo>
                  <a:cubicBezTo>
                    <a:pt x="1450" y="739"/>
                    <a:pt x="1457" y="740"/>
                    <a:pt x="1463" y="739"/>
                  </a:cubicBezTo>
                  <a:cubicBezTo>
                    <a:pt x="1464" y="733"/>
                    <a:pt x="1458" y="732"/>
                    <a:pt x="1459" y="727"/>
                  </a:cubicBezTo>
                  <a:cubicBezTo>
                    <a:pt x="1460" y="723"/>
                    <a:pt x="1465" y="724"/>
                    <a:pt x="1466" y="720"/>
                  </a:cubicBezTo>
                  <a:close/>
                  <a:moveTo>
                    <a:pt x="1396" y="218"/>
                  </a:moveTo>
                  <a:cubicBezTo>
                    <a:pt x="1361" y="219"/>
                    <a:pt x="1407" y="244"/>
                    <a:pt x="1396" y="218"/>
                  </a:cubicBezTo>
                  <a:close/>
                  <a:moveTo>
                    <a:pt x="1443" y="354"/>
                  </a:moveTo>
                  <a:cubicBezTo>
                    <a:pt x="1457" y="345"/>
                    <a:pt x="1434" y="333"/>
                    <a:pt x="1431" y="348"/>
                  </a:cubicBezTo>
                  <a:cubicBezTo>
                    <a:pt x="1434" y="351"/>
                    <a:pt x="1436" y="354"/>
                    <a:pt x="1443" y="354"/>
                  </a:cubicBezTo>
                  <a:close/>
                  <a:moveTo>
                    <a:pt x="1330" y="618"/>
                  </a:moveTo>
                  <a:cubicBezTo>
                    <a:pt x="1332" y="607"/>
                    <a:pt x="1303" y="604"/>
                    <a:pt x="1308" y="619"/>
                  </a:cubicBezTo>
                  <a:cubicBezTo>
                    <a:pt x="1311" y="629"/>
                    <a:pt x="1329" y="626"/>
                    <a:pt x="1330" y="618"/>
                  </a:cubicBezTo>
                  <a:close/>
                  <a:moveTo>
                    <a:pt x="1133" y="362"/>
                  </a:moveTo>
                  <a:cubicBezTo>
                    <a:pt x="1181" y="381"/>
                    <a:pt x="1123" y="308"/>
                    <a:pt x="1127" y="352"/>
                  </a:cubicBezTo>
                  <a:cubicBezTo>
                    <a:pt x="1128" y="358"/>
                    <a:pt x="1132" y="361"/>
                    <a:pt x="1133" y="362"/>
                  </a:cubicBezTo>
                  <a:close/>
                  <a:moveTo>
                    <a:pt x="1163" y="6"/>
                  </a:moveTo>
                  <a:cubicBezTo>
                    <a:pt x="1117" y="0"/>
                    <a:pt x="1168" y="50"/>
                    <a:pt x="1163" y="6"/>
                  </a:cubicBezTo>
                  <a:close/>
                  <a:moveTo>
                    <a:pt x="1155" y="321"/>
                  </a:moveTo>
                  <a:cubicBezTo>
                    <a:pt x="1154" y="321"/>
                    <a:pt x="1152" y="325"/>
                    <a:pt x="1154" y="330"/>
                  </a:cubicBezTo>
                  <a:cubicBezTo>
                    <a:pt x="1165" y="360"/>
                    <a:pt x="1178" y="300"/>
                    <a:pt x="1155" y="321"/>
                  </a:cubicBezTo>
                  <a:close/>
                  <a:moveTo>
                    <a:pt x="1023" y="650"/>
                  </a:moveTo>
                  <a:cubicBezTo>
                    <a:pt x="1028" y="678"/>
                    <a:pt x="1058" y="634"/>
                    <a:pt x="1030" y="637"/>
                  </a:cubicBezTo>
                  <a:cubicBezTo>
                    <a:pt x="1023" y="637"/>
                    <a:pt x="1021" y="643"/>
                    <a:pt x="1023" y="650"/>
                  </a:cubicBezTo>
                  <a:close/>
                  <a:moveTo>
                    <a:pt x="1182" y="505"/>
                  </a:moveTo>
                  <a:cubicBezTo>
                    <a:pt x="1185" y="487"/>
                    <a:pt x="1161" y="505"/>
                    <a:pt x="1182" y="505"/>
                  </a:cubicBezTo>
                  <a:close/>
                  <a:moveTo>
                    <a:pt x="1179" y="487"/>
                  </a:moveTo>
                  <a:cubicBezTo>
                    <a:pt x="1180" y="485"/>
                    <a:pt x="1182" y="484"/>
                    <a:pt x="1184" y="482"/>
                  </a:cubicBezTo>
                  <a:cubicBezTo>
                    <a:pt x="1178" y="468"/>
                    <a:pt x="1160" y="486"/>
                    <a:pt x="1179" y="487"/>
                  </a:cubicBezTo>
                  <a:close/>
                  <a:moveTo>
                    <a:pt x="1206" y="154"/>
                  </a:moveTo>
                  <a:cubicBezTo>
                    <a:pt x="1197" y="152"/>
                    <a:pt x="1190" y="158"/>
                    <a:pt x="1193" y="166"/>
                  </a:cubicBezTo>
                  <a:cubicBezTo>
                    <a:pt x="1201" y="172"/>
                    <a:pt x="1212" y="161"/>
                    <a:pt x="1206" y="154"/>
                  </a:cubicBezTo>
                  <a:close/>
                  <a:moveTo>
                    <a:pt x="1270" y="190"/>
                  </a:moveTo>
                  <a:cubicBezTo>
                    <a:pt x="1268" y="170"/>
                    <a:pt x="1222" y="170"/>
                    <a:pt x="1229" y="198"/>
                  </a:cubicBezTo>
                  <a:cubicBezTo>
                    <a:pt x="1234" y="221"/>
                    <a:pt x="1272" y="212"/>
                    <a:pt x="1270" y="190"/>
                  </a:cubicBezTo>
                  <a:close/>
                  <a:moveTo>
                    <a:pt x="1262" y="132"/>
                  </a:moveTo>
                  <a:cubicBezTo>
                    <a:pt x="1262" y="122"/>
                    <a:pt x="1237" y="121"/>
                    <a:pt x="1243" y="136"/>
                  </a:cubicBezTo>
                  <a:cubicBezTo>
                    <a:pt x="1247" y="146"/>
                    <a:pt x="1263" y="142"/>
                    <a:pt x="1262" y="132"/>
                  </a:cubicBezTo>
                  <a:close/>
                  <a:moveTo>
                    <a:pt x="640" y="438"/>
                  </a:moveTo>
                  <a:cubicBezTo>
                    <a:pt x="605" y="414"/>
                    <a:pt x="628" y="481"/>
                    <a:pt x="640" y="438"/>
                  </a:cubicBezTo>
                  <a:close/>
                  <a:moveTo>
                    <a:pt x="347" y="724"/>
                  </a:moveTo>
                  <a:cubicBezTo>
                    <a:pt x="359" y="728"/>
                    <a:pt x="363" y="724"/>
                    <a:pt x="371" y="722"/>
                  </a:cubicBezTo>
                  <a:cubicBezTo>
                    <a:pt x="371" y="715"/>
                    <a:pt x="375" y="713"/>
                    <a:pt x="375" y="708"/>
                  </a:cubicBezTo>
                  <a:cubicBezTo>
                    <a:pt x="371" y="705"/>
                    <a:pt x="369" y="700"/>
                    <a:pt x="366" y="696"/>
                  </a:cubicBezTo>
                  <a:cubicBezTo>
                    <a:pt x="348" y="691"/>
                    <a:pt x="335" y="712"/>
                    <a:pt x="347" y="724"/>
                  </a:cubicBezTo>
                  <a:close/>
                  <a:moveTo>
                    <a:pt x="275" y="912"/>
                  </a:moveTo>
                  <a:cubicBezTo>
                    <a:pt x="273" y="920"/>
                    <a:pt x="277" y="924"/>
                    <a:pt x="285" y="924"/>
                  </a:cubicBezTo>
                  <a:cubicBezTo>
                    <a:pt x="296" y="919"/>
                    <a:pt x="284" y="905"/>
                    <a:pt x="275" y="912"/>
                  </a:cubicBezTo>
                  <a:close/>
                  <a:moveTo>
                    <a:pt x="219" y="713"/>
                  </a:moveTo>
                  <a:cubicBezTo>
                    <a:pt x="220" y="710"/>
                    <a:pt x="221" y="708"/>
                    <a:pt x="221" y="704"/>
                  </a:cubicBezTo>
                  <a:cubicBezTo>
                    <a:pt x="218" y="702"/>
                    <a:pt x="215" y="700"/>
                    <a:pt x="210" y="700"/>
                  </a:cubicBezTo>
                  <a:cubicBezTo>
                    <a:pt x="203" y="706"/>
                    <a:pt x="209" y="717"/>
                    <a:pt x="219" y="713"/>
                  </a:cubicBezTo>
                  <a:close/>
                  <a:moveTo>
                    <a:pt x="330" y="950"/>
                  </a:moveTo>
                  <a:cubicBezTo>
                    <a:pt x="332" y="895"/>
                    <a:pt x="272" y="963"/>
                    <a:pt x="330" y="950"/>
                  </a:cubicBezTo>
                  <a:close/>
                  <a:moveTo>
                    <a:pt x="602" y="686"/>
                  </a:moveTo>
                  <a:cubicBezTo>
                    <a:pt x="609" y="687"/>
                    <a:pt x="616" y="687"/>
                    <a:pt x="616" y="680"/>
                  </a:cubicBezTo>
                  <a:cubicBezTo>
                    <a:pt x="610" y="680"/>
                    <a:pt x="605" y="681"/>
                    <a:pt x="602" y="686"/>
                  </a:cubicBezTo>
                  <a:close/>
                  <a:moveTo>
                    <a:pt x="369" y="457"/>
                  </a:moveTo>
                  <a:cubicBezTo>
                    <a:pt x="372" y="455"/>
                    <a:pt x="373" y="450"/>
                    <a:pt x="370" y="447"/>
                  </a:cubicBezTo>
                  <a:cubicBezTo>
                    <a:pt x="364" y="446"/>
                    <a:pt x="364" y="446"/>
                    <a:pt x="364" y="446"/>
                  </a:cubicBezTo>
                  <a:cubicBezTo>
                    <a:pt x="359" y="449"/>
                    <a:pt x="361" y="458"/>
                    <a:pt x="369" y="457"/>
                  </a:cubicBezTo>
                  <a:close/>
                  <a:moveTo>
                    <a:pt x="287" y="347"/>
                  </a:moveTo>
                  <a:cubicBezTo>
                    <a:pt x="291" y="348"/>
                    <a:pt x="290" y="349"/>
                    <a:pt x="289" y="352"/>
                  </a:cubicBezTo>
                  <a:cubicBezTo>
                    <a:pt x="297" y="354"/>
                    <a:pt x="298" y="356"/>
                    <a:pt x="301" y="362"/>
                  </a:cubicBezTo>
                  <a:cubicBezTo>
                    <a:pt x="306" y="360"/>
                    <a:pt x="312" y="362"/>
                    <a:pt x="316" y="364"/>
                  </a:cubicBezTo>
                  <a:cubicBezTo>
                    <a:pt x="323" y="360"/>
                    <a:pt x="331" y="357"/>
                    <a:pt x="337" y="351"/>
                  </a:cubicBezTo>
                  <a:cubicBezTo>
                    <a:pt x="336" y="346"/>
                    <a:pt x="334" y="340"/>
                    <a:pt x="340" y="338"/>
                  </a:cubicBezTo>
                  <a:cubicBezTo>
                    <a:pt x="336" y="317"/>
                    <a:pt x="295" y="307"/>
                    <a:pt x="286" y="335"/>
                  </a:cubicBezTo>
                  <a:cubicBezTo>
                    <a:pt x="291" y="338"/>
                    <a:pt x="290" y="343"/>
                    <a:pt x="287" y="347"/>
                  </a:cubicBezTo>
                  <a:close/>
                  <a:moveTo>
                    <a:pt x="324" y="517"/>
                  </a:moveTo>
                  <a:cubicBezTo>
                    <a:pt x="317" y="518"/>
                    <a:pt x="315" y="523"/>
                    <a:pt x="315" y="529"/>
                  </a:cubicBezTo>
                  <a:cubicBezTo>
                    <a:pt x="319" y="558"/>
                    <a:pt x="353" y="516"/>
                    <a:pt x="324" y="517"/>
                  </a:cubicBezTo>
                  <a:close/>
                  <a:moveTo>
                    <a:pt x="327" y="667"/>
                  </a:moveTo>
                  <a:cubicBezTo>
                    <a:pt x="325" y="689"/>
                    <a:pt x="353" y="676"/>
                    <a:pt x="361" y="671"/>
                  </a:cubicBezTo>
                  <a:cubicBezTo>
                    <a:pt x="361" y="647"/>
                    <a:pt x="337" y="660"/>
                    <a:pt x="327" y="667"/>
                  </a:cubicBezTo>
                  <a:close/>
                  <a:moveTo>
                    <a:pt x="353" y="648"/>
                  </a:moveTo>
                  <a:cubicBezTo>
                    <a:pt x="356" y="640"/>
                    <a:pt x="358" y="630"/>
                    <a:pt x="352" y="622"/>
                  </a:cubicBezTo>
                  <a:cubicBezTo>
                    <a:pt x="300" y="601"/>
                    <a:pt x="307" y="673"/>
                    <a:pt x="353" y="648"/>
                  </a:cubicBezTo>
                  <a:close/>
                  <a:moveTo>
                    <a:pt x="229" y="949"/>
                  </a:moveTo>
                  <a:cubicBezTo>
                    <a:pt x="224" y="949"/>
                    <a:pt x="223" y="946"/>
                    <a:pt x="218" y="946"/>
                  </a:cubicBezTo>
                  <a:cubicBezTo>
                    <a:pt x="218" y="948"/>
                    <a:pt x="216" y="948"/>
                    <a:pt x="217" y="950"/>
                  </a:cubicBezTo>
                  <a:cubicBezTo>
                    <a:pt x="219" y="951"/>
                    <a:pt x="230" y="954"/>
                    <a:pt x="229" y="949"/>
                  </a:cubicBezTo>
                  <a:close/>
                  <a:moveTo>
                    <a:pt x="181" y="851"/>
                  </a:moveTo>
                  <a:cubicBezTo>
                    <a:pt x="186" y="848"/>
                    <a:pt x="189" y="844"/>
                    <a:pt x="195" y="842"/>
                  </a:cubicBezTo>
                  <a:cubicBezTo>
                    <a:pt x="203" y="780"/>
                    <a:pt x="110" y="842"/>
                    <a:pt x="181" y="851"/>
                  </a:cubicBezTo>
                  <a:close/>
                  <a:moveTo>
                    <a:pt x="189" y="807"/>
                  </a:moveTo>
                  <a:cubicBezTo>
                    <a:pt x="191" y="810"/>
                    <a:pt x="195" y="811"/>
                    <a:pt x="199" y="812"/>
                  </a:cubicBezTo>
                  <a:cubicBezTo>
                    <a:pt x="215" y="805"/>
                    <a:pt x="189" y="785"/>
                    <a:pt x="189" y="807"/>
                  </a:cubicBezTo>
                  <a:close/>
                  <a:moveTo>
                    <a:pt x="5" y="574"/>
                  </a:moveTo>
                  <a:cubicBezTo>
                    <a:pt x="0" y="589"/>
                    <a:pt x="16" y="593"/>
                    <a:pt x="27" y="593"/>
                  </a:cubicBezTo>
                  <a:cubicBezTo>
                    <a:pt x="29" y="580"/>
                    <a:pt x="14" y="579"/>
                    <a:pt x="5" y="574"/>
                  </a:cubicBezTo>
                  <a:close/>
                  <a:moveTo>
                    <a:pt x="1940" y="703"/>
                  </a:moveTo>
                  <a:cubicBezTo>
                    <a:pt x="1929" y="706"/>
                    <a:pt x="1882" y="724"/>
                    <a:pt x="1884" y="737"/>
                  </a:cubicBezTo>
                  <a:cubicBezTo>
                    <a:pt x="1886" y="750"/>
                    <a:pt x="1915" y="742"/>
                    <a:pt x="1941" y="736"/>
                  </a:cubicBezTo>
                  <a:cubicBezTo>
                    <a:pt x="1941" y="703"/>
                    <a:pt x="1941" y="703"/>
                    <a:pt x="1941" y="703"/>
                  </a:cubicBezTo>
                  <a:cubicBezTo>
                    <a:pt x="1941" y="703"/>
                    <a:pt x="1940" y="703"/>
                    <a:pt x="1940" y="703"/>
                  </a:cubicBezTo>
                  <a:close/>
                  <a:moveTo>
                    <a:pt x="1838" y="789"/>
                  </a:moveTo>
                  <a:cubicBezTo>
                    <a:pt x="1714" y="790"/>
                    <a:pt x="1544" y="840"/>
                    <a:pt x="1418" y="816"/>
                  </a:cubicBezTo>
                  <a:cubicBezTo>
                    <a:pt x="1415" y="819"/>
                    <a:pt x="1413" y="823"/>
                    <a:pt x="1410" y="827"/>
                  </a:cubicBezTo>
                  <a:cubicBezTo>
                    <a:pt x="1379" y="835"/>
                    <a:pt x="1276" y="861"/>
                    <a:pt x="1282" y="806"/>
                  </a:cubicBezTo>
                  <a:cubicBezTo>
                    <a:pt x="1285" y="777"/>
                    <a:pt x="1329" y="776"/>
                    <a:pt x="1359" y="776"/>
                  </a:cubicBezTo>
                  <a:cubicBezTo>
                    <a:pt x="1337" y="799"/>
                    <a:pt x="1335" y="842"/>
                    <a:pt x="1377" y="827"/>
                  </a:cubicBezTo>
                  <a:cubicBezTo>
                    <a:pt x="1371" y="813"/>
                    <a:pt x="1406" y="815"/>
                    <a:pt x="1397" y="796"/>
                  </a:cubicBezTo>
                  <a:cubicBezTo>
                    <a:pt x="1421" y="785"/>
                    <a:pt x="1391" y="777"/>
                    <a:pt x="1379" y="772"/>
                  </a:cubicBezTo>
                  <a:cubicBezTo>
                    <a:pt x="1408" y="716"/>
                    <a:pt x="1308" y="782"/>
                    <a:pt x="1273" y="771"/>
                  </a:cubicBezTo>
                  <a:cubicBezTo>
                    <a:pt x="1248" y="763"/>
                    <a:pt x="1262" y="729"/>
                    <a:pt x="1248" y="709"/>
                  </a:cubicBezTo>
                  <a:cubicBezTo>
                    <a:pt x="1238" y="707"/>
                    <a:pt x="1231" y="703"/>
                    <a:pt x="1235" y="693"/>
                  </a:cubicBezTo>
                  <a:cubicBezTo>
                    <a:pt x="1246" y="661"/>
                    <a:pt x="1349" y="655"/>
                    <a:pt x="1374" y="630"/>
                  </a:cubicBezTo>
                  <a:cubicBezTo>
                    <a:pt x="1351" y="661"/>
                    <a:pt x="1399" y="696"/>
                    <a:pt x="1420" y="668"/>
                  </a:cubicBezTo>
                  <a:cubicBezTo>
                    <a:pt x="1432" y="643"/>
                    <a:pt x="1412" y="621"/>
                    <a:pt x="1387" y="623"/>
                  </a:cubicBezTo>
                  <a:cubicBezTo>
                    <a:pt x="1396" y="618"/>
                    <a:pt x="1414" y="616"/>
                    <a:pt x="1411" y="600"/>
                  </a:cubicBezTo>
                  <a:cubicBezTo>
                    <a:pt x="1399" y="592"/>
                    <a:pt x="1387" y="603"/>
                    <a:pt x="1377" y="604"/>
                  </a:cubicBezTo>
                  <a:cubicBezTo>
                    <a:pt x="1374" y="600"/>
                    <a:pt x="1370" y="597"/>
                    <a:pt x="1369" y="592"/>
                  </a:cubicBezTo>
                  <a:cubicBezTo>
                    <a:pt x="1391" y="583"/>
                    <a:pt x="1360" y="560"/>
                    <a:pt x="1350" y="578"/>
                  </a:cubicBezTo>
                  <a:cubicBezTo>
                    <a:pt x="1349" y="583"/>
                    <a:pt x="1352" y="584"/>
                    <a:pt x="1353" y="588"/>
                  </a:cubicBezTo>
                  <a:cubicBezTo>
                    <a:pt x="1346" y="588"/>
                    <a:pt x="1342" y="592"/>
                    <a:pt x="1337" y="595"/>
                  </a:cubicBezTo>
                  <a:cubicBezTo>
                    <a:pt x="1333" y="610"/>
                    <a:pt x="1337" y="619"/>
                    <a:pt x="1344" y="624"/>
                  </a:cubicBezTo>
                  <a:cubicBezTo>
                    <a:pt x="1275" y="654"/>
                    <a:pt x="1209" y="687"/>
                    <a:pt x="1144" y="722"/>
                  </a:cubicBezTo>
                  <a:cubicBezTo>
                    <a:pt x="1148" y="697"/>
                    <a:pt x="1116" y="692"/>
                    <a:pt x="1106" y="711"/>
                  </a:cubicBezTo>
                  <a:cubicBezTo>
                    <a:pt x="1104" y="707"/>
                    <a:pt x="1098" y="711"/>
                    <a:pt x="1096" y="706"/>
                  </a:cubicBezTo>
                  <a:cubicBezTo>
                    <a:pt x="1104" y="686"/>
                    <a:pt x="1217" y="666"/>
                    <a:pt x="1200" y="642"/>
                  </a:cubicBezTo>
                  <a:cubicBezTo>
                    <a:pt x="1178" y="613"/>
                    <a:pt x="1110" y="701"/>
                    <a:pt x="1076" y="682"/>
                  </a:cubicBezTo>
                  <a:cubicBezTo>
                    <a:pt x="1071" y="668"/>
                    <a:pt x="1048" y="669"/>
                    <a:pt x="1040" y="679"/>
                  </a:cubicBezTo>
                  <a:cubicBezTo>
                    <a:pt x="1038" y="677"/>
                    <a:pt x="1030" y="672"/>
                    <a:pt x="1033" y="678"/>
                  </a:cubicBezTo>
                  <a:cubicBezTo>
                    <a:pt x="1035" y="673"/>
                    <a:pt x="1035" y="685"/>
                    <a:pt x="1036" y="687"/>
                  </a:cubicBezTo>
                  <a:cubicBezTo>
                    <a:pt x="1032" y="685"/>
                    <a:pt x="1031" y="687"/>
                    <a:pt x="1028" y="687"/>
                  </a:cubicBezTo>
                  <a:cubicBezTo>
                    <a:pt x="1027" y="691"/>
                    <a:pt x="1030" y="691"/>
                    <a:pt x="1028" y="694"/>
                  </a:cubicBezTo>
                  <a:cubicBezTo>
                    <a:pt x="1016" y="695"/>
                    <a:pt x="1008" y="702"/>
                    <a:pt x="998" y="693"/>
                  </a:cubicBezTo>
                  <a:cubicBezTo>
                    <a:pt x="1000" y="687"/>
                    <a:pt x="1006" y="685"/>
                    <a:pt x="999" y="680"/>
                  </a:cubicBezTo>
                  <a:cubicBezTo>
                    <a:pt x="998" y="682"/>
                    <a:pt x="999" y="686"/>
                    <a:pt x="996" y="685"/>
                  </a:cubicBezTo>
                  <a:cubicBezTo>
                    <a:pt x="991" y="684"/>
                    <a:pt x="986" y="678"/>
                    <a:pt x="991" y="674"/>
                  </a:cubicBezTo>
                  <a:cubicBezTo>
                    <a:pt x="988" y="674"/>
                    <a:pt x="982" y="674"/>
                    <a:pt x="983" y="669"/>
                  </a:cubicBezTo>
                  <a:cubicBezTo>
                    <a:pt x="999" y="674"/>
                    <a:pt x="1003" y="659"/>
                    <a:pt x="1014" y="661"/>
                  </a:cubicBezTo>
                  <a:cubicBezTo>
                    <a:pt x="1011" y="659"/>
                    <a:pt x="1007" y="659"/>
                    <a:pt x="1007" y="655"/>
                  </a:cubicBezTo>
                  <a:cubicBezTo>
                    <a:pt x="1004" y="607"/>
                    <a:pt x="1076" y="594"/>
                    <a:pt x="1077" y="558"/>
                  </a:cubicBezTo>
                  <a:cubicBezTo>
                    <a:pt x="1077" y="554"/>
                    <a:pt x="1072" y="549"/>
                    <a:pt x="1069" y="548"/>
                  </a:cubicBezTo>
                  <a:cubicBezTo>
                    <a:pt x="1038" y="539"/>
                    <a:pt x="1023" y="620"/>
                    <a:pt x="998" y="627"/>
                  </a:cubicBezTo>
                  <a:cubicBezTo>
                    <a:pt x="996" y="621"/>
                    <a:pt x="991" y="617"/>
                    <a:pt x="989" y="611"/>
                  </a:cubicBezTo>
                  <a:cubicBezTo>
                    <a:pt x="996" y="601"/>
                    <a:pt x="998" y="587"/>
                    <a:pt x="1013" y="586"/>
                  </a:cubicBezTo>
                  <a:cubicBezTo>
                    <a:pt x="1015" y="565"/>
                    <a:pt x="986" y="557"/>
                    <a:pt x="980" y="579"/>
                  </a:cubicBezTo>
                  <a:cubicBezTo>
                    <a:pt x="976" y="575"/>
                    <a:pt x="972" y="569"/>
                    <a:pt x="963" y="573"/>
                  </a:cubicBezTo>
                  <a:cubicBezTo>
                    <a:pt x="960" y="577"/>
                    <a:pt x="961" y="582"/>
                    <a:pt x="963" y="586"/>
                  </a:cubicBezTo>
                  <a:cubicBezTo>
                    <a:pt x="944" y="589"/>
                    <a:pt x="915" y="598"/>
                    <a:pt x="896" y="585"/>
                  </a:cubicBezTo>
                  <a:cubicBezTo>
                    <a:pt x="864" y="602"/>
                    <a:pt x="895" y="626"/>
                    <a:pt x="887" y="654"/>
                  </a:cubicBezTo>
                  <a:cubicBezTo>
                    <a:pt x="856" y="657"/>
                    <a:pt x="831" y="629"/>
                    <a:pt x="834" y="596"/>
                  </a:cubicBezTo>
                  <a:cubicBezTo>
                    <a:pt x="820" y="597"/>
                    <a:pt x="817" y="585"/>
                    <a:pt x="806" y="580"/>
                  </a:cubicBezTo>
                  <a:cubicBezTo>
                    <a:pt x="801" y="632"/>
                    <a:pt x="773" y="587"/>
                    <a:pt x="766" y="564"/>
                  </a:cubicBezTo>
                  <a:cubicBezTo>
                    <a:pt x="774" y="594"/>
                    <a:pt x="790" y="643"/>
                    <a:pt x="770" y="684"/>
                  </a:cubicBezTo>
                  <a:cubicBezTo>
                    <a:pt x="760" y="683"/>
                    <a:pt x="755" y="688"/>
                    <a:pt x="751" y="693"/>
                  </a:cubicBezTo>
                  <a:cubicBezTo>
                    <a:pt x="746" y="695"/>
                    <a:pt x="744" y="690"/>
                    <a:pt x="738" y="690"/>
                  </a:cubicBezTo>
                  <a:cubicBezTo>
                    <a:pt x="735" y="680"/>
                    <a:pt x="736" y="675"/>
                    <a:pt x="736" y="664"/>
                  </a:cubicBezTo>
                  <a:cubicBezTo>
                    <a:pt x="730" y="660"/>
                    <a:pt x="721" y="656"/>
                    <a:pt x="713" y="659"/>
                  </a:cubicBezTo>
                  <a:cubicBezTo>
                    <a:pt x="710" y="662"/>
                    <a:pt x="708" y="667"/>
                    <a:pt x="706" y="670"/>
                  </a:cubicBezTo>
                  <a:cubicBezTo>
                    <a:pt x="688" y="661"/>
                    <a:pt x="671" y="643"/>
                    <a:pt x="655" y="628"/>
                  </a:cubicBezTo>
                  <a:cubicBezTo>
                    <a:pt x="700" y="564"/>
                    <a:pt x="584" y="564"/>
                    <a:pt x="621" y="627"/>
                  </a:cubicBezTo>
                  <a:cubicBezTo>
                    <a:pt x="624" y="629"/>
                    <a:pt x="630" y="629"/>
                    <a:pt x="635" y="629"/>
                  </a:cubicBezTo>
                  <a:cubicBezTo>
                    <a:pt x="605" y="642"/>
                    <a:pt x="640" y="689"/>
                    <a:pt x="661" y="664"/>
                  </a:cubicBezTo>
                  <a:cubicBezTo>
                    <a:pt x="661" y="659"/>
                    <a:pt x="660" y="652"/>
                    <a:pt x="665" y="650"/>
                  </a:cubicBezTo>
                  <a:cubicBezTo>
                    <a:pt x="664" y="669"/>
                    <a:pt x="657" y="685"/>
                    <a:pt x="643" y="694"/>
                  </a:cubicBezTo>
                  <a:cubicBezTo>
                    <a:pt x="633" y="685"/>
                    <a:pt x="615" y="690"/>
                    <a:pt x="611" y="701"/>
                  </a:cubicBezTo>
                  <a:cubicBezTo>
                    <a:pt x="608" y="703"/>
                    <a:pt x="601" y="701"/>
                    <a:pt x="596" y="701"/>
                  </a:cubicBezTo>
                  <a:cubicBezTo>
                    <a:pt x="587" y="688"/>
                    <a:pt x="585" y="667"/>
                    <a:pt x="583" y="648"/>
                  </a:cubicBezTo>
                  <a:cubicBezTo>
                    <a:pt x="578" y="608"/>
                    <a:pt x="546" y="515"/>
                    <a:pt x="593" y="559"/>
                  </a:cubicBezTo>
                  <a:cubicBezTo>
                    <a:pt x="545" y="513"/>
                    <a:pt x="530" y="429"/>
                    <a:pt x="529" y="357"/>
                  </a:cubicBezTo>
                  <a:cubicBezTo>
                    <a:pt x="528" y="308"/>
                    <a:pt x="474" y="329"/>
                    <a:pt x="495" y="369"/>
                  </a:cubicBezTo>
                  <a:cubicBezTo>
                    <a:pt x="540" y="453"/>
                    <a:pt x="567" y="606"/>
                    <a:pt x="550" y="710"/>
                  </a:cubicBezTo>
                  <a:cubicBezTo>
                    <a:pt x="545" y="710"/>
                    <a:pt x="540" y="712"/>
                    <a:pt x="534" y="711"/>
                  </a:cubicBezTo>
                  <a:cubicBezTo>
                    <a:pt x="533" y="707"/>
                    <a:pt x="538" y="705"/>
                    <a:pt x="532" y="705"/>
                  </a:cubicBezTo>
                  <a:cubicBezTo>
                    <a:pt x="528" y="706"/>
                    <a:pt x="533" y="708"/>
                    <a:pt x="531" y="711"/>
                  </a:cubicBezTo>
                  <a:cubicBezTo>
                    <a:pt x="522" y="712"/>
                    <a:pt x="517" y="711"/>
                    <a:pt x="505" y="709"/>
                  </a:cubicBezTo>
                  <a:cubicBezTo>
                    <a:pt x="487" y="717"/>
                    <a:pt x="482" y="733"/>
                    <a:pt x="470" y="749"/>
                  </a:cubicBezTo>
                  <a:cubicBezTo>
                    <a:pt x="481" y="775"/>
                    <a:pt x="452" y="789"/>
                    <a:pt x="432" y="798"/>
                  </a:cubicBezTo>
                  <a:cubicBezTo>
                    <a:pt x="432" y="796"/>
                    <a:pt x="430" y="796"/>
                    <a:pt x="428" y="796"/>
                  </a:cubicBezTo>
                  <a:cubicBezTo>
                    <a:pt x="433" y="785"/>
                    <a:pt x="417" y="787"/>
                    <a:pt x="424" y="777"/>
                  </a:cubicBezTo>
                  <a:cubicBezTo>
                    <a:pt x="419" y="778"/>
                    <a:pt x="411" y="778"/>
                    <a:pt x="413" y="771"/>
                  </a:cubicBezTo>
                  <a:cubicBezTo>
                    <a:pt x="414" y="769"/>
                    <a:pt x="417" y="769"/>
                    <a:pt x="422" y="770"/>
                  </a:cubicBezTo>
                  <a:cubicBezTo>
                    <a:pt x="421" y="763"/>
                    <a:pt x="421" y="757"/>
                    <a:pt x="426" y="754"/>
                  </a:cubicBezTo>
                  <a:cubicBezTo>
                    <a:pt x="425" y="729"/>
                    <a:pt x="400" y="721"/>
                    <a:pt x="378" y="729"/>
                  </a:cubicBezTo>
                  <a:cubicBezTo>
                    <a:pt x="365" y="746"/>
                    <a:pt x="372" y="770"/>
                    <a:pt x="390" y="774"/>
                  </a:cubicBezTo>
                  <a:cubicBezTo>
                    <a:pt x="350" y="791"/>
                    <a:pt x="395" y="870"/>
                    <a:pt x="319" y="849"/>
                  </a:cubicBezTo>
                  <a:cubicBezTo>
                    <a:pt x="320" y="829"/>
                    <a:pt x="313" y="816"/>
                    <a:pt x="306" y="802"/>
                  </a:cubicBezTo>
                  <a:cubicBezTo>
                    <a:pt x="317" y="804"/>
                    <a:pt x="320" y="795"/>
                    <a:pt x="328" y="797"/>
                  </a:cubicBezTo>
                  <a:cubicBezTo>
                    <a:pt x="330" y="792"/>
                    <a:pt x="334" y="785"/>
                    <a:pt x="341" y="783"/>
                  </a:cubicBezTo>
                  <a:cubicBezTo>
                    <a:pt x="338" y="791"/>
                    <a:pt x="349" y="789"/>
                    <a:pt x="350" y="795"/>
                  </a:cubicBezTo>
                  <a:cubicBezTo>
                    <a:pt x="389" y="796"/>
                    <a:pt x="368" y="742"/>
                    <a:pt x="339" y="766"/>
                  </a:cubicBezTo>
                  <a:cubicBezTo>
                    <a:pt x="337" y="760"/>
                    <a:pt x="327" y="760"/>
                    <a:pt x="329" y="751"/>
                  </a:cubicBezTo>
                  <a:cubicBezTo>
                    <a:pt x="301" y="746"/>
                    <a:pt x="267" y="749"/>
                    <a:pt x="250" y="772"/>
                  </a:cubicBezTo>
                  <a:cubicBezTo>
                    <a:pt x="242" y="769"/>
                    <a:pt x="237" y="776"/>
                    <a:pt x="232" y="773"/>
                  </a:cubicBezTo>
                  <a:cubicBezTo>
                    <a:pt x="232" y="754"/>
                    <a:pt x="206" y="746"/>
                    <a:pt x="191" y="755"/>
                  </a:cubicBezTo>
                  <a:cubicBezTo>
                    <a:pt x="189" y="764"/>
                    <a:pt x="186" y="767"/>
                    <a:pt x="185" y="775"/>
                  </a:cubicBezTo>
                  <a:cubicBezTo>
                    <a:pt x="191" y="780"/>
                    <a:pt x="193" y="789"/>
                    <a:pt x="200" y="793"/>
                  </a:cubicBezTo>
                  <a:cubicBezTo>
                    <a:pt x="208" y="790"/>
                    <a:pt x="217" y="797"/>
                    <a:pt x="225" y="793"/>
                  </a:cubicBezTo>
                  <a:cubicBezTo>
                    <a:pt x="223" y="809"/>
                    <a:pt x="235" y="813"/>
                    <a:pt x="245" y="816"/>
                  </a:cubicBezTo>
                  <a:cubicBezTo>
                    <a:pt x="253" y="831"/>
                    <a:pt x="242" y="838"/>
                    <a:pt x="241" y="854"/>
                  </a:cubicBezTo>
                  <a:cubicBezTo>
                    <a:pt x="252" y="865"/>
                    <a:pt x="268" y="872"/>
                    <a:pt x="282" y="878"/>
                  </a:cubicBezTo>
                  <a:cubicBezTo>
                    <a:pt x="285" y="875"/>
                    <a:pt x="287" y="870"/>
                    <a:pt x="293" y="870"/>
                  </a:cubicBezTo>
                  <a:cubicBezTo>
                    <a:pt x="296" y="875"/>
                    <a:pt x="297" y="883"/>
                    <a:pt x="299" y="889"/>
                  </a:cubicBezTo>
                  <a:cubicBezTo>
                    <a:pt x="279" y="895"/>
                    <a:pt x="302" y="912"/>
                    <a:pt x="315" y="903"/>
                  </a:cubicBezTo>
                  <a:cubicBezTo>
                    <a:pt x="370" y="948"/>
                    <a:pt x="307" y="1025"/>
                    <a:pt x="240" y="992"/>
                  </a:cubicBezTo>
                  <a:cubicBezTo>
                    <a:pt x="265" y="992"/>
                    <a:pt x="258" y="952"/>
                    <a:pt x="231" y="962"/>
                  </a:cubicBezTo>
                  <a:cubicBezTo>
                    <a:pt x="224" y="969"/>
                    <a:pt x="223" y="983"/>
                    <a:pt x="227" y="990"/>
                  </a:cubicBezTo>
                  <a:cubicBezTo>
                    <a:pt x="203" y="983"/>
                    <a:pt x="163" y="972"/>
                    <a:pt x="152" y="995"/>
                  </a:cubicBezTo>
                  <a:cubicBezTo>
                    <a:pt x="119" y="1069"/>
                    <a:pt x="285" y="1017"/>
                    <a:pt x="308" y="1046"/>
                  </a:cubicBezTo>
                  <a:cubicBezTo>
                    <a:pt x="312" y="1081"/>
                    <a:pt x="346" y="1046"/>
                    <a:pt x="358" y="1067"/>
                  </a:cubicBezTo>
                  <a:cubicBezTo>
                    <a:pt x="350" y="1079"/>
                    <a:pt x="364" y="1087"/>
                    <a:pt x="376" y="1088"/>
                  </a:cubicBezTo>
                  <a:cubicBezTo>
                    <a:pt x="387" y="1069"/>
                    <a:pt x="425" y="1051"/>
                    <a:pt x="402" y="1084"/>
                  </a:cubicBezTo>
                  <a:cubicBezTo>
                    <a:pt x="398" y="1083"/>
                    <a:pt x="394" y="1082"/>
                    <a:pt x="389" y="1082"/>
                  </a:cubicBezTo>
                  <a:cubicBezTo>
                    <a:pt x="385" y="1085"/>
                    <a:pt x="383" y="1090"/>
                    <a:pt x="381" y="1095"/>
                  </a:cubicBezTo>
                  <a:cubicBezTo>
                    <a:pt x="381" y="1089"/>
                    <a:pt x="370" y="1092"/>
                    <a:pt x="376" y="1093"/>
                  </a:cubicBezTo>
                  <a:cubicBezTo>
                    <a:pt x="375" y="1093"/>
                    <a:pt x="375" y="1094"/>
                    <a:pt x="374" y="1094"/>
                  </a:cubicBezTo>
                  <a:cubicBezTo>
                    <a:pt x="372" y="1094"/>
                    <a:pt x="373" y="1087"/>
                    <a:pt x="370" y="1091"/>
                  </a:cubicBezTo>
                  <a:cubicBezTo>
                    <a:pt x="374" y="1106"/>
                    <a:pt x="358" y="1116"/>
                    <a:pt x="344" y="1118"/>
                  </a:cubicBezTo>
                  <a:cubicBezTo>
                    <a:pt x="344" y="1111"/>
                    <a:pt x="336" y="1107"/>
                    <a:pt x="328" y="1109"/>
                  </a:cubicBezTo>
                  <a:cubicBezTo>
                    <a:pt x="324" y="1113"/>
                    <a:pt x="323" y="1119"/>
                    <a:pt x="322" y="1124"/>
                  </a:cubicBezTo>
                  <a:cubicBezTo>
                    <a:pt x="251" y="1156"/>
                    <a:pt x="357" y="1166"/>
                    <a:pt x="404" y="1169"/>
                  </a:cubicBezTo>
                  <a:cubicBezTo>
                    <a:pt x="387" y="1185"/>
                    <a:pt x="399" y="1210"/>
                    <a:pt x="421" y="1208"/>
                  </a:cubicBezTo>
                  <a:cubicBezTo>
                    <a:pt x="423" y="1205"/>
                    <a:pt x="423" y="1201"/>
                    <a:pt x="428" y="1201"/>
                  </a:cubicBezTo>
                  <a:cubicBezTo>
                    <a:pt x="429" y="1207"/>
                    <a:pt x="428" y="1214"/>
                    <a:pt x="433" y="1216"/>
                  </a:cubicBezTo>
                  <a:cubicBezTo>
                    <a:pt x="437" y="1210"/>
                    <a:pt x="432" y="1201"/>
                    <a:pt x="428" y="1197"/>
                  </a:cubicBezTo>
                  <a:cubicBezTo>
                    <a:pt x="434" y="1193"/>
                    <a:pt x="431" y="1180"/>
                    <a:pt x="433" y="1176"/>
                  </a:cubicBezTo>
                  <a:cubicBezTo>
                    <a:pt x="475" y="1211"/>
                    <a:pt x="557" y="1201"/>
                    <a:pt x="573" y="1258"/>
                  </a:cubicBezTo>
                  <a:cubicBezTo>
                    <a:pt x="580" y="1257"/>
                    <a:pt x="584" y="1247"/>
                    <a:pt x="593" y="1253"/>
                  </a:cubicBezTo>
                  <a:cubicBezTo>
                    <a:pt x="588" y="1258"/>
                    <a:pt x="585" y="1266"/>
                    <a:pt x="583" y="1275"/>
                  </a:cubicBezTo>
                  <a:cubicBezTo>
                    <a:pt x="579" y="1272"/>
                    <a:pt x="578" y="1266"/>
                    <a:pt x="571" y="1263"/>
                  </a:cubicBezTo>
                  <a:cubicBezTo>
                    <a:pt x="552" y="1269"/>
                    <a:pt x="557" y="1306"/>
                    <a:pt x="582" y="1300"/>
                  </a:cubicBezTo>
                  <a:cubicBezTo>
                    <a:pt x="592" y="1318"/>
                    <a:pt x="585" y="1377"/>
                    <a:pt x="620" y="1359"/>
                  </a:cubicBezTo>
                  <a:cubicBezTo>
                    <a:pt x="623" y="1349"/>
                    <a:pt x="621" y="1343"/>
                    <a:pt x="618" y="1337"/>
                  </a:cubicBezTo>
                  <a:cubicBezTo>
                    <a:pt x="623" y="1324"/>
                    <a:pt x="638" y="1336"/>
                    <a:pt x="639" y="1339"/>
                  </a:cubicBezTo>
                  <a:cubicBezTo>
                    <a:pt x="650" y="1320"/>
                    <a:pt x="656" y="1266"/>
                    <a:pt x="619" y="1272"/>
                  </a:cubicBezTo>
                  <a:cubicBezTo>
                    <a:pt x="621" y="1267"/>
                    <a:pt x="616" y="1266"/>
                    <a:pt x="618" y="1261"/>
                  </a:cubicBezTo>
                  <a:cubicBezTo>
                    <a:pt x="629" y="1249"/>
                    <a:pt x="649" y="1254"/>
                    <a:pt x="661" y="1264"/>
                  </a:cubicBezTo>
                  <a:cubicBezTo>
                    <a:pt x="664" y="1316"/>
                    <a:pt x="601" y="1429"/>
                    <a:pt x="696" y="1417"/>
                  </a:cubicBezTo>
                  <a:cubicBezTo>
                    <a:pt x="698" y="1421"/>
                    <a:pt x="695" y="1428"/>
                    <a:pt x="702" y="1429"/>
                  </a:cubicBezTo>
                  <a:cubicBezTo>
                    <a:pt x="706" y="1407"/>
                    <a:pt x="728" y="1381"/>
                    <a:pt x="718" y="1350"/>
                  </a:cubicBezTo>
                  <a:cubicBezTo>
                    <a:pt x="748" y="1347"/>
                    <a:pt x="723" y="1323"/>
                    <a:pt x="722" y="1307"/>
                  </a:cubicBezTo>
                  <a:cubicBezTo>
                    <a:pt x="738" y="1313"/>
                    <a:pt x="758" y="1281"/>
                    <a:pt x="770" y="1284"/>
                  </a:cubicBezTo>
                  <a:cubicBezTo>
                    <a:pt x="780" y="1287"/>
                    <a:pt x="774" y="1309"/>
                    <a:pt x="785" y="1312"/>
                  </a:cubicBezTo>
                  <a:cubicBezTo>
                    <a:pt x="795" y="1314"/>
                    <a:pt x="795" y="1300"/>
                    <a:pt x="803" y="1296"/>
                  </a:cubicBezTo>
                  <a:cubicBezTo>
                    <a:pt x="836" y="1281"/>
                    <a:pt x="864" y="1343"/>
                    <a:pt x="885" y="1360"/>
                  </a:cubicBezTo>
                  <a:cubicBezTo>
                    <a:pt x="912" y="1381"/>
                    <a:pt x="952" y="1371"/>
                    <a:pt x="983" y="1389"/>
                  </a:cubicBezTo>
                  <a:cubicBezTo>
                    <a:pt x="1022" y="1412"/>
                    <a:pt x="1013" y="1480"/>
                    <a:pt x="1058" y="1488"/>
                  </a:cubicBezTo>
                  <a:cubicBezTo>
                    <a:pt x="1059" y="1502"/>
                    <a:pt x="1119" y="1566"/>
                    <a:pt x="1128" y="1548"/>
                  </a:cubicBezTo>
                  <a:cubicBezTo>
                    <a:pt x="1134" y="1536"/>
                    <a:pt x="1084" y="1482"/>
                    <a:pt x="1073" y="1467"/>
                  </a:cubicBezTo>
                  <a:cubicBezTo>
                    <a:pt x="1054" y="1441"/>
                    <a:pt x="1007" y="1421"/>
                    <a:pt x="1019" y="1378"/>
                  </a:cubicBezTo>
                  <a:cubicBezTo>
                    <a:pt x="1018" y="1391"/>
                    <a:pt x="1037" y="1393"/>
                    <a:pt x="1045" y="1396"/>
                  </a:cubicBezTo>
                  <a:cubicBezTo>
                    <a:pt x="1043" y="1408"/>
                    <a:pt x="1049" y="1414"/>
                    <a:pt x="1064" y="1414"/>
                  </a:cubicBezTo>
                  <a:cubicBezTo>
                    <a:pt x="1077" y="1403"/>
                    <a:pt x="1063" y="1380"/>
                    <a:pt x="1047" y="1390"/>
                  </a:cubicBezTo>
                  <a:cubicBezTo>
                    <a:pt x="1051" y="1387"/>
                    <a:pt x="1055" y="1383"/>
                    <a:pt x="1057" y="1377"/>
                  </a:cubicBezTo>
                  <a:cubicBezTo>
                    <a:pt x="1062" y="1382"/>
                    <a:pt x="1069" y="1385"/>
                    <a:pt x="1075" y="1380"/>
                  </a:cubicBezTo>
                  <a:cubicBezTo>
                    <a:pt x="1091" y="1384"/>
                    <a:pt x="1097" y="1411"/>
                    <a:pt x="1113" y="1412"/>
                  </a:cubicBezTo>
                  <a:cubicBezTo>
                    <a:pt x="1134" y="1413"/>
                    <a:pt x="1096" y="1311"/>
                    <a:pt x="1062" y="1338"/>
                  </a:cubicBezTo>
                  <a:cubicBezTo>
                    <a:pt x="1063" y="1340"/>
                    <a:pt x="1063" y="1342"/>
                    <a:pt x="1064" y="1344"/>
                  </a:cubicBezTo>
                  <a:cubicBezTo>
                    <a:pt x="1062" y="1344"/>
                    <a:pt x="1060" y="1343"/>
                    <a:pt x="1058" y="1343"/>
                  </a:cubicBezTo>
                  <a:cubicBezTo>
                    <a:pt x="1055" y="1346"/>
                    <a:pt x="1052" y="1350"/>
                    <a:pt x="1050" y="1355"/>
                  </a:cubicBezTo>
                  <a:cubicBezTo>
                    <a:pt x="1045" y="1348"/>
                    <a:pt x="1033" y="1339"/>
                    <a:pt x="1022" y="1345"/>
                  </a:cubicBezTo>
                  <a:cubicBezTo>
                    <a:pt x="1025" y="1328"/>
                    <a:pt x="1002" y="1320"/>
                    <a:pt x="1000" y="1337"/>
                  </a:cubicBezTo>
                  <a:cubicBezTo>
                    <a:pt x="997" y="1331"/>
                    <a:pt x="986" y="1332"/>
                    <a:pt x="983" y="1327"/>
                  </a:cubicBezTo>
                  <a:cubicBezTo>
                    <a:pt x="985" y="1323"/>
                    <a:pt x="987" y="1320"/>
                    <a:pt x="989" y="1318"/>
                  </a:cubicBezTo>
                  <a:cubicBezTo>
                    <a:pt x="998" y="1321"/>
                    <a:pt x="1003" y="1319"/>
                    <a:pt x="1011" y="1318"/>
                  </a:cubicBezTo>
                  <a:cubicBezTo>
                    <a:pt x="1018" y="1331"/>
                    <a:pt x="1038" y="1340"/>
                    <a:pt x="1058" y="1343"/>
                  </a:cubicBezTo>
                  <a:cubicBezTo>
                    <a:pt x="1059" y="1341"/>
                    <a:pt x="1061" y="1340"/>
                    <a:pt x="1062" y="1338"/>
                  </a:cubicBezTo>
                  <a:cubicBezTo>
                    <a:pt x="1058" y="1324"/>
                    <a:pt x="1044" y="1318"/>
                    <a:pt x="1044" y="1303"/>
                  </a:cubicBezTo>
                  <a:cubicBezTo>
                    <a:pt x="1046" y="1285"/>
                    <a:pt x="1074" y="1274"/>
                    <a:pt x="1079" y="1297"/>
                  </a:cubicBezTo>
                  <a:cubicBezTo>
                    <a:pt x="1052" y="1283"/>
                    <a:pt x="1054" y="1329"/>
                    <a:pt x="1081" y="1327"/>
                  </a:cubicBezTo>
                  <a:cubicBezTo>
                    <a:pt x="1086" y="1323"/>
                    <a:pt x="1085" y="1317"/>
                    <a:pt x="1088" y="1311"/>
                  </a:cubicBezTo>
                  <a:cubicBezTo>
                    <a:pt x="1091" y="1320"/>
                    <a:pt x="1104" y="1320"/>
                    <a:pt x="1102" y="1333"/>
                  </a:cubicBezTo>
                  <a:cubicBezTo>
                    <a:pt x="1099" y="1332"/>
                    <a:pt x="1099" y="1325"/>
                    <a:pt x="1094" y="1328"/>
                  </a:cubicBezTo>
                  <a:cubicBezTo>
                    <a:pt x="1091" y="1332"/>
                    <a:pt x="1092" y="1340"/>
                    <a:pt x="1099" y="1339"/>
                  </a:cubicBezTo>
                  <a:cubicBezTo>
                    <a:pt x="1102" y="1340"/>
                    <a:pt x="1099" y="1333"/>
                    <a:pt x="1102" y="1334"/>
                  </a:cubicBezTo>
                  <a:cubicBezTo>
                    <a:pt x="1105" y="1341"/>
                    <a:pt x="1107" y="1334"/>
                    <a:pt x="1112" y="1335"/>
                  </a:cubicBezTo>
                  <a:cubicBezTo>
                    <a:pt x="1131" y="1358"/>
                    <a:pt x="1142" y="1392"/>
                    <a:pt x="1173" y="1402"/>
                  </a:cubicBezTo>
                  <a:cubicBezTo>
                    <a:pt x="1169" y="1340"/>
                    <a:pt x="1079" y="1313"/>
                    <a:pt x="1106" y="1234"/>
                  </a:cubicBezTo>
                  <a:cubicBezTo>
                    <a:pt x="1108" y="1228"/>
                    <a:pt x="1121" y="1222"/>
                    <a:pt x="1127" y="1224"/>
                  </a:cubicBezTo>
                  <a:cubicBezTo>
                    <a:pt x="1159" y="1230"/>
                    <a:pt x="1179" y="1290"/>
                    <a:pt x="1217" y="1294"/>
                  </a:cubicBezTo>
                  <a:cubicBezTo>
                    <a:pt x="1208" y="1283"/>
                    <a:pt x="1172" y="1237"/>
                    <a:pt x="1212" y="1244"/>
                  </a:cubicBezTo>
                  <a:cubicBezTo>
                    <a:pt x="1237" y="1247"/>
                    <a:pt x="1276" y="1289"/>
                    <a:pt x="1301" y="1304"/>
                  </a:cubicBezTo>
                  <a:cubicBezTo>
                    <a:pt x="1370" y="1347"/>
                    <a:pt x="1433" y="1419"/>
                    <a:pt x="1499" y="1450"/>
                  </a:cubicBezTo>
                  <a:cubicBezTo>
                    <a:pt x="1503" y="1452"/>
                    <a:pt x="1513" y="1453"/>
                    <a:pt x="1515" y="1453"/>
                  </a:cubicBezTo>
                  <a:cubicBezTo>
                    <a:pt x="1561" y="1450"/>
                    <a:pt x="1474" y="1401"/>
                    <a:pt x="1467" y="1398"/>
                  </a:cubicBezTo>
                  <a:cubicBezTo>
                    <a:pt x="1404" y="1367"/>
                    <a:pt x="1306" y="1296"/>
                    <a:pt x="1260" y="1252"/>
                  </a:cubicBezTo>
                  <a:cubicBezTo>
                    <a:pt x="1222" y="1216"/>
                    <a:pt x="1146" y="1205"/>
                    <a:pt x="1148" y="1146"/>
                  </a:cubicBezTo>
                  <a:cubicBezTo>
                    <a:pt x="1144" y="1144"/>
                    <a:pt x="1136" y="1144"/>
                    <a:pt x="1134" y="1141"/>
                  </a:cubicBezTo>
                  <a:cubicBezTo>
                    <a:pt x="1135" y="1134"/>
                    <a:pt x="1145" y="1138"/>
                    <a:pt x="1146" y="1133"/>
                  </a:cubicBezTo>
                  <a:cubicBezTo>
                    <a:pt x="1139" y="1125"/>
                    <a:pt x="1123" y="1124"/>
                    <a:pt x="1128" y="1107"/>
                  </a:cubicBezTo>
                  <a:cubicBezTo>
                    <a:pt x="1145" y="1095"/>
                    <a:pt x="1178" y="1106"/>
                    <a:pt x="1187" y="1119"/>
                  </a:cubicBezTo>
                  <a:cubicBezTo>
                    <a:pt x="1186" y="1123"/>
                    <a:pt x="1186" y="1126"/>
                    <a:pt x="1187" y="1129"/>
                  </a:cubicBezTo>
                  <a:cubicBezTo>
                    <a:pt x="1191" y="1133"/>
                    <a:pt x="1198" y="1134"/>
                    <a:pt x="1203" y="1138"/>
                  </a:cubicBezTo>
                  <a:cubicBezTo>
                    <a:pt x="1174" y="1144"/>
                    <a:pt x="1192" y="1183"/>
                    <a:pt x="1220" y="1174"/>
                  </a:cubicBezTo>
                  <a:cubicBezTo>
                    <a:pt x="1221" y="1161"/>
                    <a:pt x="1226" y="1160"/>
                    <a:pt x="1226" y="1147"/>
                  </a:cubicBezTo>
                  <a:cubicBezTo>
                    <a:pt x="1221" y="1147"/>
                    <a:pt x="1220" y="1143"/>
                    <a:pt x="1218" y="1142"/>
                  </a:cubicBezTo>
                  <a:cubicBezTo>
                    <a:pt x="1228" y="1137"/>
                    <a:pt x="1242" y="1150"/>
                    <a:pt x="1256" y="1147"/>
                  </a:cubicBezTo>
                  <a:cubicBezTo>
                    <a:pt x="1232" y="1190"/>
                    <a:pt x="1307" y="1160"/>
                    <a:pt x="1258" y="1146"/>
                  </a:cubicBezTo>
                  <a:cubicBezTo>
                    <a:pt x="1276" y="1137"/>
                    <a:pt x="1300" y="1136"/>
                    <a:pt x="1318" y="1127"/>
                  </a:cubicBezTo>
                  <a:cubicBezTo>
                    <a:pt x="1333" y="1140"/>
                    <a:pt x="1347" y="1125"/>
                    <a:pt x="1358" y="1124"/>
                  </a:cubicBezTo>
                  <a:cubicBezTo>
                    <a:pt x="1417" y="1120"/>
                    <a:pt x="1453" y="1177"/>
                    <a:pt x="1493" y="1169"/>
                  </a:cubicBezTo>
                  <a:cubicBezTo>
                    <a:pt x="1493" y="1169"/>
                    <a:pt x="1500" y="1164"/>
                    <a:pt x="1501" y="1164"/>
                  </a:cubicBezTo>
                  <a:cubicBezTo>
                    <a:pt x="1511" y="1149"/>
                    <a:pt x="1428" y="1112"/>
                    <a:pt x="1409" y="1108"/>
                  </a:cubicBezTo>
                  <a:cubicBezTo>
                    <a:pt x="1393" y="1103"/>
                    <a:pt x="1382" y="1106"/>
                    <a:pt x="1373" y="1095"/>
                  </a:cubicBezTo>
                  <a:cubicBezTo>
                    <a:pt x="1378" y="1075"/>
                    <a:pt x="1347" y="1074"/>
                    <a:pt x="1329" y="1070"/>
                  </a:cubicBezTo>
                  <a:cubicBezTo>
                    <a:pt x="1328" y="1055"/>
                    <a:pt x="1350" y="1055"/>
                    <a:pt x="1353" y="1040"/>
                  </a:cubicBezTo>
                  <a:cubicBezTo>
                    <a:pt x="1455" y="1042"/>
                    <a:pt x="1557" y="1034"/>
                    <a:pt x="1665" y="1039"/>
                  </a:cubicBezTo>
                  <a:cubicBezTo>
                    <a:pt x="1666" y="1034"/>
                    <a:pt x="1668" y="1034"/>
                    <a:pt x="1666" y="1030"/>
                  </a:cubicBezTo>
                  <a:cubicBezTo>
                    <a:pt x="1590" y="1016"/>
                    <a:pt x="1449" y="1054"/>
                    <a:pt x="1396" y="1002"/>
                  </a:cubicBezTo>
                  <a:cubicBezTo>
                    <a:pt x="1397" y="1002"/>
                    <a:pt x="1398" y="1002"/>
                    <a:pt x="1398" y="1000"/>
                  </a:cubicBezTo>
                  <a:cubicBezTo>
                    <a:pt x="1439" y="990"/>
                    <a:pt x="1471" y="1020"/>
                    <a:pt x="1512" y="1013"/>
                  </a:cubicBezTo>
                  <a:cubicBezTo>
                    <a:pt x="1532" y="1010"/>
                    <a:pt x="1526" y="988"/>
                    <a:pt x="1512" y="985"/>
                  </a:cubicBezTo>
                  <a:cubicBezTo>
                    <a:pt x="1455" y="969"/>
                    <a:pt x="1365" y="976"/>
                    <a:pt x="1301" y="967"/>
                  </a:cubicBezTo>
                  <a:cubicBezTo>
                    <a:pt x="1236" y="958"/>
                    <a:pt x="1321" y="890"/>
                    <a:pt x="1342" y="882"/>
                  </a:cubicBezTo>
                  <a:cubicBezTo>
                    <a:pt x="1341" y="901"/>
                    <a:pt x="1357" y="902"/>
                    <a:pt x="1372" y="905"/>
                  </a:cubicBezTo>
                  <a:cubicBezTo>
                    <a:pt x="1373" y="899"/>
                    <a:pt x="1380" y="897"/>
                    <a:pt x="1384" y="891"/>
                  </a:cubicBezTo>
                  <a:cubicBezTo>
                    <a:pt x="1380" y="879"/>
                    <a:pt x="1376" y="863"/>
                    <a:pt x="1355" y="867"/>
                  </a:cubicBezTo>
                  <a:cubicBezTo>
                    <a:pt x="1356" y="864"/>
                    <a:pt x="1358" y="865"/>
                    <a:pt x="1356" y="862"/>
                  </a:cubicBezTo>
                  <a:cubicBezTo>
                    <a:pt x="1352" y="864"/>
                    <a:pt x="1347" y="864"/>
                    <a:pt x="1344" y="867"/>
                  </a:cubicBezTo>
                  <a:cubicBezTo>
                    <a:pt x="1347" y="868"/>
                    <a:pt x="1352" y="866"/>
                    <a:pt x="1350" y="870"/>
                  </a:cubicBezTo>
                  <a:cubicBezTo>
                    <a:pt x="1344" y="872"/>
                    <a:pt x="1340" y="864"/>
                    <a:pt x="1340" y="858"/>
                  </a:cubicBezTo>
                  <a:cubicBezTo>
                    <a:pt x="1482" y="851"/>
                    <a:pt x="1602" y="835"/>
                    <a:pt x="1747" y="827"/>
                  </a:cubicBezTo>
                  <a:cubicBezTo>
                    <a:pt x="1772" y="825"/>
                    <a:pt x="1850" y="826"/>
                    <a:pt x="1861" y="813"/>
                  </a:cubicBezTo>
                  <a:cubicBezTo>
                    <a:pt x="1873" y="799"/>
                    <a:pt x="1854" y="788"/>
                    <a:pt x="1838" y="789"/>
                  </a:cubicBezTo>
                  <a:close/>
                  <a:moveTo>
                    <a:pt x="905" y="1313"/>
                  </a:moveTo>
                  <a:cubicBezTo>
                    <a:pt x="874" y="1292"/>
                    <a:pt x="927" y="1285"/>
                    <a:pt x="905" y="1313"/>
                  </a:cubicBezTo>
                  <a:close/>
                  <a:moveTo>
                    <a:pt x="1010" y="1352"/>
                  </a:moveTo>
                  <a:cubicBezTo>
                    <a:pt x="1021" y="1354"/>
                    <a:pt x="1015" y="1363"/>
                    <a:pt x="1019" y="1371"/>
                  </a:cubicBezTo>
                  <a:cubicBezTo>
                    <a:pt x="1014" y="1366"/>
                    <a:pt x="1008" y="1358"/>
                    <a:pt x="1010" y="1352"/>
                  </a:cubicBezTo>
                  <a:close/>
                  <a:moveTo>
                    <a:pt x="1341" y="1100"/>
                  </a:moveTo>
                  <a:cubicBezTo>
                    <a:pt x="1327" y="1108"/>
                    <a:pt x="1302" y="1102"/>
                    <a:pt x="1280" y="1100"/>
                  </a:cubicBezTo>
                  <a:cubicBezTo>
                    <a:pt x="1284" y="1103"/>
                    <a:pt x="1292" y="1102"/>
                    <a:pt x="1290" y="1108"/>
                  </a:cubicBezTo>
                  <a:cubicBezTo>
                    <a:pt x="1286" y="1109"/>
                    <a:pt x="1280" y="1107"/>
                    <a:pt x="1280" y="1116"/>
                  </a:cubicBezTo>
                  <a:cubicBezTo>
                    <a:pt x="1260" y="1107"/>
                    <a:pt x="1241" y="1098"/>
                    <a:pt x="1248" y="1070"/>
                  </a:cubicBezTo>
                  <a:cubicBezTo>
                    <a:pt x="1281" y="1076"/>
                    <a:pt x="1319" y="1082"/>
                    <a:pt x="1341" y="1100"/>
                  </a:cubicBezTo>
                  <a:close/>
                  <a:moveTo>
                    <a:pt x="1348" y="991"/>
                  </a:moveTo>
                  <a:cubicBezTo>
                    <a:pt x="1335" y="1011"/>
                    <a:pt x="1369" y="1010"/>
                    <a:pt x="1372" y="1026"/>
                  </a:cubicBezTo>
                  <a:cubicBezTo>
                    <a:pt x="1330" y="1028"/>
                    <a:pt x="1287" y="1029"/>
                    <a:pt x="1244" y="1020"/>
                  </a:cubicBezTo>
                  <a:cubicBezTo>
                    <a:pt x="1230" y="971"/>
                    <a:pt x="1302" y="978"/>
                    <a:pt x="1348" y="991"/>
                  </a:cubicBezTo>
                  <a:close/>
                  <a:moveTo>
                    <a:pt x="260" y="902"/>
                  </a:moveTo>
                  <a:cubicBezTo>
                    <a:pt x="258" y="895"/>
                    <a:pt x="247" y="899"/>
                    <a:pt x="247" y="905"/>
                  </a:cubicBezTo>
                  <a:cubicBezTo>
                    <a:pt x="247" y="910"/>
                    <a:pt x="262" y="912"/>
                    <a:pt x="260" y="902"/>
                  </a:cubicBezTo>
                  <a:close/>
                  <a:moveTo>
                    <a:pt x="296" y="445"/>
                  </a:moveTo>
                  <a:cubicBezTo>
                    <a:pt x="292" y="447"/>
                    <a:pt x="291" y="451"/>
                    <a:pt x="293" y="455"/>
                  </a:cubicBezTo>
                  <a:cubicBezTo>
                    <a:pt x="303" y="476"/>
                    <a:pt x="318" y="432"/>
                    <a:pt x="296" y="445"/>
                  </a:cubicBezTo>
                  <a:close/>
                  <a:moveTo>
                    <a:pt x="159" y="867"/>
                  </a:moveTo>
                  <a:cubicBezTo>
                    <a:pt x="164" y="871"/>
                    <a:pt x="171" y="865"/>
                    <a:pt x="169" y="862"/>
                  </a:cubicBezTo>
                  <a:cubicBezTo>
                    <a:pt x="164" y="862"/>
                    <a:pt x="161" y="863"/>
                    <a:pt x="159" y="867"/>
                  </a:cubicBezTo>
                  <a:close/>
                  <a:moveTo>
                    <a:pt x="280" y="932"/>
                  </a:moveTo>
                  <a:cubicBezTo>
                    <a:pt x="271" y="931"/>
                    <a:pt x="271" y="931"/>
                    <a:pt x="271" y="931"/>
                  </a:cubicBezTo>
                  <a:cubicBezTo>
                    <a:pt x="254" y="947"/>
                    <a:pt x="293" y="951"/>
                    <a:pt x="280" y="932"/>
                  </a:cubicBezTo>
                  <a:close/>
                  <a:moveTo>
                    <a:pt x="262" y="894"/>
                  </a:moveTo>
                  <a:cubicBezTo>
                    <a:pt x="257" y="901"/>
                    <a:pt x="263" y="908"/>
                    <a:pt x="271" y="905"/>
                  </a:cubicBezTo>
                  <a:cubicBezTo>
                    <a:pt x="276" y="898"/>
                    <a:pt x="270" y="891"/>
                    <a:pt x="262" y="894"/>
                  </a:cubicBezTo>
                  <a:close/>
                  <a:moveTo>
                    <a:pt x="635" y="236"/>
                  </a:moveTo>
                  <a:cubicBezTo>
                    <a:pt x="643" y="235"/>
                    <a:pt x="643" y="238"/>
                    <a:pt x="649" y="240"/>
                  </a:cubicBezTo>
                  <a:cubicBezTo>
                    <a:pt x="654" y="239"/>
                    <a:pt x="655" y="233"/>
                    <a:pt x="664" y="236"/>
                  </a:cubicBezTo>
                  <a:cubicBezTo>
                    <a:pt x="671" y="225"/>
                    <a:pt x="670" y="215"/>
                    <a:pt x="670" y="202"/>
                  </a:cubicBezTo>
                  <a:cubicBezTo>
                    <a:pt x="661" y="195"/>
                    <a:pt x="654" y="191"/>
                    <a:pt x="638" y="193"/>
                  </a:cubicBezTo>
                  <a:cubicBezTo>
                    <a:pt x="627" y="204"/>
                    <a:pt x="626" y="215"/>
                    <a:pt x="630" y="231"/>
                  </a:cubicBezTo>
                  <a:cubicBezTo>
                    <a:pt x="634" y="231"/>
                    <a:pt x="637" y="232"/>
                    <a:pt x="635" y="236"/>
                  </a:cubicBezTo>
                  <a:close/>
                  <a:moveTo>
                    <a:pt x="643" y="418"/>
                  </a:moveTo>
                  <a:cubicBezTo>
                    <a:pt x="644" y="423"/>
                    <a:pt x="645" y="427"/>
                    <a:pt x="653" y="425"/>
                  </a:cubicBezTo>
                  <a:cubicBezTo>
                    <a:pt x="682" y="421"/>
                    <a:pt x="634" y="390"/>
                    <a:pt x="643" y="418"/>
                  </a:cubicBezTo>
                  <a:close/>
                  <a:moveTo>
                    <a:pt x="645" y="387"/>
                  </a:moveTo>
                  <a:cubicBezTo>
                    <a:pt x="656" y="390"/>
                    <a:pt x="656" y="381"/>
                    <a:pt x="661" y="379"/>
                  </a:cubicBezTo>
                  <a:cubicBezTo>
                    <a:pt x="672" y="402"/>
                    <a:pt x="701" y="370"/>
                    <a:pt x="673" y="365"/>
                  </a:cubicBezTo>
                  <a:cubicBezTo>
                    <a:pt x="670" y="366"/>
                    <a:pt x="668" y="367"/>
                    <a:pt x="665" y="369"/>
                  </a:cubicBezTo>
                  <a:cubicBezTo>
                    <a:pt x="656" y="347"/>
                    <a:pt x="631" y="370"/>
                    <a:pt x="645" y="387"/>
                  </a:cubicBezTo>
                  <a:close/>
                  <a:moveTo>
                    <a:pt x="567" y="252"/>
                  </a:moveTo>
                  <a:cubicBezTo>
                    <a:pt x="597" y="251"/>
                    <a:pt x="559" y="209"/>
                    <a:pt x="555" y="237"/>
                  </a:cubicBezTo>
                  <a:cubicBezTo>
                    <a:pt x="554" y="245"/>
                    <a:pt x="559" y="252"/>
                    <a:pt x="567" y="252"/>
                  </a:cubicBezTo>
                  <a:close/>
                  <a:moveTo>
                    <a:pt x="568" y="275"/>
                  </a:moveTo>
                  <a:cubicBezTo>
                    <a:pt x="559" y="273"/>
                    <a:pt x="557" y="279"/>
                    <a:pt x="558" y="286"/>
                  </a:cubicBezTo>
                  <a:cubicBezTo>
                    <a:pt x="562" y="308"/>
                    <a:pt x="592" y="278"/>
                    <a:pt x="568" y="275"/>
                  </a:cubicBezTo>
                  <a:close/>
                  <a:moveTo>
                    <a:pt x="602" y="567"/>
                  </a:moveTo>
                  <a:cubicBezTo>
                    <a:pt x="598" y="570"/>
                    <a:pt x="600" y="576"/>
                    <a:pt x="600" y="580"/>
                  </a:cubicBezTo>
                  <a:cubicBezTo>
                    <a:pt x="616" y="589"/>
                    <a:pt x="622" y="565"/>
                    <a:pt x="602" y="567"/>
                  </a:cubicBezTo>
                  <a:close/>
                  <a:moveTo>
                    <a:pt x="618" y="516"/>
                  </a:moveTo>
                  <a:cubicBezTo>
                    <a:pt x="622" y="516"/>
                    <a:pt x="624" y="514"/>
                    <a:pt x="624" y="509"/>
                  </a:cubicBezTo>
                  <a:cubicBezTo>
                    <a:pt x="621" y="509"/>
                    <a:pt x="621" y="507"/>
                    <a:pt x="618" y="507"/>
                  </a:cubicBezTo>
                  <a:cubicBezTo>
                    <a:pt x="615" y="510"/>
                    <a:pt x="616" y="514"/>
                    <a:pt x="618" y="516"/>
                  </a:cubicBezTo>
                  <a:close/>
                  <a:moveTo>
                    <a:pt x="617" y="484"/>
                  </a:moveTo>
                  <a:cubicBezTo>
                    <a:pt x="619" y="482"/>
                    <a:pt x="621" y="479"/>
                    <a:pt x="622" y="476"/>
                  </a:cubicBezTo>
                  <a:cubicBezTo>
                    <a:pt x="615" y="464"/>
                    <a:pt x="599" y="483"/>
                    <a:pt x="617" y="484"/>
                  </a:cubicBezTo>
                  <a:close/>
                  <a:moveTo>
                    <a:pt x="1448" y="777"/>
                  </a:moveTo>
                  <a:cubicBezTo>
                    <a:pt x="1441" y="783"/>
                    <a:pt x="1452" y="791"/>
                    <a:pt x="1457" y="785"/>
                  </a:cubicBezTo>
                  <a:cubicBezTo>
                    <a:pt x="1458" y="779"/>
                    <a:pt x="1454" y="775"/>
                    <a:pt x="1448" y="777"/>
                  </a:cubicBezTo>
                  <a:close/>
                  <a:moveTo>
                    <a:pt x="406" y="472"/>
                  </a:moveTo>
                  <a:cubicBezTo>
                    <a:pt x="404" y="456"/>
                    <a:pt x="392" y="438"/>
                    <a:pt x="378" y="428"/>
                  </a:cubicBezTo>
                  <a:cubicBezTo>
                    <a:pt x="372" y="442"/>
                    <a:pt x="391" y="464"/>
                    <a:pt x="406" y="472"/>
                  </a:cubicBezTo>
                  <a:close/>
                  <a:moveTo>
                    <a:pt x="267" y="648"/>
                  </a:moveTo>
                  <a:cubicBezTo>
                    <a:pt x="263" y="646"/>
                    <a:pt x="263" y="649"/>
                    <a:pt x="260" y="648"/>
                  </a:cubicBezTo>
                  <a:cubicBezTo>
                    <a:pt x="259" y="652"/>
                    <a:pt x="261" y="653"/>
                    <a:pt x="262" y="655"/>
                  </a:cubicBezTo>
                  <a:cubicBezTo>
                    <a:pt x="267" y="655"/>
                    <a:pt x="270" y="652"/>
                    <a:pt x="267" y="648"/>
                  </a:cubicBezTo>
                  <a:close/>
                  <a:moveTo>
                    <a:pt x="254" y="432"/>
                  </a:moveTo>
                  <a:cubicBezTo>
                    <a:pt x="258" y="430"/>
                    <a:pt x="266" y="427"/>
                    <a:pt x="271" y="431"/>
                  </a:cubicBezTo>
                  <a:cubicBezTo>
                    <a:pt x="280" y="425"/>
                    <a:pt x="288" y="418"/>
                    <a:pt x="290" y="403"/>
                  </a:cubicBezTo>
                  <a:cubicBezTo>
                    <a:pt x="273" y="364"/>
                    <a:pt x="212" y="412"/>
                    <a:pt x="254" y="432"/>
                  </a:cubicBezTo>
                  <a:close/>
                  <a:moveTo>
                    <a:pt x="436" y="715"/>
                  </a:moveTo>
                  <a:cubicBezTo>
                    <a:pt x="436" y="729"/>
                    <a:pt x="458" y="735"/>
                    <a:pt x="464" y="722"/>
                  </a:cubicBezTo>
                  <a:cubicBezTo>
                    <a:pt x="473" y="701"/>
                    <a:pt x="436" y="696"/>
                    <a:pt x="436" y="715"/>
                  </a:cubicBezTo>
                  <a:close/>
                  <a:moveTo>
                    <a:pt x="264" y="711"/>
                  </a:moveTo>
                  <a:cubicBezTo>
                    <a:pt x="192" y="730"/>
                    <a:pt x="310" y="763"/>
                    <a:pt x="264" y="711"/>
                  </a:cubicBezTo>
                  <a:close/>
                  <a:moveTo>
                    <a:pt x="529" y="653"/>
                  </a:moveTo>
                  <a:cubicBezTo>
                    <a:pt x="576" y="597"/>
                    <a:pt x="454" y="632"/>
                    <a:pt x="529" y="653"/>
                  </a:cubicBezTo>
                  <a:close/>
                  <a:moveTo>
                    <a:pt x="525" y="703"/>
                  </a:moveTo>
                  <a:cubicBezTo>
                    <a:pt x="529" y="703"/>
                    <a:pt x="534" y="701"/>
                    <a:pt x="534" y="696"/>
                  </a:cubicBezTo>
                  <a:cubicBezTo>
                    <a:pt x="530" y="692"/>
                    <a:pt x="521" y="698"/>
                    <a:pt x="525" y="703"/>
                  </a:cubicBezTo>
                  <a:close/>
                  <a:moveTo>
                    <a:pt x="477" y="235"/>
                  </a:moveTo>
                  <a:cubicBezTo>
                    <a:pt x="480" y="230"/>
                    <a:pt x="478" y="225"/>
                    <a:pt x="471" y="226"/>
                  </a:cubicBezTo>
                  <a:cubicBezTo>
                    <a:pt x="467" y="232"/>
                    <a:pt x="469" y="237"/>
                    <a:pt x="477" y="235"/>
                  </a:cubicBezTo>
                  <a:close/>
                  <a:moveTo>
                    <a:pt x="423" y="507"/>
                  </a:moveTo>
                  <a:cubicBezTo>
                    <a:pt x="484" y="501"/>
                    <a:pt x="396" y="452"/>
                    <a:pt x="423" y="507"/>
                  </a:cubicBezTo>
                  <a:close/>
                  <a:moveTo>
                    <a:pt x="459" y="609"/>
                  </a:moveTo>
                  <a:cubicBezTo>
                    <a:pt x="479" y="582"/>
                    <a:pt x="423" y="599"/>
                    <a:pt x="459" y="609"/>
                  </a:cubicBezTo>
                  <a:close/>
                  <a:moveTo>
                    <a:pt x="352" y="1208"/>
                  </a:moveTo>
                  <a:cubicBezTo>
                    <a:pt x="353" y="1207"/>
                    <a:pt x="354" y="1204"/>
                    <a:pt x="354" y="1202"/>
                  </a:cubicBezTo>
                  <a:cubicBezTo>
                    <a:pt x="353" y="1201"/>
                    <a:pt x="351" y="1200"/>
                    <a:pt x="351" y="1199"/>
                  </a:cubicBezTo>
                  <a:cubicBezTo>
                    <a:pt x="343" y="1199"/>
                    <a:pt x="342" y="1207"/>
                    <a:pt x="349" y="1209"/>
                  </a:cubicBezTo>
                  <a:cubicBezTo>
                    <a:pt x="350" y="1208"/>
                    <a:pt x="350" y="1208"/>
                    <a:pt x="352" y="1208"/>
                  </a:cubicBezTo>
                  <a:close/>
                  <a:moveTo>
                    <a:pt x="609" y="1905"/>
                  </a:moveTo>
                  <a:cubicBezTo>
                    <a:pt x="600" y="1907"/>
                    <a:pt x="602" y="1923"/>
                    <a:pt x="609" y="1926"/>
                  </a:cubicBezTo>
                  <a:cubicBezTo>
                    <a:pt x="616" y="1924"/>
                    <a:pt x="619" y="1906"/>
                    <a:pt x="609" y="1905"/>
                  </a:cubicBezTo>
                  <a:close/>
                  <a:moveTo>
                    <a:pt x="608" y="1377"/>
                  </a:moveTo>
                  <a:cubicBezTo>
                    <a:pt x="603" y="1381"/>
                    <a:pt x="603" y="1394"/>
                    <a:pt x="611" y="1394"/>
                  </a:cubicBezTo>
                  <a:cubicBezTo>
                    <a:pt x="616" y="1392"/>
                    <a:pt x="617" y="1384"/>
                    <a:pt x="616" y="1379"/>
                  </a:cubicBezTo>
                  <a:cubicBezTo>
                    <a:pt x="613" y="1379"/>
                    <a:pt x="612" y="1377"/>
                    <a:pt x="608" y="1377"/>
                  </a:cubicBezTo>
                  <a:close/>
                  <a:moveTo>
                    <a:pt x="644" y="1523"/>
                  </a:moveTo>
                  <a:cubicBezTo>
                    <a:pt x="635" y="1521"/>
                    <a:pt x="633" y="1529"/>
                    <a:pt x="633" y="1533"/>
                  </a:cubicBezTo>
                  <a:cubicBezTo>
                    <a:pt x="630" y="1562"/>
                    <a:pt x="663" y="1530"/>
                    <a:pt x="644" y="1523"/>
                  </a:cubicBezTo>
                  <a:close/>
                  <a:moveTo>
                    <a:pt x="610" y="1436"/>
                  </a:moveTo>
                  <a:cubicBezTo>
                    <a:pt x="619" y="1429"/>
                    <a:pt x="615" y="1412"/>
                    <a:pt x="616" y="1403"/>
                  </a:cubicBezTo>
                  <a:cubicBezTo>
                    <a:pt x="609" y="1407"/>
                    <a:pt x="601" y="1430"/>
                    <a:pt x="610" y="1436"/>
                  </a:cubicBezTo>
                  <a:close/>
                  <a:moveTo>
                    <a:pt x="616" y="1816"/>
                  </a:moveTo>
                  <a:cubicBezTo>
                    <a:pt x="622" y="1813"/>
                    <a:pt x="621" y="1805"/>
                    <a:pt x="618" y="1800"/>
                  </a:cubicBezTo>
                  <a:cubicBezTo>
                    <a:pt x="607" y="1798"/>
                    <a:pt x="609" y="1814"/>
                    <a:pt x="616" y="1816"/>
                  </a:cubicBezTo>
                  <a:close/>
                  <a:moveTo>
                    <a:pt x="578" y="1736"/>
                  </a:moveTo>
                  <a:cubicBezTo>
                    <a:pt x="609" y="1707"/>
                    <a:pt x="547" y="1710"/>
                    <a:pt x="578" y="1736"/>
                  </a:cubicBezTo>
                  <a:close/>
                  <a:moveTo>
                    <a:pt x="486" y="1585"/>
                  </a:moveTo>
                  <a:cubicBezTo>
                    <a:pt x="542" y="1572"/>
                    <a:pt x="468" y="1518"/>
                    <a:pt x="486" y="1585"/>
                  </a:cubicBezTo>
                  <a:close/>
                  <a:moveTo>
                    <a:pt x="481" y="1766"/>
                  </a:moveTo>
                  <a:cubicBezTo>
                    <a:pt x="474" y="1767"/>
                    <a:pt x="472" y="1783"/>
                    <a:pt x="479" y="1786"/>
                  </a:cubicBezTo>
                  <a:cubicBezTo>
                    <a:pt x="486" y="1784"/>
                    <a:pt x="490" y="1768"/>
                    <a:pt x="481" y="1766"/>
                  </a:cubicBezTo>
                  <a:close/>
                  <a:moveTo>
                    <a:pt x="648" y="1708"/>
                  </a:moveTo>
                  <a:cubicBezTo>
                    <a:pt x="643" y="1713"/>
                    <a:pt x="644" y="1726"/>
                    <a:pt x="652" y="1727"/>
                  </a:cubicBezTo>
                  <a:cubicBezTo>
                    <a:pt x="657" y="1722"/>
                    <a:pt x="660" y="1715"/>
                    <a:pt x="656" y="1709"/>
                  </a:cubicBezTo>
                  <a:lnTo>
                    <a:pt x="648" y="1708"/>
                  </a:lnTo>
                  <a:close/>
                  <a:moveTo>
                    <a:pt x="574" y="1443"/>
                  </a:moveTo>
                  <a:cubicBezTo>
                    <a:pt x="564" y="1442"/>
                    <a:pt x="563" y="1444"/>
                    <a:pt x="555" y="1441"/>
                  </a:cubicBezTo>
                  <a:cubicBezTo>
                    <a:pt x="551" y="1450"/>
                    <a:pt x="556" y="1470"/>
                    <a:pt x="567" y="1475"/>
                  </a:cubicBezTo>
                  <a:cubicBezTo>
                    <a:pt x="579" y="1473"/>
                    <a:pt x="585" y="1449"/>
                    <a:pt x="574" y="1443"/>
                  </a:cubicBezTo>
                  <a:close/>
                  <a:moveTo>
                    <a:pt x="783" y="1642"/>
                  </a:moveTo>
                  <a:cubicBezTo>
                    <a:pt x="764" y="1657"/>
                    <a:pt x="803" y="1656"/>
                    <a:pt x="783" y="1642"/>
                  </a:cubicBezTo>
                  <a:close/>
                  <a:moveTo>
                    <a:pt x="786" y="1544"/>
                  </a:moveTo>
                  <a:cubicBezTo>
                    <a:pt x="786" y="1545"/>
                    <a:pt x="785" y="1545"/>
                    <a:pt x="784" y="1545"/>
                  </a:cubicBezTo>
                  <a:cubicBezTo>
                    <a:pt x="780" y="1551"/>
                    <a:pt x="782" y="1560"/>
                    <a:pt x="792" y="1560"/>
                  </a:cubicBezTo>
                  <a:cubicBezTo>
                    <a:pt x="796" y="1555"/>
                    <a:pt x="796" y="1544"/>
                    <a:pt x="786" y="1544"/>
                  </a:cubicBezTo>
                  <a:close/>
                  <a:moveTo>
                    <a:pt x="1458" y="425"/>
                  </a:moveTo>
                  <a:cubicBezTo>
                    <a:pt x="1425" y="406"/>
                    <a:pt x="1443" y="458"/>
                    <a:pt x="1458" y="425"/>
                  </a:cubicBezTo>
                  <a:close/>
                  <a:moveTo>
                    <a:pt x="505" y="1602"/>
                  </a:moveTo>
                  <a:cubicBezTo>
                    <a:pt x="506" y="1608"/>
                    <a:pt x="509" y="1613"/>
                    <a:pt x="516" y="1613"/>
                  </a:cubicBezTo>
                  <a:cubicBezTo>
                    <a:pt x="551" y="1611"/>
                    <a:pt x="498" y="1563"/>
                    <a:pt x="505" y="1602"/>
                  </a:cubicBezTo>
                  <a:close/>
                  <a:moveTo>
                    <a:pt x="756" y="1529"/>
                  </a:moveTo>
                  <a:cubicBezTo>
                    <a:pt x="743" y="1537"/>
                    <a:pt x="750" y="1558"/>
                    <a:pt x="770" y="1556"/>
                  </a:cubicBezTo>
                  <a:cubicBezTo>
                    <a:pt x="780" y="1547"/>
                    <a:pt x="776" y="1527"/>
                    <a:pt x="756" y="1529"/>
                  </a:cubicBezTo>
                  <a:close/>
                  <a:moveTo>
                    <a:pt x="756" y="1445"/>
                  </a:moveTo>
                  <a:cubicBezTo>
                    <a:pt x="748" y="1446"/>
                    <a:pt x="748" y="1460"/>
                    <a:pt x="757" y="1461"/>
                  </a:cubicBezTo>
                  <a:cubicBezTo>
                    <a:pt x="763" y="1459"/>
                    <a:pt x="762" y="1446"/>
                    <a:pt x="756" y="1445"/>
                  </a:cubicBezTo>
                  <a:close/>
                  <a:moveTo>
                    <a:pt x="794" y="1474"/>
                  </a:moveTo>
                  <a:cubicBezTo>
                    <a:pt x="814" y="1445"/>
                    <a:pt x="764" y="1459"/>
                    <a:pt x="794" y="1474"/>
                  </a:cubicBezTo>
                  <a:close/>
                  <a:moveTo>
                    <a:pt x="686" y="1755"/>
                  </a:moveTo>
                  <a:cubicBezTo>
                    <a:pt x="692" y="1747"/>
                    <a:pt x="691" y="1719"/>
                    <a:pt x="682" y="1711"/>
                  </a:cubicBezTo>
                  <a:cubicBezTo>
                    <a:pt x="681" y="1724"/>
                    <a:pt x="679" y="1745"/>
                    <a:pt x="686" y="1755"/>
                  </a:cubicBezTo>
                  <a:close/>
                  <a:moveTo>
                    <a:pt x="729" y="1474"/>
                  </a:moveTo>
                  <a:cubicBezTo>
                    <a:pt x="732" y="1388"/>
                    <a:pt x="636" y="1480"/>
                    <a:pt x="729" y="1474"/>
                  </a:cubicBezTo>
                  <a:close/>
                  <a:moveTo>
                    <a:pt x="798" y="1708"/>
                  </a:moveTo>
                  <a:cubicBezTo>
                    <a:pt x="798" y="1715"/>
                    <a:pt x="795" y="1724"/>
                    <a:pt x="801" y="1727"/>
                  </a:cubicBezTo>
                  <a:cubicBezTo>
                    <a:pt x="802" y="1723"/>
                    <a:pt x="805" y="1709"/>
                    <a:pt x="798" y="1708"/>
                  </a:cubicBezTo>
                  <a:close/>
                  <a:moveTo>
                    <a:pt x="732" y="1567"/>
                  </a:moveTo>
                  <a:cubicBezTo>
                    <a:pt x="741" y="1485"/>
                    <a:pt x="648" y="1563"/>
                    <a:pt x="732" y="1567"/>
                  </a:cubicBezTo>
                  <a:close/>
                  <a:moveTo>
                    <a:pt x="258" y="1603"/>
                  </a:moveTo>
                  <a:cubicBezTo>
                    <a:pt x="264" y="1603"/>
                    <a:pt x="268" y="1599"/>
                    <a:pt x="268" y="1591"/>
                  </a:cubicBezTo>
                  <a:cubicBezTo>
                    <a:pt x="259" y="1579"/>
                    <a:pt x="246" y="1597"/>
                    <a:pt x="258" y="1603"/>
                  </a:cubicBezTo>
                  <a:close/>
                  <a:moveTo>
                    <a:pt x="295" y="1387"/>
                  </a:moveTo>
                  <a:cubicBezTo>
                    <a:pt x="296" y="1393"/>
                    <a:pt x="298" y="1396"/>
                    <a:pt x="302" y="1396"/>
                  </a:cubicBezTo>
                  <a:cubicBezTo>
                    <a:pt x="336" y="1399"/>
                    <a:pt x="287" y="1349"/>
                    <a:pt x="295" y="1387"/>
                  </a:cubicBezTo>
                  <a:close/>
                  <a:moveTo>
                    <a:pt x="265" y="1220"/>
                  </a:moveTo>
                  <a:cubicBezTo>
                    <a:pt x="305" y="1159"/>
                    <a:pt x="202" y="1204"/>
                    <a:pt x="265" y="1220"/>
                  </a:cubicBezTo>
                  <a:close/>
                  <a:moveTo>
                    <a:pt x="754" y="1588"/>
                  </a:moveTo>
                  <a:cubicBezTo>
                    <a:pt x="746" y="1594"/>
                    <a:pt x="751" y="1607"/>
                    <a:pt x="763" y="1606"/>
                  </a:cubicBezTo>
                  <a:cubicBezTo>
                    <a:pt x="770" y="1600"/>
                    <a:pt x="767" y="1586"/>
                    <a:pt x="754" y="1588"/>
                  </a:cubicBezTo>
                  <a:close/>
                  <a:moveTo>
                    <a:pt x="524" y="1525"/>
                  </a:moveTo>
                  <a:cubicBezTo>
                    <a:pt x="528" y="1532"/>
                    <a:pt x="521" y="1546"/>
                    <a:pt x="531" y="1547"/>
                  </a:cubicBezTo>
                  <a:cubicBezTo>
                    <a:pt x="543" y="1538"/>
                    <a:pt x="536" y="1523"/>
                    <a:pt x="524" y="1525"/>
                  </a:cubicBezTo>
                  <a:close/>
                  <a:moveTo>
                    <a:pt x="334" y="1442"/>
                  </a:moveTo>
                  <a:cubicBezTo>
                    <a:pt x="356" y="1400"/>
                    <a:pt x="287" y="1436"/>
                    <a:pt x="334" y="1442"/>
                  </a:cubicBezTo>
                  <a:close/>
                  <a:moveTo>
                    <a:pt x="353" y="1588"/>
                  </a:moveTo>
                  <a:cubicBezTo>
                    <a:pt x="374" y="1567"/>
                    <a:pt x="329" y="1572"/>
                    <a:pt x="353" y="1588"/>
                  </a:cubicBezTo>
                  <a:close/>
                  <a:moveTo>
                    <a:pt x="131" y="1127"/>
                  </a:moveTo>
                  <a:cubicBezTo>
                    <a:pt x="132" y="1134"/>
                    <a:pt x="134" y="1136"/>
                    <a:pt x="138" y="1136"/>
                  </a:cubicBezTo>
                  <a:cubicBezTo>
                    <a:pt x="176" y="1141"/>
                    <a:pt x="124" y="1088"/>
                    <a:pt x="131" y="1127"/>
                  </a:cubicBezTo>
                  <a:close/>
                  <a:moveTo>
                    <a:pt x="272" y="1128"/>
                  </a:moveTo>
                  <a:cubicBezTo>
                    <a:pt x="266" y="1127"/>
                    <a:pt x="262" y="1133"/>
                    <a:pt x="264" y="1140"/>
                  </a:cubicBezTo>
                  <a:cubicBezTo>
                    <a:pt x="270" y="1156"/>
                    <a:pt x="290" y="1128"/>
                    <a:pt x="272" y="1128"/>
                  </a:cubicBezTo>
                  <a:close/>
                  <a:moveTo>
                    <a:pt x="131" y="756"/>
                  </a:moveTo>
                  <a:cubicBezTo>
                    <a:pt x="135" y="757"/>
                    <a:pt x="137" y="755"/>
                    <a:pt x="140" y="754"/>
                  </a:cubicBezTo>
                  <a:cubicBezTo>
                    <a:pt x="141" y="746"/>
                    <a:pt x="141" y="746"/>
                    <a:pt x="141" y="746"/>
                  </a:cubicBezTo>
                  <a:cubicBezTo>
                    <a:pt x="138" y="743"/>
                    <a:pt x="136" y="741"/>
                    <a:pt x="130" y="741"/>
                  </a:cubicBezTo>
                  <a:cubicBezTo>
                    <a:pt x="125" y="745"/>
                    <a:pt x="123" y="751"/>
                    <a:pt x="112" y="747"/>
                  </a:cubicBezTo>
                  <a:cubicBezTo>
                    <a:pt x="105" y="751"/>
                    <a:pt x="104" y="758"/>
                    <a:pt x="106" y="768"/>
                  </a:cubicBezTo>
                  <a:cubicBezTo>
                    <a:pt x="116" y="778"/>
                    <a:pt x="137" y="769"/>
                    <a:pt x="131" y="756"/>
                  </a:cubicBezTo>
                  <a:close/>
                  <a:moveTo>
                    <a:pt x="159" y="1225"/>
                  </a:moveTo>
                  <a:cubicBezTo>
                    <a:pt x="162" y="1226"/>
                    <a:pt x="165" y="1227"/>
                    <a:pt x="165" y="1231"/>
                  </a:cubicBezTo>
                  <a:cubicBezTo>
                    <a:pt x="166" y="1236"/>
                    <a:pt x="159" y="1239"/>
                    <a:pt x="161" y="1243"/>
                  </a:cubicBezTo>
                  <a:cubicBezTo>
                    <a:pt x="162" y="1240"/>
                    <a:pt x="167" y="1243"/>
                    <a:pt x="169" y="1242"/>
                  </a:cubicBezTo>
                  <a:cubicBezTo>
                    <a:pt x="170" y="1246"/>
                    <a:pt x="171" y="1249"/>
                    <a:pt x="170" y="1254"/>
                  </a:cubicBezTo>
                  <a:cubicBezTo>
                    <a:pt x="181" y="1252"/>
                    <a:pt x="193" y="1257"/>
                    <a:pt x="201" y="1264"/>
                  </a:cubicBezTo>
                  <a:cubicBezTo>
                    <a:pt x="204" y="1259"/>
                    <a:pt x="208" y="1256"/>
                    <a:pt x="213" y="1255"/>
                  </a:cubicBezTo>
                  <a:cubicBezTo>
                    <a:pt x="216" y="1256"/>
                    <a:pt x="215" y="1260"/>
                    <a:pt x="219" y="1260"/>
                  </a:cubicBezTo>
                  <a:cubicBezTo>
                    <a:pt x="221" y="1256"/>
                    <a:pt x="222" y="1251"/>
                    <a:pt x="223" y="1247"/>
                  </a:cubicBezTo>
                  <a:cubicBezTo>
                    <a:pt x="241" y="1247"/>
                    <a:pt x="224" y="1228"/>
                    <a:pt x="235" y="1219"/>
                  </a:cubicBezTo>
                  <a:cubicBezTo>
                    <a:pt x="224" y="1180"/>
                    <a:pt x="169" y="1189"/>
                    <a:pt x="159" y="1225"/>
                  </a:cubicBezTo>
                  <a:close/>
                  <a:moveTo>
                    <a:pt x="363" y="1177"/>
                  </a:moveTo>
                  <a:cubicBezTo>
                    <a:pt x="348" y="1198"/>
                    <a:pt x="387" y="1184"/>
                    <a:pt x="363" y="1177"/>
                  </a:cubicBezTo>
                  <a:close/>
                  <a:moveTo>
                    <a:pt x="424" y="1259"/>
                  </a:moveTo>
                  <a:cubicBezTo>
                    <a:pt x="416" y="1258"/>
                    <a:pt x="412" y="1266"/>
                    <a:pt x="414" y="1273"/>
                  </a:cubicBezTo>
                  <a:cubicBezTo>
                    <a:pt x="419" y="1295"/>
                    <a:pt x="445" y="1262"/>
                    <a:pt x="424" y="1259"/>
                  </a:cubicBezTo>
                  <a:close/>
                  <a:moveTo>
                    <a:pt x="397" y="1273"/>
                  </a:moveTo>
                  <a:cubicBezTo>
                    <a:pt x="380" y="1270"/>
                    <a:pt x="376" y="1297"/>
                    <a:pt x="395" y="1297"/>
                  </a:cubicBezTo>
                  <a:cubicBezTo>
                    <a:pt x="403" y="1294"/>
                    <a:pt x="405" y="1278"/>
                    <a:pt x="397" y="1273"/>
                  </a:cubicBezTo>
                  <a:close/>
                  <a:moveTo>
                    <a:pt x="408" y="1311"/>
                  </a:moveTo>
                  <a:cubicBezTo>
                    <a:pt x="394" y="1319"/>
                    <a:pt x="390" y="1346"/>
                    <a:pt x="406" y="1352"/>
                  </a:cubicBezTo>
                  <a:cubicBezTo>
                    <a:pt x="423" y="1351"/>
                    <a:pt x="438" y="1311"/>
                    <a:pt x="408" y="1311"/>
                  </a:cubicBezTo>
                  <a:close/>
                  <a:moveTo>
                    <a:pt x="399" y="1563"/>
                  </a:moveTo>
                  <a:cubicBezTo>
                    <a:pt x="392" y="1563"/>
                    <a:pt x="391" y="1570"/>
                    <a:pt x="391" y="1573"/>
                  </a:cubicBezTo>
                  <a:cubicBezTo>
                    <a:pt x="394" y="1598"/>
                    <a:pt x="422" y="1563"/>
                    <a:pt x="399" y="1563"/>
                  </a:cubicBezTo>
                  <a:close/>
                  <a:moveTo>
                    <a:pt x="537" y="1596"/>
                  </a:moveTo>
                  <a:cubicBezTo>
                    <a:pt x="530" y="1602"/>
                    <a:pt x="535" y="1615"/>
                    <a:pt x="544" y="1611"/>
                  </a:cubicBezTo>
                  <a:cubicBezTo>
                    <a:pt x="549" y="1606"/>
                    <a:pt x="549" y="1595"/>
                    <a:pt x="537" y="1596"/>
                  </a:cubicBezTo>
                  <a:close/>
                  <a:moveTo>
                    <a:pt x="431" y="1514"/>
                  </a:moveTo>
                  <a:cubicBezTo>
                    <a:pt x="420" y="1511"/>
                    <a:pt x="417" y="1519"/>
                    <a:pt x="417" y="1527"/>
                  </a:cubicBezTo>
                  <a:cubicBezTo>
                    <a:pt x="419" y="1556"/>
                    <a:pt x="456" y="1521"/>
                    <a:pt x="431" y="1514"/>
                  </a:cubicBezTo>
                  <a:close/>
                  <a:moveTo>
                    <a:pt x="444" y="1294"/>
                  </a:moveTo>
                  <a:cubicBezTo>
                    <a:pt x="445" y="1300"/>
                    <a:pt x="448" y="1304"/>
                    <a:pt x="454" y="1304"/>
                  </a:cubicBezTo>
                  <a:cubicBezTo>
                    <a:pt x="488" y="1306"/>
                    <a:pt x="439" y="1259"/>
                    <a:pt x="444" y="1294"/>
                  </a:cubicBezTo>
                  <a:close/>
                  <a:moveTo>
                    <a:pt x="370" y="1703"/>
                  </a:moveTo>
                  <a:cubicBezTo>
                    <a:pt x="370" y="1704"/>
                    <a:pt x="369" y="1704"/>
                    <a:pt x="368" y="1704"/>
                  </a:cubicBezTo>
                  <a:cubicBezTo>
                    <a:pt x="364" y="1709"/>
                    <a:pt x="365" y="1716"/>
                    <a:pt x="371" y="1717"/>
                  </a:cubicBezTo>
                  <a:cubicBezTo>
                    <a:pt x="378" y="1716"/>
                    <a:pt x="380" y="1703"/>
                    <a:pt x="370" y="1703"/>
                  </a:cubicBezTo>
                  <a:close/>
                  <a:moveTo>
                    <a:pt x="451" y="1865"/>
                  </a:moveTo>
                  <a:cubicBezTo>
                    <a:pt x="459" y="1862"/>
                    <a:pt x="460" y="1846"/>
                    <a:pt x="455" y="1842"/>
                  </a:cubicBezTo>
                  <a:cubicBezTo>
                    <a:pt x="451" y="1845"/>
                    <a:pt x="444" y="1861"/>
                    <a:pt x="451" y="1865"/>
                  </a:cubicBezTo>
                  <a:close/>
                  <a:moveTo>
                    <a:pt x="442" y="1341"/>
                  </a:moveTo>
                  <a:cubicBezTo>
                    <a:pt x="433" y="1344"/>
                    <a:pt x="432" y="1362"/>
                    <a:pt x="447" y="1359"/>
                  </a:cubicBezTo>
                  <a:cubicBezTo>
                    <a:pt x="452" y="1353"/>
                    <a:pt x="451" y="1341"/>
                    <a:pt x="442" y="1341"/>
                  </a:cubicBezTo>
                  <a:close/>
                  <a:moveTo>
                    <a:pt x="778" y="1428"/>
                  </a:moveTo>
                  <a:cubicBezTo>
                    <a:pt x="783" y="1424"/>
                    <a:pt x="782" y="1416"/>
                    <a:pt x="776" y="1414"/>
                  </a:cubicBezTo>
                  <a:cubicBezTo>
                    <a:pt x="776" y="1415"/>
                    <a:pt x="775" y="1416"/>
                    <a:pt x="773" y="1415"/>
                  </a:cubicBezTo>
                  <a:cubicBezTo>
                    <a:pt x="770" y="1420"/>
                    <a:pt x="771" y="1428"/>
                    <a:pt x="778" y="1428"/>
                  </a:cubicBezTo>
                  <a:close/>
                  <a:moveTo>
                    <a:pt x="1504" y="905"/>
                  </a:moveTo>
                  <a:cubicBezTo>
                    <a:pt x="1495" y="902"/>
                    <a:pt x="1481" y="904"/>
                    <a:pt x="1473" y="906"/>
                  </a:cubicBezTo>
                  <a:cubicBezTo>
                    <a:pt x="1482" y="906"/>
                    <a:pt x="1499" y="912"/>
                    <a:pt x="1504" y="905"/>
                  </a:cubicBezTo>
                  <a:close/>
                  <a:moveTo>
                    <a:pt x="1465" y="958"/>
                  </a:moveTo>
                  <a:cubicBezTo>
                    <a:pt x="1468" y="942"/>
                    <a:pt x="1447" y="930"/>
                    <a:pt x="1432" y="927"/>
                  </a:cubicBezTo>
                  <a:cubicBezTo>
                    <a:pt x="1431" y="920"/>
                    <a:pt x="1429" y="915"/>
                    <a:pt x="1431" y="906"/>
                  </a:cubicBezTo>
                  <a:cubicBezTo>
                    <a:pt x="1424" y="901"/>
                    <a:pt x="1416" y="896"/>
                    <a:pt x="1411" y="890"/>
                  </a:cubicBezTo>
                  <a:cubicBezTo>
                    <a:pt x="1385" y="885"/>
                    <a:pt x="1373" y="917"/>
                    <a:pt x="1390" y="932"/>
                  </a:cubicBezTo>
                  <a:cubicBezTo>
                    <a:pt x="1388" y="934"/>
                    <a:pt x="1386" y="936"/>
                    <a:pt x="1386" y="940"/>
                  </a:cubicBezTo>
                  <a:cubicBezTo>
                    <a:pt x="1407" y="955"/>
                    <a:pt x="1436" y="961"/>
                    <a:pt x="1465" y="958"/>
                  </a:cubicBezTo>
                  <a:close/>
                  <a:moveTo>
                    <a:pt x="1704" y="1039"/>
                  </a:moveTo>
                  <a:cubicBezTo>
                    <a:pt x="1697" y="1048"/>
                    <a:pt x="1711" y="1057"/>
                    <a:pt x="1719" y="1051"/>
                  </a:cubicBezTo>
                  <a:cubicBezTo>
                    <a:pt x="1720" y="1042"/>
                    <a:pt x="1713" y="1037"/>
                    <a:pt x="1704" y="1039"/>
                  </a:cubicBezTo>
                  <a:close/>
                  <a:moveTo>
                    <a:pt x="1800" y="887"/>
                  </a:moveTo>
                  <a:cubicBezTo>
                    <a:pt x="1793" y="887"/>
                    <a:pt x="1786" y="886"/>
                    <a:pt x="1782" y="888"/>
                  </a:cubicBezTo>
                  <a:cubicBezTo>
                    <a:pt x="1785" y="890"/>
                    <a:pt x="1799" y="892"/>
                    <a:pt x="1800" y="887"/>
                  </a:cubicBezTo>
                  <a:close/>
                  <a:moveTo>
                    <a:pt x="1399" y="860"/>
                  </a:moveTo>
                  <a:cubicBezTo>
                    <a:pt x="1369" y="892"/>
                    <a:pt x="1434" y="879"/>
                    <a:pt x="1399" y="860"/>
                  </a:cubicBezTo>
                  <a:close/>
                  <a:moveTo>
                    <a:pt x="1493" y="1708"/>
                  </a:moveTo>
                  <a:cubicBezTo>
                    <a:pt x="1495" y="1702"/>
                    <a:pt x="1493" y="1698"/>
                    <a:pt x="1487" y="1697"/>
                  </a:cubicBezTo>
                  <a:cubicBezTo>
                    <a:pt x="1487" y="1698"/>
                    <a:pt x="1486" y="1698"/>
                    <a:pt x="1484" y="1698"/>
                  </a:cubicBezTo>
                  <a:cubicBezTo>
                    <a:pt x="1482" y="1706"/>
                    <a:pt x="1487" y="1710"/>
                    <a:pt x="1493" y="1708"/>
                  </a:cubicBezTo>
                  <a:close/>
                  <a:moveTo>
                    <a:pt x="1365" y="1258"/>
                  </a:moveTo>
                  <a:cubicBezTo>
                    <a:pt x="1372" y="1175"/>
                    <a:pt x="1280" y="1264"/>
                    <a:pt x="1365" y="1258"/>
                  </a:cubicBezTo>
                  <a:close/>
                  <a:moveTo>
                    <a:pt x="1426" y="1867"/>
                  </a:moveTo>
                  <a:cubicBezTo>
                    <a:pt x="1447" y="1905"/>
                    <a:pt x="1486" y="1944"/>
                    <a:pt x="1523" y="1971"/>
                  </a:cubicBezTo>
                  <a:cubicBezTo>
                    <a:pt x="1503" y="1931"/>
                    <a:pt x="1461" y="1899"/>
                    <a:pt x="1426" y="1867"/>
                  </a:cubicBezTo>
                  <a:close/>
                  <a:moveTo>
                    <a:pt x="1191" y="1196"/>
                  </a:moveTo>
                  <a:cubicBezTo>
                    <a:pt x="1191" y="1191"/>
                    <a:pt x="1195" y="1190"/>
                    <a:pt x="1196" y="1185"/>
                  </a:cubicBezTo>
                  <a:cubicBezTo>
                    <a:pt x="1183" y="1154"/>
                    <a:pt x="1151" y="1202"/>
                    <a:pt x="1191" y="1196"/>
                  </a:cubicBezTo>
                  <a:close/>
                  <a:moveTo>
                    <a:pt x="1277" y="1193"/>
                  </a:moveTo>
                  <a:cubicBezTo>
                    <a:pt x="1272" y="1199"/>
                    <a:pt x="1279" y="1207"/>
                    <a:pt x="1286" y="1203"/>
                  </a:cubicBezTo>
                  <a:cubicBezTo>
                    <a:pt x="1288" y="1197"/>
                    <a:pt x="1285" y="1193"/>
                    <a:pt x="1280" y="1192"/>
                  </a:cubicBezTo>
                  <a:cubicBezTo>
                    <a:pt x="1280" y="1193"/>
                    <a:pt x="1279" y="1193"/>
                    <a:pt x="1277" y="1193"/>
                  </a:cubicBezTo>
                  <a:close/>
                  <a:moveTo>
                    <a:pt x="1666" y="1059"/>
                  </a:moveTo>
                  <a:cubicBezTo>
                    <a:pt x="1634" y="1056"/>
                    <a:pt x="1554" y="1030"/>
                    <a:pt x="1528" y="1044"/>
                  </a:cubicBezTo>
                  <a:cubicBezTo>
                    <a:pt x="1535" y="1061"/>
                    <a:pt x="1588" y="1055"/>
                    <a:pt x="1625" y="1062"/>
                  </a:cubicBezTo>
                  <a:cubicBezTo>
                    <a:pt x="1634" y="1064"/>
                    <a:pt x="1689" y="1083"/>
                    <a:pt x="1694" y="1072"/>
                  </a:cubicBezTo>
                  <a:cubicBezTo>
                    <a:pt x="1700" y="1057"/>
                    <a:pt x="1673" y="1060"/>
                    <a:pt x="1666" y="1059"/>
                  </a:cubicBezTo>
                  <a:close/>
                  <a:moveTo>
                    <a:pt x="1561" y="349"/>
                  </a:moveTo>
                  <a:cubicBezTo>
                    <a:pt x="1562" y="340"/>
                    <a:pt x="1542" y="340"/>
                    <a:pt x="1546" y="350"/>
                  </a:cubicBezTo>
                  <a:cubicBezTo>
                    <a:pt x="1549" y="355"/>
                    <a:pt x="1560" y="356"/>
                    <a:pt x="1561" y="349"/>
                  </a:cubicBezTo>
                  <a:close/>
                  <a:moveTo>
                    <a:pt x="1521" y="34"/>
                  </a:moveTo>
                  <a:cubicBezTo>
                    <a:pt x="1514" y="33"/>
                    <a:pt x="1511" y="38"/>
                    <a:pt x="1513" y="42"/>
                  </a:cubicBezTo>
                  <a:cubicBezTo>
                    <a:pt x="1518" y="54"/>
                    <a:pt x="1535" y="36"/>
                    <a:pt x="1521" y="34"/>
                  </a:cubicBezTo>
                  <a:close/>
                  <a:moveTo>
                    <a:pt x="1581" y="420"/>
                  </a:moveTo>
                  <a:cubicBezTo>
                    <a:pt x="1544" y="402"/>
                    <a:pt x="1570" y="454"/>
                    <a:pt x="1581" y="420"/>
                  </a:cubicBezTo>
                  <a:close/>
                  <a:moveTo>
                    <a:pt x="1796" y="1055"/>
                  </a:moveTo>
                  <a:cubicBezTo>
                    <a:pt x="1792" y="1063"/>
                    <a:pt x="1803" y="1067"/>
                    <a:pt x="1804" y="1059"/>
                  </a:cubicBezTo>
                  <a:cubicBezTo>
                    <a:pt x="1803" y="1056"/>
                    <a:pt x="1801" y="1055"/>
                    <a:pt x="1796" y="1055"/>
                  </a:cubicBezTo>
                  <a:close/>
                  <a:moveTo>
                    <a:pt x="1453" y="516"/>
                  </a:moveTo>
                  <a:cubicBezTo>
                    <a:pt x="1453" y="497"/>
                    <a:pt x="1400" y="488"/>
                    <a:pt x="1405" y="519"/>
                  </a:cubicBezTo>
                  <a:cubicBezTo>
                    <a:pt x="1409" y="540"/>
                    <a:pt x="1453" y="536"/>
                    <a:pt x="1453" y="516"/>
                  </a:cubicBezTo>
                  <a:close/>
                  <a:moveTo>
                    <a:pt x="1491" y="94"/>
                  </a:moveTo>
                  <a:cubicBezTo>
                    <a:pt x="1489" y="92"/>
                    <a:pt x="1485" y="90"/>
                    <a:pt x="1482" y="92"/>
                  </a:cubicBezTo>
                  <a:cubicBezTo>
                    <a:pt x="1482" y="96"/>
                    <a:pt x="1482" y="96"/>
                    <a:pt x="1482" y="96"/>
                  </a:cubicBezTo>
                  <a:cubicBezTo>
                    <a:pt x="1485" y="100"/>
                    <a:pt x="1490" y="97"/>
                    <a:pt x="1491" y="94"/>
                  </a:cubicBezTo>
                  <a:close/>
                  <a:moveTo>
                    <a:pt x="1740" y="268"/>
                  </a:moveTo>
                  <a:cubicBezTo>
                    <a:pt x="1742" y="265"/>
                    <a:pt x="1743" y="262"/>
                    <a:pt x="1744" y="259"/>
                  </a:cubicBezTo>
                  <a:cubicBezTo>
                    <a:pt x="1740" y="256"/>
                    <a:pt x="1736" y="258"/>
                    <a:pt x="1732" y="260"/>
                  </a:cubicBezTo>
                  <a:cubicBezTo>
                    <a:pt x="1732" y="265"/>
                    <a:pt x="1734" y="268"/>
                    <a:pt x="1740" y="268"/>
                  </a:cubicBezTo>
                  <a:close/>
                  <a:moveTo>
                    <a:pt x="1711" y="194"/>
                  </a:moveTo>
                  <a:cubicBezTo>
                    <a:pt x="1709" y="185"/>
                    <a:pt x="1687" y="187"/>
                    <a:pt x="1693" y="199"/>
                  </a:cubicBezTo>
                  <a:cubicBezTo>
                    <a:pt x="1697" y="207"/>
                    <a:pt x="1712" y="202"/>
                    <a:pt x="1711" y="194"/>
                  </a:cubicBezTo>
                  <a:close/>
                  <a:moveTo>
                    <a:pt x="1671" y="227"/>
                  </a:moveTo>
                  <a:cubicBezTo>
                    <a:pt x="1632" y="203"/>
                    <a:pt x="1650" y="267"/>
                    <a:pt x="1671" y="227"/>
                  </a:cubicBezTo>
                  <a:close/>
                  <a:moveTo>
                    <a:pt x="1634" y="672"/>
                  </a:moveTo>
                  <a:cubicBezTo>
                    <a:pt x="1629" y="668"/>
                    <a:pt x="1621" y="672"/>
                    <a:pt x="1619" y="676"/>
                  </a:cubicBezTo>
                  <a:cubicBezTo>
                    <a:pt x="1625" y="675"/>
                    <a:pt x="1632" y="677"/>
                    <a:pt x="1634" y="672"/>
                  </a:cubicBezTo>
                  <a:close/>
                  <a:moveTo>
                    <a:pt x="848" y="1437"/>
                  </a:moveTo>
                  <a:cubicBezTo>
                    <a:pt x="868" y="1376"/>
                    <a:pt x="783" y="1422"/>
                    <a:pt x="848" y="1437"/>
                  </a:cubicBezTo>
                  <a:close/>
                  <a:moveTo>
                    <a:pt x="906" y="1422"/>
                  </a:moveTo>
                  <a:cubicBezTo>
                    <a:pt x="905" y="1426"/>
                    <a:pt x="904" y="1431"/>
                    <a:pt x="909" y="1433"/>
                  </a:cubicBezTo>
                  <a:cubicBezTo>
                    <a:pt x="914" y="1431"/>
                    <a:pt x="911" y="1422"/>
                    <a:pt x="906" y="1422"/>
                  </a:cubicBezTo>
                  <a:close/>
                  <a:moveTo>
                    <a:pt x="759" y="1640"/>
                  </a:moveTo>
                  <a:cubicBezTo>
                    <a:pt x="780" y="1610"/>
                    <a:pt x="727" y="1626"/>
                    <a:pt x="759" y="1640"/>
                  </a:cubicBezTo>
                  <a:close/>
                  <a:moveTo>
                    <a:pt x="938" y="1747"/>
                  </a:moveTo>
                  <a:cubicBezTo>
                    <a:pt x="944" y="1696"/>
                    <a:pt x="885" y="1749"/>
                    <a:pt x="938" y="1747"/>
                  </a:cubicBezTo>
                  <a:close/>
                  <a:moveTo>
                    <a:pt x="1386" y="1372"/>
                  </a:moveTo>
                  <a:cubicBezTo>
                    <a:pt x="1377" y="1375"/>
                    <a:pt x="1385" y="1387"/>
                    <a:pt x="1392" y="1383"/>
                  </a:cubicBezTo>
                  <a:cubicBezTo>
                    <a:pt x="1394" y="1377"/>
                    <a:pt x="1392" y="1373"/>
                    <a:pt x="1386" y="1372"/>
                  </a:cubicBezTo>
                  <a:close/>
                  <a:moveTo>
                    <a:pt x="929" y="1595"/>
                  </a:moveTo>
                  <a:cubicBezTo>
                    <a:pt x="931" y="1589"/>
                    <a:pt x="927" y="1580"/>
                    <a:pt x="918" y="1580"/>
                  </a:cubicBezTo>
                  <a:cubicBezTo>
                    <a:pt x="910" y="1586"/>
                    <a:pt x="920" y="1597"/>
                    <a:pt x="929" y="1595"/>
                  </a:cubicBezTo>
                  <a:close/>
                  <a:moveTo>
                    <a:pt x="842" y="1559"/>
                  </a:moveTo>
                  <a:cubicBezTo>
                    <a:pt x="840" y="1564"/>
                    <a:pt x="840" y="1568"/>
                    <a:pt x="847" y="1568"/>
                  </a:cubicBezTo>
                  <a:cubicBezTo>
                    <a:pt x="849" y="1565"/>
                    <a:pt x="848" y="1564"/>
                    <a:pt x="848" y="1560"/>
                  </a:cubicBezTo>
                  <a:lnTo>
                    <a:pt x="842" y="1559"/>
                  </a:lnTo>
                  <a:close/>
                  <a:moveTo>
                    <a:pt x="757" y="1755"/>
                  </a:moveTo>
                  <a:cubicBezTo>
                    <a:pt x="774" y="1731"/>
                    <a:pt x="731" y="1747"/>
                    <a:pt x="757" y="1755"/>
                  </a:cubicBezTo>
                  <a:close/>
                  <a:moveTo>
                    <a:pt x="755" y="1723"/>
                  </a:moveTo>
                  <a:cubicBezTo>
                    <a:pt x="748" y="1726"/>
                    <a:pt x="751" y="1736"/>
                    <a:pt x="760" y="1737"/>
                  </a:cubicBezTo>
                  <a:cubicBezTo>
                    <a:pt x="765" y="1733"/>
                    <a:pt x="762" y="1723"/>
                    <a:pt x="755" y="1723"/>
                  </a:cubicBezTo>
                  <a:close/>
                  <a:moveTo>
                    <a:pt x="831" y="1909"/>
                  </a:moveTo>
                  <a:cubicBezTo>
                    <a:pt x="859" y="1862"/>
                    <a:pt x="794" y="1872"/>
                    <a:pt x="831" y="1909"/>
                  </a:cubicBezTo>
                  <a:close/>
                  <a:moveTo>
                    <a:pt x="830" y="1333"/>
                  </a:moveTo>
                  <a:cubicBezTo>
                    <a:pt x="849" y="1331"/>
                    <a:pt x="820" y="1306"/>
                    <a:pt x="822" y="1325"/>
                  </a:cubicBezTo>
                  <a:cubicBezTo>
                    <a:pt x="823" y="1330"/>
                    <a:pt x="823" y="1334"/>
                    <a:pt x="830" y="1333"/>
                  </a:cubicBezTo>
                  <a:close/>
                  <a:moveTo>
                    <a:pt x="944" y="1953"/>
                  </a:moveTo>
                  <a:cubicBezTo>
                    <a:pt x="968" y="1898"/>
                    <a:pt x="894" y="1929"/>
                    <a:pt x="944" y="1953"/>
                  </a:cubicBezTo>
                  <a:close/>
                  <a:moveTo>
                    <a:pt x="1294" y="1373"/>
                  </a:moveTo>
                  <a:cubicBezTo>
                    <a:pt x="1292" y="1374"/>
                    <a:pt x="1292" y="1377"/>
                    <a:pt x="1292" y="1380"/>
                  </a:cubicBezTo>
                  <a:cubicBezTo>
                    <a:pt x="1295" y="1380"/>
                    <a:pt x="1295" y="1382"/>
                    <a:pt x="1299" y="1382"/>
                  </a:cubicBezTo>
                  <a:cubicBezTo>
                    <a:pt x="1301" y="1378"/>
                    <a:pt x="1300" y="1373"/>
                    <a:pt x="1294" y="1373"/>
                  </a:cubicBezTo>
                  <a:close/>
                  <a:moveTo>
                    <a:pt x="1297" y="1366"/>
                  </a:moveTo>
                  <a:cubicBezTo>
                    <a:pt x="1300" y="1342"/>
                    <a:pt x="1268" y="1335"/>
                    <a:pt x="1250" y="1322"/>
                  </a:cubicBezTo>
                  <a:cubicBezTo>
                    <a:pt x="1260" y="1335"/>
                    <a:pt x="1269" y="1370"/>
                    <a:pt x="1297" y="1366"/>
                  </a:cubicBezTo>
                  <a:close/>
                  <a:moveTo>
                    <a:pt x="1245" y="1714"/>
                  </a:moveTo>
                  <a:cubicBezTo>
                    <a:pt x="1241" y="1719"/>
                    <a:pt x="1244" y="1727"/>
                    <a:pt x="1252" y="1727"/>
                  </a:cubicBezTo>
                  <a:cubicBezTo>
                    <a:pt x="1256" y="1722"/>
                    <a:pt x="1254" y="1713"/>
                    <a:pt x="1245" y="1714"/>
                  </a:cubicBezTo>
                  <a:close/>
                  <a:moveTo>
                    <a:pt x="1228" y="1301"/>
                  </a:moveTo>
                  <a:cubicBezTo>
                    <a:pt x="1223" y="1305"/>
                    <a:pt x="1228" y="1311"/>
                    <a:pt x="1234" y="1311"/>
                  </a:cubicBezTo>
                  <a:cubicBezTo>
                    <a:pt x="1234" y="1309"/>
                    <a:pt x="1236" y="1309"/>
                    <a:pt x="1237" y="1309"/>
                  </a:cubicBezTo>
                  <a:cubicBezTo>
                    <a:pt x="1237" y="1303"/>
                    <a:pt x="1234" y="1301"/>
                    <a:pt x="1228" y="1301"/>
                  </a:cubicBezTo>
                  <a:close/>
                  <a:moveTo>
                    <a:pt x="1254" y="1514"/>
                  </a:moveTo>
                  <a:cubicBezTo>
                    <a:pt x="1249" y="1519"/>
                    <a:pt x="1250" y="1526"/>
                    <a:pt x="1260" y="1526"/>
                  </a:cubicBezTo>
                  <a:cubicBezTo>
                    <a:pt x="1265" y="1522"/>
                    <a:pt x="1263" y="1514"/>
                    <a:pt x="1254" y="1514"/>
                  </a:cubicBezTo>
                  <a:close/>
                  <a:moveTo>
                    <a:pt x="980" y="1450"/>
                  </a:moveTo>
                  <a:cubicBezTo>
                    <a:pt x="982" y="1406"/>
                    <a:pt x="935" y="1450"/>
                    <a:pt x="980" y="1450"/>
                  </a:cubicBezTo>
                  <a:close/>
                  <a:moveTo>
                    <a:pt x="1136" y="1326"/>
                  </a:moveTo>
                  <a:cubicBezTo>
                    <a:pt x="1141" y="1316"/>
                    <a:pt x="1144" y="1298"/>
                    <a:pt x="1127" y="1299"/>
                  </a:cubicBezTo>
                  <a:cubicBezTo>
                    <a:pt x="1118" y="1309"/>
                    <a:pt x="1125" y="1323"/>
                    <a:pt x="1136" y="1326"/>
                  </a:cubicBezTo>
                  <a:close/>
                  <a:moveTo>
                    <a:pt x="1024" y="1584"/>
                  </a:moveTo>
                  <a:cubicBezTo>
                    <a:pt x="1014" y="1588"/>
                    <a:pt x="1020" y="1599"/>
                    <a:pt x="1027" y="1601"/>
                  </a:cubicBezTo>
                  <a:cubicBezTo>
                    <a:pt x="1032" y="1598"/>
                    <a:pt x="1029" y="1591"/>
                    <a:pt x="1028" y="1586"/>
                  </a:cubicBezTo>
                  <a:cubicBezTo>
                    <a:pt x="1026" y="1586"/>
                    <a:pt x="1025" y="1585"/>
                    <a:pt x="1024" y="1584"/>
                  </a:cubicBezTo>
                  <a:close/>
                  <a:moveTo>
                    <a:pt x="1132" y="1265"/>
                  </a:moveTo>
                  <a:cubicBezTo>
                    <a:pt x="1132" y="1252"/>
                    <a:pt x="1137" y="1239"/>
                    <a:pt x="1123" y="1237"/>
                  </a:cubicBezTo>
                  <a:cubicBezTo>
                    <a:pt x="1119" y="1241"/>
                    <a:pt x="1126" y="1244"/>
                    <a:pt x="1123" y="1245"/>
                  </a:cubicBezTo>
                  <a:cubicBezTo>
                    <a:pt x="1106" y="1247"/>
                    <a:pt x="1120" y="1270"/>
                    <a:pt x="1132" y="1265"/>
                  </a:cubicBezTo>
                  <a:close/>
                  <a:moveTo>
                    <a:pt x="1221" y="1753"/>
                  </a:moveTo>
                  <a:cubicBezTo>
                    <a:pt x="1206" y="1724"/>
                    <a:pt x="1186" y="1688"/>
                    <a:pt x="1161" y="1662"/>
                  </a:cubicBezTo>
                  <a:cubicBezTo>
                    <a:pt x="1171" y="1695"/>
                    <a:pt x="1194" y="1733"/>
                    <a:pt x="1221" y="1753"/>
                  </a:cubicBezTo>
                  <a:close/>
                </a:path>
              </a:pathLst>
            </a:custGeom>
            <a:solidFill>
              <a:srgbClr val="ff00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885760" y="2575800"/>
              <a:ext cx="2232000" cy="775080"/>
              <a:chOff x="2885760" y="2575800"/>
              <a:chExt cx="2232000" cy="775080"/>
            </a:xfrm>
          </p:grpSpPr>
          <p:sp>
            <p:nvSpPr>
              <p:cNvPr id="109" name="Freeform 7"/>
              <p:cNvSpPr/>
              <p:nvPr/>
            </p:nvSpPr>
            <p:spPr>
              <a:xfrm>
                <a:off x="2885760" y="2585160"/>
                <a:ext cx="415800" cy="380880"/>
              </a:xfrm>
              <a:custGeom>
                <a:avLst/>
                <a:gdLst>
                  <a:gd name="textAreaLeft" fmla="*/ 0 w 415800"/>
                  <a:gd name="textAreaRight" fmla="*/ 416160 w 415800"/>
                  <a:gd name="textAreaTop" fmla="*/ 0 h 380880"/>
                  <a:gd name="textAreaBottom" fmla="*/ 381240 h 380880"/>
                </a:gdLst>
                <a:ahLst/>
                <a:rect l="textAreaLeft" t="textAreaTop" r="textAreaRight" b="textAreaBottom"/>
                <a:pathLst>
                  <a:path w="131" h="120">
                    <a:moveTo>
                      <a:pt x="0" y="120"/>
                    </a:moveTo>
                    <a:cubicBezTo>
                      <a:pt x="4" y="72"/>
                      <a:pt x="4" y="72"/>
                      <a:pt x="4" y="72"/>
                    </a:cubicBezTo>
                    <a:cubicBezTo>
                      <a:pt x="5" y="37"/>
                      <a:pt x="5" y="37"/>
                      <a:pt x="5" y="37"/>
                    </a:cubicBezTo>
                    <a:cubicBezTo>
                      <a:pt x="6" y="21"/>
                      <a:pt x="6" y="21"/>
                      <a:pt x="6" y="21"/>
                    </a:cubicBezTo>
                    <a:cubicBezTo>
                      <a:pt x="6" y="17"/>
                      <a:pt x="6" y="12"/>
                      <a:pt x="6" y="8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15" y="0"/>
                      <a:pt x="22" y="0"/>
                      <a:pt x="26" y="0"/>
                    </a:cubicBezTo>
                    <a:cubicBezTo>
                      <a:pt x="30" y="0"/>
                      <a:pt x="36" y="0"/>
                      <a:pt x="45" y="0"/>
                    </a:cubicBezTo>
                    <a:cubicBezTo>
                      <a:pt x="44" y="16"/>
                      <a:pt x="43" y="31"/>
                      <a:pt x="42" y="44"/>
                    </a:cubicBezTo>
                    <a:cubicBezTo>
                      <a:pt x="90" y="44"/>
                      <a:pt x="90" y="44"/>
                      <a:pt x="90" y="44"/>
                    </a:cubicBezTo>
                    <a:cubicBezTo>
                      <a:pt x="91" y="39"/>
                      <a:pt x="91" y="33"/>
                      <a:pt x="91" y="25"/>
                    </a:cubicBezTo>
                    <a:cubicBezTo>
                      <a:pt x="91" y="16"/>
                      <a:pt x="92" y="11"/>
                      <a:pt x="92" y="8"/>
                    </a:cubicBezTo>
                    <a:cubicBezTo>
                      <a:pt x="92" y="6"/>
                      <a:pt x="92" y="4"/>
                      <a:pt x="91" y="0"/>
                    </a:cubicBezTo>
                    <a:cubicBezTo>
                      <a:pt x="112" y="0"/>
                      <a:pt x="112" y="0"/>
                      <a:pt x="112" y="0"/>
                    </a:cubicBezTo>
                    <a:cubicBezTo>
                      <a:pt x="114" y="0"/>
                      <a:pt x="121" y="0"/>
                      <a:pt x="131" y="0"/>
                    </a:cubicBezTo>
                    <a:cubicBezTo>
                      <a:pt x="129" y="30"/>
                      <a:pt x="127" y="52"/>
                      <a:pt x="127" y="67"/>
                    </a:cubicBezTo>
                    <a:cubicBezTo>
                      <a:pt x="126" y="82"/>
                      <a:pt x="126" y="99"/>
                      <a:pt x="126" y="120"/>
                    </a:cubicBezTo>
                    <a:cubicBezTo>
                      <a:pt x="107" y="120"/>
                      <a:pt x="107" y="120"/>
                      <a:pt x="107" y="120"/>
                    </a:cubicBezTo>
                    <a:cubicBezTo>
                      <a:pt x="104" y="120"/>
                      <a:pt x="97" y="120"/>
                      <a:pt x="86" y="120"/>
                    </a:cubicBezTo>
                    <a:cubicBezTo>
                      <a:pt x="87" y="106"/>
                      <a:pt x="88" y="89"/>
                      <a:pt x="89" y="71"/>
                    </a:cubicBezTo>
                    <a:cubicBezTo>
                      <a:pt x="41" y="71"/>
                      <a:pt x="41" y="71"/>
                      <a:pt x="41" y="71"/>
                    </a:cubicBezTo>
                    <a:cubicBezTo>
                      <a:pt x="40" y="120"/>
                      <a:pt x="40" y="120"/>
                      <a:pt x="40" y="120"/>
                    </a:cubicBezTo>
                    <a:cubicBezTo>
                      <a:pt x="19" y="120"/>
                      <a:pt x="19" y="120"/>
                      <a:pt x="19" y="120"/>
                    </a:cubicBezTo>
                    <a:cubicBezTo>
                      <a:pt x="17" y="120"/>
                      <a:pt x="10" y="120"/>
                      <a:pt x="0" y="12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Freeform 8"/>
              <p:cNvSpPr/>
              <p:nvPr/>
            </p:nvSpPr>
            <p:spPr>
              <a:xfrm>
                <a:off x="3355560" y="2585160"/>
                <a:ext cx="139680" cy="380880"/>
              </a:xfrm>
              <a:custGeom>
                <a:avLst/>
                <a:gdLst>
                  <a:gd name="textAreaLeft" fmla="*/ 0 w 139680"/>
                  <a:gd name="textAreaRight" fmla="*/ 140040 w 139680"/>
                  <a:gd name="textAreaTop" fmla="*/ 0 h 380880"/>
                  <a:gd name="textAreaBottom" fmla="*/ 381240 h 380880"/>
                </a:gdLst>
                <a:ahLst/>
                <a:rect l="textAreaLeft" t="textAreaTop" r="textAreaRight" b="textAreaBottom"/>
                <a:pathLst>
                  <a:path w="44" h="120">
                    <a:moveTo>
                      <a:pt x="0" y="120"/>
                    </a:moveTo>
                    <a:cubicBezTo>
                      <a:pt x="3" y="73"/>
                      <a:pt x="5" y="36"/>
                      <a:pt x="5" y="11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15" y="0"/>
                      <a:pt x="22" y="0"/>
                      <a:pt x="25" y="0"/>
                    </a:cubicBezTo>
                    <a:cubicBezTo>
                      <a:pt x="27" y="0"/>
                      <a:pt x="33" y="0"/>
                      <a:pt x="44" y="0"/>
                    </a:cubicBezTo>
                    <a:cubicBezTo>
                      <a:pt x="43" y="13"/>
                      <a:pt x="42" y="25"/>
                      <a:pt x="42" y="37"/>
                    </a:cubicBezTo>
                    <a:cubicBezTo>
                      <a:pt x="41" y="53"/>
                      <a:pt x="40" y="69"/>
                      <a:pt x="40" y="83"/>
                    </a:cubicBezTo>
                    <a:cubicBezTo>
                      <a:pt x="40" y="97"/>
                      <a:pt x="39" y="110"/>
                      <a:pt x="39" y="120"/>
                    </a:cubicBezTo>
                    <a:cubicBezTo>
                      <a:pt x="21" y="120"/>
                      <a:pt x="21" y="120"/>
                      <a:pt x="21" y="120"/>
                    </a:cubicBezTo>
                    <a:cubicBezTo>
                      <a:pt x="18" y="120"/>
                      <a:pt x="11" y="120"/>
                      <a:pt x="0" y="12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Freeform 9"/>
              <p:cNvSpPr/>
              <p:nvPr/>
            </p:nvSpPr>
            <p:spPr>
              <a:xfrm>
                <a:off x="3520800" y="2778840"/>
                <a:ext cx="155520" cy="7596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49" h="24">
                    <a:moveTo>
                      <a:pt x="0" y="24"/>
                    </a:moveTo>
                    <a:cubicBezTo>
                      <a:pt x="1" y="16"/>
                      <a:pt x="1" y="8"/>
                      <a:pt x="1" y="0"/>
                    </a:cubicBezTo>
                    <a:cubicBezTo>
                      <a:pt x="10" y="0"/>
                      <a:pt x="17" y="0"/>
                      <a:pt x="25" y="0"/>
                    </a:cubicBezTo>
                    <a:cubicBezTo>
                      <a:pt x="32" y="0"/>
                      <a:pt x="40" y="0"/>
                      <a:pt x="49" y="0"/>
                    </a:cubicBezTo>
                    <a:cubicBezTo>
                      <a:pt x="48" y="7"/>
                      <a:pt x="47" y="15"/>
                      <a:pt x="47" y="24"/>
                    </a:cubicBezTo>
                    <a:cubicBezTo>
                      <a:pt x="39" y="24"/>
                      <a:pt x="31" y="24"/>
                      <a:pt x="24" y="24"/>
                    </a:cubicBezTo>
                    <a:cubicBezTo>
                      <a:pt x="16" y="24"/>
                      <a:pt x="8" y="24"/>
                      <a:pt x="0" y="2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Freeform 10"/>
              <p:cNvSpPr/>
              <p:nvPr/>
            </p:nvSpPr>
            <p:spPr>
              <a:xfrm>
                <a:off x="3701520" y="2585160"/>
                <a:ext cx="415800" cy="380880"/>
              </a:xfrm>
              <a:custGeom>
                <a:avLst/>
                <a:gdLst>
                  <a:gd name="textAreaLeft" fmla="*/ 0 w 415800"/>
                  <a:gd name="textAreaRight" fmla="*/ 416160 w 415800"/>
                  <a:gd name="textAreaTop" fmla="*/ 0 h 380880"/>
                  <a:gd name="textAreaBottom" fmla="*/ 381240 h 380880"/>
                </a:gdLst>
                <a:ahLst/>
                <a:rect l="textAreaLeft" t="textAreaTop" r="textAreaRight" b="textAreaBottom"/>
                <a:pathLst>
                  <a:path w="131" h="120">
                    <a:moveTo>
                      <a:pt x="0" y="120"/>
                    </a:moveTo>
                    <a:cubicBezTo>
                      <a:pt x="4" y="72"/>
                      <a:pt x="4" y="72"/>
                      <a:pt x="4" y="72"/>
                    </a:cubicBezTo>
                    <a:cubicBezTo>
                      <a:pt x="5" y="37"/>
                      <a:pt x="5" y="37"/>
                      <a:pt x="5" y="37"/>
                    </a:cubicBezTo>
                    <a:cubicBezTo>
                      <a:pt x="6" y="21"/>
                      <a:pt x="6" y="21"/>
                      <a:pt x="6" y="21"/>
                    </a:cubicBezTo>
                    <a:cubicBezTo>
                      <a:pt x="6" y="17"/>
                      <a:pt x="6" y="12"/>
                      <a:pt x="6" y="8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15" y="0"/>
                      <a:pt x="22" y="0"/>
                      <a:pt x="27" y="0"/>
                    </a:cubicBezTo>
                    <a:cubicBezTo>
                      <a:pt x="30" y="0"/>
                      <a:pt x="37" y="0"/>
                      <a:pt x="45" y="0"/>
                    </a:cubicBezTo>
                    <a:cubicBezTo>
                      <a:pt x="44" y="16"/>
                      <a:pt x="43" y="31"/>
                      <a:pt x="43" y="44"/>
                    </a:cubicBezTo>
                    <a:cubicBezTo>
                      <a:pt x="91" y="44"/>
                      <a:pt x="91" y="44"/>
                      <a:pt x="91" y="44"/>
                    </a:cubicBezTo>
                    <a:cubicBezTo>
                      <a:pt x="91" y="39"/>
                      <a:pt x="91" y="33"/>
                      <a:pt x="91" y="25"/>
                    </a:cubicBezTo>
                    <a:cubicBezTo>
                      <a:pt x="92" y="16"/>
                      <a:pt x="92" y="11"/>
                      <a:pt x="92" y="8"/>
                    </a:cubicBezTo>
                    <a:cubicBezTo>
                      <a:pt x="92" y="6"/>
                      <a:pt x="92" y="4"/>
                      <a:pt x="92" y="0"/>
                    </a:cubicBezTo>
                    <a:cubicBezTo>
                      <a:pt x="112" y="0"/>
                      <a:pt x="112" y="0"/>
                      <a:pt x="112" y="0"/>
                    </a:cubicBezTo>
                    <a:cubicBezTo>
                      <a:pt x="115" y="0"/>
                      <a:pt x="121" y="0"/>
                      <a:pt x="131" y="0"/>
                    </a:cubicBezTo>
                    <a:cubicBezTo>
                      <a:pt x="129" y="30"/>
                      <a:pt x="127" y="52"/>
                      <a:pt x="127" y="67"/>
                    </a:cubicBezTo>
                    <a:cubicBezTo>
                      <a:pt x="126" y="82"/>
                      <a:pt x="126" y="99"/>
                      <a:pt x="126" y="120"/>
                    </a:cubicBezTo>
                    <a:cubicBezTo>
                      <a:pt x="107" y="120"/>
                      <a:pt x="107" y="120"/>
                      <a:pt x="107" y="120"/>
                    </a:cubicBezTo>
                    <a:cubicBezTo>
                      <a:pt x="104" y="120"/>
                      <a:pt x="97" y="120"/>
                      <a:pt x="86" y="120"/>
                    </a:cubicBezTo>
                    <a:cubicBezTo>
                      <a:pt x="88" y="106"/>
                      <a:pt x="89" y="89"/>
                      <a:pt x="89" y="71"/>
                    </a:cubicBezTo>
                    <a:cubicBezTo>
                      <a:pt x="41" y="71"/>
                      <a:pt x="41" y="71"/>
                      <a:pt x="41" y="71"/>
                    </a:cubicBezTo>
                    <a:cubicBezTo>
                      <a:pt x="40" y="120"/>
                      <a:pt x="40" y="120"/>
                      <a:pt x="40" y="120"/>
                    </a:cubicBezTo>
                    <a:cubicBezTo>
                      <a:pt x="19" y="120"/>
                      <a:pt x="19" y="120"/>
                      <a:pt x="19" y="120"/>
                    </a:cubicBezTo>
                    <a:cubicBezTo>
                      <a:pt x="17" y="120"/>
                      <a:pt x="10" y="120"/>
                      <a:pt x="0" y="12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Freeform 11"/>
              <p:cNvSpPr/>
              <p:nvPr/>
            </p:nvSpPr>
            <p:spPr>
              <a:xfrm>
                <a:off x="4161960" y="2575800"/>
                <a:ext cx="460440" cy="396720"/>
              </a:xfrm>
              <a:custGeom>
                <a:avLst/>
                <a:gdLst>
                  <a:gd name="textAreaLeft" fmla="*/ 0 w 460440"/>
                  <a:gd name="textAreaRight" fmla="*/ 460800 w 460440"/>
                  <a:gd name="textAreaTop" fmla="*/ 0 h 396720"/>
                  <a:gd name="textAreaBottom" fmla="*/ 397080 h 396720"/>
                </a:gdLst>
                <a:ahLst/>
                <a:rect l="textAreaLeft" t="textAreaTop" r="textAreaRight" b="textAreaBottom"/>
                <a:pathLst>
                  <a:path w="145" h="125">
                    <a:moveTo>
                      <a:pt x="75" y="0"/>
                    </a:moveTo>
                    <a:cubicBezTo>
                      <a:pt x="85" y="0"/>
                      <a:pt x="94" y="2"/>
                      <a:pt x="102" y="4"/>
                    </a:cubicBezTo>
                    <a:cubicBezTo>
                      <a:pt x="111" y="7"/>
                      <a:pt x="119" y="11"/>
                      <a:pt x="125" y="16"/>
                    </a:cubicBezTo>
                    <a:cubicBezTo>
                      <a:pt x="132" y="22"/>
                      <a:pt x="137" y="28"/>
                      <a:pt x="140" y="35"/>
                    </a:cubicBezTo>
                    <a:cubicBezTo>
                      <a:pt x="143" y="43"/>
                      <a:pt x="145" y="51"/>
                      <a:pt x="145" y="60"/>
                    </a:cubicBezTo>
                    <a:cubicBezTo>
                      <a:pt x="145" y="70"/>
                      <a:pt x="143" y="79"/>
                      <a:pt x="139" y="87"/>
                    </a:cubicBezTo>
                    <a:cubicBezTo>
                      <a:pt x="136" y="96"/>
                      <a:pt x="131" y="103"/>
                      <a:pt x="124" y="108"/>
                    </a:cubicBezTo>
                    <a:cubicBezTo>
                      <a:pt x="117" y="114"/>
                      <a:pt x="109" y="118"/>
                      <a:pt x="100" y="121"/>
                    </a:cubicBezTo>
                    <a:cubicBezTo>
                      <a:pt x="91" y="124"/>
                      <a:pt x="81" y="125"/>
                      <a:pt x="71" y="125"/>
                    </a:cubicBezTo>
                    <a:cubicBezTo>
                      <a:pt x="61" y="125"/>
                      <a:pt x="52" y="124"/>
                      <a:pt x="43" y="121"/>
                    </a:cubicBezTo>
                    <a:cubicBezTo>
                      <a:pt x="34" y="118"/>
                      <a:pt x="26" y="114"/>
                      <a:pt x="19" y="108"/>
                    </a:cubicBezTo>
                    <a:cubicBezTo>
                      <a:pt x="12" y="103"/>
                      <a:pt x="7" y="96"/>
                      <a:pt x="5" y="89"/>
                    </a:cubicBezTo>
                    <a:cubicBezTo>
                      <a:pt x="2" y="82"/>
                      <a:pt x="0" y="74"/>
                      <a:pt x="0" y="65"/>
                    </a:cubicBezTo>
                    <a:cubicBezTo>
                      <a:pt x="0" y="52"/>
                      <a:pt x="3" y="41"/>
                      <a:pt x="9" y="31"/>
                    </a:cubicBezTo>
                    <a:cubicBezTo>
                      <a:pt x="15" y="22"/>
                      <a:pt x="24" y="14"/>
                      <a:pt x="36" y="8"/>
                    </a:cubicBezTo>
                    <a:cubicBezTo>
                      <a:pt x="47" y="3"/>
                      <a:pt x="61" y="0"/>
                      <a:pt x="75" y="0"/>
                    </a:cubicBezTo>
                    <a:close/>
                    <a:moveTo>
                      <a:pt x="74" y="27"/>
                    </a:moveTo>
                    <a:cubicBezTo>
                      <a:pt x="67" y="27"/>
                      <a:pt x="61" y="28"/>
                      <a:pt x="55" y="32"/>
                    </a:cubicBezTo>
                    <a:cubicBezTo>
                      <a:pt x="50" y="35"/>
                      <a:pt x="46" y="40"/>
                      <a:pt x="43" y="46"/>
                    </a:cubicBezTo>
                    <a:cubicBezTo>
                      <a:pt x="40" y="51"/>
                      <a:pt x="38" y="58"/>
                      <a:pt x="38" y="65"/>
                    </a:cubicBezTo>
                    <a:cubicBezTo>
                      <a:pt x="38" y="71"/>
                      <a:pt x="40" y="76"/>
                      <a:pt x="42" y="82"/>
                    </a:cubicBezTo>
                    <a:cubicBezTo>
                      <a:pt x="45" y="87"/>
                      <a:pt x="49" y="91"/>
                      <a:pt x="55" y="94"/>
                    </a:cubicBezTo>
                    <a:cubicBezTo>
                      <a:pt x="60" y="97"/>
                      <a:pt x="66" y="98"/>
                      <a:pt x="72" y="98"/>
                    </a:cubicBezTo>
                    <a:cubicBezTo>
                      <a:pt x="79" y="98"/>
                      <a:pt x="84" y="96"/>
                      <a:pt x="90" y="93"/>
                    </a:cubicBezTo>
                    <a:cubicBezTo>
                      <a:pt x="95" y="90"/>
                      <a:pt x="99" y="85"/>
                      <a:pt x="102" y="79"/>
                    </a:cubicBezTo>
                    <a:cubicBezTo>
                      <a:pt x="105" y="74"/>
                      <a:pt x="107" y="67"/>
                      <a:pt x="107" y="61"/>
                    </a:cubicBezTo>
                    <a:cubicBezTo>
                      <a:pt x="107" y="55"/>
                      <a:pt x="105" y="49"/>
                      <a:pt x="103" y="44"/>
                    </a:cubicBezTo>
                    <a:cubicBezTo>
                      <a:pt x="100" y="38"/>
                      <a:pt x="96" y="34"/>
                      <a:pt x="91" y="31"/>
                    </a:cubicBezTo>
                    <a:cubicBezTo>
                      <a:pt x="86" y="28"/>
                      <a:pt x="80" y="27"/>
                      <a:pt x="74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Freeform 12"/>
              <p:cNvSpPr/>
              <p:nvPr/>
            </p:nvSpPr>
            <p:spPr>
              <a:xfrm>
                <a:off x="4657320" y="2575800"/>
                <a:ext cx="460440" cy="396720"/>
              </a:xfrm>
              <a:custGeom>
                <a:avLst/>
                <a:gdLst>
                  <a:gd name="textAreaLeft" fmla="*/ 0 w 460440"/>
                  <a:gd name="textAreaRight" fmla="*/ 460800 w 460440"/>
                  <a:gd name="textAreaTop" fmla="*/ 0 h 396720"/>
                  <a:gd name="textAreaBottom" fmla="*/ 397080 h 396720"/>
                </a:gdLst>
                <a:ahLst/>
                <a:rect l="textAreaLeft" t="textAreaTop" r="textAreaRight" b="textAreaBottom"/>
                <a:pathLst>
                  <a:path w="145" h="125">
                    <a:moveTo>
                      <a:pt x="75" y="0"/>
                    </a:moveTo>
                    <a:cubicBezTo>
                      <a:pt x="85" y="0"/>
                      <a:pt x="94" y="2"/>
                      <a:pt x="103" y="4"/>
                    </a:cubicBezTo>
                    <a:cubicBezTo>
                      <a:pt x="111" y="7"/>
                      <a:pt x="119" y="11"/>
                      <a:pt x="125" y="16"/>
                    </a:cubicBezTo>
                    <a:cubicBezTo>
                      <a:pt x="132" y="22"/>
                      <a:pt x="137" y="28"/>
                      <a:pt x="140" y="35"/>
                    </a:cubicBezTo>
                    <a:cubicBezTo>
                      <a:pt x="143" y="43"/>
                      <a:pt x="145" y="51"/>
                      <a:pt x="145" y="60"/>
                    </a:cubicBezTo>
                    <a:cubicBezTo>
                      <a:pt x="145" y="70"/>
                      <a:pt x="143" y="79"/>
                      <a:pt x="139" y="87"/>
                    </a:cubicBezTo>
                    <a:cubicBezTo>
                      <a:pt x="136" y="96"/>
                      <a:pt x="131" y="103"/>
                      <a:pt x="124" y="108"/>
                    </a:cubicBezTo>
                    <a:cubicBezTo>
                      <a:pt x="117" y="114"/>
                      <a:pt x="109" y="118"/>
                      <a:pt x="100" y="121"/>
                    </a:cubicBezTo>
                    <a:cubicBezTo>
                      <a:pt x="91" y="124"/>
                      <a:pt x="81" y="125"/>
                      <a:pt x="71" y="125"/>
                    </a:cubicBezTo>
                    <a:cubicBezTo>
                      <a:pt x="61" y="125"/>
                      <a:pt x="52" y="124"/>
                      <a:pt x="43" y="121"/>
                    </a:cubicBezTo>
                    <a:cubicBezTo>
                      <a:pt x="34" y="118"/>
                      <a:pt x="26" y="114"/>
                      <a:pt x="19" y="108"/>
                    </a:cubicBezTo>
                    <a:cubicBezTo>
                      <a:pt x="12" y="103"/>
                      <a:pt x="8" y="96"/>
                      <a:pt x="5" y="89"/>
                    </a:cubicBezTo>
                    <a:cubicBezTo>
                      <a:pt x="2" y="82"/>
                      <a:pt x="0" y="74"/>
                      <a:pt x="0" y="65"/>
                    </a:cubicBezTo>
                    <a:cubicBezTo>
                      <a:pt x="0" y="52"/>
                      <a:pt x="3" y="41"/>
                      <a:pt x="9" y="31"/>
                    </a:cubicBezTo>
                    <a:cubicBezTo>
                      <a:pt x="15" y="22"/>
                      <a:pt x="24" y="14"/>
                      <a:pt x="36" y="8"/>
                    </a:cubicBezTo>
                    <a:cubicBezTo>
                      <a:pt x="48" y="3"/>
                      <a:pt x="61" y="0"/>
                      <a:pt x="75" y="0"/>
                    </a:cubicBezTo>
                    <a:close/>
                    <a:moveTo>
                      <a:pt x="74" y="27"/>
                    </a:moveTo>
                    <a:cubicBezTo>
                      <a:pt x="67" y="27"/>
                      <a:pt x="61" y="28"/>
                      <a:pt x="56" y="32"/>
                    </a:cubicBezTo>
                    <a:cubicBezTo>
                      <a:pt x="50" y="35"/>
                      <a:pt x="46" y="40"/>
                      <a:pt x="43" y="46"/>
                    </a:cubicBezTo>
                    <a:cubicBezTo>
                      <a:pt x="40" y="51"/>
                      <a:pt x="39" y="58"/>
                      <a:pt x="39" y="65"/>
                    </a:cubicBezTo>
                    <a:cubicBezTo>
                      <a:pt x="39" y="71"/>
                      <a:pt x="40" y="76"/>
                      <a:pt x="43" y="82"/>
                    </a:cubicBezTo>
                    <a:cubicBezTo>
                      <a:pt x="45" y="87"/>
                      <a:pt x="49" y="91"/>
                      <a:pt x="55" y="94"/>
                    </a:cubicBezTo>
                    <a:cubicBezTo>
                      <a:pt x="60" y="97"/>
                      <a:pt x="66" y="98"/>
                      <a:pt x="72" y="98"/>
                    </a:cubicBezTo>
                    <a:cubicBezTo>
                      <a:pt x="79" y="98"/>
                      <a:pt x="85" y="96"/>
                      <a:pt x="90" y="93"/>
                    </a:cubicBezTo>
                    <a:cubicBezTo>
                      <a:pt x="95" y="90"/>
                      <a:pt x="100" y="85"/>
                      <a:pt x="102" y="79"/>
                    </a:cubicBezTo>
                    <a:cubicBezTo>
                      <a:pt x="105" y="74"/>
                      <a:pt x="107" y="67"/>
                      <a:pt x="107" y="61"/>
                    </a:cubicBezTo>
                    <a:cubicBezTo>
                      <a:pt x="107" y="55"/>
                      <a:pt x="105" y="49"/>
                      <a:pt x="103" y="44"/>
                    </a:cubicBezTo>
                    <a:cubicBezTo>
                      <a:pt x="100" y="38"/>
                      <a:pt x="96" y="34"/>
                      <a:pt x="91" y="31"/>
                    </a:cubicBezTo>
                    <a:cubicBezTo>
                      <a:pt x="86" y="28"/>
                      <a:pt x="80" y="27"/>
                      <a:pt x="74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TextBox 93"/>
              <p:cNvSpPr/>
              <p:nvPr/>
            </p:nvSpPr>
            <p:spPr>
              <a:xfrm>
                <a:off x="3431160" y="3043800"/>
                <a:ext cx="1194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 DESIG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1" dur="1500" fill="hold"/>
                                        <p:tgtEl>
                                          <p:spTgt spid="87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02" nodeType="withEffect" fill="hold" presetClass="exit" presetID="10">
                                  <p:stCondLst>
                                    <p:cond delay="1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" dur="1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2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700"/>
                            </p:stCondLst>
                            <p:childTnLst>
                              <p:par>
                                <p:cTn id="160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3.20988E-006 L -1.38889E-006 -0.12902 E">
                                      <p:cBhvr>
                                        <p:cTn id="161" dur="1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4.07407E-006 L -3.61111E-006 -0.20926 E">
                                      <p:cBhvr>
                                        <p:cTn id="163" dur="1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4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7.40741E-007 L -3.61111E-006 -0.25926 E">
                                      <p:cBhvr>
                                        <p:cTn id="165" dur="1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6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9.87654E-007 L -2.5E-006 -0.29259 E">
                                      <p:cBhvr>
                                        <p:cTn id="167" dur="1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8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2.83951E-006 L 1.94444E-006 -0.30555 E">
                                      <p:cBhvr>
                                        <p:cTn id="169" dur="1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0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3.33333E-006 L 3.88889E-006 -0.29074 E">
                                      <p:cBhvr>
                                        <p:cTn id="171" dur="1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7.40741E-007 L -2.22222E-006 -0.25926 E">
                                      <p:cBhvr>
                                        <p:cTn id="173" dur="1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4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3.08642E-006 L 8.33333E-007 -0.20741 E">
                                      <p:cBhvr>
                                        <p:cTn id="175" dur="1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6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2.46914E-007 L -4.16667E-006 -0.14074 E">
                                      <p:cBhvr>
                                        <p:cTn id="177" dur="1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4.93827E-007 L -4.72222E-006 0.12222 E">
                                      <p:cBhvr>
                                        <p:cTn id="179" dur="1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0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3.82716E-006 L 3.61111E-006 0.21667 E">
                                      <p:cBhvr>
                                        <p:cTn id="181" dur="1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2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3.45679E-006 L 8.33333E-007 0.29444 E">
                                      <p:cBhvr>
                                        <p:cTn id="183" dur="1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4.19753E-006 L 2.22222E-006 0.32408 E">
                                      <p:cBhvr>
                                        <p:cTn id="185" dur="1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4.81481E-006 L -4.72222E-006 0.31296 E">
                                      <p:cBhvr>
                                        <p:cTn id="187" dur="1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1.85185E-006 L -3.88889E-006 0.27592 E">
                                      <p:cBhvr>
                                        <p:cTn id="189" dur="1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0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3.20988E-006 L 1.38889E-006 0.19815 E">
                                      <p:cBhvr>
                                        <p:cTn id="191" dur="1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2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8.64198E-007 L 0 0.10185 E">
                                      <p:cBhvr>
                                        <p:cTn id="193" dur="1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800"/>
                            </p:stCondLst>
                            <p:childTnLst>
                              <p:par>
                                <p:cTn id="1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2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2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矩形 27"/>
          <p:cNvSpPr/>
          <p:nvPr/>
        </p:nvSpPr>
        <p:spPr>
          <a:xfrm>
            <a:off x="0" y="5143680"/>
            <a:ext cx="9144000" cy="5143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fbf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reeform 6"/>
          <p:cNvSpPr/>
          <p:nvPr/>
        </p:nvSpPr>
        <p:spPr>
          <a:xfrm>
            <a:off x="1986120" y="5143680"/>
            <a:ext cx="5171760" cy="2571480"/>
          </a:xfrm>
          <a:custGeom>
            <a:avLst/>
            <a:gdLst>
              <a:gd name="textAreaLeft" fmla="*/ 0 w 5171760"/>
              <a:gd name="textAreaRight" fmla="*/ 5172120 w 5171760"/>
              <a:gd name="textAreaTop" fmla="*/ 0 h 2571480"/>
              <a:gd name="textAreaBottom" fmla="*/ 2571840 h 2571480"/>
            </a:gdLst>
            <a:ahLst/>
            <a:rect l="textAreaLeft" t="textAreaTop" r="textAreaRight" b="textAreaBottom"/>
            <a:pathLst>
              <a:path w="1408" h="700">
                <a:moveTo>
                  <a:pt x="1124" y="700"/>
                </a:moveTo>
                <a:cubicBezTo>
                  <a:pt x="1269" y="568"/>
                  <a:pt x="1269" y="568"/>
                  <a:pt x="1269" y="568"/>
                </a:cubicBezTo>
                <a:cubicBezTo>
                  <a:pt x="1352" y="568"/>
                  <a:pt x="1352" y="568"/>
                  <a:pt x="1352" y="568"/>
                </a:cubicBezTo>
                <a:cubicBezTo>
                  <a:pt x="1383" y="568"/>
                  <a:pt x="1408" y="545"/>
                  <a:pt x="1408" y="517"/>
                </a:cubicBezTo>
                <a:cubicBezTo>
                  <a:pt x="1408" y="51"/>
                  <a:pt x="1408" y="51"/>
                  <a:pt x="1408" y="51"/>
                </a:cubicBezTo>
                <a:cubicBezTo>
                  <a:pt x="1408" y="23"/>
                  <a:pt x="1383" y="0"/>
                  <a:pt x="1352" y="0"/>
                </a:cubicBezTo>
                <a:cubicBezTo>
                  <a:pt x="56" y="0"/>
                  <a:pt x="56" y="0"/>
                  <a:pt x="56" y="0"/>
                </a:cubicBezTo>
                <a:cubicBezTo>
                  <a:pt x="26" y="0"/>
                  <a:pt x="0" y="23"/>
                  <a:pt x="0" y="51"/>
                </a:cubicBezTo>
                <a:cubicBezTo>
                  <a:pt x="0" y="517"/>
                  <a:pt x="0" y="517"/>
                  <a:pt x="0" y="517"/>
                </a:cubicBezTo>
                <a:cubicBezTo>
                  <a:pt x="0" y="545"/>
                  <a:pt x="26" y="568"/>
                  <a:pt x="56" y="568"/>
                </a:cubicBezTo>
                <a:cubicBezTo>
                  <a:pt x="1124" y="568"/>
                  <a:pt x="1124" y="568"/>
                  <a:pt x="1124" y="568"/>
                </a:cubicBezTo>
                <a:lnTo>
                  <a:pt x="1124" y="700"/>
                </a:lnTo>
                <a:close/>
              </a:path>
            </a:pathLst>
          </a:custGeom>
          <a:solidFill>
            <a:srgbClr val="d9d9d9"/>
          </a:solidFill>
          <a:ln w="47520">
            <a:solidFill>
              <a:srgbClr val="ffffff"/>
            </a:solidFill>
            <a:round/>
          </a:ln>
          <a:effectLst>
            <a:outerShdw dist="38183" dir="27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reeform 17"/>
          <p:cNvSpPr/>
          <p:nvPr/>
        </p:nvSpPr>
        <p:spPr>
          <a:xfrm rot="180000">
            <a:off x="2963520" y="-2630160"/>
            <a:ext cx="923760" cy="5688000"/>
          </a:xfrm>
          <a:custGeom>
            <a:avLst/>
            <a:gdLst>
              <a:gd name="textAreaLeft" fmla="*/ 0 w 923760"/>
              <a:gd name="textAreaRight" fmla="*/ 924120 w 923760"/>
              <a:gd name="textAreaTop" fmla="*/ 0 h 5688000"/>
              <a:gd name="textAreaBottom" fmla="*/ 5688360 h 5688000"/>
            </a:gdLst>
            <a:ahLst/>
            <a:rect l="textAreaLeft" t="textAreaTop" r="textAreaRight" b="textAreaBottom"/>
            <a:pathLst>
              <a:path w="291" h="1792">
                <a:moveTo>
                  <a:pt x="86" y="88"/>
                </a:moveTo>
                <a:cubicBezTo>
                  <a:pt x="86" y="88"/>
                  <a:pt x="0" y="592"/>
                  <a:pt x="46" y="944"/>
                </a:cubicBezTo>
                <a:cubicBezTo>
                  <a:pt x="92" y="1296"/>
                  <a:pt x="127" y="1608"/>
                  <a:pt x="127" y="1608"/>
                </a:cubicBezTo>
                <a:cubicBezTo>
                  <a:pt x="127" y="1608"/>
                  <a:pt x="291" y="1792"/>
                  <a:pt x="236" y="1408"/>
                </a:cubicBezTo>
                <a:cubicBezTo>
                  <a:pt x="180" y="1024"/>
                  <a:pt x="148" y="688"/>
                  <a:pt x="148" y="688"/>
                </a:cubicBezTo>
                <a:cubicBezTo>
                  <a:pt x="200" y="0"/>
                  <a:pt x="200" y="0"/>
                  <a:pt x="200" y="0"/>
                </a:cubicBezTo>
                <a:lnTo>
                  <a:pt x="86" y="88"/>
                </a:lnTo>
                <a:close/>
              </a:path>
            </a:pathLst>
          </a:custGeom>
          <a:solidFill>
            <a:srgbClr val="ff00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reeform 18"/>
          <p:cNvSpPr/>
          <p:nvPr/>
        </p:nvSpPr>
        <p:spPr>
          <a:xfrm>
            <a:off x="3624120" y="-2519280"/>
            <a:ext cx="831960" cy="5688000"/>
          </a:xfrm>
          <a:custGeom>
            <a:avLst/>
            <a:gdLst>
              <a:gd name="textAreaLeft" fmla="*/ 0 w 831960"/>
              <a:gd name="textAreaRight" fmla="*/ 832320 w 831960"/>
              <a:gd name="textAreaTop" fmla="*/ 0 h 5688000"/>
              <a:gd name="textAreaBottom" fmla="*/ 5688360 h 5688000"/>
            </a:gdLst>
            <a:ahLst/>
            <a:rect l="textAreaLeft" t="textAreaTop" r="textAreaRight" b="textAreaBottom"/>
            <a:pathLst>
              <a:path w="262" h="1792">
                <a:moveTo>
                  <a:pt x="185" y="88"/>
                </a:moveTo>
                <a:cubicBezTo>
                  <a:pt x="185" y="88"/>
                  <a:pt x="262" y="592"/>
                  <a:pt x="221" y="944"/>
                </a:cubicBezTo>
                <a:cubicBezTo>
                  <a:pt x="180" y="1296"/>
                  <a:pt x="148" y="1608"/>
                  <a:pt x="148" y="1608"/>
                </a:cubicBezTo>
                <a:cubicBezTo>
                  <a:pt x="148" y="1608"/>
                  <a:pt x="0" y="1792"/>
                  <a:pt x="50" y="1408"/>
                </a:cubicBezTo>
                <a:cubicBezTo>
                  <a:pt x="100" y="1024"/>
                  <a:pt x="129" y="688"/>
                  <a:pt x="129" y="688"/>
                </a:cubicBezTo>
                <a:cubicBezTo>
                  <a:pt x="82" y="0"/>
                  <a:pt x="82" y="0"/>
                  <a:pt x="82" y="0"/>
                </a:cubicBezTo>
                <a:lnTo>
                  <a:pt x="185" y="88"/>
                </a:lnTo>
                <a:close/>
              </a:path>
            </a:pathLst>
          </a:custGeom>
          <a:solidFill>
            <a:srgbClr val="ff00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Freeform 19"/>
          <p:cNvSpPr/>
          <p:nvPr/>
        </p:nvSpPr>
        <p:spPr>
          <a:xfrm>
            <a:off x="4268880" y="-2544840"/>
            <a:ext cx="831600" cy="5688000"/>
          </a:xfrm>
          <a:custGeom>
            <a:avLst/>
            <a:gdLst>
              <a:gd name="textAreaLeft" fmla="*/ 0 w 831600"/>
              <a:gd name="textAreaRight" fmla="*/ 831960 w 831600"/>
              <a:gd name="textAreaTop" fmla="*/ 0 h 5688000"/>
              <a:gd name="textAreaBottom" fmla="*/ 5688360 h 5688000"/>
            </a:gdLst>
            <a:ahLst/>
            <a:rect l="textAreaLeft" t="textAreaTop" r="textAreaRight" b="textAreaBottom"/>
            <a:pathLst>
              <a:path w="262" h="1792">
                <a:moveTo>
                  <a:pt x="185" y="88"/>
                </a:moveTo>
                <a:cubicBezTo>
                  <a:pt x="185" y="88"/>
                  <a:pt x="262" y="592"/>
                  <a:pt x="221" y="944"/>
                </a:cubicBezTo>
                <a:cubicBezTo>
                  <a:pt x="180" y="1296"/>
                  <a:pt x="148" y="1608"/>
                  <a:pt x="148" y="1608"/>
                </a:cubicBezTo>
                <a:cubicBezTo>
                  <a:pt x="148" y="1608"/>
                  <a:pt x="0" y="1792"/>
                  <a:pt x="50" y="1408"/>
                </a:cubicBezTo>
                <a:cubicBezTo>
                  <a:pt x="100" y="1024"/>
                  <a:pt x="129" y="688"/>
                  <a:pt x="129" y="688"/>
                </a:cubicBezTo>
                <a:cubicBezTo>
                  <a:pt x="82" y="0"/>
                  <a:pt x="82" y="0"/>
                  <a:pt x="82" y="0"/>
                </a:cubicBezTo>
                <a:lnTo>
                  <a:pt x="185" y="88"/>
                </a:lnTo>
                <a:close/>
              </a:path>
            </a:pathLst>
          </a:custGeom>
          <a:solidFill>
            <a:srgbClr val="ff00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24"/>
          <p:cNvSpPr/>
          <p:nvPr/>
        </p:nvSpPr>
        <p:spPr>
          <a:xfrm>
            <a:off x="0" y="0"/>
            <a:ext cx="9144000" cy="184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1407960" y="-312840"/>
            <a:ext cx="6162840" cy="6256440"/>
            <a:chOff x="1407960" y="-312840"/>
            <a:chExt cx="6162840" cy="6256440"/>
          </a:xfrm>
        </p:grpSpPr>
        <p:sp>
          <p:nvSpPr>
            <p:cNvPr id="123" name="Freeform 6"/>
            <p:cNvSpPr/>
            <p:nvPr/>
          </p:nvSpPr>
          <p:spPr>
            <a:xfrm>
              <a:off x="1407960" y="-312840"/>
              <a:ext cx="6162840" cy="6256440"/>
            </a:xfrm>
            <a:custGeom>
              <a:avLst/>
              <a:gdLst>
                <a:gd name="textAreaLeft" fmla="*/ 0 w 6162840"/>
                <a:gd name="textAreaRight" fmla="*/ 6163200 w 6162840"/>
                <a:gd name="textAreaTop" fmla="*/ 0 h 6256440"/>
                <a:gd name="textAreaBottom" fmla="*/ 6256800 h 6256440"/>
              </a:gdLst>
              <a:ahLst/>
              <a:rect l="textAreaLeft" t="textAreaTop" r="textAreaRight" b="textAreaBottom"/>
              <a:pathLst>
                <a:path w="1941" h="1971">
                  <a:moveTo>
                    <a:pt x="987" y="407"/>
                  </a:moveTo>
                  <a:cubicBezTo>
                    <a:pt x="985" y="405"/>
                    <a:pt x="982" y="405"/>
                    <a:pt x="982" y="403"/>
                  </a:cubicBezTo>
                  <a:cubicBezTo>
                    <a:pt x="984" y="402"/>
                    <a:pt x="985" y="400"/>
                    <a:pt x="985" y="397"/>
                  </a:cubicBezTo>
                  <a:cubicBezTo>
                    <a:pt x="970" y="368"/>
                    <a:pt x="921" y="387"/>
                    <a:pt x="939" y="419"/>
                  </a:cubicBezTo>
                  <a:cubicBezTo>
                    <a:pt x="946" y="419"/>
                    <a:pt x="945" y="424"/>
                    <a:pt x="946" y="428"/>
                  </a:cubicBezTo>
                  <a:cubicBezTo>
                    <a:pt x="952" y="423"/>
                    <a:pt x="959" y="429"/>
                    <a:pt x="966" y="432"/>
                  </a:cubicBezTo>
                  <a:cubicBezTo>
                    <a:pt x="966" y="427"/>
                    <a:pt x="970" y="427"/>
                    <a:pt x="974" y="428"/>
                  </a:cubicBezTo>
                  <a:cubicBezTo>
                    <a:pt x="973" y="418"/>
                    <a:pt x="980" y="422"/>
                    <a:pt x="983" y="419"/>
                  </a:cubicBezTo>
                  <a:cubicBezTo>
                    <a:pt x="979" y="414"/>
                    <a:pt x="983" y="409"/>
                    <a:pt x="987" y="407"/>
                  </a:cubicBezTo>
                  <a:close/>
                  <a:moveTo>
                    <a:pt x="999" y="276"/>
                  </a:moveTo>
                  <a:cubicBezTo>
                    <a:pt x="1001" y="275"/>
                    <a:pt x="1001" y="271"/>
                    <a:pt x="1001" y="268"/>
                  </a:cubicBezTo>
                  <a:cubicBezTo>
                    <a:pt x="998" y="266"/>
                    <a:pt x="996" y="267"/>
                    <a:pt x="993" y="268"/>
                  </a:cubicBezTo>
                  <a:cubicBezTo>
                    <a:pt x="991" y="274"/>
                    <a:pt x="993" y="276"/>
                    <a:pt x="999" y="276"/>
                  </a:cubicBezTo>
                  <a:close/>
                  <a:moveTo>
                    <a:pt x="908" y="286"/>
                  </a:moveTo>
                  <a:cubicBezTo>
                    <a:pt x="908" y="291"/>
                    <a:pt x="916" y="290"/>
                    <a:pt x="916" y="295"/>
                  </a:cubicBezTo>
                  <a:cubicBezTo>
                    <a:pt x="916" y="299"/>
                    <a:pt x="914" y="300"/>
                    <a:pt x="910" y="299"/>
                  </a:cubicBezTo>
                  <a:cubicBezTo>
                    <a:pt x="909" y="303"/>
                    <a:pt x="914" y="301"/>
                    <a:pt x="912" y="305"/>
                  </a:cubicBezTo>
                  <a:cubicBezTo>
                    <a:pt x="906" y="307"/>
                    <a:pt x="902" y="315"/>
                    <a:pt x="895" y="312"/>
                  </a:cubicBezTo>
                  <a:cubicBezTo>
                    <a:pt x="896" y="318"/>
                    <a:pt x="891" y="318"/>
                    <a:pt x="890" y="322"/>
                  </a:cubicBezTo>
                  <a:cubicBezTo>
                    <a:pt x="892" y="333"/>
                    <a:pt x="896" y="341"/>
                    <a:pt x="902" y="353"/>
                  </a:cubicBezTo>
                  <a:cubicBezTo>
                    <a:pt x="913" y="354"/>
                    <a:pt x="918" y="355"/>
                    <a:pt x="926" y="359"/>
                  </a:cubicBezTo>
                  <a:cubicBezTo>
                    <a:pt x="928" y="350"/>
                    <a:pt x="938" y="356"/>
                    <a:pt x="945" y="356"/>
                  </a:cubicBezTo>
                  <a:cubicBezTo>
                    <a:pt x="944" y="347"/>
                    <a:pt x="947" y="343"/>
                    <a:pt x="953" y="339"/>
                  </a:cubicBezTo>
                  <a:cubicBezTo>
                    <a:pt x="950" y="337"/>
                    <a:pt x="946" y="336"/>
                    <a:pt x="946" y="332"/>
                  </a:cubicBezTo>
                  <a:cubicBezTo>
                    <a:pt x="947" y="330"/>
                    <a:pt x="950" y="329"/>
                    <a:pt x="949" y="325"/>
                  </a:cubicBezTo>
                  <a:cubicBezTo>
                    <a:pt x="942" y="321"/>
                    <a:pt x="938" y="315"/>
                    <a:pt x="934" y="309"/>
                  </a:cubicBezTo>
                  <a:cubicBezTo>
                    <a:pt x="937" y="305"/>
                    <a:pt x="941" y="303"/>
                    <a:pt x="947" y="306"/>
                  </a:cubicBezTo>
                  <a:cubicBezTo>
                    <a:pt x="947" y="300"/>
                    <a:pt x="947" y="300"/>
                    <a:pt x="947" y="300"/>
                  </a:cubicBezTo>
                  <a:cubicBezTo>
                    <a:pt x="943" y="300"/>
                    <a:pt x="939" y="302"/>
                    <a:pt x="938" y="298"/>
                  </a:cubicBezTo>
                  <a:cubicBezTo>
                    <a:pt x="943" y="295"/>
                    <a:pt x="947" y="290"/>
                    <a:pt x="955" y="289"/>
                  </a:cubicBezTo>
                  <a:cubicBezTo>
                    <a:pt x="956" y="293"/>
                    <a:pt x="955" y="300"/>
                    <a:pt x="961" y="300"/>
                  </a:cubicBezTo>
                  <a:cubicBezTo>
                    <a:pt x="962" y="295"/>
                    <a:pt x="967" y="293"/>
                    <a:pt x="969" y="288"/>
                  </a:cubicBezTo>
                  <a:cubicBezTo>
                    <a:pt x="973" y="260"/>
                    <a:pt x="955" y="222"/>
                    <a:pt x="915" y="227"/>
                  </a:cubicBezTo>
                  <a:cubicBezTo>
                    <a:pt x="871" y="233"/>
                    <a:pt x="880" y="258"/>
                    <a:pt x="900" y="290"/>
                  </a:cubicBezTo>
                  <a:cubicBezTo>
                    <a:pt x="905" y="291"/>
                    <a:pt x="904" y="285"/>
                    <a:pt x="908" y="286"/>
                  </a:cubicBezTo>
                  <a:close/>
                  <a:moveTo>
                    <a:pt x="916" y="155"/>
                  </a:moveTo>
                  <a:cubicBezTo>
                    <a:pt x="905" y="157"/>
                    <a:pt x="897" y="191"/>
                    <a:pt x="897" y="200"/>
                  </a:cubicBezTo>
                  <a:cubicBezTo>
                    <a:pt x="899" y="276"/>
                    <a:pt x="955" y="147"/>
                    <a:pt x="916" y="155"/>
                  </a:cubicBezTo>
                  <a:close/>
                  <a:moveTo>
                    <a:pt x="992" y="353"/>
                  </a:moveTo>
                  <a:cubicBezTo>
                    <a:pt x="1004" y="340"/>
                    <a:pt x="974" y="323"/>
                    <a:pt x="972" y="343"/>
                  </a:cubicBezTo>
                  <a:cubicBezTo>
                    <a:pt x="971" y="354"/>
                    <a:pt x="985" y="361"/>
                    <a:pt x="992" y="353"/>
                  </a:cubicBezTo>
                  <a:close/>
                  <a:moveTo>
                    <a:pt x="921" y="454"/>
                  </a:moveTo>
                  <a:cubicBezTo>
                    <a:pt x="930" y="455"/>
                    <a:pt x="928" y="466"/>
                    <a:pt x="938" y="467"/>
                  </a:cubicBezTo>
                  <a:cubicBezTo>
                    <a:pt x="945" y="457"/>
                    <a:pt x="927" y="456"/>
                    <a:pt x="922" y="450"/>
                  </a:cubicBezTo>
                  <a:cubicBezTo>
                    <a:pt x="922" y="452"/>
                    <a:pt x="921" y="452"/>
                    <a:pt x="921" y="454"/>
                  </a:cubicBezTo>
                  <a:close/>
                  <a:moveTo>
                    <a:pt x="953" y="519"/>
                  </a:moveTo>
                  <a:cubicBezTo>
                    <a:pt x="947" y="518"/>
                    <a:pt x="944" y="523"/>
                    <a:pt x="945" y="527"/>
                  </a:cubicBezTo>
                  <a:cubicBezTo>
                    <a:pt x="950" y="544"/>
                    <a:pt x="973" y="519"/>
                    <a:pt x="953" y="519"/>
                  </a:cubicBezTo>
                  <a:close/>
                  <a:moveTo>
                    <a:pt x="971" y="512"/>
                  </a:moveTo>
                  <a:cubicBezTo>
                    <a:pt x="964" y="503"/>
                    <a:pt x="952" y="521"/>
                    <a:pt x="968" y="520"/>
                  </a:cubicBezTo>
                  <a:cubicBezTo>
                    <a:pt x="969" y="518"/>
                    <a:pt x="971" y="517"/>
                    <a:pt x="971" y="512"/>
                  </a:cubicBezTo>
                  <a:close/>
                  <a:moveTo>
                    <a:pt x="936" y="425"/>
                  </a:moveTo>
                  <a:cubicBezTo>
                    <a:pt x="932" y="425"/>
                    <a:pt x="933" y="423"/>
                    <a:pt x="930" y="423"/>
                  </a:cubicBezTo>
                  <a:cubicBezTo>
                    <a:pt x="927" y="424"/>
                    <a:pt x="925" y="429"/>
                    <a:pt x="927" y="432"/>
                  </a:cubicBezTo>
                  <a:cubicBezTo>
                    <a:pt x="933" y="434"/>
                    <a:pt x="936" y="431"/>
                    <a:pt x="936" y="425"/>
                  </a:cubicBezTo>
                  <a:close/>
                  <a:moveTo>
                    <a:pt x="946" y="485"/>
                  </a:moveTo>
                  <a:cubicBezTo>
                    <a:pt x="943" y="483"/>
                    <a:pt x="944" y="479"/>
                    <a:pt x="939" y="479"/>
                  </a:cubicBezTo>
                  <a:cubicBezTo>
                    <a:pt x="931" y="482"/>
                    <a:pt x="942" y="491"/>
                    <a:pt x="946" y="485"/>
                  </a:cubicBezTo>
                  <a:close/>
                  <a:moveTo>
                    <a:pt x="716" y="499"/>
                  </a:moveTo>
                  <a:cubicBezTo>
                    <a:pt x="766" y="491"/>
                    <a:pt x="693" y="429"/>
                    <a:pt x="692" y="477"/>
                  </a:cubicBezTo>
                  <a:cubicBezTo>
                    <a:pt x="691" y="489"/>
                    <a:pt x="701" y="502"/>
                    <a:pt x="716" y="499"/>
                  </a:cubicBezTo>
                  <a:close/>
                  <a:moveTo>
                    <a:pt x="933" y="566"/>
                  </a:moveTo>
                  <a:cubicBezTo>
                    <a:pt x="939" y="585"/>
                    <a:pt x="972" y="579"/>
                    <a:pt x="962" y="555"/>
                  </a:cubicBezTo>
                  <a:cubicBezTo>
                    <a:pt x="992" y="554"/>
                    <a:pt x="960" y="521"/>
                    <a:pt x="953" y="547"/>
                  </a:cubicBezTo>
                  <a:cubicBezTo>
                    <a:pt x="945" y="546"/>
                    <a:pt x="943" y="548"/>
                    <a:pt x="935" y="548"/>
                  </a:cubicBezTo>
                  <a:cubicBezTo>
                    <a:pt x="939" y="526"/>
                    <a:pt x="920" y="522"/>
                    <a:pt x="917" y="505"/>
                  </a:cubicBezTo>
                  <a:cubicBezTo>
                    <a:pt x="918" y="505"/>
                    <a:pt x="918" y="504"/>
                    <a:pt x="920" y="504"/>
                  </a:cubicBezTo>
                  <a:cubicBezTo>
                    <a:pt x="925" y="505"/>
                    <a:pt x="925" y="508"/>
                    <a:pt x="930" y="509"/>
                  </a:cubicBezTo>
                  <a:cubicBezTo>
                    <a:pt x="933" y="507"/>
                    <a:pt x="931" y="504"/>
                    <a:pt x="931" y="501"/>
                  </a:cubicBezTo>
                  <a:cubicBezTo>
                    <a:pt x="929" y="498"/>
                    <a:pt x="927" y="501"/>
                    <a:pt x="923" y="500"/>
                  </a:cubicBezTo>
                  <a:cubicBezTo>
                    <a:pt x="922" y="492"/>
                    <a:pt x="925" y="487"/>
                    <a:pt x="927" y="480"/>
                  </a:cubicBezTo>
                  <a:cubicBezTo>
                    <a:pt x="923" y="477"/>
                    <a:pt x="923" y="474"/>
                    <a:pt x="927" y="471"/>
                  </a:cubicBezTo>
                  <a:cubicBezTo>
                    <a:pt x="907" y="454"/>
                    <a:pt x="885" y="436"/>
                    <a:pt x="861" y="461"/>
                  </a:cubicBezTo>
                  <a:cubicBezTo>
                    <a:pt x="860" y="469"/>
                    <a:pt x="869" y="481"/>
                    <a:pt x="861" y="486"/>
                  </a:cubicBezTo>
                  <a:cubicBezTo>
                    <a:pt x="882" y="517"/>
                    <a:pt x="813" y="525"/>
                    <a:pt x="821" y="570"/>
                  </a:cubicBezTo>
                  <a:cubicBezTo>
                    <a:pt x="862" y="573"/>
                    <a:pt x="898" y="588"/>
                    <a:pt x="933" y="566"/>
                  </a:cubicBezTo>
                  <a:close/>
                  <a:moveTo>
                    <a:pt x="796" y="502"/>
                  </a:moveTo>
                  <a:cubicBezTo>
                    <a:pt x="798" y="498"/>
                    <a:pt x="793" y="498"/>
                    <a:pt x="795" y="493"/>
                  </a:cubicBezTo>
                  <a:cubicBezTo>
                    <a:pt x="799" y="492"/>
                    <a:pt x="799" y="495"/>
                    <a:pt x="803" y="495"/>
                  </a:cubicBezTo>
                  <a:cubicBezTo>
                    <a:pt x="803" y="489"/>
                    <a:pt x="806" y="487"/>
                    <a:pt x="808" y="484"/>
                  </a:cubicBezTo>
                  <a:cubicBezTo>
                    <a:pt x="807" y="481"/>
                    <a:pt x="804" y="478"/>
                    <a:pt x="802" y="476"/>
                  </a:cubicBezTo>
                  <a:cubicBezTo>
                    <a:pt x="802" y="472"/>
                    <a:pt x="807" y="474"/>
                    <a:pt x="806" y="469"/>
                  </a:cubicBezTo>
                  <a:cubicBezTo>
                    <a:pt x="799" y="467"/>
                    <a:pt x="795" y="462"/>
                    <a:pt x="796" y="454"/>
                  </a:cubicBezTo>
                  <a:cubicBezTo>
                    <a:pt x="771" y="430"/>
                    <a:pt x="718" y="451"/>
                    <a:pt x="736" y="485"/>
                  </a:cubicBezTo>
                  <a:cubicBezTo>
                    <a:pt x="750" y="501"/>
                    <a:pt x="771" y="503"/>
                    <a:pt x="796" y="502"/>
                  </a:cubicBezTo>
                  <a:close/>
                  <a:moveTo>
                    <a:pt x="725" y="279"/>
                  </a:moveTo>
                  <a:cubicBezTo>
                    <a:pt x="726" y="276"/>
                    <a:pt x="725" y="274"/>
                    <a:pt x="725" y="273"/>
                  </a:cubicBezTo>
                  <a:cubicBezTo>
                    <a:pt x="720" y="272"/>
                    <a:pt x="718" y="274"/>
                    <a:pt x="718" y="278"/>
                  </a:cubicBezTo>
                  <a:cubicBezTo>
                    <a:pt x="719" y="280"/>
                    <a:pt x="723" y="280"/>
                    <a:pt x="725" y="279"/>
                  </a:cubicBezTo>
                  <a:close/>
                  <a:moveTo>
                    <a:pt x="756" y="259"/>
                  </a:moveTo>
                  <a:cubicBezTo>
                    <a:pt x="756" y="274"/>
                    <a:pt x="761" y="294"/>
                    <a:pt x="771" y="305"/>
                  </a:cubicBezTo>
                  <a:cubicBezTo>
                    <a:pt x="768" y="288"/>
                    <a:pt x="774" y="265"/>
                    <a:pt x="756" y="259"/>
                  </a:cubicBezTo>
                  <a:close/>
                  <a:moveTo>
                    <a:pt x="788" y="438"/>
                  </a:moveTo>
                  <a:cubicBezTo>
                    <a:pt x="806" y="415"/>
                    <a:pt x="757" y="429"/>
                    <a:pt x="788" y="438"/>
                  </a:cubicBezTo>
                  <a:close/>
                  <a:moveTo>
                    <a:pt x="700" y="574"/>
                  </a:moveTo>
                  <a:cubicBezTo>
                    <a:pt x="693" y="573"/>
                    <a:pt x="692" y="576"/>
                    <a:pt x="691" y="581"/>
                  </a:cubicBezTo>
                  <a:cubicBezTo>
                    <a:pt x="697" y="583"/>
                    <a:pt x="699" y="579"/>
                    <a:pt x="700" y="574"/>
                  </a:cubicBezTo>
                  <a:close/>
                  <a:moveTo>
                    <a:pt x="707" y="632"/>
                  </a:moveTo>
                  <a:cubicBezTo>
                    <a:pt x="715" y="630"/>
                    <a:pt x="717" y="636"/>
                    <a:pt x="726" y="636"/>
                  </a:cubicBezTo>
                  <a:cubicBezTo>
                    <a:pt x="727" y="629"/>
                    <a:pt x="737" y="629"/>
                    <a:pt x="737" y="624"/>
                  </a:cubicBezTo>
                  <a:cubicBezTo>
                    <a:pt x="741" y="628"/>
                    <a:pt x="747" y="625"/>
                    <a:pt x="751" y="626"/>
                  </a:cubicBezTo>
                  <a:cubicBezTo>
                    <a:pt x="757" y="620"/>
                    <a:pt x="756" y="610"/>
                    <a:pt x="752" y="604"/>
                  </a:cubicBezTo>
                  <a:cubicBezTo>
                    <a:pt x="743" y="601"/>
                    <a:pt x="731" y="606"/>
                    <a:pt x="731" y="596"/>
                  </a:cubicBezTo>
                  <a:cubicBezTo>
                    <a:pt x="765" y="572"/>
                    <a:pt x="695" y="554"/>
                    <a:pt x="715" y="595"/>
                  </a:cubicBezTo>
                  <a:cubicBezTo>
                    <a:pt x="691" y="595"/>
                    <a:pt x="698" y="621"/>
                    <a:pt x="707" y="632"/>
                  </a:cubicBezTo>
                  <a:close/>
                  <a:moveTo>
                    <a:pt x="803" y="199"/>
                  </a:moveTo>
                  <a:cubicBezTo>
                    <a:pt x="834" y="195"/>
                    <a:pt x="789" y="96"/>
                    <a:pt x="783" y="133"/>
                  </a:cubicBezTo>
                  <a:cubicBezTo>
                    <a:pt x="781" y="149"/>
                    <a:pt x="783" y="202"/>
                    <a:pt x="803" y="199"/>
                  </a:cubicBezTo>
                  <a:close/>
                  <a:moveTo>
                    <a:pt x="1043" y="484"/>
                  </a:moveTo>
                  <a:cubicBezTo>
                    <a:pt x="1051" y="470"/>
                    <a:pt x="1040" y="458"/>
                    <a:pt x="1025" y="462"/>
                  </a:cubicBezTo>
                  <a:cubicBezTo>
                    <a:pt x="1010" y="473"/>
                    <a:pt x="1027" y="492"/>
                    <a:pt x="1043" y="484"/>
                  </a:cubicBezTo>
                  <a:close/>
                  <a:moveTo>
                    <a:pt x="1338" y="589"/>
                  </a:moveTo>
                  <a:cubicBezTo>
                    <a:pt x="1367" y="545"/>
                    <a:pt x="1280" y="570"/>
                    <a:pt x="1338" y="589"/>
                  </a:cubicBezTo>
                  <a:close/>
                  <a:moveTo>
                    <a:pt x="1271" y="249"/>
                  </a:moveTo>
                  <a:cubicBezTo>
                    <a:pt x="1246" y="239"/>
                    <a:pt x="1265" y="274"/>
                    <a:pt x="1271" y="249"/>
                  </a:cubicBezTo>
                  <a:close/>
                  <a:moveTo>
                    <a:pt x="1234" y="369"/>
                  </a:moveTo>
                  <a:cubicBezTo>
                    <a:pt x="1238" y="355"/>
                    <a:pt x="1209" y="355"/>
                    <a:pt x="1215" y="370"/>
                  </a:cubicBezTo>
                  <a:cubicBezTo>
                    <a:pt x="1218" y="376"/>
                    <a:pt x="1231" y="377"/>
                    <a:pt x="1234" y="369"/>
                  </a:cubicBezTo>
                  <a:close/>
                  <a:moveTo>
                    <a:pt x="1219" y="528"/>
                  </a:moveTo>
                  <a:cubicBezTo>
                    <a:pt x="1222" y="564"/>
                    <a:pt x="1253" y="516"/>
                    <a:pt x="1219" y="528"/>
                  </a:cubicBezTo>
                  <a:close/>
                  <a:moveTo>
                    <a:pt x="1245" y="353"/>
                  </a:moveTo>
                  <a:cubicBezTo>
                    <a:pt x="1255" y="329"/>
                    <a:pt x="1218" y="348"/>
                    <a:pt x="1245" y="353"/>
                  </a:cubicBezTo>
                  <a:close/>
                  <a:moveTo>
                    <a:pt x="608" y="413"/>
                  </a:moveTo>
                  <a:cubicBezTo>
                    <a:pt x="637" y="412"/>
                    <a:pt x="594" y="378"/>
                    <a:pt x="599" y="405"/>
                  </a:cubicBezTo>
                  <a:cubicBezTo>
                    <a:pt x="600" y="410"/>
                    <a:pt x="602" y="413"/>
                    <a:pt x="608" y="413"/>
                  </a:cubicBezTo>
                  <a:close/>
                  <a:moveTo>
                    <a:pt x="1036" y="231"/>
                  </a:moveTo>
                  <a:cubicBezTo>
                    <a:pt x="1034" y="229"/>
                    <a:pt x="1034" y="226"/>
                    <a:pt x="1029" y="227"/>
                  </a:cubicBezTo>
                  <a:cubicBezTo>
                    <a:pt x="1029" y="229"/>
                    <a:pt x="1027" y="229"/>
                    <a:pt x="1027" y="231"/>
                  </a:cubicBezTo>
                  <a:cubicBezTo>
                    <a:pt x="1029" y="234"/>
                    <a:pt x="1035" y="235"/>
                    <a:pt x="1036" y="231"/>
                  </a:cubicBezTo>
                  <a:close/>
                  <a:moveTo>
                    <a:pt x="1445" y="189"/>
                  </a:moveTo>
                  <a:cubicBezTo>
                    <a:pt x="1446" y="186"/>
                    <a:pt x="1445" y="184"/>
                    <a:pt x="1444" y="183"/>
                  </a:cubicBezTo>
                  <a:cubicBezTo>
                    <a:pt x="1440" y="182"/>
                    <a:pt x="1438" y="184"/>
                    <a:pt x="1438" y="188"/>
                  </a:cubicBezTo>
                  <a:cubicBezTo>
                    <a:pt x="1439" y="190"/>
                    <a:pt x="1443" y="190"/>
                    <a:pt x="1445" y="189"/>
                  </a:cubicBezTo>
                  <a:close/>
                  <a:moveTo>
                    <a:pt x="1466" y="720"/>
                  </a:moveTo>
                  <a:cubicBezTo>
                    <a:pt x="1461" y="709"/>
                    <a:pt x="1455" y="699"/>
                    <a:pt x="1445" y="691"/>
                  </a:cubicBezTo>
                  <a:cubicBezTo>
                    <a:pt x="1444" y="695"/>
                    <a:pt x="1449" y="696"/>
                    <a:pt x="1445" y="699"/>
                  </a:cubicBezTo>
                  <a:cubicBezTo>
                    <a:pt x="1433" y="683"/>
                    <a:pt x="1402" y="688"/>
                    <a:pt x="1389" y="696"/>
                  </a:cubicBezTo>
                  <a:cubicBezTo>
                    <a:pt x="1388" y="701"/>
                    <a:pt x="1393" y="700"/>
                    <a:pt x="1392" y="704"/>
                  </a:cubicBezTo>
                  <a:cubicBezTo>
                    <a:pt x="1376" y="730"/>
                    <a:pt x="1403" y="750"/>
                    <a:pt x="1426" y="752"/>
                  </a:cubicBezTo>
                  <a:cubicBezTo>
                    <a:pt x="1430" y="747"/>
                    <a:pt x="1435" y="747"/>
                    <a:pt x="1444" y="750"/>
                  </a:cubicBezTo>
                  <a:cubicBezTo>
                    <a:pt x="1445" y="742"/>
                    <a:pt x="1445" y="742"/>
                    <a:pt x="1445" y="742"/>
                  </a:cubicBezTo>
                  <a:cubicBezTo>
                    <a:pt x="1450" y="739"/>
                    <a:pt x="1457" y="740"/>
                    <a:pt x="1463" y="739"/>
                  </a:cubicBezTo>
                  <a:cubicBezTo>
                    <a:pt x="1464" y="733"/>
                    <a:pt x="1458" y="732"/>
                    <a:pt x="1459" y="727"/>
                  </a:cubicBezTo>
                  <a:cubicBezTo>
                    <a:pt x="1460" y="723"/>
                    <a:pt x="1465" y="724"/>
                    <a:pt x="1466" y="720"/>
                  </a:cubicBezTo>
                  <a:close/>
                  <a:moveTo>
                    <a:pt x="1396" y="218"/>
                  </a:moveTo>
                  <a:cubicBezTo>
                    <a:pt x="1361" y="219"/>
                    <a:pt x="1407" y="244"/>
                    <a:pt x="1396" y="218"/>
                  </a:cubicBezTo>
                  <a:close/>
                  <a:moveTo>
                    <a:pt x="1443" y="354"/>
                  </a:moveTo>
                  <a:cubicBezTo>
                    <a:pt x="1457" y="345"/>
                    <a:pt x="1434" y="333"/>
                    <a:pt x="1431" y="348"/>
                  </a:cubicBezTo>
                  <a:cubicBezTo>
                    <a:pt x="1434" y="351"/>
                    <a:pt x="1436" y="354"/>
                    <a:pt x="1443" y="354"/>
                  </a:cubicBezTo>
                  <a:close/>
                  <a:moveTo>
                    <a:pt x="1330" y="618"/>
                  </a:moveTo>
                  <a:cubicBezTo>
                    <a:pt x="1332" y="607"/>
                    <a:pt x="1303" y="604"/>
                    <a:pt x="1308" y="619"/>
                  </a:cubicBezTo>
                  <a:cubicBezTo>
                    <a:pt x="1311" y="629"/>
                    <a:pt x="1329" y="626"/>
                    <a:pt x="1330" y="618"/>
                  </a:cubicBezTo>
                  <a:close/>
                  <a:moveTo>
                    <a:pt x="1133" y="362"/>
                  </a:moveTo>
                  <a:cubicBezTo>
                    <a:pt x="1181" y="381"/>
                    <a:pt x="1123" y="308"/>
                    <a:pt x="1127" y="352"/>
                  </a:cubicBezTo>
                  <a:cubicBezTo>
                    <a:pt x="1128" y="358"/>
                    <a:pt x="1132" y="361"/>
                    <a:pt x="1133" y="362"/>
                  </a:cubicBezTo>
                  <a:close/>
                  <a:moveTo>
                    <a:pt x="1163" y="6"/>
                  </a:moveTo>
                  <a:cubicBezTo>
                    <a:pt x="1117" y="0"/>
                    <a:pt x="1168" y="50"/>
                    <a:pt x="1163" y="6"/>
                  </a:cubicBezTo>
                  <a:close/>
                  <a:moveTo>
                    <a:pt x="1155" y="321"/>
                  </a:moveTo>
                  <a:cubicBezTo>
                    <a:pt x="1154" y="321"/>
                    <a:pt x="1152" y="325"/>
                    <a:pt x="1154" y="330"/>
                  </a:cubicBezTo>
                  <a:cubicBezTo>
                    <a:pt x="1165" y="360"/>
                    <a:pt x="1178" y="300"/>
                    <a:pt x="1155" y="321"/>
                  </a:cubicBezTo>
                  <a:close/>
                  <a:moveTo>
                    <a:pt x="1023" y="650"/>
                  </a:moveTo>
                  <a:cubicBezTo>
                    <a:pt x="1028" y="678"/>
                    <a:pt x="1058" y="634"/>
                    <a:pt x="1030" y="637"/>
                  </a:cubicBezTo>
                  <a:cubicBezTo>
                    <a:pt x="1023" y="637"/>
                    <a:pt x="1021" y="643"/>
                    <a:pt x="1023" y="650"/>
                  </a:cubicBezTo>
                  <a:close/>
                  <a:moveTo>
                    <a:pt x="1182" y="505"/>
                  </a:moveTo>
                  <a:cubicBezTo>
                    <a:pt x="1185" y="487"/>
                    <a:pt x="1161" y="505"/>
                    <a:pt x="1182" y="505"/>
                  </a:cubicBezTo>
                  <a:close/>
                  <a:moveTo>
                    <a:pt x="1179" y="487"/>
                  </a:moveTo>
                  <a:cubicBezTo>
                    <a:pt x="1180" y="485"/>
                    <a:pt x="1182" y="484"/>
                    <a:pt x="1184" y="482"/>
                  </a:cubicBezTo>
                  <a:cubicBezTo>
                    <a:pt x="1178" y="468"/>
                    <a:pt x="1160" y="486"/>
                    <a:pt x="1179" y="487"/>
                  </a:cubicBezTo>
                  <a:close/>
                  <a:moveTo>
                    <a:pt x="1206" y="154"/>
                  </a:moveTo>
                  <a:cubicBezTo>
                    <a:pt x="1197" y="152"/>
                    <a:pt x="1190" y="158"/>
                    <a:pt x="1193" y="166"/>
                  </a:cubicBezTo>
                  <a:cubicBezTo>
                    <a:pt x="1201" y="172"/>
                    <a:pt x="1212" y="161"/>
                    <a:pt x="1206" y="154"/>
                  </a:cubicBezTo>
                  <a:close/>
                  <a:moveTo>
                    <a:pt x="1270" y="190"/>
                  </a:moveTo>
                  <a:cubicBezTo>
                    <a:pt x="1268" y="170"/>
                    <a:pt x="1222" y="170"/>
                    <a:pt x="1229" y="198"/>
                  </a:cubicBezTo>
                  <a:cubicBezTo>
                    <a:pt x="1234" y="221"/>
                    <a:pt x="1272" y="212"/>
                    <a:pt x="1270" y="190"/>
                  </a:cubicBezTo>
                  <a:close/>
                  <a:moveTo>
                    <a:pt x="1262" y="132"/>
                  </a:moveTo>
                  <a:cubicBezTo>
                    <a:pt x="1262" y="122"/>
                    <a:pt x="1237" y="121"/>
                    <a:pt x="1243" y="136"/>
                  </a:cubicBezTo>
                  <a:cubicBezTo>
                    <a:pt x="1247" y="146"/>
                    <a:pt x="1263" y="142"/>
                    <a:pt x="1262" y="132"/>
                  </a:cubicBezTo>
                  <a:close/>
                  <a:moveTo>
                    <a:pt x="640" y="438"/>
                  </a:moveTo>
                  <a:cubicBezTo>
                    <a:pt x="605" y="414"/>
                    <a:pt x="628" y="481"/>
                    <a:pt x="640" y="438"/>
                  </a:cubicBezTo>
                  <a:close/>
                  <a:moveTo>
                    <a:pt x="347" y="724"/>
                  </a:moveTo>
                  <a:cubicBezTo>
                    <a:pt x="359" y="728"/>
                    <a:pt x="363" y="724"/>
                    <a:pt x="371" y="722"/>
                  </a:cubicBezTo>
                  <a:cubicBezTo>
                    <a:pt x="371" y="715"/>
                    <a:pt x="375" y="713"/>
                    <a:pt x="375" y="708"/>
                  </a:cubicBezTo>
                  <a:cubicBezTo>
                    <a:pt x="371" y="705"/>
                    <a:pt x="369" y="700"/>
                    <a:pt x="366" y="696"/>
                  </a:cubicBezTo>
                  <a:cubicBezTo>
                    <a:pt x="348" y="691"/>
                    <a:pt x="335" y="712"/>
                    <a:pt x="347" y="724"/>
                  </a:cubicBezTo>
                  <a:close/>
                  <a:moveTo>
                    <a:pt x="275" y="912"/>
                  </a:moveTo>
                  <a:cubicBezTo>
                    <a:pt x="273" y="920"/>
                    <a:pt x="277" y="924"/>
                    <a:pt x="285" y="924"/>
                  </a:cubicBezTo>
                  <a:cubicBezTo>
                    <a:pt x="296" y="919"/>
                    <a:pt x="284" y="905"/>
                    <a:pt x="275" y="912"/>
                  </a:cubicBezTo>
                  <a:close/>
                  <a:moveTo>
                    <a:pt x="219" y="713"/>
                  </a:moveTo>
                  <a:cubicBezTo>
                    <a:pt x="220" y="710"/>
                    <a:pt x="221" y="708"/>
                    <a:pt x="221" y="704"/>
                  </a:cubicBezTo>
                  <a:cubicBezTo>
                    <a:pt x="218" y="702"/>
                    <a:pt x="215" y="700"/>
                    <a:pt x="210" y="700"/>
                  </a:cubicBezTo>
                  <a:cubicBezTo>
                    <a:pt x="203" y="706"/>
                    <a:pt x="209" y="717"/>
                    <a:pt x="219" y="713"/>
                  </a:cubicBezTo>
                  <a:close/>
                  <a:moveTo>
                    <a:pt x="330" y="950"/>
                  </a:moveTo>
                  <a:cubicBezTo>
                    <a:pt x="332" y="895"/>
                    <a:pt x="272" y="963"/>
                    <a:pt x="330" y="950"/>
                  </a:cubicBezTo>
                  <a:close/>
                  <a:moveTo>
                    <a:pt x="602" y="686"/>
                  </a:moveTo>
                  <a:cubicBezTo>
                    <a:pt x="609" y="687"/>
                    <a:pt x="616" y="687"/>
                    <a:pt x="616" y="680"/>
                  </a:cubicBezTo>
                  <a:cubicBezTo>
                    <a:pt x="610" y="680"/>
                    <a:pt x="605" y="681"/>
                    <a:pt x="602" y="686"/>
                  </a:cubicBezTo>
                  <a:close/>
                  <a:moveTo>
                    <a:pt x="369" y="457"/>
                  </a:moveTo>
                  <a:cubicBezTo>
                    <a:pt x="372" y="455"/>
                    <a:pt x="373" y="450"/>
                    <a:pt x="370" y="447"/>
                  </a:cubicBezTo>
                  <a:cubicBezTo>
                    <a:pt x="364" y="446"/>
                    <a:pt x="364" y="446"/>
                    <a:pt x="364" y="446"/>
                  </a:cubicBezTo>
                  <a:cubicBezTo>
                    <a:pt x="359" y="449"/>
                    <a:pt x="361" y="458"/>
                    <a:pt x="369" y="457"/>
                  </a:cubicBezTo>
                  <a:close/>
                  <a:moveTo>
                    <a:pt x="287" y="347"/>
                  </a:moveTo>
                  <a:cubicBezTo>
                    <a:pt x="291" y="348"/>
                    <a:pt x="290" y="349"/>
                    <a:pt x="289" y="352"/>
                  </a:cubicBezTo>
                  <a:cubicBezTo>
                    <a:pt x="297" y="354"/>
                    <a:pt x="298" y="356"/>
                    <a:pt x="301" y="362"/>
                  </a:cubicBezTo>
                  <a:cubicBezTo>
                    <a:pt x="306" y="360"/>
                    <a:pt x="312" y="362"/>
                    <a:pt x="316" y="364"/>
                  </a:cubicBezTo>
                  <a:cubicBezTo>
                    <a:pt x="323" y="360"/>
                    <a:pt x="331" y="357"/>
                    <a:pt x="337" y="351"/>
                  </a:cubicBezTo>
                  <a:cubicBezTo>
                    <a:pt x="336" y="346"/>
                    <a:pt x="334" y="340"/>
                    <a:pt x="340" y="338"/>
                  </a:cubicBezTo>
                  <a:cubicBezTo>
                    <a:pt x="336" y="317"/>
                    <a:pt x="295" y="307"/>
                    <a:pt x="286" y="335"/>
                  </a:cubicBezTo>
                  <a:cubicBezTo>
                    <a:pt x="291" y="338"/>
                    <a:pt x="290" y="343"/>
                    <a:pt x="287" y="347"/>
                  </a:cubicBezTo>
                  <a:close/>
                  <a:moveTo>
                    <a:pt x="324" y="517"/>
                  </a:moveTo>
                  <a:cubicBezTo>
                    <a:pt x="317" y="518"/>
                    <a:pt x="315" y="523"/>
                    <a:pt x="315" y="529"/>
                  </a:cubicBezTo>
                  <a:cubicBezTo>
                    <a:pt x="319" y="558"/>
                    <a:pt x="353" y="516"/>
                    <a:pt x="324" y="517"/>
                  </a:cubicBezTo>
                  <a:close/>
                  <a:moveTo>
                    <a:pt x="327" y="667"/>
                  </a:moveTo>
                  <a:cubicBezTo>
                    <a:pt x="325" y="689"/>
                    <a:pt x="353" y="676"/>
                    <a:pt x="361" y="671"/>
                  </a:cubicBezTo>
                  <a:cubicBezTo>
                    <a:pt x="361" y="647"/>
                    <a:pt x="337" y="660"/>
                    <a:pt x="327" y="667"/>
                  </a:cubicBezTo>
                  <a:close/>
                  <a:moveTo>
                    <a:pt x="353" y="648"/>
                  </a:moveTo>
                  <a:cubicBezTo>
                    <a:pt x="356" y="640"/>
                    <a:pt x="358" y="630"/>
                    <a:pt x="352" y="622"/>
                  </a:cubicBezTo>
                  <a:cubicBezTo>
                    <a:pt x="300" y="601"/>
                    <a:pt x="307" y="673"/>
                    <a:pt x="353" y="648"/>
                  </a:cubicBezTo>
                  <a:close/>
                  <a:moveTo>
                    <a:pt x="229" y="949"/>
                  </a:moveTo>
                  <a:cubicBezTo>
                    <a:pt x="224" y="949"/>
                    <a:pt x="223" y="946"/>
                    <a:pt x="218" y="946"/>
                  </a:cubicBezTo>
                  <a:cubicBezTo>
                    <a:pt x="218" y="948"/>
                    <a:pt x="216" y="948"/>
                    <a:pt x="217" y="950"/>
                  </a:cubicBezTo>
                  <a:cubicBezTo>
                    <a:pt x="219" y="951"/>
                    <a:pt x="230" y="954"/>
                    <a:pt x="229" y="949"/>
                  </a:cubicBezTo>
                  <a:close/>
                  <a:moveTo>
                    <a:pt x="181" y="851"/>
                  </a:moveTo>
                  <a:cubicBezTo>
                    <a:pt x="186" y="848"/>
                    <a:pt x="189" y="844"/>
                    <a:pt x="195" y="842"/>
                  </a:cubicBezTo>
                  <a:cubicBezTo>
                    <a:pt x="203" y="780"/>
                    <a:pt x="110" y="842"/>
                    <a:pt x="181" y="851"/>
                  </a:cubicBezTo>
                  <a:close/>
                  <a:moveTo>
                    <a:pt x="189" y="807"/>
                  </a:moveTo>
                  <a:cubicBezTo>
                    <a:pt x="191" y="810"/>
                    <a:pt x="195" y="811"/>
                    <a:pt x="199" y="812"/>
                  </a:cubicBezTo>
                  <a:cubicBezTo>
                    <a:pt x="215" y="805"/>
                    <a:pt x="189" y="785"/>
                    <a:pt x="189" y="807"/>
                  </a:cubicBezTo>
                  <a:close/>
                  <a:moveTo>
                    <a:pt x="5" y="574"/>
                  </a:moveTo>
                  <a:cubicBezTo>
                    <a:pt x="0" y="589"/>
                    <a:pt x="16" y="593"/>
                    <a:pt x="27" y="593"/>
                  </a:cubicBezTo>
                  <a:cubicBezTo>
                    <a:pt x="29" y="580"/>
                    <a:pt x="14" y="579"/>
                    <a:pt x="5" y="574"/>
                  </a:cubicBezTo>
                  <a:close/>
                  <a:moveTo>
                    <a:pt x="1940" y="703"/>
                  </a:moveTo>
                  <a:cubicBezTo>
                    <a:pt x="1929" y="706"/>
                    <a:pt x="1882" y="724"/>
                    <a:pt x="1884" y="737"/>
                  </a:cubicBezTo>
                  <a:cubicBezTo>
                    <a:pt x="1886" y="750"/>
                    <a:pt x="1915" y="742"/>
                    <a:pt x="1941" y="736"/>
                  </a:cubicBezTo>
                  <a:cubicBezTo>
                    <a:pt x="1941" y="703"/>
                    <a:pt x="1941" y="703"/>
                    <a:pt x="1941" y="703"/>
                  </a:cubicBezTo>
                  <a:cubicBezTo>
                    <a:pt x="1941" y="703"/>
                    <a:pt x="1940" y="703"/>
                    <a:pt x="1940" y="703"/>
                  </a:cubicBezTo>
                  <a:close/>
                  <a:moveTo>
                    <a:pt x="1838" y="789"/>
                  </a:moveTo>
                  <a:cubicBezTo>
                    <a:pt x="1714" y="790"/>
                    <a:pt x="1544" y="840"/>
                    <a:pt x="1418" y="816"/>
                  </a:cubicBezTo>
                  <a:cubicBezTo>
                    <a:pt x="1415" y="819"/>
                    <a:pt x="1413" y="823"/>
                    <a:pt x="1410" y="827"/>
                  </a:cubicBezTo>
                  <a:cubicBezTo>
                    <a:pt x="1379" y="835"/>
                    <a:pt x="1276" y="861"/>
                    <a:pt x="1282" y="806"/>
                  </a:cubicBezTo>
                  <a:cubicBezTo>
                    <a:pt x="1285" y="777"/>
                    <a:pt x="1329" y="776"/>
                    <a:pt x="1359" y="776"/>
                  </a:cubicBezTo>
                  <a:cubicBezTo>
                    <a:pt x="1337" y="799"/>
                    <a:pt x="1335" y="842"/>
                    <a:pt x="1377" y="827"/>
                  </a:cubicBezTo>
                  <a:cubicBezTo>
                    <a:pt x="1371" y="813"/>
                    <a:pt x="1406" y="815"/>
                    <a:pt x="1397" y="796"/>
                  </a:cubicBezTo>
                  <a:cubicBezTo>
                    <a:pt x="1421" y="785"/>
                    <a:pt x="1391" y="777"/>
                    <a:pt x="1379" y="772"/>
                  </a:cubicBezTo>
                  <a:cubicBezTo>
                    <a:pt x="1408" y="716"/>
                    <a:pt x="1308" y="782"/>
                    <a:pt x="1273" y="771"/>
                  </a:cubicBezTo>
                  <a:cubicBezTo>
                    <a:pt x="1248" y="763"/>
                    <a:pt x="1262" y="729"/>
                    <a:pt x="1248" y="709"/>
                  </a:cubicBezTo>
                  <a:cubicBezTo>
                    <a:pt x="1238" y="707"/>
                    <a:pt x="1231" y="703"/>
                    <a:pt x="1235" y="693"/>
                  </a:cubicBezTo>
                  <a:cubicBezTo>
                    <a:pt x="1246" y="661"/>
                    <a:pt x="1349" y="655"/>
                    <a:pt x="1374" y="630"/>
                  </a:cubicBezTo>
                  <a:cubicBezTo>
                    <a:pt x="1351" y="661"/>
                    <a:pt x="1399" y="696"/>
                    <a:pt x="1420" y="668"/>
                  </a:cubicBezTo>
                  <a:cubicBezTo>
                    <a:pt x="1432" y="643"/>
                    <a:pt x="1412" y="621"/>
                    <a:pt x="1387" y="623"/>
                  </a:cubicBezTo>
                  <a:cubicBezTo>
                    <a:pt x="1396" y="618"/>
                    <a:pt x="1414" y="616"/>
                    <a:pt x="1411" y="600"/>
                  </a:cubicBezTo>
                  <a:cubicBezTo>
                    <a:pt x="1399" y="592"/>
                    <a:pt x="1387" y="603"/>
                    <a:pt x="1377" y="604"/>
                  </a:cubicBezTo>
                  <a:cubicBezTo>
                    <a:pt x="1374" y="600"/>
                    <a:pt x="1370" y="597"/>
                    <a:pt x="1369" y="592"/>
                  </a:cubicBezTo>
                  <a:cubicBezTo>
                    <a:pt x="1391" y="583"/>
                    <a:pt x="1360" y="560"/>
                    <a:pt x="1350" y="578"/>
                  </a:cubicBezTo>
                  <a:cubicBezTo>
                    <a:pt x="1349" y="583"/>
                    <a:pt x="1352" y="584"/>
                    <a:pt x="1353" y="588"/>
                  </a:cubicBezTo>
                  <a:cubicBezTo>
                    <a:pt x="1346" y="588"/>
                    <a:pt x="1342" y="592"/>
                    <a:pt x="1337" y="595"/>
                  </a:cubicBezTo>
                  <a:cubicBezTo>
                    <a:pt x="1333" y="610"/>
                    <a:pt x="1337" y="619"/>
                    <a:pt x="1344" y="624"/>
                  </a:cubicBezTo>
                  <a:cubicBezTo>
                    <a:pt x="1275" y="654"/>
                    <a:pt x="1209" y="687"/>
                    <a:pt x="1144" y="722"/>
                  </a:cubicBezTo>
                  <a:cubicBezTo>
                    <a:pt x="1148" y="697"/>
                    <a:pt x="1116" y="692"/>
                    <a:pt x="1106" y="711"/>
                  </a:cubicBezTo>
                  <a:cubicBezTo>
                    <a:pt x="1104" y="707"/>
                    <a:pt x="1098" y="711"/>
                    <a:pt x="1096" y="706"/>
                  </a:cubicBezTo>
                  <a:cubicBezTo>
                    <a:pt x="1104" y="686"/>
                    <a:pt x="1217" y="666"/>
                    <a:pt x="1200" y="642"/>
                  </a:cubicBezTo>
                  <a:cubicBezTo>
                    <a:pt x="1178" y="613"/>
                    <a:pt x="1110" y="701"/>
                    <a:pt x="1076" y="682"/>
                  </a:cubicBezTo>
                  <a:cubicBezTo>
                    <a:pt x="1071" y="668"/>
                    <a:pt x="1048" y="669"/>
                    <a:pt x="1040" y="679"/>
                  </a:cubicBezTo>
                  <a:cubicBezTo>
                    <a:pt x="1038" y="677"/>
                    <a:pt x="1030" y="672"/>
                    <a:pt x="1033" y="678"/>
                  </a:cubicBezTo>
                  <a:cubicBezTo>
                    <a:pt x="1035" y="673"/>
                    <a:pt x="1035" y="685"/>
                    <a:pt x="1036" y="687"/>
                  </a:cubicBezTo>
                  <a:cubicBezTo>
                    <a:pt x="1032" y="685"/>
                    <a:pt x="1031" y="687"/>
                    <a:pt x="1028" y="687"/>
                  </a:cubicBezTo>
                  <a:cubicBezTo>
                    <a:pt x="1027" y="691"/>
                    <a:pt x="1030" y="691"/>
                    <a:pt x="1028" y="694"/>
                  </a:cubicBezTo>
                  <a:cubicBezTo>
                    <a:pt x="1016" y="695"/>
                    <a:pt x="1008" y="702"/>
                    <a:pt x="998" y="693"/>
                  </a:cubicBezTo>
                  <a:cubicBezTo>
                    <a:pt x="1000" y="687"/>
                    <a:pt x="1006" y="685"/>
                    <a:pt x="999" y="680"/>
                  </a:cubicBezTo>
                  <a:cubicBezTo>
                    <a:pt x="998" y="682"/>
                    <a:pt x="999" y="686"/>
                    <a:pt x="996" y="685"/>
                  </a:cubicBezTo>
                  <a:cubicBezTo>
                    <a:pt x="991" y="684"/>
                    <a:pt x="986" y="678"/>
                    <a:pt x="991" y="674"/>
                  </a:cubicBezTo>
                  <a:cubicBezTo>
                    <a:pt x="988" y="674"/>
                    <a:pt x="982" y="674"/>
                    <a:pt x="983" y="669"/>
                  </a:cubicBezTo>
                  <a:cubicBezTo>
                    <a:pt x="999" y="674"/>
                    <a:pt x="1003" y="659"/>
                    <a:pt x="1014" y="661"/>
                  </a:cubicBezTo>
                  <a:cubicBezTo>
                    <a:pt x="1011" y="659"/>
                    <a:pt x="1007" y="659"/>
                    <a:pt x="1007" y="655"/>
                  </a:cubicBezTo>
                  <a:cubicBezTo>
                    <a:pt x="1004" y="607"/>
                    <a:pt x="1076" y="594"/>
                    <a:pt x="1077" y="558"/>
                  </a:cubicBezTo>
                  <a:cubicBezTo>
                    <a:pt x="1077" y="554"/>
                    <a:pt x="1072" y="549"/>
                    <a:pt x="1069" y="548"/>
                  </a:cubicBezTo>
                  <a:cubicBezTo>
                    <a:pt x="1038" y="539"/>
                    <a:pt x="1023" y="620"/>
                    <a:pt x="998" y="627"/>
                  </a:cubicBezTo>
                  <a:cubicBezTo>
                    <a:pt x="996" y="621"/>
                    <a:pt x="991" y="617"/>
                    <a:pt x="989" y="611"/>
                  </a:cubicBezTo>
                  <a:cubicBezTo>
                    <a:pt x="996" y="601"/>
                    <a:pt x="998" y="587"/>
                    <a:pt x="1013" y="586"/>
                  </a:cubicBezTo>
                  <a:cubicBezTo>
                    <a:pt x="1015" y="565"/>
                    <a:pt x="986" y="557"/>
                    <a:pt x="980" y="579"/>
                  </a:cubicBezTo>
                  <a:cubicBezTo>
                    <a:pt x="976" y="575"/>
                    <a:pt x="972" y="569"/>
                    <a:pt x="963" y="573"/>
                  </a:cubicBezTo>
                  <a:cubicBezTo>
                    <a:pt x="960" y="577"/>
                    <a:pt x="961" y="582"/>
                    <a:pt x="963" y="586"/>
                  </a:cubicBezTo>
                  <a:cubicBezTo>
                    <a:pt x="944" y="589"/>
                    <a:pt x="915" y="598"/>
                    <a:pt x="896" y="585"/>
                  </a:cubicBezTo>
                  <a:cubicBezTo>
                    <a:pt x="864" y="602"/>
                    <a:pt x="895" y="626"/>
                    <a:pt x="887" y="654"/>
                  </a:cubicBezTo>
                  <a:cubicBezTo>
                    <a:pt x="856" y="657"/>
                    <a:pt x="831" y="629"/>
                    <a:pt x="834" y="596"/>
                  </a:cubicBezTo>
                  <a:cubicBezTo>
                    <a:pt x="820" y="597"/>
                    <a:pt x="817" y="585"/>
                    <a:pt x="806" y="580"/>
                  </a:cubicBezTo>
                  <a:cubicBezTo>
                    <a:pt x="801" y="632"/>
                    <a:pt x="773" y="587"/>
                    <a:pt x="766" y="564"/>
                  </a:cubicBezTo>
                  <a:cubicBezTo>
                    <a:pt x="774" y="594"/>
                    <a:pt x="790" y="643"/>
                    <a:pt x="770" y="684"/>
                  </a:cubicBezTo>
                  <a:cubicBezTo>
                    <a:pt x="760" y="683"/>
                    <a:pt x="755" y="688"/>
                    <a:pt x="751" y="693"/>
                  </a:cubicBezTo>
                  <a:cubicBezTo>
                    <a:pt x="746" y="695"/>
                    <a:pt x="744" y="690"/>
                    <a:pt x="738" y="690"/>
                  </a:cubicBezTo>
                  <a:cubicBezTo>
                    <a:pt x="735" y="680"/>
                    <a:pt x="736" y="675"/>
                    <a:pt x="736" y="664"/>
                  </a:cubicBezTo>
                  <a:cubicBezTo>
                    <a:pt x="730" y="660"/>
                    <a:pt x="721" y="656"/>
                    <a:pt x="713" y="659"/>
                  </a:cubicBezTo>
                  <a:cubicBezTo>
                    <a:pt x="710" y="662"/>
                    <a:pt x="708" y="667"/>
                    <a:pt x="706" y="670"/>
                  </a:cubicBezTo>
                  <a:cubicBezTo>
                    <a:pt x="688" y="661"/>
                    <a:pt x="671" y="643"/>
                    <a:pt x="655" y="628"/>
                  </a:cubicBezTo>
                  <a:cubicBezTo>
                    <a:pt x="700" y="564"/>
                    <a:pt x="584" y="564"/>
                    <a:pt x="621" y="627"/>
                  </a:cubicBezTo>
                  <a:cubicBezTo>
                    <a:pt x="624" y="629"/>
                    <a:pt x="630" y="629"/>
                    <a:pt x="635" y="629"/>
                  </a:cubicBezTo>
                  <a:cubicBezTo>
                    <a:pt x="605" y="642"/>
                    <a:pt x="640" y="689"/>
                    <a:pt x="661" y="664"/>
                  </a:cubicBezTo>
                  <a:cubicBezTo>
                    <a:pt x="661" y="659"/>
                    <a:pt x="660" y="652"/>
                    <a:pt x="665" y="650"/>
                  </a:cubicBezTo>
                  <a:cubicBezTo>
                    <a:pt x="664" y="669"/>
                    <a:pt x="657" y="685"/>
                    <a:pt x="643" y="694"/>
                  </a:cubicBezTo>
                  <a:cubicBezTo>
                    <a:pt x="633" y="685"/>
                    <a:pt x="615" y="690"/>
                    <a:pt x="611" y="701"/>
                  </a:cubicBezTo>
                  <a:cubicBezTo>
                    <a:pt x="608" y="703"/>
                    <a:pt x="601" y="701"/>
                    <a:pt x="596" y="701"/>
                  </a:cubicBezTo>
                  <a:cubicBezTo>
                    <a:pt x="587" y="688"/>
                    <a:pt x="585" y="667"/>
                    <a:pt x="583" y="648"/>
                  </a:cubicBezTo>
                  <a:cubicBezTo>
                    <a:pt x="578" y="608"/>
                    <a:pt x="546" y="515"/>
                    <a:pt x="593" y="559"/>
                  </a:cubicBezTo>
                  <a:cubicBezTo>
                    <a:pt x="545" y="513"/>
                    <a:pt x="530" y="429"/>
                    <a:pt x="529" y="357"/>
                  </a:cubicBezTo>
                  <a:cubicBezTo>
                    <a:pt x="528" y="308"/>
                    <a:pt x="474" y="329"/>
                    <a:pt x="495" y="369"/>
                  </a:cubicBezTo>
                  <a:cubicBezTo>
                    <a:pt x="540" y="453"/>
                    <a:pt x="567" y="606"/>
                    <a:pt x="550" y="710"/>
                  </a:cubicBezTo>
                  <a:cubicBezTo>
                    <a:pt x="545" y="710"/>
                    <a:pt x="540" y="712"/>
                    <a:pt x="534" y="711"/>
                  </a:cubicBezTo>
                  <a:cubicBezTo>
                    <a:pt x="533" y="707"/>
                    <a:pt x="538" y="705"/>
                    <a:pt x="532" y="705"/>
                  </a:cubicBezTo>
                  <a:cubicBezTo>
                    <a:pt x="528" y="706"/>
                    <a:pt x="533" y="708"/>
                    <a:pt x="531" y="711"/>
                  </a:cubicBezTo>
                  <a:cubicBezTo>
                    <a:pt x="522" y="712"/>
                    <a:pt x="517" y="711"/>
                    <a:pt x="505" y="709"/>
                  </a:cubicBezTo>
                  <a:cubicBezTo>
                    <a:pt x="487" y="717"/>
                    <a:pt x="482" y="733"/>
                    <a:pt x="470" y="749"/>
                  </a:cubicBezTo>
                  <a:cubicBezTo>
                    <a:pt x="481" y="775"/>
                    <a:pt x="452" y="789"/>
                    <a:pt x="432" y="798"/>
                  </a:cubicBezTo>
                  <a:cubicBezTo>
                    <a:pt x="432" y="796"/>
                    <a:pt x="430" y="796"/>
                    <a:pt x="428" y="796"/>
                  </a:cubicBezTo>
                  <a:cubicBezTo>
                    <a:pt x="433" y="785"/>
                    <a:pt x="417" y="787"/>
                    <a:pt x="424" y="777"/>
                  </a:cubicBezTo>
                  <a:cubicBezTo>
                    <a:pt x="419" y="778"/>
                    <a:pt x="411" y="778"/>
                    <a:pt x="413" y="771"/>
                  </a:cubicBezTo>
                  <a:cubicBezTo>
                    <a:pt x="414" y="769"/>
                    <a:pt x="417" y="769"/>
                    <a:pt x="422" y="770"/>
                  </a:cubicBezTo>
                  <a:cubicBezTo>
                    <a:pt x="421" y="763"/>
                    <a:pt x="421" y="757"/>
                    <a:pt x="426" y="754"/>
                  </a:cubicBezTo>
                  <a:cubicBezTo>
                    <a:pt x="425" y="729"/>
                    <a:pt x="400" y="721"/>
                    <a:pt x="378" y="729"/>
                  </a:cubicBezTo>
                  <a:cubicBezTo>
                    <a:pt x="365" y="746"/>
                    <a:pt x="372" y="770"/>
                    <a:pt x="390" y="774"/>
                  </a:cubicBezTo>
                  <a:cubicBezTo>
                    <a:pt x="350" y="791"/>
                    <a:pt x="395" y="870"/>
                    <a:pt x="319" y="849"/>
                  </a:cubicBezTo>
                  <a:cubicBezTo>
                    <a:pt x="320" y="829"/>
                    <a:pt x="313" y="816"/>
                    <a:pt x="306" y="802"/>
                  </a:cubicBezTo>
                  <a:cubicBezTo>
                    <a:pt x="317" y="804"/>
                    <a:pt x="320" y="795"/>
                    <a:pt x="328" y="797"/>
                  </a:cubicBezTo>
                  <a:cubicBezTo>
                    <a:pt x="330" y="792"/>
                    <a:pt x="334" y="785"/>
                    <a:pt x="341" y="783"/>
                  </a:cubicBezTo>
                  <a:cubicBezTo>
                    <a:pt x="338" y="791"/>
                    <a:pt x="349" y="789"/>
                    <a:pt x="350" y="795"/>
                  </a:cubicBezTo>
                  <a:cubicBezTo>
                    <a:pt x="389" y="796"/>
                    <a:pt x="368" y="742"/>
                    <a:pt x="339" y="766"/>
                  </a:cubicBezTo>
                  <a:cubicBezTo>
                    <a:pt x="337" y="760"/>
                    <a:pt x="327" y="760"/>
                    <a:pt x="329" y="751"/>
                  </a:cubicBezTo>
                  <a:cubicBezTo>
                    <a:pt x="301" y="746"/>
                    <a:pt x="267" y="749"/>
                    <a:pt x="250" y="772"/>
                  </a:cubicBezTo>
                  <a:cubicBezTo>
                    <a:pt x="242" y="769"/>
                    <a:pt x="237" y="776"/>
                    <a:pt x="232" y="773"/>
                  </a:cubicBezTo>
                  <a:cubicBezTo>
                    <a:pt x="232" y="754"/>
                    <a:pt x="206" y="746"/>
                    <a:pt x="191" y="755"/>
                  </a:cubicBezTo>
                  <a:cubicBezTo>
                    <a:pt x="189" y="764"/>
                    <a:pt x="186" y="767"/>
                    <a:pt x="185" y="775"/>
                  </a:cubicBezTo>
                  <a:cubicBezTo>
                    <a:pt x="191" y="780"/>
                    <a:pt x="193" y="789"/>
                    <a:pt x="200" y="793"/>
                  </a:cubicBezTo>
                  <a:cubicBezTo>
                    <a:pt x="208" y="790"/>
                    <a:pt x="217" y="797"/>
                    <a:pt x="225" y="793"/>
                  </a:cubicBezTo>
                  <a:cubicBezTo>
                    <a:pt x="223" y="809"/>
                    <a:pt x="235" y="813"/>
                    <a:pt x="245" y="816"/>
                  </a:cubicBezTo>
                  <a:cubicBezTo>
                    <a:pt x="253" y="831"/>
                    <a:pt x="242" y="838"/>
                    <a:pt x="241" y="854"/>
                  </a:cubicBezTo>
                  <a:cubicBezTo>
                    <a:pt x="252" y="865"/>
                    <a:pt x="268" y="872"/>
                    <a:pt x="282" y="878"/>
                  </a:cubicBezTo>
                  <a:cubicBezTo>
                    <a:pt x="285" y="875"/>
                    <a:pt x="287" y="870"/>
                    <a:pt x="293" y="870"/>
                  </a:cubicBezTo>
                  <a:cubicBezTo>
                    <a:pt x="296" y="875"/>
                    <a:pt x="297" y="883"/>
                    <a:pt x="299" y="889"/>
                  </a:cubicBezTo>
                  <a:cubicBezTo>
                    <a:pt x="279" y="895"/>
                    <a:pt x="302" y="912"/>
                    <a:pt x="315" y="903"/>
                  </a:cubicBezTo>
                  <a:cubicBezTo>
                    <a:pt x="370" y="948"/>
                    <a:pt x="307" y="1025"/>
                    <a:pt x="240" y="992"/>
                  </a:cubicBezTo>
                  <a:cubicBezTo>
                    <a:pt x="265" y="992"/>
                    <a:pt x="258" y="952"/>
                    <a:pt x="231" y="962"/>
                  </a:cubicBezTo>
                  <a:cubicBezTo>
                    <a:pt x="224" y="969"/>
                    <a:pt x="223" y="983"/>
                    <a:pt x="227" y="990"/>
                  </a:cubicBezTo>
                  <a:cubicBezTo>
                    <a:pt x="203" y="983"/>
                    <a:pt x="163" y="972"/>
                    <a:pt x="152" y="995"/>
                  </a:cubicBezTo>
                  <a:cubicBezTo>
                    <a:pt x="119" y="1069"/>
                    <a:pt x="285" y="1017"/>
                    <a:pt x="308" y="1046"/>
                  </a:cubicBezTo>
                  <a:cubicBezTo>
                    <a:pt x="312" y="1081"/>
                    <a:pt x="346" y="1046"/>
                    <a:pt x="358" y="1067"/>
                  </a:cubicBezTo>
                  <a:cubicBezTo>
                    <a:pt x="350" y="1079"/>
                    <a:pt x="364" y="1087"/>
                    <a:pt x="376" y="1088"/>
                  </a:cubicBezTo>
                  <a:cubicBezTo>
                    <a:pt x="387" y="1069"/>
                    <a:pt x="425" y="1051"/>
                    <a:pt x="402" y="1084"/>
                  </a:cubicBezTo>
                  <a:cubicBezTo>
                    <a:pt x="398" y="1083"/>
                    <a:pt x="394" y="1082"/>
                    <a:pt x="389" y="1082"/>
                  </a:cubicBezTo>
                  <a:cubicBezTo>
                    <a:pt x="385" y="1085"/>
                    <a:pt x="383" y="1090"/>
                    <a:pt x="381" y="1095"/>
                  </a:cubicBezTo>
                  <a:cubicBezTo>
                    <a:pt x="381" y="1089"/>
                    <a:pt x="370" y="1092"/>
                    <a:pt x="376" y="1093"/>
                  </a:cubicBezTo>
                  <a:cubicBezTo>
                    <a:pt x="375" y="1093"/>
                    <a:pt x="375" y="1094"/>
                    <a:pt x="374" y="1094"/>
                  </a:cubicBezTo>
                  <a:cubicBezTo>
                    <a:pt x="372" y="1094"/>
                    <a:pt x="373" y="1087"/>
                    <a:pt x="370" y="1091"/>
                  </a:cubicBezTo>
                  <a:cubicBezTo>
                    <a:pt x="374" y="1106"/>
                    <a:pt x="358" y="1116"/>
                    <a:pt x="344" y="1118"/>
                  </a:cubicBezTo>
                  <a:cubicBezTo>
                    <a:pt x="344" y="1111"/>
                    <a:pt x="336" y="1107"/>
                    <a:pt x="328" y="1109"/>
                  </a:cubicBezTo>
                  <a:cubicBezTo>
                    <a:pt x="324" y="1113"/>
                    <a:pt x="323" y="1119"/>
                    <a:pt x="322" y="1124"/>
                  </a:cubicBezTo>
                  <a:cubicBezTo>
                    <a:pt x="251" y="1156"/>
                    <a:pt x="357" y="1166"/>
                    <a:pt x="404" y="1169"/>
                  </a:cubicBezTo>
                  <a:cubicBezTo>
                    <a:pt x="387" y="1185"/>
                    <a:pt x="399" y="1210"/>
                    <a:pt x="421" y="1208"/>
                  </a:cubicBezTo>
                  <a:cubicBezTo>
                    <a:pt x="423" y="1205"/>
                    <a:pt x="423" y="1201"/>
                    <a:pt x="428" y="1201"/>
                  </a:cubicBezTo>
                  <a:cubicBezTo>
                    <a:pt x="429" y="1207"/>
                    <a:pt x="428" y="1214"/>
                    <a:pt x="433" y="1216"/>
                  </a:cubicBezTo>
                  <a:cubicBezTo>
                    <a:pt x="437" y="1210"/>
                    <a:pt x="432" y="1201"/>
                    <a:pt x="428" y="1197"/>
                  </a:cubicBezTo>
                  <a:cubicBezTo>
                    <a:pt x="434" y="1193"/>
                    <a:pt x="431" y="1180"/>
                    <a:pt x="433" y="1176"/>
                  </a:cubicBezTo>
                  <a:cubicBezTo>
                    <a:pt x="475" y="1211"/>
                    <a:pt x="557" y="1201"/>
                    <a:pt x="573" y="1258"/>
                  </a:cubicBezTo>
                  <a:cubicBezTo>
                    <a:pt x="580" y="1257"/>
                    <a:pt x="584" y="1247"/>
                    <a:pt x="593" y="1253"/>
                  </a:cubicBezTo>
                  <a:cubicBezTo>
                    <a:pt x="588" y="1258"/>
                    <a:pt x="585" y="1266"/>
                    <a:pt x="583" y="1275"/>
                  </a:cubicBezTo>
                  <a:cubicBezTo>
                    <a:pt x="579" y="1272"/>
                    <a:pt x="578" y="1266"/>
                    <a:pt x="571" y="1263"/>
                  </a:cubicBezTo>
                  <a:cubicBezTo>
                    <a:pt x="552" y="1269"/>
                    <a:pt x="557" y="1306"/>
                    <a:pt x="582" y="1300"/>
                  </a:cubicBezTo>
                  <a:cubicBezTo>
                    <a:pt x="592" y="1318"/>
                    <a:pt x="585" y="1377"/>
                    <a:pt x="620" y="1359"/>
                  </a:cubicBezTo>
                  <a:cubicBezTo>
                    <a:pt x="623" y="1349"/>
                    <a:pt x="621" y="1343"/>
                    <a:pt x="618" y="1337"/>
                  </a:cubicBezTo>
                  <a:cubicBezTo>
                    <a:pt x="623" y="1324"/>
                    <a:pt x="638" y="1336"/>
                    <a:pt x="639" y="1339"/>
                  </a:cubicBezTo>
                  <a:cubicBezTo>
                    <a:pt x="650" y="1320"/>
                    <a:pt x="656" y="1266"/>
                    <a:pt x="619" y="1272"/>
                  </a:cubicBezTo>
                  <a:cubicBezTo>
                    <a:pt x="621" y="1267"/>
                    <a:pt x="616" y="1266"/>
                    <a:pt x="618" y="1261"/>
                  </a:cubicBezTo>
                  <a:cubicBezTo>
                    <a:pt x="629" y="1249"/>
                    <a:pt x="649" y="1254"/>
                    <a:pt x="661" y="1264"/>
                  </a:cubicBezTo>
                  <a:cubicBezTo>
                    <a:pt x="664" y="1316"/>
                    <a:pt x="601" y="1429"/>
                    <a:pt x="696" y="1417"/>
                  </a:cubicBezTo>
                  <a:cubicBezTo>
                    <a:pt x="698" y="1421"/>
                    <a:pt x="695" y="1428"/>
                    <a:pt x="702" y="1429"/>
                  </a:cubicBezTo>
                  <a:cubicBezTo>
                    <a:pt x="706" y="1407"/>
                    <a:pt x="728" y="1381"/>
                    <a:pt x="718" y="1350"/>
                  </a:cubicBezTo>
                  <a:cubicBezTo>
                    <a:pt x="748" y="1347"/>
                    <a:pt x="723" y="1323"/>
                    <a:pt x="722" y="1307"/>
                  </a:cubicBezTo>
                  <a:cubicBezTo>
                    <a:pt x="738" y="1313"/>
                    <a:pt x="758" y="1281"/>
                    <a:pt x="770" y="1284"/>
                  </a:cubicBezTo>
                  <a:cubicBezTo>
                    <a:pt x="780" y="1287"/>
                    <a:pt x="774" y="1309"/>
                    <a:pt x="785" y="1312"/>
                  </a:cubicBezTo>
                  <a:cubicBezTo>
                    <a:pt x="795" y="1314"/>
                    <a:pt x="795" y="1300"/>
                    <a:pt x="803" y="1296"/>
                  </a:cubicBezTo>
                  <a:cubicBezTo>
                    <a:pt x="836" y="1281"/>
                    <a:pt x="864" y="1343"/>
                    <a:pt x="885" y="1360"/>
                  </a:cubicBezTo>
                  <a:cubicBezTo>
                    <a:pt x="912" y="1381"/>
                    <a:pt x="952" y="1371"/>
                    <a:pt x="983" y="1389"/>
                  </a:cubicBezTo>
                  <a:cubicBezTo>
                    <a:pt x="1022" y="1412"/>
                    <a:pt x="1013" y="1480"/>
                    <a:pt x="1058" y="1488"/>
                  </a:cubicBezTo>
                  <a:cubicBezTo>
                    <a:pt x="1059" y="1502"/>
                    <a:pt x="1119" y="1566"/>
                    <a:pt x="1128" y="1548"/>
                  </a:cubicBezTo>
                  <a:cubicBezTo>
                    <a:pt x="1134" y="1536"/>
                    <a:pt x="1084" y="1482"/>
                    <a:pt x="1073" y="1467"/>
                  </a:cubicBezTo>
                  <a:cubicBezTo>
                    <a:pt x="1054" y="1441"/>
                    <a:pt x="1007" y="1421"/>
                    <a:pt x="1019" y="1378"/>
                  </a:cubicBezTo>
                  <a:cubicBezTo>
                    <a:pt x="1018" y="1391"/>
                    <a:pt x="1037" y="1393"/>
                    <a:pt x="1045" y="1396"/>
                  </a:cubicBezTo>
                  <a:cubicBezTo>
                    <a:pt x="1043" y="1408"/>
                    <a:pt x="1049" y="1414"/>
                    <a:pt x="1064" y="1414"/>
                  </a:cubicBezTo>
                  <a:cubicBezTo>
                    <a:pt x="1077" y="1403"/>
                    <a:pt x="1063" y="1380"/>
                    <a:pt x="1047" y="1390"/>
                  </a:cubicBezTo>
                  <a:cubicBezTo>
                    <a:pt x="1051" y="1387"/>
                    <a:pt x="1055" y="1383"/>
                    <a:pt x="1057" y="1377"/>
                  </a:cubicBezTo>
                  <a:cubicBezTo>
                    <a:pt x="1062" y="1382"/>
                    <a:pt x="1069" y="1385"/>
                    <a:pt x="1075" y="1380"/>
                  </a:cubicBezTo>
                  <a:cubicBezTo>
                    <a:pt x="1091" y="1384"/>
                    <a:pt x="1097" y="1411"/>
                    <a:pt x="1113" y="1412"/>
                  </a:cubicBezTo>
                  <a:cubicBezTo>
                    <a:pt x="1134" y="1413"/>
                    <a:pt x="1096" y="1311"/>
                    <a:pt x="1062" y="1338"/>
                  </a:cubicBezTo>
                  <a:cubicBezTo>
                    <a:pt x="1063" y="1340"/>
                    <a:pt x="1063" y="1342"/>
                    <a:pt x="1064" y="1344"/>
                  </a:cubicBezTo>
                  <a:cubicBezTo>
                    <a:pt x="1062" y="1344"/>
                    <a:pt x="1060" y="1343"/>
                    <a:pt x="1058" y="1343"/>
                  </a:cubicBezTo>
                  <a:cubicBezTo>
                    <a:pt x="1055" y="1346"/>
                    <a:pt x="1052" y="1350"/>
                    <a:pt x="1050" y="1355"/>
                  </a:cubicBezTo>
                  <a:cubicBezTo>
                    <a:pt x="1045" y="1348"/>
                    <a:pt x="1033" y="1339"/>
                    <a:pt x="1022" y="1345"/>
                  </a:cubicBezTo>
                  <a:cubicBezTo>
                    <a:pt x="1025" y="1328"/>
                    <a:pt x="1002" y="1320"/>
                    <a:pt x="1000" y="1337"/>
                  </a:cubicBezTo>
                  <a:cubicBezTo>
                    <a:pt x="997" y="1331"/>
                    <a:pt x="986" y="1332"/>
                    <a:pt x="983" y="1327"/>
                  </a:cubicBezTo>
                  <a:cubicBezTo>
                    <a:pt x="985" y="1323"/>
                    <a:pt x="987" y="1320"/>
                    <a:pt x="989" y="1318"/>
                  </a:cubicBezTo>
                  <a:cubicBezTo>
                    <a:pt x="998" y="1321"/>
                    <a:pt x="1003" y="1319"/>
                    <a:pt x="1011" y="1318"/>
                  </a:cubicBezTo>
                  <a:cubicBezTo>
                    <a:pt x="1018" y="1331"/>
                    <a:pt x="1038" y="1340"/>
                    <a:pt x="1058" y="1343"/>
                  </a:cubicBezTo>
                  <a:cubicBezTo>
                    <a:pt x="1059" y="1341"/>
                    <a:pt x="1061" y="1340"/>
                    <a:pt x="1062" y="1338"/>
                  </a:cubicBezTo>
                  <a:cubicBezTo>
                    <a:pt x="1058" y="1324"/>
                    <a:pt x="1044" y="1318"/>
                    <a:pt x="1044" y="1303"/>
                  </a:cubicBezTo>
                  <a:cubicBezTo>
                    <a:pt x="1046" y="1285"/>
                    <a:pt x="1074" y="1274"/>
                    <a:pt x="1079" y="1297"/>
                  </a:cubicBezTo>
                  <a:cubicBezTo>
                    <a:pt x="1052" y="1283"/>
                    <a:pt x="1054" y="1329"/>
                    <a:pt x="1081" y="1327"/>
                  </a:cubicBezTo>
                  <a:cubicBezTo>
                    <a:pt x="1086" y="1323"/>
                    <a:pt x="1085" y="1317"/>
                    <a:pt x="1088" y="1311"/>
                  </a:cubicBezTo>
                  <a:cubicBezTo>
                    <a:pt x="1091" y="1320"/>
                    <a:pt x="1104" y="1320"/>
                    <a:pt x="1102" y="1333"/>
                  </a:cubicBezTo>
                  <a:cubicBezTo>
                    <a:pt x="1099" y="1332"/>
                    <a:pt x="1099" y="1325"/>
                    <a:pt x="1094" y="1328"/>
                  </a:cubicBezTo>
                  <a:cubicBezTo>
                    <a:pt x="1091" y="1332"/>
                    <a:pt x="1092" y="1340"/>
                    <a:pt x="1099" y="1339"/>
                  </a:cubicBezTo>
                  <a:cubicBezTo>
                    <a:pt x="1102" y="1340"/>
                    <a:pt x="1099" y="1333"/>
                    <a:pt x="1102" y="1334"/>
                  </a:cubicBezTo>
                  <a:cubicBezTo>
                    <a:pt x="1105" y="1341"/>
                    <a:pt x="1107" y="1334"/>
                    <a:pt x="1112" y="1335"/>
                  </a:cubicBezTo>
                  <a:cubicBezTo>
                    <a:pt x="1131" y="1358"/>
                    <a:pt x="1142" y="1392"/>
                    <a:pt x="1173" y="1402"/>
                  </a:cubicBezTo>
                  <a:cubicBezTo>
                    <a:pt x="1169" y="1340"/>
                    <a:pt x="1079" y="1313"/>
                    <a:pt x="1106" y="1234"/>
                  </a:cubicBezTo>
                  <a:cubicBezTo>
                    <a:pt x="1108" y="1228"/>
                    <a:pt x="1121" y="1222"/>
                    <a:pt x="1127" y="1224"/>
                  </a:cubicBezTo>
                  <a:cubicBezTo>
                    <a:pt x="1159" y="1230"/>
                    <a:pt x="1179" y="1290"/>
                    <a:pt x="1217" y="1294"/>
                  </a:cubicBezTo>
                  <a:cubicBezTo>
                    <a:pt x="1208" y="1283"/>
                    <a:pt x="1172" y="1237"/>
                    <a:pt x="1212" y="1244"/>
                  </a:cubicBezTo>
                  <a:cubicBezTo>
                    <a:pt x="1237" y="1247"/>
                    <a:pt x="1276" y="1289"/>
                    <a:pt x="1301" y="1304"/>
                  </a:cubicBezTo>
                  <a:cubicBezTo>
                    <a:pt x="1370" y="1347"/>
                    <a:pt x="1433" y="1419"/>
                    <a:pt x="1499" y="1450"/>
                  </a:cubicBezTo>
                  <a:cubicBezTo>
                    <a:pt x="1503" y="1452"/>
                    <a:pt x="1513" y="1453"/>
                    <a:pt x="1515" y="1453"/>
                  </a:cubicBezTo>
                  <a:cubicBezTo>
                    <a:pt x="1561" y="1450"/>
                    <a:pt x="1474" y="1401"/>
                    <a:pt x="1467" y="1398"/>
                  </a:cubicBezTo>
                  <a:cubicBezTo>
                    <a:pt x="1404" y="1367"/>
                    <a:pt x="1306" y="1296"/>
                    <a:pt x="1260" y="1252"/>
                  </a:cubicBezTo>
                  <a:cubicBezTo>
                    <a:pt x="1222" y="1216"/>
                    <a:pt x="1146" y="1205"/>
                    <a:pt x="1148" y="1146"/>
                  </a:cubicBezTo>
                  <a:cubicBezTo>
                    <a:pt x="1144" y="1144"/>
                    <a:pt x="1136" y="1144"/>
                    <a:pt x="1134" y="1141"/>
                  </a:cubicBezTo>
                  <a:cubicBezTo>
                    <a:pt x="1135" y="1134"/>
                    <a:pt x="1145" y="1138"/>
                    <a:pt x="1146" y="1133"/>
                  </a:cubicBezTo>
                  <a:cubicBezTo>
                    <a:pt x="1139" y="1125"/>
                    <a:pt x="1123" y="1124"/>
                    <a:pt x="1128" y="1107"/>
                  </a:cubicBezTo>
                  <a:cubicBezTo>
                    <a:pt x="1145" y="1095"/>
                    <a:pt x="1178" y="1106"/>
                    <a:pt x="1187" y="1119"/>
                  </a:cubicBezTo>
                  <a:cubicBezTo>
                    <a:pt x="1186" y="1123"/>
                    <a:pt x="1186" y="1126"/>
                    <a:pt x="1187" y="1129"/>
                  </a:cubicBezTo>
                  <a:cubicBezTo>
                    <a:pt x="1191" y="1133"/>
                    <a:pt x="1198" y="1134"/>
                    <a:pt x="1203" y="1138"/>
                  </a:cubicBezTo>
                  <a:cubicBezTo>
                    <a:pt x="1174" y="1144"/>
                    <a:pt x="1192" y="1183"/>
                    <a:pt x="1220" y="1174"/>
                  </a:cubicBezTo>
                  <a:cubicBezTo>
                    <a:pt x="1221" y="1161"/>
                    <a:pt x="1226" y="1160"/>
                    <a:pt x="1226" y="1147"/>
                  </a:cubicBezTo>
                  <a:cubicBezTo>
                    <a:pt x="1221" y="1147"/>
                    <a:pt x="1220" y="1143"/>
                    <a:pt x="1218" y="1142"/>
                  </a:cubicBezTo>
                  <a:cubicBezTo>
                    <a:pt x="1228" y="1137"/>
                    <a:pt x="1242" y="1150"/>
                    <a:pt x="1256" y="1147"/>
                  </a:cubicBezTo>
                  <a:cubicBezTo>
                    <a:pt x="1232" y="1190"/>
                    <a:pt x="1307" y="1160"/>
                    <a:pt x="1258" y="1146"/>
                  </a:cubicBezTo>
                  <a:cubicBezTo>
                    <a:pt x="1276" y="1137"/>
                    <a:pt x="1300" y="1136"/>
                    <a:pt x="1318" y="1127"/>
                  </a:cubicBezTo>
                  <a:cubicBezTo>
                    <a:pt x="1333" y="1140"/>
                    <a:pt x="1347" y="1125"/>
                    <a:pt x="1358" y="1124"/>
                  </a:cubicBezTo>
                  <a:cubicBezTo>
                    <a:pt x="1417" y="1120"/>
                    <a:pt x="1453" y="1177"/>
                    <a:pt x="1493" y="1169"/>
                  </a:cubicBezTo>
                  <a:cubicBezTo>
                    <a:pt x="1493" y="1169"/>
                    <a:pt x="1500" y="1164"/>
                    <a:pt x="1501" y="1164"/>
                  </a:cubicBezTo>
                  <a:cubicBezTo>
                    <a:pt x="1511" y="1149"/>
                    <a:pt x="1428" y="1112"/>
                    <a:pt x="1409" y="1108"/>
                  </a:cubicBezTo>
                  <a:cubicBezTo>
                    <a:pt x="1393" y="1103"/>
                    <a:pt x="1382" y="1106"/>
                    <a:pt x="1373" y="1095"/>
                  </a:cubicBezTo>
                  <a:cubicBezTo>
                    <a:pt x="1378" y="1075"/>
                    <a:pt x="1347" y="1074"/>
                    <a:pt x="1329" y="1070"/>
                  </a:cubicBezTo>
                  <a:cubicBezTo>
                    <a:pt x="1328" y="1055"/>
                    <a:pt x="1350" y="1055"/>
                    <a:pt x="1353" y="1040"/>
                  </a:cubicBezTo>
                  <a:cubicBezTo>
                    <a:pt x="1455" y="1042"/>
                    <a:pt x="1557" y="1034"/>
                    <a:pt x="1665" y="1039"/>
                  </a:cubicBezTo>
                  <a:cubicBezTo>
                    <a:pt x="1666" y="1034"/>
                    <a:pt x="1668" y="1034"/>
                    <a:pt x="1666" y="1030"/>
                  </a:cubicBezTo>
                  <a:cubicBezTo>
                    <a:pt x="1590" y="1016"/>
                    <a:pt x="1449" y="1054"/>
                    <a:pt x="1396" y="1002"/>
                  </a:cubicBezTo>
                  <a:cubicBezTo>
                    <a:pt x="1397" y="1002"/>
                    <a:pt x="1398" y="1002"/>
                    <a:pt x="1398" y="1000"/>
                  </a:cubicBezTo>
                  <a:cubicBezTo>
                    <a:pt x="1439" y="990"/>
                    <a:pt x="1471" y="1020"/>
                    <a:pt x="1512" y="1013"/>
                  </a:cubicBezTo>
                  <a:cubicBezTo>
                    <a:pt x="1532" y="1010"/>
                    <a:pt x="1526" y="988"/>
                    <a:pt x="1512" y="985"/>
                  </a:cubicBezTo>
                  <a:cubicBezTo>
                    <a:pt x="1455" y="969"/>
                    <a:pt x="1365" y="976"/>
                    <a:pt x="1301" y="967"/>
                  </a:cubicBezTo>
                  <a:cubicBezTo>
                    <a:pt x="1236" y="958"/>
                    <a:pt x="1321" y="890"/>
                    <a:pt x="1342" y="882"/>
                  </a:cubicBezTo>
                  <a:cubicBezTo>
                    <a:pt x="1341" y="901"/>
                    <a:pt x="1357" y="902"/>
                    <a:pt x="1372" y="905"/>
                  </a:cubicBezTo>
                  <a:cubicBezTo>
                    <a:pt x="1373" y="899"/>
                    <a:pt x="1380" y="897"/>
                    <a:pt x="1384" y="891"/>
                  </a:cubicBezTo>
                  <a:cubicBezTo>
                    <a:pt x="1380" y="879"/>
                    <a:pt x="1376" y="863"/>
                    <a:pt x="1355" y="867"/>
                  </a:cubicBezTo>
                  <a:cubicBezTo>
                    <a:pt x="1356" y="864"/>
                    <a:pt x="1358" y="865"/>
                    <a:pt x="1356" y="862"/>
                  </a:cubicBezTo>
                  <a:cubicBezTo>
                    <a:pt x="1352" y="864"/>
                    <a:pt x="1347" y="864"/>
                    <a:pt x="1344" y="867"/>
                  </a:cubicBezTo>
                  <a:cubicBezTo>
                    <a:pt x="1347" y="868"/>
                    <a:pt x="1352" y="866"/>
                    <a:pt x="1350" y="870"/>
                  </a:cubicBezTo>
                  <a:cubicBezTo>
                    <a:pt x="1344" y="872"/>
                    <a:pt x="1340" y="864"/>
                    <a:pt x="1340" y="858"/>
                  </a:cubicBezTo>
                  <a:cubicBezTo>
                    <a:pt x="1482" y="851"/>
                    <a:pt x="1602" y="835"/>
                    <a:pt x="1747" y="827"/>
                  </a:cubicBezTo>
                  <a:cubicBezTo>
                    <a:pt x="1772" y="825"/>
                    <a:pt x="1850" y="826"/>
                    <a:pt x="1861" y="813"/>
                  </a:cubicBezTo>
                  <a:cubicBezTo>
                    <a:pt x="1873" y="799"/>
                    <a:pt x="1854" y="788"/>
                    <a:pt x="1838" y="789"/>
                  </a:cubicBezTo>
                  <a:close/>
                  <a:moveTo>
                    <a:pt x="905" y="1313"/>
                  </a:moveTo>
                  <a:cubicBezTo>
                    <a:pt x="874" y="1292"/>
                    <a:pt x="927" y="1285"/>
                    <a:pt x="905" y="1313"/>
                  </a:cubicBezTo>
                  <a:close/>
                  <a:moveTo>
                    <a:pt x="1010" y="1352"/>
                  </a:moveTo>
                  <a:cubicBezTo>
                    <a:pt x="1021" y="1354"/>
                    <a:pt x="1015" y="1363"/>
                    <a:pt x="1019" y="1371"/>
                  </a:cubicBezTo>
                  <a:cubicBezTo>
                    <a:pt x="1014" y="1366"/>
                    <a:pt x="1008" y="1358"/>
                    <a:pt x="1010" y="1352"/>
                  </a:cubicBezTo>
                  <a:close/>
                  <a:moveTo>
                    <a:pt x="1341" y="1100"/>
                  </a:moveTo>
                  <a:cubicBezTo>
                    <a:pt x="1327" y="1108"/>
                    <a:pt x="1302" y="1102"/>
                    <a:pt x="1280" y="1100"/>
                  </a:cubicBezTo>
                  <a:cubicBezTo>
                    <a:pt x="1284" y="1103"/>
                    <a:pt x="1292" y="1102"/>
                    <a:pt x="1290" y="1108"/>
                  </a:cubicBezTo>
                  <a:cubicBezTo>
                    <a:pt x="1286" y="1109"/>
                    <a:pt x="1280" y="1107"/>
                    <a:pt x="1280" y="1116"/>
                  </a:cubicBezTo>
                  <a:cubicBezTo>
                    <a:pt x="1260" y="1107"/>
                    <a:pt x="1241" y="1098"/>
                    <a:pt x="1248" y="1070"/>
                  </a:cubicBezTo>
                  <a:cubicBezTo>
                    <a:pt x="1281" y="1076"/>
                    <a:pt x="1319" y="1082"/>
                    <a:pt x="1341" y="1100"/>
                  </a:cubicBezTo>
                  <a:close/>
                  <a:moveTo>
                    <a:pt x="1348" y="991"/>
                  </a:moveTo>
                  <a:cubicBezTo>
                    <a:pt x="1335" y="1011"/>
                    <a:pt x="1369" y="1010"/>
                    <a:pt x="1372" y="1026"/>
                  </a:cubicBezTo>
                  <a:cubicBezTo>
                    <a:pt x="1330" y="1028"/>
                    <a:pt x="1287" y="1029"/>
                    <a:pt x="1244" y="1020"/>
                  </a:cubicBezTo>
                  <a:cubicBezTo>
                    <a:pt x="1230" y="971"/>
                    <a:pt x="1302" y="978"/>
                    <a:pt x="1348" y="991"/>
                  </a:cubicBezTo>
                  <a:close/>
                  <a:moveTo>
                    <a:pt x="260" y="902"/>
                  </a:moveTo>
                  <a:cubicBezTo>
                    <a:pt x="258" y="895"/>
                    <a:pt x="247" y="899"/>
                    <a:pt x="247" y="905"/>
                  </a:cubicBezTo>
                  <a:cubicBezTo>
                    <a:pt x="247" y="910"/>
                    <a:pt x="262" y="912"/>
                    <a:pt x="260" y="902"/>
                  </a:cubicBezTo>
                  <a:close/>
                  <a:moveTo>
                    <a:pt x="296" y="445"/>
                  </a:moveTo>
                  <a:cubicBezTo>
                    <a:pt x="292" y="447"/>
                    <a:pt x="291" y="451"/>
                    <a:pt x="293" y="455"/>
                  </a:cubicBezTo>
                  <a:cubicBezTo>
                    <a:pt x="303" y="476"/>
                    <a:pt x="318" y="432"/>
                    <a:pt x="296" y="445"/>
                  </a:cubicBezTo>
                  <a:close/>
                  <a:moveTo>
                    <a:pt x="159" y="867"/>
                  </a:moveTo>
                  <a:cubicBezTo>
                    <a:pt x="164" y="871"/>
                    <a:pt x="171" y="865"/>
                    <a:pt x="169" y="862"/>
                  </a:cubicBezTo>
                  <a:cubicBezTo>
                    <a:pt x="164" y="862"/>
                    <a:pt x="161" y="863"/>
                    <a:pt x="159" y="867"/>
                  </a:cubicBezTo>
                  <a:close/>
                  <a:moveTo>
                    <a:pt x="280" y="932"/>
                  </a:moveTo>
                  <a:cubicBezTo>
                    <a:pt x="271" y="931"/>
                    <a:pt x="271" y="931"/>
                    <a:pt x="271" y="931"/>
                  </a:cubicBezTo>
                  <a:cubicBezTo>
                    <a:pt x="254" y="947"/>
                    <a:pt x="293" y="951"/>
                    <a:pt x="280" y="932"/>
                  </a:cubicBezTo>
                  <a:close/>
                  <a:moveTo>
                    <a:pt x="262" y="894"/>
                  </a:moveTo>
                  <a:cubicBezTo>
                    <a:pt x="257" y="901"/>
                    <a:pt x="263" y="908"/>
                    <a:pt x="271" y="905"/>
                  </a:cubicBezTo>
                  <a:cubicBezTo>
                    <a:pt x="276" y="898"/>
                    <a:pt x="270" y="891"/>
                    <a:pt x="262" y="894"/>
                  </a:cubicBezTo>
                  <a:close/>
                  <a:moveTo>
                    <a:pt x="635" y="236"/>
                  </a:moveTo>
                  <a:cubicBezTo>
                    <a:pt x="643" y="235"/>
                    <a:pt x="643" y="238"/>
                    <a:pt x="649" y="240"/>
                  </a:cubicBezTo>
                  <a:cubicBezTo>
                    <a:pt x="654" y="239"/>
                    <a:pt x="655" y="233"/>
                    <a:pt x="664" y="236"/>
                  </a:cubicBezTo>
                  <a:cubicBezTo>
                    <a:pt x="671" y="225"/>
                    <a:pt x="670" y="215"/>
                    <a:pt x="670" y="202"/>
                  </a:cubicBezTo>
                  <a:cubicBezTo>
                    <a:pt x="661" y="195"/>
                    <a:pt x="654" y="191"/>
                    <a:pt x="638" y="193"/>
                  </a:cubicBezTo>
                  <a:cubicBezTo>
                    <a:pt x="627" y="204"/>
                    <a:pt x="626" y="215"/>
                    <a:pt x="630" y="231"/>
                  </a:cubicBezTo>
                  <a:cubicBezTo>
                    <a:pt x="634" y="231"/>
                    <a:pt x="637" y="232"/>
                    <a:pt x="635" y="236"/>
                  </a:cubicBezTo>
                  <a:close/>
                  <a:moveTo>
                    <a:pt x="643" y="418"/>
                  </a:moveTo>
                  <a:cubicBezTo>
                    <a:pt x="644" y="423"/>
                    <a:pt x="645" y="427"/>
                    <a:pt x="653" y="425"/>
                  </a:cubicBezTo>
                  <a:cubicBezTo>
                    <a:pt x="682" y="421"/>
                    <a:pt x="634" y="390"/>
                    <a:pt x="643" y="418"/>
                  </a:cubicBezTo>
                  <a:close/>
                  <a:moveTo>
                    <a:pt x="645" y="387"/>
                  </a:moveTo>
                  <a:cubicBezTo>
                    <a:pt x="656" y="390"/>
                    <a:pt x="656" y="381"/>
                    <a:pt x="661" y="379"/>
                  </a:cubicBezTo>
                  <a:cubicBezTo>
                    <a:pt x="672" y="402"/>
                    <a:pt x="701" y="370"/>
                    <a:pt x="673" y="365"/>
                  </a:cubicBezTo>
                  <a:cubicBezTo>
                    <a:pt x="670" y="366"/>
                    <a:pt x="668" y="367"/>
                    <a:pt x="665" y="369"/>
                  </a:cubicBezTo>
                  <a:cubicBezTo>
                    <a:pt x="656" y="347"/>
                    <a:pt x="631" y="370"/>
                    <a:pt x="645" y="387"/>
                  </a:cubicBezTo>
                  <a:close/>
                  <a:moveTo>
                    <a:pt x="567" y="252"/>
                  </a:moveTo>
                  <a:cubicBezTo>
                    <a:pt x="597" y="251"/>
                    <a:pt x="559" y="209"/>
                    <a:pt x="555" y="237"/>
                  </a:cubicBezTo>
                  <a:cubicBezTo>
                    <a:pt x="554" y="245"/>
                    <a:pt x="559" y="252"/>
                    <a:pt x="567" y="252"/>
                  </a:cubicBezTo>
                  <a:close/>
                  <a:moveTo>
                    <a:pt x="568" y="275"/>
                  </a:moveTo>
                  <a:cubicBezTo>
                    <a:pt x="559" y="273"/>
                    <a:pt x="557" y="279"/>
                    <a:pt x="558" y="286"/>
                  </a:cubicBezTo>
                  <a:cubicBezTo>
                    <a:pt x="562" y="308"/>
                    <a:pt x="592" y="278"/>
                    <a:pt x="568" y="275"/>
                  </a:cubicBezTo>
                  <a:close/>
                  <a:moveTo>
                    <a:pt x="602" y="567"/>
                  </a:moveTo>
                  <a:cubicBezTo>
                    <a:pt x="598" y="570"/>
                    <a:pt x="600" y="576"/>
                    <a:pt x="600" y="580"/>
                  </a:cubicBezTo>
                  <a:cubicBezTo>
                    <a:pt x="616" y="589"/>
                    <a:pt x="622" y="565"/>
                    <a:pt x="602" y="567"/>
                  </a:cubicBezTo>
                  <a:close/>
                  <a:moveTo>
                    <a:pt x="618" y="516"/>
                  </a:moveTo>
                  <a:cubicBezTo>
                    <a:pt x="622" y="516"/>
                    <a:pt x="624" y="514"/>
                    <a:pt x="624" y="509"/>
                  </a:cubicBezTo>
                  <a:cubicBezTo>
                    <a:pt x="621" y="509"/>
                    <a:pt x="621" y="507"/>
                    <a:pt x="618" y="507"/>
                  </a:cubicBezTo>
                  <a:cubicBezTo>
                    <a:pt x="615" y="510"/>
                    <a:pt x="616" y="514"/>
                    <a:pt x="618" y="516"/>
                  </a:cubicBezTo>
                  <a:close/>
                  <a:moveTo>
                    <a:pt x="617" y="484"/>
                  </a:moveTo>
                  <a:cubicBezTo>
                    <a:pt x="619" y="482"/>
                    <a:pt x="621" y="479"/>
                    <a:pt x="622" y="476"/>
                  </a:cubicBezTo>
                  <a:cubicBezTo>
                    <a:pt x="615" y="464"/>
                    <a:pt x="599" y="483"/>
                    <a:pt x="617" y="484"/>
                  </a:cubicBezTo>
                  <a:close/>
                  <a:moveTo>
                    <a:pt x="1448" y="777"/>
                  </a:moveTo>
                  <a:cubicBezTo>
                    <a:pt x="1441" y="783"/>
                    <a:pt x="1452" y="791"/>
                    <a:pt x="1457" y="785"/>
                  </a:cubicBezTo>
                  <a:cubicBezTo>
                    <a:pt x="1458" y="779"/>
                    <a:pt x="1454" y="775"/>
                    <a:pt x="1448" y="777"/>
                  </a:cubicBezTo>
                  <a:close/>
                  <a:moveTo>
                    <a:pt x="406" y="472"/>
                  </a:moveTo>
                  <a:cubicBezTo>
                    <a:pt x="404" y="456"/>
                    <a:pt x="392" y="438"/>
                    <a:pt x="378" y="428"/>
                  </a:cubicBezTo>
                  <a:cubicBezTo>
                    <a:pt x="372" y="442"/>
                    <a:pt x="391" y="464"/>
                    <a:pt x="406" y="472"/>
                  </a:cubicBezTo>
                  <a:close/>
                  <a:moveTo>
                    <a:pt x="267" y="648"/>
                  </a:moveTo>
                  <a:cubicBezTo>
                    <a:pt x="263" y="646"/>
                    <a:pt x="263" y="649"/>
                    <a:pt x="260" y="648"/>
                  </a:cubicBezTo>
                  <a:cubicBezTo>
                    <a:pt x="259" y="652"/>
                    <a:pt x="261" y="653"/>
                    <a:pt x="262" y="655"/>
                  </a:cubicBezTo>
                  <a:cubicBezTo>
                    <a:pt x="267" y="655"/>
                    <a:pt x="270" y="652"/>
                    <a:pt x="267" y="648"/>
                  </a:cubicBezTo>
                  <a:close/>
                  <a:moveTo>
                    <a:pt x="254" y="432"/>
                  </a:moveTo>
                  <a:cubicBezTo>
                    <a:pt x="258" y="430"/>
                    <a:pt x="266" y="427"/>
                    <a:pt x="271" y="431"/>
                  </a:cubicBezTo>
                  <a:cubicBezTo>
                    <a:pt x="280" y="425"/>
                    <a:pt x="288" y="418"/>
                    <a:pt x="290" y="403"/>
                  </a:cubicBezTo>
                  <a:cubicBezTo>
                    <a:pt x="273" y="364"/>
                    <a:pt x="212" y="412"/>
                    <a:pt x="254" y="432"/>
                  </a:cubicBezTo>
                  <a:close/>
                  <a:moveTo>
                    <a:pt x="436" y="715"/>
                  </a:moveTo>
                  <a:cubicBezTo>
                    <a:pt x="436" y="729"/>
                    <a:pt x="458" y="735"/>
                    <a:pt x="464" y="722"/>
                  </a:cubicBezTo>
                  <a:cubicBezTo>
                    <a:pt x="473" y="701"/>
                    <a:pt x="436" y="696"/>
                    <a:pt x="436" y="715"/>
                  </a:cubicBezTo>
                  <a:close/>
                  <a:moveTo>
                    <a:pt x="264" y="711"/>
                  </a:moveTo>
                  <a:cubicBezTo>
                    <a:pt x="192" y="730"/>
                    <a:pt x="310" y="763"/>
                    <a:pt x="264" y="711"/>
                  </a:cubicBezTo>
                  <a:close/>
                  <a:moveTo>
                    <a:pt x="529" y="653"/>
                  </a:moveTo>
                  <a:cubicBezTo>
                    <a:pt x="576" y="597"/>
                    <a:pt x="454" y="632"/>
                    <a:pt x="529" y="653"/>
                  </a:cubicBezTo>
                  <a:close/>
                  <a:moveTo>
                    <a:pt x="525" y="703"/>
                  </a:moveTo>
                  <a:cubicBezTo>
                    <a:pt x="529" y="703"/>
                    <a:pt x="534" y="701"/>
                    <a:pt x="534" y="696"/>
                  </a:cubicBezTo>
                  <a:cubicBezTo>
                    <a:pt x="530" y="692"/>
                    <a:pt x="521" y="698"/>
                    <a:pt x="525" y="703"/>
                  </a:cubicBezTo>
                  <a:close/>
                  <a:moveTo>
                    <a:pt x="477" y="235"/>
                  </a:moveTo>
                  <a:cubicBezTo>
                    <a:pt x="480" y="230"/>
                    <a:pt x="478" y="225"/>
                    <a:pt x="471" y="226"/>
                  </a:cubicBezTo>
                  <a:cubicBezTo>
                    <a:pt x="467" y="232"/>
                    <a:pt x="469" y="237"/>
                    <a:pt x="477" y="235"/>
                  </a:cubicBezTo>
                  <a:close/>
                  <a:moveTo>
                    <a:pt x="423" y="507"/>
                  </a:moveTo>
                  <a:cubicBezTo>
                    <a:pt x="484" y="501"/>
                    <a:pt x="396" y="452"/>
                    <a:pt x="423" y="507"/>
                  </a:cubicBezTo>
                  <a:close/>
                  <a:moveTo>
                    <a:pt x="459" y="609"/>
                  </a:moveTo>
                  <a:cubicBezTo>
                    <a:pt x="479" y="582"/>
                    <a:pt x="423" y="599"/>
                    <a:pt x="459" y="609"/>
                  </a:cubicBezTo>
                  <a:close/>
                  <a:moveTo>
                    <a:pt x="352" y="1208"/>
                  </a:moveTo>
                  <a:cubicBezTo>
                    <a:pt x="353" y="1207"/>
                    <a:pt x="354" y="1204"/>
                    <a:pt x="354" y="1202"/>
                  </a:cubicBezTo>
                  <a:cubicBezTo>
                    <a:pt x="353" y="1201"/>
                    <a:pt x="351" y="1200"/>
                    <a:pt x="351" y="1199"/>
                  </a:cubicBezTo>
                  <a:cubicBezTo>
                    <a:pt x="343" y="1199"/>
                    <a:pt x="342" y="1207"/>
                    <a:pt x="349" y="1209"/>
                  </a:cubicBezTo>
                  <a:cubicBezTo>
                    <a:pt x="350" y="1208"/>
                    <a:pt x="350" y="1208"/>
                    <a:pt x="352" y="1208"/>
                  </a:cubicBezTo>
                  <a:close/>
                  <a:moveTo>
                    <a:pt x="609" y="1905"/>
                  </a:moveTo>
                  <a:cubicBezTo>
                    <a:pt x="600" y="1907"/>
                    <a:pt x="602" y="1923"/>
                    <a:pt x="609" y="1926"/>
                  </a:cubicBezTo>
                  <a:cubicBezTo>
                    <a:pt x="616" y="1924"/>
                    <a:pt x="619" y="1906"/>
                    <a:pt x="609" y="1905"/>
                  </a:cubicBezTo>
                  <a:close/>
                  <a:moveTo>
                    <a:pt x="608" y="1377"/>
                  </a:moveTo>
                  <a:cubicBezTo>
                    <a:pt x="603" y="1381"/>
                    <a:pt x="603" y="1394"/>
                    <a:pt x="611" y="1394"/>
                  </a:cubicBezTo>
                  <a:cubicBezTo>
                    <a:pt x="616" y="1392"/>
                    <a:pt x="617" y="1384"/>
                    <a:pt x="616" y="1379"/>
                  </a:cubicBezTo>
                  <a:cubicBezTo>
                    <a:pt x="613" y="1379"/>
                    <a:pt x="612" y="1377"/>
                    <a:pt x="608" y="1377"/>
                  </a:cubicBezTo>
                  <a:close/>
                  <a:moveTo>
                    <a:pt x="644" y="1523"/>
                  </a:moveTo>
                  <a:cubicBezTo>
                    <a:pt x="635" y="1521"/>
                    <a:pt x="633" y="1529"/>
                    <a:pt x="633" y="1533"/>
                  </a:cubicBezTo>
                  <a:cubicBezTo>
                    <a:pt x="630" y="1562"/>
                    <a:pt x="663" y="1530"/>
                    <a:pt x="644" y="1523"/>
                  </a:cubicBezTo>
                  <a:close/>
                  <a:moveTo>
                    <a:pt x="610" y="1436"/>
                  </a:moveTo>
                  <a:cubicBezTo>
                    <a:pt x="619" y="1429"/>
                    <a:pt x="615" y="1412"/>
                    <a:pt x="616" y="1403"/>
                  </a:cubicBezTo>
                  <a:cubicBezTo>
                    <a:pt x="609" y="1407"/>
                    <a:pt x="601" y="1430"/>
                    <a:pt x="610" y="1436"/>
                  </a:cubicBezTo>
                  <a:close/>
                  <a:moveTo>
                    <a:pt x="616" y="1816"/>
                  </a:moveTo>
                  <a:cubicBezTo>
                    <a:pt x="622" y="1813"/>
                    <a:pt x="621" y="1805"/>
                    <a:pt x="618" y="1800"/>
                  </a:cubicBezTo>
                  <a:cubicBezTo>
                    <a:pt x="607" y="1798"/>
                    <a:pt x="609" y="1814"/>
                    <a:pt x="616" y="1816"/>
                  </a:cubicBezTo>
                  <a:close/>
                  <a:moveTo>
                    <a:pt x="578" y="1736"/>
                  </a:moveTo>
                  <a:cubicBezTo>
                    <a:pt x="609" y="1707"/>
                    <a:pt x="547" y="1710"/>
                    <a:pt x="578" y="1736"/>
                  </a:cubicBezTo>
                  <a:close/>
                  <a:moveTo>
                    <a:pt x="486" y="1585"/>
                  </a:moveTo>
                  <a:cubicBezTo>
                    <a:pt x="542" y="1572"/>
                    <a:pt x="468" y="1518"/>
                    <a:pt x="486" y="1585"/>
                  </a:cubicBezTo>
                  <a:close/>
                  <a:moveTo>
                    <a:pt x="481" y="1766"/>
                  </a:moveTo>
                  <a:cubicBezTo>
                    <a:pt x="474" y="1767"/>
                    <a:pt x="472" y="1783"/>
                    <a:pt x="479" y="1786"/>
                  </a:cubicBezTo>
                  <a:cubicBezTo>
                    <a:pt x="486" y="1784"/>
                    <a:pt x="490" y="1768"/>
                    <a:pt x="481" y="1766"/>
                  </a:cubicBezTo>
                  <a:close/>
                  <a:moveTo>
                    <a:pt x="648" y="1708"/>
                  </a:moveTo>
                  <a:cubicBezTo>
                    <a:pt x="643" y="1713"/>
                    <a:pt x="644" y="1726"/>
                    <a:pt x="652" y="1727"/>
                  </a:cubicBezTo>
                  <a:cubicBezTo>
                    <a:pt x="657" y="1722"/>
                    <a:pt x="660" y="1715"/>
                    <a:pt x="656" y="1709"/>
                  </a:cubicBezTo>
                  <a:lnTo>
                    <a:pt x="648" y="1708"/>
                  </a:lnTo>
                  <a:close/>
                  <a:moveTo>
                    <a:pt x="574" y="1443"/>
                  </a:moveTo>
                  <a:cubicBezTo>
                    <a:pt x="564" y="1442"/>
                    <a:pt x="563" y="1444"/>
                    <a:pt x="555" y="1441"/>
                  </a:cubicBezTo>
                  <a:cubicBezTo>
                    <a:pt x="551" y="1450"/>
                    <a:pt x="556" y="1470"/>
                    <a:pt x="567" y="1475"/>
                  </a:cubicBezTo>
                  <a:cubicBezTo>
                    <a:pt x="579" y="1473"/>
                    <a:pt x="585" y="1449"/>
                    <a:pt x="574" y="1443"/>
                  </a:cubicBezTo>
                  <a:close/>
                  <a:moveTo>
                    <a:pt x="783" y="1642"/>
                  </a:moveTo>
                  <a:cubicBezTo>
                    <a:pt x="764" y="1657"/>
                    <a:pt x="803" y="1656"/>
                    <a:pt x="783" y="1642"/>
                  </a:cubicBezTo>
                  <a:close/>
                  <a:moveTo>
                    <a:pt x="786" y="1544"/>
                  </a:moveTo>
                  <a:cubicBezTo>
                    <a:pt x="786" y="1545"/>
                    <a:pt x="785" y="1545"/>
                    <a:pt x="784" y="1545"/>
                  </a:cubicBezTo>
                  <a:cubicBezTo>
                    <a:pt x="780" y="1551"/>
                    <a:pt x="782" y="1560"/>
                    <a:pt x="792" y="1560"/>
                  </a:cubicBezTo>
                  <a:cubicBezTo>
                    <a:pt x="796" y="1555"/>
                    <a:pt x="796" y="1544"/>
                    <a:pt x="786" y="1544"/>
                  </a:cubicBezTo>
                  <a:close/>
                  <a:moveTo>
                    <a:pt x="1458" y="425"/>
                  </a:moveTo>
                  <a:cubicBezTo>
                    <a:pt x="1425" y="406"/>
                    <a:pt x="1443" y="458"/>
                    <a:pt x="1458" y="425"/>
                  </a:cubicBezTo>
                  <a:close/>
                  <a:moveTo>
                    <a:pt x="505" y="1602"/>
                  </a:moveTo>
                  <a:cubicBezTo>
                    <a:pt x="506" y="1608"/>
                    <a:pt x="509" y="1613"/>
                    <a:pt x="516" y="1613"/>
                  </a:cubicBezTo>
                  <a:cubicBezTo>
                    <a:pt x="551" y="1611"/>
                    <a:pt x="498" y="1563"/>
                    <a:pt x="505" y="1602"/>
                  </a:cubicBezTo>
                  <a:close/>
                  <a:moveTo>
                    <a:pt x="756" y="1529"/>
                  </a:moveTo>
                  <a:cubicBezTo>
                    <a:pt x="743" y="1537"/>
                    <a:pt x="750" y="1558"/>
                    <a:pt x="770" y="1556"/>
                  </a:cubicBezTo>
                  <a:cubicBezTo>
                    <a:pt x="780" y="1547"/>
                    <a:pt x="776" y="1527"/>
                    <a:pt x="756" y="1529"/>
                  </a:cubicBezTo>
                  <a:close/>
                  <a:moveTo>
                    <a:pt x="756" y="1445"/>
                  </a:moveTo>
                  <a:cubicBezTo>
                    <a:pt x="748" y="1446"/>
                    <a:pt x="748" y="1460"/>
                    <a:pt x="757" y="1461"/>
                  </a:cubicBezTo>
                  <a:cubicBezTo>
                    <a:pt x="763" y="1459"/>
                    <a:pt x="762" y="1446"/>
                    <a:pt x="756" y="1445"/>
                  </a:cubicBezTo>
                  <a:close/>
                  <a:moveTo>
                    <a:pt x="794" y="1474"/>
                  </a:moveTo>
                  <a:cubicBezTo>
                    <a:pt x="814" y="1445"/>
                    <a:pt x="764" y="1459"/>
                    <a:pt x="794" y="1474"/>
                  </a:cubicBezTo>
                  <a:close/>
                  <a:moveTo>
                    <a:pt x="686" y="1755"/>
                  </a:moveTo>
                  <a:cubicBezTo>
                    <a:pt x="692" y="1747"/>
                    <a:pt x="691" y="1719"/>
                    <a:pt x="682" y="1711"/>
                  </a:cubicBezTo>
                  <a:cubicBezTo>
                    <a:pt x="681" y="1724"/>
                    <a:pt x="679" y="1745"/>
                    <a:pt x="686" y="1755"/>
                  </a:cubicBezTo>
                  <a:close/>
                  <a:moveTo>
                    <a:pt x="729" y="1474"/>
                  </a:moveTo>
                  <a:cubicBezTo>
                    <a:pt x="732" y="1388"/>
                    <a:pt x="636" y="1480"/>
                    <a:pt x="729" y="1474"/>
                  </a:cubicBezTo>
                  <a:close/>
                  <a:moveTo>
                    <a:pt x="798" y="1708"/>
                  </a:moveTo>
                  <a:cubicBezTo>
                    <a:pt x="798" y="1715"/>
                    <a:pt x="795" y="1724"/>
                    <a:pt x="801" y="1727"/>
                  </a:cubicBezTo>
                  <a:cubicBezTo>
                    <a:pt x="802" y="1723"/>
                    <a:pt x="805" y="1709"/>
                    <a:pt x="798" y="1708"/>
                  </a:cubicBezTo>
                  <a:close/>
                  <a:moveTo>
                    <a:pt x="732" y="1567"/>
                  </a:moveTo>
                  <a:cubicBezTo>
                    <a:pt x="741" y="1485"/>
                    <a:pt x="648" y="1563"/>
                    <a:pt x="732" y="1567"/>
                  </a:cubicBezTo>
                  <a:close/>
                  <a:moveTo>
                    <a:pt x="258" y="1603"/>
                  </a:moveTo>
                  <a:cubicBezTo>
                    <a:pt x="264" y="1603"/>
                    <a:pt x="268" y="1599"/>
                    <a:pt x="268" y="1591"/>
                  </a:cubicBezTo>
                  <a:cubicBezTo>
                    <a:pt x="259" y="1579"/>
                    <a:pt x="246" y="1597"/>
                    <a:pt x="258" y="1603"/>
                  </a:cubicBezTo>
                  <a:close/>
                  <a:moveTo>
                    <a:pt x="295" y="1387"/>
                  </a:moveTo>
                  <a:cubicBezTo>
                    <a:pt x="296" y="1393"/>
                    <a:pt x="298" y="1396"/>
                    <a:pt x="302" y="1396"/>
                  </a:cubicBezTo>
                  <a:cubicBezTo>
                    <a:pt x="336" y="1399"/>
                    <a:pt x="287" y="1349"/>
                    <a:pt x="295" y="1387"/>
                  </a:cubicBezTo>
                  <a:close/>
                  <a:moveTo>
                    <a:pt x="265" y="1220"/>
                  </a:moveTo>
                  <a:cubicBezTo>
                    <a:pt x="305" y="1159"/>
                    <a:pt x="202" y="1204"/>
                    <a:pt x="265" y="1220"/>
                  </a:cubicBezTo>
                  <a:close/>
                  <a:moveTo>
                    <a:pt x="754" y="1588"/>
                  </a:moveTo>
                  <a:cubicBezTo>
                    <a:pt x="746" y="1594"/>
                    <a:pt x="751" y="1607"/>
                    <a:pt x="763" y="1606"/>
                  </a:cubicBezTo>
                  <a:cubicBezTo>
                    <a:pt x="770" y="1600"/>
                    <a:pt x="767" y="1586"/>
                    <a:pt x="754" y="1588"/>
                  </a:cubicBezTo>
                  <a:close/>
                  <a:moveTo>
                    <a:pt x="524" y="1525"/>
                  </a:moveTo>
                  <a:cubicBezTo>
                    <a:pt x="528" y="1532"/>
                    <a:pt x="521" y="1546"/>
                    <a:pt x="531" y="1547"/>
                  </a:cubicBezTo>
                  <a:cubicBezTo>
                    <a:pt x="543" y="1538"/>
                    <a:pt x="536" y="1523"/>
                    <a:pt x="524" y="1525"/>
                  </a:cubicBezTo>
                  <a:close/>
                  <a:moveTo>
                    <a:pt x="334" y="1442"/>
                  </a:moveTo>
                  <a:cubicBezTo>
                    <a:pt x="356" y="1400"/>
                    <a:pt x="287" y="1436"/>
                    <a:pt x="334" y="1442"/>
                  </a:cubicBezTo>
                  <a:close/>
                  <a:moveTo>
                    <a:pt x="353" y="1588"/>
                  </a:moveTo>
                  <a:cubicBezTo>
                    <a:pt x="374" y="1567"/>
                    <a:pt x="329" y="1572"/>
                    <a:pt x="353" y="1588"/>
                  </a:cubicBezTo>
                  <a:close/>
                  <a:moveTo>
                    <a:pt x="131" y="1127"/>
                  </a:moveTo>
                  <a:cubicBezTo>
                    <a:pt x="132" y="1134"/>
                    <a:pt x="134" y="1136"/>
                    <a:pt x="138" y="1136"/>
                  </a:cubicBezTo>
                  <a:cubicBezTo>
                    <a:pt x="176" y="1141"/>
                    <a:pt x="124" y="1088"/>
                    <a:pt x="131" y="1127"/>
                  </a:cubicBezTo>
                  <a:close/>
                  <a:moveTo>
                    <a:pt x="272" y="1128"/>
                  </a:moveTo>
                  <a:cubicBezTo>
                    <a:pt x="266" y="1127"/>
                    <a:pt x="262" y="1133"/>
                    <a:pt x="264" y="1140"/>
                  </a:cubicBezTo>
                  <a:cubicBezTo>
                    <a:pt x="270" y="1156"/>
                    <a:pt x="290" y="1128"/>
                    <a:pt x="272" y="1128"/>
                  </a:cubicBezTo>
                  <a:close/>
                  <a:moveTo>
                    <a:pt x="131" y="756"/>
                  </a:moveTo>
                  <a:cubicBezTo>
                    <a:pt x="135" y="757"/>
                    <a:pt x="137" y="755"/>
                    <a:pt x="140" y="754"/>
                  </a:cubicBezTo>
                  <a:cubicBezTo>
                    <a:pt x="141" y="746"/>
                    <a:pt x="141" y="746"/>
                    <a:pt x="141" y="746"/>
                  </a:cubicBezTo>
                  <a:cubicBezTo>
                    <a:pt x="138" y="743"/>
                    <a:pt x="136" y="741"/>
                    <a:pt x="130" y="741"/>
                  </a:cubicBezTo>
                  <a:cubicBezTo>
                    <a:pt x="125" y="745"/>
                    <a:pt x="123" y="751"/>
                    <a:pt x="112" y="747"/>
                  </a:cubicBezTo>
                  <a:cubicBezTo>
                    <a:pt x="105" y="751"/>
                    <a:pt x="104" y="758"/>
                    <a:pt x="106" y="768"/>
                  </a:cubicBezTo>
                  <a:cubicBezTo>
                    <a:pt x="116" y="778"/>
                    <a:pt x="137" y="769"/>
                    <a:pt x="131" y="756"/>
                  </a:cubicBezTo>
                  <a:close/>
                  <a:moveTo>
                    <a:pt x="159" y="1225"/>
                  </a:moveTo>
                  <a:cubicBezTo>
                    <a:pt x="162" y="1226"/>
                    <a:pt x="165" y="1227"/>
                    <a:pt x="165" y="1231"/>
                  </a:cubicBezTo>
                  <a:cubicBezTo>
                    <a:pt x="166" y="1236"/>
                    <a:pt x="159" y="1239"/>
                    <a:pt x="161" y="1243"/>
                  </a:cubicBezTo>
                  <a:cubicBezTo>
                    <a:pt x="162" y="1240"/>
                    <a:pt x="167" y="1243"/>
                    <a:pt x="169" y="1242"/>
                  </a:cubicBezTo>
                  <a:cubicBezTo>
                    <a:pt x="170" y="1246"/>
                    <a:pt x="171" y="1249"/>
                    <a:pt x="170" y="1254"/>
                  </a:cubicBezTo>
                  <a:cubicBezTo>
                    <a:pt x="181" y="1252"/>
                    <a:pt x="193" y="1257"/>
                    <a:pt x="201" y="1264"/>
                  </a:cubicBezTo>
                  <a:cubicBezTo>
                    <a:pt x="204" y="1259"/>
                    <a:pt x="208" y="1256"/>
                    <a:pt x="213" y="1255"/>
                  </a:cubicBezTo>
                  <a:cubicBezTo>
                    <a:pt x="216" y="1256"/>
                    <a:pt x="215" y="1260"/>
                    <a:pt x="219" y="1260"/>
                  </a:cubicBezTo>
                  <a:cubicBezTo>
                    <a:pt x="221" y="1256"/>
                    <a:pt x="222" y="1251"/>
                    <a:pt x="223" y="1247"/>
                  </a:cubicBezTo>
                  <a:cubicBezTo>
                    <a:pt x="241" y="1247"/>
                    <a:pt x="224" y="1228"/>
                    <a:pt x="235" y="1219"/>
                  </a:cubicBezTo>
                  <a:cubicBezTo>
                    <a:pt x="224" y="1180"/>
                    <a:pt x="169" y="1189"/>
                    <a:pt x="159" y="1225"/>
                  </a:cubicBezTo>
                  <a:close/>
                  <a:moveTo>
                    <a:pt x="363" y="1177"/>
                  </a:moveTo>
                  <a:cubicBezTo>
                    <a:pt x="348" y="1198"/>
                    <a:pt x="387" y="1184"/>
                    <a:pt x="363" y="1177"/>
                  </a:cubicBezTo>
                  <a:close/>
                  <a:moveTo>
                    <a:pt x="424" y="1259"/>
                  </a:moveTo>
                  <a:cubicBezTo>
                    <a:pt x="416" y="1258"/>
                    <a:pt x="412" y="1266"/>
                    <a:pt x="414" y="1273"/>
                  </a:cubicBezTo>
                  <a:cubicBezTo>
                    <a:pt x="419" y="1295"/>
                    <a:pt x="445" y="1262"/>
                    <a:pt x="424" y="1259"/>
                  </a:cubicBezTo>
                  <a:close/>
                  <a:moveTo>
                    <a:pt x="397" y="1273"/>
                  </a:moveTo>
                  <a:cubicBezTo>
                    <a:pt x="380" y="1270"/>
                    <a:pt x="376" y="1297"/>
                    <a:pt x="395" y="1297"/>
                  </a:cubicBezTo>
                  <a:cubicBezTo>
                    <a:pt x="403" y="1294"/>
                    <a:pt x="405" y="1278"/>
                    <a:pt x="397" y="1273"/>
                  </a:cubicBezTo>
                  <a:close/>
                  <a:moveTo>
                    <a:pt x="408" y="1311"/>
                  </a:moveTo>
                  <a:cubicBezTo>
                    <a:pt x="394" y="1319"/>
                    <a:pt x="390" y="1346"/>
                    <a:pt x="406" y="1352"/>
                  </a:cubicBezTo>
                  <a:cubicBezTo>
                    <a:pt x="423" y="1351"/>
                    <a:pt x="438" y="1311"/>
                    <a:pt x="408" y="1311"/>
                  </a:cubicBezTo>
                  <a:close/>
                  <a:moveTo>
                    <a:pt x="399" y="1563"/>
                  </a:moveTo>
                  <a:cubicBezTo>
                    <a:pt x="392" y="1563"/>
                    <a:pt x="391" y="1570"/>
                    <a:pt x="391" y="1573"/>
                  </a:cubicBezTo>
                  <a:cubicBezTo>
                    <a:pt x="394" y="1598"/>
                    <a:pt x="422" y="1563"/>
                    <a:pt x="399" y="1563"/>
                  </a:cubicBezTo>
                  <a:close/>
                  <a:moveTo>
                    <a:pt x="537" y="1596"/>
                  </a:moveTo>
                  <a:cubicBezTo>
                    <a:pt x="530" y="1602"/>
                    <a:pt x="535" y="1615"/>
                    <a:pt x="544" y="1611"/>
                  </a:cubicBezTo>
                  <a:cubicBezTo>
                    <a:pt x="549" y="1606"/>
                    <a:pt x="549" y="1595"/>
                    <a:pt x="537" y="1596"/>
                  </a:cubicBezTo>
                  <a:close/>
                  <a:moveTo>
                    <a:pt x="431" y="1514"/>
                  </a:moveTo>
                  <a:cubicBezTo>
                    <a:pt x="420" y="1511"/>
                    <a:pt x="417" y="1519"/>
                    <a:pt x="417" y="1527"/>
                  </a:cubicBezTo>
                  <a:cubicBezTo>
                    <a:pt x="419" y="1556"/>
                    <a:pt x="456" y="1521"/>
                    <a:pt x="431" y="1514"/>
                  </a:cubicBezTo>
                  <a:close/>
                  <a:moveTo>
                    <a:pt x="444" y="1294"/>
                  </a:moveTo>
                  <a:cubicBezTo>
                    <a:pt x="445" y="1300"/>
                    <a:pt x="448" y="1304"/>
                    <a:pt x="454" y="1304"/>
                  </a:cubicBezTo>
                  <a:cubicBezTo>
                    <a:pt x="488" y="1306"/>
                    <a:pt x="439" y="1259"/>
                    <a:pt x="444" y="1294"/>
                  </a:cubicBezTo>
                  <a:close/>
                  <a:moveTo>
                    <a:pt x="370" y="1703"/>
                  </a:moveTo>
                  <a:cubicBezTo>
                    <a:pt x="370" y="1704"/>
                    <a:pt x="369" y="1704"/>
                    <a:pt x="368" y="1704"/>
                  </a:cubicBezTo>
                  <a:cubicBezTo>
                    <a:pt x="364" y="1709"/>
                    <a:pt x="365" y="1716"/>
                    <a:pt x="371" y="1717"/>
                  </a:cubicBezTo>
                  <a:cubicBezTo>
                    <a:pt x="378" y="1716"/>
                    <a:pt x="380" y="1703"/>
                    <a:pt x="370" y="1703"/>
                  </a:cubicBezTo>
                  <a:close/>
                  <a:moveTo>
                    <a:pt x="451" y="1865"/>
                  </a:moveTo>
                  <a:cubicBezTo>
                    <a:pt x="459" y="1862"/>
                    <a:pt x="460" y="1846"/>
                    <a:pt x="455" y="1842"/>
                  </a:cubicBezTo>
                  <a:cubicBezTo>
                    <a:pt x="451" y="1845"/>
                    <a:pt x="444" y="1861"/>
                    <a:pt x="451" y="1865"/>
                  </a:cubicBezTo>
                  <a:close/>
                  <a:moveTo>
                    <a:pt x="442" y="1341"/>
                  </a:moveTo>
                  <a:cubicBezTo>
                    <a:pt x="433" y="1344"/>
                    <a:pt x="432" y="1362"/>
                    <a:pt x="447" y="1359"/>
                  </a:cubicBezTo>
                  <a:cubicBezTo>
                    <a:pt x="452" y="1353"/>
                    <a:pt x="451" y="1341"/>
                    <a:pt x="442" y="1341"/>
                  </a:cubicBezTo>
                  <a:close/>
                  <a:moveTo>
                    <a:pt x="778" y="1428"/>
                  </a:moveTo>
                  <a:cubicBezTo>
                    <a:pt x="783" y="1424"/>
                    <a:pt x="782" y="1416"/>
                    <a:pt x="776" y="1414"/>
                  </a:cubicBezTo>
                  <a:cubicBezTo>
                    <a:pt x="776" y="1415"/>
                    <a:pt x="775" y="1416"/>
                    <a:pt x="773" y="1415"/>
                  </a:cubicBezTo>
                  <a:cubicBezTo>
                    <a:pt x="770" y="1420"/>
                    <a:pt x="771" y="1428"/>
                    <a:pt x="778" y="1428"/>
                  </a:cubicBezTo>
                  <a:close/>
                  <a:moveTo>
                    <a:pt x="1504" y="905"/>
                  </a:moveTo>
                  <a:cubicBezTo>
                    <a:pt x="1495" y="902"/>
                    <a:pt x="1481" y="904"/>
                    <a:pt x="1473" y="906"/>
                  </a:cubicBezTo>
                  <a:cubicBezTo>
                    <a:pt x="1482" y="906"/>
                    <a:pt x="1499" y="912"/>
                    <a:pt x="1504" y="905"/>
                  </a:cubicBezTo>
                  <a:close/>
                  <a:moveTo>
                    <a:pt x="1465" y="958"/>
                  </a:moveTo>
                  <a:cubicBezTo>
                    <a:pt x="1468" y="942"/>
                    <a:pt x="1447" y="930"/>
                    <a:pt x="1432" y="927"/>
                  </a:cubicBezTo>
                  <a:cubicBezTo>
                    <a:pt x="1431" y="920"/>
                    <a:pt x="1429" y="915"/>
                    <a:pt x="1431" y="906"/>
                  </a:cubicBezTo>
                  <a:cubicBezTo>
                    <a:pt x="1424" y="901"/>
                    <a:pt x="1416" y="896"/>
                    <a:pt x="1411" y="890"/>
                  </a:cubicBezTo>
                  <a:cubicBezTo>
                    <a:pt x="1385" y="885"/>
                    <a:pt x="1373" y="917"/>
                    <a:pt x="1390" y="932"/>
                  </a:cubicBezTo>
                  <a:cubicBezTo>
                    <a:pt x="1388" y="934"/>
                    <a:pt x="1386" y="936"/>
                    <a:pt x="1386" y="940"/>
                  </a:cubicBezTo>
                  <a:cubicBezTo>
                    <a:pt x="1407" y="955"/>
                    <a:pt x="1436" y="961"/>
                    <a:pt x="1465" y="958"/>
                  </a:cubicBezTo>
                  <a:close/>
                  <a:moveTo>
                    <a:pt x="1704" y="1039"/>
                  </a:moveTo>
                  <a:cubicBezTo>
                    <a:pt x="1697" y="1048"/>
                    <a:pt x="1711" y="1057"/>
                    <a:pt x="1719" y="1051"/>
                  </a:cubicBezTo>
                  <a:cubicBezTo>
                    <a:pt x="1720" y="1042"/>
                    <a:pt x="1713" y="1037"/>
                    <a:pt x="1704" y="1039"/>
                  </a:cubicBezTo>
                  <a:close/>
                  <a:moveTo>
                    <a:pt x="1800" y="887"/>
                  </a:moveTo>
                  <a:cubicBezTo>
                    <a:pt x="1793" y="887"/>
                    <a:pt x="1786" y="886"/>
                    <a:pt x="1782" y="888"/>
                  </a:cubicBezTo>
                  <a:cubicBezTo>
                    <a:pt x="1785" y="890"/>
                    <a:pt x="1799" y="892"/>
                    <a:pt x="1800" y="887"/>
                  </a:cubicBezTo>
                  <a:close/>
                  <a:moveTo>
                    <a:pt x="1399" y="860"/>
                  </a:moveTo>
                  <a:cubicBezTo>
                    <a:pt x="1369" y="892"/>
                    <a:pt x="1434" y="879"/>
                    <a:pt x="1399" y="860"/>
                  </a:cubicBezTo>
                  <a:close/>
                  <a:moveTo>
                    <a:pt x="1493" y="1708"/>
                  </a:moveTo>
                  <a:cubicBezTo>
                    <a:pt x="1495" y="1702"/>
                    <a:pt x="1493" y="1698"/>
                    <a:pt x="1487" y="1697"/>
                  </a:cubicBezTo>
                  <a:cubicBezTo>
                    <a:pt x="1487" y="1698"/>
                    <a:pt x="1486" y="1698"/>
                    <a:pt x="1484" y="1698"/>
                  </a:cubicBezTo>
                  <a:cubicBezTo>
                    <a:pt x="1482" y="1706"/>
                    <a:pt x="1487" y="1710"/>
                    <a:pt x="1493" y="1708"/>
                  </a:cubicBezTo>
                  <a:close/>
                  <a:moveTo>
                    <a:pt x="1365" y="1258"/>
                  </a:moveTo>
                  <a:cubicBezTo>
                    <a:pt x="1372" y="1175"/>
                    <a:pt x="1280" y="1264"/>
                    <a:pt x="1365" y="1258"/>
                  </a:cubicBezTo>
                  <a:close/>
                  <a:moveTo>
                    <a:pt x="1426" y="1867"/>
                  </a:moveTo>
                  <a:cubicBezTo>
                    <a:pt x="1447" y="1905"/>
                    <a:pt x="1486" y="1944"/>
                    <a:pt x="1523" y="1971"/>
                  </a:cubicBezTo>
                  <a:cubicBezTo>
                    <a:pt x="1503" y="1931"/>
                    <a:pt x="1461" y="1899"/>
                    <a:pt x="1426" y="1867"/>
                  </a:cubicBezTo>
                  <a:close/>
                  <a:moveTo>
                    <a:pt x="1191" y="1196"/>
                  </a:moveTo>
                  <a:cubicBezTo>
                    <a:pt x="1191" y="1191"/>
                    <a:pt x="1195" y="1190"/>
                    <a:pt x="1196" y="1185"/>
                  </a:cubicBezTo>
                  <a:cubicBezTo>
                    <a:pt x="1183" y="1154"/>
                    <a:pt x="1151" y="1202"/>
                    <a:pt x="1191" y="1196"/>
                  </a:cubicBezTo>
                  <a:close/>
                  <a:moveTo>
                    <a:pt x="1277" y="1193"/>
                  </a:moveTo>
                  <a:cubicBezTo>
                    <a:pt x="1272" y="1199"/>
                    <a:pt x="1279" y="1207"/>
                    <a:pt x="1286" y="1203"/>
                  </a:cubicBezTo>
                  <a:cubicBezTo>
                    <a:pt x="1288" y="1197"/>
                    <a:pt x="1285" y="1193"/>
                    <a:pt x="1280" y="1192"/>
                  </a:cubicBezTo>
                  <a:cubicBezTo>
                    <a:pt x="1280" y="1193"/>
                    <a:pt x="1279" y="1193"/>
                    <a:pt x="1277" y="1193"/>
                  </a:cubicBezTo>
                  <a:close/>
                  <a:moveTo>
                    <a:pt x="1666" y="1059"/>
                  </a:moveTo>
                  <a:cubicBezTo>
                    <a:pt x="1634" y="1056"/>
                    <a:pt x="1554" y="1030"/>
                    <a:pt x="1528" y="1044"/>
                  </a:cubicBezTo>
                  <a:cubicBezTo>
                    <a:pt x="1535" y="1061"/>
                    <a:pt x="1588" y="1055"/>
                    <a:pt x="1625" y="1062"/>
                  </a:cubicBezTo>
                  <a:cubicBezTo>
                    <a:pt x="1634" y="1064"/>
                    <a:pt x="1689" y="1083"/>
                    <a:pt x="1694" y="1072"/>
                  </a:cubicBezTo>
                  <a:cubicBezTo>
                    <a:pt x="1700" y="1057"/>
                    <a:pt x="1673" y="1060"/>
                    <a:pt x="1666" y="1059"/>
                  </a:cubicBezTo>
                  <a:close/>
                  <a:moveTo>
                    <a:pt x="1561" y="349"/>
                  </a:moveTo>
                  <a:cubicBezTo>
                    <a:pt x="1562" y="340"/>
                    <a:pt x="1542" y="340"/>
                    <a:pt x="1546" y="350"/>
                  </a:cubicBezTo>
                  <a:cubicBezTo>
                    <a:pt x="1549" y="355"/>
                    <a:pt x="1560" y="356"/>
                    <a:pt x="1561" y="349"/>
                  </a:cubicBezTo>
                  <a:close/>
                  <a:moveTo>
                    <a:pt x="1521" y="34"/>
                  </a:moveTo>
                  <a:cubicBezTo>
                    <a:pt x="1514" y="33"/>
                    <a:pt x="1511" y="38"/>
                    <a:pt x="1513" y="42"/>
                  </a:cubicBezTo>
                  <a:cubicBezTo>
                    <a:pt x="1518" y="54"/>
                    <a:pt x="1535" y="36"/>
                    <a:pt x="1521" y="34"/>
                  </a:cubicBezTo>
                  <a:close/>
                  <a:moveTo>
                    <a:pt x="1581" y="420"/>
                  </a:moveTo>
                  <a:cubicBezTo>
                    <a:pt x="1544" y="402"/>
                    <a:pt x="1570" y="454"/>
                    <a:pt x="1581" y="420"/>
                  </a:cubicBezTo>
                  <a:close/>
                  <a:moveTo>
                    <a:pt x="1796" y="1055"/>
                  </a:moveTo>
                  <a:cubicBezTo>
                    <a:pt x="1792" y="1063"/>
                    <a:pt x="1803" y="1067"/>
                    <a:pt x="1804" y="1059"/>
                  </a:cubicBezTo>
                  <a:cubicBezTo>
                    <a:pt x="1803" y="1056"/>
                    <a:pt x="1801" y="1055"/>
                    <a:pt x="1796" y="1055"/>
                  </a:cubicBezTo>
                  <a:close/>
                  <a:moveTo>
                    <a:pt x="1453" y="516"/>
                  </a:moveTo>
                  <a:cubicBezTo>
                    <a:pt x="1453" y="497"/>
                    <a:pt x="1400" y="488"/>
                    <a:pt x="1405" y="519"/>
                  </a:cubicBezTo>
                  <a:cubicBezTo>
                    <a:pt x="1409" y="540"/>
                    <a:pt x="1453" y="536"/>
                    <a:pt x="1453" y="516"/>
                  </a:cubicBezTo>
                  <a:close/>
                  <a:moveTo>
                    <a:pt x="1491" y="94"/>
                  </a:moveTo>
                  <a:cubicBezTo>
                    <a:pt x="1489" y="92"/>
                    <a:pt x="1485" y="90"/>
                    <a:pt x="1482" y="92"/>
                  </a:cubicBezTo>
                  <a:cubicBezTo>
                    <a:pt x="1482" y="96"/>
                    <a:pt x="1482" y="96"/>
                    <a:pt x="1482" y="96"/>
                  </a:cubicBezTo>
                  <a:cubicBezTo>
                    <a:pt x="1485" y="100"/>
                    <a:pt x="1490" y="97"/>
                    <a:pt x="1491" y="94"/>
                  </a:cubicBezTo>
                  <a:close/>
                  <a:moveTo>
                    <a:pt x="1740" y="268"/>
                  </a:moveTo>
                  <a:cubicBezTo>
                    <a:pt x="1742" y="265"/>
                    <a:pt x="1743" y="262"/>
                    <a:pt x="1744" y="259"/>
                  </a:cubicBezTo>
                  <a:cubicBezTo>
                    <a:pt x="1740" y="256"/>
                    <a:pt x="1736" y="258"/>
                    <a:pt x="1732" y="260"/>
                  </a:cubicBezTo>
                  <a:cubicBezTo>
                    <a:pt x="1732" y="265"/>
                    <a:pt x="1734" y="268"/>
                    <a:pt x="1740" y="268"/>
                  </a:cubicBezTo>
                  <a:close/>
                  <a:moveTo>
                    <a:pt x="1711" y="194"/>
                  </a:moveTo>
                  <a:cubicBezTo>
                    <a:pt x="1709" y="185"/>
                    <a:pt x="1687" y="187"/>
                    <a:pt x="1693" y="199"/>
                  </a:cubicBezTo>
                  <a:cubicBezTo>
                    <a:pt x="1697" y="207"/>
                    <a:pt x="1712" y="202"/>
                    <a:pt x="1711" y="194"/>
                  </a:cubicBezTo>
                  <a:close/>
                  <a:moveTo>
                    <a:pt x="1671" y="227"/>
                  </a:moveTo>
                  <a:cubicBezTo>
                    <a:pt x="1632" y="203"/>
                    <a:pt x="1650" y="267"/>
                    <a:pt x="1671" y="227"/>
                  </a:cubicBezTo>
                  <a:close/>
                  <a:moveTo>
                    <a:pt x="1634" y="672"/>
                  </a:moveTo>
                  <a:cubicBezTo>
                    <a:pt x="1629" y="668"/>
                    <a:pt x="1621" y="672"/>
                    <a:pt x="1619" y="676"/>
                  </a:cubicBezTo>
                  <a:cubicBezTo>
                    <a:pt x="1625" y="675"/>
                    <a:pt x="1632" y="677"/>
                    <a:pt x="1634" y="672"/>
                  </a:cubicBezTo>
                  <a:close/>
                  <a:moveTo>
                    <a:pt x="848" y="1437"/>
                  </a:moveTo>
                  <a:cubicBezTo>
                    <a:pt x="868" y="1376"/>
                    <a:pt x="783" y="1422"/>
                    <a:pt x="848" y="1437"/>
                  </a:cubicBezTo>
                  <a:close/>
                  <a:moveTo>
                    <a:pt x="906" y="1422"/>
                  </a:moveTo>
                  <a:cubicBezTo>
                    <a:pt x="905" y="1426"/>
                    <a:pt x="904" y="1431"/>
                    <a:pt x="909" y="1433"/>
                  </a:cubicBezTo>
                  <a:cubicBezTo>
                    <a:pt x="914" y="1431"/>
                    <a:pt x="911" y="1422"/>
                    <a:pt x="906" y="1422"/>
                  </a:cubicBezTo>
                  <a:close/>
                  <a:moveTo>
                    <a:pt x="759" y="1640"/>
                  </a:moveTo>
                  <a:cubicBezTo>
                    <a:pt x="780" y="1610"/>
                    <a:pt x="727" y="1626"/>
                    <a:pt x="759" y="1640"/>
                  </a:cubicBezTo>
                  <a:close/>
                  <a:moveTo>
                    <a:pt x="938" y="1747"/>
                  </a:moveTo>
                  <a:cubicBezTo>
                    <a:pt x="944" y="1696"/>
                    <a:pt x="885" y="1749"/>
                    <a:pt x="938" y="1747"/>
                  </a:cubicBezTo>
                  <a:close/>
                  <a:moveTo>
                    <a:pt x="1386" y="1372"/>
                  </a:moveTo>
                  <a:cubicBezTo>
                    <a:pt x="1377" y="1375"/>
                    <a:pt x="1385" y="1387"/>
                    <a:pt x="1392" y="1383"/>
                  </a:cubicBezTo>
                  <a:cubicBezTo>
                    <a:pt x="1394" y="1377"/>
                    <a:pt x="1392" y="1373"/>
                    <a:pt x="1386" y="1372"/>
                  </a:cubicBezTo>
                  <a:close/>
                  <a:moveTo>
                    <a:pt x="929" y="1595"/>
                  </a:moveTo>
                  <a:cubicBezTo>
                    <a:pt x="931" y="1589"/>
                    <a:pt x="927" y="1580"/>
                    <a:pt x="918" y="1580"/>
                  </a:cubicBezTo>
                  <a:cubicBezTo>
                    <a:pt x="910" y="1586"/>
                    <a:pt x="920" y="1597"/>
                    <a:pt x="929" y="1595"/>
                  </a:cubicBezTo>
                  <a:close/>
                  <a:moveTo>
                    <a:pt x="842" y="1559"/>
                  </a:moveTo>
                  <a:cubicBezTo>
                    <a:pt x="840" y="1564"/>
                    <a:pt x="840" y="1568"/>
                    <a:pt x="847" y="1568"/>
                  </a:cubicBezTo>
                  <a:cubicBezTo>
                    <a:pt x="849" y="1565"/>
                    <a:pt x="848" y="1564"/>
                    <a:pt x="848" y="1560"/>
                  </a:cubicBezTo>
                  <a:lnTo>
                    <a:pt x="842" y="1559"/>
                  </a:lnTo>
                  <a:close/>
                  <a:moveTo>
                    <a:pt x="757" y="1755"/>
                  </a:moveTo>
                  <a:cubicBezTo>
                    <a:pt x="774" y="1731"/>
                    <a:pt x="731" y="1747"/>
                    <a:pt x="757" y="1755"/>
                  </a:cubicBezTo>
                  <a:close/>
                  <a:moveTo>
                    <a:pt x="755" y="1723"/>
                  </a:moveTo>
                  <a:cubicBezTo>
                    <a:pt x="748" y="1726"/>
                    <a:pt x="751" y="1736"/>
                    <a:pt x="760" y="1737"/>
                  </a:cubicBezTo>
                  <a:cubicBezTo>
                    <a:pt x="765" y="1733"/>
                    <a:pt x="762" y="1723"/>
                    <a:pt x="755" y="1723"/>
                  </a:cubicBezTo>
                  <a:close/>
                  <a:moveTo>
                    <a:pt x="831" y="1909"/>
                  </a:moveTo>
                  <a:cubicBezTo>
                    <a:pt x="859" y="1862"/>
                    <a:pt x="794" y="1872"/>
                    <a:pt x="831" y="1909"/>
                  </a:cubicBezTo>
                  <a:close/>
                  <a:moveTo>
                    <a:pt x="830" y="1333"/>
                  </a:moveTo>
                  <a:cubicBezTo>
                    <a:pt x="849" y="1331"/>
                    <a:pt x="820" y="1306"/>
                    <a:pt x="822" y="1325"/>
                  </a:cubicBezTo>
                  <a:cubicBezTo>
                    <a:pt x="823" y="1330"/>
                    <a:pt x="823" y="1334"/>
                    <a:pt x="830" y="1333"/>
                  </a:cubicBezTo>
                  <a:close/>
                  <a:moveTo>
                    <a:pt x="944" y="1953"/>
                  </a:moveTo>
                  <a:cubicBezTo>
                    <a:pt x="968" y="1898"/>
                    <a:pt x="894" y="1929"/>
                    <a:pt x="944" y="1953"/>
                  </a:cubicBezTo>
                  <a:close/>
                  <a:moveTo>
                    <a:pt x="1294" y="1373"/>
                  </a:moveTo>
                  <a:cubicBezTo>
                    <a:pt x="1292" y="1374"/>
                    <a:pt x="1292" y="1377"/>
                    <a:pt x="1292" y="1380"/>
                  </a:cubicBezTo>
                  <a:cubicBezTo>
                    <a:pt x="1295" y="1380"/>
                    <a:pt x="1295" y="1382"/>
                    <a:pt x="1299" y="1382"/>
                  </a:cubicBezTo>
                  <a:cubicBezTo>
                    <a:pt x="1301" y="1378"/>
                    <a:pt x="1300" y="1373"/>
                    <a:pt x="1294" y="1373"/>
                  </a:cubicBezTo>
                  <a:close/>
                  <a:moveTo>
                    <a:pt x="1297" y="1366"/>
                  </a:moveTo>
                  <a:cubicBezTo>
                    <a:pt x="1300" y="1342"/>
                    <a:pt x="1268" y="1335"/>
                    <a:pt x="1250" y="1322"/>
                  </a:cubicBezTo>
                  <a:cubicBezTo>
                    <a:pt x="1260" y="1335"/>
                    <a:pt x="1269" y="1370"/>
                    <a:pt x="1297" y="1366"/>
                  </a:cubicBezTo>
                  <a:close/>
                  <a:moveTo>
                    <a:pt x="1245" y="1714"/>
                  </a:moveTo>
                  <a:cubicBezTo>
                    <a:pt x="1241" y="1719"/>
                    <a:pt x="1244" y="1727"/>
                    <a:pt x="1252" y="1727"/>
                  </a:cubicBezTo>
                  <a:cubicBezTo>
                    <a:pt x="1256" y="1722"/>
                    <a:pt x="1254" y="1713"/>
                    <a:pt x="1245" y="1714"/>
                  </a:cubicBezTo>
                  <a:close/>
                  <a:moveTo>
                    <a:pt x="1228" y="1301"/>
                  </a:moveTo>
                  <a:cubicBezTo>
                    <a:pt x="1223" y="1305"/>
                    <a:pt x="1228" y="1311"/>
                    <a:pt x="1234" y="1311"/>
                  </a:cubicBezTo>
                  <a:cubicBezTo>
                    <a:pt x="1234" y="1309"/>
                    <a:pt x="1236" y="1309"/>
                    <a:pt x="1237" y="1309"/>
                  </a:cubicBezTo>
                  <a:cubicBezTo>
                    <a:pt x="1237" y="1303"/>
                    <a:pt x="1234" y="1301"/>
                    <a:pt x="1228" y="1301"/>
                  </a:cubicBezTo>
                  <a:close/>
                  <a:moveTo>
                    <a:pt x="1254" y="1514"/>
                  </a:moveTo>
                  <a:cubicBezTo>
                    <a:pt x="1249" y="1519"/>
                    <a:pt x="1250" y="1526"/>
                    <a:pt x="1260" y="1526"/>
                  </a:cubicBezTo>
                  <a:cubicBezTo>
                    <a:pt x="1265" y="1522"/>
                    <a:pt x="1263" y="1514"/>
                    <a:pt x="1254" y="1514"/>
                  </a:cubicBezTo>
                  <a:close/>
                  <a:moveTo>
                    <a:pt x="980" y="1450"/>
                  </a:moveTo>
                  <a:cubicBezTo>
                    <a:pt x="982" y="1406"/>
                    <a:pt x="935" y="1450"/>
                    <a:pt x="980" y="1450"/>
                  </a:cubicBezTo>
                  <a:close/>
                  <a:moveTo>
                    <a:pt x="1136" y="1326"/>
                  </a:moveTo>
                  <a:cubicBezTo>
                    <a:pt x="1141" y="1316"/>
                    <a:pt x="1144" y="1298"/>
                    <a:pt x="1127" y="1299"/>
                  </a:cubicBezTo>
                  <a:cubicBezTo>
                    <a:pt x="1118" y="1309"/>
                    <a:pt x="1125" y="1323"/>
                    <a:pt x="1136" y="1326"/>
                  </a:cubicBezTo>
                  <a:close/>
                  <a:moveTo>
                    <a:pt x="1024" y="1584"/>
                  </a:moveTo>
                  <a:cubicBezTo>
                    <a:pt x="1014" y="1588"/>
                    <a:pt x="1020" y="1599"/>
                    <a:pt x="1027" y="1601"/>
                  </a:cubicBezTo>
                  <a:cubicBezTo>
                    <a:pt x="1032" y="1598"/>
                    <a:pt x="1029" y="1591"/>
                    <a:pt x="1028" y="1586"/>
                  </a:cubicBezTo>
                  <a:cubicBezTo>
                    <a:pt x="1026" y="1586"/>
                    <a:pt x="1025" y="1585"/>
                    <a:pt x="1024" y="1584"/>
                  </a:cubicBezTo>
                  <a:close/>
                  <a:moveTo>
                    <a:pt x="1132" y="1265"/>
                  </a:moveTo>
                  <a:cubicBezTo>
                    <a:pt x="1132" y="1252"/>
                    <a:pt x="1137" y="1239"/>
                    <a:pt x="1123" y="1237"/>
                  </a:cubicBezTo>
                  <a:cubicBezTo>
                    <a:pt x="1119" y="1241"/>
                    <a:pt x="1126" y="1244"/>
                    <a:pt x="1123" y="1245"/>
                  </a:cubicBezTo>
                  <a:cubicBezTo>
                    <a:pt x="1106" y="1247"/>
                    <a:pt x="1120" y="1270"/>
                    <a:pt x="1132" y="1265"/>
                  </a:cubicBezTo>
                  <a:close/>
                  <a:moveTo>
                    <a:pt x="1221" y="1753"/>
                  </a:moveTo>
                  <a:cubicBezTo>
                    <a:pt x="1206" y="1724"/>
                    <a:pt x="1186" y="1688"/>
                    <a:pt x="1161" y="1662"/>
                  </a:cubicBezTo>
                  <a:cubicBezTo>
                    <a:pt x="1171" y="1695"/>
                    <a:pt x="1194" y="1733"/>
                    <a:pt x="1221" y="1753"/>
                  </a:cubicBezTo>
                  <a:close/>
                </a:path>
              </a:pathLst>
            </a:custGeom>
            <a:solidFill>
              <a:srgbClr val="ff00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" name=""/>
            <p:cNvGrpSpPr/>
            <p:nvPr/>
          </p:nvGrpSpPr>
          <p:grpSpPr>
            <a:xfrm>
              <a:off x="2885760" y="2575800"/>
              <a:ext cx="2232000" cy="775080"/>
              <a:chOff x="2885760" y="2575800"/>
              <a:chExt cx="2232000" cy="775080"/>
            </a:xfrm>
          </p:grpSpPr>
          <p:sp>
            <p:nvSpPr>
              <p:cNvPr id="125" name="Freeform 7"/>
              <p:cNvSpPr/>
              <p:nvPr/>
            </p:nvSpPr>
            <p:spPr>
              <a:xfrm>
                <a:off x="2885760" y="2585160"/>
                <a:ext cx="415800" cy="380880"/>
              </a:xfrm>
              <a:custGeom>
                <a:avLst/>
                <a:gdLst>
                  <a:gd name="textAreaLeft" fmla="*/ 0 w 415800"/>
                  <a:gd name="textAreaRight" fmla="*/ 416160 w 415800"/>
                  <a:gd name="textAreaTop" fmla="*/ 0 h 380880"/>
                  <a:gd name="textAreaBottom" fmla="*/ 381240 h 380880"/>
                </a:gdLst>
                <a:ahLst/>
                <a:rect l="textAreaLeft" t="textAreaTop" r="textAreaRight" b="textAreaBottom"/>
                <a:pathLst>
                  <a:path w="131" h="120">
                    <a:moveTo>
                      <a:pt x="0" y="120"/>
                    </a:moveTo>
                    <a:cubicBezTo>
                      <a:pt x="4" y="72"/>
                      <a:pt x="4" y="72"/>
                      <a:pt x="4" y="72"/>
                    </a:cubicBezTo>
                    <a:cubicBezTo>
                      <a:pt x="5" y="37"/>
                      <a:pt x="5" y="37"/>
                      <a:pt x="5" y="37"/>
                    </a:cubicBezTo>
                    <a:cubicBezTo>
                      <a:pt x="6" y="21"/>
                      <a:pt x="6" y="21"/>
                      <a:pt x="6" y="21"/>
                    </a:cubicBezTo>
                    <a:cubicBezTo>
                      <a:pt x="6" y="17"/>
                      <a:pt x="6" y="12"/>
                      <a:pt x="6" y="8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15" y="0"/>
                      <a:pt x="22" y="0"/>
                      <a:pt x="26" y="0"/>
                    </a:cubicBezTo>
                    <a:cubicBezTo>
                      <a:pt x="30" y="0"/>
                      <a:pt x="36" y="0"/>
                      <a:pt x="45" y="0"/>
                    </a:cubicBezTo>
                    <a:cubicBezTo>
                      <a:pt x="44" y="16"/>
                      <a:pt x="43" y="31"/>
                      <a:pt x="42" y="44"/>
                    </a:cubicBezTo>
                    <a:cubicBezTo>
                      <a:pt x="90" y="44"/>
                      <a:pt x="90" y="44"/>
                      <a:pt x="90" y="44"/>
                    </a:cubicBezTo>
                    <a:cubicBezTo>
                      <a:pt x="91" y="39"/>
                      <a:pt x="91" y="33"/>
                      <a:pt x="91" y="25"/>
                    </a:cubicBezTo>
                    <a:cubicBezTo>
                      <a:pt x="91" y="16"/>
                      <a:pt x="92" y="11"/>
                      <a:pt x="92" y="8"/>
                    </a:cubicBezTo>
                    <a:cubicBezTo>
                      <a:pt x="92" y="6"/>
                      <a:pt x="92" y="4"/>
                      <a:pt x="91" y="0"/>
                    </a:cubicBezTo>
                    <a:cubicBezTo>
                      <a:pt x="112" y="0"/>
                      <a:pt x="112" y="0"/>
                      <a:pt x="112" y="0"/>
                    </a:cubicBezTo>
                    <a:cubicBezTo>
                      <a:pt x="114" y="0"/>
                      <a:pt x="121" y="0"/>
                      <a:pt x="131" y="0"/>
                    </a:cubicBezTo>
                    <a:cubicBezTo>
                      <a:pt x="129" y="30"/>
                      <a:pt x="127" y="52"/>
                      <a:pt x="127" y="67"/>
                    </a:cubicBezTo>
                    <a:cubicBezTo>
                      <a:pt x="126" y="82"/>
                      <a:pt x="126" y="99"/>
                      <a:pt x="126" y="120"/>
                    </a:cubicBezTo>
                    <a:cubicBezTo>
                      <a:pt x="107" y="120"/>
                      <a:pt x="107" y="120"/>
                      <a:pt x="107" y="120"/>
                    </a:cubicBezTo>
                    <a:cubicBezTo>
                      <a:pt x="104" y="120"/>
                      <a:pt x="97" y="120"/>
                      <a:pt x="86" y="120"/>
                    </a:cubicBezTo>
                    <a:cubicBezTo>
                      <a:pt x="87" y="106"/>
                      <a:pt x="88" y="89"/>
                      <a:pt x="89" y="71"/>
                    </a:cubicBezTo>
                    <a:cubicBezTo>
                      <a:pt x="41" y="71"/>
                      <a:pt x="41" y="71"/>
                      <a:pt x="41" y="71"/>
                    </a:cubicBezTo>
                    <a:cubicBezTo>
                      <a:pt x="40" y="120"/>
                      <a:pt x="40" y="120"/>
                      <a:pt x="40" y="120"/>
                    </a:cubicBezTo>
                    <a:cubicBezTo>
                      <a:pt x="19" y="120"/>
                      <a:pt x="19" y="120"/>
                      <a:pt x="19" y="120"/>
                    </a:cubicBezTo>
                    <a:cubicBezTo>
                      <a:pt x="17" y="120"/>
                      <a:pt x="10" y="120"/>
                      <a:pt x="0" y="12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Freeform 8"/>
              <p:cNvSpPr/>
              <p:nvPr/>
            </p:nvSpPr>
            <p:spPr>
              <a:xfrm>
                <a:off x="3355560" y="2585160"/>
                <a:ext cx="139680" cy="380880"/>
              </a:xfrm>
              <a:custGeom>
                <a:avLst/>
                <a:gdLst>
                  <a:gd name="textAreaLeft" fmla="*/ 0 w 139680"/>
                  <a:gd name="textAreaRight" fmla="*/ 140040 w 139680"/>
                  <a:gd name="textAreaTop" fmla="*/ 0 h 380880"/>
                  <a:gd name="textAreaBottom" fmla="*/ 381240 h 380880"/>
                </a:gdLst>
                <a:ahLst/>
                <a:rect l="textAreaLeft" t="textAreaTop" r="textAreaRight" b="textAreaBottom"/>
                <a:pathLst>
                  <a:path w="44" h="120">
                    <a:moveTo>
                      <a:pt x="0" y="120"/>
                    </a:moveTo>
                    <a:cubicBezTo>
                      <a:pt x="3" y="73"/>
                      <a:pt x="5" y="36"/>
                      <a:pt x="5" y="11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15" y="0"/>
                      <a:pt x="22" y="0"/>
                      <a:pt x="25" y="0"/>
                    </a:cubicBezTo>
                    <a:cubicBezTo>
                      <a:pt x="27" y="0"/>
                      <a:pt x="33" y="0"/>
                      <a:pt x="44" y="0"/>
                    </a:cubicBezTo>
                    <a:cubicBezTo>
                      <a:pt x="43" y="13"/>
                      <a:pt x="42" y="25"/>
                      <a:pt x="42" y="37"/>
                    </a:cubicBezTo>
                    <a:cubicBezTo>
                      <a:pt x="41" y="53"/>
                      <a:pt x="40" y="69"/>
                      <a:pt x="40" y="83"/>
                    </a:cubicBezTo>
                    <a:cubicBezTo>
                      <a:pt x="40" y="97"/>
                      <a:pt x="39" y="110"/>
                      <a:pt x="39" y="120"/>
                    </a:cubicBezTo>
                    <a:cubicBezTo>
                      <a:pt x="21" y="120"/>
                      <a:pt x="21" y="120"/>
                      <a:pt x="21" y="120"/>
                    </a:cubicBezTo>
                    <a:cubicBezTo>
                      <a:pt x="18" y="120"/>
                      <a:pt x="11" y="120"/>
                      <a:pt x="0" y="12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Freeform 9"/>
              <p:cNvSpPr/>
              <p:nvPr/>
            </p:nvSpPr>
            <p:spPr>
              <a:xfrm>
                <a:off x="3520800" y="2778840"/>
                <a:ext cx="155520" cy="7596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49" h="24">
                    <a:moveTo>
                      <a:pt x="0" y="24"/>
                    </a:moveTo>
                    <a:cubicBezTo>
                      <a:pt x="1" y="16"/>
                      <a:pt x="1" y="8"/>
                      <a:pt x="1" y="0"/>
                    </a:cubicBezTo>
                    <a:cubicBezTo>
                      <a:pt x="10" y="0"/>
                      <a:pt x="17" y="0"/>
                      <a:pt x="25" y="0"/>
                    </a:cubicBezTo>
                    <a:cubicBezTo>
                      <a:pt x="32" y="0"/>
                      <a:pt x="40" y="0"/>
                      <a:pt x="49" y="0"/>
                    </a:cubicBezTo>
                    <a:cubicBezTo>
                      <a:pt x="48" y="7"/>
                      <a:pt x="47" y="15"/>
                      <a:pt x="47" y="24"/>
                    </a:cubicBezTo>
                    <a:cubicBezTo>
                      <a:pt x="39" y="24"/>
                      <a:pt x="31" y="24"/>
                      <a:pt x="24" y="24"/>
                    </a:cubicBezTo>
                    <a:cubicBezTo>
                      <a:pt x="16" y="24"/>
                      <a:pt x="8" y="24"/>
                      <a:pt x="0" y="2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Freeform 10"/>
              <p:cNvSpPr/>
              <p:nvPr/>
            </p:nvSpPr>
            <p:spPr>
              <a:xfrm>
                <a:off x="3701520" y="2585160"/>
                <a:ext cx="415800" cy="380880"/>
              </a:xfrm>
              <a:custGeom>
                <a:avLst/>
                <a:gdLst>
                  <a:gd name="textAreaLeft" fmla="*/ 0 w 415800"/>
                  <a:gd name="textAreaRight" fmla="*/ 416160 w 415800"/>
                  <a:gd name="textAreaTop" fmla="*/ 0 h 380880"/>
                  <a:gd name="textAreaBottom" fmla="*/ 381240 h 380880"/>
                </a:gdLst>
                <a:ahLst/>
                <a:rect l="textAreaLeft" t="textAreaTop" r="textAreaRight" b="textAreaBottom"/>
                <a:pathLst>
                  <a:path w="131" h="120">
                    <a:moveTo>
                      <a:pt x="0" y="120"/>
                    </a:moveTo>
                    <a:cubicBezTo>
                      <a:pt x="4" y="72"/>
                      <a:pt x="4" y="72"/>
                      <a:pt x="4" y="72"/>
                    </a:cubicBezTo>
                    <a:cubicBezTo>
                      <a:pt x="5" y="37"/>
                      <a:pt x="5" y="37"/>
                      <a:pt x="5" y="37"/>
                    </a:cubicBezTo>
                    <a:cubicBezTo>
                      <a:pt x="6" y="21"/>
                      <a:pt x="6" y="21"/>
                      <a:pt x="6" y="21"/>
                    </a:cubicBezTo>
                    <a:cubicBezTo>
                      <a:pt x="6" y="17"/>
                      <a:pt x="6" y="12"/>
                      <a:pt x="6" y="8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15" y="0"/>
                      <a:pt x="22" y="0"/>
                      <a:pt x="27" y="0"/>
                    </a:cubicBezTo>
                    <a:cubicBezTo>
                      <a:pt x="30" y="0"/>
                      <a:pt x="37" y="0"/>
                      <a:pt x="45" y="0"/>
                    </a:cubicBezTo>
                    <a:cubicBezTo>
                      <a:pt x="44" y="16"/>
                      <a:pt x="43" y="31"/>
                      <a:pt x="43" y="44"/>
                    </a:cubicBezTo>
                    <a:cubicBezTo>
                      <a:pt x="91" y="44"/>
                      <a:pt x="91" y="44"/>
                      <a:pt x="91" y="44"/>
                    </a:cubicBezTo>
                    <a:cubicBezTo>
                      <a:pt x="91" y="39"/>
                      <a:pt x="91" y="33"/>
                      <a:pt x="91" y="25"/>
                    </a:cubicBezTo>
                    <a:cubicBezTo>
                      <a:pt x="92" y="16"/>
                      <a:pt x="92" y="11"/>
                      <a:pt x="92" y="8"/>
                    </a:cubicBezTo>
                    <a:cubicBezTo>
                      <a:pt x="92" y="6"/>
                      <a:pt x="92" y="4"/>
                      <a:pt x="92" y="0"/>
                    </a:cubicBezTo>
                    <a:cubicBezTo>
                      <a:pt x="112" y="0"/>
                      <a:pt x="112" y="0"/>
                      <a:pt x="112" y="0"/>
                    </a:cubicBezTo>
                    <a:cubicBezTo>
                      <a:pt x="115" y="0"/>
                      <a:pt x="121" y="0"/>
                      <a:pt x="131" y="0"/>
                    </a:cubicBezTo>
                    <a:cubicBezTo>
                      <a:pt x="129" y="30"/>
                      <a:pt x="127" y="52"/>
                      <a:pt x="127" y="67"/>
                    </a:cubicBezTo>
                    <a:cubicBezTo>
                      <a:pt x="126" y="82"/>
                      <a:pt x="126" y="99"/>
                      <a:pt x="126" y="120"/>
                    </a:cubicBezTo>
                    <a:cubicBezTo>
                      <a:pt x="107" y="120"/>
                      <a:pt x="107" y="120"/>
                      <a:pt x="107" y="120"/>
                    </a:cubicBezTo>
                    <a:cubicBezTo>
                      <a:pt x="104" y="120"/>
                      <a:pt x="97" y="120"/>
                      <a:pt x="86" y="120"/>
                    </a:cubicBezTo>
                    <a:cubicBezTo>
                      <a:pt x="88" y="106"/>
                      <a:pt x="89" y="89"/>
                      <a:pt x="89" y="71"/>
                    </a:cubicBezTo>
                    <a:cubicBezTo>
                      <a:pt x="41" y="71"/>
                      <a:pt x="41" y="71"/>
                      <a:pt x="41" y="71"/>
                    </a:cubicBezTo>
                    <a:cubicBezTo>
                      <a:pt x="40" y="120"/>
                      <a:pt x="40" y="120"/>
                      <a:pt x="40" y="120"/>
                    </a:cubicBezTo>
                    <a:cubicBezTo>
                      <a:pt x="19" y="120"/>
                      <a:pt x="19" y="120"/>
                      <a:pt x="19" y="120"/>
                    </a:cubicBezTo>
                    <a:cubicBezTo>
                      <a:pt x="17" y="120"/>
                      <a:pt x="10" y="120"/>
                      <a:pt x="0" y="12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Freeform 11"/>
              <p:cNvSpPr/>
              <p:nvPr/>
            </p:nvSpPr>
            <p:spPr>
              <a:xfrm>
                <a:off x="4161960" y="2575800"/>
                <a:ext cx="460440" cy="396720"/>
              </a:xfrm>
              <a:custGeom>
                <a:avLst/>
                <a:gdLst>
                  <a:gd name="textAreaLeft" fmla="*/ 0 w 460440"/>
                  <a:gd name="textAreaRight" fmla="*/ 460800 w 460440"/>
                  <a:gd name="textAreaTop" fmla="*/ 0 h 396720"/>
                  <a:gd name="textAreaBottom" fmla="*/ 397080 h 396720"/>
                </a:gdLst>
                <a:ahLst/>
                <a:rect l="textAreaLeft" t="textAreaTop" r="textAreaRight" b="textAreaBottom"/>
                <a:pathLst>
                  <a:path w="145" h="125">
                    <a:moveTo>
                      <a:pt x="75" y="0"/>
                    </a:moveTo>
                    <a:cubicBezTo>
                      <a:pt x="85" y="0"/>
                      <a:pt x="94" y="2"/>
                      <a:pt x="102" y="4"/>
                    </a:cubicBezTo>
                    <a:cubicBezTo>
                      <a:pt x="111" y="7"/>
                      <a:pt x="119" y="11"/>
                      <a:pt x="125" y="16"/>
                    </a:cubicBezTo>
                    <a:cubicBezTo>
                      <a:pt x="132" y="22"/>
                      <a:pt x="137" y="28"/>
                      <a:pt x="140" y="35"/>
                    </a:cubicBezTo>
                    <a:cubicBezTo>
                      <a:pt x="143" y="43"/>
                      <a:pt x="145" y="51"/>
                      <a:pt x="145" y="60"/>
                    </a:cubicBezTo>
                    <a:cubicBezTo>
                      <a:pt x="145" y="70"/>
                      <a:pt x="143" y="79"/>
                      <a:pt x="139" y="87"/>
                    </a:cubicBezTo>
                    <a:cubicBezTo>
                      <a:pt x="136" y="96"/>
                      <a:pt x="131" y="103"/>
                      <a:pt x="124" y="108"/>
                    </a:cubicBezTo>
                    <a:cubicBezTo>
                      <a:pt x="117" y="114"/>
                      <a:pt x="109" y="118"/>
                      <a:pt x="100" y="121"/>
                    </a:cubicBezTo>
                    <a:cubicBezTo>
                      <a:pt x="91" y="124"/>
                      <a:pt x="81" y="125"/>
                      <a:pt x="71" y="125"/>
                    </a:cubicBezTo>
                    <a:cubicBezTo>
                      <a:pt x="61" y="125"/>
                      <a:pt x="52" y="124"/>
                      <a:pt x="43" y="121"/>
                    </a:cubicBezTo>
                    <a:cubicBezTo>
                      <a:pt x="34" y="118"/>
                      <a:pt x="26" y="114"/>
                      <a:pt x="19" y="108"/>
                    </a:cubicBezTo>
                    <a:cubicBezTo>
                      <a:pt x="12" y="103"/>
                      <a:pt x="7" y="96"/>
                      <a:pt x="5" y="89"/>
                    </a:cubicBezTo>
                    <a:cubicBezTo>
                      <a:pt x="2" y="82"/>
                      <a:pt x="0" y="74"/>
                      <a:pt x="0" y="65"/>
                    </a:cubicBezTo>
                    <a:cubicBezTo>
                      <a:pt x="0" y="52"/>
                      <a:pt x="3" y="41"/>
                      <a:pt x="9" y="31"/>
                    </a:cubicBezTo>
                    <a:cubicBezTo>
                      <a:pt x="15" y="22"/>
                      <a:pt x="24" y="14"/>
                      <a:pt x="36" y="8"/>
                    </a:cubicBezTo>
                    <a:cubicBezTo>
                      <a:pt x="47" y="3"/>
                      <a:pt x="61" y="0"/>
                      <a:pt x="75" y="0"/>
                    </a:cubicBezTo>
                    <a:close/>
                    <a:moveTo>
                      <a:pt x="74" y="27"/>
                    </a:moveTo>
                    <a:cubicBezTo>
                      <a:pt x="67" y="27"/>
                      <a:pt x="61" y="28"/>
                      <a:pt x="55" y="32"/>
                    </a:cubicBezTo>
                    <a:cubicBezTo>
                      <a:pt x="50" y="35"/>
                      <a:pt x="46" y="40"/>
                      <a:pt x="43" y="46"/>
                    </a:cubicBezTo>
                    <a:cubicBezTo>
                      <a:pt x="40" y="51"/>
                      <a:pt x="38" y="58"/>
                      <a:pt x="38" y="65"/>
                    </a:cubicBezTo>
                    <a:cubicBezTo>
                      <a:pt x="38" y="71"/>
                      <a:pt x="40" y="76"/>
                      <a:pt x="42" y="82"/>
                    </a:cubicBezTo>
                    <a:cubicBezTo>
                      <a:pt x="45" y="87"/>
                      <a:pt x="49" y="91"/>
                      <a:pt x="55" y="94"/>
                    </a:cubicBezTo>
                    <a:cubicBezTo>
                      <a:pt x="60" y="97"/>
                      <a:pt x="66" y="98"/>
                      <a:pt x="72" y="98"/>
                    </a:cubicBezTo>
                    <a:cubicBezTo>
                      <a:pt x="79" y="98"/>
                      <a:pt x="84" y="96"/>
                      <a:pt x="90" y="93"/>
                    </a:cubicBezTo>
                    <a:cubicBezTo>
                      <a:pt x="95" y="90"/>
                      <a:pt x="99" y="85"/>
                      <a:pt x="102" y="79"/>
                    </a:cubicBezTo>
                    <a:cubicBezTo>
                      <a:pt x="105" y="74"/>
                      <a:pt x="107" y="67"/>
                      <a:pt x="107" y="61"/>
                    </a:cubicBezTo>
                    <a:cubicBezTo>
                      <a:pt x="107" y="55"/>
                      <a:pt x="105" y="49"/>
                      <a:pt x="103" y="44"/>
                    </a:cubicBezTo>
                    <a:cubicBezTo>
                      <a:pt x="100" y="38"/>
                      <a:pt x="96" y="34"/>
                      <a:pt x="91" y="31"/>
                    </a:cubicBezTo>
                    <a:cubicBezTo>
                      <a:pt x="86" y="28"/>
                      <a:pt x="80" y="27"/>
                      <a:pt x="74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Freeform 12"/>
              <p:cNvSpPr/>
              <p:nvPr/>
            </p:nvSpPr>
            <p:spPr>
              <a:xfrm>
                <a:off x="4657320" y="2575800"/>
                <a:ext cx="460440" cy="396720"/>
              </a:xfrm>
              <a:custGeom>
                <a:avLst/>
                <a:gdLst>
                  <a:gd name="textAreaLeft" fmla="*/ 0 w 460440"/>
                  <a:gd name="textAreaRight" fmla="*/ 460800 w 460440"/>
                  <a:gd name="textAreaTop" fmla="*/ 0 h 396720"/>
                  <a:gd name="textAreaBottom" fmla="*/ 397080 h 396720"/>
                </a:gdLst>
                <a:ahLst/>
                <a:rect l="textAreaLeft" t="textAreaTop" r="textAreaRight" b="textAreaBottom"/>
                <a:pathLst>
                  <a:path w="145" h="125">
                    <a:moveTo>
                      <a:pt x="75" y="0"/>
                    </a:moveTo>
                    <a:cubicBezTo>
                      <a:pt x="85" y="0"/>
                      <a:pt x="94" y="2"/>
                      <a:pt x="103" y="4"/>
                    </a:cubicBezTo>
                    <a:cubicBezTo>
                      <a:pt x="111" y="7"/>
                      <a:pt x="119" y="11"/>
                      <a:pt x="125" y="16"/>
                    </a:cubicBezTo>
                    <a:cubicBezTo>
                      <a:pt x="132" y="22"/>
                      <a:pt x="137" y="28"/>
                      <a:pt x="140" y="35"/>
                    </a:cubicBezTo>
                    <a:cubicBezTo>
                      <a:pt x="143" y="43"/>
                      <a:pt x="145" y="51"/>
                      <a:pt x="145" y="60"/>
                    </a:cubicBezTo>
                    <a:cubicBezTo>
                      <a:pt x="145" y="70"/>
                      <a:pt x="143" y="79"/>
                      <a:pt x="139" y="87"/>
                    </a:cubicBezTo>
                    <a:cubicBezTo>
                      <a:pt x="136" y="96"/>
                      <a:pt x="131" y="103"/>
                      <a:pt x="124" y="108"/>
                    </a:cubicBezTo>
                    <a:cubicBezTo>
                      <a:pt x="117" y="114"/>
                      <a:pt x="109" y="118"/>
                      <a:pt x="100" y="121"/>
                    </a:cubicBezTo>
                    <a:cubicBezTo>
                      <a:pt x="91" y="124"/>
                      <a:pt x="81" y="125"/>
                      <a:pt x="71" y="125"/>
                    </a:cubicBezTo>
                    <a:cubicBezTo>
                      <a:pt x="61" y="125"/>
                      <a:pt x="52" y="124"/>
                      <a:pt x="43" y="121"/>
                    </a:cubicBezTo>
                    <a:cubicBezTo>
                      <a:pt x="34" y="118"/>
                      <a:pt x="26" y="114"/>
                      <a:pt x="19" y="108"/>
                    </a:cubicBezTo>
                    <a:cubicBezTo>
                      <a:pt x="12" y="103"/>
                      <a:pt x="8" y="96"/>
                      <a:pt x="5" y="89"/>
                    </a:cubicBezTo>
                    <a:cubicBezTo>
                      <a:pt x="2" y="82"/>
                      <a:pt x="0" y="74"/>
                      <a:pt x="0" y="65"/>
                    </a:cubicBezTo>
                    <a:cubicBezTo>
                      <a:pt x="0" y="52"/>
                      <a:pt x="3" y="41"/>
                      <a:pt x="9" y="31"/>
                    </a:cubicBezTo>
                    <a:cubicBezTo>
                      <a:pt x="15" y="22"/>
                      <a:pt x="24" y="14"/>
                      <a:pt x="36" y="8"/>
                    </a:cubicBezTo>
                    <a:cubicBezTo>
                      <a:pt x="48" y="3"/>
                      <a:pt x="61" y="0"/>
                      <a:pt x="75" y="0"/>
                    </a:cubicBezTo>
                    <a:close/>
                    <a:moveTo>
                      <a:pt x="74" y="27"/>
                    </a:moveTo>
                    <a:cubicBezTo>
                      <a:pt x="67" y="27"/>
                      <a:pt x="61" y="28"/>
                      <a:pt x="56" y="32"/>
                    </a:cubicBezTo>
                    <a:cubicBezTo>
                      <a:pt x="50" y="35"/>
                      <a:pt x="46" y="40"/>
                      <a:pt x="43" y="46"/>
                    </a:cubicBezTo>
                    <a:cubicBezTo>
                      <a:pt x="40" y="51"/>
                      <a:pt x="39" y="58"/>
                      <a:pt x="39" y="65"/>
                    </a:cubicBezTo>
                    <a:cubicBezTo>
                      <a:pt x="39" y="71"/>
                      <a:pt x="40" y="76"/>
                      <a:pt x="43" y="82"/>
                    </a:cubicBezTo>
                    <a:cubicBezTo>
                      <a:pt x="45" y="87"/>
                      <a:pt x="49" y="91"/>
                      <a:pt x="55" y="94"/>
                    </a:cubicBezTo>
                    <a:cubicBezTo>
                      <a:pt x="60" y="97"/>
                      <a:pt x="66" y="98"/>
                      <a:pt x="72" y="98"/>
                    </a:cubicBezTo>
                    <a:cubicBezTo>
                      <a:pt x="79" y="98"/>
                      <a:pt x="85" y="96"/>
                      <a:pt x="90" y="93"/>
                    </a:cubicBezTo>
                    <a:cubicBezTo>
                      <a:pt x="95" y="90"/>
                      <a:pt x="100" y="85"/>
                      <a:pt x="102" y="79"/>
                    </a:cubicBezTo>
                    <a:cubicBezTo>
                      <a:pt x="105" y="74"/>
                      <a:pt x="107" y="67"/>
                      <a:pt x="107" y="61"/>
                    </a:cubicBezTo>
                    <a:cubicBezTo>
                      <a:pt x="107" y="55"/>
                      <a:pt x="105" y="49"/>
                      <a:pt x="103" y="44"/>
                    </a:cubicBezTo>
                    <a:cubicBezTo>
                      <a:pt x="100" y="38"/>
                      <a:pt x="96" y="34"/>
                      <a:pt x="91" y="31"/>
                    </a:cubicBezTo>
                    <a:cubicBezTo>
                      <a:pt x="86" y="28"/>
                      <a:pt x="80" y="27"/>
                      <a:pt x="74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TextBox 23"/>
              <p:cNvSpPr/>
              <p:nvPr/>
            </p:nvSpPr>
            <p:spPr>
              <a:xfrm>
                <a:off x="3436920" y="3043800"/>
                <a:ext cx="1194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 DESIG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Freeform 6"/>
          <p:cNvSpPr/>
          <p:nvPr/>
        </p:nvSpPr>
        <p:spPr>
          <a:xfrm>
            <a:off x="1986120" y="1285920"/>
            <a:ext cx="5171760" cy="2571840"/>
          </a:xfrm>
          <a:custGeom>
            <a:avLst/>
            <a:gdLst>
              <a:gd name="textAreaLeft" fmla="*/ 0 w 5171760"/>
              <a:gd name="textAreaRight" fmla="*/ 5172120 w 5171760"/>
              <a:gd name="textAreaTop" fmla="*/ 0 h 2571840"/>
              <a:gd name="textAreaBottom" fmla="*/ 2572200 h 2571840"/>
            </a:gdLst>
            <a:ahLst/>
            <a:rect l="textAreaLeft" t="textAreaTop" r="textAreaRight" b="textAreaBottom"/>
            <a:pathLst>
              <a:path w="1408" h="700">
                <a:moveTo>
                  <a:pt x="1124" y="700"/>
                </a:moveTo>
                <a:cubicBezTo>
                  <a:pt x="1269" y="568"/>
                  <a:pt x="1269" y="568"/>
                  <a:pt x="1269" y="568"/>
                </a:cubicBezTo>
                <a:cubicBezTo>
                  <a:pt x="1352" y="568"/>
                  <a:pt x="1352" y="568"/>
                  <a:pt x="1352" y="568"/>
                </a:cubicBezTo>
                <a:cubicBezTo>
                  <a:pt x="1383" y="568"/>
                  <a:pt x="1408" y="545"/>
                  <a:pt x="1408" y="517"/>
                </a:cubicBezTo>
                <a:cubicBezTo>
                  <a:pt x="1408" y="51"/>
                  <a:pt x="1408" y="51"/>
                  <a:pt x="1408" y="51"/>
                </a:cubicBezTo>
                <a:cubicBezTo>
                  <a:pt x="1408" y="23"/>
                  <a:pt x="1383" y="0"/>
                  <a:pt x="1352" y="0"/>
                </a:cubicBezTo>
                <a:cubicBezTo>
                  <a:pt x="56" y="0"/>
                  <a:pt x="56" y="0"/>
                  <a:pt x="56" y="0"/>
                </a:cubicBezTo>
                <a:cubicBezTo>
                  <a:pt x="26" y="0"/>
                  <a:pt x="0" y="23"/>
                  <a:pt x="0" y="51"/>
                </a:cubicBezTo>
                <a:cubicBezTo>
                  <a:pt x="0" y="517"/>
                  <a:pt x="0" y="517"/>
                  <a:pt x="0" y="517"/>
                </a:cubicBezTo>
                <a:cubicBezTo>
                  <a:pt x="0" y="545"/>
                  <a:pt x="26" y="568"/>
                  <a:pt x="56" y="568"/>
                </a:cubicBezTo>
                <a:cubicBezTo>
                  <a:pt x="1124" y="568"/>
                  <a:pt x="1124" y="568"/>
                  <a:pt x="1124" y="568"/>
                </a:cubicBezTo>
                <a:lnTo>
                  <a:pt x="1124" y="700"/>
                </a:lnTo>
                <a:close/>
              </a:path>
            </a:pathLst>
          </a:custGeom>
          <a:solidFill>
            <a:srgbClr val="ff001f"/>
          </a:solidFill>
          <a:ln w="22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31"/>
          <p:cNvSpPr/>
          <p:nvPr/>
        </p:nvSpPr>
        <p:spPr>
          <a:xfrm>
            <a:off x="3933000" y="1857240"/>
            <a:ext cx="127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汉真广标"/>
                <a:ea typeface="汉真广标"/>
              </a:rPr>
              <a:t>哲理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6794640" y="3213000"/>
            <a:ext cx="2207880" cy="1930680"/>
            <a:chOff x="6794640" y="3213000"/>
            <a:chExt cx="2207880" cy="1930680"/>
          </a:xfrm>
        </p:grpSpPr>
        <p:sp>
          <p:nvSpPr>
            <p:cNvPr id="135" name="Freeform 6"/>
            <p:cNvSpPr/>
            <p:nvPr/>
          </p:nvSpPr>
          <p:spPr>
            <a:xfrm>
              <a:off x="7800480" y="4227120"/>
              <a:ext cx="1168920" cy="916560"/>
            </a:xfrm>
            <a:custGeom>
              <a:avLst/>
              <a:gdLst>
                <a:gd name="textAreaLeft" fmla="*/ 0 w 1168920"/>
                <a:gd name="textAreaRight" fmla="*/ 1169280 w 1168920"/>
                <a:gd name="textAreaTop" fmla="*/ 0 h 916560"/>
                <a:gd name="textAreaBottom" fmla="*/ 916920 h 916560"/>
              </a:gdLst>
              <a:ahLst/>
              <a:rect l="textAreaLeft" t="textAreaTop" r="textAreaRight" b="textAreaBottom"/>
              <a:pathLst>
                <a:path w="1040" h="816">
                  <a:moveTo>
                    <a:pt x="410" y="592"/>
                  </a:moveTo>
                  <a:lnTo>
                    <a:pt x="96" y="332"/>
                  </a:lnTo>
                  <a:lnTo>
                    <a:pt x="0" y="332"/>
                  </a:lnTo>
                  <a:lnTo>
                    <a:pt x="402" y="744"/>
                  </a:lnTo>
                  <a:lnTo>
                    <a:pt x="402" y="816"/>
                  </a:lnTo>
                  <a:lnTo>
                    <a:pt x="570" y="816"/>
                  </a:lnTo>
                  <a:lnTo>
                    <a:pt x="550" y="516"/>
                  </a:lnTo>
                  <a:lnTo>
                    <a:pt x="1040" y="84"/>
                  </a:lnTo>
                  <a:lnTo>
                    <a:pt x="1040" y="0"/>
                  </a:lnTo>
                  <a:lnTo>
                    <a:pt x="538" y="352"/>
                  </a:lnTo>
                  <a:lnTo>
                    <a:pt x="538" y="212"/>
                  </a:lnTo>
                  <a:lnTo>
                    <a:pt x="430" y="212"/>
                  </a:lnTo>
                  <a:lnTo>
                    <a:pt x="410" y="59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" name=""/>
            <p:cNvGrpSpPr/>
            <p:nvPr/>
          </p:nvGrpSpPr>
          <p:grpSpPr>
            <a:xfrm>
              <a:off x="6794640" y="3213000"/>
              <a:ext cx="2207880" cy="1345680"/>
              <a:chOff x="6794640" y="3213000"/>
              <a:chExt cx="2207880" cy="1345680"/>
            </a:xfrm>
          </p:grpSpPr>
          <p:sp>
            <p:nvSpPr>
              <p:cNvPr id="137" name="TextBox 37"/>
              <p:cNvSpPr/>
              <p:nvPr/>
            </p:nvSpPr>
            <p:spPr>
              <a:xfrm>
                <a:off x="8164080" y="3213000"/>
                <a:ext cx="75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2f2f2"/>
                    </a:solidFill>
                    <a:latin typeface="Arial Black"/>
                  </a:rPr>
                  <a:t>Art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TextBox 38"/>
              <p:cNvSpPr/>
              <p:nvPr/>
            </p:nvSpPr>
            <p:spPr>
              <a:xfrm>
                <a:off x="6892200" y="3498840"/>
                <a:ext cx="1759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2f2f2"/>
                    </a:solidFill>
                    <a:latin typeface="Arial Black"/>
                  </a:rPr>
                  <a:t>Philosoph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TextBox 39"/>
              <p:cNvSpPr/>
              <p:nvPr/>
            </p:nvSpPr>
            <p:spPr>
              <a:xfrm>
                <a:off x="7749000" y="3841560"/>
                <a:ext cx="125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 Black"/>
                  </a:rPr>
                  <a:t>Scienc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TextBox 40"/>
              <p:cNvSpPr/>
              <p:nvPr/>
            </p:nvSpPr>
            <p:spPr>
              <a:xfrm>
                <a:off x="6794640" y="4098960"/>
                <a:ext cx="1340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 Black"/>
                  </a:rPr>
                  <a:t>Religio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1" dur="2000" fill="hold"/>
                                        <p:tgtEl>
                                          <p:spTgt spid="122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212" nodeType="withEffect" fill="hold" presetClass="emph" presetID="6">
                                  <p:stCondLst>
                                    <p:cond delay="2000"/>
                                  </p:stCondLst>
                                  <p:childTnLst>
                                    <p:animScale>
                                      <p:cBhvr>
                                        <p:cTn id="213" dur="1400" fill="hold"/>
                                        <p:tgtEl>
                                          <p:spTgt spid="122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214" nodeType="withEffect" fill="hold" presetClass="exit" presetID="10">
                                  <p:stCondLst>
                                    <p:cond delay="2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5" dur="7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6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3.37859E-006 L 0.00191 -0.54705 E">
                                      <p:cBhvr>
                                        <p:cTn id="218" dur="2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9" nodeType="withEffect" fill="hold" presetClass="path" presetID="42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2.77778E-006 -3.971E-006 L -2.77778E-006 0.33632 E">
                                      <p:cBhvr>
                                        <p:cTn id="220" dur="2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1" nodeType="withEffect" fill="hold" presetClass="emph" presetID="8">
                                  <p:stCondLst>
                                    <p:cond delay="200"/>
                                  </p:stCondLst>
                                  <p:childTnLst>
                                    <p:animRot by="-179879">
                                      <p:cBhvr>
                                        <p:cTn id="222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3" nodeType="withEffect" fill="hold" presetClass="path" presetID="42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3.33333E-006 7.34341E-007 L -3.33333E-006 0.32953 E">
                                      <p:cBhvr>
                                        <p:cTn id="224" dur="2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5" nodeType="withEffect" fill="hold" presetClass="path" presetID="42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4.72222E-006 -4.77322E-006 L 4.72222E-006 0.29096 E">
                                      <p:cBhvr>
                                        <p:cTn id="226" dur="2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7" nodeType="withEffect" fill="hold" presetClass="emph" presetID="8">
                                  <p:stCondLst>
                                    <p:cond delay="200"/>
                                  </p:stCondLst>
                                  <p:childTnLst>
                                    <p:animRot by="240000">
                                      <p:cBhvr>
                                        <p:cTn id="228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9" nodeType="withEffect" fill="hold" presetClass="exit" presetID="10">
                                  <p:stCondLst>
                                    <p:cond delay="1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0" dur="1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path" presetID="64">
                                  <p:stCondLst>
                                    <p:cond delay="2200"/>
                                  </p:stCondLst>
                                  <p:childTnLst>
                                    <p:animMotion origin="layout" path="M 3.61111E-006 0.29096 L 3.61111E-006 0.11509 E">
                                      <p:cBhvr>
                                        <p:cTn id="233" dur="1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4" nodeType="withEffect" fill="hold" presetClass="path" presetID="64">
                                  <p:stCondLst>
                                    <p:cond delay="2200"/>
                                  </p:stCondLst>
                                  <p:childTnLst>
                                    <p:animMotion origin="layout" path="M -2.77778E-007 0.32953 L -2.77778E-007 0.10121 E">
                                      <p:cBhvr>
                                        <p:cTn id="235" dur="1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6" nodeType="withEffect" fill="hold" presetClass="path" presetID="64">
                                  <p:stCondLst>
                                    <p:cond delay="2200"/>
                                  </p:stCondLst>
                                  <p:childTnLst>
                                    <p:animMotion origin="layout" path="M -2.77778E-006 0.33632 L -2.77778E-006 0.09411 E">
                                      <p:cBhvr>
                                        <p:cTn id="237" dur="1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8" nodeType="withEffect" fill="hold" presetClass="path" presetID="64">
                                  <p:stCondLst>
                                    <p:cond delay="2200"/>
                                  </p:stCondLst>
                                  <p:childTnLst>
                                    <p:animMotion origin="layout" path="M 0.00191 -0.54705 L 0.00191 -0.99136 E">
                                      <p:cBhvr>
                                        <p:cTn id="239" dur="1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0" nodeType="withEffect" fill="hold" presetClass="path" presetID="64">
                                  <p:stCondLst>
                                    <p:cond delay="1100"/>
                                  </p:stCondLst>
                                  <p:childTnLst>
                                    <p:animMotion origin="layout" path="M 0 0 L 0 -1 E">
                                      <p:cBhvr>
                                        <p:cTn id="241" dur="2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2" nodeType="withEffect" fill="hold" presetClass="path" presetID="64">
                                  <p:stCondLst>
                                    <p:cond delay="1800"/>
                                  </p:stCondLst>
                                  <p:childTnLst>
                                    <p:animMotion origin="layout" path="M 0 -0.00587 L 0 -0.74977 E">
                                      <p:cBhvr>
                                        <p:cTn id="243" dur="15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2" presetSubtype="4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xit" presetID="22" presetSubtype="1">
                                  <p:stCondLst>
                                    <p:cond delay="33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248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xit" presetID="22" presetSubtype="1">
                                  <p:stCondLst>
                                    <p:cond delay="33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251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xit" presetID="22" presetSubtype="1">
                                  <p:stCondLst>
                                    <p:cond delay="33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254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22" presetSubtype="4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8" dur="7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0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矩形 7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fbf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6" descr=""/>
          <p:cNvPicPr/>
          <p:nvPr/>
        </p:nvPicPr>
        <p:blipFill>
          <a:blip r:embed="rId1"/>
          <a:stretch/>
        </p:blipFill>
        <p:spPr>
          <a:xfrm>
            <a:off x="1920960" y="1976400"/>
            <a:ext cx="438120" cy="11905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" descr=""/>
          <p:cNvPicPr/>
          <p:nvPr/>
        </p:nvPicPr>
        <p:blipFill>
          <a:blip r:embed="rId2"/>
          <a:stretch/>
        </p:blipFill>
        <p:spPr>
          <a:xfrm>
            <a:off x="2527200" y="1976400"/>
            <a:ext cx="438120" cy="11905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8" descr=""/>
          <p:cNvPicPr/>
          <p:nvPr/>
        </p:nvPicPr>
        <p:blipFill>
          <a:blip r:embed="rId3"/>
          <a:stretch/>
        </p:blipFill>
        <p:spPr>
          <a:xfrm>
            <a:off x="3135240" y="1976400"/>
            <a:ext cx="438120" cy="11905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9" descr=""/>
          <p:cNvPicPr/>
          <p:nvPr/>
        </p:nvPicPr>
        <p:blipFill>
          <a:blip r:embed="rId4"/>
          <a:stretch/>
        </p:blipFill>
        <p:spPr>
          <a:xfrm>
            <a:off x="3743280" y="1976400"/>
            <a:ext cx="438120" cy="11905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0" descr=""/>
          <p:cNvPicPr/>
          <p:nvPr/>
        </p:nvPicPr>
        <p:blipFill>
          <a:blip r:embed="rId5"/>
          <a:stretch/>
        </p:blipFill>
        <p:spPr>
          <a:xfrm>
            <a:off x="4351320" y="1976400"/>
            <a:ext cx="438120" cy="11905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1" descr=""/>
          <p:cNvPicPr/>
          <p:nvPr/>
        </p:nvPicPr>
        <p:blipFill>
          <a:blip r:embed="rId6"/>
          <a:stretch/>
        </p:blipFill>
        <p:spPr>
          <a:xfrm>
            <a:off x="4959360" y="1976400"/>
            <a:ext cx="438120" cy="11905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2" descr=""/>
          <p:cNvPicPr/>
          <p:nvPr/>
        </p:nvPicPr>
        <p:blipFill>
          <a:blip r:embed="rId7"/>
          <a:stretch/>
        </p:blipFill>
        <p:spPr>
          <a:xfrm>
            <a:off x="5567400" y="1976400"/>
            <a:ext cx="438120" cy="11905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3" descr=""/>
          <p:cNvPicPr/>
          <p:nvPr/>
        </p:nvPicPr>
        <p:blipFill>
          <a:blip r:embed="rId8"/>
          <a:stretch/>
        </p:blipFill>
        <p:spPr>
          <a:xfrm>
            <a:off x="6175440" y="1976400"/>
            <a:ext cx="438120" cy="11905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4" descr=""/>
          <p:cNvPicPr/>
          <p:nvPr/>
        </p:nvPicPr>
        <p:blipFill>
          <a:blip r:embed="rId9"/>
          <a:stretch/>
        </p:blipFill>
        <p:spPr>
          <a:xfrm>
            <a:off x="6775560" y="1976400"/>
            <a:ext cx="438120" cy="1190520"/>
          </a:xfrm>
          <a:prstGeom prst="rect">
            <a:avLst/>
          </a:prstGeom>
          <a:ln w="0">
            <a:noFill/>
          </a:ln>
        </p:spPr>
      </p:pic>
      <p:sp>
        <p:nvSpPr>
          <p:cNvPr id="151" name="TextBox 16"/>
          <p:cNvSpPr/>
          <p:nvPr/>
        </p:nvSpPr>
        <p:spPr>
          <a:xfrm>
            <a:off x="4380120" y="3500280"/>
            <a:ext cx="38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当所有人都一字排开，你希望被人认识，怎么办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6"/>
          <p:cNvSpPr/>
          <p:nvPr/>
        </p:nvSpPr>
        <p:spPr>
          <a:xfrm rot="1033200">
            <a:off x="7276680" y="1535040"/>
            <a:ext cx="250920" cy="430200"/>
          </a:xfrm>
          <a:custGeom>
            <a:avLst/>
            <a:gdLst>
              <a:gd name="textAreaLeft" fmla="*/ 0 w 250920"/>
              <a:gd name="textAreaRight" fmla="*/ 251280 w 250920"/>
              <a:gd name="textAreaTop" fmla="*/ 0 h 430200"/>
              <a:gd name="textAreaBottom" fmla="*/ 430560 h 430200"/>
            </a:gdLst>
            <a:ahLst/>
            <a:rect l="textAreaLeft" t="textAreaTop" r="textAreaRight" b="textAreaBottom"/>
            <a:pathLst>
              <a:path w="279" h="476">
                <a:moveTo>
                  <a:pt x="98" y="359"/>
                </a:moveTo>
                <a:cubicBezTo>
                  <a:pt x="90" y="359"/>
                  <a:pt x="82" y="356"/>
                  <a:pt x="76" y="349"/>
                </a:cubicBezTo>
                <a:cubicBezTo>
                  <a:pt x="70" y="343"/>
                  <a:pt x="67" y="336"/>
                  <a:pt x="67" y="327"/>
                </a:cubicBezTo>
                <a:cubicBezTo>
                  <a:pt x="67" y="313"/>
                  <a:pt x="80" y="296"/>
                  <a:pt x="106" y="275"/>
                </a:cubicBezTo>
                <a:cubicBezTo>
                  <a:pt x="179" y="220"/>
                  <a:pt x="179" y="220"/>
                  <a:pt x="179" y="220"/>
                </a:cubicBezTo>
                <a:cubicBezTo>
                  <a:pt x="206" y="197"/>
                  <a:pt x="219" y="176"/>
                  <a:pt x="219" y="158"/>
                </a:cubicBezTo>
                <a:cubicBezTo>
                  <a:pt x="219" y="134"/>
                  <a:pt x="208" y="112"/>
                  <a:pt x="185" y="92"/>
                </a:cubicBezTo>
                <a:cubicBezTo>
                  <a:pt x="164" y="72"/>
                  <a:pt x="141" y="63"/>
                  <a:pt x="117" y="63"/>
                </a:cubicBezTo>
                <a:cubicBezTo>
                  <a:pt x="104" y="63"/>
                  <a:pt x="88" y="69"/>
                  <a:pt x="68" y="83"/>
                </a:cubicBezTo>
                <a:cubicBezTo>
                  <a:pt x="48" y="96"/>
                  <a:pt x="36" y="102"/>
                  <a:pt x="31" y="102"/>
                </a:cubicBezTo>
                <a:cubicBezTo>
                  <a:pt x="23" y="102"/>
                  <a:pt x="15" y="99"/>
                  <a:pt x="9" y="92"/>
                </a:cubicBezTo>
                <a:cubicBezTo>
                  <a:pt x="3" y="85"/>
                  <a:pt x="0" y="78"/>
                  <a:pt x="0" y="70"/>
                </a:cubicBezTo>
                <a:cubicBezTo>
                  <a:pt x="0" y="53"/>
                  <a:pt x="16" y="37"/>
                  <a:pt x="47" y="21"/>
                </a:cubicBezTo>
                <a:cubicBezTo>
                  <a:pt x="75" y="7"/>
                  <a:pt x="98" y="0"/>
                  <a:pt x="117" y="0"/>
                </a:cubicBezTo>
                <a:cubicBezTo>
                  <a:pt x="158" y="0"/>
                  <a:pt x="195" y="16"/>
                  <a:pt x="229" y="48"/>
                </a:cubicBezTo>
                <a:cubicBezTo>
                  <a:pt x="263" y="80"/>
                  <a:pt x="279" y="117"/>
                  <a:pt x="279" y="158"/>
                </a:cubicBezTo>
                <a:cubicBezTo>
                  <a:pt x="279" y="188"/>
                  <a:pt x="270" y="214"/>
                  <a:pt x="250" y="237"/>
                </a:cubicBezTo>
                <a:cubicBezTo>
                  <a:pt x="239" y="251"/>
                  <a:pt x="218" y="269"/>
                  <a:pt x="187" y="291"/>
                </a:cubicBezTo>
                <a:cubicBezTo>
                  <a:pt x="155" y="314"/>
                  <a:pt x="133" y="332"/>
                  <a:pt x="121" y="346"/>
                </a:cubicBezTo>
                <a:cubicBezTo>
                  <a:pt x="114" y="355"/>
                  <a:pt x="106" y="359"/>
                  <a:pt x="98" y="359"/>
                </a:cubicBezTo>
                <a:close/>
                <a:moveTo>
                  <a:pt x="81" y="476"/>
                </a:moveTo>
                <a:cubicBezTo>
                  <a:pt x="72" y="476"/>
                  <a:pt x="64" y="473"/>
                  <a:pt x="57" y="467"/>
                </a:cubicBezTo>
                <a:cubicBezTo>
                  <a:pt x="50" y="461"/>
                  <a:pt x="46" y="453"/>
                  <a:pt x="46" y="445"/>
                </a:cubicBezTo>
                <a:cubicBezTo>
                  <a:pt x="46" y="432"/>
                  <a:pt x="49" y="421"/>
                  <a:pt x="56" y="410"/>
                </a:cubicBezTo>
                <a:cubicBezTo>
                  <a:pt x="64" y="399"/>
                  <a:pt x="73" y="393"/>
                  <a:pt x="85" y="393"/>
                </a:cubicBezTo>
                <a:cubicBezTo>
                  <a:pt x="105" y="393"/>
                  <a:pt x="115" y="405"/>
                  <a:pt x="115" y="429"/>
                </a:cubicBezTo>
                <a:cubicBezTo>
                  <a:pt x="115" y="441"/>
                  <a:pt x="112" y="451"/>
                  <a:pt x="107" y="460"/>
                </a:cubicBezTo>
                <a:cubicBezTo>
                  <a:pt x="100" y="470"/>
                  <a:pt x="92" y="476"/>
                  <a:pt x="81" y="476"/>
                </a:cubicBez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6"/>
          <p:cNvSpPr/>
          <p:nvPr/>
        </p:nvSpPr>
        <p:spPr>
          <a:xfrm rot="447600">
            <a:off x="5270400" y="1244160"/>
            <a:ext cx="346320" cy="590760"/>
          </a:xfrm>
          <a:custGeom>
            <a:avLst/>
            <a:gdLst>
              <a:gd name="textAreaLeft" fmla="*/ 0 w 346320"/>
              <a:gd name="textAreaRight" fmla="*/ 346680 w 346320"/>
              <a:gd name="textAreaTop" fmla="*/ 0 h 590760"/>
              <a:gd name="textAreaBottom" fmla="*/ 591120 h 590760"/>
            </a:gdLst>
            <a:ahLst/>
            <a:rect l="textAreaLeft" t="textAreaTop" r="textAreaRight" b="textAreaBottom"/>
            <a:pathLst>
              <a:path w="279" h="476">
                <a:moveTo>
                  <a:pt x="98" y="359"/>
                </a:moveTo>
                <a:cubicBezTo>
                  <a:pt x="90" y="359"/>
                  <a:pt x="82" y="356"/>
                  <a:pt x="76" y="349"/>
                </a:cubicBezTo>
                <a:cubicBezTo>
                  <a:pt x="70" y="343"/>
                  <a:pt x="67" y="336"/>
                  <a:pt x="67" y="327"/>
                </a:cubicBezTo>
                <a:cubicBezTo>
                  <a:pt x="67" y="313"/>
                  <a:pt x="80" y="296"/>
                  <a:pt x="106" y="275"/>
                </a:cubicBezTo>
                <a:cubicBezTo>
                  <a:pt x="179" y="220"/>
                  <a:pt x="179" y="220"/>
                  <a:pt x="179" y="220"/>
                </a:cubicBezTo>
                <a:cubicBezTo>
                  <a:pt x="206" y="197"/>
                  <a:pt x="219" y="176"/>
                  <a:pt x="219" y="158"/>
                </a:cubicBezTo>
                <a:cubicBezTo>
                  <a:pt x="219" y="134"/>
                  <a:pt x="208" y="112"/>
                  <a:pt x="185" y="92"/>
                </a:cubicBezTo>
                <a:cubicBezTo>
                  <a:pt x="164" y="72"/>
                  <a:pt x="141" y="63"/>
                  <a:pt x="117" y="63"/>
                </a:cubicBezTo>
                <a:cubicBezTo>
                  <a:pt x="104" y="63"/>
                  <a:pt x="88" y="69"/>
                  <a:pt x="68" y="83"/>
                </a:cubicBezTo>
                <a:cubicBezTo>
                  <a:pt x="48" y="96"/>
                  <a:pt x="36" y="102"/>
                  <a:pt x="31" y="102"/>
                </a:cubicBezTo>
                <a:cubicBezTo>
                  <a:pt x="23" y="102"/>
                  <a:pt x="15" y="99"/>
                  <a:pt x="9" y="92"/>
                </a:cubicBezTo>
                <a:cubicBezTo>
                  <a:pt x="3" y="85"/>
                  <a:pt x="0" y="78"/>
                  <a:pt x="0" y="70"/>
                </a:cubicBezTo>
                <a:cubicBezTo>
                  <a:pt x="0" y="53"/>
                  <a:pt x="16" y="37"/>
                  <a:pt x="47" y="21"/>
                </a:cubicBezTo>
                <a:cubicBezTo>
                  <a:pt x="75" y="7"/>
                  <a:pt x="98" y="0"/>
                  <a:pt x="117" y="0"/>
                </a:cubicBezTo>
                <a:cubicBezTo>
                  <a:pt x="158" y="0"/>
                  <a:pt x="195" y="16"/>
                  <a:pt x="229" y="48"/>
                </a:cubicBezTo>
                <a:cubicBezTo>
                  <a:pt x="263" y="80"/>
                  <a:pt x="279" y="117"/>
                  <a:pt x="279" y="158"/>
                </a:cubicBezTo>
                <a:cubicBezTo>
                  <a:pt x="279" y="188"/>
                  <a:pt x="270" y="214"/>
                  <a:pt x="250" y="237"/>
                </a:cubicBezTo>
                <a:cubicBezTo>
                  <a:pt x="239" y="251"/>
                  <a:pt x="218" y="269"/>
                  <a:pt x="187" y="291"/>
                </a:cubicBezTo>
                <a:cubicBezTo>
                  <a:pt x="155" y="314"/>
                  <a:pt x="133" y="332"/>
                  <a:pt x="121" y="346"/>
                </a:cubicBezTo>
                <a:cubicBezTo>
                  <a:pt x="114" y="355"/>
                  <a:pt x="106" y="359"/>
                  <a:pt x="98" y="359"/>
                </a:cubicBezTo>
                <a:close/>
                <a:moveTo>
                  <a:pt x="81" y="476"/>
                </a:moveTo>
                <a:cubicBezTo>
                  <a:pt x="72" y="476"/>
                  <a:pt x="64" y="473"/>
                  <a:pt x="57" y="467"/>
                </a:cubicBezTo>
                <a:cubicBezTo>
                  <a:pt x="50" y="461"/>
                  <a:pt x="46" y="453"/>
                  <a:pt x="46" y="445"/>
                </a:cubicBezTo>
                <a:cubicBezTo>
                  <a:pt x="46" y="432"/>
                  <a:pt x="49" y="421"/>
                  <a:pt x="56" y="410"/>
                </a:cubicBezTo>
                <a:cubicBezTo>
                  <a:pt x="64" y="399"/>
                  <a:pt x="73" y="393"/>
                  <a:pt x="85" y="393"/>
                </a:cubicBezTo>
                <a:cubicBezTo>
                  <a:pt x="105" y="393"/>
                  <a:pt x="115" y="405"/>
                  <a:pt x="115" y="429"/>
                </a:cubicBezTo>
                <a:cubicBezTo>
                  <a:pt x="115" y="441"/>
                  <a:pt x="112" y="451"/>
                  <a:pt x="107" y="460"/>
                </a:cubicBezTo>
                <a:cubicBezTo>
                  <a:pt x="100" y="470"/>
                  <a:pt x="92" y="476"/>
                  <a:pt x="81" y="476"/>
                </a:cubicBez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reeform 6"/>
          <p:cNvSpPr/>
          <p:nvPr/>
        </p:nvSpPr>
        <p:spPr>
          <a:xfrm rot="19805400">
            <a:off x="1676160" y="1523880"/>
            <a:ext cx="269640" cy="460440"/>
          </a:xfrm>
          <a:custGeom>
            <a:avLst/>
            <a:gdLst>
              <a:gd name="textAreaLeft" fmla="*/ 0 w 269640"/>
              <a:gd name="textAreaRight" fmla="*/ 270000 w 269640"/>
              <a:gd name="textAreaTop" fmla="*/ 0 h 460440"/>
              <a:gd name="textAreaBottom" fmla="*/ 460800 h 460440"/>
            </a:gdLst>
            <a:ahLst/>
            <a:rect l="textAreaLeft" t="textAreaTop" r="textAreaRight" b="textAreaBottom"/>
            <a:pathLst>
              <a:path w="279" h="476">
                <a:moveTo>
                  <a:pt x="98" y="359"/>
                </a:moveTo>
                <a:cubicBezTo>
                  <a:pt x="90" y="359"/>
                  <a:pt x="82" y="356"/>
                  <a:pt x="76" y="349"/>
                </a:cubicBezTo>
                <a:cubicBezTo>
                  <a:pt x="70" y="343"/>
                  <a:pt x="67" y="336"/>
                  <a:pt x="67" y="327"/>
                </a:cubicBezTo>
                <a:cubicBezTo>
                  <a:pt x="67" y="313"/>
                  <a:pt x="80" y="296"/>
                  <a:pt x="106" y="275"/>
                </a:cubicBezTo>
                <a:cubicBezTo>
                  <a:pt x="179" y="220"/>
                  <a:pt x="179" y="220"/>
                  <a:pt x="179" y="220"/>
                </a:cubicBezTo>
                <a:cubicBezTo>
                  <a:pt x="206" y="197"/>
                  <a:pt x="219" y="176"/>
                  <a:pt x="219" y="158"/>
                </a:cubicBezTo>
                <a:cubicBezTo>
                  <a:pt x="219" y="134"/>
                  <a:pt x="208" y="112"/>
                  <a:pt x="185" y="92"/>
                </a:cubicBezTo>
                <a:cubicBezTo>
                  <a:pt x="164" y="72"/>
                  <a:pt x="141" y="63"/>
                  <a:pt x="117" y="63"/>
                </a:cubicBezTo>
                <a:cubicBezTo>
                  <a:pt x="104" y="63"/>
                  <a:pt x="88" y="69"/>
                  <a:pt x="68" y="83"/>
                </a:cubicBezTo>
                <a:cubicBezTo>
                  <a:pt x="48" y="96"/>
                  <a:pt x="36" y="102"/>
                  <a:pt x="31" y="102"/>
                </a:cubicBezTo>
                <a:cubicBezTo>
                  <a:pt x="23" y="102"/>
                  <a:pt x="15" y="99"/>
                  <a:pt x="9" y="92"/>
                </a:cubicBezTo>
                <a:cubicBezTo>
                  <a:pt x="3" y="85"/>
                  <a:pt x="0" y="78"/>
                  <a:pt x="0" y="70"/>
                </a:cubicBezTo>
                <a:cubicBezTo>
                  <a:pt x="0" y="53"/>
                  <a:pt x="16" y="37"/>
                  <a:pt x="47" y="21"/>
                </a:cubicBezTo>
                <a:cubicBezTo>
                  <a:pt x="75" y="7"/>
                  <a:pt x="98" y="0"/>
                  <a:pt x="117" y="0"/>
                </a:cubicBezTo>
                <a:cubicBezTo>
                  <a:pt x="158" y="0"/>
                  <a:pt x="195" y="16"/>
                  <a:pt x="229" y="48"/>
                </a:cubicBezTo>
                <a:cubicBezTo>
                  <a:pt x="263" y="80"/>
                  <a:pt x="279" y="117"/>
                  <a:pt x="279" y="158"/>
                </a:cubicBezTo>
                <a:cubicBezTo>
                  <a:pt x="279" y="188"/>
                  <a:pt x="270" y="214"/>
                  <a:pt x="250" y="237"/>
                </a:cubicBezTo>
                <a:cubicBezTo>
                  <a:pt x="239" y="251"/>
                  <a:pt x="218" y="269"/>
                  <a:pt x="187" y="291"/>
                </a:cubicBezTo>
                <a:cubicBezTo>
                  <a:pt x="155" y="314"/>
                  <a:pt x="133" y="332"/>
                  <a:pt x="121" y="346"/>
                </a:cubicBezTo>
                <a:cubicBezTo>
                  <a:pt x="114" y="355"/>
                  <a:pt x="106" y="359"/>
                  <a:pt x="98" y="359"/>
                </a:cubicBezTo>
                <a:close/>
                <a:moveTo>
                  <a:pt x="81" y="476"/>
                </a:moveTo>
                <a:cubicBezTo>
                  <a:pt x="72" y="476"/>
                  <a:pt x="64" y="473"/>
                  <a:pt x="57" y="467"/>
                </a:cubicBezTo>
                <a:cubicBezTo>
                  <a:pt x="50" y="461"/>
                  <a:pt x="46" y="453"/>
                  <a:pt x="46" y="445"/>
                </a:cubicBezTo>
                <a:cubicBezTo>
                  <a:pt x="46" y="432"/>
                  <a:pt x="49" y="421"/>
                  <a:pt x="56" y="410"/>
                </a:cubicBezTo>
                <a:cubicBezTo>
                  <a:pt x="64" y="399"/>
                  <a:pt x="73" y="393"/>
                  <a:pt x="85" y="393"/>
                </a:cubicBezTo>
                <a:cubicBezTo>
                  <a:pt x="105" y="393"/>
                  <a:pt x="115" y="405"/>
                  <a:pt x="115" y="429"/>
                </a:cubicBezTo>
                <a:cubicBezTo>
                  <a:pt x="115" y="441"/>
                  <a:pt x="112" y="451"/>
                  <a:pt x="107" y="460"/>
                </a:cubicBezTo>
                <a:cubicBezTo>
                  <a:pt x="100" y="470"/>
                  <a:pt x="92" y="476"/>
                  <a:pt x="81" y="476"/>
                </a:cubicBez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0" y="0"/>
            <a:ext cx="9144000" cy="5143680"/>
            <a:chOff x="0" y="0"/>
            <a:chExt cx="9144000" cy="5143680"/>
          </a:xfrm>
        </p:grpSpPr>
        <p:sp>
          <p:nvSpPr>
            <p:cNvPr id="156" name="矩形 21"/>
            <p:cNvSpPr/>
            <p:nvPr/>
          </p:nvSpPr>
          <p:spPr>
            <a:xfrm>
              <a:off x="0" y="0"/>
              <a:ext cx="9144000" cy="5143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fb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6"/>
            <p:cNvSpPr/>
            <p:nvPr/>
          </p:nvSpPr>
          <p:spPr>
            <a:xfrm>
              <a:off x="1985400" y="1285920"/>
              <a:ext cx="5172840" cy="2571840"/>
            </a:xfrm>
            <a:custGeom>
              <a:avLst/>
              <a:gdLst>
                <a:gd name="textAreaLeft" fmla="*/ 0 w 5172840"/>
                <a:gd name="textAreaRight" fmla="*/ 5172840 w 5172840"/>
                <a:gd name="textAreaTop" fmla="*/ 0 h 2571840"/>
                <a:gd name="textAreaBottom" fmla="*/ 2572200 h 2571840"/>
              </a:gdLst>
              <a:ahLst/>
              <a:rect l="textAreaLeft" t="textAreaTop" r="textAreaRight" b="textAreaBottom"/>
              <a:pathLst>
                <a:path w="1408" h="700">
                  <a:moveTo>
                    <a:pt x="1124" y="700"/>
                  </a:moveTo>
                  <a:cubicBezTo>
                    <a:pt x="1269" y="568"/>
                    <a:pt x="1269" y="568"/>
                    <a:pt x="1269" y="568"/>
                  </a:cubicBezTo>
                  <a:cubicBezTo>
                    <a:pt x="1352" y="568"/>
                    <a:pt x="1352" y="568"/>
                    <a:pt x="1352" y="568"/>
                  </a:cubicBezTo>
                  <a:cubicBezTo>
                    <a:pt x="1383" y="568"/>
                    <a:pt x="1408" y="545"/>
                    <a:pt x="1408" y="517"/>
                  </a:cubicBezTo>
                  <a:cubicBezTo>
                    <a:pt x="1408" y="51"/>
                    <a:pt x="1408" y="51"/>
                    <a:pt x="1408" y="51"/>
                  </a:cubicBezTo>
                  <a:cubicBezTo>
                    <a:pt x="1408" y="23"/>
                    <a:pt x="1383" y="0"/>
                    <a:pt x="1352" y="0"/>
                  </a:cubicBezTo>
                  <a:cubicBezTo>
                    <a:pt x="56" y="0"/>
                    <a:pt x="56" y="0"/>
                    <a:pt x="56" y="0"/>
                  </a:cubicBezTo>
                  <a:cubicBezTo>
                    <a:pt x="26" y="0"/>
                    <a:pt x="0" y="23"/>
                    <a:pt x="0" y="51"/>
                  </a:cubicBezTo>
                  <a:cubicBezTo>
                    <a:pt x="0" y="517"/>
                    <a:pt x="0" y="517"/>
                    <a:pt x="0" y="517"/>
                  </a:cubicBezTo>
                  <a:cubicBezTo>
                    <a:pt x="0" y="545"/>
                    <a:pt x="26" y="568"/>
                    <a:pt x="56" y="568"/>
                  </a:cubicBezTo>
                  <a:cubicBezTo>
                    <a:pt x="1124" y="568"/>
                    <a:pt x="1124" y="568"/>
                    <a:pt x="1124" y="568"/>
                  </a:cubicBezTo>
                  <a:lnTo>
                    <a:pt x="1124" y="700"/>
                  </a:lnTo>
                  <a:close/>
                </a:path>
              </a:pathLst>
            </a:custGeom>
            <a:solidFill>
              <a:srgbClr val="ff001f"/>
            </a:solidFill>
            <a:ln w="22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Box 23"/>
            <p:cNvSpPr/>
            <p:nvPr/>
          </p:nvSpPr>
          <p:spPr>
            <a:xfrm>
              <a:off x="3933000" y="1857240"/>
              <a:ext cx="1278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ffffff"/>
                  </a:solidFill>
                  <a:latin typeface="汉真广标"/>
                  <a:ea typeface="汉真广标"/>
                </a:rPr>
                <a:t>哲理篇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9" name=""/>
            <p:cNvGrpSpPr/>
            <p:nvPr/>
          </p:nvGrpSpPr>
          <p:grpSpPr>
            <a:xfrm>
              <a:off x="6795720" y="3212640"/>
              <a:ext cx="2207160" cy="1931040"/>
              <a:chOff x="6795720" y="3212640"/>
              <a:chExt cx="2207160" cy="1931040"/>
            </a:xfrm>
          </p:grpSpPr>
          <p:sp>
            <p:nvSpPr>
              <p:cNvPr id="160" name="Freeform 6"/>
              <p:cNvSpPr/>
              <p:nvPr/>
            </p:nvSpPr>
            <p:spPr>
              <a:xfrm>
                <a:off x="7801200" y="4227120"/>
                <a:ext cx="1168200" cy="916560"/>
              </a:xfrm>
              <a:custGeom>
                <a:avLst/>
                <a:gdLst>
                  <a:gd name="textAreaLeft" fmla="*/ 0 w 1168200"/>
                  <a:gd name="textAreaRight" fmla="*/ 1168560 w 1168200"/>
                  <a:gd name="textAreaTop" fmla="*/ 0 h 916560"/>
                  <a:gd name="textAreaBottom" fmla="*/ 916920 h 916560"/>
                </a:gdLst>
                <a:ahLst/>
                <a:rect l="textAreaLeft" t="textAreaTop" r="textAreaRight" b="textAreaBottom"/>
                <a:pathLst>
                  <a:path w="1040" h="816">
                    <a:moveTo>
                      <a:pt x="410" y="592"/>
                    </a:moveTo>
                    <a:lnTo>
                      <a:pt x="96" y="332"/>
                    </a:lnTo>
                    <a:lnTo>
                      <a:pt x="0" y="332"/>
                    </a:lnTo>
                    <a:lnTo>
                      <a:pt x="402" y="744"/>
                    </a:lnTo>
                    <a:lnTo>
                      <a:pt x="402" y="816"/>
                    </a:lnTo>
                    <a:lnTo>
                      <a:pt x="570" y="816"/>
                    </a:lnTo>
                    <a:lnTo>
                      <a:pt x="550" y="516"/>
                    </a:lnTo>
                    <a:lnTo>
                      <a:pt x="1040" y="84"/>
                    </a:lnTo>
                    <a:lnTo>
                      <a:pt x="1040" y="0"/>
                    </a:lnTo>
                    <a:lnTo>
                      <a:pt x="538" y="352"/>
                    </a:lnTo>
                    <a:lnTo>
                      <a:pt x="538" y="212"/>
                    </a:lnTo>
                    <a:lnTo>
                      <a:pt x="430" y="212"/>
                    </a:lnTo>
                    <a:lnTo>
                      <a:pt x="410" y="59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6795720" y="3212640"/>
                <a:ext cx="2207160" cy="1345320"/>
                <a:chOff x="6795720" y="3212640"/>
                <a:chExt cx="2207160" cy="1345320"/>
              </a:xfrm>
            </p:grpSpPr>
            <p:sp>
              <p:nvSpPr>
                <p:cNvPr id="162" name="TextBox 27"/>
                <p:cNvSpPr/>
                <p:nvPr/>
              </p:nvSpPr>
              <p:spPr>
                <a:xfrm>
                  <a:off x="8164080" y="3212640"/>
                  <a:ext cx="758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2f2f2"/>
                      </a:solidFill>
                      <a:latin typeface="Arial Black"/>
                    </a:rPr>
                    <a:t>Arts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TextBox 28"/>
                <p:cNvSpPr/>
                <p:nvPr/>
              </p:nvSpPr>
              <p:spPr>
                <a:xfrm>
                  <a:off x="6892200" y="3498480"/>
                  <a:ext cx="17596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2f2f2"/>
                      </a:solidFill>
                      <a:latin typeface="Arial Black"/>
                    </a:rPr>
                    <a:t>Philosophy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TextBox 29"/>
                <p:cNvSpPr/>
                <p:nvPr/>
              </p:nvSpPr>
              <p:spPr>
                <a:xfrm>
                  <a:off x="7749360" y="3840840"/>
                  <a:ext cx="12535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Arial Black"/>
                    </a:rPr>
                    <a:t>Science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TextBox 30"/>
                <p:cNvSpPr/>
                <p:nvPr/>
              </p:nvSpPr>
              <p:spPr>
                <a:xfrm>
                  <a:off x="6795720" y="4098240"/>
                  <a:ext cx="13406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Arial Black"/>
                    </a:rPr>
                    <a:t>Religion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with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2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269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000"/>
                            </p:stCondLst>
                            <p:childTnLst>
                              <p:par>
                                <p:cTn id="2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4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4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4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400"/>
                            </p:stCondLst>
                            <p:childTnLst>
                              <p:par>
                                <p:cTn id="2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2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2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2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2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53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2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2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53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2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2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53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2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2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2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2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2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2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2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53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2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2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200"/>
                            </p:stCondLst>
                            <p:childTnLst>
                              <p:par>
                                <p:cTn id="319" nodeType="afterEffect" fill="hold" presetClass="entr" presetID="23" presetSubtype="28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4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3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3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3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4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3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3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3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4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3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3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3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autoRev="1" nodeType="withEffect" fill="hold" presetClass="emph" presetID="6">
                                  <p:stCondLst>
                                    <p:cond delay="700"/>
                                  </p:stCondLst>
                                  <p:childTnLst>
                                    <p:animScale>
                                      <p:cBhvr>
                                        <p:cTn id="340" dur="200" fill="hold"/>
                                        <p:tgtEl>
                                          <p:spTgt spid="15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41" autoRev="1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342" dur="200" fill="hold"/>
                                        <p:tgtEl>
                                          <p:spTgt spid="154"/>
                                        </p:tgtEl>
                                      </p:cBhvr>
                                      <p:to x="108000" y="108000"/>
                                    </p:animScale>
                                  </p:childTnLst>
                                </p:cTn>
                              </p:par>
                              <p:par>
                                <p:cTn id="343" autoRev="1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344" dur="150" fill="hold"/>
                                        <p:tgtEl>
                                          <p:spTgt spid="152"/>
                                        </p:tgtEl>
                                      </p:cBhvr>
                                      <p:to x="108000" y="108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矩形 7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fbf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6" descr=""/>
          <p:cNvPicPr/>
          <p:nvPr/>
        </p:nvPicPr>
        <p:blipFill>
          <a:blip r:embed="rId1"/>
          <a:stretch/>
        </p:blipFill>
        <p:spPr>
          <a:xfrm>
            <a:off x="1920960" y="1976400"/>
            <a:ext cx="438120" cy="11905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7" descr=""/>
          <p:cNvPicPr/>
          <p:nvPr/>
        </p:nvPicPr>
        <p:blipFill>
          <a:blip r:embed="rId2"/>
          <a:stretch/>
        </p:blipFill>
        <p:spPr>
          <a:xfrm>
            <a:off x="2527200" y="1976400"/>
            <a:ext cx="438120" cy="11905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"/>
          <p:cNvPicPr/>
          <p:nvPr/>
        </p:nvPicPr>
        <p:blipFill>
          <a:blip r:embed="rId3"/>
          <a:stretch/>
        </p:blipFill>
        <p:spPr>
          <a:xfrm>
            <a:off x="3135240" y="1976400"/>
            <a:ext cx="438120" cy="11905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9" descr=""/>
          <p:cNvPicPr/>
          <p:nvPr/>
        </p:nvPicPr>
        <p:blipFill>
          <a:blip r:embed="rId4"/>
          <a:stretch/>
        </p:blipFill>
        <p:spPr>
          <a:xfrm>
            <a:off x="3743280" y="1976400"/>
            <a:ext cx="438120" cy="11905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0" descr=""/>
          <p:cNvPicPr/>
          <p:nvPr/>
        </p:nvPicPr>
        <p:blipFill>
          <a:blip r:embed="rId5"/>
          <a:stretch/>
        </p:blipFill>
        <p:spPr>
          <a:xfrm>
            <a:off x="4351320" y="1976400"/>
            <a:ext cx="438120" cy="11905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1" descr=""/>
          <p:cNvPicPr/>
          <p:nvPr/>
        </p:nvPicPr>
        <p:blipFill>
          <a:blip r:embed="rId6"/>
          <a:stretch/>
        </p:blipFill>
        <p:spPr>
          <a:xfrm>
            <a:off x="4959360" y="1976400"/>
            <a:ext cx="438120" cy="11905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2" descr=""/>
          <p:cNvPicPr/>
          <p:nvPr/>
        </p:nvPicPr>
        <p:blipFill>
          <a:blip r:embed="rId7"/>
          <a:stretch/>
        </p:blipFill>
        <p:spPr>
          <a:xfrm>
            <a:off x="5567400" y="1976400"/>
            <a:ext cx="438120" cy="11905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3" descr=""/>
          <p:cNvPicPr/>
          <p:nvPr/>
        </p:nvPicPr>
        <p:blipFill>
          <a:blip r:embed="rId8"/>
          <a:stretch/>
        </p:blipFill>
        <p:spPr>
          <a:xfrm>
            <a:off x="6175440" y="1976400"/>
            <a:ext cx="438120" cy="11905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4" descr=""/>
          <p:cNvPicPr/>
          <p:nvPr/>
        </p:nvPicPr>
        <p:blipFill>
          <a:blip r:embed="rId9"/>
          <a:stretch/>
        </p:blipFill>
        <p:spPr>
          <a:xfrm>
            <a:off x="6775560" y="1976400"/>
            <a:ext cx="438120" cy="1190520"/>
          </a:xfrm>
          <a:prstGeom prst="rect">
            <a:avLst/>
          </a:prstGeom>
          <a:ln w="0">
            <a:noFill/>
          </a:ln>
        </p:spPr>
      </p:pic>
      <p:sp>
        <p:nvSpPr>
          <p:cNvPr id="176" name="TextBox 16"/>
          <p:cNvSpPr/>
          <p:nvPr/>
        </p:nvSpPr>
        <p:spPr>
          <a:xfrm>
            <a:off x="4380120" y="3500280"/>
            <a:ext cx="38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当所有人都一字排开，你希望被人认识，怎么办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reeform 6"/>
          <p:cNvSpPr/>
          <p:nvPr/>
        </p:nvSpPr>
        <p:spPr>
          <a:xfrm rot="1033200">
            <a:off x="7276680" y="1535040"/>
            <a:ext cx="250920" cy="430200"/>
          </a:xfrm>
          <a:custGeom>
            <a:avLst/>
            <a:gdLst>
              <a:gd name="textAreaLeft" fmla="*/ 0 w 250920"/>
              <a:gd name="textAreaRight" fmla="*/ 251280 w 250920"/>
              <a:gd name="textAreaTop" fmla="*/ 0 h 430200"/>
              <a:gd name="textAreaBottom" fmla="*/ 430560 h 430200"/>
            </a:gdLst>
            <a:ahLst/>
            <a:rect l="textAreaLeft" t="textAreaTop" r="textAreaRight" b="textAreaBottom"/>
            <a:pathLst>
              <a:path w="279" h="476">
                <a:moveTo>
                  <a:pt x="98" y="359"/>
                </a:moveTo>
                <a:cubicBezTo>
                  <a:pt x="90" y="359"/>
                  <a:pt x="82" y="356"/>
                  <a:pt x="76" y="349"/>
                </a:cubicBezTo>
                <a:cubicBezTo>
                  <a:pt x="70" y="343"/>
                  <a:pt x="67" y="336"/>
                  <a:pt x="67" y="327"/>
                </a:cubicBezTo>
                <a:cubicBezTo>
                  <a:pt x="67" y="313"/>
                  <a:pt x="80" y="296"/>
                  <a:pt x="106" y="275"/>
                </a:cubicBezTo>
                <a:cubicBezTo>
                  <a:pt x="179" y="220"/>
                  <a:pt x="179" y="220"/>
                  <a:pt x="179" y="220"/>
                </a:cubicBezTo>
                <a:cubicBezTo>
                  <a:pt x="206" y="197"/>
                  <a:pt x="219" y="176"/>
                  <a:pt x="219" y="158"/>
                </a:cubicBezTo>
                <a:cubicBezTo>
                  <a:pt x="219" y="134"/>
                  <a:pt x="208" y="112"/>
                  <a:pt x="185" y="92"/>
                </a:cubicBezTo>
                <a:cubicBezTo>
                  <a:pt x="164" y="72"/>
                  <a:pt x="141" y="63"/>
                  <a:pt x="117" y="63"/>
                </a:cubicBezTo>
                <a:cubicBezTo>
                  <a:pt x="104" y="63"/>
                  <a:pt x="88" y="69"/>
                  <a:pt x="68" y="83"/>
                </a:cubicBezTo>
                <a:cubicBezTo>
                  <a:pt x="48" y="96"/>
                  <a:pt x="36" y="102"/>
                  <a:pt x="31" y="102"/>
                </a:cubicBezTo>
                <a:cubicBezTo>
                  <a:pt x="23" y="102"/>
                  <a:pt x="15" y="99"/>
                  <a:pt x="9" y="92"/>
                </a:cubicBezTo>
                <a:cubicBezTo>
                  <a:pt x="3" y="85"/>
                  <a:pt x="0" y="78"/>
                  <a:pt x="0" y="70"/>
                </a:cubicBezTo>
                <a:cubicBezTo>
                  <a:pt x="0" y="53"/>
                  <a:pt x="16" y="37"/>
                  <a:pt x="47" y="21"/>
                </a:cubicBezTo>
                <a:cubicBezTo>
                  <a:pt x="75" y="7"/>
                  <a:pt x="98" y="0"/>
                  <a:pt x="117" y="0"/>
                </a:cubicBezTo>
                <a:cubicBezTo>
                  <a:pt x="158" y="0"/>
                  <a:pt x="195" y="16"/>
                  <a:pt x="229" y="48"/>
                </a:cubicBezTo>
                <a:cubicBezTo>
                  <a:pt x="263" y="80"/>
                  <a:pt x="279" y="117"/>
                  <a:pt x="279" y="158"/>
                </a:cubicBezTo>
                <a:cubicBezTo>
                  <a:pt x="279" y="188"/>
                  <a:pt x="270" y="214"/>
                  <a:pt x="250" y="237"/>
                </a:cubicBezTo>
                <a:cubicBezTo>
                  <a:pt x="239" y="251"/>
                  <a:pt x="218" y="269"/>
                  <a:pt x="187" y="291"/>
                </a:cubicBezTo>
                <a:cubicBezTo>
                  <a:pt x="155" y="314"/>
                  <a:pt x="133" y="332"/>
                  <a:pt x="121" y="346"/>
                </a:cubicBezTo>
                <a:cubicBezTo>
                  <a:pt x="114" y="355"/>
                  <a:pt x="106" y="359"/>
                  <a:pt x="98" y="359"/>
                </a:cubicBezTo>
                <a:close/>
                <a:moveTo>
                  <a:pt x="81" y="476"/>
                </a:moveTo>
                <a:cubicBezTo>
                  <a:pt x="72" y="476"/>
                  <a:pt x="64" y="473"/>
                  <a:pt x="57" y="467"/>
                </a:cubicBezTo>
                <a:cubicBezTo>
                  <a:pt x="50" y="461"/>
                  <a:pt x="46" y="453"/>
                  <a:pt x="46" y="445"/>
                </a:cubicBezTo>
                <a:cubicBezTo>
                  <a:pt x="46" y="432"/>
                  <a:pt x="49" y="421"/>
                  <a:pt x="56" y="410"/>
                </a:cubicBezTo>
                <a:cubicBezTo>
                  <a:pt x="64" y="399"/>
                  <a:pt x="73" y="393"/>
                  <a:pt x="85" y="393"/>
                </a:cubicBezTo>
                <a:cubicBezTo>
                  <a:pt x="105" y="393"/>
                  <a:pt x="115" y="405"/>
                  <a:pt x="115" y="429"/>
                </a:cubicBezTo>
                <a:cubicBezTo>
                  <a:pt x="115" y="441"/>
                  <a:pt x="112" y="451"/>
                  <a:pt x="107" y="460"/>
                </a:cubicBezTo>
                <a:cubicBezTo>
                  <a:pt x="100" y="470"/>
                  <a:pt x="92" y="476"/>
                  <a:pt x="81" y="476"/>
                </a:cubicBez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reeform 6"/>
          <p:cNvSpPr/>
          <p:nvPr/>
        </p:nvSpPr>
        <p:spPr>
          <a:xfrm rot="447600">
            <a:off x="5270400" y="1244160"/>
            <a:ext cx="346320" cy="590760"/>
          </a:xfrm>
          <a:custGeom>
            <a:avLst/>
            <a:gdLst>
              <a:gd name="textAreaLeft" fmla="*/ 0 w 346320"/>
              <a:gd name="textAreaRight" fmla="*/ 346680 w 346320"/>
              <a:gd name="textAreaTop" fmla="*/ 0 h 590760"/>
              <a:gd name="textAreaBottom" fmla="*/ 591120 h 590760"/>
            </a:gdLst>
            <a:ahLst/>
            <a:rect l="textAreaLeft" t="textAreaTop" r="textAreaRight" b="textAreaBottom"/>
            <a:pathLst>
              <a:path w="279" h="476">
                <a:moveTo>
                  <a:pt x="98" y="359"/>
                </a:moveTo>
                <a:cubicBezTo>
                  <a:pt x="90" y="359"/>
                  <a:pt x="82" y="356"/>
                  <a:pt x="76" y="349"/>
                </a:cubicBezTo>
                <a:cubicBezTo>
                  <a:pt x="70" y="343"/>
                  <a:pt x="67" y="336"/>
                  <a:pt x="67" y="327"/>
                </a:cubicBezTo>
                <a:cubicBezTo>
                  <a:pt x="67" y="313"/>
                  <a:pt x="80" y="296"/>
                  <a:pt x="106" y="275"/>
                </a:cubicBezTo>
                <a:cubicBezTo>
                  <a:pt x="179" y="220"/>
                  <a:pt x="179" y="220"/>
                  <a:pt x="179" y="220"/>
                </a:cubicBezTo>
                <a:cubicBezTo>
                  <a:pt x="206" y="197"/>
                  <a:pt x="219" y="176"/>
                  <a:pt x="219" y="158"/>
                </a:cubicBezTo>
                <a:cubicBezTo>
                  <a:pt x="219" y="134"/>
                  <a:pt x="208" y="112"/>
                  <a:pt x="185" y="92"/>
                </a:cubicBezTo>
                <a:cubicBezTo>
                  <a:pt x="164" y="72"/>
                  <a:pt x="141" y="63"/>
                  <a:pt x="117" y="63"/>
                </a:cubicBezTo>
                <a:cubicBezTo>
                  <a:pt x="104" y="63"/>
                  <a:pt x="88" y="69"/>
                  <a:pt x="68" y="83"/>
                </a:cubicBezTo>
                <a:cubicBezTo>
                  <a:pt x="48" y="96"/>
                  <a:pt x="36" y="102"/>
                  <a:pt x="31" y="102"/>
                </a:cubicBezTo>
                <a:cubicBezTo>
                  <a:pt x="23" y="102"/>
                  <a:pt x="15" y="99"/>
                  <a:pt x="9" y="92"/>
                </a:cubicBezTo>
                <a:cubicBezTo>
                  <a:pt x="3" y="85"/>
                  <a:pt x="0" y="78"/>
                  <a:pt x="0" y="70"/>
                </a:cubicBezTo>
                <a:cubicBezTo>
                  <a:pt x="0" y="53"/>
                  <a:pt x="16" y="37"/>
                  <a:pt x="47" y="21"/>
                </a:cubicBezTo>
                <a:cubicBezTo>
                  <a:pt x="75" y="7"/>
                  <a:pt x="98" y="0"/>
                  <a:pt x="117" y="0"/>
                </a:cubicBezTo>
                <a:cubicBezTo>
                  <a:pt x="158" y="0"/>
                  <a:pt x="195" y="16"/>
                  <a:pt x="229" y="48"/>
                </a:cubicBezTo>
                <a:cubicBezTo>
                  <a:pt x="263" y="80"/>
                  <a:pt x="279" y="117"/>
                  <a:pt x="279" y="158"/>
                </a:cubicBezTo>
                <a:cubicBezTo>
                  <a:pt x="279" y="188"/>
                  <a:pt x="270" y="214"/>
                  <a:pt x="250" y="237"/>
                </a:cubicBezTo>
                <a:cubicBezTo>
                  <a:pt x="239" y="251"/>
                  <a:pt x="218" y="269"/>
                  <a:pt x="187" y="291"/>
                </a:cubicBezTo>
                <a:cubicBezTo>
                  <a:pt x="155" y="314"/>
                  <a:pt x="133" y="332"/>
                  <a:pt x="121" y="346"/>
                </a:cubicBezTo>
                <a:cubicBezTo>
                  <a:pt x="114" y="355"/>
                  <a:pt x="106" y="359"/>
                  <a:pt x="98" y="359"/>
                </a:cubicBezTo>
                <a:close/>
                <a:moveTo>
                  <a:pt x="81" y="476"/>
                </a:moveTo>
                <a:cubicBezTo>
                  <a:pt x="72" y="476"/>
                  <a:pt x="64" y="473"/>
                  <a:pt x="57" y="467"/>
                </a:cubicBezTo>
                <a:cubicBezTo>
                  <a:pt x="50" y="461"/>
                  <a:pt x="46" y="453"/>
                  <a:pt x="46" y="445"/>
                </a:cubicBezTo>
                <a:cubicBezTo>
                  <a:pt x="46" y="432"/>
                  <a:pt x="49" y="421"/>
                  <a:pt x="56" y="410"/>
                </a:cubicBezTo>
                <a:cubicBezTo>
                  <a:pt x="64" y="399"/>
                  <a:pt x="73" y="393"/>
                  <a:pt x="85" y="393"/>
                </a:cubicBezTo>
                <a:cubicBezTo>
                  <a:pt x="105" y="393"/>
                  <a:pt x="115" y="405"/>
                  <a:pt x="115" y="429"/>
                </a:cubicBezTo>
                <a:cubicBezTo>
                  <a:pt x="115" y="441"/>
                  <a:pt x="112" y="451"/>
                  <a:pt x="107" y="460"/>
                </a:cubicBezTo>
                <a:cubicBezTo>
                  <a:pt x="100" y="470"/>
                  <a:pt x="92" y="476"/>
                  <a:pt x="81" y="476"/>
                </a:cubicBez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reeform 6"/>
          <p:cNvSpPr/>
          <p:nvPr/>
        </p:nvSpPr>
        <p:spPr>
          <a:xfrm rot="19805400">
            <a:off x="1676160" y="1523880"/>
            <a:ext cx="269640" cy="460440"/>
          </a:xfrm>
          <a:custGeom>
            <a:avLst/>
            <a:gdLst>
              <a:gd name="textAreaLeft" fmla="*/ 0 w 269640"/>
              <a:gd name="textAreaRight" fmla="*/ 270000 w 269640"/>
              <a:gd name="textAreaTop" fmla="*/ 0 h 460440"/>
              <a:gd name="textAreaBottom" fmla="*/ 460800 h 460440"/>
            </a:gdLst>
            <a:ahLst/>
            <a:rect l="textAreaLeft" t="textAreaTop" r="textAreaRight" b="textAreaBottom"/>
            <a:pathLst>
              <a:path w="279" h="476">
                <a:moveTo>
                  <a:pt x="98" y="359"/>
                </a:moveTo>
                <a:cubicBezTo>
                  <a:pt x="90" y="359"/>
                  <a:pt x="82" y="356"/>
                  <a:pt x="76" y="349"/>
                </a:cubicBezTo>
                <a:cubicBezTo>
                  <a:pt x="70" y="343"/>
                  <a:pt x="67" y="336"/>
                  <a:pt x="67" y="327"/>
                </a:cubicBezTo>
                <a:cubicBezTo>
                  <a:pt x="67" y="313"/>
                  <a:pt x="80" y="296"/>
                  <a:pt x="106" y="275"/>
                </a:cubicBezTo>
                <a:cubicBezTo>
                  <a:pt x="179" y="220"/>
                  <a:pt x="179" y="220"/>
                  <a:pt x="179" y="220"/>
                </a:cubicBezTo>
                <a:cubicBezTo>
                  <a:pt x="206" y="197"/>
                  <a:pt x="219" y="176"/>
                  <a:pt x="219" y="158"/>
                </a:cubicBezTo>
                <a:cubicBezTo>
                  <a:pt x="219" y="134"/>
                  <a:pt x="208" y="112"/>
                  <a:pt x="185" y="92"/>
                </a:cubicBezTo>
                <a:cubicBezTo>
                  <a:pt x="164" y="72"/>
                  <a:pt x="141" y="63"/>
                  <a:pt x="117" y="63"/>
                </a:cubicBezTo>
                <a:cubicBezTo>
                  <a:pt x="104" y="63"/>
                  <a:pt x="88" y="69"/>
                  <a:pt x="68" y="83"/>
                </a:cubicBezTo>
                <a:cubicBezTo>
                  <a:pt x="48" y="96"/>
                  <a:pt x="36" y="102"/>
                  <a:pt x="31" y="102"/>
                </a:cubicBezTo>
                <a:cubicBezTo>
                  <a:pt x="23" y="102"/>
                  <a:pt x="15" y="99"/>
                  <a:pt x="9" y="92"/>
                </a:cubicBezTo>
                <a:cubicBezTo>
                  <a:pt x="3" y="85"/>
                  <a:pt x="0" y="78"/>
                  <a:pt x="0" y="70"/>
                </a:cubicBezTo>
                <a:cubicBezTo>
                  <a:pt x="0" y="53"/>
                  <a:pt x="16" y="37"/>
                  <a:pt x="47" y="21"/>
                </a:cubicBezTo>
                <a:cubicBezTo>
                  <a:pt x="75" y="7"/>
                  <a:pt x="98" y="0"/>
                  <a:pt x="117" y="0"/>
                </a:cubicBezTo>
                <a:cubicBezTo>
                  <a:pt x="158" y="0"/>
                  <a:pt x="195" y="16"/>
                  <a:pt x="229" y="48"/>
                </a:cubicBezTo>
                <a:cubicBezTo>
                  <a:pt x="263" y="80"/>
                  <a:pt x="279" y="117"/>
                  <a:pt x="279" y="158"/>
                </a:cubicBezTo>
                <a:cubicBezTo>
                  <a:pt x="279" y="188"/>
                  <a:pt x="270" y="214"/>
                  <a:pt x="250" y="237"/>
                </a:cubicBezTo>
                <a:cubicBezTo>
                  <a:pt x="239" y="251"/>
                  <a:pt x="218" y="269"/>
                  <a:pt x="187" y="291"/>
                </a:cubicBezTo>
                <a:cubicBezTo>
                  <a:pt x="155" y="314"/>
                  <a:pt x="133" y="332"/>
                  <a:pt x="121" y="346"/>
                </a:cubicBezTo>
                <a:cubicBezTo>
                  <a:pt x="114" y="355"/>
                  <a:pt x="106" y="359"/>
                  <a:pt x="98" y="359"/>
                </a:cubicBezTo>
                <a:close/>
                <a:moveTo>
                  <a:pt x="81" y="476"/>
                </a:moveTo>
                <a:cubicBezTo>
                  <a:pt x="72" y="476"/>
                  <a:pt x="64" y="473"/>
                  <a:pt x="57" y="467"/>
                </a:cubicBezTo>
                <a:cubicBezTo>
                  <a:pt x="50" y="461"/>
                  <a:pt x="46" y="453"/>
                  <a:pt x="46" y="445"/>
                </a:cubicBezTo>
                <a:cubicBezTo>
                  <a:pt x="46" y="432"/>
                  <a:pt x="49" y="421"/>
                  <a:pt x="56" y="410"/>
                </a:cubicBezTo>
                <a:cubicBezTo>
                  <a:pt x="64" y="399"/>
                  <a:pt x="73" y="393"/>
                  <a:pt x="85" y="393"/>
                </a:cubicBezTo>
                <a:cubicBezTo>
                  <a:pt x="105" y="393"/>
                  <a:pt x="115" y="405"/>
                  <a:pt x="115" y="429"/>
                </a:cubicBezTo>
                <a:cubicBezTo>
                  <a:pt x="115" y="441"/>
                  <a:pt x="112" y="451"/>
                  <a:pt x="107" y="460"/>
                </a:cubicBezTo>
                <a:cubicBezTo>
                  <a:pt x="100" y="470"/>
                  <a:pt x="92" y="476"/>
                  <a:pt x="81" y="476"/>
                </a:cubicBez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6" descr=""/>
          <p:cNvPicPr/>
          <p:nvPr/>
        </p:nvPicPr>
        <p:blipFill>
          <a:blip r:embed="rId10"/>
          <a:stretch/>
        </p:blipFill>
        <p:spPr>
          <a:xfrm>
            <a:off x="3143160" y="1511280"/>
            <a:ext cx="438120" cy="1654200"/>
          </a:xfrm>
          <a:prstGeom prst="rect">
            <a:avLst/>
          </a:prstGeom>
          <a:ln w="0">
            <a:noFill/>
          </a:ln>
        </p:spPr>
      </p:pic>
      <p:sp>
        <p:nvSpPr>
          <p:cNvPr id="181" name="TextBox 20"/>
          <p:cNvSpPr/>
          <p:nvPr/>
        </p:nvSpPr>
        <p:spPr>
          <a:xfrm>
            <a:off x="3567240" y="3500280"/>
            <a:ext cx="200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当然有些是人命中注定就是亮点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直接连接符 21"/>
          <p:cNvSpPr/>
          <p:nvPr/>
        </p:nvSpPr>
        <p:spPr>
          <a:xfrm flipH="1">
            <a:off x="2999880" y="1500120"/>
            <a:ext cx="357480" cy="0"/>
          </a:xfrm>
          <a:prstGeom prst="line">
            <a:avLst/>
          </a:prstGeom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直接连接符 22"/>
          <p:cNvSpPr/>
          <p:nvPr/>
        </p:nvSpPr>
        <p:spPr>
          <a:xfrm flipH="1">
            <a:off x="2999880" y="3171960"/>
            <a:ext cx="357480" cy="0"/>
          </a:xfrm>
          <a:prstGeom prst="line">
            <a:avLst/>
          </a:prstGeom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直接连接符 23"/>
          <p:cNvSpPr/>
          <p:nvPr/>
        </p:nvSpPr>
        <p:spPr>
          <a:xfrm>
            <a:off x="3071880" y="1504800"/>
            <a:ext cx="0" cy="1656000"/>
          </a:xfrm>
          <a:prstGeom prst="line">
            <a:avLst/>
          </a:prstGeom>
          <a:ln w="9360">
            <a:solidFill>
              <a:srgbClr val="40404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24"/>
          <p:cNvSpPr/>
          <p:nvPr/>
        </p:nvSpPr>
        <p:spPr>
          <a:xfrm>
            <a:off x="2834640" y="1162080"/>
            <a:ext cx="71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alibri"/>
              </a:rPr>
              <a:t>2.26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3428640" y="949680"/>
            <a:ext cx="597960" cy="535680"/>
            <a:chOff x="3428640" y="949680"/>
            <a:chExt cx="597960" cy="535680"/>
          </a:xfrm>
        </p:grpSpPr>
        <p:pic>
          <p:nvPicPr>
            <p:cNvPr id="187" name="组合 33" descr=""/>
            <p:cNvPicPr/>
            <p:nvPr/>
          </p:nvPicPr>
          <p:blipFill>
            <a:blip r:embed="rId11"/>
            <a:stretch/>
          </p:blipFill>
          <p:spPr>
            <a:xfrm rot="21599400">
              <a:off x="3526560" y="975600"/>
              <a:ext cx="366480" cy="50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直接连接符 27"/>
            <p:cNvSpPr/>
            <p:nvPr/>
          </p:nvSpPr>
          <p:spPr>
            <a:xfrm>
              <a:off x="3428640" y="1069560"/>
              <a:ext cx="92880" cy="17280"/>
            </a:xfrm>
            <a:prstGeom prst="line">
              <a:avLst/>
            </a:prstGeom>
            <a:ln w="648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直接连接符 28"/>
            <p:cNvSpPr/>
            <p:nvPr/>
          </p:nvSpPr>
          <p:spPr>
            <a:xfrm>
              <a:off x="3461040" y="999720"/>
              <a:ext cx="96840" cy="44640"/>
            </a:xfrm>
            <a:prstGeom prst="line">
              <a:avLst/>
            </a:prstGeom>
            <a:ln w="648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直接连接符 29"/>
            <p:cNvSpPr/>
            <p:nvPr/>
          </p:nvSpPr>
          <p:spPr>
            <a:xfrm>
              <a:off x="3524760" y="949680"/>
              <a:ext cx="44280" cy="39600"/>
            </a:xfrm>
            <a:prstGeom prst="line">
              <a:avLst/>
            </a:prstGeom>
            <a:ln w="648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直接连接符 30"/>
            <p:cNvSpPr/>
            <p:nvPr/>
          </p:nvSpPr>
          <p:spPr>
            <a:xfrm flipH="1" flipV="1">
              <a:off x="3898800" y="1275840"/>
              <a:ext cx="69840" cy="63000"/>
            </a:xfrm>
            <a:prstGeom prst="line">
              <a:avLst/>
            </a:prstGeom>
            <a:ln w="648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直接连接符 31"/>
            <p:cNvSpPr/>
            <p:nvPr/>
          </p:nvSpPr>
          <p:spPr>
            <a:xfrm flipH="1" flipV="1">
              <a:off x="3920400" y="1222920"/>
              <a:ext cx="94320" cy="50040"/>
            </a:xfrm>
            <a:prstGeom prst="line">
              <a:avLst/>
            </a:prstGeom>
            <a:ln w="648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直接连接符 32"/>
            <p:cNvSpPr/>
            <p:nvPr/>
          </p:nvSpPr>
          <p:spPr>
            <a:xfrm flipH="1" flipV="1">
              <a:off x="3944880" y="1176840"/>
              <a:ext cx="81720" cy="17640"/>
            </a:xfrm>
            <a:prstGeom prst="line">
              <a:avLst/>
            </a:prstGeom>
            <a:ln w="648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xit" presetID="1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6" dur="5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2" dur="4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5" dur="4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8" dur="4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500"/>
                            </p:stCondLst>
                            <p:childTnLst>
                              <p:par>
                                <p:cTn id="371" nodeType="afterEffect" fill="hold" presetClass="exit" presetID="37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2" dur="8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8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8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720">
                                          <p:stCondLst>
                                            <p:cond delay="8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37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8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8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72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80" fill="hold">
                                          <p:stCondLst>
                                            <p:cond delay="72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1500"/>
                            </p:stCondLst>
                            <p:childTnLst>
                              <p:par>
                                <p:cTn id="384" nodeType="afterEffect" fill="hold" presetClass="entr" presetID="2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6" dur="4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2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9" dur="4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2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2200"/>
                            </p:stCondLst>
                            <p:childTnLst>
                              <p:par>
                                <p:cTn id="394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8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8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99" dur="8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3000"/>
                            </p:stCondLst>
                            <p:childTnLst>
                              <p:par>
                                <p:cTn id="4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mph" presetID="26">
                                  <p:stCondLst>
                                    <p:cond delay="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6" dur="250" autoRev="1" fill="hold"/>
                                        <p:tgtEl>
                                          <p:spTgt spid="18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矩形 7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fbf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10" descr=""/>
          <p:cNvPicPr/>
          <p:nvPr/>
        </p:nvPicPr>
        <p:blipFill>
          <a:blip r:embed="rId1"/>
          <a:stretch/>
        </p:blipFill>
        <p:spPr>
          <a:xfrm>
            <a:off x="3054240" y="2595600"/>
            <a:ext cx="633600" cy="3142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6" descr=""/>
          <p:cNvPicPr/>
          <p:nvPr/>
        </p:nvPicPr>
        <p:blipFill>
          <a:blip r:embed="rId2"/>
          <a:stretch/>
        </p:blipFill>
        <p:spPr>
          <a:xfrm>
            <a:off x="1920960" y="1976400"/>
            <a:ext cx="438120" cy="11905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7" descr=""/>
          <p:cNvPicPr/>
          <p:nvPr/>
        </p:nvPicPr>
        <p:blipFill>
          <a:blip r:embed="rId3"/>
          <a:stretch/>
        </p:blipFill>
        <p:spPr>
          <a:xfrm>
            <a:off x="2527200" y="1976400"/>
            <a:ext cx="438120" cy="11905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8" descr=""/>
          <p:cNvPicPr/>
          <p:nvPr/>
        </p:nvPicPr>
        <p:blipFill>
          <a:blip r:embed="rId4"/>
          <a:stretch/>
        </p:blipFill>
        <p:spPr>
          <a:xfrm>
            <a:off x="3135240" y="1976400"/>
            <a:ext cx="438120" cy="11905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9" descr=""/>
          <p:cNvPicPr/>
          <p:nvPr/>
        </p:nvPicPr>
        <p:blipFill>
          <a:blip r:embed="rId5"/>
          <a:stretch/>
        </p:blipFill>
        <p:spPr>
          <a:xfrm>
            <a:off x="3743280" y="1976400"/>
            <a:ext cx="438120" cy="11905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0" descr=""/>
          <p:cNvPicPr/>
          <p:nvPr/>
        </p:nvPicPr>
        <p:blipFill>
          <a:blip r:embed="rId6"/>
          <a:stretch/>
        </p:blipFill>
        <p:spPr>
          <a:xfrm>
            <a:off x="4351320" y="1976400"/>
            <a:ext cx="438120" cy="11905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1" descr=""/>
          <p:cNvPicPr/>
          <p:nvPr/>
        </p:nvPicPr>
        <p:blipFill>
          <a:blip r:embed="rId7"/>
          <a:stretch/>
        </p:blipFill>
        <p:spPr>
          <a:xfrm>
            <a:off x="4959360" y="1976400"/>
            <a:ext cx="438120" cy="119052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2" descr=""/>
          <p:cNvPicPr/>
          <p:nvPr/>
        </p:nvPicPr>
        <p:blipFill>
          <a:blip r:embed="rId8"/>
          <a:stretch/>
        </p:blipFill>
        <p:spPr>
          <a:xfrm>
            <a:off x="5567400" y="1976400"/>
            <a:ext cx="438120" cy="11905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3" descr=""/>
          <p:cNvPicPr/>
          <p:nvPr/>
        </p:nvPicPr>
        <p:blipFill>
          <a:blip r:embed="rId9"/>
          <a:stretch/>
        </p:blipFill>
        <p:spPr>
          <a:xfrm>
            <a:off x="6175440" y="1976400"/>
            <a:ext cx="438120" cy="119052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4" descr=""/>
          <p:cNvPicPr/>
          <p:nvPr/>
        </p:nvPicPr>
        <p:blipFill>
          <a:blip r:embed="rId10"/>
          <a:stretch/>
        </p:blipFill>
        <p:spPr>
          <a:xfrm>
            <a:off x="6775560" y="1976400"/>
            <a:ext cx="438120" cy="1190520"/>
          </a:xfrm>
          <a:prstGeom prst="rect">
            <a:avLst/>
          </a:prstGeom>
          <a:ln w="0">
            <a:noFill/>
          </a:ln>
        </p:spPr>
      </p:pic>
      <p:sp>
        <p:nvSpPr>
          <p:cNvPr id="205" name="Freeform 8"/>
          <p:cNvSpPr/>
          <p:nvPr/>
        </p:nvSpPr>
        <p:spPr>
          <a:xfrm>
            <a:off x="3247920" y="2617920"/>
            <a:ext cx="231840" cy="91800"/>
          </a:xfrm>
          <a:custGeom>
            <a:avLst/>
            <a:gdLst>
              <a:gd name="textAreaLeft" fmla="*/ 0 w 231840"/>
              <a:gd name="textAreaRight" fmla="*/ 232200 w 231840"/>
              <a:gd name="textAreaTop" fmla="*/ 0 h 91800"/>
              <a:gd name="textAreaBottom" fmla="*/ 92160 h 91800"/>
            </a:gdLst>
            <a:ahLst/>
            <a:rect l="textAreaLeft" t="textAreaTop" r="textAreaRight" b="textAreaBottom"/>
            <a:pathLst>
              <a:path w="146" h="58">
                <a:moveTo>
                  <a:pt x="0" y="0"/>
                </a:moveTo>
                <a:lnTo>
                  <a:pt x="146" y="0"/>
                </a:lnTo>
                <a:lnTo>
                  <a:pt x="146" y="22"/>
                </a:lnTo>
                <a:lnTo>
                  <a:pt x="72" y="58"/>
                </a:lnTo>
                <a:lnTo>
                  <a:pt x="0" y="2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图片 14" descr="01.png"/>
          <p:cNvPicPr/>
          <p:nvPr/>
        </p:nvPicPr>
        <p:blipFill>
          <a:blip r:embed="rId11"/>
          <a:stretch/>
        </p:blipFill>
        <p:spPr>
          <a:xfrm>
            <a:off x="3222720" y="2322360"/>
            <a:ext cx="277560" cy="184320"/>
          </a:xfrm>
          <a:prstGeom prst="rect">
            <a:avLst/>
          </a:prstGeom>
          <a:ln w="0">
            <a:noFill/>
          </a:ln>
        </p:spPr>
      </p:pic>
      <p:sp>
        <p:nvSpPr>
          <p:cNvPr id="207" name="TextBox 15"/>
          <p:cNvSpPr/>
          <p:nvPr/>
        </p:nvSpPr>
        <p:spPr>
          <a:xfrm rot="20887800">
            <a:off x="2731680" y="1353960"/>
            <a:ext cx="124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方正剪纸简体"/>
                <a:ea typeface="方正剪纸简体"/>
              </a:rPr>
              <a:t>变身</a:t>
            </a:r>
            <a:r>
              <a:rPr b="0" lang="en-US" sz="2400" spc="-1" strike="noStrike">
                <a:solidFill>
                  <a:srgbClr val="ff0000"/>
                </a:solidFill>
                <a:latin typeface="Blackadder ITC"/>
                <a:ea typeface="汉真广标"/>
              </a:rPr>
              <a:t>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reeform 6"/>
          <p:cNvSpPr/>
          <p:nvPr/>
        </p:nvSpPr>
        <p:spPr>
          <a:xfrm>
            <a:off x="2163600" y="2003400"/>
            <a:ext cx="41400" cy="73080"/>
          </a:xfrm>
          <a:custGeom>
            <a:avLst/>
            <a:gdLst>
              <a:gd name="textAreaLeft" fmla="*/ 0 w 41400"/>
              <a:gd name="textAreaRight" fmla="*/ 41760 w 4140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13" h="23">
                <a:moveTo>
                  <a:pt x="7" y="0"/>
                </a:moveTo>
                <a:cubicBezTo>
                  <a:pt x="7" y="0"/>
                  <a:pt x="7" y="3"/>
                  <a:pt x="4" y="7"/>
                </a:cubicBezTo>
                <a:cubicBezTo>
                  <a:pt x="0" y="11"/>
                  <a:pt x="13" y="23"/>
                  <a:pt x="12" y="7"/>
                </a:cubicBezTo>
                <a:cubicBezTo>
                  <a:pt x="12" y="7"/>
                  <a:pt x="13" y="6"/>
                  <a:pt x="7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6"/>
          <p:cNvSpPr/>
          <p:nvPr/>
        </p:nvSpPr>
        <p:spPr>
          <a:xfrm>
            <a:off x="2773440" y="2003400"/>
            <a:ext cx="41040" cy="73080"/>
          </a:xfrm>
          <a:custGeom>
            <a:avLst/>
            <a:gdLst>
              <a:gd name="textAreaLeft" fmla="*/ 0 w 41040"/>
              <a:gd name="textAreaRight" fmla="*/ 41400 w 4104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13" h="23">
                <a:moveTo>
                  <a:pt x="7" y="0"/>
                </a:moveTo>
                <a:cubicBezTo>
                  <a:pt x="7" y="0"/>
                  <a:pt x="7" y="3"/>
                  <a:pt x="4" y="7"/>
                </a:cubicBezTo>
                <a:cubicBezTo>
                  <a:pt x="0" y="11"/>
                  <a:pt x="13" y="23"/>
                  <a:pt x="12" y="7"/>
                </a:cubicBezTo>
                <a:cubicBezTo>
                  <a:pt x="12" y="7"/>
                  <a:pt x="13" y="6"/>
                  <a:pt x="7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Freeform 6"/>
          <p:cNvSpPr/>
          <p:nvPr/>
        </p:nvSpPr>
        <p:spPr>
          <a:xfrm>
            <a:off x="3987720" y="2003400"/>
            <a:ext cx="41400" cy="73080"/>
          </a:xfrm>
          <a:custGeom>
            <a:avLst/>
            <a:gdLst>
              <a:gd name="textAreaLeft" fmla="*/ 0 w 41400"/>
              <a:gd name="textAreaRight" fmla="*/ 41760 w 4140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13" h="23">
                <a:moveTo>
                  <a:pt x="7" y="0"/>
                </a:moveTo>
                <a:cubicBezTo>
                  <a:pt x="7" y="0"/>
                  <a:pt x="7" y="3"/>
                  <a:pt x="4" y="7"/>
                </a:cubicBezTo>
                <a:cubicBezTo>
                  <a:pt x="0" y="11"/>
                  <a:pt x="13" y="23"/>
                  <a:pt x="12" y="7"/>
                </a:cubicBezTo>
                <a:cubicBezTo>
                  <a:pt x="12" y="7"/>
                  <a:pt x="13" y="6"/>
                  <a:pt x="7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6"/>
          <p:cNvSpPr/>
          <p:nvPr/>
        </p:nvSpPr>
        <p:spPr>
          <a:xfrm>
            <a:off x="3987720" y="2060640"/>
            <a:ext cx="41400" cy="73080"/>
          </a:xfrm>
          <a:custGeom>
            <a:avLst/>
            <a:gdLst>
              <a:gd name="textAreaLeft" fmla="*/ 0 w 41400"/>
              <a:gd name="textAreaRight" fmla="*/ 41760 w 4140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13" h="23">
                <a:moveTo>
                  <a:pt x="7" y="0"/>
                </a:moveTo>
                <a:cubicBezTo>
                  <a:pt x="7" y="0"/>
                  <a:pt x="7" y="3"/>
                  <a:pt x="4" y="7"/>
                </a:cubicBezTo>
                <a:cubicBezTo>
                  <a:pt x="0" y="11"/>
                  <a:pt x="13" y="23"/>
                  <a:pt x="12" y="7"/>
                </a:cubicBezTo>
                <a:cubicBezTo>
                  <a:pt x="12" y="7"/>
                  <a:pt x="13" y="6"/>
                  <a:pt x="7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reeform 6"/>
          <p:cNvSpPr/>
          <p:nvPr/>
        </p:nvSpPr>
        <p:spPr>
          <a:xfrm>
            <a:off x="4602240" y="2003400"/>
            <a:ext cx="41040" cy="73080"/>
          </a:xfrm>
          <a:custGeom>
            <a:avLst/>
            <a:gdLst>
              <a:gd name="textAreaLeft" fmla="*/ 0 w 41040"/>
              <a:gd name="textAreaRight" fmla="*/ 41400 w 4104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13" h="23">
                <a:moveTo>
                  <a:pt x="7" y="0"/>
                </a:moveTo>
                <a:cubicBezTo>
                  <a:pt x="7" y="0"/>
                  <a:pt x="7" y="3"/>
                  <a:pt x="4" y="7"/>
                </a:cubicBezTo>
                <a:cubicBezTo>
                  <a:pt x="0" y="11"/>
                  <a:pt x="13" y="23"/>
                  <a:pt x="12" y="7"/>
                </a:cubicBezTo>
                <a:cubicBezTo>
                  <a:pt x="12" y="7"/>
                  <a:pt x="13" y="6"/>
                  <a:pt x="7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reeform 6"/>
          <p:cNvSpPr/>
          <p:nvPr/>
        </p:nvSpPr>
        <p:spPr>
          <a:xfrm>
            <a:off x="5197320" y="2003400"/>
            <a:ext cx="41400" cy="73080"/>
          </a:xfrm>
          <a:custGeom>
            <a:avLst/>
            <a:gdLst>
              <a:gd name="textAreaLeft" fmla="*/ 0 w 41400"/>
              <a:gd name="textAreaRight" fmla="*/ 41760 w 4140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13" h="23">
                <a:moveTo>
                  <a:pt x="7" y="0"/>
                </a:moveTo>
                <a:cubicBezTo>
                  <a:pt x="7" y="0"/>
                  <a:pt x="7" y="3"/>
                  <a:pt x="4" y="7"/>
                </a:cubicBezTo>
                <a:cubicBezTo>
                  <a:pt x="0" y="11"/>
                  <a:pt x="13" y="23"/>
                  <a:pt x="12" y="7"/>
                </a:cubicBezTo>
                <a:cubicBezTo>
                  <a:pt x="12" y="7"/>
                  <a:pt x="13" y="6"/>
                  <a:pt x="7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Freeform 6"/>
          <p:cNvSpPr/>
          <p:nvPr/>
        </p:nvSpPr>
        <p:spPr>
          <a:xfrm>
            <a:off x="5821200" y="2003400"/>
            <a:ext cx="41400" cy="73080"/>
          </a:xfrm>
          <a:custGeom>
            <a:avLst/>
            <a:gdLst>
              <a:gd name="textAreaLeft" fmla="*/ 0 w 41400"/>
              <a:gd name="textAreaRight" fmla="*/ 41760 w 4140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13" h="23">
                <a:moveTo>
                  <a:pt x="7" y="0"/>
                </a:moveTo>
                <a:cubicBezTo>
                  <a:pt x="7" y="0"/>
                  <a:pt x="7" y="3"/>
                  <a:pt x="4" y="7"/>
                </a:cubicBezTo>
                <a:cubicBezTo>
                  <a:pt x="0" y="11"/>
                  <a:pt x="13" y="23"/>
                  <a:pt x="12" y="7"/>
                </a:cubicBezTo>
                <a:cubicBezTo>
                  <a:pt x="12" y="7"/>
                  <a:pt x="13" y="6"/>
                  <a:pt x="7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reeform 6"/>
          <p:cNvSpPr/>
          <p:nvPr/>
        </p:nvSpPr>
        <p:spPr>
          <a:xfrm>
            <a:off x="6416640" y="2003400"/>
            <a:ext cx="41400" cy="73080"/>
          </a:xfrm>
          <a:custGeom>
            <a:avLst/>
            <a:gdLst>
              <a:gd name="textAreaLeft" fmla="*/ 0 w 41400"/>
              <a:gd name="textAreaRight" fmla="*/ 41760 w 4140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13" h="23">
                <a:moveTo>
                  <a:pt x="7" y="0"/>
                </a:moveTo>
                <a:cubicBezTo>
                  <a:pt x="7" y="0"/>
                  <a:pt x="7" y="3"/>
                  <a:pt x="4" y="7"/>
                </a:cubicBezTo>
                <a:cubicBezTo>
                  <a:pt x="0" y="11"/>
                  <a:pt x="13" y="23"/>
                  <a:pt x="12" y="7"/>
                </a:cubicBezTo>
                <a:cubicBezTo>
                  <a:pt x="12" y="7"/>
                  <a:pt x="13" y="6"/>
                  <a:pt x="7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reeform 6"/>
          <p:cNvSpPr/>
          <p:nvPr/>
        </p:nvSpPr>
        <p:spPr>
          <a:xfrm>
            <a:off x="7031160" y="2003400"/>
            <a:ext cx="41040" cy="73080"/>
          </a:xfrm>
          <a:custGeom>
            <a:avLst/>
            <a:gdLst>
              <a:gd name="textAreaLeft" fmla="*/ 0 w 41040"/>
              <a:gd name="textAreaRight" fmla="*/ 41400 w 4104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13" h="23">
                <a:moveTo>
                  <a:pt x="7" y="0"/>
                </a:moveTo>
                <a:cubicBezTo>
                  <a:pt x="7" y="0"/>
                  <a:pt x="7" y="3"/>
                  <a:pt x="4" y="7"/>
                </a:cubicBezTo>
                <a:cubicBezTo>
                  <a:pt x="0" y="11"/>
                  <a:pt x="13" y="23"/>
                  <a:pt x="12" y="7"/>
                </a:cubicBezTo>
                <a:cubicBezTo>
                  <a:pt x="12" y="7"/>
                  <a:pt x="13" y="6"/>
                  <a:pt x="7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28"/>
          <p:cNvSpPr/>
          <p:nvPr/>
        </p:nvSpPr>
        <p:spPr>
          <a:xfrm>
            <a:off x="4328640" y="3500280"/>
            <a:ext cx="48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而有些人可以通过装备，变的独一无二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图片 30" descr="09.png"/>
          <p:cNvPicPr/>
          <p:nvPr/>
        </p:nvPicPr>
        <p:blipFill>
          <a:blip r:embed="rId12"/>
          <a:stretch/>
        </p:blipFill>
        <p:spPr>
          <a:xfrm rot="1119000">
            <a:off x="5190840" y="5597640"/>
            <a:ext cx="5359320" cy="3757320"/>
          </a:xfrm>
          <a:prstGeom prst="rect">
            <a:avLst/>
          </a:prstGeom>
          <a:ln w="0">
            <a:noFill/>
          </a:ln>
        </p:spPr>
      </p:pic>
    </p:spTree>
  </p:cSld>
  <p:transition advTm="7000">
    <p:pull dir="l"/>
  </p:transition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0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8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8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72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80" fill="hold">
                                          <p:stCondLst>
                                            <p:cond delay="72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800"/>
                            </p:stCondLst>
                            <p:childTnLst>
                              <p:par>
                                <p:cTn id="418" nodeType="afterEffect" fill="hold" presetClass="path" presetID="64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0.00035 -0.00524 L -0.28785 -0.60185 E">
                                      <p:cBhvr>
                                        <p:cTn id="419" dur="500" fill="hold"/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0" nodeType="withEffect" fill="hold" presetClass="path" presetID="0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-0.28784 -0.60186 C -0.28524 -0.61575 -0.28454 -0.62254 -0.27743 -0.63519 C -0.27204 -0.64476 -0.26527 -0.65525 -0.26284 -0.66852 C -0.25902 -0.6889 -0.25833 -0.69723 -0.24826 -0.70927 C -0.23854 -0.70803 -0.22829 -0.71112 -0.21909 -0.70556 C -0.21666 -0.70402 -0.22291 -0.69877 -0.22326 -0.69445 C -0.22361 -0.69075 -0.2217 -0.68704 -0.22118 -0.68334 C -0.22031 -0.67593 -0.21996 -0.66852 -0.21909 -0.66112 C -0.21857 -0.65618 -0.2177 -0.65124 -0.21701 -0.6463 C -0.2177 -0.6389 -0.21614 -0.62933 -0.21909 -0.62408 C -0.2217 -0.61945 -0.23211 -0.63334 -0.23368 -0.63519 C -0.24427 -0.66359 -0.23159 -0.63581 -0.23993 -0.63149 C -0.24409 -0.62933 -0.25243 -0.6389 -0.25243 -0.6389 C -0.26267 -0.63272 -0.26927 -0.62902 -0.27326 -0.65001 C -0.27083 -0.66297 -0.27343 -0.67933 -0.26909 -0.69075 C -0.26718 -0.69599 -0.26215 -0.69322 -0.25868 -0.69445 C -0.2552 -0.71328 -0.24965 -0.71081 -0.23993 -0.71667 C -0.23159 -0.71544 -0.22083 -0.72346 -0.21493 -0.71297 C -0.19826 -0.68334 -0.21632 -0.67624 -0.22326 -0.67223 C -0.22743 -0.67346 -0.23159 -0.6747 -0.23576 -0.67593 C -0.23923 -0.67717 -0.24479 -0.67377 -0.24618 -0.67964 C -0.24791 -0.68673 -0.24201 -0.70186 -0.24201 -0.70186 C -0.24687 -0.70464 -0.25364 -0.71081 -0.25868 -0.70186 C -0.2618 -0.6963 -0.26284 -0.67964 -0.26284 -0.67964 C -0.26215 -0.67593 -0.26267 -0.67069 -0.26076 -0.66852 C -0.25781 -0.66513 -0.25382 -0.66636 -0.25034 -0.66482 C -0.24826 -0.6639 -0.24201 -0.66204 -0.24409 -0.66112 C -0.24878 -0.65896 -0.25382 -0.66112 -0.25868 -0.66112 E">
                                      <p:cBhvr>
                                        <p:cTn id="421" dur="1000" fill="hold"/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2500"/>
                            </p:stCondLst>
                            <p:childTnLst>
                              <p:par>
                                <p:cTn id="423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592 -0.66297 L 0.13872 0.09598 E">
                                      <p:cBhvr>
                                        <p:cTn id="424" dur="500" fill="hold"/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3000"/>
                            </p:stCondLst>
                            <p:childTnLst>
                              <p:par>
                                <p:cTn id="435" nodeType="afterEffect" fill="hold" presetClass="entr" presetID="42">
                                  <p:stCondLst>
                                    <p:cond delay="2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0" nodeType="withEffect" fill="hold" presetClass="emph" presetID="35" repeatCount="3000">
                                  <p:stCondLst>
                                    <p:cond delay="8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discrete" valueType="num">
                                      <p:cBhvr additive="repl">
                                        <p:cTn id="441" dur="2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4400"/>
                            </p:stCondLst>
                            <p:childTnLst>
                              <p:par>
                                <p:cTn id="44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47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4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1" dur="4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4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47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47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3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3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3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47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4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1" dur="4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4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47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3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6" dur="3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3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矩形 7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fbf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图片 16" descr="10.png"/>
          <p:cNvPicPr/>
          <p:nvPr/>
        </p:nvPicPr>
        <p:blipFill>
          <a:blip r:embed="rId1"/>
          <a:stretch/>
        </p:blipFill>
        <p:spPr>
          <a:xfrm>
            <a:off x="0" y="0"/>
            <a:ext cx="2467080" cy="33163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8" descr=""/>
          <p:cNvPicPr/>
          <p:nvPr/>
        </p:nvPicPr>
        <p:blipFill>
          <a:blip r:embed="rId2"/>
          <a:stretch/>
        </p:blipFill>
        <p:spPr>
          <a:xfrm>
            <a:off x="3135240" y="1976400"/>
            <a:ext cx="438120" cy="11905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6" descr=""/>
          <p:cNvPicPr/>
          <p:nvPr/>
        </p:nvPicPr>
        <p:blipFill>
          <a:blip r:embed="rId3"/>
          <a:stretch/>
        </p:blipFill>
        <p:spPr>
          <a:xfrm>
            <a:off x="1920960" y="1976400"/>
            <a:ext cx="438120" cy="11905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7" descr=""/>
          <p:cNvPicPr/>
          <p:nvPr/>
        </p:nvPicPr>
        <p:blipFill>
          <a:blip r:embed="rId4"/>
          <a:stretch/>
        </p:blipFill>
        <p:spPr>
          <a:xfrm>
            <a:off x="2527200" y="1976400"/>
            <a:ext cx="438120" cy="11905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9" descr=""/>
          <p:cNvPicPr/>
          <p:nvPr/>
        </p:nvPicPr>
        <p:blipFill>
          <a:blip r:embed="rId5"/>
          <a:stretch/>
        </p:blipFill>
        <p:spPr>
          <a:xfrm>
            <a:off x="3743280" y="1976400"/>
            <a:ext cx="438120" cy="11905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0" descr=""/>
          <p:cNvPicPr/>
          <p:nvPr/>
        </p:nvPicPr>
        <p:blipFill>
          <a:blip r:embed="rId6"/>
          <a:stretch/>
        </p:blipFill>
        <p:spPr>
          <a:xfrm>
            <a:off x="4351320" y="1976400"/>
            <a:ext cx="438120" cy="11905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1" descr=""/>
          <p:cNvPicPr/>
          <p:nvPr/>
        </p:nvPicPr>
        <p:blipFill>
          <a:blip r:embed="rId7"/>
          <a:stretch/>
        </p:blipFill>
        <p:spPr>
          <a:xfrm>
            <a:off x="4959360" y="1976400"/>
            <a:ext cx="438120" cy="11905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2" descr=""/>
          <p:cNvPicPr/>
          <p:nvPr/>
        </p:nvPicPr>
        <p:blipFill>
          <a:blip r:embed="rId8"/>
          <a:stretch/>
        </p:blipFill>
        <p:spPr>
          <a:xfrm>
            <a:off x="5567400" y="1976400"/>
            <a:ext cx="438120" cy="11905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3" descr=""/>
          <p:cNvPicPr/>
          <p:nvPr/>
        </p:nvPicPr>
        <p:blipFill>
          <a:blip r:embed="rId9"/>
          <a:stretch/>
        </p:blipFill>
        <p:spPr>
          <a:xfrm>
            <a:off x="6175440" y="1976400"/>
            <a:ext cx="438120" cy="119052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4" descr=""/>
          <p:cNvPicPr/>
          <p:nvPr/>
        </p:nvPicPr>
        <p:blipFill>
          <a:blip r:embed="rId10"/>
          <a:stretch/>
        </p:blipFill>
        <p:spPr>
          <a:xfrm>
            <a:off x="6775560" y="1976400"/>
            <a:ext cx="438120" cy="1190520"/>
          </a:xfrm>
          <a:prstGeom prst="rect">
            <a:avLst/>
          </a:prstGeom>
          <a:ln w="0">
            <a:noFill/>
          </a:ln>
        </p:spPr>
      </p:pic>
      <p:pic>
        <p:nvPicPr>
          <p:cNvPr id="230" name="图片 12" descr="07.png"/>
          <p:cNvPicPr/>
          <p:nvPr/>
        </p:nvPicPr>
        <p:blipFill>
          <a:blip r:embed="rId11"/>
          <a:stretch/>
        </p:blipFill>
        <p:spPr>
          <a:xfrm>
            <a:off x="2776680" y="1971720"/>
            <a:ext cx="1152360" cy="1200240"/>
          </a:xfrm>
          <a:prstGeom prst="rect">
            <a:avLst/>
          </a:prstGeom>
          <a:ln w="0">
            <a:noFill/>
          </a:ln>
        </p:spPr>
      </p:pic>
      <p:sp>
        <p:nvSpPr>
          <p:cNvPr id="231" name="TextBox 17"/>
          <p:cNvSpPr/>
          <p:nvPr/>
        </p:nvSpPr>
        <p:spPr>
          <a:xfrm>
            <a:off x="4266720" y="3500280"/>
            <a:ext cx="61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或者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采用不同的方式、风格将自己的思想、观点明白无误地表达出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图片 27" descr="08.png"/>
          <p:cNvPicPr/>
          <p:nvPr/>
        </p:nvPicPr>
        <p:blipFill>
          <a:blip r:embed="rId12"/>
          <a:stretch/>
        </p:blipFill>
        <p:spPr>
          <a:xfrm>
            <a:off x="2611440" y="1792440"/>
            <a:ext cx="1457280" cy="1457280"/>
          </a:xfrm>
          <a:prstGeom prst="rect">
            <a:avLst/>
          </a:prstGeom>
          <a:ln w="0">
            <a:noFill/>
          </a:ln>
        </p:spPr>
      </p:pic>
      <p:sp>
        <p:nvSpPr>
          <p:cNvPr id="233" name="TextBox 28"/>
          <p:cNvSpPr/>
          <p:nvPr/>
        </p:nvSpPr>
        <p:spPr>
          <a:xfrm rot="21317400">
            <a:off x="1924560" y="844560"/>
            <a:ext cx="350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"/>
              </a:rPr>
              <a:t>Vitruvian M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pull dir="ld"/>
  </p:transition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8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5" dur="8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72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80" fill="hold">
                                          <p:stCondLst>
                                            <p:cond delay="72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4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4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2" nodeType="withEffect" fill="hold" presetClass="exit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3" dur="4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4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6" nodeType="withEffect" fill="hold" presetClass="path" presetID="35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2.77778E-006 0 L -0.05834 0 E">
                                      <p:cBhvr>
                                        <p:cTn id="507" dur="300" fill="hold"/>
                                        <p:tgtEl>
                                          <p:spTgt spid="2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8" nodeType="withEffect" fill="hold" presetClass="path" presetID="35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3.05556E-006 3.20988E-006 L -0.05416 3.20988E-006 E">
                                      <p:cBhvr>
                                        <p:cTn id="509" dur="300" fill="hold"/>
                                        <p:tgtEl>
                                          <p:spTgt spid="2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0" nodeType="withEffect" fill="hold" presetClass="path" presetID="63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5.55556E-007 0 L 0.07014 0 E">
                                      <p:cBhvr>
                                        <p:cTn id="511" dur="300" fill="hold"/>
                                        <p:tgtEl>
                                          <p:spTgt spid="2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2" nodeType="withEffect" fill="hold" presetClass="path" presetID="63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5E-006 0 L 0.06754 0 E">
                                      <p:cBhvr>
                                        <p:cTn id="513" dur="300" fill="hold"/>
                                        <p:tgtEl>
                                          <p:spTgt spid="2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4" nodeType="withEffect" fill="hold" presetClass="path" presetID="63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0.00069 0 L 0.06649 0 E">
                                      <p:cBhvr>
                                        <p:cTn id="515" dur="300" fill="hold"/>
                                        <p:tgtEl>
                                          <p:spTgt spid="2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6" nodeType="withEffect" fill="hold" presetClass="path" presetID="63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3.05556E-006 0 L 0.0599 0 E">
                                      <p:cBhvr>
                                        <p:cTn id="517" dur="300" fill="hold"/>
                                        <p:tgtEl>
                                          <p:spTgt spid="2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8" nodeType="withEffect" fill="hold" presetClass="path" presetID="63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1.11111E-006 0 L 0.0566 0 E">
                                      <p:cBhvr>
                                        <p:cTn id="519" dur="300" fill="hold"/>
                                        <p:tgtEl>
                                          <p:spTgt spid="2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0" nodeType="withEffect" fill="hold" presetClass="path" presetID="63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1.11111E-006 0 L 0.05504 0 E">
                                      <p:cBhvr>
                                        <p:cTn id="521" dur="300" fill="hold"/>
                                        <p:tgtEl>
                                          <p:spTgt spid="2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1800"/>
                            </p:stCondLst>
                            <p:childTnLst>
                              <p:par>
                                <p:cTn id="5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6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27" dur="4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2400"/>
                            </p:stCondLst>
                            <p:childTnLst>
                              <p:par>
                                <p:cTn id="529" nodeType="afterEffect" fill="hold" presetClass="entr" presetID="23" presetSubtype="3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矩形 7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fbf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图片 51" descr="06.png"/>
          <p:cNvPicPr/>
          <p:nvPr/>
        </p:nvPicPr>
        <p:blipFill>
          <a:blip r:embed="rId1"/>
          <a:stretch/>
        </p:blipFill>
        <p:spPr>
          <a:xfrm>
            <a:off x="-4680" y="-4680"/>
            <a:ext cx="9155160" cy="5156280"/>
          </a:xfrm>
          <a:prstGeom prst="rect">
            <a:avLst/>
          </a:prstGeom>
          <a:ln w="0">
            <a:noFill/>
          </a:ln>
        </p:spPr>
      </p:pic>
      <p:pic>
        <p:nvPicPr>
          <p:cNvPr id="236" name="图片 52" descr="06.png"/>
          <p:cNvPicPr/>
          <p:nvPr/>
        </p:nvPicPr>
        <p:blipFill>
          <a:blip r:embed="rId2"/>
          <a:stretch/>
        </p:blipFill>
        <p:spPr>
          <a:xfrm>
            <a:off x="-4680" y="-4680"/>
            <a:ext cx="9155160" cy="5156280"/>
          </a:xfrm>
          <a:prstGeom prst="rect">
            <a:avLst/>
          </a:prstGeom>
          <a:ln w="0">
            <a:noFill/>
          </a:ln>
        </p:spPr>
      </p:pic>
      <p:pic>
        <p:nvPicPr>
          <p:cNvPr id="237" name="图片 53" descr="06.png"/>
          <p:cNvPicPr/>
          <p:nvPr/>
        </p:nvPicPr>
        <p:blipFill>
          <a:blip r:embed="rId3"/>
          <a:stretch/>
        </p:blipFill>
        <p:spPr>
          <a:xfrm>
            <a:off x="-4680" y="-4680"/>
            <a:ext cx="9155160" cy="5156280"/>
          </a:xfrm>
          <a:prstGeom prst="rect">
            <a:avLst/>
          </a:prstGeom>
          <a:ln w="0">
            <a:noFill/>
          </a:ln>
        </p:spPr>
      </p:pic>
      <p:pic>
        <p:nvPicPr>
          <p:cNvPr id="238" name="图片 54" descr="06.png"/>
          <p:cNvPicPr/>
          <p:nvPr/>
        </p:nvPicPr>
        <p:blipFill>
          <a:blip r:embed="rId4"/>
          <a:stretch/>
        </p:blipFill>
        <p:spPr>
          <a:xfrm>
            <a:off x="-4680" y="-4680"/>
            <a:ext cx="9155160" cy="5156280"/>
          </a:xfrm>
          <a:prstGeom prst="rect">
            <a:avLst/>
          </a:prstGeom>
          <a:ln w="0">
            <a:noFill/>
          </a:ln>
        </p:spPr>
      </p:pic>
      <p:pic>
        <p:nvPicPr>
          <p:cNvPr id="239" name="图片 55" descr="06.png"/>
          <p:cNvPicPr/>
          <p:nvPr/>
        </p:nvPicPr>
        <p:blipFill>
          <a:blip r:embed="rId5"/>
          <a:stretch/>
        </p:blipFill>
        <p:spPr>
          <a:xfrm>
            <a:off x="-4680" y="-4680"/>
            <a:ext cx="9155160" cy="51562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6" descr=""/>
          <p:cNvPicPr/>
          <p:nvPr/>
        </p:nvPicPr>
        <p:blipFill>
          <a:blip r:embed="rId6"/>
          <a:stretch/>
        </p:blipFill>
        <p:spPr>
          <a:xfrm>
            <a:off x="1920960" y="1976400"/>
            <a:ext cx="438120" cy="11905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7" descr=""/>
          <p:cNvPicPr/>
          <p:nvPr/>
        </p:nvPicPr>
        <p:blipFill>
          <a:blip r:embed="rId7"/>
          <a:stretch/>
        </p:blipFill>
        <p:spPr>
          <a:xfrm>
            <a:off x="2527200" y="1976400"/>
            <a:ext cx="438120" cy="119052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8" descr=""/>
          <p:cNvPicPr/>
          <p:nvPr/>
        </p:nvPicPr>
        <p:blipFill>
          <a:blip r:embed="rId8"/>
          <a:stretch/>
        </p:blipFill>
        <p:spPr>
          <a:xfrm>
            <a:off x="3135240" y="1976400"/>
            <a:ext cx="438120" cy="11905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9" descr=""/>
          <p:cNvPicPr/>
          <p:nvPr/>
        </p:nvPicPr>
        <p:blipFill>
          <a:blip r:embed="rId9"/>
          <a:stretch/>
        </p:blipFill>
        <p:spPr>
          <a:xfrm>
            <a:off x="3743280" y="1976400"/>
            <a:ext cx="438120" cy="11905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0" descr=""/>
          <p:cNvPicPr/>
          <p:nvPr/>
        </p:nvPicPr>
        <p:blipFill>
          <a:blip r:embed="rId10"/>
          <a:stretch/>
        </p:blipFill>
        <p:spPr>
          <a:xfrm>
            <a:off x="4351320" y="1976400"/>
            <a:ext cx="438120" cy="119052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1" descr=""/>
          <p:cNvPicPr/>
          <p:nvPr/>
        </p:nvPicPr>
        <p:blipFill>
          <a:blip r:embed="rId11"/>
          <a:stretch/>
        </p:blipFill>
        <p:spPr>
          <a:xfrm>
            <a:off x="4959360" y="1976400"/>
            <a:ext cx="438120" cy="119052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2" descr=""/>
          <p:cNvPicPr/>
          <p:nvPr/>
        </p:nvPicPr>
        <p:blipFill>
          <a:blip r:embed="rId12"/>
          <a:stretch/>
        </p:blipFill>
        <p:spPr>
          <a:xfrm>
            <a:off x="5567400" y="1976400"/>
            <a:ext cx="438120" cy="11905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13" descr=""/>
          <p:cNvPicPr/>
          <p:nvPr/>
        </p:nvPicPr>
        <p:blipFill>
          <a:blip r:embed="rId13"/>
          <a:stretch/>
        </p:blipFill>
        <p:spPr>
          <a:xfrm>
            <a:off x="6175440" y="1976400"/>
            <a:ext cx="438120" cy="11905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4" descr=""/>
          <p:cNvPicPr/>
          <p:nvPr/>
        </p:nvPicPr>
        <p:blipFill>
          <a:blip r:embed="rId14"/>
          <a:stretch/>
        </p:blipFill>
        <p:spPr>
          <a:xfrm>
            <a:off x="6775560" y="1976400"/>
            <a:ext cx="438120" cy="1190520"/>
          </a:xfrm>
          <a:prstGeom prst="rect">
            <a:avLst/>
          </a:prstGeom>
          <a:ln w="0">
            <a:noFill/>
          </a:ln>
        </p:spPr>
      </p:pic>
      <p:pic>
        <p:nvPicPr>
          <p:cNvPr id="249" name="图片 21" descr="04.png"/>
          <p:cNvPicPr/>
          <p:nvPr/>
        </p:nvPicPr>
        <p:blipFill>
          <a:blip r:embed="rId15"/>
          <a:stretch/>
        </p:blipFill>
        <p:spPr>
          <a:xfrm>
            <a:off x="4862520" y="1974960"/>
            <a:ext cx="182520" cy="1193760"/>
          </a:xfrm>
          <a:prstGeom prst="rect">
            <a:avLst/>
          </a:prstGeom>
          <a:ln w="0">
            <a:noFill/>
          </a:ln>
        </p:spPr>
      </p:pic>
      <p:grpSp>
        <p:nvGrpSpPr>
          <p:cNvPr id="250" name=""/>
          <p:cNvGrpSpPr/>
          <p:nvPr/>
        </p:nvGrpSpPr>
        <p:grpSpPr>
          <a:xfrm>
            <a:off x="4347000" y="2220840"/>
            <a:ext cx="516600" cy="945720"/>
            <a:chOff x="4347000" y="2220840"/>
            <a:chExt cx="516600" cy="945720"/>
          </a:xfrm>
        </p:grpSpPr>
        <p:pic>
          <p:nvPicPr>
            <p:cNvPr id="251" name="图片 22" descr="05.png"/>
            <p:cNvPicPr/>
            <p:nvPr/>
          </p:nvPicPr>
          <p:blipFill>
            <a:blip r:embed="rId16"/>
            <a:stretch/>
          </p:blipFill>
          <p:spPr>
            <a:xfrm rot="1683600">
              <a:off x="4440600" y="2636640"/>
              <a:ext cx="329400" cy="48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椭圆 23"/>
            <p:cNvSpPr/>
            <p:nvPr/>
          </p:nvSpPr>
          <p:spPr>
            <a:xfrm rot="2547000">
              <a:off x="4589640" y="2230200"/>
              <a:ext cx="45720" cy="457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3" name="图片 20" descr="04.png"/>
          <p:cNvPicPr/>
          <p:nvPr/>
        </p:nvPicPr>
        <p:blipFill>
          <a:blip r:embed="rId17"/>
          <a:stretch/>
        </p:blipFill>
        <p:spPr>
          <a:xfrm>
            <a:off x="4479840" y="1974960"/>
            <a:ext cx="184320" cy="1193760"/>
          </a:xfrm>
          <a:prstGeom prst="rect">
            <a:avLst/>
          </a:prstGeom>
          <a:ln w="0">
            <a:noFill/>
          </a:ln>
        </p:spPr>
      </p:pic>
      <p:sp>
        <p:nvSpPr>
          <p:cNvPr id="254" name="TextBox 25"/>
          <p:cNvSpPr/>
          <p:nvPr/>
        </p:nvSpPr>
        <p:spPr>
          <a:xfrm>
            <a:off x="1468440" y="3500280"/>
            <a:ext cx="6207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有压力的情境下，思考、解决问题时能够迅速而灵巧地转移角度、随机应变、触类旁通，做出正确的判断和处理。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Freeform 19"/>
          <p:cNvSpPr/>
          <p:nvPr/>
        </p:nvSpPr>
        <p:spPr>
          <a:xfrm>
            <a:off x="3416400" y="2793960"/>
            <a:ext cx="266760" cy="266760"/>
          </a:xfrm>
          <a:custGeom>
            <a:avLst/>
            <a:gdLst>
              <a:gd name="textAreaLeft" fmla="*/ 0 w 266760"/>
              <a:gd name="textAreaRight" fmla="*/ 267120 w 26676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84" h="84">
                <a:moveTo>
                  <a:pt x="21" y="11"/>
                </a:moveTo>
                <a:cubicBezTo>
                  <a:pt x="38" y="0"/>
                  <a:pt x="61" y="4"/>
                  <a:pt x="73" y="21"/>
                </a:cubicBezTo>
                <a:cubicBezTo>
                  <a:pt x="84" y="38"/>
                  <a:pt x="80" y="62"/>
                  <a:pt x="63" y="73"/>
                </a:cubicBezTo>
                <a:cubicBezTo>
                  <a:pt x="46" y="84"/>
                  <a:pt x="23" y="80"/>
                  <a:pt x="11" y="63"/>
                </a:cubicBezTo>
                <a:cubicBezTo>
                  <a:pt x="0" y="46"/>
                  <a:pt x="4" y="23"/>
                  <a:pt x="21" y="11"/>
                </a:cubicBezTo>
                <a:close/>
              </a:path>
            </a:pathLst>
          </a:custGeom>
          <a:solidFill>
            <a:srgbClr val="baa5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Freeform 20"/>
          <p:cNvSpPr/>
          <p:nvPr/>
        </p:nvSpPr>
        <p:spPr>
          <a:xfrm>
            <a:off x="3759120" y="2562120"/>
            <a:ext cx="266760" cy="270000"/>
          </a:xfrm>
          <a:custGeom>
            <a:avLst/>
            <a:gdLst>
              <a:gd name="textAreaLeft" fmla="*/ 0 w 266760"/>
              <a:gd name="textAreaRight" fmla="*/ 267120 w 266760"/>
              <a:gd name="textAreaTop" fmla="*/ 0 h 270000"/>
              <a:gd name="textAreaBottom" fmla="*/ 270360 h 270000"/>
            </a:gdLst>
            <a:ahLst/>
            <a:rect l="textAreaLeft" t="textAreaTop" r="textAreaRight" b="textAreaBottom"/>
            <a:pathLst>
              <a:path w="84" h="85">
                <a:moveTo>
                  <a:pt x="21" y="11"/>
                </a:moveTo>
                <a:cubicBezTo>
                  <a:pt x="38" y="0"/>
                  <a:pt x="61" y="5"/>
                  <a:pt x="73" y="22"/>
                </a:cubicBezTo>
                <a:cubicBezTo>
                  <a:pt x="84" y="39"/>
                  <a:pt x="80" y="62"/>
                  <a:pt x="63" y="73"/>
                </a:cubicBezTo>
                <a:cubicBezTo>
                  <a:pt x="46" y="85"/>
                  <a:pt x="23" y="80"/>
                  <a:pt x="11" y="63"/>
                </a:cubicBezTo>
                <a:cubicBezTo>
                  <a:pt x="0" y="46"/>
                  <a:pt x="4" y="23"/>
                  <a:pt x="21" y="11"/>
                </a:cubicBezTo>
                <a:close/>
              </a:path>
            </a:pathLst>
          </a:custGeom>
          <a:solidFill>
            <a:srgbClr val="baa5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Freeform 21"/>
          <p:cNvSpPr/>
          <p:nvPr/>
        </p:nvSpPr>
        <p:spPr>
          <a:xfrm>
            <a:off x="4102200" y="2330280"/>
            <a:ext cx="266760" cy="270000"/>
          </a:xfrm>
          <a:custGeom>
            <a:avLst/>
            <a:gdLst>
              <a:gd name="textAreaLeft" fmla="*/ 0 w 266760"/>
              <a:gd name="textAreaRight" fmla="*/ 267120 w 266760"/>
              <a:gd name="textAreaTop" fmla="*/ 0 h 270000"/>
              <a:gd name="textAreaBottom" fmla="*/ 270360 h 270000"/>
            </a:gdLst>
            <a:ahLst/>
            <a:rect l="textAreaLeft" t="textAreaTop" r="textAreaRight" b="textAreaBottom"/>
            <a:pathLst>
              <a:path w="84" h="85">
                <a:moveTo>
                  <a:pt x="21" y="12"/>
                </a:moveTo>
                <a:cubicBezTo>
                  <a:pt x="38" y="0"/>
                  <a:pt x="61" y="5"/>
                  <a:pt x="73" y="22"/>
                </a:cubicBezTo>
                <a:cubicBezTo>
                  <a:pt x="84" y="39"/>
                  <a:pt x="80" y="62"/>
                  <a:pt x="63" y="73"/>
                </a:cubicBezTo>
                <a:cubicBezTo>
                  <a:pt x="46" y="85"/>
                  <a:pt x="23" y="80"/>
                  <a:pt x="11" y="63"/>
                </a:cubicBezTo>
                <a:cubicBezTo>
                  <a:pt x="0" y="46"/>
                  <a:pt x="4" y="23"/>
                  <a:pt x="21" y="12"/>
                </a:cubicBezTo>
                <a:close/>
              </a:path>
            </a:pathLst>
          </a:custGeom>
          <a:solidFill>
            <a:srgbClr val="baa5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Freeform 23"/>
          <p:cNvSpPr/>
          <p:nvPr/>
        </p:nvSpPr>
        <p:spPr>
          <a:xfrm>
            <a:off x="4788000" y="1866960"/>
            <a:ext cx="266760" cy="269640"/>
          </a:xfrm>
          <a:custGeom>
            <a:avLst/>
            <a:gdLst>
              <a:gd name="textAreaLeft" fmla="*/ 0 w 266760"/>
              <a:gd name="textAreaRight" fmla="*/ 267120 w 266760"/>
              <a:gd name="textAreaTop" fmla="*/ 0 h 269640"/>
              <a:gd name="textAreaBottom" fmla="*/ 270000 h 269640"/>
            </a:gdLst>
            <a:ahLst/>
            <a:rect l="textAreaLeft" t="textAreaTop" r="textAreaRight" b="textAreaBottom"/>
            <a:pathLst>
              <a:path w="84" h="85">
                <a:moveTo>
                  <a:pt x="21" y="12"/>
                </a:moveTo>
                <a:cubicBezTo>
                  <a:pt x="38" y="0"/>
                  <a:pt x="62" y="5"/>
                  <a:pt x="73" y="22"/>
                </a:cubicBezTo>
                <a:cubicBezTo>
                  <a:pt x="84" y="39"/>
                  <a:pt x="80" y="62"/>
                  <a:pt x="63" y="74"/>
                </a:cubicBezTo>
                <a:cubicBezTo>
                  <a:pt x="46" y="85"/>
                  <a:pt x="23" y="81"/>
                  <a:pt x="11" y="64"/>
                </a:cubicBezTo>
                <a:cubicBezTo>
                  <a:pt x="0" y="47"/>
                  <a:pt x="4" y="23"/>
                  <a:pt x="21" y="12"/>
                </a:cubicBezTo>
                <a:close/>
              </a:path>
            </a:pathLst>
          </a:custGeom>
          <a:solidFill>
            <a:srgbClr val="baa5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Freeform 24"/>
          <p:cNvSpPr/>
          <p:nvPr/>
        </p:nvSpPr>
        <p:spPr>
          <a:xfrm>
            <a:off x="5130720" y="1638360"/>
            <a:ext cx="266760" cy="266760"/>
          </a:xfrm>
          <a:custGeom>
            <a:avLst/>
            <a:gdLst>
              <a:gd name="textAreaLeft" fmla="*/ 0 w 266760"/>
              <a:gd name="textAreaRight" fmla="*/ 267120 w 26676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84" h="84">
                <a:moveTo>
                  <a:pt x="21" y="11"/>
                </a:moveTo>
                <a:cubicBezTo>
                  <a:pt x="38" y="0"/>
                  <a:pt x="62" y="4"/>
                  <a:pt x="73" y="21"/>
                </a:cubicBezTo>
                <a:cubicBezTo>
                  <a:pt x="84" y="38"/>
                  <a:pt x="80" y="61"/>
                  <a:pt x="63" y="73"/>
                </a:cubicBezTo>
                <a:cubicBezTo>
                  <a:pt x="46" y="84"/>
                  <a:pt x="23" y="80"/>
                  <a:pt x="11" y="63"/>
                </a:cubicBezTo>
                <a:cubicBezTo>
                  <a:pt x="0" y="46"/>
                  <a:pt x="4" y="23"/>
                  <a:pt x="21" y="11"/>
                </a:cubicBezTo>
                <a:close/>
              </a:path>
            </a:pathLst>
          </a:custGeom>
          <a:solidFill>
            <a:srgbClr val="baa5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Freeform 25"/>
          <p:cNvSpPr/>
          <p:nvPr/>
        </p:nvSpPr>
        <p:spPr>
          <a:xfrm>
            <a:off x="5473800" y="1406520"/>
            <a:ext cx="269640" cy="266760"/>
          </a:xfrm>
          <a:custGeom>
            <a:avLst/>
            <a:gdLst>
              <a:gd name="textAreaLeft" fmla="*/ 0 w 269640"/>
              <a:gd name="textAreaRight" fmla="*/ 270000 w 26964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85" h="84">
                <a:moveTo>
                  <a:pt x="21" y="11"/>
                </a:moveTo>
                <a:cubicBezTo>
                  <a:pt x="38" y="0"/>
                  <a:pt x="62" y="4"/>
                  <a:pt x="73" y="21"/>
                </a:cubicBezTo>
                <a:cubicBezTo>
                  <a:pt x="85" y="38"/>
                  <a:pt x="80" y="62"/>
                  <a:pt x="63" y="73"/>
                </a:cubicBezTo>
                <a:cubicBezTo>
                  <a:pt x="46" y="84"/>
                  <a:pt x="23" y="80"/>
                  <a:pt x="11" y="63"/>
                </a:cubicBezTo>
                <a:cubicBezTo>
                  <a:pt x="0" y="46"/>
                  <a:pt x="5" y="23"/>
                  <a:pt x="21" y="11"/>
                </a:cubicBezTo>
                <a:close/>
              </a:path>
            </a:pathLst>
          </a:custGeom>
          <a:solidFill>
            <a:srgbClr val="baa5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Freeform 26"/>
          <p:cNvSpPr/>
          <p:nvPr/>
        </p:nvSpPr>
        <p:spPr>
          <a:xfrm>
            <a:off x="5816520" y="1174680"/>
            <a:ext cx="270000" cy="270000"/>
          </a:xfrm>
          <a:custGeom>
            <a:avLst/>
            <a:gdLst>
              <a:gd name="textAreaLeft" fmla="*/ 0 w 270000"/>
              <a:gd name="textAreaRight" fmla="*/ 270360 w 270000"/>
              <a:gd name="textAreaTop" fmla="*/ 0 h 270000"/>
              <a:gd name="textAreaBottom" fmla="*/ 270360 h 270000"/>
            </a:gdLst>
            <a:ahLst/>
            <a:rect l="textAreaLeft" t="textAreaTop" r="textAreaRight" b="textAreaBottom"/>
            <a:pathLst>
              <a:path w="85" h="85">
                <a:moveTo>
                  <a:pt x="21" y="11"/>
                </a:moveTo>
                <a:cubicBezTo>
                  <a:pt x="38" y="0"/>
                  <a:pt x="62" y="4"/>
                  <a:pt x="73" y="22"/>
                </a:cubicBezTo>
                <a:cubicBezTo>
                  <a:pt x="85" y="39"/>
                  <a:pt x="80" y="62"/>
                  <a:pt x="63" y="73"/>
                </a:cubicBezTo>
                <a:cubicBezTo>
                  <a:pt x="46" y="85"/>
                  <a:pt x="23" y="80"/>
                  <a:pt x="12" y="63"/>
                </a:cubicBezTo>
                <a:cubicBezTo>
                  <a:pt x="0" y="46"/>
                  <a:pt x="5" y="23"/>
                  <a:pt x="21" y="11"/>
                </a:cubicBezTo>
                <a:close/>
              </a:path>
            </a:pathLst>
          </a:custGeom>
          <a:solidFill>
            <a:srgbClr val="baa5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Freeform 27"/>
          <p:cNvSpPr/>
          <p:nvPr/>
        </p:nvSpPr>
        <p:spPr>
          <a:xfrm>
            <a:off x="6159600" y="942840"/>
            <a:ext cx="269640" cy="270000"/>
          </a:xfrm>
          <a:custGeom>
            <a:avLst/>
            <a:gdLst>
              <a:gd name="textAreaLeft" fmla="*/ 0 w 269640"/>
              <a:gd name="textAreaRight" fmla="*/ 270000 w 269640"/>
              <a:gd name="textAreaTop" fmla="*/ 0 h 270000"/>
              <a:gd name="textAreaBottom" fmla="*/ 270360 h 270000"/>
            </a:gdLst>
            <a:ahLst/>
            <a:rect l="textAreaLeft" t="textAreaTop" r="textAreaRight" b="textAreaBottom"/>
            <a:pathLst>
              <a:path w="85" h="85">
                <a:moveTo>
                  <a:pt x="22" y="12"/>
                </a:moveTo>
                <a:cubicBezTo>
                  <a:pt x="38" y="0"/>
                  <a:pt x="62" y="5"/>
                  <a:pt x="73" y="22"/>
                </a:cubicBezTo>
                <a:cubicBezTo>
                  <a:pt x="85" y="39"/>
                  <a:pt x="80" y="62"/>
                  <a:pt x="63" y="73"/>
                </a:cubicBezTo>
                <a:cubicBezTo>
                  <a:pt x="46" y="85"/>
                  <a:pt x="23" y="80"/>
                  <a:pt x="12" y="63"/>
                </a:cubicBezTo>
                <a:cubicBezTo>
                  <a:pt x="0" y="46"/>
                  <a:pt x="5" y="23"/>
                  <a:pt x="22" y="12"/>
                </a:cubicBezTo>
                <a:close/>
              </a:path>
            </a:pathLst>
          </a:custGeom>
          <a:solidFill>
            <a:srgbClr val="baa5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Freeform 22"/>
          <p:cNvSpPr/>
          <p:nvPr/>
        </p:nvSpPr>
        <p:spPr>
          <a:xfrm>
            <a:off x="4449600" y="2082960"/>
            <a:ext cx="266760" cy="266400"/>
          </a:xfrm>
          <a:custGeom>
            <a:avLst/>
            <a:gdLst>
              <a:gd name="textAreaLeft" fmla="*/ 0 w 266760"/>
              <a:gd name="textAreaRight" fmla="*/ 267120 w 266760"/>
              <a:gd name="textAreaTop" fmla="*/ 0 h 266400"/>
              <a:gd name="textAreaBottom" fmla="*/ 266760 h 266400"/>
            </a:gdLst>
            <a:ahLst/>
            <a:rect l="textAreaLeft" t="textAreaTop" r="textAreaRight" b="textAreaBottom"/>
            <a:pathLst>
              <a:path w="84" h="84">
                <a:moveTo>
                  <a:pt x="21" y="11"/>
                </a:moveTo>
                <a:cubicBezTo>
                  <a:pt x="38" y="0"/>
                  <a:pt x="61" y="4"/>
                  <a:pt x="73" y="21"/>
                </a:cubicBezTo>
                <a:cubicBezTo>
                  <a:pt x="84" y="38"/>
                  <a:pt x="80" y="61"/>
                  <a:pt x="63" y="73"/>
                </a:cubicBezTo>
                <a:cubicBezTo>
                  <a:pt x="46" y="84"/>
                  <a:pt x="23" y="80"/>
                  <a:pt x="11" y="63"/>
                </a:cubicBezTo>
                <a:cubicBezTo>
                  <a:pt x="0" y="46"/>
                  <a:pt x="4" y="23"/>
                  <a:pt x="21" y="11"/>
                </a:cubicBezTo>
                <a:close/>
              </a:path>
            </a:pathLst>
          </a:custGeom>
          <a:solidFill>
            <a:srgbClr val="baa5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圆角矩形标注 37"/>
          <p:cNvSpPr/>
          <p:nvPr/>
        </p:nvSpPr>
        <p:spPr>
          <a:xfrm>
            <a:off x="5578560" y="1752480"/>
            <a:ext cx="3240000" cy="1632240"/>
          </a:xfrm>
          <a:prstGeom prst="wedgeRoundRectCallout">
            <a:avLst>
              <a:gd name="adj1" fmla="val -74407"/>
              <a:gd name="adj2" fmla="val -4254"/>
              <a:gd name="adj3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9360">
            <a:solidFill>
              <a:srgbClr val="d9d9d9"/>
            </a:solidFill>
            <a:miter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5818320" y="2112840"/>
            <a:ext cx="2747880" cy="925560"/>
            <a:chOff x="5818320" y="2112840"/>
            <a:chExt cx="2747880" cy="925560"/>
          </a:xfrm>
        </p:grpSpPr>
        <p:pic>
          <p:nvPicPr>
            <p:cNvPr id="266" name="Picture 9" descr=""/>
            <p:cNvPicPr/>
            <p:nvPr/>
          </p:nvPicPr>
          <p:blipFill>
            <a:blip r:embed="rId18"/>
            <a:stretch/>
          </p:blipFill>
          <p:spPr>
            <a:xfrm>
              <a:off x="6709680" y="2112840"/>
              <a:ext cx="339480" cy="92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Picture 9" descr=""/>
            <p:cNvPicPr/>
            <p:nvPr/>
          </p:nvPicPr>
          <p:blipFill>
            <a:blip r:embed="rId19"/>
            <a:stretch/>
          </p:blipFill>
          <p:spPr>
            <a:xfrm>
              <a:off x="5818320" y="2270520"/>
              <a:ext cx="223560" cy="61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Picture 9" descr=""/>
            <p:cNvPicPr/>
            <p:nvPr/>
          </p:nvPicPr>
          <p:blipFill>
            <a:blip r:embed="rId20"/>
            <a:stretch/>
          </p:blipFill>
          <p:spPr>
            <a:xfrm>
              <a:off x="6119280" y="2270520"/>
              <a:ext cx="223560" cy="61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Picture 9" descr=""/>
            <p:cNvPicPr/>
            <p:nvPr/>
          </p:nvPicPr>
          <p:blipFill>
            <a:blip r:embed="rId21"/>
            <a:stretch/>
          </p:blipFill>
          <p:spPr>
            <a:xfrm>
              <a:off x="6420240" y="2270520"/>
              <a:ext cx="223560" cy="61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Picture 9" descr=""/>
            <p:cNvPicPr/>
            <p:nvPr/>
          </p:nvPicPr>
          <p:blipFill>
            <a:blip r:embed="rId22"/>
            <a:stretch/>
          </p:blipFill>
          <p:spPr>
            <a:xfrm>
              <a:off x="7149960" y="2270520"/>
              <a:ext cx="223560" cy="61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Picture 9" descr=""/>
            <p:cNvPicPr/>
            <p:nvPr/>
          </p:nvPicPr>
          <p:blipFill>
            <a:blip r:embed="rId23"/>
            <a:stretch/>
          </p:blipFill>
          <p:spPr>
            <a:xfrm>
              <a:off x="7450920" y="2270520"/>
              <a:ext cx="223560" cy="61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Picture 9" descr=""/>
            <p:cNvPicPr/>
            <p:nvPr/>
          </p:nvPicPr>
          <p:blipFill>
            <a:blip r:embed="rId24"/>
            <a:stretch/>
          </p:blipFill>
          <p:spPr>
            <a:xfrm>
              <a:off x="7751880" y="2270520"/>
              <a:ext cx="223560" cy="61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Picture 9" descr=""/>
            <p:cNvPicPr/>
            <p:nvPr/>
          </p:nvPicPr>
          <p:blipFill>
            <a:blip r:embed="rId25"/>
            <a:stretch/>
          </p:blipFill>
          <p:spPr>
            <a:xfrm>
              <a:off x="8041320" y="2270520"/>
              <a:ext cx="223560" cy="61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Picture 9" descr=""/>
            <p:cNvPicPr/>
            <p:nvPr/>
          </p:nvPicPr>
          <p:blipFill>
            <a:blip r:embed="rId26"/>
            <a:stretch/>
          </p:blipFill>
          <p:spPr>
            <a:xfrm>
              <a:off x="8342640" y="2270520"/>
              <a:ext cx="223560" cy="610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5" name=""/>
          <p:cNvGrpSpPr/>
          <p:nvPr/>
        </p:nvGrpSpPr>
        <p:grpSpPr>
          <a:xfrm>
            <a:off x="1340640" y="1096920"/>
            <a:ext cx="1983600" cy="693360"/>
            <a:chOff x="1340640" y="1096920"/>
            <a:chExt cx="1983600" cy="693360"/>
          </a:xfrm>
        </p:grpSpPr>
        <p:grpSp>
          <p:nvGrpSpPr>
            <p:cNvPr id="276" name=""/>
            <p:cNvGrpSpPr/>
            <p:nvPr/>
          </p:nvGrpSpPr>
          <p:grpSpPr>
            <a:xfrm>
              <a:off x="1340640" y="1096920"/>
              <a:ext cx="1460880" cy="693360"/>
              <a:chOff x="1340640" y="1096920"/>
              <a:chExt cx="1460880" cy="693360"/>
            </a:xfrm>
          </p:grpSpPr>
          <p:sp>
            <p:nvSpPr>
              <p:cNvPr id="277" name="TextBox 56"/>
              <p:cNvSpPr/>
              <p:nvPr/>
            </p:nvSpPr>
            <p:spPr>
              <a:xfrm>
                <a:off x="1340640" y="1096920"/>
                <a:ext cx="146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微软雅黑"/>
                    <a:ea typeface="微软雅黑"/>
                  </a:rPr>
                  <a:t>脱颖而出的关键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TextBox 57"/>
              <p:cNvSpPr/>
              <p:nvPr/>
            </p:nvSpPr>
            <p:spPr>
              <a:xfrm>
                <a:off x="1427760" y="1513800"/>
                <a:ext cx="13694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ff0000"/>
                    </a:solidFill>
                    <a:latin typeface="微软雅黑"/>
                    <a:ea typeface="微软雅黑"/>
                  </a:rPr>
                  <a:t>在于找到合适的机会秀出自己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9" name="Freeform 7"/>
            <p:cNvSpPr/>
            <p:nvPr/>
          </p:nvSpPr>
          <p:spPr>
            <a:xfrm>
              <a:off x="3206880" y="1129680"/>
              <a:ext cx="117360" cy="38016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380160"/>
                <a:gd name="textAreaBottom" fmla="*/ 380520 h 380160"/>
              </a:gdLst>
              <a:ahLst/>
              <a:rect l="textAreaLeft" t="textAreaTop" r="textAreaRight" b="textAreaBottom"/>
              <a:pathLst>
                <a:path w="117" h="379">
                  <a:moveTo>
                    <a:pt x="34" y="304"/>
                  </a:moveTo>
                  <a:cubicBezTo>
                    <a:pt x="42" y="304"/>
                    <a:pt x="48" y="307"/>
                    <a:pt x="54" y="313"/>
                  </a:cubicBezTo>
                  <a:cubicBezTo>
                    <a:pt x="59" y="319"/>
                    <a:pt x="62" y="327"/>
                    <a:pt x="62" y="336"/>
                  </a:cubicBezTo>
                  <a:cubicBezTo>
                    <a:pt x="62" y="349"/>
                    <a:pt x="59" y="360"/>
                    <a:pt x="52" y="367"/>
                  </a:cubicBezTo>
                  <a:cubicBezTo>
                    <a:pt x="46" y="375"/>
                    <a:pt x="38" y="379"/>
                    <a:pt x="28" y="379"/>
                  </a:cubicBezTo>
                  <a:cubicBezTo>
                    <a:pt x="20" y="379"/>
                    <a:pt x="14" y="376"/>
                    <a:pt x="8" y="370"/>
                  </a:cubicBezTo>
                  <a:cubicBezTo>
                    <a:pt x="3" y="365"/>
                    <a:pt x="0" y="357"/>
                    <a:pt x="0" y="348"/>
                  </a:cubicBezTo>
                  <a:cubicBezTo>
                    <a:pt x="0" y="336"/>
                    <a:pt x="4" y="324"/>
                    <a:pt x="12" y="315"/>
                  </a:cubicBezTo>
                  <a:cubicBezTo>
                    <a:pt x="17" y="308"/>
                    <a:pt x="24" y="304"/>
                    <a:pt x="34" y="304"/>
                  </a:cubicBezTo>
                  <a:close/>
                  <a:moveTo>
                    <a:pt x="50" y="269"/>
                  </a:moveTo>
                  <a:cubicBezTo>
                    <a:pt x="32" y="269"/>
                    <a:pt x="32" y="269"/>
                    <a:pt x="32" y="269"/>
                  </a:cubicBezTo>
                  <a:cubicBezTo>
                    <a:pt x="46" y="171"/>
                    <a:pt x="55" y="89"/>
                    <a:pt x="61" y="21"/>
                  </a:cubicBezTo>
                  <a:cubicBezTo>
                    <a:pt x="61" y="17"/>
                    <a:pt x="62" y="15"/>
                    <a:pt x="64" y="13"/>
                  </a:cubicBezTo>
                  <a:cubicBezTo>
                    <a:pt x="67" y="10"/>
                    <a:pt x="73" y="7"/>
                    <a:pt x="81" y="5"/>
                  </a:cubicBezTo>
                  <a:cubicBezTo>
                    <a:pt x="95" y="2"/>
                    <a:pt x="105" y="0"/>
                    <a:pt x="111" y="0"/>
                  </a:cubicBezTo>
                  <a:cubicBezTo>
                    <a:pt x="115" y="0"/>
                    <a:pt x="117" y="2"/>
                    <a:pt x="117" y="6"/>
                  </a:cubicBezTo>
                  <a:cubicBezTo>
                    <a:pt x="117" y="9"/>
                    <a:pt x="116" y="13"/>
                    <a:pt x="115" y="17"/>
                  </a:cubicBezTo>
                  <a:cubicBezTo>
                    <a:pt x="112" y="25"/>
                    <a:pt x="103" y="59"/>
                    <a:pt x="88" y="117"/>
                  </a:cubicBezTo>
                  <a:lnTo>
                    <a:pt x="50" y="26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advTm="11000">
    <p:pull dir="rd"/>
  </p:transition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0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withEffect" fill="hold" presetClass="path" presetID="63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0.00087 0 L 0.2658 0 E">
                                      <p:cBhvr>
                                        <p:cTn id="541" dur="500" fill="hold"/>
                                        <p:tgtEl>
                                          <p:spTgt spid="2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2" nodeType="withEffect" fill="hold" presetClass="path" presetID="63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0.00209 0 L 0.19948 0 E">
                                      <p:cBhvr>
                                        <p:cTn id="543" dur="500" fill="hold"/>
                                        <p:tgtEl>
                                          <p:spTgt spid="2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4" nodeType="withEffect" fill="hold" presetClass="path" presetID="63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0.00052 0 L 0.13299 0 E">
                                      <p:cBhvr>
                                        <p:cTn id="545" dur="500" fill="hold"/>
                                        <p:tgtEl>
                                          <p:spTgt spid="2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6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69 0 L 0.06649 0 E">
                                      <p:cBhvr>
                                        <p:cTn id="547" dur="500" fill="hold"/>
                                        <p:tgtEl>
                                          <p:spTgt spid="2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8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87 0 L -0.06649 0 E">
                                      <p:cBhvr>
                                        <p:cTn id="549" dur="500" fill="hold"/>
                                        <p:tgtEl>
                                          <p:spTgt spid="2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0" nodeType="withEffect" fill="hold" presetClass="path" presetID="35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0.00034 0 L -0.13299 0 E">
                                      <p:cBhvr>
                                        <p:cTn id="551" dur="500" fill="hold"/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2" nodeType="withEffect" fill="hold" presetClass="path" presetID="35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0.00122 0 L -0.19948 0 E">
                                      <p:cBhvr>
                                        <p:cTn id="553" dur="500" fill="hold"/>
                                        <p:tgtEl>
                                          <p:spTgt spid="2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4" nodeType="withEffect" fill="hold" presetClass="path" presetID="35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0.00087 0 L -0.2651 0 E">
                                      <p:cBhvr>
                                        <p:cTn id="555" dur="500" fill="hold"/>
                                        <p:tgtEl>
                                          <p:spTgt spid="2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800"/>
                            </p:stCondLst>
                            <p:childTnLst>
                              <p:par>
                                <p:cTn id="55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8" dur="1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1" dur="1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4" dur="1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7" dur="1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0" dur="1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3" dur="1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6" dur="1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9" dur="1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900"/>
                            </p:stCondLst>
                            <p:childTnLst>
                              <p:par>
                                <p:cTn id="582" nodeType="after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3" dur="5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1400"/>
                            </p:stCondLst>
                            <p:childTnLst>
                              <p:par>
                                <p:cTn id="5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1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autoRev="1" nodeType="with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-2699880">
                                      <p:cBhvr>
                                        <p:cTn id="595" dur="4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96" nodeType="withEffect" fill="hold" presetClass="exit" presetID="10">
                                  <p:stCondLst>
                                    <p:cond delay="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7" dur="1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1" dur="3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6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2400"/>
                            </p:stCondLst>
                            <p:childTnLst>
                              <p:par>
                                <p:cTn id="608" nodeType="afterEffect" fill="hold" presetClass="exit" presetID="10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1" nodeType="withEffect" fill="hold" presetClass="exit" presetID="10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2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3100"/>
                            </p:stCondLst>
                            <p:childTnLst>
                              <p:par>
                                <p:cTn id="651" nodeType="afterEffect" fill="hold" presetClass="path" presetID="42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1.38889E-006 2.22222E-006 L 0.02187 0.05308 E">
                                      <p:cBhvr>
                                        <p:cTn id="652" dur="500" fill="hold"/>
                                        <p:tgtEl>
                                          <p:spTgt spid="2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3800"/>
                            </p:stCondLst>
                            <p:childTnLst>
                              <p:par>
                                <p:cTn id="654" nodeType="afterEffect" fill="hold" presetClass="entr" presetID="17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5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4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4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4" dur="4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4900"/>
                            </p:stCondLst>
                            <p:childTnLst>
                              <p:par>
                                <p:cTn id="6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2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5100"/>
                            </p:stCondLst>
                            <p:childTnLst>
                              <p:par>
                                <p:cTn id="670" nodeType="after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5500"/>
                            </p:stCondLst>
                            <p:childTnLst>
                              <p:par>
                                <p:cTn id="674" nodeType="after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6" dur="2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5900"/>
                            </p:stCondLst>
                            <p:childTnLst>
                              <p:par>
                                <p:cTn id="678" nodeType="after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0" dur="2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6300"/>
                            </p:stCondLst>
                            <p:childTnLst>
                              <p:par>
                                <p:cTn id="682" nodeType="after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2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6700"/>
                            </p:stCondLst>
                            <p:childTnLst>
                              <p:par>
                                <p:cTn id="686" nodeType="afterEffect" fill="hold" presetClass="exit" presetID="10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7" dur="2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fill="hold">
                            <p:stCondLst>
                              <p:cond delay="7100"/>
                            </p:stCondLst>
                            <p:childTnLst>
                              <p:par>
                                <p:cTn id="690" nodeType="afterEffect" fill="hold" presetClass="exit" presetID="10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1" dur="2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fill="hold">
                            <p:stCondLst>
                              <p:cond delay="7500"/>
                            </p:stCondLst>
                            <p:childTnLst>
                              <p:par>
                                <p:cTn id="694" nodeType="afterEffect" fill="hold" presetClass="exit" presetID="10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5" dur="2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7900"/>
                            </p:stCondLst>
                            <p:childTnLst>
                              <p:par>
                                <p:cTn id="698" nodeType="afterEffect" fill="hold" presetClass="exit" presetID="10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2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8300"/>
                            </p:stCondLst>
                            <p:childTnLst>
                              <p:par>
                                <p:cTn id="702" nodeType="afterEffect" fill="hold" presetClass="exit" presetID="10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3" dur="2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8700"/>
                            </p:stCondLst>
                            <p:childTnLst>
                              <p:par>
                                <p:cTn id="706" nodeType="afterEffect" fill="hold" presetClass="entr" presetID="23" presetSubtype="3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9900"/>
                            </p:stCondLst>
                            <p:childTnLst>
                              <p:par>
                                <p:cTn id="711" nodeType="afterEffect" fill="hold" presetClass="emph" presetID="26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2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13" dur="250" autoRev="1" fill="hold"/>
                                        <p:tgtEl>
                                          <p:spTgt spid="27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0" name=""/>
          <p:cNvGrpSpPr/>
          <p:nvPr/>
        </p:nvGrpSpPr>
        <p:grpSpPr>
          <a:xfrm>
            <a:off x="0" y="0"/>
            <a:ext cx="9142560" cy="5145120"/>
            <a:chOff x="0" y="0"/>
            <a:chExt cx="9142560" cy="5145120"/>
          </a:xfrm>
        </p:grpSpPr>
        <p:pic>
          <p:nvPicPr>
            <p:cNvPr id="281" name="图片 4" descr="2.png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0" y="0"/>
              <a:ext cx="9142560" cy="514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2" name="图片 3" descr="4.png"/>
            <p:cNvPicPr/>
            <p:nvPr/>
          </p:nvPicPr>
          <p:blipFill>
            <a:blip r:embed="rId2">
              <a:grayscl/>
            </a:blip>
            <a:stretch/>
          </p:blipFill>
          <p:spPr>
            <a:xfrm>
              <a:off x="1800" y="0"/>
              <a:ext cx="9139680" cy="5143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83" name="TextBox 2" descr=""/>
          <p:cNvPicPr/>
          <p:nvPr/>
        </p:nvPicPr>
        <p:blipFill>
          <a:blip r:embed="rId3"/>
          <a:stretch/>
        </p:blipFill>
        <p:spPr>
          <a:xfrm>
            <a:off x="2249640" y="2090880"/>
            <a:ext cx="4644720" cy="834840"/>
          </a:xfrm>
          <a:prstGeom prst="rect">
            <a:avLst/>
          </a:prstGeom>
          <a:ln w="0">
            <a:noFill/>
          </a:ln>
        </p:spPr>
      </p:pic>
      <p:grpSp>
        <p:nvGrpSpPr>
          <p:cNvPr id="284" name=""/>
          <p:cNvGrpSpPr/>
          <p:nvPr/>
        </p:nvGrpSpPr>
        <p:grpSpPr>
          <a:xfrm>
            <a:off x="822240" y="1455840"/>
            <a:ext cx="21682080" cy="1901880"/>
            <a:chOff x="822240" y="1455840"/>
            <a:chExt cx="21682080" cy="1901880"/>
          </a:xfrm>
        </p:grpSpPr>
        <p:grpSp>
          <p:nvGrpSpPr>
            <p:cNvPr id="285" name=""/>
            <p:cNvGrpSpPr/>
            <p:nvPr/>
          </p:nvGrpSpPr>
          <p:grpSpPr>
            <a:xfrm>
              <a:off x="8120880" y="2212200"/>
              <a:ext cx="14383440" cy="715320"/>
              <a:chOff x="8120880" y="2212200"/>
              <a:chExt cx="14383440" cy="71532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120880" y="2212200"/>
                <a:ext cx="747720" cy="715320"/>
                <a:chOff x="8120880" y="2212200"/>
                <a:chExt cx="747720" cy="715320"/>
              </a:xfrm>
            </p:grpSpPr>
            <p:pic>
              <p:nvPicPr>
                <p:cNvPr id="287" name="同心圆 8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120880" y="2212200"/>
                  <a:ext cx="747720" cy="715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88" name=""/>
                <p:cNvSpPr/>
                <p:nvPr/>
              </p:nvSpPr>
              <p:spPr>
                <a:xfrm>
                  <a:off x="8242560" y="2329560"/>
                  <a:ext cx="507600" cy="48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9264240" y="2246760"/>
                <a:ext cx="681120" cy="645840"/>
                <a:chOff x="9264240" y="2246760"/>
                <a:chExt cx="681120" cy="645840"/>
              </a:xfrm>
            </p:grpSpPr>
            <p:pic>
              <p:nvPicPr>
                <p:cNvPr id="290" name="同心圆 1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9264240" y="2246760"/>
                  <a:ext cx="681120" cy="645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91" name=""/>
                <p:cNvSpPr/>
                <p:nvPr/>
              </p:nvSpPr>
              <p:spPr>
                <a:xfrm>
                  <a:off x="9379440" y="2353320"/>
                  <a:ext cx="457200" cy="43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2" name=""/>
              <p:cNvGrpSpPr/>
              <p:nvPr/>
            </p:nvGrpSpPr>
            <p:grpSpPr>
              <a:xfrm>
                <a:off x="10340640" y="2281680"/>
                <a:ext cx="608040" cy="576000"/>
                <a:chOff x="10340640" y="2281680"/>
                <a:chExt cx="608040" cy="576000"/>
              </a:xfrm>
            </p:grpSpPr>
            <p:pic>
              <p:nvPicPr>
                <p:cNvPr id="293" name="同心圆 17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340640" y="2281680"/>
                  <a:ext cx="608040" cy="576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94" name=""/>
                <p:cNvSpPr/>
                <p:nvPr/>
              </p:nvSpPr>
              <p:spPr>
                <a:xfrm>
                  <a:off x="10443960" y="2377800"/>
                  <a:ext cx="406440" cy="38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5" name=""/>
              <p:cNvGrpSpPr/>
              <p:nvPr/>
            </p:nvGrpSpPr>
            <p:grpSpPr>
              <a:xfrm>
                <a:off x="11343960" y="2316600"/>
                <a:ext cx="534960" cy="506160"/>
                <a:chOff x="11343960" y="2316600"/>
                <a:chExt cx="534960" cy="506160"/>
              </a:xfrm>
            </p:grpSpPr>
            <p:pic>
              <p:nvPicPr>
                <p:cNvPr id="296" name="同心圆 18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343960" y="2316600"/>
                  <a:ext cx="534960" cy="50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97" name=""/>
                <p:cNvSpPr/>
                <p:nvPr/>
              </p:nvSpPr>
              <p:spPr>
                <a:xfrm>
                  <a:off x="11436840" y="2401920"/>
                  <a:ext cx="355320" cy="34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8" name=""/>
              <p:cNvGrpSpPr/>
              <p:nvPr/>
            </p:nvGrpSpPr>
            <p:grpSpPr>
              <a:xfrm>
                <a:off x="12274560" y="2351520"/>
                <a:ext cx="461880" cy="436320"/>
                <a:chOff x="12274560" y="2351520"/>
                <a:chExt cx="461880" cy="436320"/>
              </a:xfrm>
            </p:grpSpPr>
            <p:pic>
              <p:nvPicPr>
                <p:cNvPr id="299" name="同心圆 19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2274560" y="2351520"/>
                  <a:ext cx="461880" cy="436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0" name=""/>
                <p:cNvSpPr/>
                <p:nvPr/>
              </p:nvSpPr>
              <p:spPr>
                <a:xfrm>
                  <a:off x="12358080" y="2426400"/>
                  <a:ext cx="304560" cy="291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1" name=""/>
              <p:cNvGrpSpPr/>
              <p:nvPr/>
            </p:nvGrpSpPr>
            <p:grpSpPr>
              <a:xfrm>
                <a:off x="13138200" y="2380680"/>
                <a:ext cx="389160" cy="372240"/>
                <a:chOff x="13138200" y="2380680"/>
                <a:chExt cx="389160" cy="372240"/>
              </a:xfrm>
            </p:grpSpPr>
            <p:pic>
              <p:nvPicPr>
                <p:cNvPr id="302" name="同心圆 20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3138200" y="2380680"/>
                  <a:ext cx="389160" cy="372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3" name=""/>
                <p:cNvSpPr/>
                <p:nvPr/>
              </p:nvSpPr>
              <p:spPr>
                <a:xfrm>
                  <a:off x="13207320" y="2450880"/>
                  <a:ext cx="253800" cy="24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4" name=""/>
              <p:cNvGrpSpPr/>
              <p:nvPr/>
            </p:nvGrpSpPr>
            <p:grpSpPr>
              <a:xfrm>
                <a:off x="13923000" y="2415600"/>
                <a:ext cx="322200" cy="308160"/>
                <a:chOff x="13923000" y="2415600"/>
                <a:chExt cx="322200" cy="308160"/>
              </a:xfrm>
            </p:grpSpPr>
            <p:pic>
              <p:nvPicPr>
                <p:cNvPr id="305" name="同心圆 21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3923000" y="2415600"/>
                  <a:ext cx="322200" cy="308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6" name=""/>
                <p:cNvSpPr/>
                <p:nvPr/>
              </p:nvSpPr>
              <p:spPr>
                <a:xfrm>
                  <a:off x="13985280" y="2475000"/>
                  <a:ext cx="203040" cy="194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7" name=""/>
              <p:cNvGrpSpPr/>
              <p:nvPr/>
            </p:nvGrpSpPr>
            <p:grpSpPr>
              <a:xfrm>
                <a:off x="14640480" y="2450520"/>
                <a:ext cx="249120" cy="238320"/>
                <a:chOff x="14640480" y="2450520"/>
                <a:chExt cx="249120" cy="238320"/>
              </a:xfrm>
            </p:grpSpPr>
            <p:pic>
              <p:nvPicPr>
                <p:cNvPr id="308" name="同心圆 22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4640480" y="2450520"/>
                  <a:ext cx="249120" cy="238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4690520" y="2499480"/>
                  <a:ext cx="152280" cy="14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0" name=""/>
              <p:cNvGrpSpPr/>
              <p:nvPr/>
            </p:nvGrpSpPr>
            <p:grpSpPr>
              <a:xfrm>
                <a:off x="15285240" y="2485440"/>
                <a:ext cx="176040" cy="168480"/>
                <a:chOff x="15285240" y="2485440"/>
                <a:chExt cx="176040" cy="168480"/>
              </a:xfrm>
            </p:grpSpPr>
            <p:pic>
              <p:nvPicPr>
                <p:cNvPr id="311" name="椭圆 23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15285240" y="2485440"/>
                  <a:ext cx="176040" cy="168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12" name=""/>
                <p:cNvSpPr/>
                <p:nvPr/>
              </p:nvSpPr>
              <p:spPr>
                <a:xfrm>
                  <a:off x="15324480" y="2523600"/>
                  <a:ext cx="101520" cy="9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3" name=""/>
              <p:cNvGrpSpPr/>
              <p:nvPr/>
            </p:nvGrpSpPr>
            <p:grpSpPr>
              <a:xfrm>
                <a:off x="15856920" y="2503080"/>
                <a:ext cx="139680" cy="133560"/>
                <a:chOff x="15856920" y="2503080"/>
                <a:chExt cx="139680" cy="133560"/>
              </a:xfrm>
            </p:grpSpPr>
            <p:pic>
              <p:nvPicPr>
                <p:cNvPr id="314" name="椭圆 24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15856920" y="2503080"/>
                  <a:ext cx="139680" cy="133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15" name=""/>
                <p:cNvSpPr/>
                <p:nvPr/>
              </p:nvSpPr>
              <p:spPr>
                <a:xfrm>
                  <a:off x="15891840" y="2535840"/>
                  <a:ext cx="75960" cy="7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6" name=""/>
              <p:cNvGrpSpPr/>
              <p:nvPr/>
            </p:nvGrpSpPr>
            <p:grpSpPr>
              <a:xfrm>
                <a:off x="16896960" y="2520360"/>
                <a:ext cx="103320" cy="98640"/>
                <a:chOff x="16896960" y="2520360"/>
                <a:chExt cx="103320" cy="98640"/>
              </a:xfrm>
            </p:grpSpPr>
            <p:pic>
              <p:nvPicPr>
                <p:cNvPr id="317" name="椭圆 25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16896960" y="2520360"/>
                  <a:ext cx="103320" cy="98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18" name=""/>
                <p:cNvSpPr/>
                <p:nvPr/>
              </p:nvSpPr>
              <p:spPr>
                <a:xfrm>
                  <a:off x="16923960" y="2548080"/>
                  <a:ext cx="50760" cy="4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9" name=""/>
              <p:cNvGrpSpPr/>
              <p:nvPr/>
            </p:nvGrpSpPr>
            <p:grpSpPr>
              <a:xfrm>
                <a:off x="16392240" y="2520360"/>
                <a:ext cx="103320" cy="98640"/>
                <a:chOff x="16392240" y="2520360"/>
                <a:chExt cx="103320" cy="98640"/>
              </a:xfrm>
            </p:grpSpPr>
            <p:pic>
              <p:nvPicPr>
                <p:cNvPr id="320" name="椭圆 41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16392240" y="2520360"/>
                  <a:ext cx="103320" cy="98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21" name=""/>
                <p:cNvSpPr/>
                <p:nvPr/>
              </p:nvSpPr>
              <p:spPr>
                <a:xfrm>
                  <a:off x="16423200" y="2548080"/>
                  <a:ext cx="50760" cy="4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2" name=""/>
              <p:cNvGrpSpPr/>
              <p:nvPr/>
            </p:nvGrpSpPr>
            <p:grpSpPr>
              <a:xfrm>
                <a:off x="17395560" y="2520360"/>
                <a:ext cx="103320" cy="98640"/>
                <a:chOff x="17395560" y="2520360"/>
                <a:chExt cx="103320" cy="98640"/>
              </a:xfrm>
            </p:grpSpPr>
            <p:pic>
              <p:nvPicPr>
                <p:cNvPr id="323" name="椭圆 42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17395560" y="2520360"/>
                  <a:ext cx="103320" cy="98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24" name=""/>
                <p:cNvSpPr/>
                <p:nvPr/>
              </p:nvSpPr>
              <p:spPr>
                <a:xfrm>
                  <a:off x="17424360" y="2548080"/>
                  <a:ext cx="50760" cy="4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5" name=""/>
              <p:cNvGrpSpPr/>
              <p:nvPr/>
            </p:nvGrpSpPr>
            <p:grpSpPr>
              <a:xfrm>
                <a:off x="17894520" y="2520360"/>
                <a:ext cx="103320" cy="98640"/>
                <a:chOff x="17894520" y="2520360"/>
                <a:chExt cx="103320" cy="98640"/>
              </a:xfrm>
            </p:grpSpPr>
            <p:pic>
              <p:nvPicPr>
                <p:cNvPr id="326" name="椭圆 43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17894520" y="2520360"/>
                  <a:ext cx="103320" cy="98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27" name=""/>
                <p:cNvSpPr/>
                <p:nvPr/>
              </p:nvSpPr>
              <p:spPr>
                <a:xfrm>
                  <a:off x="17925480" y="2548080"/>
                  <a:ext cx="50760" cy="4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8" name=""/>
              <p:cNvGrpSpPr/>
              <p:nvPr/>
            </p:nvGrpSpPr>
            <p:grpSpPr>
              <a:xfrm>
                <a:off x="18399240" y="2520360"/>
                <a:ext cx="103320" cy="98640"/>
                <a:chOff x="18399240" y="2520360"/>
                <a:chExt cx="103320" cy="98640"/>
              </a:xfrm>
            </p:grpSpPr>
            <p:pic>
              <p:nvPicPr>
                <p:cNvPr id="329" name="椭圆 44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18399240" y="2520360"/>
                  <a:ext cx="103320" cy="98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30" name=""/>
                <p:cNvSpPr/>
                <p:nvPr/>
              </p:nvSpPr>
              <p:spPr>
                <a:xfrm>
                  <a:off x="18426240" y="2548080"/>
                  <a:ext cx="50760" cy="4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1" name=""/>
              <p:cNvGrpSpPr/>
              <p:nvPr/>
            </p:nvGrpSpPr>
            <p:grpSpPr>
              <a:xfrm>
                <a:off x="18897840" y="2520360"/>
                <a:ext cx="103320" cy="98640"/>
                <a:chOff x="18897840" y="2520360"/>
                <a:chExt cx="103320" cy="98640"/>
              </a:xfrm>
            </p:grpSpPr>
            <p:pic>
              <p:nvPicPr>
                <p:cNvPr id="332" name="椭圆 45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18897840" y="2520360"/>
                  <a:ext cx="103320" cy="98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33" name=""/>
                <p:cNvSpPr/>
                <p:nvPr/>
              </p:nvSpPr>
              <p:spPr>
                <a:xfrm>
                  <a:off x="18926640" y="2548080"/>
                  <a:ext cx="50760" cy="4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4" name=""/>
              <p:cNvGrpSpPr/>
              <p:nvPr/>
            </p:nvGrpSpPr>
            <p:grpSpPr>
              <a:xfrm>
                <a:off x="19396800" y="2520360"/>
                <a:ext cx="103320" cy="98640"/>
                <a:chOff x="19396800" y="2520360"/>
                <a:chExt cx="103320" cy="98640"/>
              </a:xfrm>
            </p:grpSpPr>
            <p:pic>
              <p:nvPicPr>
                <p:cNvPr id="335" name="椭圆 46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19396800" y="2520360"/>
                  <a:ext cx="103320" cy="98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36" name=""/>
                <p:cNvSpPr/>
                <p:nvPr/>
              </p:nvSpPr>
              <p:spPr>
                <a:xfrm>
                  <a:off x="19427760" y="2548080"/>
                  <a:ext cx="50760" cy="4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7" name=""/>
              <p:cNvGrpSpPr/>
              <p:nvPr/>
            </p:nvGrpSpPr>
            <p:grpSpPr>
              <a:xfrm>
                <a:off x="19901520" y="2520360"/>
                <a:ext cx="97200" cy="98640"/>
                <a:chOff x="19901520" y="2520360"/>
                <a:chExt cx="97200" cy="98640"/>
              </a:xfrm>
            </p:grpSpPr>
            <p:pic>
              <p:nvPicPr>
                <p:cNvPr id="338" name="椭圆 49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19901520" y="2520360"/>
                  <a:ext cx="97200" cy="98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39" name=""/>
                <p:cNvSpPr/>
                <p:nvPr/>
              </p:nvSpPr>
              <p:spPr>
                <a:xfrm>
                  <a:off x="19928160" y="2548080"/>
                  <a:ext cx="50760" cy="4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0" name=""/>
              <p:cNvGrpSpPr/>
              <p:nvPr/>
            </p:nvGrpSpPr>
            <p:grpSpPr>
              <a:xfrm>
                <a:off x="20400120" y="2520360"/>
                <a:ext cx="103320" cy="98640"/>
                <a:chOff x="20400120" y="2520360"/>
                <a:chExt cx="103320" cy="98640"/>
              </a:xfrm>
            </p:grpSpPr>
            <p:pic>
              <p:nvPicPr>
                <p:cNvPr id="341" name="椭圆 50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20400120" y="2520360"/>
                  <a:ext cx="103320" cy="98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2" name=""/>
                <p:cNvSpPr/>
                <p:nvPr/>
              </p:nvSpPr>
              <p:spPr>
                <a:xfrm>
                  <a:off x="20428920" y="2548080"/>
                  <a:ext cx="50760" cy="4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3" name=""/>
              <p:cNvGrpSpPr/>
              <p:nvPr/>
            </p:nvGrpSpPr>
            <p:grpSpPr>
              <a:xfrm>
                <a:off x="20898720" y="2520360"/>
                <a:ext cx="103320" cy="98640"/>
                <a:chOff x="20898720" y="2520360"/>
                <a:chExt cx="103320" cy="98640"/>
              </a:xfrm>
            </p:grpSpPr>
            <p:pic>
              <p:nvPicPr>
                <p:cNvPr id="344" name="椭圆 86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20898720" y="2520360"/>
                  <a:ext cx="103320" cy="98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20929320" y="2548080"/>
                  <a:ext cx="50760" cy="4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6" name=""/>
              <p:cNvGrpSpPr/>
              <p:nvPr/>
            </p:nvGrpSpPr>
            <p:grpSpPr>
              <a:xfrm>
                <a:off x="21403800" y="2520360"/>
                <a:ext cx="97200" cy="98640"/>
                <a:chOff x="21403800" y="2520360"/>
                <a:chExt cx="97200" cy="98640"/>
              </a:xfrm>
            </p:grpSpPr>
            <p:pic>
              <p:nvPicPr>
                <p:cNvPr id="347" name="椭圆 87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21403800" y="2520360"/>
                  <a:ext cx="97200" cy="98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8" name=""/>
                <p:cNvSpPr/>
                <p:nvPr/>
              </p:nvSpPr>
              <p:spPr>
                <a:xfrm>
                  <a:off x="21430440" y="2548080"/>
                  <a:ext cx="50760" cy="4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9" name=""/>
              <p:cNvGrpSpPr/>
              <p:nvPr/>
            </p:nvGrpSpPr>
            <p:grpSpPr>
              <a:xfrm>
                <a:off x="21902400" y="2520360"/>
                <a:ext cx="103320" cy="98640"/>
                <a:chOff x="21902400" y="2520360"/>
                <a:chExt cx="103320" cy="98640"/>
              </a:xfrm>
            </p:grpSpPr>
            <p:pic>
              <p:nvPicPr>
                <p:cNvPr id="350" name="椭圆 88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21902400" y="2520360"/>
                  <a:ext cx="103320" cy="98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51" name=""/>
                <p:cNvSpPr/>
                <p:nvPr/>
              </p:nvSpPr>
              <p:spPr>
                <a:xfrm>
                  <a:off x="21930840" y="2548080"/>
                  <a:ext cx="50760" cy="4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2" name=""/>
              <p:cNvGrpSpPr/>
              <p:nvPr/>
            </p:nvGrpSpPr>
            <p:grpSpPr>
              <a:xfrm>
                <a:off x="22401000" y="2520360"/>
                <a:ext cx="103320" cy="98640"/>
                <a:chOff x="22401000" y="2520360"/>
                <a:chExt cx="103320" cy="98640"/>
              </a:xfrm>
            </p:grpSpPr>
            <p:pic>
              <p:nvPicPr>
                <p:cNvPr id="353" name="椭圆 89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22401000" y="2520360"/>
                  <a:ext cx="103320" cy="98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54" name=""/>
                <p:cNvSpPr/>
                <p:nvPr/>
              </p:nvSpPr>
              <p:spPr>
                <a:xfrm>
                  <a:off x="22431600" y="2548080"/>
                  <a:ext cx="50760" cy="4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355" name="图片 33" descr="18.png"/>
            <p:cNvPicPr/>
            <p:nvPr/>
          </p:nvPicPr>
          <p:blipFill>
            <a:blip r:embed="rId27"/>
            <a:stretch/>
          </p:blipFill>
          <p:spPr>
            <a:xfrm>
              <a:off x="822240" y="1455840"/>
              <a:ext cx="7732800" cy="19018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  <p:timing>
    <p:tnLst>
      <p:par>
        <p:cTn id="714" dur="indefinite" restart="never" nodeType="tmRoot">
          <p:childTnLst>
            <p:seq>
              <p:cTn id="715" dur="indefinite" nodeType="mainSeq">
                <p:childTnLst>
                  <p:par>
                    <p:cTn id="716" fill="hold">
                      <p:stCondLst>
                        <p:cond delay="0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2.34568E-006 L -1.89583 0.00031 E">
                                      <p:cBhvr>
                                        <p:cTn id="719" dur="2000" fill="hold"/>
                                        <p:tgtEl>
                                          <p:spTgt spid="2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20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1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2" presetSubtype="2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8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8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6T06:42:33Z</dcterms:created>
  <dc:creator>hihoo</dc:creator>
  <dc:description/>
  <dc:language>en-US</dc:language>
  <cp:lastModifiedBy>hihoo</cp:lastModifiedBy>
  <dcterms:modified xsi:type="dcterms:W3CDTF">2015-06-30T03:08:01Z</dcterms:modified>
  <cp:revision>38</cp:revision>
  <dc:subject/>
  <dc:title>哲理篇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