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D138-DF3A-49F4-A89F-5A258D8D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1DA9-3B37-4AB1-ABA0-F28841F1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679E-4ECA-4218-91E1-48A957DD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9589-B501-4077-86A5-A05B409B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8699-8B84-42CE-9537-01C62CEA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3A4F-5A68-4331-96BB-D03CE4B1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1CD0-52F2-4FB5-980E-6B2B4EAA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7879-3E44-487F-9848-CDCF1A13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19A2-A811-4281-9F3F-E4D748AA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7F39-B8F9-4C60-B6FF-C9EB2196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D195-7DA8-4F0D-9812-4F876694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AB62-D818-4ADE-B70F-5C41D665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0E73-766E-4CD2-906F-185091012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端午快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很想念不在我身边的你</a:t>
            </a:r>
            <a:r>
              <a:rPr b="0" lang="en-US" sz="3200" spc="-1" strike="noStrike">
                <a:solidFill>
                  <a:srgbClr val="ff00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95640" y="4365720"/>
            <a:ext cx="5184720" cy="1481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466560" y="2492280"/>
            <a:ext cx="986292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508428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闻着粽子的飘香，想起远方的你是否安好？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03280" y="33336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16360" y="4869000"/>
            <a:ext cx="44640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一颗心迁挂着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一份爱祝福着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76360" y="33336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57400" cy="3573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56360" y="0"/>
            <a:ext cx="2987640" cy="3500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050560" y="4005000"/>
            <a:ext cx="6707160" cy="26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我托思恋给你带来了充满温馨的香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还带来了我亲手做的粽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思念是外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里面第一层是祝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第二层是幸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第三层是温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中心是充满爱你的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059280" y="1197000"/>
            <a:ext cx="3066840" cy="1308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9144000" cy="3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76360" y="260280"/>
            <a:ext cx="6350040" cy="4064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908000" y="4554000"/>
            <a:ext cx="5904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我知道，我不能陪在你的身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我知道，我能做的只有遥远的思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快乐吗？你幸福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我默默祝福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有分离就有相聚，分别得越久越是亲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我想告诉你，这个端午节我特别想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19280" y="1341360"/>
            <a:ext cx="3313080" cy="57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真的好想念你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32000" y="333360"/>
            <a:ext cx="2695680" cy="2343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端    午    快    乐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5157720"/>
            <a:ext cx="7201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4T11:06:35Z</dcterms:created>
  <dc:creator>tt</dc:creator>
  <dc:description/>
  <dc:language>en-US</dc:language>
  <cp:lastModifiedBy>tt</cp:lastModifiedBy>
  <dcterms:modified xsi:type="dcterms:W3CDTF">2015-06-03T08:02:55Z</dcterms:modified>
  <cp:revision>5</cp:revision>
  <dc:subject/>
  <dc:title>端午快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87</vt:lpwstr>
  </property>
</Properties>
</file>