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7.jpeg" ContentType="image/jpeg"/>
  <Override PartName="/ppt/media/camera.wav" ContentType="audio/x-wav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312-9260-41E8-B2EB-5A7C9AEC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8E1-5D02-4CC5-BEB3-407727B7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C7F-BA90-4BD0-AEF2-0928822B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B80-EA83-4751-8BF2-DEEA8F61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72C-C28E-4FCA-BAC1-A535BEBD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864-3F03-4E54-BBD5-B119D4F9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CB2-5B16-4A56-B229-A7FB6CA7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213-5B6F-4963-8CDF-0A005182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350-3159-4316-AF27-A819FDEA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3B8-7752-4762-81F5-E7FD6647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036-8F48-4301-BDE4-6FD5236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FAE-7A43-4A43-ACB5-433F3622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C704-FBFA-484D-B6AF-7BAED62B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jike.com/detail?did=8759424066564417581&amp;pos=22&amp;num=36&amp;q=&#21162;&#21147;&#23398;&#20064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211640" y="191628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端正学习态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提高学习效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vrilLavigne - innocence伴奏.mp3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成功人士与失败者之间的差别是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人士始终用最积极的思考，最乐观的精神和最辉煌的经验支配和控制自己的人生。失败者刚好相反，他们的人生是受过去的种种失败与疑虑所引导和支配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败给了自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位苏联运动员和一位美国运动员同时参加铅球比赛。论实力，苏联运动员要超过美国运动员。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赛的前一天晚上，两人先后到场地练球。美国运动员不管怎样也扔不了苏联运动员那样远，她干脆拿铅球在苏联运动员的最远球痕前砸了两个坑，然后就去睡觉。苏联运动员看到美国运动员的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大吃一惊，由于心理压力太大，整个晚上没有睡好。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正式比赛时，苏联运动员的正常水平没有发挥出来，败给了美国运动员。</a:t>
            </a:r>
            <a:r>
              <a:rPr b="1" lang="zh-CN" sz="31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f9c2ddea377f20652cf53423[1]"/>
          <p:cNvPicPr/>
          <p:nvPr/>
        </p:nvPicPr>
        <p:blipFill>
          <a:blip r:embed="rId1"/>
          <a:stretch/>
        </p:blipFill>
        <p:spPr>
          <a:xfrm>
            <a:off x="-195120" y="-147600"/>
            <a:ext cx="9534240" cy="7153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3600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良好学习态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452840" y="0"/>
            <a:ext cx="46911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不良学习态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72000" y="1268280"/>
            <a:ext cx="4572000" cy="51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求上进， 只求及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因考试成绩不理想而灰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求甚解，死记硬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上课时常做其他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5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积极表达自己的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6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遇到不会的问题绕过去，不想不问不看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3120" y="1274760"/>
            <a:ext cx="42688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有强烈的求知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刨根问底，不耻下问，积极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成绩好时，追求更高目标；成绩不好时，查找原因，并努力改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迎难而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重视课堂效率，积极发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独立地完成作业，并尽力做到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44d77e8be116a1afa4c2729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879480" y="482760"/>
            <a:ext cx="73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忧劳可以兴国，逸豫能够亡身。这句话也讲了玩物丧志的道理。很多学生由于缺乏意志和理想信念，在中学求学阶段做了很多浪费自己的青春，荒废学业的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79319cf8a83475d01e9289e[1]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55640" y="620640"/>
            <a:ext cx="361944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请大家小组讨论：在今后的学习中，我们该怎样培养良好的学习态度，调整自己的学习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新魏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741152c6462cb66a7d3e6f76[1]"/>
          <p:cNvPicPr/>
          <p:nvPr/>
        </p:nvPicPr>
        <p:blipFill>
          <a:blip r:embed="rId1"/>
          <a:stretch/>
        </p:blipFill>
        <p:spPr>
          <a:xfrm>
            <a:off x="0" y="-171360"/>
            <a:ext cx="9505800" cy="7129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539640" y="27140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俗话说，慢鸟先飞早入林。如果我们是慢鸟，我们就必须先飞。当别人躺着的时候，我们已经站着了，当别人站着的时候，我们已经走着了；当别人走的时候，我们已经跑起来的，那么我们就是永远的胜利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1722244ae522e6bcdfca36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42472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我们该怎样培养良好的学习态度，</a:t>
            </a:r>
            <a:br>
              <a:rPr sz="4000"/>
            </a:b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调整自己的学习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①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目标要合理明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定目标不要过于理想和主观，要符合自己的实际。 只和自己过去相比，高三一定会面临大量的考试，而每一次和成绩只和自己的上一次相比，不断进步，不断提高自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14e443944470862eac4af4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1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  <a:ea typeface="新宋体"/>
              </a:rPr>
              <a:t>                ③ 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新宋体"/>
              </a:rPr>
              <a:t>时间分配要合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划分好各科的复习时间，根据自己对每门课的掌握情况，应合理分配各科复习所需要的时间，弱项多分配一些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9640" y="1052640"/>
            <a:ext cx="7651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  <a:ea typeface="新宋体"/>
              </a:rPr>
              <a:t>                ② 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新宋体"/>
              </a:rPr>
              <a:t>计划要长短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长远计划和短期安排要相互结合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6b9748d0f343db92a8ec9a6b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④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计划执行要认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和计划制定出来，只是完成了第一步，还要坚持认真执行。最好把计划贴在自己看得到的地方，以及时鞭策自己。要及时检查、监督计划执行情况，从检查中获得反馈，及时进行调整和补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4000" y="3645000"/>
            <a:ext cx="8496000" cy="173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⑤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心态要积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积极的心理暗示，经常适时调 整自己的心态。学会放松、平和心态。俗话说条条大路通罗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会做一个成亦淡然，败亦坦然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学习态度的名言警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31292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学然后知不足，教然后知困。知不足，然后能自反也；知困，然后能自强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00d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人若志趣不远，心不在焉，虽学不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00d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张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好问，是好的。</a:t>
            </a:r>
            <a:r>
              <a:rPr b="1" lang="en-US" sz="3200" spc="-1" strike="noStrike">
                <a:solidFill>
                  <a:srgbClr val="0000d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如果自己不想，只随口问，即能得到正确答复，也未必受到大益。所以学问二字，“问”放在“学”的下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                                                   </a:t>
            </a:r>
            <a:r>
              <a:rPr b="1" lang="en-US" sz="3200" spc="-1" strike="noStrike">
                <a:solidFill>
                  <a:srgbClr val="0000d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谢觉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2009918211618390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4140360" y="40464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简单的例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假如我们把英文中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码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那么我们可以得到这样一个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or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勤奋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+1+18+4+23+15+18+11=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知识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+14+15+23+12+5+4+7+5=9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+15+22+5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运气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+21+3+11=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5280" y="62064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get?name=T1KsKPBgDj1RCvBVd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141720"/>
            <a:ext cx="1895760" cy="2520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1684080" y="58053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麦兜的志愿。。。好好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608120" y="76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新宋体"/>
              </a:rPr>
              <a:t>大家先做一个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b3315de4d039540485403c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华文新魏"/>
              </a:rPr>
              <a:t>态度是世界上最神奇的力量，它栖息于思想深处，左右着我们的思维和判断，控制着我们的情感与行动。一个人的生活状态、人生方向完全受控于其生存态度的牵引。用什么样的态度对待生活，就有什么样的生活现实。积极的态度可以使我们到达人生的顶峰，尽享成功的快乐和美好，消极的态度使我们一生陷于困难与不幸之中。态度影响我们的事业、生活、人际关系等，决定我们的人生成败，让我们记住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新魏"/>
              </a:rPr>
              <a:t>态度决定一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539640" y="692280"/>
            <a:ext cx="6408720" cy="4464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最后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希望同学们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调整好自己的心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在高中的学习生活中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有良好的表现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7868726_164002140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403280" y="3357720"/>
            <a:ext cx="4751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态度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042920" y="134136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看起来对我们很重要的东西都不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那到底什么才是我们生活中最重要的呢？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95280" y="4508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+20+20+9+20+21+4+5=1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403280" y="907920"/>
            <a:ext cx="4321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态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3419640" y="4221000"/>
            <a:ext cx="432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决定一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fade/>
    <p:sndAc>
      <p:stSnd>
        <p:snd r:embed="rId3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2009012222054171825[1]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什么是态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指人的举止动作；对于事物的立场或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cc99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你向他人表达心情的方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cc99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是你对具体做法、反应的取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。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行动的内在因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4968720" y="1600200"/>
          <a:ext cx="339732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68720" y="1600200"/>
                    <a:ext cx="3397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4577010_121237429128_2[1]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学习态度影响着学生的学习效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我国心理学工作者近些年来曾对中学生的学习问题进行了实验研究。研究结果表明，学生的学习态度不仅 直接影响学习行为，而且还直接影响着学习成绩。那些喜欢学习，认为学习很有意义的中学生，上课注意听讲 ，按时完成作业，学习成绩优良。相反，而那些对学习不感兴趣，认为学习无用的学生，课堂行为问题多，学习成绩也差。 据上述研究结果可见，学生学习态度的好坏与其学习效果密切相关。在学校情境里，如果其它条件基本相等，学习态度好的学生，其学习效果总是远胜于学习态度差的。</a:t>
            </a:r>
            <a:r>
              <a:rPr b="0" lang="zh-CN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倒霉的棺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很久以前，有两个秀才一起上京赶考。。。行走之间，巧遇出殡的队伍，正抬着棺材哭天喊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甲秀才大呼倒霉：“刚出门就碰上这等倒霉事真是流年不利！呸！呸！呸！”。。。一路上甲秀才唠唠叨叨，愁眉不展。终于到了考试的那一天，进得考场脑袋短路。。。结果：名落孙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乙秀才见到棺材起先也感到不是滋味。但他转念一想：“咦！棺材，棺材，有官有财！原来是个好兆头啊。”。。。于是乎精神百倍，加倍努力。。。结果：高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93440" y="8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案例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101212231585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900000" y="907920"/>
            <a:ext cx="763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十年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三个工人在砌一堵墙。有人过来问他们：“你们在干什么？”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16676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332000" y="51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203640" y="0"/>
            <a:ext cx="230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年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561960" y="155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案例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900000" y="1844640"/>
            <a:ext cx="770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个人没好气地说：“没看见吗？砌墙！我正在搬运着那些重得要命的石块呢。这可真是累人哪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900000" y="2637000"/>
            <a:ext cx="7559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个人抬头苦笑着说：“我们在盖一栋高楼。不过这份工作可真是不轻松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900000" y="3500280"/>
            <a:ext cx="763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个人满面笑容开心地说：“我们正在建设一座新城市。我们现在所盖的这幢大楼未来将成为城市的标志性建筑之一啊！想想能够参与这样一个工程，真是令人兴奋。”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900000" y="5084640"/>
            <a:ext cx="748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十年后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第一个人依然在砌墙；第二个人坐在办公室里画图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成了工程师；第三个人，是前两个人的老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图片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华文隶书"/>
                <a:ea typeface="华文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态度决定了我们的一切，我们在学习的过程中，如果也保持一种乐观的学习态度，站在一个高度上看待自己的学习，那我们就会发现学习充满了乐趣，就会加倍努力地投入到学习中去，在学习中取得成绩。态度决定了一个人的行为，态度决定了一个人的思维方式，态度决定了一个人未来的发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……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08200" y="122400"/>
            <a:ext cx="642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687840" y="228600"/>
            <a:ext cx="688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态度决定一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0:15:04Z</dcterms:created>
  <dc:creator>未知用户</dc:creator>
  <dc:description/>
  <dc:language>en-US</dc:language>
  <cp:lastModifiedBy>Administrator</cp:lastModifiedBy>
  <dcterms:modified xsi:type="dcterms:W3CDTF">2015-09-24T03:30:58Z</dcterms:modified>
  <cp:revision>33</cp:revision>
  <dc:subject/>
  <dc:title>幻灯片 1</dc:title>
</cp:coreProperties>
</file>