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00F-A235-4731-BC65-FE41DAF6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3BF-539D-4929-AE72-2BBE611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1DE-90C3-4CB4-9401-96077F60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C99-B9C6-48B1-BFB5-43D6253C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17F-8F02-4A35-A2B4-34B8A8AB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512-7CF8-4454-9143-B5AFBD0F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8BD-F5F9-4E6B-8537-B638780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9E2-7A6D-4F96-A079-8A9E86C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F0B-0564-4711-A2FE-CDADC9A9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022-A5FC-4274-A817-A408EC4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E55-F005-4C9F-9C2D-264505E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8B0-3802-41DF-B8FB-5B976B7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093D-B47C-4C95-819A-7E5A20F83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765000"/>
            <a:ext cx="46814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宋体"/>
              </a:rPr>
              <a:t>开学啦！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5214960" y="642960"/>
            <a:ext cx="37148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3336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度过快乐的暑假，我们又回到美丽的 “大家庭”之中。东星小学二年级欢迎各位小朋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3640" y="155736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12536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62064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相互认识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6985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新学期我们该怎么做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-54000"/>
            <a:ext cx="777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学具准备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双肩书包：尽量选择轻巧、大小合适的双肩书包（强调不要拉包，课桌里放不下，路队站不好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铅笔盒（软质笔袋）：简单、实用就好，样式不要太花哨，更不要带机关的，以免分散注意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铅笔：每天至少带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支尖铅笔，不要自动铅笔。（不要带削笔刀，每天在家把铅笔削尖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橡皮：选用白色的软的（强调不要那种花里胡哨的彩色硬橡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直尺一把，主要不要太长，要能放进笔袋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所有文具上贴好名条（铅笔、笔帽、尺子、垫板等），以免丢失，（很多同学都不在乎丢失这种文具，有时一天能捡到一大堆，但找不到失主。）在准备以上用具时，要注意简单、实用，功能不要太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准备好包书的皮子。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-5400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一、课前准备书本、铅笔、练习本、橡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二、做好课前预习，读（课文）、提前课后生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三、遵守课堂纪律，上课不讲小话、不做小动作，珍惜课堂的每一分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四、按时认真完成作业，字迹工整，力争上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五、心怀感恩，尊师敬老；与人为善，助人为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风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907920"/>
            <a:ext cx="4586400" cy="278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游戏展示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blog.bandao.cn/UserFiles/UserPics/4183/200905/200905121932550043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76280"/>
            <a:ext cx="7704000" cy="57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猜字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口咬掉牛尾巴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七人头上长棵草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月一日非今天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人一张口，口下长只手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6720" y="1484280"/>
            <a:ext cx="7905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告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76720" y="2421000"/>
            <a:ext cx="86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19640" y="3357720"/>
            <a:ext cx="64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32720" y="393372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拿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00000" y="1197000"/>
            <a:ext cx="763272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信自己，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 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可以更优秀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9:02:32Z</dcterms:created>
  <dc:creator>USIC USER</dc:creator>
  <dc:description/>
  <dc:language>en-US</dc:language>
  <cp:lastModifiedBy>Lenovo</cp:lastModifiedBy>
  <dcterms:modified xsi:type="dcterms:W3CDTF">2013-09-01T13:47:06Z</dcterms:modified>
  <cp:revision>87</cp:revision>
  <dc:subject/>
  <dc:title>无投影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