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3.jpeg" ContentType="image/jpeg"/>
  <Override PartName="/ppt/media/image15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32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66.png" ContentType="image/png"/>
  <Override PartName="/ppt/media/image42.png" ContentType="image/png"/>
  <Override PartName="/ppt/media/image26.jpeg" ContentType="image/jpeg"/>
  <Override PartName="/ppt/media/image39.png" ContentType="image/png"/>
  <Override PartName="/ppt/media/image64.jpeg" ContentType="image/jpeg"/>
  <Override PartName="/ppt/media/image63.jpeg" ContentType="image/jpeg"/>
  <Override PartName="/ppt/media/image6.jpeg" ContentType="image/jpeg"/>
  <Override PartName="/ppt/media/image61.jpeg" ContentType="image/jpeg"/>
  <Override PartName="/ppt/media/image40.png" ContentType="image/png"/>
  <Override PartName="/ppt/media/image60.jpeg" ContentType="image/jpeg"/>
  <Override PartName="/ppt/media/image25.jpeg" ContentType="image/jpeg"/>
  <Override PartName="/ppt/media/image12.jpeg" ContentType="image/jpeg"/>
  <Override PartName="/ppt/media/image2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46.jpeg" ContentType="image/jpeg"/>
  <Override PartName="/ppt/media/image65.png" ContentType="image/png"/>
  <Override PartName="/ppt/media/image21.jpeg" ContentType="image/jpeg"/>
  <Override PartName="/ppt/media/image49.jpeg" ContentType="image/jpeg"/>
  <Override PartName="/ppt/media/image4.png" ContentType="image/png"/>
  <Override PartName="/ppt/media/image7.jpeg" ContentType="image/jpeg"/>
  <Override PartName="/ppt/media/image16.png" ContentType="image/png"/>
  <Override PartName="/ppt/media/image19.png" ContentType="image/png"/>
  <Override PartName="/ppt/media/image62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3.jpeg" ContentType="image/jpeg"/>
  <Override PartName="/ppt/media/image41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590-9E3E-4CD2-9073-94FB8B45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393-85D0-4FD1-9273-78069230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912-9EC3-4024-848D-92230C2F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E5B-24FD-49CB-A517-C2716BB8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B898-1A02-4848-82F4-673C1A77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9701-EB1B-4AAB-8EEB-600567F0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F432-A3BB-4990-AC9F-2FA87D60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D728-99C8-4304-BF12-931F972A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C00B-2192-4389-AA1D-4EFA5AA7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6D34-F437-47DB-A80F-57E4BFC7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5264-0441-47C2-85D4-04E9B89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FC6-2154-4684-A61A-4F1E547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297F-DB49-41F5-A390-6D4C364B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FA53-6DBB-49D1-A86C-91C4318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E513-B7F9-4741-AAD9-9EB926F3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ED75-B281-476F-B09E-251F7730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C433-C5FC-48AD-9D81-E9396D1E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6B6-2277-48FB-83B3-18B2DE9D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6CB-DD5E-4349-B4A1-E271A81A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AC2-7D2F-4D22-A7A3-E228E3F3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6CC-BA36-49D6-BAC0-819D7EF9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B75-EA0B-44F5-854D-CA8FE65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012-00BD-4EE7-878E-CFCE145E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E2A-F74F-49B4-BD17-8EFD72A0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未知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F66A-BE4C-4587-8B0F-EE40F6F2B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未知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DEAF-49B7-4B57-8165-2701BF158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6520" y="4572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三一班学生法制安全教育主题班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1430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134136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法在我心中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2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52480" y="13716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二、交通安全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267440" cy="1693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510552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286000" y="510552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962520" y="51055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13716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指挥灯信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41148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车道灯信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248520" y="2743200"/>
            <a:ext cx="2057400" cy="3886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029200" y="17524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人行横道灯信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808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303"/>
                </a:solidFill>
                <a:latin typeface="Times New Roman"/>
                <a:ea typeface="华文中宋"/>
              </a:rPr>
              <a:t>认识交通信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tebulb"/>
          <p:cNvSpPr/>
          <p:nvPr/>
        </p:nvSpPr>
        <p:spPr>
          <a:xfrm>
            <a:off x="2362320" y="45720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181480" cy="4038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00200" y="304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选择适当的交通工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tebulb"/>
          <p:cNvSpPr/>
          <p:nvPr/>
        </p:nvSpPr>
        <p:spPr>
          <a:xfrm>
            <a:off x="914400" y="38088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2590920"/>
            <a:ext cx="2667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新细明体"/>
                <a:ea typeface="华文宋体"/>
              </a:rPr>
              <a:t>随时做好自行车的安全检查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5238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A</a:t>
            </a:r>
            <a:r>
              <a:rPr b="0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、自行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6-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6-5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96252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00600" y="5486400"/>
            <a:ext cx="4095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通过十字路口时，要先停下来，看看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380880"/>
            <a:ext cx="6857640" cy="916920"/>
            <a:chOff x="685800" y="380880"/>
            <a:chExt cx="6857640" cy="916920"/>
          </a:xfrm>
        </p:grpSpPr>
        <p:sp>
          <p:nvSpPr>
            <p:cNvPr id="162" name=""/>
            <p:cNvSpPr/>
            <p:nvPr/>
          </p:nvSpPr>
          <p:spPr>
            <a:xfrm>
              <a:off x="685800" y="380880"/>
              <a:ext cx="6857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" y="380880"/>
              <a:ext cx="685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新细明体"/>
                  <a:ea typeface="华文中宋"/>
                </a:rPr>
                <a:t>自行车的安全骑法</a:t>
              </a:r>
              <a:r>
                <a:rPr b="0" lang="en-US" sz="900" spc="-1" strike="noStrike">
                  <a:solidFill>
                    <a:srgbClr val="ffffff"/>
                  </a:solidFill>
                  <a:latin typeface="新细明体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57200" y="548640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自行车要骑在慢车道上，并且靠路边行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8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8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6-6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66" name="6-10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6-11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3733920" cy="2666880"/>
          </a:xfrm>
          <a:prstGeom prst="rect">
            <a:avLst/>
          </a:prstGeom>
          <a:ln w="0">
            <a:noFill/>
          </a:ln>
        </p:spPr>
      </p:pic>
      <p:pic>
        <p:nvPicPr>
          <p:cNvPr id="168" name="6-12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0"/>
            <a:ext cx="8076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新细明体"/>
              </a:rPr>
              <a:t>看看图中那些骑自行车的小朋友的行为举止是不是正确呢？请说出理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3808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B</a:t>
            </a:r>
            <a:r>
              <a:rPr b="0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、乘车时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4-5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62520" cy="3733920"/>
          </a:xfrm>
          <a:prstGeom prst="rect">
            <a:avLst/>
          </a:prstGeom>
          <a:ln w="0">
            <a:noFill/>
          </a:ln>
        </p:spPr>
      </p:pic>
      <p:pic>
        <p:nvPicPr>
          <p:cNvPr id="172" name="4-8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5334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有序地上、下车，不推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5334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车厢内要有礼貌，安静坐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1-1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257800" cy="2895840"/>
          </a:xfrm>
          <a:prstGeom prst="rect">
            <a:avLst/>
          </a:prstGeom>
          <a:ln w="0">
            <a:noFill/>
          </a:ln>
        </p:spPr>
      </p:pic>
      <p:pic>
        <p:nvPicPr>
          <p:cNvPr id="176" name="1-11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2971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72200" y="1371600"/>
            <a:ext cx="762120" cy="609480"/>
          </a:xfrm>
          <a:custGeom>
            <a:avLst/>
            <a:gdLst>
              <a:gd name="textAreaLeft" fmla="*/ 118800 w 762120"/>
              <a:gd name="textAreaRight" fmla="*/ 593640 w 762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46" y="5400"/>
                </a:lnTo>
                <a:lnTo>
                  <a:pt x="12046" y="0"/>
                </a:lnTo>
                <a:lnTo>
                  <a:pt x="21600" y="10800"/>
                </a:lnTo>
                <a:lnTo>
                  <a:pt x="12046" y="21600"/>
                </a:lnTo>
                <a:lnTo>
                  <a:pt x="12046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4648320"/>
            <a:ext cx="762120" cy="609480"/>
          </a:xfrm>
          <a:custGeom>
            <a:avLst/>
            <a:gdLst>
              <a:gd name="textAreaLeft" fmla="*/ 118800 w 762120"/>
              <a:gd name="textAreaRight" fmla="*/ 593640 w 762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46" y="5400"/>
                </a:lnTo>
                <a:lnTo>
                  <a:pt x="12046" y="0"/>
                </a:lnTo>
                <a:lnTo>
                  <a:pt x="21600" y="10800"/>
                </a:lnTo>
                <a:lnTo>
                  <a:pt x="12046" y="21600"/>
                </a:lnTo>
                <a:lnTo>
                  <a:pt x="12046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9144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不要和开车的人聊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41148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严禁在机动车道下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960" y="685800"/>
            <a:ext cx="549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2-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83" name="2-5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96252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248520" y="685800"/>
            <a:ext cx="2438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细明体"/>
              </a:rPr>
              <a:t>骑、坐摩托车要戴安全帽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1295280"/>
            <a:ext cx="761760" cy="609840"/>
          </a:xfrm>
          <a:custGeom>
            <a:avLst/>
            <a:gdLst>
              <a:gd name="textAreaLeft" fmla="*/ 118800 w 761760"/>
              <a:gd name="textAreaRight" fmla="*/ 571320 w 7617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 rot="10800000">
            <a:off x="3733920" y="4952880"/>
            <a:ext cx="761760" cy="609840"/>
          </a:xfrm>
          <a:custGeom>
            <a:avLst/>
            <a:gdLst>
              <a:gd name="textAreaLeft" fmla="*/ 118800 w 761760"/>
              <a:gd name="textAreaRight" fmla="*/ 571320 w 7617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464832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提醒驾驶者切勿超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4-7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9112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4-8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191120" y="1143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9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看图分析：在行驶的车厢中，这样做的危险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94" name=""/>
              <p:cNvSpPr/>
              <p:nvPr/>
            </p:nvSpPr>
            <p:spPr>
              <a:xfrm>
                <a:off x="152280" y="0"/>
                <a:ext cx="4419720" cy="7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1992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年元月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12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1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40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分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在韶关市区西堤路转入西河桥处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正值下班时间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人多车多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590920" y="4495680"/>
                  <a:ext cx="6400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0" y="0"/>
                  <a:ext cx="9144000" cy="6858000"/>
                  <a:chOff x="0" y="0"/>
                  <a:chExt cx="9144000" cy="6858000"/>
                </a:xfrm>
              </p:grpSpPr>
              <p:pic>
                <p:nvPicPr>
                  <p:cNvPr id="198" name="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0"/>
                    <a:ext cx="4800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4727520" y="0"/>
                    <a:ext cx="4416480" cy="3505320"/>
                    <a:chOff x="4727520" y="0"/>
                    <a:chExt cx="4416480" cy="3505320"/>
                  </a:xfrm>
                </p:grpSpPr>
                <p:pic>
                  <p:nvPicPr>
                    <p:cNvPr id="200" name="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0"/>
                      <a:ext cx="4343400" cy="35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727520" y="0"/>
                      <a:ext cx="1400040" cy="342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韶关市某大学附中高二学生见人多拥挤</a:t>
                      </a:r>
                      <a:r>
                        <a:rPr b="0" lang="en-US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便不顾违章</a:t>
                      </a:r>
                      <a:r>
                        <a:rPr b="0" lang="en-US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骑自行车越线行驶到机动车道内</a:t>
                      </a:r>
                      <a:r>
                        <a:rPr b="0" lang="en-US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pic>
                <p:nvPicPr>
                  <p:cNvPr id="202" name="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505320"/>
                    <a:ext cx="67816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3" name=""/>
                  <p:cNvSpPr/>
                  <p:nvPr/>
                </p:nvSpPr>
                <p:spPr>
                  <a:xfrm>
                    <a:off x="2590920" y="3505320"/>
                    <a:ext cx="6400800" cy="398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ff4568"/>
                        </a:solidFill>
                        <a:latin typeface="Times New Roman"/>
                        <a:ea typeface="华文行楷"/>
                      </a:rPr>
                      <a:t>不料骑车不稳倒向左边，被韶关钢铁厂运输部司机驾驶的广东</a:t>
                    </a:r>
                    <a:r>
                      <a:rPr b="0" lang="en-US" sz="2000" spc="-1" strike="noStrike">
                        <a:solidFill>
                          <a:srgbClr val="ff4568"/>
                        </a:solidFill>
                        <a:latin typeface="Times New Roman"/>
                        <a:ea typeface="华文行楷"/>
                      </a:rPr>
                      <a:t>*******</a:t>
                    </a:r>
                    <a:r>
                      <a:rPr b="0" lang="zh-CN" sz="2000" spc="-1" strike="noStrike">
                        <a:solidFill>
                          <a:srgbClr val="ff4568"/>
                        </a:solidFill>
                        <a:latin typeface="Times New Roman"/>
                        <a:ea typeface="华文行楷"/>
                      </a:rPr>
                      <a:t>号东风大货车右侧油箱外护罩碰擦后，又被汽车后轮碾压头部，当场死亡。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590920" y="4800600"/>
                    <a:ext cx="609480" cy="30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590920" y="4495680"/>
                    <a:ext cx="6400800" cy="30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6" name=""/>
            <p:cNvSpPr/>
            <p:nvPr/>
          </p:nvSpPr>
          <p:spPr>
            <a:xfrm>
              <a:off x="152280" y="152280"/>
              <a:ext cx="4419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1992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年元月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12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日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11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时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40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分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在韶关市区西堤路转入河桥处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正值下班时间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车多人多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4920" y="2819520"/>
            <a:ext cx="1981080" cy="4315320"/>
            <a:chOff x="304920" y="2819520"/>
            <a:chExt cx="1981080" cy="4315320"/>
          </a:xfrm>
        </p:grpSpPr>
        <p:sp>
          <p:nvSpPr>
            <p:cNvPr id="208" name=""/>
            <p:cNvSpPr/>
            <p:nvPr/>
          </p:nvSpPr>
          <p:spPr>
            <a:xfrm>
              <a:off x="458640" y="2819520"/>
              <a:ext cx="1352520" cy="43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7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!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04920" y="3581640"/>
              <a:ext cx="1981080" cy="2913480"/>
              <a:chOff x="304920" y="3581640"/>
              <a:chExt cx="1981080" cy="29134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920" y="3581640"/>
                <a:ext cx="1828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安全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4920" y="4572360"/>
                <a:ext cx="190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事故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4920" y="5486760"/>
                <a:ext cx="19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实例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法制故事会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6324480" y="2133720"/>
              <a:ext cx="11430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16" name="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8280" y="3352680"/>
                <a:ext cx="6705720" cy="350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4714920" cy="34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0"/>
                <a:ext cx="4572000" cy="358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152280" y="152280"/>
                <a:ext cx="114300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1993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年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4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月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30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阳春县马水食品厂司机驾驶大货车由阳江市区返回阳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67480" y="0"/>
                <a:ext cx="167652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中午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时行至省道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98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线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27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千米处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阳东县塘坪镇珍珠小学某学生放学回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没有遵守“一看、二慢、三通过”的规则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突然横过公路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43200" y="3962520"/>
                <a:ext cx="121932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司机立刻刹车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但已来不及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这个学生被撞致重伤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送医院抢救无效死亡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62520" y="3962520"/>
                <a:ext cx="22860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48520" y="2209680"/>
                <a:ext cx="1218960" cy="121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04920" y="2819520"/>
            <a:ext cx="1981080" cy="4315320"/>
            <a:chOff x="304920" y="2819520"/>
            <a:chExt cx="1981080" cy="4315320"/>
          </a:xfrm>
        </p:grpSpPr>
        <p:sp>
          <p:nvSpPr>
            <p:cNvPr id="225" name=""/>
            <p:cNvSpPr/>
            <p:nvPr/>
          </p:nvSpPr>
          <p:spPr>
            <a:xfrm>
              <a:off x="458640" y="2819520"/>
              <a:ext cx="1352520" cy="43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7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!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04920" y="3581640"/>
              <a:ext cx="1981080" cy="2913480"/>
              <a:chOff x="304920" y="3581640"/>
              <a:chExt cx="1981080" cy="2913480"/>
            </a:xfrm>
          </p:grpSpPr>
          <p:sp>
            <p:nvSpPr>
              <p:cNvPr id="227" name=""/>
              <p:cNvSpPr/>
              <p:nvPr/>
            </p:nvSpPr>
            <p:spPr>
              <a:xfrm>
                <a:off x="304920" y="3581640"/>
                <a:ext cx="1828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安全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4920" y="4572360"/>
                <a:ext cx="190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事故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4920" y="5486760"/>
                <a:ext cx="19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实例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4000" cy="6571080"/>
            <a:chOff x="0" y="0"/>
            <a:chExt cx="9144000" cy="6571080"/>
          </a:xfrm>
        </p:grpSpPr>
        <p:grpSp>
          <p:nvGrpSpPr>
            <p:cNvPr id="231" name=""/>
            <p:cNvGrpSpPr/>
            <p:nvPr/>
          </p:nvGrpSpPr>
          <p:grpSpPr>
            <a:xfrm>
              <a:off x="0" y="0"/>
              <a:ext cx="9144000" cy="6571080"/>
              <a:chOff x="0" y="0"/>
              <a:chExt cx="9144000" cy="6571080"/>
            </a:xfrm>
          </p:grpSpPr>
          <p:pic>
            <p:nvPicPr>
              <p:cNvPr id="232" name="2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0"/>
                <a:ext cx="3429000" cy="34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3" descr=""/>
              <p:cNvPicPr/>
              <p:nvPr/>
            </p:nvPicPr>
            <p:blipFill>
              <a:blip r:embed="rId2"/>
              <a:stretch/>
            </p:blipFill>
            <p:spPr>
              <a:xfrm>
                <a:off x="5867280" y="0"/>
                <a:ext cx="3276720" cy="33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4" descr=""/>
              <p:cNvPicPr/>
              <p:nvPr/>
            </p:nvPicPr>
            <p:blipFill>
              <a:blip r:embed="rId3"/>
              <a:stretch/>
            </p:blipFill>
            <p:spPr>
              <a:xfrm>
                <a:off x="2438280" y="3352680"/>
                <a:ext cx="670572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0" y="0"/>
                <a:ext cx="121932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994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年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2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月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4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时河口中学学生王某无证驾驶摩托车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后面还搭着表弟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2514600"/>
                <a:ext cx="12193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48320" y="0"/>
                <a:ext cx="1371600" cy="22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行至国道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32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线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43K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处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左传弯入河口镇木柿村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忽遇一辆广东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38-01215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号东风自卸车迎面而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38280" y="5867280"/>
                <a:ext cx="6705720" cy="7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由于两车距离太近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王某又技术不良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措施不及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致使大货车左前轮猛烈碰撞摩托车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车厢左侧碰王某的头部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当即死亡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乘搭者亦负重伤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648320" y="3124080"/>
              <a:ext cx="1371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04920" y="2819520"/>
            <a:ext cx="1981080" cy="4315320"/>
            <a:chOff x="304920" y="2819520"/>
            <a:chExt cx="1981080" cy="4315320"/>
          </a:xfrm>
        </p:grpSpPr>
        <p:sp>
          <p:nvSpPr>
            <p:cNvPr id="241" name=""/>
            <p:cNvSpPr/>
            <p:nvPr/>
          </p:nvSpPr>
          <p:spPr>
            <a:xfrm>
              <a:off x="458640" y="2819520"/>
              <a:ext cx="1352520" cy="43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7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!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04920" y="3581640"/>
              <a:ext cx="1981080" cy="2913480"/>
              <a:chOff x="304920" y="3581640"/>
              <a:chExt cx="1981080" cy="29134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4920" y="3581640"/>
                <a:ext cx="1828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安全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4920" y="4572360"/>
                <a:ext cx="190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事故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4920" y="5486760"/>
                <a:ext cx="19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实例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JL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438280" y="9907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意外事故的防范及处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228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发生意外时的自我保护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971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若在逃生的途中被推倒在地，失去平衡的话，要设法靠近墙壁，身体蜷成球状，面向墙壁，双手紧扣置于颈后，这样手指、背部和双腿可能受伤，但保护了最脆弱的部位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平时注意培养自我保护意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066680"/>
            <a:ext cx="8534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遭遇意外时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一定要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保持镇定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不要盲目逃生，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只有保持冷静的情绪，理智应对，才能有序撤离危机现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79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79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9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9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9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9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79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79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4419720" cy="3505320"/>
            <a:chOff x="0" y="0"/>
            <a:chExt cx="4419720" cy="3505320"/>
          </a:xfrm>
        </p:grpSpPr>
        <p:pic>
          <p:nvPicPr>
            <p:cNvPr id="253" name="fanghuo01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419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28600" y="3124080"/>
              <a:ext cx="388620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2971800"/>
            <a:ext cx="4038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教育孩子不玩火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玩弄电器设备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419720" y="0"/>
            <a:ext cx="4724280" cy="3505320"/>
            <a:chOff x="4419720" y="0"/>
            <a:chExt cx="4724280" cy="3505320"/>
          </a:xfrm>
        </p:grpSpPr>
        <p:pic>
          <p:nvPicPr>
            <p:cNvPr id="257" name="fanghuo012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7242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648320" y="2895480"/>
              <a:ext cx="4267080" cy="5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572000" y="281952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明火照明时不离人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要用明火照明寻找物品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3505320"/>
            <a:ext cx="4648320" cy="3352680"/>
            <a:chOff x="0" y="3505320"/>
            <a:chExt cx="4648320" cy="3352680"/>
          </a:xfrm>
        </p:grpSpPr>
        <p:pic>
          <p:nvPicPr>
            <p:cNvPr id="261" name="fanghuo014" descr=""/>
            <p:cNvPicPr/>
            <p:nvPr/>
          </p:nvPicPr>
          <p:blipFill>
            <a:blip r:embed="rId3"/>
            <a:stretch/>
          </p:blipFill>
          <p:spPr>
            <a:xfrm>
              <a:off x="0" y="3505320"/>
              <a:ext cx="46483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6324840"/>
              <a:ext cx="4495680" cy="5331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52280" y="6019920"/>
            <a:ext cx="434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乱接乱拉电线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电路熔断器切勿用铜、铁丝代替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495680" y="3505320"/>
            <a:ext cx="4648320" cy="3352680"/>
            <a:chOff x="4495680" y="3505320"/>
            <a:chExt cx="4648320" cy="3352680"/>
          </a:xfrm>
        </p:grpSpPr>
        <p:pic>
          <p:nvPicPr>
            <p:cNvPr id="265" name="fanghuo015" descr=""/>
            <p:cNvPicPr/>
            <p:nvPr/>
          </p:nvPicPr>
          <p:blipFill>
            <a:blip r:embed="rId4"/>
            <a:stretch/>
          </p:blipFill>
          <p:spPr>
            <a:xfrm>
              <a:off x="4495680" y="3505320"/>
              <a:ext cx="46483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724280" y="6324840"/>
              <a:ext cx="3352680" cy="5331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495680" y="6248520"/>
            <a:ext cx="464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乱丢烟头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躺在床上吸烟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4343400" cy="3444840"/>
            <a:chOff x="0" y="0"/>
            <a:chExt cx="4343400" cy="3444840"/>
          </a:xfrm>
        </p:grpSpPr>
        <p:pic>
          <p:nvPicPr>
            <p:cNvPr id="269" name="fanghuo01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343400" cy="34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2895480"/>
              <a:ext cx="4343400" cy="5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52280" y="2666880"/>
            <a:ext cx="4114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利用电器或灶塘取暖，烘烤衣物，要注意安全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343400" y="0"/>
            <a:ext cx="4800600" cy="3451320"/>
            <a:chOff x="4343400" y="0"/>
            <a:chExt cx="4800600" cy="3451320"/>
          </a:xfrm>
        </p:grpSpPr>
        <p:pic>
          <p:nvPicPr>
            <p:cNvPr id="273" name="fanghuo009" descr=""/>
            <p:cNvPicPr/>
            <p:nvPr/>
          </p:nvPicPr>
          <p:blipFill>
            <a:blip r:embed="rId2"/>
            <a:stretch/>
          </p:blipFill>
          <p:spPr>
            <a:xfrm>
              <a:off x="4343400" y="0"/>
              <a:ext cx="48006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648320" y="3048120"/>
              <a:ext cx="2895480" cy="380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724280" y="2895480"/>
            <a:ext cx="34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能随意倾倒液化气残液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3429000"/>
            <a:ext cx="4267080" cy="3429000"/>
            <a:chOff x="0" y="3429000"/>
            <a:chExt cx="4267080" cy="3429000"/>
          </a:xfrm>
        </p:grpSpPr>
        <p:pic>
          <p:nvPicPr>
            <p:cNvPr id="277" name="fanghuo008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42670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0" y="6256440"/>
              <a:ext cx="4117320" cy="6012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0" y="6156360"/>
            <a:ext cx="396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家中不可存放超过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0.5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公升的汽油、酒精、香蕉水等易燃易爆物品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267080" y="3429000"/>
            <a:ext cx="4876920" cy="3429000"/>
            <a:chOff x="4267080" y="3429000"/>
            <a:chExt cx="4876920" cy="3429000"/>
          </a:xfrm>
        </p:grpSpPr>
        <p:pic>
          <p:nvPicPr>
            <p:cNvPr id="281" name="fanghuo007" descr=""/>
            <p:cNvPicPr/>
            <p:nvPr/>
          </p:nvPicPr>
          <p:blipFill>
            <a:blip r:embed="rId4"/>
            <a:stretch/>
          </p:blipFill>
          <p:spPr>
            <a:xfrm>
              <a:off x="4267080" y="3429000"/>
              <a:ext cx="48769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343400" y="6324480"/>
              <a:ext cx="4800600" cy="5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876920" y="6156360"/>
            <a:ext cx="4038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切勿在走廊、楼梯口等处堆放杂物，要保证通道和安全出口的畅通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huozai001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419720" cy="335268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0" y="0"/>
            <a:ext cx="4724280" cy="3505320"/>
            <a:chOff x="0" y="0"/>
            <a:chExt cx="4724280" cy="3505320"/>
          </a:xfrm>
        </p:grpSpPr>
        <p:pic>
          <p:nvPicPr>
            <p:cNvPr id="286" name="fanghuo00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0" y="2743200"/>
              <a:ext cx="4495680" cy="685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52280" y="213372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家中一旦起火，不要惊慌失措，如果火势不大，应迅速利用家中备有的简易灭火器材，采取有效措施控制和扑灭火灾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724280" y="0"/>
            <a:ext cx="4419720" cy="3505320"/>
            <a:chOff x="4724280" y="0"/>
            <a:chExt cx="4419720" cy="3505320"/>
          </a:xfrm>
        </p:grpSpPr>
        <p:pic>
          <p:nvPicPr>
            <p:cNvPr id="290" name="fanghuo005" descr=""/>
            <p:cNvPicPr/>
            <p:nvPr/>
          </p:nvPicPr>
          <p:blipFill>
            <a:blip r:embed="rId3"/>
            <a:stretch/>
          </p:blipFill>
          <p:spPr>
            <a:xfrm>
              <a:off x="4724280" y="0"/>
              <a:ext cx="4419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876560" y="2514600"/>
              <a:ext cx="40388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24280" y="2133720"/>
            <a:ext cx="4419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发现火灾迅速拨打火警电话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119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。报警时要讲清详细地址、起火部位、着火物质、火势大小、报警人姓名及电话号码，并派人到路口迎候消防车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3505320"/>
            <a:ext cx="4724280" cy="3352680"/>
            <a:chOff x="0" y="3505320"/>
            <a:chExt cx="4724280" cy="3352680"/>
          </a:xfrm>
        </p:grpSpPr>
        <p:pic>
          <p:nvPicPr>
            <p:cNvPr id="294" name="huozai007" descr=""/>
            <p:cNvPicPr/>
            <p:nvPr/>
          </p:nvPicPr>
          <p:blipFill>
            <a:blip r:embed="rId4"/>
            <a:stretch/>
          </p:blipFill>
          <p:spPr>
            <a:xfrm>
              <a:off x="0" y="3505320"/>
              <a:ext cx="47242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0" y="5639040"/>
              <a:ext cx="4724280" cy="1218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28600" y="5851440"/>
            <a:ext cx="396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家庭成员平时就要了解掌握火灾逃生的基本方法，熟悉几条逃生路线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37180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要贪恋财物，逃命要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20031231131836544" descr="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0" y="0"/>
            <a:ext cx="4724280" cy="3429000"/>
            <a:chOff x="0" y="0"/>
            <a:chExt cx="4724280" cy="3429000"/>
          </a:xfrm>
        </p:grpSpPr>
        <p:pic>
          <p:nvPicPr>
            <p:cNvPr id="300" name="huozai00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0" y="2362320"/>
              <a:ext cx="4648320" cy="990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33520" y="2362320"/>
            <a:ext cx="380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受到火势威胁时，要当机立断披上浸湿的衣物、被褥等向安全出口方向冲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724280" y="0"/>
            <a:ext cx="4419720" cy="3429000"/>
            <a:chOff x="4724280" y="0"/>
            <a:chExt cx="4419720" cy="3429000"/>
          </a:xfrm>
        </p:grpSpPr>
        <p:pic>
          <p:nvPicPr>
            <p:cNvPr id="304" name="huozai009" descr=""/>
            <p:cNvPicPr/>
            <p:nvPr/>
          </p:nvPicPr>
          <p:blipFill>
            <a:blip r:embed="rId3"/>
            <a:stretch/>
          </p:blipFill>
          <p:spPr>
            <a:xfrm>
              <a:off x="4724280" y="0"/>
              <a:ext cx="44197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5029200" y="2438280"/>
              <a:ext cx="39621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105520" y="2514600"/>
            <a:ext cx="388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穿过浓烟逃生时，要尽量使身体贴近地面，并用湿毛巾捂住口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724280" y="3429000"/>
            <a:ext cx="4419720" cy="3429000"/>
            <a:chOff x="4724280" y="3429000"/>
            <a:chExt cx="4419720" cy="3429000"/>
          </a:xfrm>
        </p:grpSpPr>
        <p:pic>
          <p:nvPicPr>
            <p:cNvPr id="308" name="huozai005" descr=""/>
            <p:cNvPicPr/>
            <p:nvPr/>
          </p:nvPicPr>
          <p:blipFill>
            <a:blip r:embed="rId4"/>
            <a:stretch/>
          </p:blipFill>
          <p:spPr>
            <a:xfrm>
              <a:off x="4724280" y="3429000"/>
              <a:ext cx="44197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800600" y="5867280"/>
              <a:ext cx="419076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876920" y="5867280"/>
            <a:ext cx="4038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身上着火，千万不要奔跑，可就地打滚或用厚重的衣物压灭火苗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4819680" cy="3352680"/>
            <a:chOff x="0" y="0"/>
            <a:chExt cx="4819680" cy="3352680"/>
          </a:xfrm>
        </p:grpSpPr>
        <p:pic>
          <p:nvPicPr>
            <p:cNvPr id="312" name="huozai00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8196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0" y="2133720"/>
              <a:ext cx="4800600" cy="1218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28600" y="2209680"/>
            <a:ext cx="4191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窗外着火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门已发烫时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千万不要开门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以防大火蹿入室内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要用浸湿的被褥、衣物等堵塞门窗缝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并泼水降温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00600" y="0"/>
            <a:ext cx="4343400" cy="6858000"/>
            <a:chOff x="4800600" y="0"/>
            <a:chExt cx="4343400" cy="6858000"/>
          </a:xfrm>
        </p:grpSpPr>
        <p:pic>
          <p:nvPicPr>
            <p:cNvPr id="316" name="huozai003" descr=""/>
            <p:cNvPicPr/>
            <p:nvPr/>
          </p:nvPicPr>
          <p:blipFill>
            <a:blip r:embed="rId2"/>
            <a:stretch/>
          </p:blipFill>
          <p:spPr>
            <a:xfrm>
              <a:off x="4800600" y="0"/>
              <a:ext cx="4343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781680" y="0"/>
              <a:ext cx="2362320" cy="6858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781680" y="457200"/>
            <a:ext cx="236232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千万不要盲目跳楼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可利用疏散楼梯、阳台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落水管等逃生自救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也可用绳子或把床单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被套撕成条状连成绳索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紧栓在窗框、暖气管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铁栏杆等固定物上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用毛巾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布条等保护手心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顺绳滑下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或下到未着火的楼层脱离险境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0" y="3352680"/>
            <a:ext cx="4800600" cy="3505320"/>
            <a:chOff x="0" y="3352680"/>
            <a:chExt cx="4800600" cy="3505320"/>
          </a:xfrm>
        </p:grpSpPr>
        <p:pic>
          <p:nvPicPr>
            <p:cNvPr id="320" name="huozai006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48006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5867280"/>
              <a:ext cx="472428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5851440"/>
            <a:ext cx="480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若所有逃生线路被大火封锁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要立即退回室内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用打手电筒、挥舞衣物、呼叫等方式向窗外发送求救信号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等待救援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0002003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072720" cy="6054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24000" y="99072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衷心祝福大家平安、快乐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pic>
        <p:nvPicPr>
          <p:cNvPr id="327" name="平安是福" descr=""/>
          <p:cNvPicPr/>
          <p:nvPr/>
        </p:nvPicPr>
        <p:blipFill>
          <a:blip r:embed="rId4"/>
          <a:stretch/>
        </p:blipFill>
        <p:spPr>
          <a:xfrm>
            <a:off x="3851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/>
                </p:stCondLst>
                <p:childTnLst>
                  <p:par>
                    <p:cTn id="528" fill="hold">
                      <p:stCondLst>
                        <p:cond evt="onClick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234400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5120" y="1905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、校园安全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029200" y="2590920"/>
          <a:ext cx="3809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590920"/>
                    <a:ext cx="3809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600200" y="304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要在教室追逐玩耍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活动空间狭小、安全隐患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2514600"/>
          <a:ext cx="403848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40384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tebulb"/>
          <p:cNvSpPr/>
          <p:nvPr/>
        </p:nvSpPr>
        <p:spPr>
          <a:xfrm>
            <a:off x="914400" y="38088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-5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049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进出教室要有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要推挤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tebulb"/>
          <p:cNvSpPr/>
          <p:nvPr/>
        </p:nvSpPr>
        <p:spPr>
          <a:xfrm>
            <a:off x="304920" y="38088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1-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190760" cy="2895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86400" y="160020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有序进出，顺利又迅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1828800"/>
            <a:ext cx="609840" cy="533520"/>
          </a:xfrm>
          <a:custGeom>
            <a:avLst/>
            <a:gdLst>
              <a:gd name="textAreaLeft" fmla="*/ 95040 w 609840"/>
              <a:gd name="textAreaRight" fmla="*/ 495720 w 609840"/>
              <a:gd name="textAreaTop" fmla="*/ 152280 h 533520"/>
              <a:gd name="textAreaBottom" fmla="*/ 38124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6171"/>
                </a:moveTo>
                <a:lnTo>
                  <a:pt x="12150" y="6171"/>
                </a:lnTo>
                <a:lnTo>
                  <a:pt x="12150" y="0"/>
                </a:lnTo>
                <a:lnTo>
                  <a:pt x="21600" y="10800"/>
                </a:lnTo>
                <a:lnTo>
                  <a:pt x="12150" y="21600"/>
                </a:lnTo>
                <a:lnTo>
                  <a:pt x="12150" y="15429"/>
                </a:lnTo>
                <a:lnTo>
                  <a:pt x="3375" y="15429"/>
                </a:lnTo>
                <a:close/>
              </a:path>
              <a:path w="21600" h="21600">
                <a:moveTo>
                  <a:pt x="0" y="6171"/>
                </a:moveTo>
                <a:lnTo>
                  <a:pt x="675" y="6171"/>
                </a:lnTo>
                <a:lnTo>
                  <a:pt x="675" y="15429"/>
                </a:lnTo>
                <a:lnTo>
                  <a:pt x="0" y="15429"/>
                </a:lnTo>
                <a:close/>
              </a:path>
              <a:path w="21600" h="21600">
                <a:moveTo>
                  <a:pt x="1350" y="6171"/>
                </a:moveTo>
                <a:lnTo>
                  <a:pt x="2700" y="6171"/>
                </a:lnTo>
                <a:lnTo>
                  <a:pt x="2700" y="15429"/>
                </a:lnTo>
                <a:lnTo>
                  <a:pt x="1350" y="15429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3885840" y="5029200"/>
            <a:ext cx="609480" cy="533520"/>
          </a:xfrm>
          <a:custGeom>
            <a:avLst/>
            <a:gdLst>
              <a:gd name="textAreaLeft" fmla="*/ 95040 w 609480"/>
              <a:gd name="textAreaRight" fmla="*/ 495360 w 609480"/>
              <a:gd name="textAreaTop" fmla="*/ 152280 h 533520"/>
              <a:gd name="textAreaBottom" fmla="*/ 38124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6171"/>
                </a:moveTo>
                <a:lnTo>
                  <a:pt x="12150" y="6171"/>
                </a:lnTo>
                <a:lnTo>
                  <a:pt x="12150" y="0"/>
                </a:lnTo>
                <a:lnTo>
                  <a:pt x="21600" y="10800"/>
                </a:lnTo>
                <a:lnTo>
                  <a:pt x="12150" y="21600"/>
                </a:lnTo>
                <a:lnTo>
                  <a:pt x="12150" y="15429"/>
                </a:lnTo>
                <a:lnTo>
                  <a:pt x="3375" y="15429"/>
                </a:lnTo>
                <a:close/>
              </a:path>
              <a:path w="21600" h="21600">
                <a:moveTo>
                  <a:pt x="0" y="6171"/>
                </a:moveTo>
                <a:lnTo>
                  <a:pt x="675" y="6171"/>
                </a:lnTo>
                <a:lnTo>
                  <a:pt x="675" y="15429"/>
                </a:lnTo>
                <a:lnTo>
                  <a:pt x="0" y="15429"/>
                </a:lnTo>
                <a:close/>
              </a:path>
              <a:path w="21600" h="21600">
                <a:moveTo>
                  <a:pt x="1350" y="6171"/>
                </a:moveTo>
                <a:lnTo>
                  <a:pt x="2700" y="6171"/>
                </a:lnTo>
                <a:lnTo>
                  <a:pt x="2700" y="15429"/>
                </a:lnTo>
                <a:lnTo>
                  <a:pt x="1350" y="15429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95680"/>
            <a:ext cx="35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推挤容易产生意外，出入也不顺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" name="6" descr=""/>
            <p:cNvPicPr/>
            <p:nvPr/>
          </p:nvPicPr>
          <p:blipFill>
            <a:blip r:embed="rId1"/>
            <a:stretch/>
          </p:blipFill>
          <p:spPr>
            <a:xfrm>
              <a:off x="4648320" y="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7" descr=""/>
            <p:cNvPicPr/>
            <p:nvPr/>
          </p:nvPicPr>
          <p:blipFill>
            <a:blip r:embed="rId2"/>
            <a:stretch/>
          </p:blipFill>
          <p:spPr>
            <a:xfrm>
              <a:off x="2438280" y="3429000"/>
              <a:ext cx="6705720" cy="342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0" y="0"/>
              <a:ext cx="4724280" cy="3429000"/>
              <a:chOff x="0" y="0"/>
              <a:chExt cx="4724280" cy="3429000"/>
            </a:xfrm>
          </p:grpSpPr>
          <p:pic>
            <p:nvPicPr>
              <p:cNvPr id="118" name="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4724280" cy="34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0" y="0"/>
                <a:ext cx="4648320" cy="7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朝阳市某中学小学部五年级在二楼上课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地震开始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有一名教师说是地震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学生就惊恐地冲出教室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沿楼梯拥挤奔逃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800600" y="0"/>
              <a:ext cx="4191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其中有两位男同学分别由二楼通道、窗口跳下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0920" y="6156360"/>
              <a:ext cx="6324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两人落地撞伤后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又被人流踩踏致重伤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送医院抢救无效身亡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4920" y="2819520"/>
            <a:ext cx="1981080" cy="4315320"/>
            <a:chOff x="304920" y="2819520"/>
            <a:chExt cx="1981080" cy="4315320"/>
          </a:xfrm>
        </p:grpSpPr>
        <p:sp>
          <p:nvSpPr>
            <p:cNvPr id="123" name=""/>
            <p:cNvSpPr/>
            <p:nvPr/>
          </p:nvSpPr>
          <p:spPr>
            <a:xfrm>
              <a:off x="458640" y="2819520"/>
              <a:ext cx="1352520" cy="43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7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!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04920" y="3581640"/>
              <a:ext cx="1981080" cy="2913480"/>
              <a:chOff x="304920" y="3581640"/>
              <a:chExt cx="1981080" cy="2913480"/>
            </a:xfrm>
          </p:grpSpPr>
          <p:sp>
            <p:nvSpPr>
              <p:cNvPr id="125" name=""/>
              <p:cNvSpPr/>
              <p:nvPr/>
            </p:nvSpPr>
            <p:spPr>
              <a:xfrm>
                <a:off x="304920" y="3581640"/>
                <a:ext cx="1828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安全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920" y="4572360"/>
                <a:ext cx="190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事故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4920" y="5486760"/>
                <a:ext cx="19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实例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049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在走廊奔跑、追逐玩耍容易发生意外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新细明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tebulb"/>
          <p:cNvSpPr/>
          <p:nvPr/>
        </p:nvSpPr>
        <p:spPr>
          <a:xfrm>
            <a:off x="685800" y="45720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1-2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38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3049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下楼梯时…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尽量靠边行走、不要奔跑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1-3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153280" cy="3733920"/>
          </a:xfrm>
          <a:prstGeom prst="rect">
            <a:avLst/>
          </a:prstGeom>
          <a:ln w="0">
            <a:noFill/>
          </a:ln>
        </p:spPr>
      </p:pic>
      <p:sp>
        <p:nvSpPr>
          <p:cNvPr id="134" name="Litebulb"/>
          <p:cNvSpPr/>
          <p:nvPr/>
        </p:nvSpPr>
        <p:spPr>
          <a:xfrm>
            <a:off x="914400" y="38088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352680"/>
            <a:ext cx="3657600" cy="3124440"/>
          </a:xfrm>
          <a:custGeom>
            <a:avLst/>
            <a:gdLst>
              <a:gd name="textAreaLeft" fmla="*/ 849600 w 3657600"/>
              <a:gd name="textAreaRight" fmla="*/ 2808000 w 3657600"/>
              <a:gd name="textAreaTop" fmla="*/ 725760 h 3124440"/>
              <a:gd name="textAreaBottom" fmla="*/ 23986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73" y="12360"/>
                </a:lnTo>
                <a:lnTo>
                  <a:pt x="786" y="14846"/>
                </a:lnTo>
                <a:lnTo>
                  <a:pt x="3942" y="15254"/>
                </a:lnTo>
                <a:lnTo>
                  <a:pt x="3163" y="18437"/>
                </a:lnTo>
                <a:lnTo>
                  <a:pt x="6227" y="17579"/>
                </a:lnTo>
                <a:lnTo>
                  <a:pt x="6580" y="20741"/>
                </a:lnTo>
                <a:lnTo>
                  <a:pt x="9100" y="18798"/>
                </a:lnTo>
                <a:lnTo>
                  <a:pt x="10800" y="21600"/>
                </a:lnTo>
                <a:lnTo>
                  <a:pt x="12360" y="18827"/>
                </a:lnTo>
                <a:lnTo>
                  <a:pt x="14846" y="20814"/>
                </a:lnTo>
                <a:lnTo>
                  <a:pt x="15254" y="17658"/>
                </a:lnTo>
                <a:lnTo>
                  <a:pt x="18437" y="18437"/>
                </a:lnTo>
                <a:lnTo>
                  <a:pt x="17579" y="15373"/>
                </a:lnTo>
                <a:lnTo>
                  <a:pt x="20741" y="15020"/>
                </a:lnTo>
                <a:lnTo>
                  <a:pt x="18798" y="12500"/>
                </a:lnTo>
                <a:lnTo>
                  <a:pt x="21600" y="10800"/>
                </a:lnTo>
                <a:lnTo>
                  <a:pt x="18827" y="9240"/>
                </a:lnTo>
                <a:lnTo>
                  <a:pt x="20814" y="6754"/>
                </a:lnTo>
                <a:lnTo>
                  <a:pt x="17658" y="6346"/>
                </a:lnTo>
                <a:lnTo>
                  <a:pt x="18437" y="3163"/>
                </a:lnTo>
                <a:lnTo>
                  <a:pt x="15373" y="4021"/>
                </a:lnTo>
                <a:lnTo>
                  <a:pt x="15020" y="859"/>
                </a:lnTo>
                <a:lnTo>
                  <a:pt x="12500" y="2802"/>
                </a:lnTo>
                <a:lnTo>
                  <a:pt x="10800" y="0"/>
                </a:lnTo>
                <a:lnTo>
                  <a:pt x="9240" y="2773"/>
                </a:lnTo>
                <a:lnTo>
                  <a:pt x="6754" y="786"/>
                </a:lnTo>
                <a:lnTo>
                  <a:pt x="6346" y="3942"/>
                </a:lnTo>
                <a:lnTo>
                  <a:pt x="3163" y="3163"/>
                </a:lnTo>
                <a:lnTo>
                  <a:pt x="4021" y="6227"/>
                </a:lnTo>
                <a:lnTo>
                  <a:pt x="859" y="6580"/>
                </a:lnTo>
                <a:lnTo>
                  <a:pt x="2802" y="91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4648320" cy="3014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16000" y="260280"/>
            <a:ext cx="875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体育课、室外活动时…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676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正确使用运动器材、注意听从老师指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tebulb"/>
          <p:cNvSpPr/>
          <p:nvPr/>
        </p:nvSpPr>
        <p:spPr>
          <a:xfrm>
            <a:off x="533520" y="45720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114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注意周围同学动向，不要进入其活动范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79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79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0:45:37Z</dcterms:created>
  <dc:creator>hw</dc:creator>
  <dc:description/>
  <dc:language>en-US</dc:language>
  <cp:lastModifiedBy>USER</cp:lastModifiedBy>
  <cp:lastPrinted>1899-12-30T00:00:00Z</cp:lastPrinted>
  <dcterms:modified xsi:type="dcterms:W3CDTF">2010-12-13T07:03:27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