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A73-95E1-48D4-A3D0-C6E2EB7A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89E-8B5C-4EC2-B8AD-3FAF959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A08-44D3-418C-AB16-D8743AF7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AD9-B2AC-47F0-9DAC-42769DEF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44E-9383-4521-991C-F426500C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5C6-9835-4AE8-A2F9-79248F83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4901-1B10-4BD7-9509-FDA6771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1D7-A8E2-46FE-8912-6714373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7EA-682D-4375-9930-1B4C9504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52E-B9DC-4295-9439-30BF8CD5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25D4-8334-4809-B9E3-2FECA16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05F-260A-4F68-B126-1996F1C3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576B-9B6B-4625-B4EE-3DFCECF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520-E533-4B31-9C30-1E84112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031-020E-4A7B-AFDE-EB66E28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0DC-BE6C-45E2-BE1B-D9970145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0636-F774-4CD3-BB90-4DDC0D61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6A0C-EE67-46B0-A4BE-2C011712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DC37-9CC3-4B4F-8C00-B54992B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3DED-F614-4CDE-9F9C-3658F7AD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5714-2974-4FCA-AC72-1ADF07C8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FAB9-23D5-477B-BC2F-705BB10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18F-1BCD-40F8-88E4-B8006DB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FE31-7351-4AC9-BBA0-5D45A0C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1733-C588-4129-AD0D-3C21B8F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1024-495A-4CC7-B3C6-3D2A3F9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BC58-DC42-43A4-A7F7-D098E98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8F25-87A2-421C-9925-C7A9FDD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36D1-D475-4AD2-8563-BDBBB872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FA9A-DF98-4AE5-9A0C-08E7920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7C1-BBF6-45E1-93B6-89E23F02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341-B2B3-4A28-A843-D2CAEA3E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75D-B4A5-482C-988D-00F4647C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EE9-F4E1-4B86-90BE-0A276439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7CB-C185-4FBE-8A59-5E23BC4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F0A-667B-42AF-A1FC-8DCB09F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26D8-823D-4449-A9BB-1F79B0097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DE0C-40FA-4BFE-A96E-0CC6D19C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2AC-9C28-4BCE-AB91-F4D153F0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12000"/>
          </a:blip>
          <a:srcRect l="0" t="0" r="-46" b="3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&#35270;&#39057;\&#27801;&#30011;&#12298;&#29238;&#20146;&#12299;&#65292;&#31607;&#23376;&#20804;&#24351;&#65292;&#24863;&#20154;&#65281;.f4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620640"/>
            <a:ext cx="5689800" cy="5516640"/>
          </a:xfrm>
          <a:prstGeom prst="bevel">
            <a:avLst>
              <a:gd name="adj" fmla="val 5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329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 </a:t>
            </a: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世界上有这么一个男人，小时候你怕他的威严，长大了你学他沉稳，他的爱很深沉但不求回报；你跟他耍赖不讲理，你瞎胡闹，你闯祸回家，他批评训斥你，但他对你的爱却从不改变；你只一句话，他就成为你的超人兼跑腿兼保镖兼顾问……神马男人都是浮云，全球最靠谱的男人就是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——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这个人就是老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60" y="260280"/>
            <a:ext cx="3167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1680" y="1263600"/>
            <a:ext cx="9175680" cy="5694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42920" y="141300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病打针，我哭，爸爸默默地陪着我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0" y="981000"/>
            <a:ext cx="9180720" cy="5877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51280" y="134136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最喜欢和爸爸一起运动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-96" b="0"/>
          <a:stretch/>
        </p:blipFill>
        <p:spPr>
          <a:xfrm>
            <a:off x="0" y="1390680"/>
            <a:ext cx="4500720" cy="546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33" b="-56"/>
          <a:stretch/>
        </p:blipFill>
        <p:spPr>
          <a:xfrm>
            <a:off x="4494240" y="1413000"/>
            <a:ext cx="4649760" cy="544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435640" y="1557360"/>
            <a:ext cx="34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喜欢和爸爸看海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6520" t="0" r="0" b="0"/>
          <a:stretch/>
        </p:blipFill>
        <p:spPr>
          <a:xfrm>
            <a:off x="36360" y="1268280"/>
            <a:ext cx="465012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5080" y="1268280"/>
            <a:ext cx="4392720" cy="5589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1484280"/>
            <a:ext cx="3457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的肩膀象山一样…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5744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父母的爱有条件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没有设想过，如果你出生就已是有残疾，你的人生会是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，无论你是如何，父母都不曾放弃过你，父母都会竭尽自己所能去让你过得更快乐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我们一起来分享一个父亲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439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有嫌弃过你的父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4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觉得父母无法理解你，总是很唠叨而与他们争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给你的物质生活条件不够优越，能够给你创造更好的条件而埋怨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忙于工作，无法到学校为你送汤或是周末不能在家陪伴你而指责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但是，无论你是如何不满与嫌弃，父母依旧是如此爱你——一个哑巴父亲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38178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第一次进幼儿园时拉着他的手不放、第一次学起单车时害怕他放手、第一次偷偷模仿他的笔迹在试卷上签字、第一次因为他对打来电话的男生呵斥而跟他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……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曾经的那个“甜蜜的负担”已经长大，大手拉小手的场景还犹然记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00" y="1343160"/>
            <a:ext cx="4775040" cy="547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89440" y="1343160"/>
            <a:ext cx="424836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长大了，爸爸老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14637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4465800" cy="23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我们所有的心事，往往都会告诉母亲，却常常止于父亲。我们默默感受父亲的温度，心怀感恩却欲言又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7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爱要及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496908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仿宋_GB2312"/>
              </a:rPr>
              <a:t>算一算你和父母在一起的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生下你，在你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你和父母几乎天天见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-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在外地读书，每年回去见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以后在外面打拼，半年才回一次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成家立业，父母已经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了，自己工作太忙，要陪孩子，要应酬客户，只有在节日才回家看看父母，一年大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在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前，和你在一起的时间是非常有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所以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</a:rPr>
              <a:t>爱要及时，尽孝要及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长大了要为父母做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件事 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定期带父母去做体检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父母的零花钱不能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帮父母完成年轻时未完成的梦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陪父母重游故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与父母一起拜访他们的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经常给父母拍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跟父亲做交心的沟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带父母去旅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71640" y="733320"/>
            <a:ext cx="5472360" cy="4241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9080" y="7333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987640" y="5300640"/>
            <a:ext cx="5186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父亲，就是永远爱你的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值得信赖的、值得尊敬的好人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17520" y="0"/>
            <a:ext cx="9747360" cy="715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7280" y="3715920"/>
            <a:ext cx="756000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今年的父亲节在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日，虽然已经过去，但作为子女的我们，应该要让父亲感觉每天都是过父亲节，让父母感受到我们的关心与爱！据说，选定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过父亲节是因为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的阳光是一年之中最炽热的，象征着父亲给予子女那火热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60360" y="53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会付出，学会承担责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64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父母不仅仅在于说，更在于落实到你的每个行动中，父母最希望看到你健康成长，学有所成，作为子女的你能否为了父母的心愿而不断努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龄在不断增长，意味着肩上的责任也在不断增加，父母在一年年变老，我们也要逐渐成长为值得父母依靠的那座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父母非常不容易，要有经济基础，要有成熟的心智，而各位同学尚未具备这样的条件，所以，处于青春期的同学必须理智成熟地处理与异性的关系，因为这不仅仅是感情，更多的还有责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48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476280"/>
            <a:ext cx="62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方正姚体"/>
              </a:rPr>
              <a:t>父爱如山，感恩永远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方正姚体"/>
              <a:ea typeface="方正姚体"/>
            </a:endParaRPr>
          </a:p>
        </p:txBody>
      </p:sp>
      <p:sp>
        <p:nvSpPr>
          <p:cNvPr id="132" name=""/>
          <p:cNvSpPr txBox="1"/>
          <p:nvPr/>
        </p:nvSpPr>
        <p:spPr>
          <a:xfrm rot="540000">
            <a:off x="1187280" y="2155680"/>
            <a:ext cx="696312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你知道父亲节是如何来的吗？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03680" y="1080"/>
            <a:ext cx="9247320" cy="681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界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父亲节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诞生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华盛顿一位叫布鲁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的夫人，在庆贺母亲节的时候突然产生了一个念头：既然有母亲节，为什么不能有个父亲节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夫人和他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弟弟早年丧母，他们由慈爱的父亲一手抚养大的。许多年过去了，姐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每逢父亲的生辰忌日，总会回想起父亲含辛茹苦养家的情景。在拉斯马斯博士的支持下，她提笔给州政府写了一封言辞恳切的信，呼吁建立父亲节，并建议将节日定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她父亲生日这天。州政府采纳了她的建议，仓促间将父亲节定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，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星期日。翌年，多德夫人所在的斯坡堪市正式庆祝这一节日，市长宣布了父亲节的文告，定这天为全州纪念日。以后，其他州也庆贺父亲节。在父亲节这天，人们选择特定的鲜花来表示对父亲的敬意。人们采纳了多德夫人伯建议，佩戴红玫瑰向健在的父亲们表示爱戴，佩戴白玫瑰对故去的父亲表示悼念。后来在温哥华，人们选择了佩戴白丁香，宾夕法尼亚人用蒲公英向父亲表示致意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0240" y="1413000"/>
            <a:ext cx="914076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08360" y="5516640"/>
            <a:ext cx="41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笨笨粗粗的手，很温柔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160" y="1343160"/>
            <a:ext cx="9107280" cy="5445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48428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手拉小手，迈出第一步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0" y="1052640"/>
            <a:ext cx="9109080" cy="583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987640" y="1268280"/>
            <a:ext cx="568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臂，比秋千舒服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240" y="1082520"/>
            <a:ext cx="921240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042920" y="587700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手，带我飞得更高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60" y="1317600"/>
            <a:ext cx="9001440" cy="545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148428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只要爸爸在，我就不害怕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8:18:57Z</dcterms:created>
  <dc:creator>Administrator</dc:creator>
  <dc:description/>
  <dc:language>en-US</dc:language>
  <cp:lastModifiedBy/>
  <dcterms:modified xsi:type="dcterms:W3CDTF">2015-07-02T03:03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