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93c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93c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232080"/>
            <a:ext cx="4878360" cy="794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600" y="3962160"/>
            <a:ext cx="4648320" cy="68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4793c7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124080"/>
            <a:ext cx="6705360" cy="32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1080" y="88992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93c7"/>
              </a:solidFill>
              <a:latin typeface="Microsoft Sans Serif"/>
              <a:ea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Verdana"/>
                <a:ea typeface="宋体"/>
              </a:rPr>
              <a:t>单击此处添加副标题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echo</cp:lastModifiedBy>
  <dcterms:modified xsi:type="dcterms:W3CDTF">2015-08-19T09:05:23Z</dcterms:modified>
  <cp:revision>107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