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D14-C949-48E0-A2C3-71409CCE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086-481D-4DD7-B402-3FA93A41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16E-EEF1-4D7E-80CB-BA8E6734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2B8-931B-4CE9-B952-64B0F4B8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7890-C58F-4F38-9503-2A15E3C5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FA53-1FEF-4FE4-81B4-EDB23FA6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9589-CEF4-4C4E-80F3-889584C2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5A11-1AA8-4A70-8CD0-E4C854C6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27F2-688D-45FF-A707-D6DCC54B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441C-B89D-48BC-9DA0-7D924B65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F31B-2C9A-442B-AAB4-841B0C9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AAF-7E77-476B-9BDF-D9EF073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89A5-8AD8-4A4A-9783-C36653E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8F12-50F9-4F11-82F8-BA9C7639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1EF5-3A2C-408E-B908-5184EE92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6E97-A2E9-474E-8213-79C69022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35AC-8E11-4F96-A646-2CE3BB0B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154-C0E2-4BF8-86B6-C28FDD75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C87-4811-4AA7-A212-93821896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6D1-084C-4B46-B8AA-1A99D850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797-7C53-4036-AFFA-15D679CF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100-8742-4ABB-9587-38250E7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29C-A9C0-40C7-B982-C661253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96C-75BE-4EF0-A390-D7DD787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未知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0B00-EBEB-40AD-A4A4-DF29F5E73C6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未知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C4FD-3BDF-46FC-AA8E-A1374213F62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990720" y="2057400"/>
            <a:ext cx="5105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华文细黑"/>
              </a:rPr>
              <a:t>6 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6000"/>
                    </a:srgbClr>
                  </a:outerShdw>
                </a:effectLst>
                <a:latin typeface="华文细黑"/>
              </a:rPr>
              <a:t>怀念母亲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6000"/>
                  </a:srgbClr>
                </a:outerShdw>
              </a:effectLst>
              <a:latin typeface="华文细黑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491640" y="28954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频来入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Arial Black"/>
                <a:ea typeface="华文中宋"/>
              </a:rPr>
              <a:t>朗读课文，思考问题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523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对这两位母亲怀着怎样的感情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520" y="4343400"/>
            <a:ext cx="5790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00ff"/>
                </a:solidFill>
                <a:latin typeface="Arial Black"/>
                <a:ea typeface="黑体"/>
              </a:rPr>
              <a:t>对“生身母亲”</a:t>
            </a:r>
            <a:br>
              <a:rPr sz="5400"/>
            </a:br>
            <a:r>
              <a:rPr b="0" i="1" lang="zh-CN" sz="5400" spc="-1" strike="noStrike">
                <a:solidFill>
                  <a:srgbClr val="0000ff"/>
                </a:solidFill>
                <a:latin typeface="Arial Black"/>
                <a:ea typeface="黑体"/>
              </a:rPr>
              <a:t>的感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2960" y="1905120"/>
            <a:ext cx="785808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中宋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40384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08160" y="3103560"/>
            <a:ext cx="74880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怅望灰天”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371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２、我怅望灰天，在泪光里，幻出母亲的面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133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352680" y="25142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0066"/>
                </a:solidFill>
                <a:latin typeface="Arial Black"/>
                <a:ea typeface="黑体"/>
              </a:rPr>
              <a:t>对“祖国母亲”</a:t>
            </a:r>
            <a:br>
              <a:rPr sz="5400"/>
            </a:br>
            <a:r>
              <a:rPr b="0" i="1" lang="zh-CN" sz="5400" spc="-1" strike="noStrike">
                <a:solidFill>
                  <a:srgbClr val="ff0066"/>
                </a:solidFill>
                <a:latin typeface="Arial Black"/>
                <a:ea typeface="黑体"/>
              </a:rPr>
              <a:t>的感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100240" y="3103200"/>
            <a:ext cx="644832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凄凉”，寂寞冷落，凄惨。作者身在异国小城，心中十分忧愁；但是在远离家乡的日子里，能时常怀念起在故国的生活情景，不断回想起故国的亲朋好友，心中自然又多了一丝安慰、一些宽心、一点甜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464832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654200" y="4727160"/>
            <a:ext cx="65260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71800" y="25909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71500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91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76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24080" y="5335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怀念母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两位母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600200"/>
            <a:ext cx="838080" cy="3200400"/>
          </a:xfrm>
          <a:custGeom>
            <a:avLst/>
            <a:gdLst>
              <a:gd name="textAreaLeft" fmla="*/ 535320 w 838080"/>
              <a:gd name="textAreaRight" fmla="*/ 838440 w 8380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1600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生身母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343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祖国母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1600200"/>
            <a:ext cx="685800" cy="3124080"/>
          </a:xfrm>
          <a:custGeom>
            <a:avLst/>
            <a:gdLst>
              <a:gd name="textAreaLeft" fmla="*/ 0 w 685800"/>
              <a:gd name="textAreaRight" fmla="*/ 247680 w 6858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崇高的敬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真挚的爱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600200" y="5410080"/>
            <a:ext cx="233352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5410080"/>
            <a:ext cx="609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457200" y="1143000"/>
            <a:ext cx="8305920" cy="5181480"/>
            <a:chOff x="457200" y="1143000"/>
            <a:chExt cx="8305920" cy="518148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4343400" y="1143000"/>
              <a:ext cx="44197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457200" y="1143000"/>
              <a:ext cx="3429000" cy="40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8380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9207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90353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19728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慈母爱子，非为报也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〖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〗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刘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、母苦儿未见，儿劳母不安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劝孝歌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、世界上的一切光荣和骄傲，都来自母亲。（高尔基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、母爱是一种巨大的火焰。（罗曼罗兰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世界上有一种最美丽的声音，那便是母亲的呼唤。（但丁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天上的风雨来了，鸟儿躲进他们的巢里，心中的风雨来了，我只躲进你的怀抱里。（冰心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 Black"/>
                <a:ea typeface="隶书"/>
              </a:rPr>
              <a:t>国学大师</a:t>
            </a:r>
            <a:r>
              <a:rPr b="0" lang="en-US" sz="4400" spc="-1" strike="noStrike">
                <a:solidFill>
                  <a:srgbClr val="ff0066"/>
                </a:solidFill>
                <a:latin typeface="Arial Black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ff0066"/>
                </a:solidFill>
                <a:latin typeface="Arial Black"/>
                <a:ea typeface="隶书"/>
              </a:rPr>
              <a:t>季羡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（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1911.8.6-2009.7.11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）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781680" y="1752480"/>
            <a:ext cx="1695600" cy="4495680"/>
            <a:chOff x="6781680" y="1752480"/>
            <a:chExt cx="1695600" cy="44956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6781680" y="3809880"/>
              <a:ext cx="16956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6781680" y="1752480"/>
              <a:ext cx="1682640" cy="19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09456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永久的悔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片段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　“当我从北京赶回济南，又从济南赶回清平奔丧的时候，看到了母亲的棺材，看到那简陋的屋子，我真想一头撞死在棺材上，随母亲于地下。我后悔，我真不该，我千不该万不该离开了母亲。世界上无论什么名誉，什么地位，什么幸福，什么尊荣，都比不上呆在母亲身边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…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0720" y="1065600"/>
            <a:ext cx="869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自由读课文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、读准字音，读通句子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、注意将难读的句子多读几次。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Arial Black"/>
                <a:ea typeface="华文中宋"/>
              </a:rPr>
              <a:t>字词正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96080" y="1143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659680"/>
            <a:ext cx="8991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边读边感悟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你读懂了些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720160"/>
            <a:ext cx="8991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边读边想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从哪些词能感受到作者对母亲的深切怀念之情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76320"/>
            <a:ext cx="54324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食不下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寝不安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频来入梦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凄凉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思潮起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1600200"/>
            <a:ext cx="35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无法安然入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743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指一件事连续在梦中出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9760" y="4414680"/>
            <a:ext cx="254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403848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寂寞冷落；凄惨，荒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228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吃不下东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5486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接二连三的思想活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13:02:01Z</dcterms:created>
  <dc:creator>新课标第一网xkb1.com</dc:creator>
  <dc:description>新课标第一网xkb1.com</dc:description>
  <cp:keywords>新课标第一网xkb1.com</cp:keywords>
  <dc:language>en-US</dc:language>
  <cp:lastModifiedBy>User</cp:lastModifiedBy>
  <dcterms:modified xsi:type="dcterms:W3CDTF">2012-10-28T11:27:50Z</dcterms:modified>
  <cp:revision>295</cp:revision>
  <dc:subject>新课标第一网xkb1.com</dc:subject>
  <dc:title>新课标第一网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  <property fmtid="{D5CDD505-2E9C-101B-9397-08002B2CF9AE}" pid="3" name="Version">
    <vt:r8>1</vt:r8>
  </property>
</Properties>
</file>