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6.gif" ContentType="image/gif"/>
  <Override PartName="/ppt/media/image11.jpeg" ContentType="image/jpe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.jpeg" ContentType="image/jpe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099A-7467-4632-949A-BC791EF96E4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4FC0-DA7F-4CBA-B04C-9D7C87FC23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本资料来自于漳州岱仔小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976F-E6F4-4089-8A13-3AD5B117B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CCF5-4C86-4CCF-941E-4A2AE89D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40C8-6250-44A0-9417-899B5975D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C21A-6AF9-4CE2-8136-FFE489253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DA11-E1F1-4994-A75E-4CAB4894E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6976-7F79-44CC-A96A-3724B3F4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A595B-539E-4A82-8FBE-98834D75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EFF9-1A25-490B-B98B-808D1F6E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F1CFF-76EF-45C6-8EAA-AD47E515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6D14-1399-4732-BEEF-FEE2D071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AB91-B314-4C62-8CEF-AC0FBEEA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9604-C9A4-45C7-9B4D-06ACFA5B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AAC9-B5D2-4C14-B2EF-D8195A82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8964-7B3D-4B78-989F-B6D2DE2F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0F3FB-3BE7-46F8-B578-88CAA4CD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5928-C699-446A-92DC-7D412E08E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F22E-5339-4485-935C-132ECD3A6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1DC7A-DA93-4A0F-AC36-C69722F7A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9645F-D528-4F14-AA83-26352A25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C998E-9334-4A05-9DDF-4701F1A7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CCFFB-0CE7-4EE4-B511-DC380FBB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DF389-A8DA-4E75-BBDD-EFCEAED8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02D1-F57D-4953-86CB-9123472B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2A3CD-56BC-4D10-A879-4FC1C312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E2D04-E465-477B-89BE-E3F985E7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12DA1-926D-4C07-8AA3-C3689BA9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2A3B8-9BFB-4E83-B3A2-8229AD3A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107ED-9911-4562-88A2-BA599F22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E13D4-D4AD-471B-B041-59BA6852E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F76CD-8CA2-4E25-AF82-B6B9FE118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D0D43-0088-4C3F-897B-B22796787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DAF4D-E24B-4450-8C65-2045E7A1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EFFFC-B5DA-4B58-B64A-CF11E687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CF4C-5576-4F90-BAA9-7FD64DE8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4334B-8227-4FB6-A61D-EEA6CA5C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474F8-E8A4-4350-8730-FC8F5D77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3FD6A-F7CF-4CF0-89F0-C5A13028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C0EBE-DD56-4EF3-8554-AE17B6F5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2A675-C8B7-4349-BBE2-3AF03CD6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7EEA6-85F2-4A1B-B351-2A29A732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D2AA2-5D50-48AD-90E6-04575D4E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304C4-BA9A-495A-9103-F95A7A877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78CA4-1625-43CD-BAB7-B2D493450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F3059-1139-47DC-802E-C2EB4BF67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8439-5500-436E-BB02-AAFC6DE5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D44F3-DAE2-4A1A-BA5A-27B25998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4FE6C-6C2D-495F-827D-7B0D7B97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A26FD-997E-4C41-849A-D52C5CF3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1F1DF-4BC8-459E-8BFD-65D54BD4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A981E-3922-4746-9165-8F90B83E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C8F5E-CD7C-4A03-A71A-ACE358A2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BD322-5739-4F33-B19B-727964C1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28E05-89A3-4425-B83C-FB0260D9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87A6C-96E9-4DC6-BD2B-7957FBF1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FC2C1-69D6-44F4-B303-D45E24F52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8B07-6E3A-46D4-A32C-17F6252E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6FE15-064C-40AC-A9A9-B46E7F100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3F4CC-ADE1-4C95-99B8-905A20F87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0DCE3-8B39-455C-962F-992D667C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1B92D-B881-4F29-A3C5-472A84C9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C76A2-F684-4DF8-80BE-519808B9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FFBF5-3AA4-4705-8CAA-458B2DB3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B9355-4510-4B1C-9317-F14875AE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26012-0CBC-4F6B-B4ED-239DD0E7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9B318-AA33-4C67-B7DF-7CB40FC9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E377E-D381-42F3-85AE-4C67BFAB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3C51-D4BB-47CD-AEC9-89FE090E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F6E1D-2924-4FC1-9886-3B3DB71E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E5E00-C410-415F-BADB-0D1F3316B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663A6-7FBB-4700-8F40-2F51B6587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259C9-9AC8-4E93-BB93-18BE98ACB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DE022-4325-4E34-BBFD-5C8D1BAA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104F5-6274-4D0D-8A17-81CDBFEF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89056-FDEF-4D11-AC22-58E18036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7B7CE-5E79-4AB2-9E5B-364AC0FF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26DBC-3748-437E-8B6E-F7B29767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930E3-0F40-4779-B9F2-1650A4AB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8695-7587-456E-864A-A7C92E34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43045-D2F6-40AE-91B8-A6926B3D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9CBC6-E621-45FB-B4BC-C3D8A320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DC5F6-B198-4080-816A-6550343F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2E0B8-D387-48C3-BAB9-82AE394E8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5F3EB-23D6-4888-8055-B9A3E7D72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82168-3075-4D72-9438-A0EA456D4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56918-8931-4561-9931-05FB6CDD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9E622-B357-4570-9267-ACEB9727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5E3CC-E14E-446C-9429-C9BC44CD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B68EA-26C4-4E4F-955A-D0A2E9C9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760B-E339-4B7F-90BA-9DFAF9C4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217FF-AC9C-47D3-9836-859750CC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7E38A-9B17-4BF7-8CCB-5A83D426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EE58D-AA8E-4025-BF49-40F44ADC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E58AC-8A9F-4C29-84AE-FED8D32D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6E721-49B1-436A-9295-100F26B9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E9709-34EB-45BA-B922-98465E4DD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50349-EE54-43DA-9143-71704F12A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1" name="组合 17"/>
          <p:cNvGrpSpPr/>
          <p:nvPr/>
        </p:nvGrpSpPr>
        <p:grpSpPr>
          <a:xfrm>
            <a:off x="-360" y="6570720"/>
            <a:ext cx="9144360" cy="287280"/>
            <a:chOff x="-360" y="6570720"/>
            <a:chExt cx="9144360" cy="287280"/>
          </a:xfrm>
        </p:grpSpPr>
        <p:grpSp>
          <p:nvGrpSpPr>
            <p:cNvPr id="2" name="组合 16"/>
            <p:cNvGrpSpPr/>
            <p:nvPr/>
          </p:nvGrpSpPr>
          <p:grpSpPr>
            <a:xfrm>
              <a:off x="-360" y="6570720"/>
              <a:ext cx="8757000" cy="286200"/>
              <a:chOff x="-360" y="6570720"/>
              <a:chExt cx="8757000" cy="286200"/>
            </a:xfrm>
          </p:grpSpPr>
          <p:grpSp>
            <p:nvGrpSpPr>
              <p:cNvPr id="3" name="任意多边形 9"/>
              <p:cNvGrpSpPr/>
              <p:nvPr/>
            </p:nvGrpSpPr>
            <p:grpSpPr>
              <a:xfrm>
                <a:off x="0" y="6710760"/>
                <a:ext cx="8756640" cy="146160"/>
                <a:chOff x="0" y="6710760"/>
                <a:chExt cx="8756640" cy="146160"/>
              </a:xfrm>
            </p:grpSpPr>
            <p:pic>
              <p:nvPicPr>
                <p:cNvPr id="4" name="任意多边形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1076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" name=""/>
                <p:cNvSpPr/>
                <p:nvPr/>
              </p:nvSpPr>
              <p:spPr>
                <a:xfrm>
                  <a:off x="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6" name="任意多边形 10"/>
              <p:cNvGrpSpPr/>
              <p:nvPr/>
            </p:nvGrpSpPr>
            <p:grpSpPr>
              <a:xfrm>
                <a:off x="-360" y="6570720"/>
                <a:ext cx="8757000" cy="140040"/>
                <a:chOff x="-360" y="6570720"/>
                <a:chExt cx="8757000" cy="140040"/>
              </a:xfrm>
            </p:grpSpPr>
            <p:pic>
              <p:nvPicPr>
                <p:cNvPr id="7" name="任意多边形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10800000">
                  <a:off x="0" y="67104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9" name="组合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0" name="燕尾形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1" name="燕尾形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2" name="燕尾形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BF6A-DD21-402A-9EBF-00AE4F099231}" type="slidenum">
              <a:rPr b="0" lang="zh-CN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b9"/>
            </a:gs>
            <a:gs pos="100000">
              <a:srgbClr val="c2c2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55" name="组合 17"/>
          <p:cNvGrpSpPr/>
          <p:nvPr/>
        </p:nvGrpSpPr>
        <p:grpSpPr>
          <a:xfrm>
            <a:off x="-360" y="6570720"/>
            <a:ext cx="9144360" cy="287280"/>
            <a:chOff x="-360" y="6570720"/>
            <a:chExt cx="9144360" cy="287280"/>
          </a:xfrm>
        </p:grpSpPr>
        <p:grpSp>
          <p:nvGrpSpPr>
            <p:cNvPr id="56" name="组合 16"/>
            <p:cNvGrpSpPr/>
            <p:nvPr/>
          </p:nvGrpSpPr>
          <p:grpSpPr>
            <a:xfrm>
              <a:off x="-360" y="6570720"/>
              <a:ext cx="8757000" cy="286200"/>
              <a:chOff x="-360" y="6570720"/>
              <a:chExt cx="8757000" cy="286200"/>
            </a:xfrm>
          </p:grpSpPr>
          <p:grpSp>
            <p:nvGrpSpPr>
              <p:cNvPr id="57" name="任意多边形 9"/>
              <p:cNvGrpSpPr/>
              <p:nvPr/>
            </p:nvGrpSpPr>
            <p:grpSpPr>
              <a:xfrm>
                <a:off x="0" y="6710760"/>
                <a:ext cx="8756640" cy="146160"/>
                <a:chOff x="0" y="6710760"/>
                <a:chExt cx="8756640" cy="146160"/>
              </a:xfrm>
            </p:grpSpPr>
            <p:pic>
              <p:nvPicPr>
                <p:cNvPr id="58" name="任意多边形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1076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" name=""/>
                <p:cNvSpPr/>
                <p:nvPr/>
              </p:nvSpPr>
              <p:spPr>
                <a:xfrm>
                  <a:off x="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60" name="任意多边形 10"/>
              <p:cNvGrpSpPr/>
              <p:nvPr/>
            </p:nvGrpSpPr>
            <p:grpSpPr>
              <a:xfrm>
                <a:off x="-360" y="6570720"/>
                <a:ext cx="8757000" cy="140040"/>
                <a:chOff x="-360" y="6570720"/>
                <a:chExt cx="8757000" cy="140040"/>
              </a:xfrm>
            </p:grpSpPr>
            <p:pic>
              <p:nvPicPr>
                <p:cNvPr id="61" name="任意多边形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" name=""/>
                <p:cNvSpPr/>
                <p:nvPr/>
              </p:nvSpPr>
              <p:spPr>
                <a:xfrm rot="10800000">
                  <a:off x="0" y="67104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63" name="组合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64" name="燕尾形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65" name="燕尾形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66" name="燕尾形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7172-DC6C-4B46-BC64-7C82AC0224BC}" type="slidenum">
              <a:rPr b="0" lang="zh-CN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b9"/>
            </a:gs>
            <a:gs pos="100000">
              <a:srgbClr val="c2c2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109" name="组合 17"/>
          <p:cNvGrpSpPr/>
          <p:nvPr/>
        </p:nvGrpSpPr>
        <p:grpSpPr>
          <a:xfrm>
            <a:off x="-360" y="6570720"/>
            <a:ext cx="9144360" cy="287280"/>
            <a:chOff x="-360" y="6570720"/>
            <a:chExt cx="9144360" cy="287280"/>
          </a:xfrm>
        </p:grpSpPr>
        <p:grpSp>
          <p:nvGrpSpPr>
            <p:cNvPr id="110" name="组合 16"/>
            <p:cNvGrpSpPr/>
            <p:nvPr/>
          </p:nvGrpSpPr>
          <p:grpSpPr>
            <a:xfrm>
              <a:off x="-360" y="6570720"/>
              <a:ext cx="8757000" cy="286200"/>
              <a:chOff x="-360" y="6570720"/>
              <a:chExt cx="8757000" cy="286200"/>
            </a:xfrm>
          </p:grpSpPr>
          <p:grpSp>
            <p:nvGrpSpPr>
              <p:cNvPr id="111" name="任意多边形 9"/>
              <p:cNvGrpSpPr/>
              <p:nvPr/>
            </p:nvGrpSpPr>
            <p:grpSpPr>
              <a:xfrm>
                <a:off x="0" y="6710760"/>
                <a:ext cx="8756640" cy="146160"/>
                <a:chOff x="0" y="6710760"/>
                <a:chExt cx="8756640" cy="146160"/>
              </a:xfrm>
            </p:grpSpPr>
            <p:pic>
              <p:nvPicPr>
                <p:cNvPr id="112" name="任意多边形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1076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" name=""/>
                <p:cNvSpPr/>
                <p:nvPr/>
              </p:nvSpPr>
              <p:spPr>
                <a:xfrm>
                  <a:off x="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114" name="任意多边形 10"/>
              <p:cNvGrpSpPr/>
              <p:nvPr/>
            </p:nvGrpSpPr>
            <p:grpSpPr>
              <a:xfrm>
                <a:off x="-360" y="6570720"/>
                <a:ext cx="8757000" cy="140040"/>
                <a:chOff x="-360" y="6570720"/>
                <a:chExt cx="8757000" cy="140040"/>
              </a:xfrm>
            </p:grpSpPr>
            <p:pic>
              <p:nvPicPr>
                <p:cNvPr id="115" name="任意多边形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" name=""/>
                <p:cNvSpPr/>
                <p:nvPr/>
              </p:nvSpPr>
              <p:spPr>
                <a:xfrm rot="10800000">
                  <a:off x="0" y="67104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117" name="组合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18" name="燕尾形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19" name="燕尾形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20" name="燕尾形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12D7-D371-4EB4-AF9F-6A0B7ABFEFCC}" type="slidenum">
              <a:rPr b="0" lang="zh-CN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163" name="组合 17"/>
          <p:cNvGrpSpPr/>
          <p:nvPr/>
        </p:nvGrpSpPr>
        <p:grpSpPr>
          <a:xfrm>
            <a:off x="-360" y="6570720"/>
            <a:ext cx="9144360" cy="287280"/>
            <a:chOff x="-360" y="6570720"/>
            <a:chExt cx="9144360" cy="287280"/>
          </a:xfrm>
        </p:grpSpPr>
        <p:grpSp>
          <p:nvGrpSpPr>
            <p:cNvPr id="164" name="组合 16"/>
            <p:cNvGrpSpPr/>
            <p:nvPr/>
          </p:nvGrpSpPr>
          <p:grpSpPr>
            <a:xfrm>
              <a:off x="-360" y="6570720"/>
              <a:ext cx="8757000" cy="286200"/>
              <a:chOff x="-360" y="6570720"/>
              <a:chExt cx="8757000" cy="286200"/>
            </a:xfrm>
          </p:grpSpPr>
          <p:grpSp>
            <p:nvGrpSpPr>
              <p:cNvPr id="165" name="任意多边形 9"/>
              <p:cNvGrpSpPr/>
              <p:nvPr/>
            </p:nvGrpSpPr>
            <p:grpSpPr>
              <a:xfrm>
                <a:off x="0" y="6710760"/>
                <a:ext cx="8756640" cy="146160"/>
                <a:chOff x="0" y="6710760"/>
                <a:chExt cx="8756640" cy="146160"/>
              </a:xfrm>
            </p:grpSpPr>
            <p:pic>
              <p:nvPicPr>
                <p:cNvPr id="166" name="任意多边形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1076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7" name=""/>
                <p:cNvSpPr/>
                <p:nvPr/>
              </p:nvSpPr>
              <p:spPr>
                <a:xfrm>
                  <a:off x="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168" name="任意多边形 10"/>
              <p:cNvGrpSpPr/>
              <p:nvPr/>
            </p:nvGrpSpPr>
            <p:grpSpPr>
              <a:xfrm>
                <a:off x="-360" y="6570720"/>
                <a:ext cx="8757000" cy="140040"/>
                <a:chOff x="-360" y="6570720"/>
                <a:chExt cx="8757000" cy="140040"/>
              </a:xfrm>
            </p:grpSpPr>
            <p:pic>
              <p:nvPicPr>
                <p:cNvPr id="169" name="任意多边形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 rot="10800000">
                  <a:off x="0" y="67104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171" name="组合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72" name="燕尾形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73" name="燕尾形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74" name="燕尾形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grpSp>
        <p:nvGrpSpPr>
          <p:cNvPr id="175" name="组合 18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176" name="燕尾形 1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77" name="矩形 1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CD7F-3596-450C-B0B8-C05016FEBFA4}" type="slidenum">
              <a:rPr b="0" lang="zh-CN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20" name="组合 17"/>
          <p:cNvGrpSpPr/>
          <p:nvPr/>
        </p:nvGrpSpPr>
        <p:grpSpPr>
          <a:xfrm>
            <a:off x="-360" y="6570720"/>
            <a:ext cx="9144360" cy="287280"/>
            <a:chOff x="-360" y="6570720"/>
            <a:chExt cx="9144360" cy="287280"/>
          </a:xfrm>
        </p:grpSpPr>
        <p:grpSp>
          <p:nvGrpSpPr>
            <p:cNvPr id="221" name="组合 16"/>
            <p:cNvGrpSpPr/>
            <p:nvPr/>
          </p:nvGrpSpPr>
          <p:grpSpPr>
            <a:xfrm>
              <a:off x="-360" y="6570720"/>
              <a:ext cx="8757000" cy="286200"/>
              <a:chOff x="-360" y="6570720"/>
              <a:chExt cx="8757000" cy="286200"/>
            </a:xfrm>
          </p:grpSpPr>
          <p:grpSp>
            <p:nvGrpSpPr>
              <p:cNvPr id="222" name="任意多边形 9"/>
              <p:cNvGrpSpPr/>
              <p:nvPr/>
            </p:nvGrpSpPr>
            <p:grpSpPr>
              <a:xfrm>
                <a:off x="0" y="6710760"/>
                <a:ext cx="8756640" cy="146160"/>
                <a:chOff x="0" y="6710760"/>
                <a:chExt cx="8756640" cy="146160"/>
              </a:xfrm>
            </p:grpSpPr>
            <p:pic>
              <p:nvPicPr>
                <p:cNvPr id="223" name="任意多边形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1076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4" name=""/>
                <p:cNvSpPr/>
                <p:nvPr/>
              </p:nvSpPr>
              <p:spPr>
                <a:xfrm>
                  <a:off x="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225" name="任意多边形 10"/>
              <p:cNvGrpSpPr/>
              <p:nvPr/>
            </p:nvGrpSpPr>
            <p:grpSpPr>
              <a:xfrm>
                <a:off x="-360" y="6570720"/>
                <a:ext cx="8757000" cy="140040"/>
                <a:chOff x="-360" y="6570720"/>
                <a:chExt cx="8757000" cy="140040"/>
              </a:xfrm>
            </p:grpSpPr>
            <p:pic>
              <p:nvPicPr>
                <p:cNvPr id="226" name="任意多边形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"/>
                <p:cNvSpPr/>
                <p:nvPr/>
              </p:nvSpPr>
              <p:spPr>
                <a:xfrm rot="10800000">
                  <a:off x="0" y="67104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228" name="组合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229" name="燕尾形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30" name="燕尾形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31" name="燕尾形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grpSp>
        <p:nvGrpSpPr>
          <p:cNvPr id="232" name="组合 18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233" name="燕尾形 1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34" name="矩形 1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AC61-E495-4774-BE29-F5ADF9C7A8B4}" type="slidenum">
              <a:rPr b="0" lang="zh-CN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77" name="组合 17"/>
          <p:cNvGrpSpPr/>
          <p:nvPr/>
        </p:nvGrpSpPr>
        <p:grpSpPr>
          <a:xfrm>
            <a:off x="-360" y="6570720"/>
            <a:ext cx="9144360" cy="287280"/>
            <a:chOff x="-360" y="6570720"/>
            <a:chExt cx="9144360" cy="287280"/>
          </a:xfrm>
        </p:grpSpPr>
        <p:grpSp>
          <p:nvGrpSpPr>
            <p:cNvPr id="278" name="组合 16"/>
            <p:cNvGrpSpPr/>
            <p:nvPr/>
          </p:nvGrpSpPr>
          <p:grpSpPr>
            <a:xfrm>
              <a:off x="-360" y="6570720"/>
              <a:ext cx="8757000" cy="286200"/>
              <a:chOff x="-360" y="6570720"/>
              <a:chExt cx="8757000" cy="286200"/>
            </a:xfrm>
          </p:grpSpPr>
          <p:grpSp>
            <p:nvGrpSpPr>
              <p:cNvPr id="279" name="任意多边形 9"/>
              <p:cNvGrpSpPr/>
              <p:nvPr/>
            </p:nvGrpSpPr>
            <p:grpSpPr>
              <a:xfrm>
                <a:off x="0" y="6710760"/>
                <a:ext cx="8756640" cy="146160"/>
                <a:chOff x="0" y="6710760"/>
                <a:chExt cx="8756640" cy="146160"/>
              </a:xfrm>
            </p:grpSpPr>
            <p:pic>
              <p:nvPicPr>
                <p:cNvPr id="280" name="任意多边形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1076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1" name=""/>
                <p:cNvSpPr/>
                <p:nvPr/>
              </p:nvSpPr>
              <p:spPr>
                <a:xfrm>
                  <a:off x="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282" name="任意多边形 10"/>
              <p:cNvGrpSpPr/>
              <p:nvPr/>
            </p:nvGrpSpPr>
            <p:grpSpPr>
              <a:xfrm>
                <a:off x="-360" y="6570720"/>
                <a:ext cx="8757000" cy="140040"/>
                <a:chOff x="-360" y="6570720"/>
                <a:chExt cx="8757000" cy="140040"/>
              </a:xfrm>
            </p:grpSpPr>
            <p:pic>
              <p:nvPicPr>
                <p:cNvPr id="283" name="任意多边形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4" name=""/>
                <p:cNvSpPr/>
                <p:nvPr/>
              </p:nvSpPr>
              <p:spPr>
                <a:xfrm rot="10800000">
                  <a:off x="0" y="67104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285" name="组合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286" name="燕尾形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87" name="燕尾形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88" name="燕尾形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grpSp>
        <p:nvGrpSpPr>
          <p:cNvPr id="289" name="组合 18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290" name="燕尾形 1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91" name="矩形 1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6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7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8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881C-7994-4431-9299-F1EE7EEDA768}" type="slidenum">
              <a:rPr b="0" lang="zh-CN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34" name="组合 17"/>
          <p:cNvGrpSpPr/>
          <p:nvPr/>
        </p:nvGrpSpPr>
        <p:grpSpPr>
          <a:xfrm>
            <a:off x="-360" y="6570720"/>
            <a:ext cx="9144360" cy="287280"/>
            <a:chOff x="-360" y="6570720"/>
            <a:chExt cx="9144360" cy="287280"/>
          </a:xfrm>
        </p:grpSpPr>
        <p:grpSp>
          <p:nvGrpSpPr>
            <p:cNvPr id="335" name="组合 16"/>
            <p:cNvGrpSpPr/>
            <p:nvPr/>
          </p:nvGrpSpPr>
          <p:grpSpPr>
            <a:xfrm>
              <a:off x="-360" y="6570720"/>
              <a:ext cx="8757000" cy="286200"/>
              <a:chOff x="-360" y="6570720"/>
              <a:chExt cx="8757000" cy="286200"/>
            </a:xfrm>
          </p:grpSpPr>
          <p:grpSp>
            <p:nvGrpSpPr>
              <p:cNvPr id="336" name="任意多边形 9"/>
              <p:cNvGrpSpPr/>
              <p:nvPr/>
            </p:nvGrpSpPr>
            <p:grpSpPr>
              <a:xfrm>
                <a:off x="0" y="6710760"/>
                <a:ext cx="8756640" cy="146160"/>
                <a:chOff x="0" y="6710760"/>
                <a:chExt cx="8756640" cy="146160"/>
              </a:xfrm>
            </p:grpSpPr>
            <p:pic>
              <p:nvPicPr>
                <p:cNvPr id="337" name="任意多边形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1076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8" name=""/>
                <p:cNvSpPr/>
                <p:nvPr/>
              </p:nvSpPr>
              <p:spPr>
                <a:xfrm>
                  <a:off x="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339" name="任意多边形 10"/>
              <p:cNvGrpSpPr/>
              <p:nvPr/>
            </p:nvGrpSpPr>
            <p:grpSpPr>
              <a:xfrm>
                <a:off x="-360" y="6570720"/>
                <a:ext cx="8757000" cy="140040"/>
                <a:chOff x="-360" y="6570720"/>
                <a:chExt cx="8757000" cy="140040"/>
              </a:xfrm>
            </p:grpSpPr>
            <p:pic>
              <p:nvPicPr>
                <p:cNvPr id="340" name="任意多边形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" name=""/>
                <p:cNvSpPr/>
                <p:nvPr/>
              </p:nvSpPr>
              <p:spPr>
                <a:xfrm rot="10800000">
                  <a:off x="0" y="67104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342" name="组合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343" name="燕尾形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344" name="燕尾形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345" name="燕尾形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19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0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1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A2CA-DEAB-41D2-A7F2-53E0C23F977B}" type="slidenum">
              <a:rPr b="0" lang="zh-CN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88" name="组合 17"/>
          <p:cNvGrpSpPr/>
          <p:nvPr/>
        </p:nvGrpSpPr>
        <p:grpSpPr>
          <a:xfrm>
            <a:off x="-360" y="6570720"/>
            <a:ext cx="9144360" cy="287280"/>
            <a:chOff x="-360" y="6570720"/>
            <a:chExt cx="9144360" cy="287280"/>
          </a:xfrm>
        </p:grpSpPr>
        <p:grpSp>
          <p:nvGrpSpPr>
            <p:cNvPr id="389" name="组合 16"/>
            <p:cNvGrpSpPr/>
            <p:nvPr/>
          </p:nvGrpSpPr>
          <p:grpSpPr>
            <a:xfrm>
              <a:off x="-360" y="6570720"/>
              <a:ext cx="8757000" cy="286200"/>
              <a:chOff x="-360" y="6570720"/>
              <a:chExt cx="8757000" cy="286200"/>
            </a:xfrm>
          </p:grpSpPr>
          <p:grpSp>
            <p:nvGrpSpPr>
              <p:cNvPr id="390" name="任意多边形 9"/>
              <p:cNvGrpSpPr/>
              <p:nvPr/>
            </p:nvGrpSpPr>
            <p:grpSpPr>
              <a:xfrm>
                <a:off x="0" y="6710760"/>
                <a:ext cx="8756640" cy="146160"/>
                <a:chOff x="0" y="6710760"/>
                <a:chExt cx="8756640" cy="146160"/>
              </a:xfrm>
            </p:grpSpPr>
            <p:pic>
              <p:nvPicPr>
                <p:cNvPr id="391" name="任意多边形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1076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2" name=""/>
                <p:cNvSpPr/>
                <p:nvPr/>
              </p:nvSpPr>
              <p:spPr>
                <a:xfrm>
                  <a:off x="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393" name="任意多边形 10"/>
              <p:cNvGrpSpPr/>
              <p:nvPr/>
            </p:nvGrpSpPr>
            <p:grpSpPr>
              <a:xfrm>
                <a:off x="-360" y="6570720"/>
                <a:ext cx="8757000" cy="140040"/>
                <a:chOff x="-360" y="6570720"/>
                <a:chExt cx="8757000" cy="140040"/>
              </a:xfrm>
            </p:grpSpPr>
            <p:pic>
              <p:nvPicPr>
                <p:cNvPr id="394" name="任意多边形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5" name=""/>
                <p:cNvSpPr/>
                <p:nvPr/>
              </p:nvSpPr>
              <p:spPr>
                <a:xfrm rot="10800000">
                  <a:off x="0" y="67104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396" name="组合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397" name="燕尾形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398" name="燕尾形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399" name="燕尾形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grpSp>
        <p:nvGrpSpPr>
          <p:cNvPr id="400" name="组合 18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401" name="燕尾形 1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02" name="矩形 1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2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3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4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3CBB-C629-47B7-9F58-A60AFDD9D8EC}" type="slidenum">
              <a:rPr b="0" lang="zh-CN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b9"/>
            </a:gs>
            <a:gs pos="100000">
              <a:srgbClr val="c2c2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标题 1" descr=""/>
          <p:cNvPicPr/>
          <p:nvPr/>
        </p:nvPicPr>
        <p:blipFill>
          <a:blip r:embed="rId1"/>
          <a:stretch/>
        </p:blipFill>
        <p:spPr>
          <a:xfrm>
            <a:off x="176040" y="1133640"/>
            <a:ext cx="8759880" cy="27921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183528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8989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42472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Book Antiqua"/>
              </a:rPr>
              <a:t>默读他在德国留学的时候，“好几天以前。。。。。。有点沮丧”你读出了什么？把下面句子补充完整。</a:t>
            </a:r>
            <a:endParaRPr b="1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68000" y="3789000"/>
            <a:ext cx="8496360" cy="18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mbria"/>
              </a:rPr>
              <a:t>所以他说古今中外的母亲都是一样的</a:t>
            </a:r>
            <a:r>
              <a:rPr b="1" lang="en-US" sz="4000" spc="-1" strike="noStrike">
                <a:solidFill>
                  <a:srgbClr val="000000"/>
                </a:solidFill>
                <a:latin typeface="Cambria"/>
              </a:rPr>
              <a:t>­­­——————————————</a:t>
            </a:r>
            <a:r>
              <a:rPr b="1" lang="zh-CN" sz="4000" spc="-1" strike="noStrike">
                <a:solidFill>
                  <a:srgbClr val="000000"/>
                </a:solidFill>
                <a:latin typeface="Cambria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187280" y="2852640"/>
            <a:ext cx="734724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　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“怅望灰天”，惆怅地望着天空。由于作者长期在外求学，留在母亲身边的时候不多，必然对母亲的音容笑貌记忆不深，对母亲的怀念更多的是一个模糊的影子，因此尽管作者想努力回想母亲的容颜，但无奈模糊不清，只能尽力地怀念，不断地回想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1476360" y="76500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b"/>
                </a:solidFill>
                <a:latin typeface="黑体"/>
                <a:ea typeface="黑体"/>
              </a:rPr>
              <a:t>２、我怅望灰天，在泪光里，幻出母亲的面影。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09" name="图片 3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1295640" cy="144000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2"/>
          <p:cNvSpPr/>
          <p:nvPr/>
        </p:nvSpPr>
        <p:spPr>
          <a:xfrm>
            <a:off x="1835280" y="692280"/>
            <a:ext cx="6565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511" name="组合 5"/>
          <p:cNvGrpSpPr/>
          <p:nvPr/>
        </p:nvGrpSpPr>
        <p:grpSpPr>
          <a:xfrm>
            <a:off x="179280" y="5965920"/>
            <a:ext cx="1152720" cy="776160"/>
            <a:chOff x="179280" y="5965920"/>
            <a:chExt cx="1152720" cy="776160"/>
          </a:xfrm>
        </p:grpSpPr>
        <p:grpSp>
          <p:nvGrpSpPr>
            <p:cNvPr id="512" name="右箭头 6"/>
            <p:cNvGrpSpPr/>
            <p:nvPr/>
          </p:nvGrpSpPr>
          <p:grpSpPr>
            <a:xfrm>
              <a:off x="336240" y="5965920"/>
              <a:ext cx="995760" cy="776160"/>
              <a:chOff x="336240" y="5965920"/>
              <a:chExt cx="995760" cy="776160"/>
            </a:xfrm>
          </p:grpSpPr>
          <p:pic>
            <p:nvPicPr>
              <p:cNvPr id="513" name="右箭头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36240" y="5965920"/>
                <a:ext cx="995760" cy="77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4" name=""/>
              <p:cNvSpPr/>
              <p:nvPr/>
            </p:nvSpPr>
            <p:spPr>
              <a:xfrm>
                <a:off x="387720" y="6161040"/>
                <a:ext cx="709200" cy="34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  <p:pic>
          <p:nvPicPr>
            <p:cNvPr id="515" name="矩形 7" descr=""/>
            <p:cNvPicPr/>
            <p:nvPr/>
          </p:nvPicPr>
          <p:blipFill>
            <a:blip r:embed="rId3"/>
            <a:stretch/>
          </p:blipFill>
          <p:spPr>
            <a:xfrm>
              <a:off x="179280" y="6056640"/>
              <a:ext cx="1100520" cy="653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4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Book Antiqua"/>
              </a:rPr>
              <a:t>世界上无论什么名誉，什么地位，什么幸福，什么尊荣，都比不上呆在母亲身边。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7" name=""/>
          <p:cNvSpPr/>
          <p:nvPr/>
        </p:nvSpPr>
        <p:spPr>
          <a:xfrm>
            <a:off x="1527120" y="4010040"/>
            <a:ext cx="470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179280" y="1413000"/>
            <a:ext cx="8353440" cy="22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树欲静而风不止 子欲养而亲不待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931160" cy="32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Book Antiqua"/>
              </a:rPr>
              <a:t>找出体现作者对祖国母亲的浓厚感情的句子。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1187280" y="3252960"/>
            <a:ext cx="73533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1547640" y="155736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mbria"/>
                <a:ea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Cambria"/>
                <a:ea typeface="黑体"/>
              </a:rPr>
              <a:t>、我的祖国母亲，我是第一次离开  她。不知道为什么，我这个母亲也频来入梦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22" name="图片 5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1295640" cy="144000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2"/>
          <p:cNvSpPr/>
          <p:nvPr/>
        </p:nvSpPr>
        <p:spPr>
          <a:xfrm>
            <a:off x="1835280" y="692280"/>
            <a:ext cx="6565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524" name="组合 10"/>
          <p:cNvGrpSpPr/>
          <p:nvPr/>
        </p:nvGrpSpPr>
        <p:grpSpPr>
          <a:xfrm>
            <a:off x="179280" y="5965920"/>
            <a:ext cx="1152720" cy="776160"/>
            <a:chOff x="179280" y="5965920"/>
            <a:chExt cx="1152720" cy="776160"/>
          </a:xfrm>
        </p:grpSpPr>
        <p:grpSp>
          <p:nvGrpSpPr>
            <p:cNvPr id="525" name="右箭头 11"/>
            <p:cNvGrpSpPr/>
            <p:nvPr/>
          </p:nvGrpSpPr>
          <p:grpSpPr>
            <a:xfrm>
              <a:off x="336240" y="5965920"/>
              <a:ext cx="995760" cy="776160"/>
              <a:chOff x="336240" y="5965920"/>
              <a:chExt cx="995760" cy="776160"/>
            </a:xfrm>
          </p:grpSpPr>
          <p:pic>
            <p:nvPicPr>
              <p:cNvPr id="526" name="右箭头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36240" y="5965920"/>
                <a:ext cx="995760" cy="77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7" name=""/>
              <p:cNvSpPr/>
              <p:nvPr/>
            </p:nvSpPr>
            <p:spPr>
              <a:xfrm>
                <a:off x="387720" y="6161040"/>
                <a:ext cx="709200" cy="34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  <p:pic>
          <p:nvPicPr>
            <p:cNvPr id="528" name="矩形 12" descr=""/>
            <p:cNvPicPr/>
            <p:nvPr/>
          </p:nvPicPr>
          <p:blipFill>
            <a:blip r:embed="rId3"/>
            <a:stretch/>
          </p:blipFill>
          <p:spPr>
            <a:xfrm>
              <a:off x="179280" y="6056640"/>
              <a:ext cx="1100520" cy="653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4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5,-12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7,-121,-2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5,-12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7,-121,-2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8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3"/>
          <p:cNvSpPr/>
          <p:nvPr/>
        </p:nvSpPr>
        <p:spPr>
          <a:xfrm>
            <a:off x="1187280" y="3414600"/>
            <a:ext cx="692172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0" name="Text Box 4"/>
          <p:cNvSpPr/>
          <p:nvPr/>
        </p:nvSpPr>
        <p:spPr>
          <a:xfrm>
            <a:off x="1550880" y="1628640"/>
            <a:ext cx="6477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b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fb"/>
                </a:solidFill>
                <a:latin typeface="黑体"/>
                <a:ea typeface="黑体"/>
              </a:rPr>
              <a:t>、然而这凄凉并不同普通的凄凉一样，是甜蜜的，浓浓的，有说不出的味道，浓浓地糊在心头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1" name="Rectangle 2"/>
          <p:cNvSpPr/>
          <p:nvPr/>
        </p:nvSpPr>
        <p:spPr>
          <a:xfrm>
            <a:off x="1835280" y="692280"/>
            <a:ext cx="6565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32" name="图片 5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1295640" cy="1440000"/>
          </a:xfrm>
          <a:prstGeom prst="rect">
            <a:avLst/>
          </a:prstGeom>
          <a:ln w="0">
            <a:noFill/>
          </a:ln>
        </p:spPr>
      </p:pic>
      <p:grpSp>
        <p:nvGrpSpPr>
          <p:cNvPr id="533" name="组合 9"/>
          <p:cNvGrpSpPr/>
          <p:nvPr/>
        </p:nvGrpSpPr>
        <p:grpSpPr>
          <a:xfrm>
            <a:off x="179280" y="5965920"/>
            <a:ext cx="1152720" cy="776160"/>
            <a:chOff x="179280" y="5965920"/>
            <a:chExt cx="1152720" cy="776160"/>
          </a:xfrm>
        </p:grpSpPr>
        <p:grpSp>
          <p:nvGrpSpPr>
            <p:cNvPr id="534" name="右箭头 10"/>
            <p:cNvGrpSpPr/>
            <p:nvPr/>
          </p:nvGrpSpPr>
          <p:grpSpPr>
            <a:xfrm>
              <a:off x="336240" y="5965920"/>
              <a:ext cx="995760" cy="776160"/>
              <a:chOff x="336240" y="5965920"/>
              <a:chExt cx="995760" cy="776160"/>
            </a:xfrm>
          </p:grpSpPr>
          <p:pic>
            <p:nvPicPr>
              <p:cNvPr id="535" name="右箭头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6240" y="5965920"/>
                <a:ext cx="995760" cy="77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6" name=""/>
              <p:cNvSpPr/>
              <p:nvPr/>
            </p:nvSpPr>
            <p:spPr>
              <a:xfrm>
                <a:off x="387720" y="6161040"/>
                <a:ext cx="709200" cy="34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  <p:pic>
          <p:nvPicPr>
            <p:cNvPr id="537" name="矩形 11" descr=""/>
            <p:cNvPicPr/>
            <p:nvPr/>
          </p:nvPicPr>
          <p:blipFill>
            <a:blip r:embed="rId3"/>
            <a:stretch/>
          </p:blipFill>
          <p:spPr>
            <a:xfrm>
              <a:off x="179280" y="6056640"/>
              <a:ext cx="1100520" cy="653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4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矩形 1"/>
          <p:cNvSpPr/>
          <p:nvPr/>
        </p:nvSpPr>
        <p:spPr>
          <a:xfrm>
            <a:off x="2697840" y="3068640"/>
            <a:ext cx="444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b"/>
                </a:solidFill>
                <a:latin typeface="Cambria"/>
              </a:rPr>
              <a:t>2</a:t>
            </a:r>
            <a:r>
              <a:rPr b="1" lang="en-US" sz="2800" spc="-1" strike="noStrike">
                <a:solidFill>
                  <a:srgbClr val="0000fb"/>
                </a:solidFill>
                <a:latin typeface="Cambria"/>
              </a:rPr>
              <a:t>、</a:t>
            </a:r>
            <a:r>
              <a:rPr b="1" lang="zh-CN" sz="2800" spc="-1" strike="noStrike">
                <a:solidFill>
                  <a:srgbClr val="0000fb"/>
                </a:solidFill>
                <a:latin typeface="Cambria"/>
              </a:rPr>
              <a:t>文中引用作者的日记来表达对两个母亲的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b"/>
                </a:solidFill>
                <a:latin typeface="Cambria"/>
              </a:rPr>
              <a:t>怀念之情的写法叫做</a:t>
            </a:r>
            <a:r>
              <a:rPr b="1" lang="zh-CN" sz="2800" spc="-1" strike="noStrike">
                <a:solidFill>
                  <a:srgbClr val="f33009"/>
                </a:solidFill>
                <a:latin typeface="Cambria"/>
              </a:rPr>
              <a:t>引用说明法</a:t>
            </a:r>
            <a:r>
              <a:rPr b="1" lang="zh-CN" sz="2800" spc="-1" strike="noStrike">
                <a:solidFill>
                  <a:srgbClr val="0000fb"/>
                </a:solidFill>
                <a:latin typeface="Cambri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9" name="矩形 2"/>
          <p:cNvSpPr/>
          <p:nvPr/>
        </p:nvSpPr>
        <p:spPr>
          <a:xfrm>
            <a:off x="1386000" y="4110120"/>
            <a:ext cx="72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b"/>
                </a:solidFill>
                <a:latin typeface="Cambria"/>
              </a:rPr>
              <a:t>3</a:t>
            </a:r>
            <a:r>
              <a:rPr b="1" lang="en-US" sz="2800" spc="-1" strike="noStrike">
                <a:solidFill>
                  <a:srgbClr val="0000fb"/>
                </a:solidFill>
                <a:latin typeface="Cambria"/>
              </a:rPr>
              <a:t>、</a:t>
            </a:r>
            <a:r>
              <a:rPr b="1" lang="zh-CN" sz="2800" spc="-1" strike="noStrike">
                <a:solidFill>
                  <a:srgbClr val="0000fb"/>
                </a:solidFill>
                <a:latin typeface="Cambria"/>
              </a:rPr>
              <a:t>文章开头与结尾对母亲的怀念却是永远不变的，从而</a:t>
            </a:r>
            <a:r>
              <a:rPr b="1" lang="zh-CN" sz="2800" spc="-1" strike="noStrike">
                <a:solidFill>
                  <a:srgbClr val="ff0000"/>
                </a:solidFill>
                <a:latin typeface="Cambria"/>
              </a:rPr>
              <a:t>前呼后应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0" name="矩形 3"/>
          <p:cNvSpPr/>
          <p:nvPr/>
        </p:nvSpPr>
        <p:spPr>
          <a:xfrm>
            <a:off x="1386000" y="1865160"/>
            <a:ext cx="72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b"/>
                </a:solidFill>
                <a:latin typeface="Cambria"/>
              </a:rPr>
              <a:t>1</a:t>
            </a:r>
            <a:r>
              <a:rPr b="1" lang="en-US" sz="2800" spc="-1" strike="noStrike">
                <a:solidFill>
                  <a:srgbClr val="0000fb"/>
                </a:solidFill>
                <a:latin typeface="Cambria"/>
              </a:rPr>
              <a:t>、</a:t>
            </a:r>
            <a:r>
              <a:rPr b="1" lang="zh-CN" sz="2800" spc="-1" strike="noStrike">
                <a:solidFill>
                  <a:srgbClr val="0000fb"/>
                </a:solidFill>
                <a:latin typeface="Cambria"/>
              </a:rPr>
              <a:t>这篇课文结构分明，层次清晰，</a:t>
            </a:r>
            <a:r>
              <a:rPr b="1" lang="zh-CN" sz="2800" spc="-1" strike="noStrike">
                <a:solidFill>
                  <a:srgbClr val="ff0000"/>
                </a:solidFill>
                <a:latin typeface="Cambria"/>
              </a:rPr>
              <a:t>开门见山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41" name="图片 4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1295640" cy="144000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2"/>
          <p:cNvSpPr/>
          <p:nvPr/>
        </p:nvSpPr>
        <p:spPr>
          <a:xfrm>
            <a:off x="1835280" y="692280"/>
            <a:ext cx="6565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Book Antiqua"/>
                <a:ea typeface="华文中宋"/>
              </a:rPr>
              <a:t>学习写作方法，灵活应用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543" name="组合 6"/>
          <p:cNvGrpSpPr/>
          <p:nvPr/>
        </p:nvGrpSpPr>
        <p:grpSpPr>
          <a:xfrm>
            <a:off x="179280" y="5965920"/>
            <a:ext cx="1152720" cy="776160"/>
            <a:chOff x="179280" y="5965920"/>
            <a:chExt cx="1152720" cy="776160"/>
          </a:xfrm>
        </p:grpSpPr>
        <p:grpSp>
          <p:nvGrpSpPr>
            <p:cNvPr id="544" name="右箭头 7"/>
            <p:cNvGrpSpPr/>
            <p:nvPr/>
          </p:nvGrpSpPr>
          <p:grpSpPr>
            <a:xfrm>
              <a:off x="336240" y="5965920"/>
              <a:ext cx="995760" cy="776160"/>
              <a:chOff x="336240" y="5965920"/>
              <a:chExt cx="995760" cy="776160"/>
            </a:xfrm>
          </p:grpSpPr>
          <p:pic>
            <p:nvPicPr>
              <p:cNvPr id="545" name="右箭头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36240" y="5965920"/>
                <a:ext cx="995760" cy="77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6" name=""/>
              <p:cNvSpPr/>
              <p:nvPr/>
            </p:nvSpPr>
            <p:spPr>
              <a:xfrm>
                <a:off x="387720" y="6161040"/>
                <a:ext cx="709200" cy="34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  <p:pic>
          <p:nvPicPr>
            <p:cNvPr id="547" name="矩形 8" descr=""/>
            <p:cNvPicPr/>
            <p:nvPr/>
          </p:nvPicPr>
          <p:blipFill>
            <a:blip r:embed="rId3"/>
            <a:stretch/>
          </p:blipFill>
          <p:spPr>
            <a:xfrm>
              <a:off x="179280" y="6056640"/>
              <a:ext cx="1100520" cy="653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857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206208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898989"/>
              </a:solidFill>
              <a:latin typeface="Cambria"/>
            </a:endParaRPr>
          </a:p>
        </p:txBody>
      </p:sp>
      <p:pic>
        <p:nvPicPr>
          <p:cNvPr id="550" name="Picture 7" descr="1afa62cce4e634d2cb2292753dc69ae9"/>
          <p:cNvPicPr/>
          <p:nvPr/>
        </p:nvPicPr>
        <p:blipFill>
          <a:blip r:embed="rId1"/>
          <a:stretch/>
        </p:blipFill>
        <p:spPr>
          <a:xfrm>
            <a:off x="468360" y="260280"/>
            <a:ext cx="8424720" cy="5616720"/>
          </a:xfrm>
          <a:prstGeom prst="rect">
            <a:avLst/>
          </a:prstGeom>
          <a:ln w="0">
            <a:noFill/>
          </a:ln>
        </p:spPr>
      </p:pic>
      <p:sp>
        <p:nvSpPr>
          <p:cNvPr id="551" name="TextBox 8"/>
          <p:cNvSpPr/>
          <p:nvPr/>
        </p:nvSpPr>
        <p:spPr>
          <a:xfrm>
            <a:off x="1835280" y="585000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ambria"/>
                <a:ea typeface="隶书"/>
              </a:rPr>
              <a:t>季羡林与胡锦涛总书记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5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Rectangle 4" descr=""/>
          <p:cNvPicPr/>
          <p:nvPr/>
        </p:nvPicPr>
        <p:blipFill>
          <a:blip r:embed="rId1"/>
          <a:stretch/>
        </p:blipFill>
        <p:spPr>
          <a:xfrm>
            <a:off x="1981080" y="401760"/>
            <a:ext cx="6029280" cy="131112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 txBox="1"/>
          <p:nvPr/>
        </p:nvSpPr>
        <p:spPr>
          <a:xfrm>
            <a:off x="1115640" y="1557360"/>
            <a:ext cx="742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            </a:t>
            </a:r>
            <a:r>
              <a:rPr b="1" lang="zh-CN" sz="2400" spc="-1" strike="noStrike">
                <a:solidFill>
                  <a:srgbClr val="0000ff"/>
                </a:solidFill>
                <a:latin typeface="华文仿宋"/>
                <a:ea typeface="华文仿宋"/>
              </a:rPr>
              <a:t>季羡林，北京大学教授、中科院院士、中国语言学家、文学翻译家，梵文、巴利文专家。山东清平（今临清）县人。１９３０年考入北京清华大学西语系。１９３５年考取清华大学交换研究生，赴德国留学，在哥廷根大学学习梵文、巴利文、吐火罗文等古代语言。１９４１年获哲学博士学位。１９４６年回国，历任北京大学教授兼东方语言文学系教授、系主任。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4" name="TextBox 3"/>
          <p:cNvSpPr/>
          <p:nvPr/>
        </p:nvSpPr>
        <p:spPr>
          <a:xfrm>
            <a:off x="2139840" y="5877000"/>
            <a:ext cx="430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隶书"/>
              </a:rPr>
              <a:t>学术交流演讲时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55" name="Picture 8" descr="图片1"/>
          <p:cNvPicPr/>
          <p:nvPr/>
        </p:nvPicPr>
        <p:blipFill>
          <a:blip r:embed="rId2"/>
          <a:stretch/>
        </p:blipFill>
        <p:spPr>
          <a:xfrm>
            <a:off x="388800" y="260280"/>
            <a:ext cx="84474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7" dur="10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32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b9"/>
            </a:gs>
            <a:gs pos="100000">
              <a:srgbClr val="c2c2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179280" y="1413000"/>
            <a:ext cx="8353440" cy="22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树欲静而风不止 子欲养而亲不待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5" descr="04"/>
          <p:cNvPicPr/>
          <p:nvPr/>
        </p:nvPicPr>
        <p:blipFill>
          <a:blip r:embed="rId1"/>
          <a:stretch/>
        </p:blipFill>
        <p:spPr>
          <a:xfrm>
            <a:off x="2627280" y="1700280"/>
            <a:ext cx="9252000" cy="6858000"/>
          </a:xfrm>
          <a:prstGeom prst="rect">
            <a:avLst/>
          </a:prstGeom>
          <a:ln w="0">
            <a:noFill/>
          </a:ln>
        </p:spPr>
      </p:pic>
      <p:pic>
        <p:nvPicPr>
          <p:cNvPr id="557" name="张明敏-我的中国心.wma" descr=""/>
          <p:cNvPicPr/>
          <p:nvPr/>
        </p:nvPicPr>
        <p:blipFill>
          <a:blip r:embed="rId2"/>
          <a:stretch/>
        </p:blipFill>
        <p:spPr>
          <a:xfrm>
            <a:off x="685800" y="5410080"/>
            <a:ext cx="609480" cy="533520"/>
          </a:xfrm>
          <a:prstGeom prst="rect">
            <a:avLst/>
          </a:prstGeom>
          <a:ln w="0">
            <a:noFill/>
          </a:ln>
        </p:spPr>
      </p:pic>
      <p:sp>
        <p:nvSpPr>
          <p:cNvPr id="558" name="矩形 5"/>
          <p:cNvSpPr/>
          <p:nvPr/>
        </p:nvSpPr>
        <p:spPr>
          <a:xfrm>
            <a:off x="2496960" y="11493360"/>
            <a:ext cx="6073920" cy="258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mbria"/>
              </a:rPr>
              <a:t>我的中国心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mbria"/>
              </a:rPr>
              <a:t>河山只在我梦里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mbria"/>
              </a:rPr>
              <a:t>祖国已多年未亲近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mbria"/>
              </a:rPr>
              <a:t>可是不管怎样也改变不了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mbria"/>
              </a:rPr>
              <a:t>我的中国心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mbria"/>
              </a:rPr>
              <a:t>洋装虽然穿在身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mbria"/>
              </a:rPr>
              <a:t>我心依然是中国心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mbria"/>
              </a:rPr>
              <a:t>我的祖先早已把我的一切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mbria"/>
              </a:rPr>
              <a:t>烙上中国印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mbria"/>
              </a:rPr>
              <a:t>长江 长城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mbria"/>
              </a:rPr>
              <a:t>黄山 黄河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mbria"/>
              </a:rPr>
              <a:t>在我心中重千斤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mbria"/>
              </a:rPr>
              <a:t>无论何时 无论何地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mbria"/>
              </a:rPr>
              <a:t>心中一样亲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mbria"/>
              </a:rPr>
              <a:t>流在心里的血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mbria"/>
              </a:rPr>
              <a:t>澎湃着中华的声音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mbria"/>
              </a:rPr>
              <a:t>就算生在他乡也改变不了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mbria"/>
              </a:rPr>
              <a:t>我的中国心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mbria"/>
              </a:rPr>
              <a:t>长江 长城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mbria"/>
              </a:rPr>
              <a:t>黄山 黄河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mbria"/>
              </a:rPr>
              <a:t>在我心中重千斤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mbria"/>
              </a:rPr>
              <a:t>无论何时 无论何地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mbria"/>
              </a:rPr>
              <a:t>心中一样亲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mbria"/>
              </a:rPr>
              <a:t>流在心里的血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mbria"/>
              </a:rPr>
              <a:t>澎湃着中华的声音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mbria"/>
              </a:rPr>
              <a:t>就算生在他乡也改变不了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mbria"/>
              </a:rPr>
              <a:t>我的中国心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59" name="矩形 2" descr=""/>
          <p:cNvPicPr/>
          <p:nvPr/>
        </p:nvPicPr>
        <p:blipFill>
          <a:blip r:embed="rId3"/>
          <a:stretch/>
        </p:blipFill>
        <p:spPr>
          <a:xfrm>
            <a:off x="146160" y="317520"/>
            <a:ext cx="168264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path" presetID="42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-0.05018 -1.90511 L -0.07379 -4.64562 E">
                                      <p:cBhvr>
                                        <p:cTn id="443" dur="160000" fill="hold"/>
                                        <p:tgtEl>
                                          <p:spTgt spid="5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557"/>
                    </p:tgtEl>
                  </p:cond>
                </p:stCondLst>
                <p:childTnLst>
                  <p:par>
                    <p:cTn id="445" nodeType="clickEffect" fill="hold">
                      <p:stCondLst>
                        <p:cond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8" dur="1" fill="hold"/>
                                        <p:tgtEl>
                                          <p:spTgt spid="5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9" descr="27968"/>
          <p:cNvPicPr/>
          <p:nvPr/>
        </p:nvPicPr>
        <p:blipFill>
          <a:blip r:embed="rId1"/>
          <a:stretch/>
        </p:blipFill>
        <p:spPr>
          <a:xfrm>
            <a:off x="10800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2410200" y="549360"/>
            <a:ext cx="1887120" cy="60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mbria"/>
              </a:rPr>
              <a:t>对母亲最好的爱，是珍惜跟她在一起的点点滴滴；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mbria"/>
              </a:rPr>
              <a:t>对祖国最好的爱，是做个对祖国有用的人</a:t>
            </a:r>
            <a:r>
              <a:rPr b="0" lang="zh-CN" sz="1800" spc="-1" strike="noStrike">
                <a:solidFill>
                  <a:srgbClr val="000000"/>
                </a:solidFill>
                <a:latin typeface="Cambria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Box 2"/>
          <p:cNvSpPr/>
          <p:nvPr/>
        </p:nvSpPr>
        <p:spPr>
          <a:xfrm>
            <a:off x="749160" y="1955880"/>
            <a:ext cx="10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b"/>
                </a:solidFill>
                <a:latin typeface="楷体_GB2312"/>
                <a:ea typeface="楷体_GB2312"/>
              </a:rPr>
              <a:t>挚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5" name="TextBox 3"/>
          <p:cNvSpPr/>
          <p:nvPr/>
        </p:nvSpPr>
        <p:spPr>
          <a:xfrm>
            <a:off x="2795760" y="1955880"/>
            <a:ext cx="112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b"/>
                </a:solidFill>
                <a:latin typeface="Cambria"/>
              </a:rPr>
              <a:t>寝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6" name="TextBox 4"/>
          <p:cNvSpPr/>
          <p:nvPr/>
        </p:nvSpPr>
        <p:spPr>
          <a:xfrm>
            <a:off x="5172120" y="2000160"/>
            <a:ext cx="127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b"/>
                </a:solidFill>
                <a:latin typeface="Cambria"/>
              </a:rPr>
              <a:t>频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7" name="TextBox 5"/>
          <p:cNvSpPr/>
          <p:nvPr/>
        </p:nvSpPr>
        <p:spPr>
          <a:xfrm>
            <a:off x="655560" y="423396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b"/>
                </a:solidFill>
                <a:latin typeface="Cambria"/>
              </a:rPr>
              <a:t>朦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8" name="TextBox 6"/>
          <p:cNvSpPr/>
          <p:nvPr/>
        </p:nvSpPr>
        <p:spPr>
          <a:xfrm>
            <a:off x="2422440" y="4232160"/>
            <a:ext cx="8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b"/>
                </a:solidFill>
                <a:latin typeface="Cambria"/>
              </a:rPr>
              <a:t>胧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9" name="TextBox 9"/>
          <p:cNvSpPr/>
          <p:nvPr/>
        </p:nvSpPr>
        <p:spPr>
          <a:xfrm>
            <a:off x="7372440" y="1986120"/>
            <a:ext cx="101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b"/>
                </a:solidFill>
                <a:latin typeface="Cambria"/>
              </a:rPr>
              <a:t>凄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0" name="TextBox 10"/>
          <p:cNvSpPr/>
          <p:nvPr/>
        </p:nvSpPr>
        <p:spPr>
          <a:xfrm>
            <a:off x="5148360" y="4305240"/>
            <a:ext cx="93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b"/>
                </a:solidFill>
                <a:latin typeface="Cambria"/>
              </a:rPr>
              <a:t>斑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1" name="TextBox 11"/>
          <p:cNvSpPr/>
          <p:nvPr/>
        </p:nvSpPr>
        <p:spPr>
          <a:xfrm>
            <a:off x="7056360" y="4305240"/>
            <a:ext cx="100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b"/>
                </a:solidFill>
                <a:latin typeface="Cambria"/>
              </a:rPr>
              <a:t>篇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2" name="TextBox 12"/>
          <p:cNvSpPr/>
          <p:nvPr/>
        </p:nvSpPr>
        <p:spPr>
          <a:xfrm>
            <a:off x="324000" y="1989000"/>
            <a:ext cx="73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真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3" name="TextBox 13"/>
          <p:cNvSpPr/>
          <p:nvPr/>
        </p:nvSpPr>
        <p:spPr>
          <a:xfrm>
            <a:off x="3303720" y="1989000"/>
            <a:ext cx="17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安席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1860480" y="254160"/>
            <a:ext cx="2743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Book Antiqua"/>
                <a:ea typeface="华文中宋"/>
              </a:rPr>
              <a:t>字词正音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5" name="TextBox 14"/>
          <p:cNvSpPr/>
          <p:nvPr/>
        </p:nvSpPr>
        <p:spPr>
          <a:xfrm>
            <a:off x="5684760" y="1989000"/>
            <a:ext cx="183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来入梦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6" name="TextBox 15"/>
          <p:cNvSpPr/>
          <p:nvPr/>
        </p:nvSpPr>
        <p:spPr>
          <a:xfrm>
            <a:off x="7888320" y="2017800"/>
            <a:ext cx="93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凉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7" name="直接连接符 17"/>
          <p:cNvSpPr/>
          <p:nvPr/>
        </p:nvSpPr>
        <p:spPr>
          <a:xfrm>
            <a:off x="665280" y="4869000"/>
            <a:ext cx="2450880" cy="0"/>
          </a:xfrm>
          <a:prstGeom prst="line">
            <a:avLst/>
          </a:prstGeom>
          <a:ln w="38160">
            <a:solidFill>
              <a:srgbClr val="c77c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8" name="TextBox 18"/>
          <p:cNvSpPr/>
          <p:nvPr/>
        </p:nvSpPr>
        <p:spPr>
          <a:xfrm>
            <a:off x="3754440" y="4340160"/>
            <a:ext cx="160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可见一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9" name="TextBox 21"/>
          <p:cNvSpPr/>
          <p:nvPr/>
        </p:nvSpPr>
        <p:spPr>
          <a:xfrm>
            <a:off x="7694640" y="4340160"/>
            <a:ext cx="73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目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0" name="TextBox 22"/>
          <p:cNvSpPr/>
          <p:nvPr/>
        </p:nvSpPr>
        <p:spPr>
          <a:xfrm>
            <a:off x="617400" y="1387440"/>
            <a:ext cx="110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b"/>
                </a:solidFill>
                <a:latin typeface="宋体"/>
              </a:rPr>
              <a:t>zhì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1" name="TextBox 23"/>
          <p:cNvSpPr/>
          <p:nvPr/>
        </p:nvSpPr>
        <p:spPr>
          <a:xfrm>
            <a:off x="2709720" y="1371600"/>
            <a:ext cx="10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b"/>
                </a:solidFill>
                <a:latin typeface="宋体"/>
              </a:rPr>
              <a:t>qǐn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2" name="TextBox 24"/>
          <p:cNvSpPr/>
          <p:nvPr/>
        </p:nvSpPr>
        <p:spPr>
          <a:xfrm>
            <a:off x="5076720" y="1413000"/>
            <a:ext cx="143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b"/>
                </a:solidFill>
                <a:latin typeface="宋体"/>
              </a:rPr>
              <a:t>pín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3" name="TextBox 25"/>
          <p:cNvSpPr/>
          <p:nvPr/>
        </p:nvSpPr>
        <p:spPr>
          <a:xfrm>
            <a:off x="7380360" y="1413000"/>
            <a:ext cx="72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b"/>
                </a:solidFill>
                <a:latin typeface="宋体"/>
              </a:rPr>
              <a:t>qī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4" name="TextBox 26"/>
          <p:cNvSpPr/>
          <p:nvPr/>
        </p:nvSpPr>
        <p:spPr>
          <a:xfrm>
            <a:off x="446040" y="3619440"/>
            <a:ext cx="144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b"/>
                </a:solidFill>
                <a:latin typeface="宋体"/>
              </a:rPr>
              <a:t>méng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5" name="TextBox 27"/>
          <p:cNvSpPr/>
          <p:nvPr/>
        </p:nvSpPr>
        <p:spPr>
          <a:xfrm>
            <a:off x="2195640" y="3619440"/>
            <a:ext cx="13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b"/>
                </a:solidFill>
                <a:latin typeface="宋体"/>
              </a:rPr>
              <a:t>lóng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6" name="TextBox 28"/>
          <p:cNvSpPr/>
          <p:nvPr/>
        </p:nvSpPr>
        <p:spPr>
          <a:xfrm>
            <a:off x="5003640" y="3656160"/>
            <a:ext cx="10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b"/>
                </a:solidFill>
                <a:latin typeface="宋体"/>
              </a:rPr>
              <a:t>bān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7" name="TextBox 29"/>
          <p:cNvSpPr/>
          <p:nvPr/>
        </p:nvSpPr>
        <p:spPr>
          <a:xfrm>
            <a:off x="6875640" y="3665520"/>
            <a:ext cx="131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b"/>
                </a:solidFill>
                <a:latin typeface="宋体"/>
              </a:rPr>
              <a:t>piān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78" name="Picture 5" descr="62"/>
          <p:cNvPicPr/>
          <p:nvPr/>
        </p:nvPicPr>
        <p:blipFill>
          <a:blip r:embed="rId1"/>
          <a:stretch/>
        </p:blipFill>
        <p:spPr>
          <a:xfrm>
            <a:off x="7199280" y="5383080"/>
            <a:ext cx="1695600" cy="13287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4" descr="021u"/>
          <p:cNvPicPr/>
          <p:nvPr/>
        </p:nvPicPr>
        <p:blipFill>
          <a:blip r:embed="rId2"/>
          <a:stretch/>
        </p:blipFill>
        <p:spPr>
          <a:xfrm>
            <a:off x="379440" y="139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3"/>
          <p:cNvSpPr/>
          <p:nvPr/>
        </p:nvSpPr>
        <p:spPr>
          <a:xfrm>
            <a:off x="685800" y="1905120"/>
            <a:ext cx="3352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mbria"/>
                <a:ea typeface="华文中宋"/>
              </a:rPr>
              <a:t>真挚：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mbria"/>
                <a:ea typeface="华文中宋"/>
              </a:rPr>
              <a:t>弃养：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mbria"/>
                <a:ea typeface="华文中宋"/>
              </a:rPr>
              <a:t>寝不安席：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mbria"/>
                <a:ea typeface="华文中宋"/>
              </a:rPr>
              <a:t>终天之恨：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mbria"/>
                <a:ea typeface="华文中宋"/>
              </a:rPr>
              <a:t>薄暗：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mbria"/>
                <a:ea typeface="华文中宋"/>
              </a:rPr>
              <a:t>沮丧：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mbria"/>
                <a:ea typeface="华文中宋"/>
              </a:rPr>
              <a:t>思潮起伏：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mbria"/>
                <a:ea typeface="华文中宋"/>
              </a:rPr>
              <a:t>心潮腾涌：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1" name="Rectangle 2"/>
          <p:cNvSpPr/>
          <p:nvPr/>
        </p:nvSpPr>
        <p:spPr>
          <a:xfrm>
            <a:off x="1522440" y="351000"/>
            <a:ext cx="324000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Book Antiqua"/>
                <a:ea typeface="华文中宋"/>
              </a:rPr>
              <a:t>词语积累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2" name="Text Box 10"/>
          <p:cNvSpPr/>
          <p:nvPr/>
        </p:nvSpPr>
        <p:spPr>
          <a:xfrm>
            <a:off x="3200400" y="43434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mbria"/>
                <a:ea typeface="黑体"/>
              </a:rPr>
              <a:t>灰心失望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3" name="Text Box 11"/>
          <p:cNvSpPr/>
          <p:nvPr/>
        </p:nvSpPr>
        <p:spPr>
          <a:xfrm>
            <a:off x="3200400" y="48006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mbria"/>
                <a:ea typeface="黑体"/>
              </a:rPr>
              <a:t>接二连三的思想活动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4" name="Text Box 12"/>
          <p:cNvSpPr/>
          <p:nvPr/>
        </p:nvSpPr>
        <p:spPr>
          <a:xfrm>
            <a:off x="3200400" y="53341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mbria"/>
                <a:ea typeface="黑体"/>
              </a:rPr>
              <a:t>心情跳跃、涌动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85" name="Picture 14" descr="021u"/>
          <p:cNvPicPr/>
          <p:nvPr/>
        </p:nvPicPr>
        <p:blipFill>
          <a:blip r:embed="rId1"/>
          <a:stretch/>
        </p:blipFill>
        <p:spPr>
          <a:xfrm>
            <a:off x="76320" y="20016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486" name="Text Box 5"/>
          <p:cNvSpPr/>
          <p:nvPr/>
        </p:nvSpPr>
        <p:spPr>
          <a:xfrm>
            <a:off x="2982960" y="1890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mbria"/>
                <a:ea typeface="黑体"/>
              </a:rPr>
              <a:t>（感情）真诚恳切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7" name="Text Box 6"/>
          <p:cNvSpPr/>
          <p:nvPr/>
        </p:nvSpPr>
        <p:spPr>
          <a:xfrm>
            <a:off x="3211560" y="23479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mbria"/>
                <a:ea typeface="黑体"/>
              </a:rPr>
              <a:t>婉辞，指父母死亡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8" name="Text Box 7"/>
          <p:cNvSpPr/>
          <p:nvPr/>
        </p:nvSpPr>
        <p:spPr>
          <a:xfrm>
            <a:off x="3211560" y="288144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mbria"/>
                <a:ea typeface="黑体"/>
              </a:rPr>
              <a:t>无法安然入睡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9" name="Text Box 8"/>
          <p:cNvSpPr/>
          <p:nvPr/>
        </p:nvSpPr>
        <p:spPr>
          <a:xfrm>
            <a:off x="3211560" y="34146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mbria"/>
                <a:ea typeface="黑体"/>
              </a:rPr>
              <a:t>终身的遗恨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0" name="Text Box 9"/>
          <p:cNvSpPr/>
          <p:nvPr/>
        </p:nvSpPr>
        <p:spPr>
          <a:xfrm>
            <a:off x="3211560" y="38718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mbria"/>
                <a:ea typeface="黑体"/>
              </a:rPr>
              <a:t>昏暗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91" name="Picture 5" descr="62"/>
          <p:cNvPicPr/>
          <p:nvPr/>
        </p:nvPicPr>
        <p:blipFill>
          <a:blip r:embed="rId2"/>
          <a:stretch/>
        </p:blipFill>
        <p:spPr>
          <a:xfrm>
            <a:off x="7199280" y="5383080"/>
            <a:ext cx="169560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6"/>
          <p:cNvSpPr/>
          <p:nvPr/>
        </p:nvSpPr>
        <p:spPr>
          <a:xfrm>
            <a:off x="1187280" y="2185920"/>
            <a:ext cx="6629400" cy="22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１、作者在文章中提到了哪两位母亲？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２、作者对这两位母亲怀着怎样的感情？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3" name="Rectangle 2"/>
          <p:cNvSpPr/>
          <p:nvPr/>
        </p:nvSpPr>
        <p:spPr>
          <a:xfrm>
            <a:off x="2254320" y="692280"/>
            <a:ext cx="556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Book Antiqua"/>
                <a:ea typeface="华文中宋"/>
              </a:rPr>
              <a:t>自读第一段思考问题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94" name="图片 3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1295640" cy="1440000"/>
          </a:xfrm>
          <a:prstGeom prst="rect">
            <a:avLst/>
          </a:prstGeom>
          <a:ln w="0">
            <a:noFill/>
          </a:ln>
        </p:spPr>
      </p:pic>
      <p:sp>
        <p:nvSpPr>
          <p:cNvPr id="495" name="WordArt 12"/>
          <p:cNvSpPr txBox="1"/>
          <p:nvPr/>
        </p:nvSpPr>
        <p:spPr>
          <a:xfrm>
            <a:off x="1908000" y="2997360"/>
            <a:ext cx="2210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latin typeface="+mn-ea"/>
              </a:rPr>
              <a:t>生身母亲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+mn-ea"/>
              <a:ea typeface="+mn-ea"/>
            </a:endParaRPr>
          </a:p>
        </p:txBody>
      </p:sp>
      <p:sp>
        <p:nvSpPr>
          <p:cNvPr id="496" name="WordArt 13"/>
          <p:cNvSpPr txBox="1"/>
          <p:nvPr/>
        </p:nvSpPr>
        <p:spPr>
          <a:xfrm>
            <a:off x="4859280" y="2997360"/>
            <a:ext cx="2209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latin typeface="+mn-ea"/>
              </a:rPr>
              <a:t>祖国母亲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+mn-ea"/>
              <a:ea typeface="+mn-ea"/>
            </a:endParaRPr>
          </a:p>
        </p:txBody>
      </p:sp>
      <p:sp>
        <p:nvSpPr>
          <p:cNvPr id="497" name="Rectangle 8"/>
          <p:cNvSpPr/>
          <p:nvPr/>
        </p:nvSpPr>
        <p:spPr>
          <a:xfrm>
            <a:off x="1295280" y="446400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mbria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Cambria"/>
              </a:rPr>
              <a:t>我对这两个母亲怀着同样崇高的敬意和同样真挚的爱慕。” 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mbria"/>
              </a:rPr>
              <a:t>从第二自然段找出能够体现作者对失去母亲的悲痛之情的四字词语。 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Book Antiqua"/>
              </a:rPr>
              <a:t>在这些吃也吃不下，睡也睡不着的日日夜夜里，季羡林脑海中可能会回想起什么情景？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Book Antiqua"/>
              </a:rPr>
              <a:t>早晨的阳光洒满餐桌，我坐到桌前，脑海又浮现</a:t>
            </a: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_________________</a:t>
            </a:r>
            <a:r>
              <a:rPr b="1" lang="zh-CN" sz="4000" spc="-1" strike="noStrike">
                <a:solidFill>
                  <a:srgbClr val="000000"/>
                </a:solidFill>
                <a:latin typeface="Book Antiqua"/>
              </a:rPr>
              <a:t>。面对空空的凳子，我想，再也没有</a:t>
            </a: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___________</a:t>
            </a:r>
            <a:r>
              <a:rPr b="1" lang="zh-CN" sz="4000" spc="-1" strike="noStrike">
                <a:solidFill>
                  <a:srgbClr val="000000"/>
                </a:solidFill>
                <a:latin typeface="Book Antiqua"/>
              </a:rPr>
              <a:t>再没有</a:t>
            </a: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____</a:t>
            </a:r>
            <a:r>
              <a:rPr b="1" lang="zh-CN" sz="4000" spc="-1" strike="noStrike">
                <a:solidFill>
                  <a:srgbClr val="000000"/>
                </a:solidFill>
                <a:latin typeface="Book Antiqua"/>
              </a:rPr>
              <a:t>再没有</a:t>
            </a: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__________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Book Antiqua"/>
              </a:rPr>
              <a:t>食不下咽，还是躺下吧！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Book Antiqua"/>
              </a:rPr>
              <a:t>夜深了，我在床上辗转反侧，又想起了</a:t>
            </a: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________</a:t>
            </a:r>
            <a:r>
              <a:rPr b="1" lang="zh-CN" sz="4000" spc="-1" strike="noStrike">
                <a:solidFill>
                  <a:srgbClr val="000000"/>
                </a:solidFill>
                <a:latin typeface="Book Antiqua"/>
              </a:rPr>
              <a:t>想起</a:t>
            </a: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________</a:t>
            </a:r>
            <a:r>
              <a:rPr b="1" lang="zh-CN" sz="4000" spc="-1" strike="noStrike">
                <a:solidFill>
                  <a:srgbClr val="000000"/>
                </a:solidFill>
                <a:latin typeface="Book Antiqua"/>
              </a:rPr>
              <a:t>想起</a:t>
            </a: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_____________</a:t>
            </a:r>
            <a:r>
              <a:rPr b="1" lang="zh-CN" sz="4000" spc="-1" strike="noStrike">
                <a:solidFill>
                  <a:srgbClr val="000000"/>
                </a:solidFill>
                <a:latin typeface="Book Antiqua"/>
              </a:rPr>
              <a:t>我的眼泪又来了。</a:t>
            </a:r>
            <a:endParaRPr b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0" y="333000"/>
            <a:ext cx="91440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mbria"/>
              </a:rPr>
              <a:t>这是一个穷得不能再穷的家庭了。因此，幼年时我大部分时间是和母亲形影不离。母亲走到哪里，我就跟到哪里。母亲到地里摘绿豆荚，我便跟到地里，在母亲身后跑来跑去，不停地问这问那。捉到一只蚱蜢，我一定要拿给母亲看一看。棒子上长了乌霉，我一定要问母亲这是为什么。母亲总是一边携带着豆荚一边耐心地回答我的问题，脸上露出慈祥的笑容。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06:44:00Z</dcterms:created>
  <dc:creator>wangxp</dc:creator>
  <dc:description/>
  <dc:language>en-US</dc:language>
  <cp:lastModifiedBy>雨林木风</cp:lastModifiedBy>
  <dcterms:modified xsi:type="dcterms:W3CDTF">2011-09-14T05:11:25Z</dcterms:modified>
  <cp:revision>40</cp:revision>
  <dc:subject/>
  <dc:title>PowerPoint 演示文稿</dc:title>
</cp:coreProperties>
</file>