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7B23-530C-425D-A061-C8236E7379C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B513-F179-4506-BEAE-11BCC09BF3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7753-36AE-41EB-8049-E3A920D5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098-FF6E-47C6-AC4E-7051E71B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916-6D9D-4DA0-A079-9B6C46822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6619-AD43-4198-AA4B-3F21A73A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ACC4-E5B0-4C0E-839D-CD58702F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6847-8C9C-4612-BEE3-84BC5474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6C1B-DA89-4D1A-AAC9-073C7B4D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98EB-609F-4419-B7D0-196E89A0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7DBF-30FA-48A4-A0C1-08261CA4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82EA-31B3-433A-BC9D-B2B2238F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237C-7C47-4B09-A667-B212A8B3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196-B815-49A3-9304-1F913DDC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32EE-24AC-422A-AC79-34D24828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4CBF-44A6-4E22-841D-3711D8A0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B077-B2CD-4030-A522-698517C2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19EC-3C42-408D-B635-3F97A28E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5765-AA8E-4027-BEDD-638FA274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CE6-ECD5-4ED6-9757-39B2183A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414-80BB-4885-A9BB-EC4AAC91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AA3-41D6-46A2-B559-DE53FB10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2FE-B65B-40A5-83D3-6A873940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9D6-8CB1-4C5A-A4C1-52AF7900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BED-2499-4872-9673-3243918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8C5-23F3-4CF3-B0D1-1ADF6779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Administrator\桌面\j.jpg"/>
          <p:cNvPicPr/>
          <p:nvPr/>
        </p:nvPicPr>
        <p:blipFill>
          <a:blip r:embed="rId2"/>
          <a:stretch/>
        </p:blipFill>
        <p:spPr>
          <a:xfrm>
            <a:off x="-66600" y="-23760"/>
            <a:ext cx="9277200" cy="152856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7"/>
          <p:cNvGrpSpPr/>
          <p:nvPr/>
        </p:nvGrpSpPr>
        <p:grpSpPr>
          <a:xfrm>
            <a:off x="7857360" y="114120"/>
            <a:ext cx="1311840" cy="886320"/>
            <a:chOff x="7857360" y="114120"/>
            <a:chExt cx="1311840" cy="886320"/>
          </a:xfrm>
        </p:grpSpPr>
        <p:pic>
          <p:nvPicPr>
            <p:cNvPr id="2" name="Picture 2" descr="C:\Documents and Settings\Administrator\桌面\未标题-1.png"/>
            <p:cNvPicPr/>
            <p:nvPr/>
          </p:nvPicPr>
          <p:blipFill>
            <a:blip r:embed="rId3"/>
            <a:stretch/>
          </p:blipFill>
          <p:spPr>
            <a:xfrm rot="459000">
              <a:off x="7900560" y="245160"/>
              <a:ext cx="789840" cy="7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2" descr="C:\Documents and Settings\Administrator\桌面\未标题-1.png"/>
            <p:cNvPicPr/>
            <p:nvPr/>
          </p:nvPicPr>
          <p:blipFill>
            <a:blip r:embed="rId4"/>
            <a:stretch/>
          </p:blipFill>
          <p:spPr>
            <a:xfrm rot="21208200">
              <a:off x="8608320" y="142920"/>
              <a:ext cx="53532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C5CA-6BA2-4B9B-B46A-197FCF74D6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Administrator\桌面\j.jpg"/>
          <p:cNvPicPr/>
          <p:nvPr/>
        </p:nvPicPr>
        <p:blipFill>
          <a:blip r:embed="rId2"/>
          <a:stretch/>
        </p:blipFill>
        <p:spPr>
          <a:xfrm>
            <a:off x="-66600" y="-23760"/>
            <a:ext cx="9277200" cy="15285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7"/>
          <p:cNvGrpSpPr/>
          <p:nvPr/>
        </p:nvGrpSpPr>
        <p:grpSpPr>
          <a:xfrm>
            <a:off x="7857360" y="114120"/>
            <a:ext cx="1311840" cy="886320"/>
            <a:chOff x="7857360" y="114120"/>
            <a:chExt cx="1311840" cy="886320"/>
          </a:xfrm>
        </p:grpSpPr>
        <p:pic>
          <p:nvPicPr>
            <p:cNvPr id="47" name="Picture 2" descr="C:\Documents and Settings\Administrator\桌面\未标题-1.png"/>
            <p:cNvPicPr/>
            <p:nvPr/>
          </p:nvPicPr>
          <p:blipFill>
            <a:blip r:embed="rId3"/>
            <a:stretch/>
          </p:blipFill>
          <p:spPr>
            <a:xfrm rot="459000">
              <a:off x="7900560" y="245160"/>
              <a:ext cx="789840" cy="70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2" descr="C:\Documents and Settings\Administrator\桌面\未标题-1.png"/>
            <p:cNvPicPr/>
            <p:nvPr/>
          </p:nvPicPr>
          <p:blipFill>
            <a:blip r:embed="rId4"/>
            <a:stretch/>
          </p:blipFill>
          <p:spPr>
            <a:xfrm rot="21208200">
              <a:off x="8608320" y="142920"/>
              <a:ext cx="5353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Administrator\桌面\未标题-1.png"/>
          <p:cNvPicPr/>
          <p:nvPr/>
        </p:nvPicPr>
        <p:blipFill>
          <a:blip r:embed="rId6"/>
          <a:stretch/>
        </p:blipFill>
        <p:spPr>
          <a:xfrm rot="459000">
            <a:off x="6214680" y="4476240"/>
            <a:ext cx="1833480" cy="155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Documents and Settings\Administrator\桌面\未标题-1.png"/>
          <p:cNvPicPr/>
          <p:nvPr/>
        </p:nvPicPr>
        <p:blipFill>
          <a:blip r:embed="rId7"/>
          <a:stretch/>
        </p:blipFill>
        <p:spPr>
          <a:xfrm rot="21208200">
            <a:off x="7857720" y="4143240"/>
            <a:ext cx="1243080" cy="1051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2DB7-F7D5-4D2A-9922-AFFB5AB92D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6" descr=""/>
          <p:cNvPicPr/>
          <p:nvPr/>
        </p:nvPicPr>
        <p:blipFill>
          <a:blip r:embed="rId1"/>
          <a:stretch/>
        </p:blipFill>
        <p:spPr>
          <a:xfrm>
            <a:off x="-6480" y="804960"/>
            <a:ext cx="9296640" cy="2139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71680" y="5928840"/>
            <a:ext cx="64008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Made by summ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轻音乐 - 古典 - 被遗忘的天使(钢琴版)超好听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5"/>
          <p:cNvSpPr/>
          <p:nvPr/>
        </p:nvSpPr>
        <p:spPr>
          <a:xfrm>
            <a:off x="5643720" y="1619280"/>
            <a:ext cx="2857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Again, it is Valentine’s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The third year we’ve been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17" descr="Valentine009.jpg"/>
          <p:cNvPicPr/>
          <p:nvPr/>
        </p:nvPicPr>
        <p:blipFill>
          <a:blip r:embed="rId1"/>
          <a:stretch/>
        </p:blipFill>
        <p:spPr>
          <a:xfrm>
            <a:off x="357120" y="1071720"/>
            <a:ext cx="452916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4"/>
          <p:cNvSpPr/>
          <p:nvPr/>
        </p:nvSpPr>
        <p:spPr>
          <a:xfrm>
            <a:off x="-71280" y="1285920"/>
            <a:ext cx="6072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Thank you for comforting me when I'm s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Loving me when I'm m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Valentine014.jpg"/>
          <p:cNvPicPr/>
          <p:nvPr/>
        </p:nvPicPr>
        <p:blipFill>
          <a:blip r:embed="rId1"/>
          <a:stretch/>
        </p:blipFill>
        <p:spPr>
          <a:xfrm>
            <a:off x="5500800" y="1714680"/>
            <a:ext cx="3643200" cy="40716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-71280" y="2757600"/>
            <a:ext cx="5857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Teaching me the meaning of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Encouraging me when I need a sh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But most of all thank you for loving me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"/>
          <p:cNvSpPr/>
          <p:nvPr/>
        </p:nvSpPr>
        <p:spPr>
          <a:xfrm>
            <a:off x="5572080" y="1500120"/>
            <a:ext cx="32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Valentine010.jpg"/>
          <p:cNvPicPr/>
          <p:nvPr/>
        </p:nvPicPr>
        <p:blipFill>
          <a:blip r:embed="rId1"/>
          <a:stretch/>
        </p:blipFill>
        <p:spPr>
          <a:xfrm>
            <a:off x="642960" y="135720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643720" y="1857240"/>
            <a:ext cx="307152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The bouquet of roses you sent to me in 2006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which makes me feel so happy and wa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6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3"/>
          <p:cNvSpPr/>
          <p:nvPr/>
        </p:nvSpPr>
        <p:spPr>
          <a:xfrm>
            <a:off x="5572080" y="1500120"/>
            <a:ext cx="32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1714320"/>
            <a:ext cx="307188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Wish I can make you happy too with my most sincere hea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6" descr="Valentine011.jpg"/>
          <p:cNvPicPr/>
          <p:nvPr/>
        </p:nvPicPr>
        <p:blipFill>
          <a:blip r:embed="rId1"/>
          <a:stretch/>
        </p:blipFill>
        <p:spPr>
          <a:xfrm>
            <a:off x="4929120" y="1285920"/>
            <a:ext cx="3067200" cy="46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3"/>
          <p:cNvSpPr/>
          <p:nvPr/>
        </p:nvSpPr>
        <p:spPr>
          <a:xfrm>
            <a:off x="5572080" y="1500120"/>
            <a:ext cx="32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307188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Honey, let’s cherish the love between u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Make everyday the Valentine’s D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valentine.jpg"/>
          <p:cNvPicPr/>
          <p:nvPr/>
        </p:nvPicPr>
        <p:blipFill>
          <a:blip r:embed="rId1"/>
          <a:stretch/>
        </p:blipFill>
        <p:spPr>
          <a:xfrm>
            <a:off x="428760" y="1143000"/>
            <a:ext cx="4573440" cy="3036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love.jpg"/>
          <p:cNvPicPr/>
          <p:nvPr/>
        </p:nvPicPr>
        <p:blipFill>
          <a:blip r:embed="rId2"/>
          <a:stretch/>
        </p:blipFill>
        <p:spPr>
          <a:xfrm>
            <a:off x="4429080" y="3500280"/>
            <a:ext cx="3857760" cy="31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>
            <a:off x="5572080" y="1500120"/>
            <a:ext cx="32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00440" y="2071440"/>
            <a:ext cx="307188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Hug you again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Berlin Sans FB"/>
                <a:ea typeface="Arial Unicode MS"/>
              </a:rPr>
              <a:t>And kis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Valentine012.jpg"/>
          <p:cNvPicPr/>
          <p:nvPr/>
        </p:nvPicPr>
        <p:blipFill>
          <a:blip r:embed="rId1"/>
          <a:stretch/>
        </p:blipFill>
        <p:spPr>
          <a:xfrm>
            <a:off x="1143000" y="928800"/>
            <a:ext cx="327960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5"/>
          <p:cNvSpPr/>
          <p:nvPr/>
        </p:nvSpPr>
        <p:spPr>
          <a:xfrm>
            <a:off x="1486080" y="1857240"/>
            <a:ext cx="185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1643040" y="591336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Click here to get more free Valentine Day PowerPoint templ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Subtitle 11" descr=""/>
          <p:cNvPicPr/>
          <p:nvPr/>
        </p:nvPicPr>
        <p:blipFill>
          <a:blip r:embed="rId1"/>
          <a:stretch/>
        </p:blipFill>
        <p:spPr>
          <a:xfrm>
            <a:off x="993600" y="669960"/>
            <a:ext cx="7229520" cy="21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1:48:45Z</dcterms:created>
  <dc:creator>YlmF</dc:creator>
  <dc:description/>
  <dc:language>en-US</dc:language>
  <cp:lastModifiedBy>Administrator</cp:lastModifiedBy>
  <dcterms:modified xsi:type="dcterms:W3CDTF">2015-08-17T01:23:11Z</dcterms:modified>
  <cp:revision>320</cp:revision>
  <dc:subject/>
  <dc:title>PPT Template</dc:title>
</cp:coreProperties>
</file>