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3AE-D2AA-4BBB-B711-A675EB55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2C8-6F85-405A-868C-5C2CF742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F61-AAE1-46AF-9CF5-A6BA365E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C95-0B69-46D2-B9FE-0E5DF9B1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CD7-2250-492B-818C-419C3547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8FB-056C-4DD1-87D2-A8EB449D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20B-A3C3-47C4-ABF0-F52B1717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892-50C9-457D-9678-3A5E56B0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5DB-4D20-4D31-B704-4C61661A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81D-A645-4B79-A49B-24753399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C00-9C70-4122-A0D3-0FC4B3D2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C8C-87C6-4681-B7C0-15080671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B61D-4B67-4336-BBE3-C6B6016422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rbel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8"/>
          <p:cNvPicPr/>
          <p:nvPr/>
        </p:nvPicPr>
        <p:blipFill>
          <a:blip r:embed="rId2"/>
          <a:stretch/>
        </p:blipFill>
        <p:spPr>
          <a:xfrm>
            <a:off x="36360" y="593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87808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0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0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10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10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8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5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1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2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3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76220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949"/>
                </a:solidFill>
                <a:latin typeface="Candara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949"/>
                </a:solidFill>
                <a:latin typeface="Candara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4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cp:keywords/>
  <dc:language>en-US</dc:language>
  <cp:lastModifiedBy>Administrator</cp:lastModifiedBy>
  <dcterms:modified xsi:type="dcterms:W3CDTF">2015-07-24T02:06:23Z</dcterms:modified>
  <cp:revision>2</cp:revision>
  <dc:subject/>
  <dc:title>印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