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6.jpeg" ContentType="image/jpeg"/>
  <Override PartName="/ppt/media/image1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1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23D-E59D-4B46-9A07-CCBC668D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955-4AD4-44D5-8E9D-1CEF9EB0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71B-A2C1-4263-88F1-20C42997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145-692A-479B-AA04-250AA5DD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BF6-4D27-489C-9462-2F540735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CF0-11FF-4C57-B153-8E2E7C1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29F7-C0F1-4260-A3C1-6C1B58F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FA2-0C9A-44D9-896F-9737C991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F56-7992-49DB-9D1D-3D34DF9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A7CF-6907-4767-BA2F-5EB37368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2D1-8ACC-41ED-A106-1E66F93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6FE-AD86-4BF4-8FC5-01AE637A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8C75-CBEC-4BCE-BEB1-AE11A2A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8B8C-71F4-4A43-9412-D814C73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B079-6C60-4E27-AB06-6826588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5F2D-5C63-4F2A-AB1C-EF8E622E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1D69-9B67-4DA1-BED7-CD114605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B0CE-C4F8-48B4-9FB2-FE116531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8672-5DA0-4188-8235-F23843B6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455E-FC1D-43F7-ADB1-9C897C5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EF0C-5914-42E2-BF01-890A013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99BC-029E-4DF2-9786-E7C813B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E57-41E2-4E09-A911-CFD83CDD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B9CA-3E18-4BB1-B195-C0685BE5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1864-E341-48A6-B01F-3238ADE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C51B-AEFD-44C3-B4EF-D4A33BA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27E3-85C4-4308-8FD9-E5DE030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F1CE-D9F1-4B4F-87BD-FEEC635C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6406-3F86-4EEA-8A4C-F904E75C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BCB1-6946-44F8-87AD-AA21F1E7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C558-4DF2-4A12-BFD9-B0B9C25B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16DA-C558-4111-A34D-059558B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DEDB-674C-41E6-BE2A-A53F3E2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614-FB5F-4AE6-A088-C06645F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F400-75AF-4C8A-BD29-1BB5A3BB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720E-C970-4B24-B6CD-B92A660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FB96-DB24-42AD-9612-B0FAAAD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9032-CE18-493A-86A2-BB3ABF1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AF9E-9285-4F4C-8DEE-3B16AAB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8E5D-AC49-4AB6-8BFE-D25CB3C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4A00-E76F-4C18-AEA5-0FD8DB6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868C-79AE-4EF4-A9CC-7C7CF7BD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4A01-692E-4FC0-86B2-95A4A385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D94-2EC2-41C8-9562-9ACB007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E1E-EF47-4B60-816E-31E41DD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733-D557-4013-8B57-D2DBAA5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B4B-1ACF-4938-AD86-61BF45A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A95-6441-4F5C-9A30-A2D138F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39A4-2F72-4111-8FEE-1B133E75D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B94-9C81-4635-A299-92BEF21DE1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00000">
                <a:off x="669600" y="1361160"/>
                <a:ext cx="24696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205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8085600" y="53074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0000-2D74-4965-B61D-87E5024746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50F-11DA-4B25-B577-CE907645D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" Target="slide11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" Target="slide11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340000" y="3429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新魏"/>
              </a:rPr>
              <a:t>金秋，门已打开！</a:t>
            </a:r>
            <a:endParaRPr b="0" i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87280" y="5300640"/>
            <a:ext cx="705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进入高中，你准备好了没有？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713800" cy="651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语文的魅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-1903320" y="3141720"/>
            <a:ext cx="4386240" cy="3295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7636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季姬寂，集鸡，鸡即棘鸡。棘鸡饥叽，季姬及箕稷济鸡。鸡既济，跻姬笈，季姬忌，急咭鸡，鸡急，继圾几，季姬急，即籍箕击鸡，箕疾击几伎，伎即齑，鸡叽集几基，季姬急极屐击鸡，鸡既殛，季姬激，即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季姬击鸡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。（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2720" y="2852640"/>
            <a:ext cx="684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季姬感到寂寞，罗集了一些鸡来养，是那种出自荆棘丛中的野鸡。野鸡饿了叫叽叽，季姬就拿竹箕中的小米喂它们。鸡吃饱了，跳到季姬的书箱上，季姬怕脏，忙叱赶鸡，鸡吓急了，就接着跳到几桌上，季姬更着急了，就借竹箕为赶鸡的工具，投击野鸡，竹箕得投速很快，却打中了几桌上的陶伎俑，那陶伎俑掉到地下，竟粉碎了。季姬眼一瞧，鸡躲在几桌下乱叫，季姬一怒之下，脱下木屐鞋来打鸡，把鸡打死了。想着养鸡的经过，季姬激动起来，就写了这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季 姬 击 鸡 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9640" y="189000"/>
            <a:ext cx="1019160" cy="2232000"/>
            <a:chOff x="539640" y="189000"/>
            <a:chExt cx="1019160" cy="2232000"/>
          </a:xfrm>
        </p:grpSpPr>
        <p:pic>
          <p:nvPicPr>
            <p:cNvPr id="322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39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85080" y="-4680"/>
            <a:ext cx="2068560" cy="68626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179280" y="-4680"/>
            <a:ext cx="206856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3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秦观的回环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1556280"/>
            <a:ext cx="5904000" cy="350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    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　　     花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时　  　　　　归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醒　　  　　　　　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微　　　　　　马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　  　　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   飞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5518080"/>
            <a:ext cx="745992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赏花归去马如飞，去马如飞酒力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酒力微醒时已暮，醒时已暮赏花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3024000" cy="30240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43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30448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3203640" y="907920"/>
            <a:ext cx="4465440" cy="4022640"/>
            <a:chOff x="3203640" y="907920"/>
            <a:chExt cx="4465440" cy="4022640"/>
          </a:xfrm>
        </p:grpSpPr>
        <p:sp>
          <p:nvSpPr>
            <p:cNvPr id="347" name=""/>
            <p:cNvSpPr/>
            <p:nvPr/>
          </p:nvSpPr>
          <p:spPr>
            <a:xfrm>
              <a:off x="3203640" y="907920"/>
              <a:ext cx="4465440" cy="40226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1280" y="1484280"/>
              <a:ext cx="279360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可以清心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以清心也可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清心也可以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心也可以清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也可以清心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蒹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iān ji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【诗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国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秦风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苍苍，白露为霜。 所谓伊人，在水一方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长。溯游从之，宛在水中央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凄凄，白露未晞。 所谓伊人，在水之湄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溯游从之，宛在水中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蒹葭采采，白露未已。 所谓伊人，在水之涘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溯洄从之，道阻且右。溯游从之，宛在水中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9280" y="260280"/>
            <a:ext cx="1019160" cy="2232000"/>
            <a:chOff x="179280" y="260280"/>
            <a:chExt cx="1019160" cy="2232000"/>
          </a:xfrm>
        </p:grpSpPr>
        <p:pic>
          <p:nvPicPr>
            <p:cNvPr id="352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79280" y="26028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篇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03320" y="5715000"/>
            <a:ext cx="1519200" cy="1143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070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位老者在海边垂钓，已经钓满了一篓的鱼。一个孩子在旁边看了很久。老者准备离开的时候，温和地冲孩子笑笑，送给孩子一条活蹦乱跳的大鱼，可孩子却一口拒绝了。老者很奇怪，问孩子：”那你想要什么呢？“孩子指了指他的鱼竿，说：“我想要你的鱼竿。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觉得孩子的这个决定聪明吗？如果是你的话，你会选择什么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4360" y="10537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其实，选择鱼竿或鱼都不能算是聪明的选择。最聪明的方法，是学会老者钓鱼的方法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所以，我们说，任何一门课程的学习，不是单单看懂，解题，而是从根本上掌握它的学习方法。这样，才能达到一个事半功倍的效果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260280"/>
            <a:ext cx="8070840" cy="311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620720" y="1628640"/>
            <a:ext cx="597708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语文是什么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语文的魅力在哪里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68360" y="5950080"/>
            <a:ext cx="8286840" cy="311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611280" y="692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开学第一课：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7720" y="909360"/>
            <a:ext cx="8199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那么，高中语文学习需要掌握哪些方法呢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加以归纳，可以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听、读、说、写、思、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六个方面入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面我们就一一来介绍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听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君一席话，胜读十年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认真听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动笔。听课时，随时在课本上记下重点、难点、疑点，这对以后的复习是个极好的提示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记笔记。记下老师的板书、老师反复强调之处。这些往往是重点、难点，也是必考之点；记下老师启发下偶然闪现的一些想法，这些是你知识迁移的表现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善听别人的发现，捕捉有利于自己的信息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拓宽听的聚到，让更多的信息从“耳”而入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读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书破万卷，下笔如有神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读出声。可以更好的体会文章的情感，有利于理解和记忆，帮助你“出口成章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背书。培养扎实的文学功底，使作文更加“出彩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工具书。中学生常用的工具书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《新华字典》《现代汉语词典》《成语词典》《古汉语常用词词典》。这集中工具书是必不可少的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</a:rPr>
              <a:t>说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——言为心声，不耻下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课时多参与讨论，主动同学老师交流心得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教老师和同学，不懂就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朗诵、演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阅读新闻报刊杂志要积极评论，锻炼自己的鉴赏能力和思维能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写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——纸上得来终觉浅，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                         绝知此事要躬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好每个字，注意卷面整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真写作业，准备一个错题本，将做错或自己不懂的题目记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整理笔记，将所学的知识分门别类，日后好复习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准备摘抄本，记下精彩的文章段落字句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日记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写随笔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学而不</a:t>
            </a: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思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则罔，思而不学则殆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独立思考，切不可人云亦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会反思，将一天所学的知识大致思量一遍，对掌握和未掌握的内容做到心中有数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好奇多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将自己思考的结论记下，与同学老师交流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</a:rPr>
              <a:t>行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——读有字之书，也读无字之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用多种手法查找资料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编作品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编小报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改作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准备工作及常规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3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课堂笔记本和错题本（可以二合一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语文随笔本和摘抄本（可以二合一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《现代汉语词典》《成语词典》《古汉语常用词词典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050920" y="4292640"/>
            <a:ext cx="3656160" cy="24811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587040" y="981000"/>
            <a:ext cx="2413800" cy="253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规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周一篇随笔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以上（每周一早上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备文稿纸，每天练习一页纸字，可以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临摹，每天早上交，不合格重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18960" y="-237960"/>
            <a:ext cx="9748800" cy="7310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未来，不是我们要去的地方；未来，是我们要创造的地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9640" y="1623240"/>
            <a:ext cx="792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听到一首动人心魄的歌时，沉浸于歌词所描绘的幽然意境，流连忘返，这就是语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看到一幅雄浑俊雅的书画后，立即被其所吸引，于是你搜肠刮肚，想尽华美饲藻来赞美它，这就是语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你发表演讲、主持会议，滔滔不绝，引经据典，妙语连珠，别忘了，这也是语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732720" y="4510080"/>
            <a:ext cx="2111400" cy="23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6831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116000" y="1557360"/>
            <a:ext cx="47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341360"/>
            <a:ext cx="8540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不要为失败找借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要为成功找出路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在新学期有什么新设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的弱项在哪里？什么原因？想怎么解决？有什么困难需要老师帮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老师有什么要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结合你自己的情况，选择其中的一个问题货几个问题谈谈，写在随笔本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语文必修一专题“向青春举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语文天生浪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3026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再次聆听那遥远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坎坎伐檀兮，置之河之干兮。河水清且涟猗。不稼不穑，胡取禾三百廛兮？”即便是义愤填膺吧，也是那般的富有浪漫气息。而“蒹葭苍苍，白露为霜。所谓伊人，在水一方”更是将古人的浪漫情怀推向了极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从远古走来，从蛮荒走来，从我们祖先浪漫的心灵中走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天辟地的盘古、以身补天的女娲用刚与柔成就了远古人类对世界与宇宙浪漫的想象；填海的精卫、逐日的夸父用血与肉书写了所有生命对自由与光明不朽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四十弃官归隐的陶潜“采菊东篱下，悠然见南山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五十始举进士的孟郊“春风得意马蹄疾，一日看尽长安花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王昌龄发出了“黄沙百战穿金甲，不破楼兰终不还”的豪壮誓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浪漫，李白才会仰天长笑“天生我材必有用，千金散尽还复来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从浪漫的心灵出发，走向深广，走向博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孔雀东南飞的故事成了家喻户晓的绝唱；因着语文，木兰从军的传说成了妇孺皆知的佳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雪莱的“冬天到了，春天还会远吗”温暖了多少失意者的心怀；因着语文，但丁的“走你的路，让别人去说吧” 激荡着每一个开拓者的胸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着语文，我们收藏了春的温馨、夏的火热、秋的丰硕、冬的冷峻；因着语文，我们领略了北国的冰雪，南疆的椰林，西域的雄鹰，东海的潮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，是天生浪漫的文化载体。睿智的思想，高尚的情感，灵动的才智，无不栖于根深叶茂的语文之树，它生生不息地传承着人类文明，它涤荡污浊，提精炼粹，陶冶身心，它汇聚了浪漫又传送着浪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197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638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17360"/>
            <a:ext cx="8567640" cy="648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712360" cy="626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2360" y="190440"/>
            <a:ext cx="8567640" cy="655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12720" y="549360"/>
            <a:ext cx="7905960" cy="598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81080" y="406440"/>
            <a:ext cx="8712000" cy="624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45:30Z</dcterms:created>
  <dc:creator>xzmgq</dc:creator>
  <dc:description/>
  <cp:keywords/>
  <dc:language>en-US</dc:language>
  <cp:lastModifiedBy>USER</cp:lastModifiedBy>
  <cp:lastPrinted>1899-12-30T00:00:00Z</cp:lastPrinted>
  <dcterms:modified xsi:type="dcterms:W3CDTF">2011-08-31T06:58:38Z</dcterms:modified>
  <cp:revision>78</cp:revision>
  <dc:subject/>
  <dc:title>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