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F661-D088-4278-9F67-7B6A4E3B1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FCF9-DBD0-4377-9218-8184602C4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B0F5-EAF7-4E21-BC37-04C308547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C519-A508-42F0-8899-416A848E9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E522-97D5-402E-9570-352AE37CC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0769-96DE-45D6-A2ED-35E246FFD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8BF9-0C19-4634-9DE1-40EF950BF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5EA6-4C41-42E8-BDD4-482A6E2D1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043A-4B45-447E-AA74-1BA6CF78C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C656-425E-481D-AEDF-C1412FAE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A433-9981-4757-B473-4E56DCE7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C7B8-0228-4A29-86A9-AB2C049D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3FF97-7732-4193-90D6-005B1732F64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071880" y="4078440"/>
            <a:ext cx="528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143160" y="465300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情人节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5-01-16T08:14:19Z</dcterms:modified>
  <cp:revision>79</cp:revision>
  <dc:subject/>
  <dc:title>幻灯片 1</dc:title>
</cp:coreProperties>
</file>