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3968F-1E05-4689-B094-3ED32328A0E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8753-6473-44EE-B779-0355387F452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C5F05-23E6-4CB8-ABEB-2878538672F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8CAAA-2DDD-4E3D-A918-E2B31BF55C0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6640-FB74-4D1D-AF6C-C966A9C2232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86A4E-C4FF-4EE5-AA06-7CE0AD6CE62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AD93-76D5-4E73-9B40-943D1C34739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B2364-C03A-46D6-B336-D6C3FB61F85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2CE88-F223-4AD3-9289-9DD3443018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21214-3436-42E0-AC01-0C87AF921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7368B-1672-471F-A140-EB328252245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D6A188-1919-4042-BA9C-5B3E9C06B66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8955E-E076-439F-ACC2-D414B6DA074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218B7E-39C4-4889-96B4-94AB9435D14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E9335-418E-4CB4-A428-FA4D85B642F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163CCF-B816-4302-965D-CC043487211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B9543E-FBE1-43A9-A595-92A3B1140C1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BCC8D-3ABD-41FC-A3A1-94B0E078CD5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9D9D52-CECF-4873-9E55-A87755DC9B3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62BDC-1681-4622-98A3-249DD7865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7EB31-C4EF-43DE-94CB-D3088048112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D5ED39-3B06-4745-9F9F-042C4580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7F78EA-BC04-45A6-B977-A4DC0849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0EE31D-3F37-431B-BCE1-8CE9443E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170368-D16E-4CDF-B90E-76D80BF1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3A78EB-CF6F-4998-B293-5D08690C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90FFFE-525D-48AC-8BE5-834C929A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5FCC94-71DF-44FA-9B70-61857B66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B02BFF-0FBD-4500-98AC-A29400C7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6FE95A-B028-4714-AB1B-EFCAA6BA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487636-E3E3-41BB-BCB7-3A3E7E13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9061E9-F932-439E-9548-EF6AB762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FB5604-AA48-4964-AC15-880E565D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F7610F-D341-455D-AEE4-758BF402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666C24-BD0E-4D8C-8F75-2436077C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925724-A733-413E-933F-7C4AF8EE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55027-1CCE-42C4-B1D5-9ACC308A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6DA3F6-0F2C-4BCA-9AF1-0A488635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99C3F6-1A38-4E23-A307-DEAF967C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BDD037-42FF-47A8-AA02-199F8E5F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3DE27D-14F2-43DE-A875-CE04D05B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BFCD00-8A57-4CCB-AB65-EF207CB8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3FD0E8-041F-418F-9A20-B192BCF1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9DC7E4-68A5-4D11-9817-2D19B9AA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9FA767-9493-46F2-A7E5-54D34C3E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8AD463-8F04-43EB-A9D5-1D4696D5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0A10C5-BB0A-415B-826D-21320A00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281EE0-0872-47B3-947B-E29B8894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886316-23FA-4704-86C5-2E7C8114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ECE4CA-3FA0-4B98-B688-82D5FD3F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EDE0D8-A1AB-426A-9C23-821DD675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553EFA-0F82-4FCD-A3BE-5160A325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315EB2-AB65-4678-906C-A238E33D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2263DF-9B3B-41D2-B942-C99F5521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7B1D6E-E398-46CD-8E46-0202C45C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1ECB1F-3A29-4CCB-9ADD-F30BD54D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9C224B-ACFE-4AA7-A75F-A45FB1D7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10CC-3956-4BB3-B1CA-52D763F8F7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F89A-5885-4C27-96C8-DAEE410154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91F6-D43E-435F-AC67-C758857220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EA0D-0B34-4692-AEC6-8DAE23AFC4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3B93-6800-4195-B7BC-D92E7A4B0F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145A-856B-4BB4-A858-E93E1625D9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C4AF-1A07-48CF-BDD0-8A37F16A35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741D-F4FA-4431-867E-375589F507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D97A-FBBC-462C-B1E3-5765DC0A24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F6E3-829C-4215-8A6A-6A9B56B0F1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73F1-2828-4CCA-A31E-46FAA5F5A5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1881-EFDC-42B6-82C0-6F8BA38124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D879-2125-4EF7-9B09-73E95DEFA4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8187D-36CA-4A2B-9BD1-68729B5FCA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263E-58FA-403E-9CED-963D2A087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FD31-3A77-4D10-9043-122D8040C12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2B40-CFA2-4122-B252-17C17A77EE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B046-8E05-443D-8862-1204A919B6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CA0C-E0C0-4518-8D6D-2CF52A9517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5BB8-87DF-4CDC-AB15-E2137D9E17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640D-CE50-4E1A-85A0-01C02098EF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3781D-493F-49F6-AE94-E014B41FAA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CE76-C976-4AF7-B79E-6B57798374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8C57-7BBD-4CBF-AC18-269ED612EA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303E-C652-4E96-A7BB-9E0E3C289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BE2-C0B7-4743-BE63-DA03646DEF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1E3-68ED-4B66-8F42-D2FDA747AA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B23-F222-402F-82B9-FAC542FEED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6EA-C680-4E2C-8D30-0300F1287D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335-A113-4B61-ACEF-0C1F51CEC96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934-9B78-4A2F-BEFC-3E1F7E169B0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952-9098-443C-BF26-1A3A4E2F247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312-5E47-41E6-854F-409D3F786A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083-4947-4C20-8FAD-17E0744CACE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0D2-1D9F-4E70-A7CA-FBB1A5276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163-6886-4857-BC02-BA9A582CB13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6287-1483-4846-AC62-804DB118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828F-85C3-4134-ADCF-F6C494B8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C8B9-246F-44BA-938D-26FBE043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7652-A572-4A55-AC0E-2CE5A18D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043B-B279-4F28-A874-299F666A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C096-3ADA-4B18-90A3-B46D1E1F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DA40-CBDF-42ED-B5F5-8B518EE1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6AB2-D95D-4E16-951B-AF54313E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3897-6837-4BBA-8E9A-4ADBF548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359E-D5FC-417B-B1E4-F5BACAFC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7EBE-16D5-4DB9-B409-851910FA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65D6-503F-4F2D-A4E1-0988F8D8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11145-CF54-434E-AF90-CAF3B993829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D5F2B2-31AC-4EA3-9F13-27A7B659BF4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A2618-6EFB-46E4-BBE6-5EB68AD1AD2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5B0CA1-B45C-4676-8FFD-46B3CA6FB9C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6C0656-5521-40FC-99E0-C5E33BD342A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9359BA-F023-45F1-9C87-9FF65CC7D58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AA966B-4329-417B-B787-241D56267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C757BC-47C3-4161-9326-F8991EFB822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9F7DE3-8C79-4B21-9786-9EB7AF6829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5F4BC-461A-42FD-A792-B172F6F62A3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DD2661-AB2B-4290-BF18-5D539EE6046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8F8F11-F52D-4830-B215-93D2F727566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CAA71-CEDB-4B5E-BA27-3A7CB259A20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E6C3E-C14D-49E5-B781-6DADDF3FE42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08C1C-B8CA-4273-A935-7D455EC7337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66D24-DAE0-4EB8-9CB3-640F6CE840A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77928-6238-40A3-B93D-02D193029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B8C93-AA56-46DE-AA5C-4AA1C5E8D0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996D1-3780-4D96-B408-C3D0EA24C44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81764-29B5-4D59-8DB1-A53F15A4B67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315A8-C124-47B7-925F-ABCF49E770F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CAA17-DD05-46F0-8439-F6D2E3BDDAA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48B96-D8DE-49A0-80ED-8EFBB01B267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0BD24-19DC-46E7-986D-B13DCA0BCD4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BD4E1-5B14-4476-A05F-B39EF91C2A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B674E-2F56-4277-97DB-1207FAC79AB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FA46-424C-4998-8FDA-D849E88D8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387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88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0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569A-529C-4E51-948A-F49E8FFB25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430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1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1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12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13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EB22-AA11-4138-BDED-D2CAA39774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475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76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4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15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16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EB2D-535B-47F3-AED5-960D2C34BD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520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21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17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18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19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BEEC-BB77-499A-B231-63286009EA3A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9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" name="图片 10" descr="图片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33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84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5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1"/>
          </p:nvPr>
        </p:nvSpPr>
        <p:spPr>
          <a:xfrm>
            <a:off x="2999880" y="6286320"/>
            <a:ext cx="3286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锡市南湖大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扬名创智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510-85025859   F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510-857553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www.jt56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127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8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2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610E-F015-419A-99A3-9DC55A2AE7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170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1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3C3D-7FBC-46CF-9986-0CDCFE3F43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213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4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1985-E892-4281-93E9-41DD9E0720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258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9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7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AB83-B0B0-4307-AD17-06B524B9A8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301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2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8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226D-4A2E-491C-B5F0-F4EC4A91D4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344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45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9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FA42-00B4-4A61-8DE0-EB6ED7CBBD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1731960" y="1066680"/>
            <a:ext cx="395280" cy="304920"/>
            <a:chOff x="1731960" y="1066680"/>
            <a:chExt cx="395280" cy="304920"/>
          </a:xfrm>
        </p:grpSpPr>
        <p:pic>
          <p:nvPicPr>
            <p:cNvPr id="564" name="椭圆 5" descr=""/>
            <p:cNvPicPr/>
            <p:nvPr/>
          </p:nvPicPr>
          <p:blipFill>
            <a:blip r:embed="rId1"/>
            <a:stretch/>
          </p:blipFill>
          <p:spPr>
            <a:xfrm>
              <a:off x="1731960" y="1066680"/>
              <a:ext cx="3952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1889280" y="110304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7:54:50Z</dcterms:created>
  <dc:creator>符号</dc:creator>
  <dc:description/>
  <dc:language>en-US</dc:language>
  <cp:lastModifiedBy>grace</cp:lastModifiedBy>
  <dcterms:modified xsi:type="dcterms:W3CDTF">2014-05-27T03:15:46Z</dcterms:modified>
  <cp:revision>51</cp:revision>
  <dc:subject/>
  <dc:title>10月工作总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