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508-8801-4B3F-B387-82ED23D5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1A1-CC28-4B5F-A9ED-692E8105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817-51EB-4246-8C81-A6CEF991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559-30B0-4BB8-AAA4-ACA9A3AD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05C-2C6E-498B-A195-909B09C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362-4D7C-4D9F-8CAA-9023430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DD7-8F41-4CB0-BDAC-F735F57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042-FF53-4A45-9F88-B155796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351-04DA-4D17-94A6-DF8D26E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F9-9EF6-482B-9D90-33E31C1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8BF-CDA3-411E-8F9C-CCA3DFB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B7D-9D08-469D-AEF3-EDDACA7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CD7A0-5A61-4374-A292-8343140D9F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42F5A-D09B-41BF-8271-FAB6C24629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阿里巴巴路演</a:t>
            </a:r>
            <a:br>
              <a:rPr sz="8800"/>
            </a:b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（英文版）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09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10.jpg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1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2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3" descr="13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4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3" descr="15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16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内容占位符 3" descr="17.jpg"/>
          <p:cNvPicPr/>
          <p:nvPr/>
        </p:nvPicPr>
        <p:blipFill>
          <a:blip r:embed="rId1"/>
          <a:srcRect l="0" t="13443" r="0" b="1344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内容占位符 3" descr="1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1.jpg"/>
          <p:cNvPicPr/>
          <p:nvPr/>
        </p:nvPicPr>
        <p:blipFill>
          <a:blip r:embed="rId1"/>
          <a:stretch/>
        </p:blipFill>
        <p:spPr>
          <a:xfrm>
            <a:off x="0" y="120348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19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内容占位符 3" descr="20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内容占位符 3" descr="21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22.jpg"/>
          <p:cNvPicPr/>
          <p:nvPr/>
        </p:nvPicPr>
        <p:blipFill>
          <a:blip r:embed="rId1"/>
          <a:srcRect l="0" t="12331" r="0" b="1233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内容占位符 3" descr="23.jpg"/>
          <p:cNvPicPr/>
          <p:nvPr/>
        </p:nvPicPr>
        <p:blipFill>
          <a:blip r:embed="rId1"/>
          <a:srcRect l="0" t="13658" r="0" b="136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24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内容占位符 3" descr="25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3" descr="26.jpg"/>
          <p:cNvPicPr/>
          <p:nvPr/>
        </p:nvPicPr>
        <p:blipFill>
          <a:blip r:embed="rId1"/>
          <a:srcRect l="0" t="13712" r="0" b="1371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内容占位符 3" descr="2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内容占位符 3" descr="2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02.jpg"/>
          <p:cNvPicPr/>
          <p:nvPr/>
        </p:nvPicPr>
        <p:blipFill>
          <a:blip r:embed="rId1"/>
          <a:srcRect l="0" t="13321" r="0" b="13321"/>
          <a:stretch/>
        </p:blipFill>
        <p:spPr>
          <a:xfrm>
            <a:off x="0" y="874800"/>
            <a:ext cx="91137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内容占位符 3" descr="29.jpg"/>
          <p:cNvPicPr/>
          <p:nvPr/>
        </p:nvPicPr>
        <p:blipFill>
          <a:blip r:embed="rId1"/>
          <a:srcRect l="0" t="10716" r="0" b="107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内容占位符 3" descr="30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内容占位符 3" descr="31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内容占位符 3" descr="32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内容占位符 3" descr="33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内容占位符 3" descr="34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内容占位符 3" descr="35.jpg"/>
          <p:cNvPicPr/>
          <p:nvPr/>
        </p:nvPicPr>
        <p:blipFill>
          <a:blip r:embed="rId1"/>
          <a:srcRect l="0" t="13171" r="0" b="131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内容占位符 3" descr="36.jpg"/>
          <p:cNvPicPr/>
          <p:nvPr/>
        </p:nvPicPr>
        <p:blipFill>
          <a:blip r:embed="rId1"/>
          <a:srcRect l="0" t="12558" r="0" b="125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内容占位符 3" descr="37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3" descr="38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03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内容占位符 3" descr="39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04.jpg"/>
          <p:cNvPicPr/>
          <p:nvPr/>
        </p:nvPicPr>
        <p:blipFill>
          <a:blip r:embed="rId1"/>
          <a:srcRect l="0" t="12784" r="0" b="1278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05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06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0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内容占位符 3" descr="08.jpg"/>
          <p:cNvPicPr/>
          <p:nvPr/>
        </p:nvPicPr>
        <p:blipFill>
          <a:blip r:embed="rId1"/>
          <a:srcRect l="0" t="13817" r="0" b="1381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3:04:00Z</dcterms:created>
  <dc:creator>Qian Hu</dc:creator>
  <dc:description/>
  <cp:keywords/>
  <dc:language>en-US</dc:language>
  <cp:lastModifiedBy>用户名</cp:lastModifiedBy>
  <dcterms:modified xsi:type="dcterms:W3CDTF">2014-09-13T13:26:3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