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4.gif" ContentType="image/gif"/>
  <Override PartName="/ppt/media/image11.jpeg" ContentType="image/jpeg"/>
  <Override PartName="/ppt/media/image9.jpeg" ContentType="image/jpeg"/>
  <Override PartName="/ppt/media/chimes.wav" ContentType="audio/x-wav"/>
  <Override PartName="/ppt/media/image16.wmf" ContentType="image/x-wmf"/>
  <Override PartName="/ppt/media/image15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0.gif" ContentType="image/gif"/>
  <Override PartName="/ppt/media/image12.jpeg" ContentType="image/jpeg"/>
  <Override PartName="/ppt/media/image13.png" ContentType="image/png"/>
  <Override PartName="/ppt/media/hammer.wav" ContentType="audio/x-wav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296-ED48-4B26-93FD-B62759CB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0106-471E-4FFE-90F9-548CE4C8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CEE-453D-4673-A3FB-934D95A9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DFA-058D-4956-A511-5CD895D8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813-6888-45E2-A97F-8838DF65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B3E-7B43-4E63-BB42-C0EDE98D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834-187B-4343-B687-5E81ADF6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C93-2655-471D-989A-E9C0DC40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944-6D1F-40D4-BDEC-8F346F2C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0EC6-E2CC-401B-A35B-A5385735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A4C-68A3-4AF2-9C0D-2AC4789D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C96-911A-45E7-8B22-30DB209E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1A35-15C4-4C33-9E34-57CF6D8E96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gi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slide" Target="slide11.xml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" Target="slide7.xml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祥林嫂的外貌变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4176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初到鲁镇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肖像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上扎着白头绳，乌裙，蓝夹袄，月白背心，脸色青   黄，但两颊还是红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眼睛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着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  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再到鲁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肖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上扎着白头绳，乌裙，蓝夹袄，月白背心，脸色青黄，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只是两颊上已经消失了血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眼睛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着眼，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眼角上带些泪痕，眼光也没有先前那样精神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940280"/>
            <a:ext cx="914400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  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临 死 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肖像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五年前花白的头发，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即今已经全白；脸上瘦削不堪，黄中 带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眼睛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只有那眼珠间或一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38280" y="304920"/>
            <a:ext cx="4419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祥林嫂的挣扎与抗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4343400" y="1447920"/>
            <a:ext cx="152280" cy="761760"/>
          </a:xfrm>
          <a:prstGeom prst="downArrow">
            <a:avLst>
              <a:gd name="adj1" fmla="val 50000"/>
              <a:gd name="adj2" fmla="val 12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5200" y="2590920"/>
            <a:ext cx="66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到鲁镇做女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47160" y="289548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对再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endCxn id="105" idx="0"/>
          </p:cNvCxnSpPr>
          <p:nvPr/>
        </p:nvCxnSpPr>
        <p:spPr>
          <a:xfrm flipH="1">
            <a:off x="2483640" y="2285640"/>
            <a:ext cx="16311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flipH="1">
            <a:off x="1066320" y="1981080"/>
            <a:ext cx="2590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8720" y="2438280"/>
            <a:ext cx="91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对嘲讽，无言反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8920" y="2438280"/>
            <a:ext cx="911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捐门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摆脱死后的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88000" y="2205000"/>
            <a:ext cx="1000080" cy="434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91120" y="2590920"/>
            <a:ext cx="1033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怀   疑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灵魂的有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1844640"/>
            <a:ext cx="2427120" cy="88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76720" y="990720"/>
            <a:ext cx="2743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浓厚的悲剧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095560" y="5638680"/>
            <a:ext cx="49528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抗争带有封建宗法和迷信色彩，希望寄托于封建势力和封建迷信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228600"/>
            <a:ext cx="1219320" cy="99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362720" y="0"/>
            <a:ext cx="1781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归纳祥林嫂这一人物形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祥林嫂是旧中国劳动妇女的典型，她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勤劳善良，朴实顽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，但在封建礼教和封建思想占统治地位的旧社会，她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被践踏、被迫害、被摧残，以至被旧社会所吞噬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。封建礼教对她的种种迫害，她曾不断地挣扎与反抗，最后还是被社会压垮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 rot="5400000">
            <a:off x="-1485720" y="3314520"/>
            <a:ext cx="487692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谁是凶手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666880"/>
            <a:ext cx="2590920" cy="762120"/>
          </a:xfrm>
          <a:prstGeom prst="rightArrow">
            <a:avLst>
              <a:gd name="adj1" fmla="val 50000"/>
              <a:gd name="adj2" fmla="val 849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2960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44756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848720" y="42670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181480" y="4343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 rot="5400000">
            <a:off x="-723960" y="3009960"/>
            <a:ext cx="3276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鲁四老爷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685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28600"/>
            <a:ext cx="1600200" cy="4597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骂新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066680"/>
            <a:ext cx="2819520" cy="8254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寿”字和“事理通达心气和平”的对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2666880"/>
            <a:ext cx="3886200" cy="4597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皱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讨厌祥林嫂是个寡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44956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657600"/>
            <a:ext cx="4114800" cy="8254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既是她的婆婆要她回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有什么话可说呢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恶！然而…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47080" y="352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53341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486400"/>
            <a:ext cx="4343400" cy="4597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告诫四婶，不让祥林嫂在祝福时沾手。死后骂她是个“谬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276720"/>
            <a:ext cx="2133720" cy="9471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支持她婆家把她抢回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自私伪善，冷酷无情，自觉维护封建制度和封建礼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572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228600"/>
            <a:ext cx="2133360" cy="5205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迂腐保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1066680"/>
            <a:ext cx="1981440" cy="9471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尊崇理学和孔孟之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1523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2895480"/>
            <a:ext cx="5335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019920" y="525744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438480" y="2209680"/>
            <a:ext cx="1521000" cy="1981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Times New Roman"/>
              </a:rPr>
              <a:t>柳   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68360" y="838080"/>
            <a:ext cx="398016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脸上已经打皱，眼睛已经干枯，可是还要给地主去帮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838080"/>
            <a:ext cx="1447920" cy="82548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受压迫的劳动妇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2209680"/>
            <a:ext cx="3870360" cy="825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祥林嫂改嫁时留下的头上的伤疤采取奚落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2819520"/>
            <a:ext cx="1600200" cy="119124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受封建礼教和封建迷信思想的毒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733920"/>
            <a:ext cx="3888000" cy="459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善意地把阴司故事讲给祥林嫂听，为祥林嫂寻求赎罪的办法，就她跳出苦海，结果适得其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295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2852640"/>
            <a:ext cx="7779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172200" y="388584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5791320"/>
            <a:ext cx="69343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同情祥林嫂的人也把祥林嫂推向深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-304920" y="304920"/>
            <a:ext cx="1600200" cy="1218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V="1">
            <a:off x="1295280" y="144756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195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3962520"/>
            <a:ext cx="83808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62160" y="1066680"/>
            <a:ext cx="1521000" cy="434340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鲁   镇  的  人  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1752480"/>
            <a:ext cx="4724280" cy="8254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祥林嫂再到鲁镇时，人们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“音调和先前很不同”，“笑容也冷冷的了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3048120"/>
            <a:ext cx="4648320" cy="11912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于她的故事，开始是同情，很快就感到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厌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常打断她的话，走开去，后来还故意用别的孩子去逗引她，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戳她的痛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对她进行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嘲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5373720"/>
            <a:ext cx="4800600" cy="45972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祥林嫂死后，短工“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简捷地说”“我说不清”“淡然地回答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漠不关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37440" y="1676520"/>
            <a:ext cx="549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1981080"/>
            <a:ext cx="1447920" cy="520560"/>
          </a:xfrm>
          <a:prstGeom prst="rect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被封建思想支配，不觉悟。群众之间隔膜、冷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1557360"/>
            <a:ext cx="658800" cy="11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804000" y="4076280"/>
            <a:ext cx="57636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3505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-228600"/>
            <a:ext cx="1523880" cy="1200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28800" y="533520"/>
            <a:ext cx="4724280" cy="82548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家中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一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在准备着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年年如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家家如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“祝福”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大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研读：人物形象——“我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是</a:t>
            </a:r>
            <a:r>
              <a:rPr b="1" lang="zh-CN" sz="4000" spc="-1" strike="noStrike" u="sng">
                <a:solidFill>
                  <a:srgbClr val="66ffcc"/>
                </a:solidFill>
                <a:uFillTx/>
                <a:latin typeface="Times New Roman"/>
                <a:ea typeface="华文新魏"/>
              </a:rPr>
              <a:t>全文的线索人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祥林嫂一生的悲惨遭遇都是通过“我‘的所见所闻来展现的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一个具有进步思想的小资产阶级知识分子的形象，同情劳动人民，不满黑暗现实，但也有软弱和无能的一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90920" y="2036880"/>
            <a:ext cx="3960720" cy="2784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454800" y="4776840"/>
            <a:ext cx="2509920" cy="1820880"/>
          </a:xfrm>
          <a:prstGeom prst="wedgeEllipseCallout">
            <a:avLst>
              <a:gd name="adj1" fmla="val -53037"/>
              <a:gd name="adj2" fmla="val -54620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62064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政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84720" y="189000"/>
            <a:ext cx="2808360" cy="1655640"/>
          </a:xfrm>
          <a:prstGeom prst="wedgeEllipseCallout">
            <a:avLst>
              <a:gd name="adj1" fmla="val -40162"/>
              <a:gd name="adj2" fmla="val 76939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89000"/>
            <a:ext cx="2438280" cy="1676160"/>
          </a:xfrm>
          <a:prstGeom prst="wedgeEllipseCallout">
            <a:avLst>
              <a:gd name="adj1" fmla="val 48439"/>
              <a:gd name="adj2" fmla="val 6657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4992840"/>
            <a:ext cx="2293920" cy="1676160"/>
          </a:xfrm>
          <a:prstGeom prst="wedgeEllipseCallout">
            <a:avLst>
              <a:gd name="adj1" fmla="val 59967"/>
              <a:gd name="adj2" fmla="val -59564"/>
            </a:avLst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1520" y="692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族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0240" y="5114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神 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47524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夫 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20" y="304812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封建礼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18160" y="304812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封建迷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429000" y="457200"/>
            <a:ext cx="228600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元凶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4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checkerboard(across)" transition="out">
                                      <p:cBhvr additive="repl">
                                        <p:cTn id="4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30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研读小说的环境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3716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鲁镇”是一个怎么的地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3623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是一个封闭的社会：许多传统习俗、封建观念、男尊女卑等封建等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4114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、弥漫着浓厚的迷信气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ae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699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286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作者简介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鲁迅，原名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周树人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，字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豫才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，</a:t>
            </a:r>
            <a:r>
              <a:rPr b="0" lang="zh-CN" sz="3600" spc="-1" strike="noStrike">
                <a:solidFill>
                  <a:srgbClr val="ff3399"/>
                </a:solidFill>
                <a:latin typeface="Times New Roman"/>
                <a:ea typeface="隶书"/>
              </a:rPr>
              <a:t>浙江绍兴人。我国现代伟大的无产阶级文学家、思想家、革命家</a:t>
            </a:r>
            <a:r>
              <a:rPr b="0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。主要作品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36640" y="3276720"/>
            <a:ext cx="672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小说集：《呐喊》、《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彷徨</a:t>
            </a:r>
            <a:r>
              <a:rPr b="0" lang="zh-CN" sz="3200" spc="-1" strike="noStrike">
                <a:solidFill>
                  <a:srgbClr val="8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80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历史小说集：《故事新编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12960" y="43434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散文集：《朝花夕拾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12960" y="4876920"/>
            <a:ext cx="39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散文诗集：《野草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4100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杂文集：《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南腔北调集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》、《坟》、           《热风》等十五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环境描写——三次“祝福”的描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揭示祥林嫂悲剧的社会根源，预示祥林嫂悲剧的必然性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推动情节发展，增强人物形象的真实性和感染力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首尾呼应，深化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66680" y="9907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环境描写——鲁镇的人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560" y="183024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祥林嫂再嫁：婆婆将她卖掉，四叔四婶认为给自己添麻   烦，小叔子为自己的婚事而强按嫂子拜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儿子被狼吃了：鲁镇的男人……女人们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祥林嫂头上的伤疤：成为鲁镇人们生活的调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祥林嫂的死：鲁四—“谬种”，短工—“淡然”，“我”—由“惊惶”到“渐渐轻松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以“祝福”为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小说起于祝福，终于祝福，中间一再写到祝福，情节的发展与祝福密切相关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祥林嫂的悲惨遭遇是在祝福的欢乐气氛中展开的，鲜明的对照增强了作品的悲剧色彩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深化了小说的主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总结：主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《祝福》通过祥林嫂一生的悲惨遭遇，反映了辛亥革命以后中国的社会矛盾，深刻地揭露了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封建礼教吃人的本质，指出彻底反封建的必要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许寿裳：人世间的惨事，不惨在狼    吃阿毛，而惨在礼教吃祥林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小说常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7621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说是一种通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情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环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具体描写来反映现实生活的文学体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7840" y="290088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华文中宋"/>
              </a:rPr>
              <a:t>小说三要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20968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7320" y="2004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物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9360" y="4143240"/>
            <a:ext cx="99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情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6019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环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743200"/>
            <a:ext cx="381240" cy="3200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2590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（序幕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05320" y="3200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开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098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343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高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4952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结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5486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Times New Roman"/>
              </a:rPr>
              <a:t>（尾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53080" y="1981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典型的艺术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09760" y="6019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然环境、社会环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20037211657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819520" y="0"/>
            <a:ext cx="335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时代背景</a:t>
            </a:r>
            <a:endParaRPr b="1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44792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祝福》发表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。是小说集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彷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故事叙述的是辛亥革命后中国农村的黑暗现状。辛亥革命虽然推翻了清王朝，但中国仍然处于帝国主义和封建主义的统治和压迫下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封建的思想观念和礼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仍然顽固的束缚着广大农民，尤其是妇女。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新文化运动的口号是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民主、科学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”，而阻碍中国进入民主、科学时代的最大障碍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就是中国二千年遗留下来的腐朽、愚昧的封建思想。中国妇女则是</a:t>
            </a:r>
            <a:r>
              <a:rPr b="0" lang="zh-CN" sz="2800" spc="-1" strike="noStrike" u="sng">
                <a:solidFill>
                  <a:srgbClr val="800000"/>
                </a:solidFill>
                <a:uFillTx/>
                <a:latin typeface="Times New Roman"/>
                <a:ea typeface="楷体_GB2312"/>
                <a:hlinkClick r:id="rId3" action="ppaction://hlinksldjump"/>
              </a:rPr>
              <a:t>封建思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大的受害者。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鲁迅选择妇女题材，深刻揭露封建文化思想的流弊和余毒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以推进民主新文化的进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8153280" y="60199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-55440"/>
            <a:ext cx="8839080" cy="6921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-925200" y="1600200"/>
            <a:ext cx="31064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祝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153280" y="60199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xywpaperb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2280" y="0"/>
            <a:ext cx="51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3366"/>
                </a:solidFill>
                <a:latin typeface="Times New Roman"/>
                <a:ea typeface="华文新魏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762120" y="914400"/>
            <a:ext cx="76197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c005c"/>
                </a:solidFill>
                <a:latin typeface="Times New Roman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7c005c"/>
                </a:solidFill>
                <a:latin typeface="Times New Roman"/>
                <a:ea typeface="楷体_GB2312"/>
              </a:rPr>
              <a:t>、快速默读全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c005c"/>
                </a:solidFill>
                <a:latin typeface="Times New Roman"/>
                <a:ea typeface="楷体_GB2312"/>
              </a:rPr>
              <a:t>3</a:t>
            </a:r>
            <a:r>
              <a:rPr b="0" lang="zh-CN" sz="4400" spc="-1" strike="noStrike">
                <a:solidFill>
                  <a:srgbClr val="7c005c"/>
                </a:solidFill>
                <a:latin typeface="Times New Roman"/>
                <a:ea typeface="楷体_GB2312"/>
              </a:rPr>
              <a:t>、小组研究并为“祥林嫂”编写“年谱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006640"/>
            <a:ext cx="6673680" cy="1630440"/>
          </a:xfrm>
          <a:prstGeom prst="rect">
            <a:avLst/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替“我”写日记。按日记的形式：日期、天气、事情。以“我”为角度叙述故事情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祥林嫂1" descr=""/>
          <p:cNvPicPr/>
          <p:nvPr/>
        </p:nvPicPr>
        <p:blipFill>
          <a:blip r:embed="rId1"/>
          <a:stretch/>
        </p:blipFill>
        <p:spPr>
          <a:xfrm>
            <a:off x="5791320" y="0"/>
            <a:ext cx="2743200" cy="2895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228600"/>
            <a:ext cx="87631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方正姚体"/>
              </a:rPr>
              <a:t>祥林嫂年（年龄）谱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六七岁以前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祥林结婚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六七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春上死了丈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冬初逃出家中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经卫老婆子介绍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到鲁镇做工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七八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春上改嫁，年底生阿毛。阿毛一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八九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阿毛两岁。丈夫患伤寒死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二十九或三十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阿毛三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或三十一岁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四岁的阿毛春上被狼衔去。秋天，经卫老婆子介绍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回到鲁镇做工。祭祠时很闲，只烧火。年底，柳妈建议她去土地庙捐门槛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祥林嫂2" descr=""/>
          <p:cNvPicPr/>
          <p:nvPr/>
        </p:nvPicPr>
        <p:blipFill>
          <a:blip r:embed="rId1"/>
          <a:stretch/>
        </p:blipFill>
        <p:spPr>
          <a:xfrm>
            <a:off x="6124680" y="685800"/>
            <a:ext cx="3019320" cy="5638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3808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一二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近秋到土地庙捐门槛。冬季祭祖时节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仍不能拿酒杯和筷子。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二三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头发花白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记忆尤其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三四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可能被赶出鲁四老爷家。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三十四五岁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沦落为乞丐。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华文中宋"/>
              </a:rPr>
              <a:t>四十岁上下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腊月二十四夜里或二十五凌晨离开人世。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理清小说的情节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7760" y="4723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lnSpc>
                <a:spcPct val="90000"/>
              </a:lnSpc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再写祝福景象和“我”的感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9907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9144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内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1828800"/>
            <a:ext cx="25146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序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结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开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高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尾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92080" y="3200400"/>
            <a:ext cx="25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祥林嫂初到鲁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72428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祥林嫂再到鲁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0560" y="3886200"/>
            <a:ext cx="27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祥林嫂被卖改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28880" y="2514600"/>
            <a:ext cx="27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祥林嫂寂然死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752480"/>
            <a:ext cx="6095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993366"/>
                </a:solidFill>
                <a:latin typeface="Times New Roman"/>
              </a:rPr>
              <a:t>鲁镇祝福的景象和鲁四老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99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73640" y="3048120"/>
            <a:ext cx="1826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Times New Roman"/>
              </a:rPr>
              <a:t>倒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743200"/>
            <a:ext cx="533160" cy="2514600"/>
          </a:xfrm>
          <a:custGeom>
            <a:avLst/>
            <a:gdLst>
              <a:gd name="textAreaLeft" fmla="*/ 340560 w 533160"/>
              <a:gd name="textAreaRight" fmla="*/ 533520 w 5331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3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7:18:15Z</dcterms:created>
  <dc:creator>yu71</dc:creator>
  <dc:description/>
  <dc:language>en-US</dc:language>
  <cp:lastModifiedBy>Billgates</cp:lastModifiedBy>
  <dcterms:modified xsi:type="dcterms:W3CDTF">2005-03-15T06:34:09Z</dcterms:modified>
  <cp:revision>75</cp:revision>
  <dc:subject/>
  <dc:title>PowerPoint 演示文稿</dc:title>
</cp:coreProperties>
</file>