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4CB-AC1A-4436-B870-C5A6ECAF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FDC-A979-4170-B155-1E3B8DBB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534-EF93-4E38-91DC-182A8FD2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4E9-2D3C-4D55-A821-F1327C8A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8AC-4037-4DC2-BE5A-8AF514AE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9F6-5017-4436-8D0D-065EED6C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2BC-B01D-4EB7-9DFA-DABE2264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953-1FFA-41DC-8CF9-DE8BC023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EA4-7F8B-4FD9-B66B-B7C84D85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FB1-E26B-4E08-9DB9-59D2427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BDE-09EE-4190-AAD0-5355EE13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8BE-0F7D-442C-B0AD-F020BED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0230-42EE-4D40-A01F-0FB3F67A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rbel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60" y="593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808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ndara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220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Candara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949"/>
                </a:solidFill>
                <a:latin typeface="Candara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/>
  <dcterms:modified xsi:type="dcterms:W3CDTF">2014-07-19T06:49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