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131-48B3-4DBA-8778-561CAB7E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F70-DD51-47A8-8F4E-1998CCC1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AFB2-4AB4-447B-B37E-2205ECC0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A21C-DE8B-49FC-909B-1FCB8A36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7B4-648D-48FE-9A01-7138D3BC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32A3-D204-4D51-A261-609529CD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22E8-67BA-402F-AE54-168468E5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C9C0-C3C6-4724-8494-8B2167EE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437A-BF43-445C-89B3-740DC4B8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C0D-0E63-4B65-A487-FBE115F6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AF71-73B3-49C0-BC2B-CC53C698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E8D-3C3C-4D62-9B3B-95AF2C82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1A49-9F77-44F7-BE64-9A5E394C4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reamkidland.cn/thhb/opc/0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reamkidland.cn/thhb/opc/0.htm" TargetMode="External"/><Relationship Id="rId2" Type="http://schemas.openxmlformats.org/officeDocument/2006/relationships/hyperlink" Target="http://www.dreamkidland.cn/thhb/opc/0.htm" TargetMode="External"/><Relationship Id="rId3" Type="http://schemas.openxmlformats.org/officeDocument/2006/relationships/hyperlink" Target="http://www.dreamkidland.cn/thhb/opc/0.htm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54817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5867280" y="1728720"/>
            <a:ext cx="294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猫头鹰和小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爱德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尼尔 著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ward Le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伯内特 绘画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 Bret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翻译：漪然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推荐阅读年龄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1569600" y="58046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来到一片长着吊钟树的土地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552920" cy="5448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4562640" y="0"/>
            <a:ext cx="4581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8360" y="6093000"/>
          <a:ext cx="7315200" cy="67140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4552920" cy="5448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"/>
          <p:cNvPicPr/>
          <p:nvPr/>
        </p:nvPicPr>
        <p:blipFill>
          <a:blip r:embed="rId2"/>
          <a:stretch/>
        </p:blipFill>
        <p:spPr>
          <a:xfrm>
            <a:off x="4556160" y="0"/>
            <a:ext cx="4552920" cy="54482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7"/>
          <p:cNvSpPr/>
          <p:nvPr/>
        </p:nvSpPr>
        <p:spPr>
          <a:xfrm>
            <a:off x="879480" y="559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395280" y="5667480"/>
            <a:ext cx="83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只戴假发的小猪在岛上站，他的鼻子上就套着一只订婚戒指，他的鼻子，他的鼻子，他的鼻子上就套着一只订婚戒指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2756880" y="5949360"/>
            <a:ext cx="19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亲爱的猪，你是否愿意用一个先令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售你的宝贝戒指？”小猪说道：“我很愿意。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448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4591080" y="0"/>
            <a:ext cx="45529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2250000" y="587628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于是他们接过了戒指，第二天就举行了婚礼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持婚礼的是住在山坡上的火鸡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591080" cy="544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4552920" y="0"/>
            <a:ext cx="459108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9280" y="552960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们细嚼慢咽着切成片的木梨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们的餐具是一把叉匙①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①叉匙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cible spo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：一种有三根阔齿的匙状食具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cib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英文单词是爱德华在这首荒诞诗歌里发明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591080" cy="5448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4572000" y="0"/>
            <a:ext cx="453384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1739520" y="5392800"/>
            <a:ext cx="188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着他们就手拉手走向沙滩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月光下面舞蹈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光呀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光呀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们在月光下面舞蹈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448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4645080" y="0"/>
            <a:ext cx="43909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2338560" y="704880"/>
            <a:ext cx="446688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144360" y="537120"/>
            <a:ext cx="882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作者简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爱德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尼尔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ward Lear,18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8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是英国诗人，一个伦敦股票经纪人的小儿子。尼尔是一个以绘画风景和鸟类见长的画家。他曾经给维多利亚女王上过绘画课。但他却是以他的怪诞诗歌闻名于世。比如这一首：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从前有一个老人长着长长的胡子，他说：“它长得让我忧虑！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两只猫头鹰和一只母鸡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四只云雀和一只鹪鹩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全都把自己的小窝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在我的胡子里建造！”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他最为著名的作品“猫头鹰和小猫”是一组系列诗歌，尼尔曾经写过一篇“猫头鹰和小猫的孩子们”作为结局，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8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他去世时，却没有留下完整的诗稿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猫头鹰和小猫的孩子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节选）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我们的妈妈是一只小猫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我们的爸爸是猫头鹰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所以我们既是小动物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又是小鸟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我们家里的弟兄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都穿着羽毛外套鸣叫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我们家里的姐妹却长着绒毛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还有一根长长的尾巴摇呀摇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5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>
            <a:hlinkClick r:id="rId3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"/>
          <p:cNvPicPr/>
          <p:nvPr/>
        </p:nvPicPr>
        <p:blipFill>
          <a:blip r:embed="rId4"/>
          <a:stretch/>
        </p:blipFill>
        <p:spPr>
          <a:xfrm>
            <a:off x="1440" y="0"/>
            <a:ext cx="4418280" cy="5300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"/>
          <p:cNvPicPr/>
          <p:nvPr/>
        </p:nvPicPr>
        <p:blipFill>
          <a:blip r:embed="rId5"/>
          <a:stretch/>
        </p:blipFill>
        <p:spPr>
          <a:xfrm>
            <a:off x="4421160" y="0"/>
            <a:ext cx="4722840" cy="5300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325440" y="5145120"/>
            <a:ext cx="87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作品简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这是一本根据百年前流传下来的一首童诗画的图画书，讲的是发生在加勒比海的一只猫头鹰和一只猫的爱情故事。百年来，有十几位插画家为它配过画，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伯内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AN BRETT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这个版本是其中最好的之一。她的画象是一针一线绣出来的，每一个角落都细致入微，为了画这本书，她还专门去加勒比海考察当地的风光，穿着和特有的动植物。简在美国是非常有名的童书画家，她的书销量极大，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万册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52920" cy="5448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562640" y="0"/>
            <a:ext cx="4581360" cy="5448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044720" y="60127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猫头鹰和小猫一起航海去在一只豌豆绿的小船上漂呀漂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14400" y="5681520"/>
          <a:ext cx="7315200" cy="91620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91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他们带上了一些蜂蜜，还有一些钱币特别是一张五英镑的钞票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4524480" cy="5448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2"/>
          <a:stretch/>
        </p:blipFill>
        <p:spPr>
          <a:xfrm>
            <a:off x="4537080" y="0"/>
            <a:ext cx="45720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258920" y="5876280"/>
            <a:ext cx="56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猫头鹰仰头去看星星，一边弹奏起一把小小的吉他琴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552920" cy="5448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4572000" y="0"/>
            <a:ext cx="456264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68360" y="55666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噢，可爱的小猫，噢，我心爱的小猫，你是一只多么美丽的小猫，你呀，你呀！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是一只多么美丽的小猫！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591080" cy="5448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4518000" y="0"/>
            <a:ext cx="459108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250920" y="580464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猫对猫头鹰说道：“你这高雅的小鸟，吟唱得多么美妙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600440" cy="544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4552920" y="0"/>
            <a:ext cx="459108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538200" y="56671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哦！让我们赶快结婚！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宝贵的时间不该被白白消耗；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我们的订婚戒指上哪儿才能弄到？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448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4537080" y="0"/>
            <a:ext cx="45720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7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11280" y="587628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们航行了一年零一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8"/>
          <a:stretch/>
        </p:blipFill>
        <p:spPr>
          <a:xfrm>
            <a:off x="0" y="0"/>
            <a:ext cx="4562640" cy="5448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9"/>
          <a:stretch/>
        </p:blipFill>
        <p:spPr>
          <a:xfrm>
            <a:off x="4543560" y="0"/>
            <a:ext cx="460044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08:48:40Z</dcterms:created>
  <dc:creator>lenovo</dc:creator>
  <dc:description/>
  <dc:language>en-US</dc:language>
  <cp:lastModifiedBy>Sky123.Org</cp:lastModifiedBy>
  <dcterms:modified xsi:type="dcterms:W3CDTF">2015-08-05T01:45:47Z</dcterms:modified>
  <cp:revision>17</cp:revision>
  <dc:subject/>
  <dc:title>幻灯片 1</dc:title>
</cp:coreProperties>
</file>