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9C0-CFFD-4D38-B65D-EE1AE81E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24C-EBD7-4E7D-8260-56CC32C1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23D-648C-4848-9A42-53AED8CB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D61-BF74-42DA-B301-44D4D889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511-425E-4EDB-B965-A8E1601F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74B-10BC-440D-89ED-A1B6134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F72-5101-4884-97E6-F8D95429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584-F3B2-4762-B781-02D1E391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E0B-85EF-49D7-ABD0-C5D0E53C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874-C961-4A7C-ABAE-6EAED875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43A-F159-46B9-BDD8-155316FD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B00-3AEA-420D-A938-835D6BF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16B5-43F6-48D9-ADDE-D42815DF34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143680" y="164304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823000" y="2286000"/>
            <a:ext cx="24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2-15T02:01:44Z</dcterms:modified>
  <cp:revision>93</cp:revision>
  <dc:subject/>
  <dc:title>幻灯片 1</dc:title>
</cp:coreProperties>
</file>