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8F3-8A25-4960-B9D7-9DBB6B95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920-9420-4B53-80E5-90F5813E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B3B-4E1E-47C3-9210-0AE74802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899-BEFA-4E25-8955-50799537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321-A09A-46B3-9665-82F56D35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F30-7E78-4859-A5A0-5E079CA4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B3F-41AD-4D76-B6C6-9300BAD5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F65-13BE-48BC-A016-7BC649A7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5E8-84C6-445D-BCF5-ED5DABC3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7CA-B1D2-4477-8A9D-1535359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550-84CC-4115-A610-101A1C20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AFF-35F1-4D4F-A124-390DF5C0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3C6E-F56E-4BBF-B1C0-35113F83F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038480" y="4267080"/>
            <a:ext cx="4191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人：郑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0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年终总结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0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年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447920"/>
            <a:ext cx="830592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259092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451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baseline="2000">
                <a:solidFill>
                  <a:srgbClr val="000000"/>
                </a:solidFill>
                <a:latin typeface="楷体_GB2312"/>
                <a:ea typeface="楷体_GB2312"/>
              </a:rPr>
              <a:t>个人述职报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对于公司来说，是不平凡的一年，升格为央企，意味着拥有了新的挑战、新的起点，新的机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在以后的工作中努力实现自己存在的价值，充分发挥自己的特长，对自己的工作存在的不足及时改正。为实现“三年再造一个太平”做出应有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运营服务部对外展示的是公司形象，对内则为与公司业务部门往来最多的部门。 提升客户满意度，增加公司美誉度，还有许多工作要做，现在的困境和不足是我日后更大的动力，最后感谢各位的信任与支持，感谢其他部门同事的积极协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年已接近的尾声，我们即将迎来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年的曙光，我希望在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年不断充实新的知识、不断创新，积极做好各项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感谢各位领导的倾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谢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190d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30592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3920" y="4572000"/>
            <a:ext cx="457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cap="rnd" w="9360">
                  <a:solidFill>
                    <a:srgbClr val="00ff99"/>
                  </a:solidFill>
                  <a:miter/>
                </a:ln>
                <a:solidFill>
                  <a:srgbClr val="00ff99"/>
                </a:solid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Thank you !</a:t>
            </a:r>
            <a:endParaRPr b="0" lang="en-US" sz="1800" spc="-1" strike="noStrike">
              <a:ln cap="rnd" w="9360">
                <a:solidFill>
                  <a:srgbClr val="00ff99"/>
                </a:solidFill>
                <a:miter/>
              </a:ln>
              <a:solidFill>
                <a:srgbClr val="00ff99"/>
              </a:solid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述职报告提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总结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工作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中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所存在问题处理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下一步工作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总 结 部 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本工作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工无岁月！总觉得还没来得及细细揣摩自己在这一年中的所获得的千般感受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已经进入尾声了。总的来讲，本人做到爱岗守业，配合各项工作，在自己的岗位忠实的履行了自己的职责。同时，我意识到熟练的操作技能、灵活的思路、足够的干劲、浓厚的工作兴趣是工作中很重要的一部分。通过这一年的工作，丰富了我的工作阅历。但在这一年的工作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也认识到团队的力量和自我的不足，还有很多值得思考并改正的地方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几个方面对我的工作进行总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315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围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营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方针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拟定了部门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升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的方案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贯彻“放飞爱心，四海太平”这一主题，组织开展“太平手拉手爱心书屋”活动，取得圆满成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年度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服务工作的开展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增加客户满意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契约体检工作顺利开展，缩短等待时间，提升客户满意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新契约、保全、问题件等日常工作，便于核查和管理，并及时做好档案材料的整理、归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与其他部门建立良好的沟通；工作中发生的一般事项都能有效的协调及尝试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了配合公司经营节奏，做好截点收单工作，遵循了运营“服务直到绝望为止” 的信念，满足了外勤伙伴的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75888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工作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315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个人学习抓得不紧，学习不够深入，缺乏锲而不舍的精神，同时沟通能力不强，有时工作繁忙时，存在急躁情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改进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方面要努力加强自身技能，脚踏实地、用心去做好每一项工作，同时要注重过程，讲究实效，切实解决工作中遇到的各种问题。另一方面要转变观念，调整思路，更好地适应公司发展提出的管理要求，为全面完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各项工作任务做出自己的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758880"/>
            <a:ext cx="4800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中存在的问题及改进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315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日常工作没做到位，存在一定的问题，如：汇报落实不够，办法措施不多，年度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落后，离领导的期待还有一定的距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改进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学习先进机构的经验，针对弱项指标，如承保率低，首期转账成功率低等老问题，要切实有效地制定解决方案，并坚决施行。增强方案实施过程中的应变能力、沟通力，使得解决措施更具有创造性、艺术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758880"/>
            <a:ext cx="4800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中存在的问题及改进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04812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下一步工作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重点关注运营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考核。运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的好坏，直接体现公司在运营过程中的健康持续发展与否，关系对每位伙伴的展业品质，因此在工作过程中更需要与业务部门的沟通和协调，联合制订相关措施，及时调整和改进工作方法，确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标考核从优秀走向卓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切实做好日常工作，自觉遵守各项规章制度和业务流程，将工作落到实处，做到日事日毕。绝不拖延，马虎应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6T09:14:27Z</dcterms:created>
  <dc:creator/>
  <dc:description/>
  <dc:language>en-US</dc:language>
  <cp:lastModifiedBy>微软用户</cp:lastModifiedBy>
  <dcterms:modified xsi:type="dcterms:W3CDTF">2015-07-28T07:48:36Z</dcterms:modified>
  <cp:revision>3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