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FFB-6D51-4282-B6C8-B8F2B6D0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7195-AE74-4103-9F34-BEBA6125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C41-26A2-41E9-9704-4FA7F4EB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0A1-E1F0-4CC3-967B-1F0EA1BD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D3C-AD67-47E8-9672-CD306538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DCB5-92EA-445D-914A-9481A85B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C2A-18E4-4451-AA8D-F64F87D0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1640-58FB-4888-8330-748D2E2E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E6F4-E0E1-4ACB-8DA5-2E5ADAD2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231-C009-49B8-9131-AACF4778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6AC-48C2-4D74-B04D-A2CA2A95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4EB7-8DA8-431B-97E7-BF9E6F01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FF8E-7BF8-47D3-8F9D-6A1383C6ED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693800" y="1214280"/>
            <a:ext cx="152100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987920" y="392652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405160" y="100008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可爱卡通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1000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24260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7120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5426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0690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32320" y="1000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3211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52120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837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0690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903600" y="9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071800" y="2357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9"/>
          <p:cNvSpPr/>
          <p:nvPr/>
        </p:nvSpPr>
        <p:spPr>
          <a:xfrm>
            <a:off x="49266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283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55695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6498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903600" y="1000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2000160" y="3643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2120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498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4140720" y="5715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903600" y="9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4786200" y="3429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13546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6855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211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903600" y="9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928800" y="3643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671256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4569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5283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42836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1-03T01:02:51Z</dcterms:modified>
  <cp:revision>27</cp:revision>
  <dc:subject/>
  <dc:title>幻灯片 1</dc:title>
</cp:coreProperties>
</file>