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0EB-78E6-4E5F-87B4-8CA5C4C1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D29-4EDA-4F14-8036-64BA462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2D7-E011-48E5-AFF9-40C62B9A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C91-1180-462D-ABE9-2A074AF1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514-72A3-4042-B325-8E65E84C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F67-65C6-4B4E-9E84-F204E86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4D9-2900-463E-BFDB-2EF55581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DA8-11F4-4C42-AEA8-410BD33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92C-4DB8-44F2-A604-66842BE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7F1-066B-4212-B5D2-E94439D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B0E-273D-42CD-A3C9-C03455A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A26-ACE1-4BBD-8BF6-FD52CC0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A677-C4EB-4A35-85D4-2E4847AF1E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5A7-12A6-4CE7-BDF6-65949AAC72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65"/>
          <p:cNvGrpSpPr/>
          <p:nvPr/>
        </p:nvGrpSpPr>
        <p:grpSpPr>
          <a:xfrm>
            <a:off x="250920" y="1320840"/>
            <a:ext cx="8718480" cy="4560840"/>
            <a:chOff x="250920" y="1320840"/>
            <a:chExt cx="8718480" cy="4560840"/>
          </a:xfrm>
        </p:grpSpPr>
        <p:pic>
          <p:nvPicPr>
            <p:cNvPr id="47" name="Picture 2" descr="精选35（www"/>
            <p:cNvPicPr/>
            <p:nvPr/>
          </p:nvPicPr>
          <p:blipFill>
            <a:blip r:embed="rId2"/>
            <a:stretch/>
          </p:blipFill>
          <p:spPr>
            <a:xfrm>
              <a:off x="4427280" y="1523880"/>
              <a:ext cx="454212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50"/>
            <p:cNvSpPr/>
            <p:nvPr/>
          </p:nvSpPr>
          <p:spPr>
            <a:xfrm>
              <a:off x="406800" y="13208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b2f1"/>
                  </a:solidFill>
                  <a:latin typeface="微软雅黑"/>
                  <a:ea typeface="微软雅黑"/>
                </a:rPr>
                <a:t>幻灯片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663480" y="2792880"/>
              <a:ext cx="2656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663480" y="3447720"/>
              <a:ext cx="29638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663480" y="4172040"/>
              <a:ext cx="51566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50920" y="2699280"/>
              <a:ext cx="4830480" cy="360"/>
              <a:chOff x="250920" y="2699280"/>
              <a:chExt cx="4830480" cy="360"/>
            </a:xfrm>
          </p:grpSpPr>
          <p:sp>
            <p:nvSpPr>
              <p:cNvPr id="53" name="Line 10"/>
              <p:cNvSpPr/>
              <p:nvPr/>
            </p:nvSpPr>
            <p:spPr>
              <a:xfrm>
                <a:off x="250920" y="269928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>
                <a:off x="250920" y="269928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50920" y="3313800"/>
              <a:ext cx="4830480" cy="360"/>
              <a:chOff x="250920" y="3313800"/>
              <a:chExt cx="4830480" cy="360"/>
            </a:xfrm>
          </p:grpSpPr>
          <p:sp>
            <p:nvSpPr>
              <p:cNvPr id="56" name="Line 11"/>
              <p:cNvSpPr/>
              <p:nvPr/>
            </p:nvSpPr>
            <p:spPr>
              <a:xfrm>
                <a:off x="250920" y="331380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250920" y="331380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50920" y="3989160"/>
              <a:ext cx="4830480" cy="360"/>
              <a:chOff x="250920" y="3989160"/>
              <a:chExt cx="4830480" cy="360"/>
            </a:xfrm>
          </p:grpSpPr>
          <p:sp>
            <p:nvSpPr>
              <p:cNvPr id="59" name="Line 12"/>
              <p:cNvSpPr/>
              <p:nvPr/>
            </p:nvSpPr>
            <p:spPr>
              <a:xfrm>
                <a:off x="250920" y="398916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250920" y="398916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6"/>
            <p:cNvSpPr/>
            <p:nvPr/>
          </p:nvSpPr>
          <p:spPr>
            <a:xfrm>
              <a:off x="663480" y="2147400"/>
              <a:ext cx="2779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668880" y="4104360"/>
              <a:ext cx="2651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50920" y="4602240"/>
              <a:ext cx="4830480" cy="360"/>
              <a:chOff x="250920" y="4602240"/>
              <a:chExt cx="4830480" cy="360"/>
            </a:xfrm>
          </p:grpSpPr>
          <p:sp>
            <p:nvSpPr>
              <p:cNvPr id="64" name="Line 12"/>
              <p:cNvSpPr/>
              <p:nvPr/>
            </p:nvSpPr>
            <p:spPr>
              <a:xfrm>
                <a:off x="250920" y="460224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50920" y="460224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7"/>
            <p:cNvSpPr/>
            <p:nvPr/>
          </p:nvSpPr>
          <p:spPr>
            <a:xfrm>
              <a:off x="662040" y="4725360"/>
              <a:ext cx="3149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504000" y="5216760"/>
              <a:ext cx="4829040" cy="360"/>
              <a:chOff x="504000" y="5216760"/>
              <a:chExt cx="4829040" cy="360"/>
            </a:xfrm>
          </p:grpSpPr>
          <p:sp>
            <p:nvSpPr>
              <p:cNvPr id="68" name="Line 12"/>
              <p:cNvSpPr/>
              <p:nvPr/>
            </p:nvSpPr>
            <p:spPr>
              <a:xfrm>
                <a:off x="504000" y="5216760"/>
                <a:ext cx="4829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504000" y="5216760"/>
                <a:ext cx="482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8"/>
            <p:cNvSpPr/>
            <p:nvPr/>
          </p:nvSpPr>
          <p:spPr>
            <a:xfrm>
              <a:off x="656640" y="5358960"/>
              <a:ext cx="51566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662040" y="5291280"/>
              <a:ext cx="29008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50920" y="5831280"/>
              <a:ext cx="4830480" cy="360"/>
              <a:chOff x="250920" y="5831280"/>
              <a:chExt cx="4830480" cy="360"/>
            </a:xfrm>
          </p:grpSpPr>
          <p:sp>
            <p:nvSpPr>
              <p:cNvPr id="73" name="Line 12"/>
              <p:cNvSpPr/>
              <p:nvPr/>
            </p:nvSpPr>
            <p:spPr>
              <a:xfrm>
                <a:off x="250920" y="583128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50920" y="583128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3:03:32Z</dcterms:modified>
  <cp:revision>1134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