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617-3152-45E6-AAA4-0CA5D1BF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EAB-D4F1-49BD-87FA-BC4DF79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30F-4FA3-4C55-9C9F-2F7D9478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E10-153A-490F-950B-96106E17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966E-E063-4281-8A7C-ADCE8928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264-CEE9-4071-9464-B0866EE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111-5C64-4E44-95AC-3BFE692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DA6B-E12C-400D-A48E-223AEF7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4123-2A95-4CE7-BE1F-CD66EF3B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D444-7F20-4EDE-AAD9-DCCE37A9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1213-5353-4A16-97AE-B058944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538-9F43-4D4C-A8DE-5D84004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92D7-9A56-4E3A-9F8B-1F37B8C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FA7-5567-4EFC-8718-8137A8E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E7A3-4AF7-4EB2-9627-4001273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566-A23B-4C7A-9311-36489D63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6CD7-838A-4344-B350-ED151AFD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96D-E967-4CF6-86C0-A0205F71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AE9-A0A6-420F-B3EE-F7876F3F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BDC-ED26-4755-91D2-BCF2C2B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52E-0B94-4BB2-ACD7-4328657B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BA1-D231-4CA3-A5AD-BA50121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2B5-F9EA-438B-B30B-C8571F7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663-B43F-47EA-9A8F-B3A9592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170-D62D-4B9B-B079-590D815B73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F11-3475-446A-825F-6201FF77E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91A-DB21-48B5-ADA0-6121EBDF26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0687-3486-4C64-8474-06F8C8B62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720" y="44280"/>
            <a:ext cx="1511280" cy="64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七夕情人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3080" y="2852640"/>
            <a:ext cx="863640" cy="38750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七夕节始终和牛郎织女相连，这是一个美丽的，千古流传的爱情故事，成为我国四大民间爱情传说之一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题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C16E3-011A-4648-9161-CDFCE72B44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牛郎上天无路，还是老牛告诉牛郎，在它死后，可以用它的皮做成鞋，穿着就可以上天。牛郎按照老牛的话做了，穿上牛皮做的鞋，拉着自己的儿女，一起腾云驾雾上天去追织女，眼见就要追到了，岂知王母娘娘拔下头上的金簪一挥，一道波涛汹涌的天河就出现了，牛郎和织女被隔在两岸，只能相对哭泣流泪。他们的忠贞爱情感动了喜鹊，千万只喜鹊飞来，搭成鹊桥，让牛郎织女走上鹊桥相会，王母娘娘对此也无奈，只好允许两人在每年七月七日于鹊桥相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74806-3927-4361-97E8-EAA265B33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，每到农历七月初七，相传牛郎织女鹊桥相会的日子，姑娘们就会来到花前月下，抬头仰望星空，寻找银河两边的牛郎星和织女星，希望能看到他们一年一度的相会，乞求上天能让自己能象织女那样心灵手巧，祈祷自己能有如意称心的美满婚姻，由此形成了七夕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5EC09-366F-4BA7-B27B-ADFA84C4C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58896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故事告诉我们遇到自己心爱的人就一定要珍惜，只有懂得珍惜的人才是最幸福的。情人节马上就到了，在此祝愿所有的情侣们，有情人终成眷属。希望你们过一个属于你们自己的最有意义的情人节。</a:t>
            </a:r>
            <a:br>
              <a:rPr sz="4000"/>
            </a:b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4556-9248-4342-A7CC-716006155E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6424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夕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夕的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73800" y="-23760"/>
            <a:ext cx="2728800" cy="683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388E1-4CFD-4E13-8D4E-3B74E2B79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夕的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32000" y="1599840"/>
            <a:ext cx="640872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夕乞巧，这个节日起源于              汉代，东晋葛洪的《西凉杂              记》有“汉彩女常以七月七             日穿七孔针于开襟楼，人俱             习之”的记载，这便是我们             于古代文献中所见到的最早             的关于乞巧的记载。后来的唐宋诗词中，妇女乞巧也被屡屡提及，唐朝王建有诗说“阑珊星斗缀珠光，七夕宫娥乞巧忙”。据《开元天宝遗事》载：唐太宗与妃子每逢七夕在清宫夜宴，宫女们各自乞巧，这一习俗在民间也经久不衰，代代延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84720" y="1052640"/>
            <a:ext cx="2708280" cy="25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8087B-96D7-4C4A-A6FC-8999AE457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夕的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1520" y="1989000"/>
            <a:ext cx="4759560" cy="4105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夕节始终和牛郎织女的传说相连，这是一个很美丽的，千古流传的爱情故事，成为我国四大民间爱情传说之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21440" y="1989000"/>
            <a:ext cx="3300120" cy="26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624FB-A180-480A-8C6A-4F7E8313EF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8760"/>
            <a:ext cx="8229600" cy="51087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传在很早以前，南阳城西牛家庄里有个聪明．忠厚的小伙子，父母早亡，只好跟着哥哥嫂子度日，嫂子马氏为人狠毒，经常虐待他，逼他干很多的活，一年秋天，嫂子逼他去放牛，给他九头牛，却让他等有了十头牛时才能回家，牛郎无奈只好赶着牛出了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AACB-FCF2-4186-A662-CAB83076F2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郎独自一人赶着牛进了山，在草深林密的山上，他坐在树下伤心，不知道何时才能赶着十头牛回家，这时，有位须发皆白的老人出现在他的面前，问他为何伤心，当得知他的遭遇后，笑着对他说：“别难过，在伏牛山里有一头病倒的老牛，你去好好喂养它，等老牛病好以后，你就可以赶着它回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0FC92-724B-4504-88B7-B080CA474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郎翻山越岭，走了很远的路，终于找到了那头有病的老牛，他看到老牛病得厉害，就去给老牛打来一捆捆草，一连喂了三天，老牛吃饱了，才抬起头告诉他：自己本是天上的灰牛大仙，因触犯了天规被贬下天来，摔坏了腿，无法动弹。自己的伤需要用百花的露水洗一个月才能好，牛郎不畏辛苦，细心地照料了老牛一个月，白天为老牛采花接露水治伤，晚上依偎在老年身边睡觉，到老牛病好后，牛郎高高兴兴赶着十头牛回了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4E8BC-D0E7-40D9-B747-190D319DA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家后，嫂子对他仍旧不好，曾几次要加害他，都被老牛设法相救，嫂子最后恼羞成怒把牛郎赶出家门，牛郎只要了那头老牛相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，天上的织女和诸仙女一起下凡游戏，在河里洗澡，牛郎在老牛的帮助下认识了织女，二人互生情意，后来织女便偷偷下凡，来到人间，做了牛郎的妻子。织女还把从天上带来的天蚕分给大家，并教大家养蚕，抽丝，织出又光又亮的绸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C6A44-C308-4E32-892F-097C7DB962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郎和织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郎和织女结婚后，男耕女织，情深意重，他们生了一男一女两个孩子，一家人生活得很幸福。但是好景不长，这事很快便让天帝知道，王母娘娘亲自下凡来，强行把织女带回天上，恩爱夫妻被拆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41DA-79AF-498D-AAB1-61CCB94144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08:01:23Z</dcterms:created>
  <dc:creator>Administrator</dc:creator>
  <dc:description/>
  <dc:language>en-US</dc:language>
  <cp:lastModifiedBy/>
  <dcterms:modified xsi:type="dcterms:W3CDTF">2012-08-17T11:02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