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type.wav" ContentType="audio/x-wav"/>
  <Override PartName="/ppt/media/image7.jpeg" ContentType="image/jpeg"/>
  <Override PartName="/ppt/media/image14.png" ContentType="image/png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chimes.wav" ContentType="audio/x-wav"/>
  <Override PartName="/ppt/media/image10.png" ContentType="image/png"/>
  <Override PartName="/ppt/media/image6.jpeg" ContentType="image/jpeg"/>
  <Override PartName="/ppt/media/image1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438-CFCC-4A06-962F-E50124AA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D36-115D-4B6E-945F-D21DBBF5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4D1-65B3-4966-B289-400014EC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586-7FD6-42C8-BF64-44EB1E5B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151B-DE8B-44FA-9260-5F445FB0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A57E-9D99-4218-B38F-1CF2C029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94AD-B1B2-4C3E-919F-1B687236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7FD6-3614-4781-937C-259709E6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FF61-2852-4235-AB32-06B1DE36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E4DC-59C8-4931-8089-5D477FCE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0DB3-D099-4F32-93FD-A1DF0831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24A-8410-4258-9F33-FF6A197F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7703-3155-43AA-AA74-C02EBBC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C233-9427-486B-8F99-1CE77E1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E909-EE61-496C-8035-0C409694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E0A3-FF25-4785-804A-AC0B8502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0497-618F-4CA3-8075-C2411C0A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DC1-6D97-4D80-A0E4-30EA2092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86F-72A4-4356-A92D-F9A08BD4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F34-E66B-468D-A0C6-D9D89B58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EEF-B835-4437-A55D-AFED4328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E4F-8440-4E76-900A-E3B2E32A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50C-AD4C-493A-98F9-B162823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CF9-E9F5-42A3-8205-F37C7E1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ECEE-8BB4-4E8D-A785-BF2C08BB2C5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C2D9-5233-4136-9883-3163C800754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方正北魏楷书简体"/>
                <a:ea typeface="方正北魏楷书简体"/>
              </a:rPr>
              <a:t>人教版六年级上册语文第六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50292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方正古隶简体"/>
                <a:ea typeface="方正古隶简体"/>
              </a:rPr>
              <a:t>阜阳市胡庙小学    阿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28600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怀念母亲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" y="1066680"/>
            <a:ext cx="5791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对“生身母亲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有什么样的感情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1142640"/>
            <a:ext cx="838224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657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，写出了“我”对母亲的深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219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335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妈妈喜欢吃鱼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 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黑体"/>
              </a:rPr>
              <a:t>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我依稀记事的时候，家中很穷，一个月难得吃上一次鱼肉。每次吃鱼，妈妈先把鱼头夹在自己碗里，将鱼肚子上的肉夹下，极仔细地捡去很少的几根大刺，放在我碗里，其余的便是父亲的了。当我也吵着要吃鱼头时，她总是说：“妈妈喜欢吃鱼头。”我想，鱼头一定很好吃的。有次父亲不在家，我趁妈妈盛饭之际，夹了一个。吃来吃去，觉得没有鱼肚子上的肉好吃。那年，外婆从江北到我家，妈妈买了外婆家乡很金贵的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[guī]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鱼。吃饭时，妈妈把本属于我的那块鱼肚子上的肉，夹进了外婆的碗里。外婆说：“你忘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妈最喜欢吃鱼头。”外婆眯缝着眼，慢慢地挑去那几根大刺，放进我的碗里，并说：“伢啦，你说。”接着，外婆就夹起鱼头，用没牙的嘴，津津有味地嗍着，不时吐出一根根小刺。我一边吃着没刺的鱼肉，一边想：“怎么，妈妈的妈妈也喜欢吃鱼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” </a:t>
            </a:r>
            <a:br>
              <a:rPr sz="24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    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533520"/>
            <a:ext cx="80010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     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上，我成了家，另立门户。生活好了，我们经常买些鱼肉之类的好菜。每次吃鱼，最后剩下的，总是几只无人问津的鱼头。而立之年，喜得千金。转眼女儿也能自己吃饭了。有次午餐，妻子夹了一块鱼肚子上的肉，极麻利地捡去大刺，放在女儿碗里。自己却夹起了鱼头。女儿见状也吵着要吃鱼头。妻子说：乖孩子，妈妈喜欢吃鱼头。”谁知女儿说什么也不答应，非要吃不可，妻子无奈，好不容易从鱼肋边挑出点没刺的肉来，可女儿吃了马上吐出，连说不好吃。从此再不要吃鱼头了。打那以后，每逢吃鱼，妻便将鱼肚子上的肉夹给女儿，女儿总是很艰难地用汤匙切下鱼头，放进她妈妈碗里，很孝顺地说：“妈妈，您吃鱼头。”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      打那以后，我悟出了一个道理：女人做了母亲，便喜欢吃鱼头了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800" y="15238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对“祖国母亲”</a:t>
            </a:r>
            <a:br>
              <a:rPr sz="4800"/>
            </a:br>
            <a:r>
              <a:rPr b="1" i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有什么样的感情？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819160"/>
            <a:ext cx="688032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仿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凄凉”，寂寞冷落，凄惨。作者身在异国小城，心中十分忧愁；但是在远离家乡的日子里，能时常怀念起在故国的生活情景，不断回想起故国的亲朋好友，心中自然又多了一丝安慰、一些宽心、一点甜蜜。作者通过比较的方式，将自己对祖国母亲的怀念表达得非常充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762120"/>
            <a:ext cx="761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600200" y="5410080"/>
            <a:ext cx="23335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1143000"/>
            <a:ext cx="8305920" cy="5181480"/>
            <a:chOff x="457200" y="1143000"/>
            <a:chExt cx="8305920" cy="518148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4343400" y="1143000"/>
              <a:ext cx="44197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457200" y="1143000"/>
              <a:ext cx="3429000" cy="40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380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2" dur="18893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1752480"/>
            <a:ext cx="281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那遥远的小山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呀小山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那亲爱的妈妈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已白发鬓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去的时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难忘怀难忘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曾给我多少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少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那脸上的泪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那脸上的泪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182880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遥望家乡的小山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呀小山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那可爱的小燕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回了家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有个小小心愿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小心愿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再给妈妈一个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个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她那思儿的泪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抚她那孤独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1752480"/>
            <a:ext cx="2819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她那思儿的泪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抚她那孤独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脸上的泪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吻干我脸上的泪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暖我那幼小的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妈妈的吻甜蜜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叫我思念到如今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儿的吻纯洁的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妈妈得欢欣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457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妈妈的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6576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76212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有一种爱，伟大而平凡，如润物细雨，似拂面春风；有一份情，无私而博大，绵绵不断，情谊深长。这就是母爱，永远都是不求回报，无私的付出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380880"/>
            <a:ext cx="8613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慈母手中线，游子身上衣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临行密密缝，意恐迟迟归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谁言寸草心，报得三春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br>
              <a:rPr sz="2800"/>
            </a:br>
            <a:br>
              <a:rPr sz="40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解释：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      谁说小草的嫩心可以报答三春阳光的温暖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春日般的母爱，小草似的儿女怎么能报答其万分之一呢？</a:t>
            </a:r>
            <a:br>
              <a:rPr sz="28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比喻子女难以报答母亲的情爱于万分之一。形象贴切，一语双关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      后亦用以比喻一个人难以报答祖国的恩情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      寸草：小草。心：指小草抽出的嫩心。三春晖：喻指母爱。三春，春季的三个月称三春。晖，太阳光。 </a:t>
            </a: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86200" y="3962520"/>
            <a:ext cx="464832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康体简体"/>
              </a:rPr>
              <a:t>怀念母亲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康体简体"/>
              <a:ea typeface="方正康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——季羡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3828960" cy="3121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477120" y="533520"/>
            <a:ext cx="235728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28195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季羡林，北京大学教授、中国语言学家。山东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黑体"/>
              </a:rPr>
              <a:t>字词正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55736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 flipH="1" rot="20418000">
            <a:off x="7009920" y="1066680"/>
            <a:ext cx="11019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1160" y="297180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词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积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累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47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真挚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弃养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薄暗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沮丧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286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3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3623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71080" y="4728960"/>
            <a:ext cx="69598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19320" y="25146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13T09:08:41Z</dcterms:modified>
  <cp:revision>2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