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camera.wav" ContentType="audio/x-wav"/>
  <Override PartName="/ppt/media/image3.png" ContentType="image/png"/>
  <Override PartName="/ppt/media/image4.jpeg" ContentType="image/jpeg"/>
  <Override PartName="/ppt/media/whoosh.wav" ContentType="audio/x-wav"/>
  <Override PartName="/ppt/media/image5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6BDF-E2EA-458F-8897-3FAFFECB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6951-F2F8-4685-BBA9-116E58A2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0E68-8766-4002-9220-21DD4CCF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5695-1228-4B10-A1F8-323C5D4B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6221-5D11-4B4C-9BE4-8E3EB19E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7A52-72ED-4213-BBF9-A2AEEB94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D3B8-0B70-4ADC-9A6C-9AC00466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3130-76AD-41D5-AE75-87843CEF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F54C-7792-4BC2-B989-0A7440CE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E68B-0676-45CB-BC1D-4156CA50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429A-ECAA-4F79-95B2-DA54DC24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DF77-167A-42FA-9438-0D0CB541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AE02-6C81-406C-A8A2-50F235D2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FA48-101A-46A8-8E94-5F61A2F9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1A2B-40AB-4808-A310-8969FBBC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5416-05D9-4486-AE61-9ED4D2DD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B7FB-C1F1-43E6-A163-9C427A32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43DD-65F3-4C06-B361-42771F0A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8794-6476-48BF-8519-544474F0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DE8-2B58-4E41-85D9-48C97919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2C8D-04F3-4505-8507-C7A9492F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D33C-E018-40F0-838C-15635C19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D675-AD46-4A00-94D9-481CF180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0B31-ABEF-4E33-9643-9E31AC20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B86A-5BC9-43C1-88EF-8015F462E50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5099-2E55-4EFF-AC9B-D8DAF150A5C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859280" y="333360"/>
            <a:ext cx="381636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陈涉世家</a:t>
            </a:r>
            <a:endParaRPr b="1" lang="en-US" sz="6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司马迁《史记》</a:t>
            </a:r>
            <a:endParaRPr b="1" lang="en-US" sz="6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572000" cy="68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04920" y="0"/>
            <a:ext cx="807696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翻译下列的句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嗟乎，燕雀安知鸿鹄之志哉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王侯将相宁有种乎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今诚以吾众诈自称公子扶苏、项燕，为天下唱，宜多应者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今亡亦死，举大计亦死，等死，死国可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又间令吴广之次所旁丛祠中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天下苦秦久矣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会天大雨，道不通，度已失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57200" y="89856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陈胜是农民起义的领袖，作者对这一历史人物持什么态度？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26067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作者对陈胜是肯定和赞扬的。“世家”是《史记》中为那些对全国政局有影响的王侯将相所作的传记，司马迁将陈胜与一般的王侯齐观，可见对他首先发难的功绩是予以充分肯定的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3480" y="604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思考：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914400" y="0"/>
            <a:ext cx="655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思考回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一段是从哪几个方面来写陈胜的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什么先写这段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这一段从籍贯、身世、志向等方面来介绍陈胜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71640" y="328464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先写这段主要是写陈胜少有大志，表明陈胜后来发动起义并非偶然，早有其思想根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09480" y="9144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4360" y="692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段记述了陈胜起义的哪些史实？怎样看待他们所采用的迷信手法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" y="2349360"/>
            <a:ext cx="8229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起义的时间、地点、发起者、参加者及其人数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起义爆发的原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起义前的谋划、准备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采用“丹书鱼腹”、“篝火狐鸣”等迷信的方式，这是根据当时的的具体情况而采取的斗争策略，说明陈胜、吴广的足智多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04920" y="762120"/>
            <a:ext cx="8458200" cy="54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华文细黑"/>
                <a:ea typeface="华文细黑"/>
              </a:rPr>
              <a:t>4.</a:t>
            </a:r>
            <a:r>
              <a:rPr b="1" lang="zh-CN" sz="3000" spc="-1" strike="noStrike">
                <a:solidFill>
                  <a:srgbClr val="ffffff"/>
                </a:solidFill>
                <a:latin typeface="华文细黑"/>
                <a:ea typeface="华文细黑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华文细黑"/>
                <a:ea typeface="华文细黑"/>
              </a:rPr>
              <a:t>1)</a:t>
            </a:r>
            <a:r>
              <a:rPr b="1" lang="zh-CN" sz="3000" spc="-1" strike="noStrike">
                <a:solidFill>
                  <a:srgbClr val="ffffff"/>
                </a:solidFill>
                <a:latin typeface="华文细黑"/>
                <a:ea typeface="华文细黑"/>
              </a:rPr>
              <a:t>起义的导火线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华文细黑"/>
                <a:ea typeface="华文细黑"/>
              </a:rPr>
              <a:t>(2)</a:t>
            </a:r>
            <a:r>
              <a:rPr b="1" lang="zh-CN" sz="3000" spc="-1" strike="noStrike">
                <a:solidFill>
                  <a:srgbClr val="ffffff"/>
                </a:solidFill>
                <a:latin typeface="华文细黑"/>
                <a:ea typeface="华文细黑"/>
              </a:rPr>
              <a:t>陈胜认为起义将得到广大人民支持的理由是：                    ①</a:t>
            </a:r>
            <a:r>
              <a:rPr b="1" lang="zh-CN" sz="3000" spc="-1" strike="noStrike" u="sng">
                <a:solidFill>
                  <a:srgbClr val="ffffff"/>
                </a:solidFill>
                <a:uFillTx/>
                <a:latin typeface="华文细黑"/>
                <a:ea typeface="华文细黑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华文细黑"/>
                <a:ea typeface="华文细黑"/>
              </a:rPr>
              <a:t>②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华文细黑"/>
                <a:ea typeface="华文细黑"/>
              </a:rPr>
              <a:t>(3)</a:t>
            </a:r>
            <a:r>
              <a:rPr b="1" lang="zh-CN" sz="3000" spc="-1" strike="noStrike">
                <a:solidFill>
                  <a:srgbClr val="ffffff"/>
                </a:solidFill>
                <a:latin typeface="华文细黑"/>
                <a:ea typeface="华文细黑"/>
              </a:rPr>
              <a:t>为起义作舆论准备的办法是：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 ①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 ②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华文细黑"/>
                <a:ea typeface="华文细黑"/>
              </a:rPr>
              <a:t>　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7600" y="7621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会天大雨，道不通，度已失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19051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秦二世杀太子扶苏，引起人民群众对秦王朝的更大不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2708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楚人怀念楚将英燕，有强烈的复国愿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39625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鱼腹置书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5445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篝火狐鸣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7280" y="907200"/>
            <a:ext cx="885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第三段写陈胜发动起义的过程，一共可分为几个步骤？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并杀两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召令徒属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为坛而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学过本文，你觉得陈胜是一个怎样的人？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陈胜是一个胸怀大志，具有敏锐的洞察时局的能力和卓越的领导组织才能的农民领袖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6624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          </a:t>
            </a: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课堂检测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78920" y="259920"/>
            <a:ext cx="87138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《陈涉世家》节选自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《</a:t>
            </a:r>
            <a:r>
              <a:rPr b="1" lang="zh-CN" sz="4000" spc="-1" strike="noStrike" u="sng">
                <a:solidFill>
                  <a:srgbClr val="ffcc00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》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，它是我国第一部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ffcc00"/>
                </a:solidFill>
                <a:uFillTx/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通史，作者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是我国西汉著名的史学家和文学家。鲁迅先生评价这部伟大著作：“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”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表现陈涉年轻时远大抱负的句子是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940360" y="1197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史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51280" y="18032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纪传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386064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史家之绝唱     无韵之《离骚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501336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燕雀安知鸿鹄之志哉！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4000" y="2492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司马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-74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、陈涉起义的导火线是：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、陈涉起义的根本原因是：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、起义的策略口号是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55640" y="-1098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、陈涉起义的威众方式是 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（用两个四字短语回答）。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、表现陈涉蔑视权贵、叛逆性格的句子是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                                                                                                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学习目标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278100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积累文言词汇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流畅地直译课文中的重要句子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弄清各段主要内容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用完整的句子总结陈胜这个人物形象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95280" y="333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一词多义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76360" y="907920"/>
            <a:ext cx="38894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陈涉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少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吾闻二世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少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子也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2722680"/>
            <a:ext cx="26654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公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等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遇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等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32000" y="4522680"/>
            <a:ext cx="35272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扶苏以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数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谏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卒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数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万人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7800" y="153828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6120" y="11970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63a0"/>
                </a:solidFill>
                <a:latin typeface="楷体_GB2312"/>
                <a:ea typeface="楷体_GB2312"/>
              </a:rPr>
              <a:t>年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9960" y="191628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63a0"/>
                </a:solidFill>
                <a:latin typeface="楷体_GB2312"/>
                <a:ea typeface="楷体_GB2312"/>
              </a:rPr>
              <a:t>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9360" y="326556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66120" y="299736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63a0"/>
                </a:solidFill>
                <a:latin typeface="楷体_GB2312"/>
                <a:ea typeface="楷体_GB2312"/>
              </a:rPr>
              <a:t>各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73760" y="3716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63a0"/>
                </a:solidFill>
                <a:latin typeface="楷体_GB2312"/>
                <a:ea typeface="楷体_GB2312"/>
              </a:rPr>
              <a:t>同样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0640" y="497844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13760" y="472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63a0"/>
                </a:solidFill>
                <a:latin typeface="楷体_GB2312"/>
                <a:ea typeface="楷体_GB2312"/>
              </a:rPr>
              <a:t>屡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28520" y="558972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63a0"/>
                </a:solidFill>
                <a:latin typeface="楷体_GB2312"/>
                <a:ea typeface="楷体_GB2312"/>
              </a:rPr>
              <a:t>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1341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306864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486900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16000" y="4594320"/>
            <a:ext cx="49687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乃丹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书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帛曰“陈胜王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得鱼腹中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书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2349360"/>
            <a:ext cx="590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陈胜、吴广皆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次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当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又间令吴广之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次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所旁丛祠中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16000" y="201600"/>
            <a:ext cx="39592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吴广以为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然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足下卜之鬼乎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3800" y="90792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42120" y="476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63a0"/>
                </a:solidFill>
                <a:latin typeface="楷体_GB2312"/>
                <a:ea typeface="楷体_GB2312"/>
              </a:rPr>
              <a:t>正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74120" y="1268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63a0"/>
                </a:solidFill>
                <a:latin typeface="楷体_GB2312"/>
                <a:ea typeface="楷体_GB2312"/>
              </a:rPr>
              <a:t>但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8640" y="300348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64480" y="257184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63a0"/>
                </a:solidFill>
                <a:latin typeface="楷体_GB2312"/>
                <a:ea typeface="楷体_GB2312"/>
              </a:rPr>
              <a:t>编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5480" y="3521160"/>
            <a:ext cx="1278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63a0"/>
                </a:solidFill>
                <a:latin typeface="楷体_GB2312"/>
                <a:ea typeface="楷体_GB2312"/>
              </a:rPr>
              <a:t>行军途中停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6880" y="522936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73240" y="479736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63a0"/>
                </a:solidFill>
                <a:latin typeface="楷体_GB2312"/>
                <a:ea typeface="楷体_GB2312"/>
              </a:rPr>
              <a:t>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20240" y="56386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63a0"/>
                </a:solidFill>
                <a:latin typeface="楷体_GB2312"/>
                <a:ea typeface="楷体_GB2312"/>
              </a:rPr>
              <a:t>字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71640" y="5084640"/>
            <a:ext cx="215640" cy="1150920"/>
          </a:xfrm>
          <a:custGeom>
            <a:avLst/>
            <a:gdLst>
              <a:gd name="textAreaLeft" fmla="*/ 137880 w 215640"/>
              <a:gd name="textAreaRight" fmla="*/ 216000 w 2156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2781360"/>
            <a:ext cx="215640" cy="1150920"/>
          </a:xfrm>
          <a:custGeom>
            <a:avLst/>
            <a:gdLst>
              <a:gd name="textAreaLeft" fmla="*/ 137880 w 215640"/>
              <a:gd name="textAreaRight" fmla="*/ 216000 w 2156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692280"/>
            <a:ext cx="215640" cy="1150920"/>
          </a:xfrm>
          <a:custGeom>
            <a:avLst/>
            <a:gdLst>
              <a:gd name="textAreaLeft" fmla="*/ 137880 w 215640"/>
              <a:gd name="textAreaRight" fmla="*/ 216000 w 2156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9480" y="1440"/>
            <a:ext cx="47530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燕雀安知鸿鹄之志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陈胜佐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固以怪之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辍耕之垄上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04920"/>
            <a:ext cx="93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95680" y="152280"/>
            <a:ext cx="2376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助词  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685800"/>
            <a:ext cx="2521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代词  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981080"/>
            <a:ext cx="3384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动词  去、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4040" y="2535120"/>
            <a:ext cx="748836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祭以尉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激怒其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乃令符离人葛婴将兵徇蕲以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扶苏以数谏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诚以吾众诈自称公子扶苏、项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固以怪之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或以为死，或以为亡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733920"/>
            <a:ext cx="685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2590920"/>
            <a:ext cx="1008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3062160"/>
            <a:ext cx="865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4120" y="3657600"/>
            <a:ext cx="1523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表方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05320" y="4205160"/>
            <a:ext cx="122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因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4724280"/>
            <a:ext cx="936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5334120"/>
            <a:ext cx="2880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同“已”已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7080" y="5867280"/>
            <a:ext cx="273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以为，认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304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cc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2819520"/>
            <a:ext cx="152280" cy="3276360"/>
          </a:xfrm>
          <a:custGeom>
            <a:avLst/>
            <a:gdLst>
              <a:gd name="textAreaLeft" fmla="*/ 97200 w 152280"/>
              <a:gd name="textAreaRight" fmla="*/ 152640 w 152280"/>
              <a:gd name="textAreaTop" fmla="*/ 85320 h 3276360"/>
              <a:gd name="textAreaBottom" fmla="*/ 319104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cc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13413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代这件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1052640"/>
            <a:ext cx="800100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陈胜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乃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丹书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帛曰“陈胜王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狐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鸣呼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忿恚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将军身披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坚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执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71640" y="112536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王，名作动，为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17002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名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状，用朱砂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;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名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动，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68360" y="24210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狐（鸣），名作状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像狐狸一样（嗥叫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79640" y="299736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使动用法  使……恼怒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64000" y="3789360"/>
            <a:ext cx="464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形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名 指坚固的甲衣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指锐利的武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87640" y="18828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词性活用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00000" y="33300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通假字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320" y="9907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发闾左適戍渔阳九百人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57800" y="10666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適 通“谪”，远调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752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天下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9880" y="17208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唱 通“倡”，倡导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438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固以怪之矣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57600" y="24382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以 通“已”，已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32767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将军身被坚执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3200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被 通“披”，穿着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04920" y="-7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古今异义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14600" y="456480"/>
            <a:ext cx="4738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古义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曾经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;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义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品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4572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尝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与人佣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9907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苟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富贵，无相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913680"/>
            <a:ext cx="4738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古义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假如，如果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;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义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苟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15238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楚人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怜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29000" y="1447200"/>
            <a:ext cx="4738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古义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爱戴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;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义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可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213372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今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以吾众诈自称公子扶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52880" y="2056680"/>
            <a:ext cx="4738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古义如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果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;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义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诚实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27432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固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以怪之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卒中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往往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38098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吴广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素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爱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43434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并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杀两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666160"/>
            <a:ext cx="4738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古义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本来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;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义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坚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3199680"/>
            <a:ext cx="4738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古义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到处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;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义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常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3733200"/>
            <a:ext cx="4738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古义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平时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;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义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本色、白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4419000"/>
            <a:ext cx="4738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古义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一齐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;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义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并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5029200"/>
            <a:ext cx="266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9280" y="50133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与皆来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会计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71640" y="5157000"/>
            <a:ext cx="5791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古义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集会议事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;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义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管理财务的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995640" y="6826320"/>
            <a:ext cx="1495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惩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00720" y="7402680"/>
            <a:ext cx="1495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苦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0"/>
            <a:ext cx="8915400" cy="62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解释下列划线词的意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今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亡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亦死，举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大计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亦死，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等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死，死国可乎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扶苏以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数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谏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故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卒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数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万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大楚兴，陈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王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藉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令毋斩，而戍死者固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十六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又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间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令吴广之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次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所    陈胜吴广皆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次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当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将军身被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坚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执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锐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皆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刑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其长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天下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苦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秦久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9.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九百人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屯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泽乡，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会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大雨，道不通，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度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已失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.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楚人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怜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1.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旦日，卒中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往往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2.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乃丹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书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帛曰     得鱼腹中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2:49:29Z</dcterms:created>
  <dc:creator/>
  <dc:description/>
  <dc:language>en-US</dc:language>
  <cp:lastModifiedBy>微软用户</cp:lastModifiedBy>
  <dcterms:modified xsi:type="dcterms:W3CDTF">2011-09-26T03:32:06Z</dcterms:modified>
  <cp:revision>44</cp:revision>
  <dc:subject/>
  <dc:title/>
</cp:coreProperties>
</file>